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21560" y="0"/>
            <a:ext cx="622440" cy="487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rcRect l="0" t="0" r="0" b="26475"/>
          <a:stretch/>
        </p:blipFill>
        <p:spPr>
          <a:xfrm>
            <a:off x="34920" y="44280"/>
            <a:ext cx="8964720" cy="672336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492280"/>
            <a:ext cx="9144000" cy="1524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3"/>
          <p:cNvSpPr/>
          <p:nvPr/>
        </p:nvSpPr>
        <p:spPr>
          <a:xfrm>
            <a:off x="755640" y="2593800"/>
            <a:ext cx="74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课  三借芭蕉扇（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348948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492360" y="3535200"/>
            <a:ext cx="34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 二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15095"/>
          <a:stretch/>
        </p:blipFill>
        <p:spPr>
          <a:xfrm>
            <a:off x="1835280" y="1413000"/>
            <a:ext cx="56880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1700280"/>
            <a:ext cx="727236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三借：</a:t>
            </a: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孙悟空一个跟头回到火焰山。他举起芭蕉扇，使劲儿一扇，火焰变小了；又一扇，凉风习习，火全灭了；再一扇，乌云滚滚，下起雨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4720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3280" y="765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三扇灭火，还扇，西行取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248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00000" y="1557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既然孙悟空的本质特点可以归结为一借、三借，那么为什么把二借写得如此详细呢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4005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借孙悟空和牛魔王斗智斗勇，情节比一借和三借更精彩，更能体现孙悟空的机智勇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26920" y="227664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快速读课文找到写三次借扇经过的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同桌讨论，描写孙悟空言行句子和三次借扇的经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60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5d8357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55640" y="155736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课题是“三借芭蕉扇”，是不是“借”？为什么用“借”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260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5d8357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思考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3068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虽然孙悟空想借，但是铁扇公主故意为难，但是他却没有放弃，虽然过程中用了很多方法，但最终还是借到了。所以是借，并且也借到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42960" y="1773360"/>
            <a:ext cx="41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孙悟空是个怎样的人物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37162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勇有谋、不怕困难、勇于斗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8000" y="117360"/>
            <a:ext cx="8889840" cy="6669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8360" y="6206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还知道哪些《西游记》的故事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9640" y="2420280"/>
            <a:ext cx="799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读书志在圣贤，为官心存君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朱用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22096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4360" y="2205000"/>
            <a:ext cx="777240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latin typeface="宋体"/>
              </a:rPr>
              <a:t>今天我们继续来学习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99"/>
                </a:solidFill>
                <a:latin typeface="宋体"/>
              </a:rPr>
              <a:t>“</a:t>
            </a: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latin typeface="宋体"/>
              </a:rPr>
              <a:t>三借芭蕉扇”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1268280"/>
            <a:ext cx="8136000" cy="47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真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假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芭蕉扇    牛魔王    翠云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辨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不出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偷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走    笑嘻嘻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跌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哭哭啼啼    跺脚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扛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着    猪八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戒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金箍棒    嘎嘎叫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扑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下来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猛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虎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四肢    铁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塔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厉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乖乖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火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焰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山    师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60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5d8357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字词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30540" t="0" r="15385" b="0"/>
          <a:stretch/>
        </p:blipFill>
        <p:spPr>
          <a:xfrm>
            <a:off x="6948360" y="3718080"/>
            <a:ext cx="2179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1557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读课文，想一想，三借芭蕉扇，孙悟空每一次是怎样借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60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5d8357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8000" y="1628640"/>
            <a:ext cx="568836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铁扇公主给假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不怕困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4360" y="2276640"/>
            <a:ext cx="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3789360"/>
            <a:ext cx="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60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5d8357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课文解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00000" y="170028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铁扇公主在孙悟空的威逼之下给了他一把假扇，孙悟空发觉上当之后，又想出了第二条计策——诱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797" t="5522" r="4710" b="16838"/>
          <a:stretch/>
        </p:blipFill>
        <p:spPr>
          <a:xfrm>
            <a:off x="6300720" y="3860640"/>
            <a:ext cx="284328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08000" y="1628640"/>
            <a:ext cx="5905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二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牛魔王骗回芭蕉扇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敢于斗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2276640"/>
            <a:ext cx="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3789360"/>
            <a:ext cx="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1279080"/>
            <a:ext cx="7272360" cy="33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二借：</a:t>
            </a:r>
            <a:br>
              <a:rPr sz="3600"/>
            </a:b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假牛魔王接过扇子，把脸一抹，现了原形，边走边说：“多谢嫂子，多谢嫂子！”铁扇公主气得跌倒在地上，哭喊着：“气死我了，气死我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63640" y="1628640"/>
            <a:ext cx="374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三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铁扇公主献扇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40000" y="2347920"/>
            <a:ext cx="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63640" y="429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足智多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3645000"/>
            <a:ext cx="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06:42:09Z</dcterms:created>
  <dc:creator>Administrator</dc:creator>
  <dc:description/>
  <dc:language>en-US</dc:language>
  <cp:lastModifiedBy>微软用户</cp:lastModifiedBy>
  <dcterms:modified xsi:type="dcterms:W3CDTF">2015-07-09T01:12:54Z</dcterms:modified>
  <cp:revision>6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