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2A6-AB11-440B-ACDB-E1E276B0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42B-F3BC-4421-87C4-F6BAB55C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E15-9A1A-4D02-B6FA-770BBC34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DE2-88BC-4B53-8690-0698573B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528-8690-4996-8B10-4B9B06DB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3C2-63F8-4E7C-B6B9-55C4D31B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441-FCF0-4B7B-9473-E4585C46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AE9-F5A8-4BE7-89CE-6C415F03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735-38E6-419B-B977-F71402C5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972-E5FC-46FF-A6C1-37AAD2F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D82-12BC-4B50-A1C2-3C8A9188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785-8588-4827-BB5B-2CCC39A3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FB82-6ED9-458F-8E62-D99193897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Sye_sun.wav" TargetMode="External"/><Relationship Id="rId3" Type="http://schemas.openxmlformats.org/officeDocument/2006/relationships/hyperlink" Target="Sye_huan.wav" TargetMode="External"/><Relationship Id="rId4" Type="http://schemas.openxmlformats.org/officeDocument/2006/relationships/hyperlink" Target="Sye_huan.wav" TargetMode="External"/><Relationship Id="rId5" Type="http://schemas.openxmlformats.org/officeDocument/2006/relationships/hyperlink" Target="Sye_huan.wav" TargetMode="External"/><Relationship Id="rId6" Type="http://schemas.openxmlformats.org/officeDocument/2006/relationships/hyperlink" Target="Sye_rou.wav" TargetMode="External"/><Relationship Id="rId7" Type="http://schemas.openxmlformats.org/officeDocument/2006/relationships/hyperlink" Target="Sye_hong.wav" TargetMode="External"/><Relationship Id="rId8" Type="http://schemas.openxmlformats.org/officeDocument/2006/relationships/hyperlink" Target="Sye_hong.wav" TargetMode="External"/><Relationship Id="rId9" Type="http://schemas.openxmlformats.org/officeDocument/2006/relationships/hyperlink" Target="Sye_niu.wav" TargetMode="External"/><Relationship Id="rId10" Type="http://schemas.openxmlformats.org/officeDocument/2006/relationships/hyperlink" Target="Sye_zuan.wav" TargetMode="External"/><Relationship Id="rId11" Type="http://schemas.openxmlformats.org/officeDocument/2006/relationships/hyperlink" Target="Sye_lao.wav" TargetMode="External"/><Relationship Id="rId12" Type="http://schemas.openxmlformats.org/officeDocument/2006/relationships/hyperlink" Target="Sye_fu.wav" TargetMode="External"/><Relationship Id="rId13" Type="http://schemas.openxmlformats.org/officeDocument/2006/relationships/hyperlink" Target="Sye_zi.wav" TargetMode="External"/><Relationship Id="rId14" Type="http://schemas.openxmlformats.org/officeDocument/2006/relationships/hyperlink" Target="Sye_gang.wav" TargetMode="External"/><Relationship Id="rId15" Type="http://schemas.openxmlformats.org/officeDocument/2006/relationships/hyperlink" Target="Sye_gang.wav" TargetMode="External"/><Relationship Id="rId16" Type="http://schemas.openxmlformats.org/officeDocument/2006/relationships/hyperlink" Target="Sye_gang.wav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Sye_si.exe" TargetMode="External"/><Relationship Id="rId2" Type="http://schemas.openxmlformats.org/officeDocument/2006/relationships/hyperlink" Target="Sye_jie.exe" TargetMode="External"/><Relationship Id="rId3" Type="http://schemas.openxmlformats.org/officeDocument/2006/relationships/hyperlink" Target="Sye_hong.exe" TargetMode="External"/><Relationship Id="rId4" Type="http://schemas.openxmlformats.org/officeDocument/2006/relationships/hyperlink" Target="Sye_sun.exe" TargetMode="External"/><Relationship Id="rId5" Type="http://schemas.openxmlformats.org/officeDocument/2006/relationships/hyperlink" Target="Sye_huan.exe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4030560" cy="57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方正稚艺简体"/>
                <a:ea typeface="方正稚艺简体"/>
              </a:rPr>
              <a:t>S</a:t>
            </a:r>
            <a:r>
              <a:rPr b="0" lang="zh-CN" sz="2800" spc="-1" strike="noStrike">
                <a:solidFill>
                  <a:srgbClr val="ff0000"/>
                </a:solidFill>
                <a:latin typeface="方正稚艺简体"/>
                <a:ea typeface="方正稚艺简体"/>
              </a:rPr>
              <a:t>版二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32000" y="2133720"/>
            <a:ext cx="266724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笋芽儿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4292640"/>
            <a:ext cx="5042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03640" y="5445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笋 芽 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819520" cy="3527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643480" cy="34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376360" cy="633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26920" y="1628640"/>
            <a:ext cx="2090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94000" y="1268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读 读 记 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166860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47640" y="1916280"/>
            <a:ext cx="615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漆黑　　沉睡　　撒娇　　呼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唠叨　　爱抚　　滋润　　照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暖　　自豪　　健壮　　唧唧喳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3543" b="9165"/>
          <a:stretch/>
        </p:blipFill>
        <p:spPr>
          <a:xfrm>
            <a:off x="108000" y="189000"/>
            <a:ext cx="8820000" cy="622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03280" y="1844640"/>
            <a:ext cx="7239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观察竹笋，把它画下来，或者拍一组笋芽生长过程的照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86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668240" cy="434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3384360" cy="270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211640" y="620640"/>
            <a:ext cx="4619520" cy="5545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3357720"/>
            <a:ext cx="511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毛竹通常高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。毛竹具有生长快、成材早、产量高、用途广等特点，是理想的可持续利用的自然资源。每逢阳春三月，雨后春笋顶岩破土，竞相生长。幼竹在一天之内可生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以上。在此期间，人们置身于竹林之中，可听到竹笋破土和幼竹生长发出的声响，领略到大自然的神奇与魅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853" t="-78" r="2519" b="5441"/>
          <a:stretch/>
        </p:blipFill>
        <p:spPr>
          <a:xfrm>
            <a:off x="-34920" y="831960"/>
            <a:ext cx="9156600" cy="5997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卡通简体"/>
              </a:rPr>
              <a:t>欣赏儿歌《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  <a:ea typeface="方正卡通简体"/>
              </a:rPr>
              <a:t>小竹笋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卡通简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064360" cy="5384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376360" cy="64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35640" y="333360"/>
            <a:ext cx="3166920" cy="1079640"/>
          </a:xfrm>
          <a:prstGeom prst="cloudCallout">
            <a:avLst>
              <a:gd name="adj1" fmla="val -51152"/>
              <a:gd name="adj2" fmla="val 268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知道图上的是什么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223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  <a:ea typeface="方正剪纸简体"/>
              </a:rPr>
              <a:t>春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916360" cy="79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6366" t="0" r="0" b="53338"/>
          <a:stretch/>
        </p:blipFill>
        <p:spPr>
          <a:xfrm>
            <a:off x="3564000" y="2060640"/>
            <a:ext cx="50562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-256" b="5965"/>
          <a:stretch/>
        </p:blipFill>
        <p:spPr>
          <a:xfrm>
            <a:off x="2050920" y="1125360"/>
            <a:ext cx="5270760" cy="4807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03280" y="404280"/>
            <a:ext cx="287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Arial"/>
              </a:rPr>
              <a:t>雨后春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1628640"/>
            <a:ext cx="60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笋芽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72548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4581360"/>
            <a:ext cx="6705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自读课文，我们来认识一下笋芽儿。借助拼音认读生字，同学交流识字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30360" y="692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读 读 认 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2781360"/>
            <a:ext cx="5508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笋　　　唤　　　揉　　　漆　　　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扭　　　钻　　　唠　　　辫　　　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滋　　　润　　　冈　　　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05000"/>
            <a:ext cx="6629400" cy="49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sǔn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hu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ea typeface="黑体"/>
                <a:hlinkClick r:id="rId4"/>
              </a:rPr>
              <a:t>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róu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qī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hō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ni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zuān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lāo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i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黑体"/>
              </a:rPr>
              <a:t>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2"/>
              </a:rPr>
              <a:t>f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3"/>
              </a:rPr>
              <a:t>zī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ùn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4"/>
              </a:rPr>
              <a:t>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5"/>
              </a:rPr>
              <a:t>ā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6"/>
              </a:rPr>
              <a:t>g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47640" y="2492280"/>
            <a:ext cx="568836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冈　　　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/>
              </a:rPr>
              <a:t>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　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/>
              </a:rPr>
              <a:t>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3"/>
              </a:rPr>
              <a:t>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4"/>
              </a:rPr>
              <a:t>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芽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喊　　　  呼           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5"/>
              </a:rPr>
              <a:t>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2736720" cy="561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01040" y="1413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读 读 写 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1773360"/>
            <a:ext cx="716292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　◎你从图中认识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</a:rPr>
              <a:t>笋芽儿</a:t>
            </a: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是什么样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　　◎说说笋芽儿的生长过程是怎样的，你从笋芽儿的生长过程中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　　◎你喜欢笋芽儿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663640" cy="70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61400" y="765000"/>
            <a:ext cx="18874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读 读 想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9:40:31Z</dcterms:created>
  <dc:creator>Sky123.Org</dc:creator>
  <dc:description/>
  <dc:language>en-US</dc:language>
  <cp:lastModifiedBy>Sky123.Org</cp:lastModifiedBy>
  <dcterms:modified xsi:type="dcterms:W3CDTF">2015-07-09T02:28:4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