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4B59-FA4C-43FF-BAD5-B87F7B677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520" y="52668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520" y="1372680"/>
            <a:ext cx="8251920" cy="23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520" y="3975840"/>
            <a:ext cx="8251920" cy="23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594A-379E-470C-8F02-EDF3AD2E7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520" y="52668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520" y="1372680"/>
            <a:ext cx="4026600" cy="23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3720" y="1372680"/>
            <a:ext cx="4026600" cy="23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520" y="3975840"/>
            <a:ext cx="4026600" cy="23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3720" y="3975840"/>
            <a:ext cx="4026600" cy="23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173D-C6FC-4E62-8B93-AF0613BEB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520" y="52668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520" y="1372680"/>
            <a:ext cx="2656800" cy="23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520" y="1372680"/>
            <a:ext cx="2656800" cy="23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5520" y="1372680"/>
            <a:ext cx="2656800" cy="23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520" y="3975840"/>
            <a:ext cx="2656800" cy="23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520" y="3975840"/>
            <a:ext cx="2656800" cy="23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5520" y="3975840"/>
            <a:ext cx="2656800" cy="23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3928-3B35-463D-AD18-FA2E1EF17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9636B-366C-40DB-B30E-8E1339786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5520" y="52668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25520" y="1372680"/>
            <a:ext cx="82519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000" spc="-1" strike="noStrike">
              <a:solidFill>
                <a:srgbClr val="6d6d6d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4165A-1652-4BA6-A0E4-CF0011CA7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5520" y="52668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25520" y="1372680"/>
            <a:ext cx="8251920" cy="498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801CF-FFC8-4781-AC74-F134C145D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5520" y="52668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25520" y="1372680"/>
            <a:ext cx="4026600" cy="498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3720" y="1372680"/>
            <a:ext cx="4026600" cy="498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6076C-79BD-4ED1-AA78-EC98124A9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5520" y="52668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97821-77C0-4D58-B27A-282AE5CC1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25520" y="526680"/>
            <a:ext cx="83707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110000"/>
              </a:lnSpc>
              <a:spcBef>
                <a:spcPts val="1012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000" spc="-1" strike="noStrike">
              <a:solidFill>
                <a:srgbClr val="6d6d6d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6BE04-B963-47EB-9C22-7799923EF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5520" y="52668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25520" y="1372680"/>
            <a:ext cx="4026600" cy="23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3720" y="1372680"/>
            <a:ext cx="4026600" cy="498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25520" y="3975840"/>
            <a:ext cx="4026600" cy="23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31745-9D8B-40C5-994E-7FBFDCB3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520" y="52668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520" y="1372680"/>
            <a:ext cx="82519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000" spc="-1" strike="noStrike">
              <a:solidFill>
                <a:srgbClr val="6d6d6d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7F7D-9F0A-404F-B973-C8F5966B4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5520" y="52668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25520" y="1372680"/>
            <a:ext cx="4026600" cy="498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3720" y="1372680"/>
            <a:ext cx="4026600" cy="23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3720" y="3975840"/>
            <a:ext cx="4026600" cy="23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8BFF5-6259-4C5E-858E-A183ACA9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5520" y="52668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25520" y="1372680"/>
            <a:ext cx="4026600" cy="23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3720" y="1372680"/>
            <a:ext cx="4026600" cy="23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25520" y="3975840"/>
            <a:ext cx="8251920" cy="23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8FD32-59EF-46BA-B1D8-2F71FA3B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52668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25520" y="1372680"/>
            <a:ext cx="8251920" cy="23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25520" y="3975840"/>
            <a:ext cx="8251920" cy="23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248DE-1185-4988-B142-C7D8E1042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5520" y="52668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25520" y="1372680"/>
            <a:ext cx="4026600" cy="23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3720" y="1372680"/>
            <a:ext cx="4026600" cy="23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25520" y="3975840"/>
            <a:ext cx="4026600" cy="23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3720" y="3975840"/>
            <a:ext cx="4026600" cy="23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E10E1-A838-4D32-BE95-65E570D27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5520" y="52668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25520" y="1372680"/>
            <a:ext cx="2656800" cy="23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15520" y="1372680"/>
            <a:ext cx="2656800" cy="23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05520" y="1372680"/>
            <a:ext cx="2656800" cy="23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5520" y="3975840"/>
            <a:ext cx="2656800" cy="23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15520" y="3975840"/>
            <a:ext cx="2656800" cy="23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05520" y="3975840"/>
            <a:ext cx="2656800" cy="23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0E1A0-6C2C-4822-8916-0FB217DD5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7DFB1-E9AD-406F-A556-F92216F78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5520" y="52668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25520" y="1372680"/>
            <a:ext cx="82519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000" spc="-1" strike="noStrike">
              <a:solidFill>
                <a:srgbClr val="6d6d6d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9E672-CD2D-48F6-8FB9-BC366672B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5520" y="52668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25520" y="1372680"/>
            <a:ext cx="8251920" cy="498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32B5D-E78E-4C08-8E50-1F339370C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5520" y="52668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25520" y="1372680"/>
            <a:ext cx="4026600" cy="498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3720" y="1372680"/>
            <a:ext cx="4026600" cy="498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B3E81-6FF0-4E0A-9F06-C2F2EA144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5520" y="52668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18149-53A1-470E-B61B-B78E61522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520" y="52668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520" y="1372680"/>
            <a:ext cx="8251920" cy="498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6C81-3E92-4D66-B04D-B8435B0CC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25520" y="526680"/>
            <a:ext cx="83707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110000"/>
              </a:lnSpc>
              <a:spcBef>
                <a:spcPts val="1012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000" spc="-1" strike="noStrike">
              <a:solidFill>
                <a:srgbClr val="6d6d6d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1257E-7FFE-42D3-AAA5-1D9763E11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5520" y="52668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25520" y="1372680"/>
            <a:ext cx="4026600" cy="23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3720" y="1372680"/>
            <a:ext cx="4026600" cy="498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25520" y="3975840"/>
            <a:ext cx="4026600" cy="23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C6F4D-E7E7-40B4-A54E-9DFB440E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25520" y="52668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25520" y="1372680"/>
            <a:ext cx="4026600" cy="498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3720" y="1372680"/>
            <a:ext cx="4026600" cy="23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3720" y="3975840"/>
            <a:ext cx="4026600" cy="23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AFB0E-A37E-4A23-8578-08376436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5520" y="52668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25520" y="1372680"/>
            <a:ext cx="4026600" cy="23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3720" y="1372680"/>
            <a:ext cx="4026600" cy="23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5520" y="3975840"/>
            <a:ext cx="8251920" cy="23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C51E8-6383-4B7D-85CE-A8CFFD7E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25520" y="52668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25520" y="1372680"/>
            <a:ext cx="8251920" cy="23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25520" y="3975840"/>
            <a:ext cx="8251920" cy="23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216F5-06D5-4C90-B78F-8CA9C0C5B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5520" y="52668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25520" y="1372680"/>
            <a:ext cx="4026600" cy="23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3720" y="1372680"/>
            <a:ext cx="4026600" cy="23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25520" y="3975840"/>
            <a:ext cx="4026600" cy="23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3720" y="3975840"/>
            <a:ext cx="4026600" cy="23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6165C-AA40-4DB8-8392-F0731D86E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5520" y="52668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25520" y="1372680"/>
            <a:ext cx="2656800" cy="23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15520" y="1372680"/>
            <a:ext cx="2656800" cy="23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05520" y="1372680"/>
            <a:ext cx="2656800" cy="23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25520" y="3975840"/>
            <a:ext cx="2656800" cy="23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15520" y="3975840"/>
            <a:ext cx="2656800" cy="23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05520" y="3975840"/>
            <a:ext cx="2656800" cy="23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F1DC3-0067-402C-8CE8-C2BAEA446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EC67A-1501-4C9A-8EAD-3D873D98F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5520" y="52668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25520" y="1372680"/>
            <a:ext cx="82519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000" spc="-1" strike="noStrike">
              <a:solidFill>
                <a:srgbClr val="6d6d6d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D9A2D-A6B2-4B05-A6BE-C11DEC0FE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52668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25520" y="1372680"/>
            <a:ext cx="8251920" cy="498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997A6-BE12-4FF2-BF82-6BEACCF1D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520" y="52668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520" y="1372680"/>
            <a:ext cx="4026600" cy="498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3720" y="1372680"/>
            <a:ext cx="4026600" cy="498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FA6D-B55C-4D02-B07A-1E6A6870B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5520" y="52668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25520" y="1372680"/>
            <a:ext cx="4026600" cy="498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3720" y="1372680"/>
            <a:ext cx="4026600" cy="498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5BAD7-099A-49B0-A899-491194154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52668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6C903-C2AA-45E0-804D-66933A977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25520" y="526680"/>
            <a:ext cx="83707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110000"/>
              </a:lnSpc>
              <a:spcBef>
                <a:spcPts val="1012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000" spc="-1" strike="noStrike">
              <a:solidFill>
                <a:srgbClr val="6d6d6d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C7E98-1E9D-41C4-B020-616D389C9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25520" y="52668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25520" y="1372680"/>
            <a:ext cx="4026600" cy="23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3720" y="1372680"/>
            <a:ext cx="4026600" cy="498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25520" y="3975840"/>
            <a:ext cx="4026600" cy="23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15483-BE7D-4081-A582-6BF95586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25520" y="52668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25520" y="1372680"/>
            <a:ext cx="4026600" cy="498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53720" y="1372680"/>
            <a:ext cx="4026600" cy="23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53720" y="3975840"/>
            <a:ext cx="4026600" cy="23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9F102-33EB-487D-B967-29EFE14D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25520" y="52668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25520" y="1372680"/>
            <a:ext cx="4026600" cy="23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53720" y="1372680"/>
            <a:ext cx="4026600" cy="23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25520" y="3975840"/>
            <a:ext cx="8251920" cy="23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71532-CAAC-4576-8FCE-713E6589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52668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25520" y="1372680"/>
            <a:ext cx="8251920" cy="23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25520" y="3975840"/>
            <a:ext cx="8251920" cy="23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5028D-290F-467B-A6CE-BFA94033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25520" y="52668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25520" y="1372680"/>
            <a:ext cx="4026600" cy="23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53720" y="1372680"/>
            <a:ext cx="4026600" cy="23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25520" y="3975840"/>
            <a:ext cx="4026600" cy="23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53720" y="3975840"/>
            <a:ext cx="4026600" cy="23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CB108-D0D1-4510-93FD-1E33F4D4E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5520" y="52668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25520" y="1372680"/>
            <a:ext cx="2656800" cy="23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15520" y="1372680"/>
            <a:ext cx="2656800" cy="23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05520" y="1372680"/>
            <a:ext cx="2656800" cy="23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25520" y="3975840"/>
            <a:ext cx="2656800" cy="23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15520" y="3975840"/>
            <a:ext cx="2656800" cy="23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05520" y="3975840"/>
            <a:ext cx="2656800" cy="23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52F5F-7CBC-4C31-AF63-B29575898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520" y="52668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064B-C791-48B4-9FF0-73E9EB04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520" y="526680"/>
            <a:ext cx="83707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110000"/>
              </a:lnSpc>
              <a:spcBef>
                <a:spcPts val="1012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000" spc="-1" strike="noStrike">
              <a:solidFill>
                <a:srgbClr val="6d6d6d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F8F5-7B05-4540-84DC-375E0201E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520" y="52668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520" y="1372680"/>
            <a:ext cx="4026600" cy="23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3720" y="1372680"/>
            <a:ext cx="4026600" cy="498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520" y="3975840"/>
            <a:ext cx="4026600" cy="23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394B-BC7A-492F-A592-D7FB84E9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52668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520" y="1372680"/>
            <a:ext cx="4026600" cy="498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3720" y="1372680"/>
            <a:ext cx="4026600" cy="23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3720" y="3975840"/>
            <a:ext cx="4026600" cy="23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AF1B-08A5-48AA-A19E-8CA316DC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520" y="52668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520" y="1372680"/>
            <a:ext cx="4026600" cy="23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3720" y="1372680"/>
            <a:ext cx="4026600" cy="23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520" y="3975840"/>
            <a:ext cx="8251920" cy="23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19EB-ABDE-411B-ABB4-EECE80C8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宋体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宋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79551b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宋体"/>
              </a:rPr>
              <a:t>Click to edit the outline text format</a:t>
            </a:r>
            <a:endParaRPr b="0" lang="en-US" sz="2800" spc="-1" strike="noStrike">
              <a:solidFill>
                <a:srgbClr val="79551b"/>
              </a:solidFill>
              <a:latin typeface="宋体"/>
            </a:endParaRPr>
          </a:p>
          <a:p>
            <a:pPr lvl="1" marL="690840" indent="-265680">
              <a:spcBef>
                <a:spcPts val="700"/>
              </a:spcBef>
              <a:buClr>
                <a:srgbClr val="79551b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宋体"/>
              </a:rPr>
              <a:t>Second Outline Level</a:t>
            </a:r>
            <a:endParaRPr b="0" lang="en-US" sz="2800" spc="-1" strike="noStrike">
              <a:solidFill>
                <a:srgbClr val="79551b"/>
              </a:solidFill>
              <a:latin typeface="宋体"/>
            </a:endParaRPr>
          </a:p>
          <a:p>
            <a:pPr lvl="2" marL="1062720" indent="-212400">
              <a:spcBef>
                <a:spcPts val="700"/>
              </a:spcBef>
              <a:buClr>
                <a:srgbClr val="79551b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宋体"/>
              </a:rPr>
              <a:t>Third Outline Level</a:t>
            </a:r>
            <a:endParaRPr b="0" lang="en-US" sz="2800" spc="-1" strike="noStrike">
              <a:solidFill>
                <a:srgbClr val="79551b"/>
              </a:solidFill>
              <a:latin typeface="宋体"/>
            </a:endParaRPr>
          </a:p>
          <a:p>
            <a:pPr lvl="3" marL="1487880" indent="-212400">
              <a:spcBef>
                <a:spcPts val="700"/>
              </a:spcBef>
              <a:buClr>
                <a:srgbClr val="79551b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宋体"/>
              </a:rPr>
              <a:t>Fourth Outline Level</a:t>
            </a:r>
            <a:endParaRPr b="0" lang="en-US" sz="2800" spc="-1" strike="noStrike">
              <a:solidFill>
                <a:srgbClr val="79551b"/>
              </a:solidFill>
              <a:latin typeface="宋体"/>
            </a:endParaRPr>
          </a:p>
          <a:p>
            <a:pPr lvl="4" marL="1913040" indent="-212400">
              <a:spcBef>
                <a:spcPts val="700"/>
              </a:spcBef>
              <a:buClr>
                <a:srgbClr val="79551b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宋体"/>
              </a:rPr>
              <a:t>Fifth Outline Level</a:t>
            </a:r>
            <a:endParaRPr b="0" lang="en-US" sz="2800" spc="-1" strike="noStrike">
              <a:solidFill>
                <a:srgbClr val="79551b"/>
              </a:solidFill>
              <a:latin typeface="宋体"/>
            </a:endParaRPr>
          </a:p>
          <a:p>
            <a:pPr lvl="5" marL="1913040" indent="-212400">
              <a:spcBef>
                <a:spcPts val="700"/>
              </a:spcBef>
              <a:buClr>
                <a:srgbClr val="ffffff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宋体"/>
              </a:rPr>
              <a:t>Sixth Outline Level</a:t>
            </a:r>
            <a:endParaRPr b="0" lang="en-US" sz="2800" spc="-1" strike="noStrike">
              <a:solidFill>
                <a:srgbClr val="79551b"/>
              </a:solidFill>
              <a:latin typeface="宋体"/>
            </a:endParaRPr>
          </a:p>
          <a:p>
            <a:pPr lvl="6" marL="1913040" indent="-212400">
              <a:spcBef>
                <a:spcPts val="700"/>
              </a:spcBef>
              <a:buClr>
                <a:srgbClr val="ffffff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宋体"/>
              </a:rPr>
              <a:t>Seventh Outline Level</a:t>
            </a:r>
            <a:endParaRPr b="0" lang="en-US" sz="2800" spc="-1" strike="noStrike">
              <a:solidFill>
                <a:srgbClr val="79551b"/>
              </a:solidFill>
              <a:latin typeface="宋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9551b"/>
                </a:solidFill>
                <a:latin typeface="宋体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9551b"/>
                </a:solidFill>
                <a:latin typeface="宋体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9551b"/>
                </a:solidFill>
                <a:latin typeface="宋体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9551b"/>
                </a:solidFill>
                <a:latin typeface="宋体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9551b"/>
                </a:solidFill>
                <a:latin typeface="宋体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12EDF-693B-4F5A-BCA4-126803C0FDA5}" type="slidenum">
              <a:rPr b="0" lang="zh-CN" sz="1200" spc="-1" strike="noStrike">
                <a:solidFill>
                  <a:srgbClr val="79551b"/>
                </a:solidFill>
                <a:latin typeface="宋体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3200" y="1752120"/>
            <a:ext cx="5486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宋体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宋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9551b"/>
                </a:solidFill>
                <a:latin typeface="Palatino Linotype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9551b"/>
                </a:solidFill>
                <a:latin typeface="Palatino Linotype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9551b"/>
                </a:solidFill>
                <a:latin typeface="Palatino Linotype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9551b"/>
                </a:solidFill>
                <a:latin typeface="Palatino Linotype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9551b"/>
                </a:solidFill>
                <a:latin typeface="Palatino Linotype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41A0A-40F3-4EF1-B2BE-688A4842E11E}" type="slidenum">
              <a:rPr b="0" lang="zh-CN" sz="1200" spc="-1" strike="noStrike">
                <a:solidFill>
                  <a:srgbClr val="79551b"/>
                </a:solidFill>
                <a:latin typeface="Palatino Linotype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52668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3200" spc="-1" strike="noStrike">
                <a:solidFill>
                  <a:srgbClr val="00be9c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e8e8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e8e8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e8e8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e8e8e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e8e8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C1CB7-843A-43D4-8285-8EFD1D603932}" type="slidenum">
              <a:rPr b="0" lang="zh-CN" sz="1000" spc="-1" strike="noStrike">
                <a:solidFill>
                  <a:srgbClr val="8e8e8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25520" y="1372680"/>
            <a:ext cx="8251920" cy="498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012"/>
              </a:spcBef>
              <a:buClr>
                <a:srgbClr val="00be9c"/>
              </a:buClr>
              <a:buSzPct val="70000"/>
              <a:buFont typeface="Wingdings 3" charset="2"/>
              <a:buChar char="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00be9c"/>
                </a:solidFill>
                <a:latin typeface="微软雅黑"/>
              </a:rPr>
              <a:t>Click to edit the outline text format</a:t>
            </a: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1012"/>
              </a:spcBef>
              <a:buClr>
                <a:srgbClr val="29ffd1"/>
              </a:buClr>
              <a:buFont typeface="幼圆"/>
              <a:buChar char=" 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00be9c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  <a:p>
            <a:pPr lvl="2" marL="642960" indent="-128520" algn="just">
              <a:lnSpc>
                <a:spcPct val="110000"/>
              </a:lnSpc>
              <a:spcBef>
                <a:spcPts val="1012"/>
              </a:spcBef>
              <a:buClr>
                <a:srgbClr val="2f2f2f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00be9c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  <a:p>
            <a:pPr lvl="3" marL="900000" indent="-128520" algn="just">
              <a:lnSpc>
                <a:spcPct val="110000"/>
              </a:lnSpc>
              <a:spcBef>
                <a:spcPts val="1012"/>
              </a:spcBef>
              <a:buClr>
                <a:srgbClr val="2f2f2f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00be9c"/>
                </a:solidFill>
                <a:latin typeface="微软雅黑"/>
              </a:rPr>
              <a:t>Fourth Outline Level</a:t>
            </a: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  <a:p>
            <a:pPr lvl="4" marL="1157400" indent="-128520" algn="just">
              <a:lnSpc>
                <a:spcPct val="110000"/>
              </a:lnSpc>
              <a:spcBef>
                <a:spcPts val="1012"/>
              </a:spcBef>
              <a:buClr>
                <a:srgbClr val="2f2f2f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00be9c"/>
                </a:solidFill>
                <a:latin typeface="微软雅黑"/>
              </a:rPr>
              <a:t>Fifth Outline Level</a:t>
            </a: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  <a:p>
            <a:pPr lvl="5" marL="1157400" indent="-128520" algn="just">
              <a:lnSpc>
                <a:spcPct val="110000"/>
              </a:lnSpc>
              <a:spcBef>
                <a:spcPts val="1012"/>
              </a:spcBef>
              <a:buClr>
                <a:srgbClr val="2f2f2f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00be9c"/>
                </a:solidFill>
                <a:latin typeface="微软雅黑"/>
              </a:rPr>
              <a:t>Sixth Outline Level</a:t>
            </a: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  <a:p>
            <a:pPr lvl="6" marL="1157400" indent="-128520" algn="just">
              <a:lnSpc>
                <a:spcPct val="110000"/>
              </a:lnSpc>
              <a:spcBef>
                <a:spcPts val="1012"/>
              </a:spcBef>
              <a:buClr>
                <a:srgbClr val="2f2f2f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00be9c"/>
                </a:solidFill>
                <a:latin typeface="微软雅黑"/>
              </a:rPr>
              <a:t>Seventh Outline Level</a:t>
            </a: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86" name="等腰三角形 15"/>
          <p:cNvSpPr/>
          <p:nvPr/>
        </p:nvSpPr>
        <p:spPr>
          <a:xfrm flipV="1">
            <a:off x="425520" y="-720"/>
            <a:ext cx="649080" cy="560520"/>
          </a:xfrm>
          <a:prstGeom prst="triangle">
            <a:avLst>
              <a:gd name="adj" fmla="val 50000"/>
            </a:avLst>
          </a:prstGeom>
          <a:solidFill>
            <a:srgbClr val="00be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7"/>
          <p:cNvSpPr/>
          <p:nvPr/>
        </p:nvSpPr>
        <p:spPr>
          <a:xfrm>
            <a:off x="0" y="22320"/>
            <a:ext cx="9144000" cy="6858000"/>
          </a:xfrm>
          <a:prstGeom prst="rect">
            <a:avLst/>
          </a:pr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直角三角形 8"/>
          <p:cNvSpPr/>
          <p:nvPr/>
        </p:nvSpPr>
        <p:spPr>
          <a:xfrm flipH="1">
            <a:off x="5565600" y="4403880"/>
            <a:ext cx="3578400" cy="2454120"/>
          </a:xfrm>
          <a:prstGeom prst="rtTriangle">
            <a:avLst/>
          </a:prstGeom>
          <a:solidFill>
            <a:srgbClr val="00be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直角三角形 9"/>
          <p:cNvSpPr/>
          <p:nvPr/>
        </p:nvSpPr>
        <p:spPr>
          <a:xfrm>
            <a:off x="0" y="4451400"/>
            <a:ext cx="9144000" cy="2432160"/>
          </a:xfrm>
          <a:prstGeom prst="rtTriangle">
            <a:avLst/>
          </a:prstGeom>
          <a:solidFill>
            <a:srgbClr val="545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直角三角形 10"/>
          <p:cNvSpPr/>
          <p:nvPr/>
        </p:nvSpPr>
        <p:spPr>
          <a:xfrm flipH="1">
            <a:off x="8139960" y="4395960"/>
            <a:ext cx="1003320" cy="2481120"/>
          </a:xfrm>
          <a:prstGeom prst="rtTriangle">
            <a:avLst/>
          </a:prstGeom>
          <a:solidFill>
            <a:srgbClr val="00b4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直角三角形 10"/>
          <p:cNvSpPr/>
          <p:nvPr/>
        </p:nvSpPr>
        <p:spPr>
          <a:xfrm>
            <a:off x="0" y="4449600"/>
            <a:ext cx="9094680" cy="2459160"/>
          </a:xfrm>
          <a:custGeom>
            <a:avLst/>
            <a:gdLst/>
            <a:ahLst/>
            <a:rect l="l" t="t" r="r" b="b"/>
            <a:pathLst>
              <a:path w="12125739" h="2458279">
                <a:moveTo>
                  <a:pt x="5406887" y="2445026"/>
                </a:moveTo>
                <a:lnTo>
                  <a:pt x="0" y="0"/>
                </a:lnTo>
                <a:lnTo>
                  <a:pt x="12125739" y="2458279"/>
                </a:lnTo>
                <a:lnTo>
                  <a:pt x="5406887" y="2445026"/>
                </a:lnTo>
                <a:close/>
              </a:path>
            </a:pathLst>
          </a:custGeom>
          <a:solidFill>
            <a:srgbClr val="61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直角三角形 12"/>
          <p:cNvSpPr/>
          <p:nvPr/>
        </p:nvSpPr>
        <p:spPr>
          <a:xfrm flipH="1" rot="10800000">
            <a:off x="-1080" y="0"/>
            <a:ext cx="2097000" cy="1020600"/>
          </a:xfrm>
          <a:prstGeom prst="rtTriangle">
            <a:avLst/>
          </a:prstGeom>
          <a:solidFill>
            <a:srgbClr val="00be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直接连接符 13"/>
          <p:cNvSpPr/>
          <p:nvPr/>
        </p:nvSpPr>
        <p:spPr>
          <a:xfrm>
            <a:off x="3394080" y="3060720"/>
            <a:ext cx="4568760" cy="0"/>
          </a:xfrm>
          <a:prstGeom prst="line">
            <a:avLst/>
          </a:prstGeom>
          <a:ln w="38160">
            <a:solidFill>
              <a:srgbClr val="00be9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5640" y="2041200"/>
            <a:ext cx="565164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3200" spc="-1" strike="noStrike">
                <a:solidFill>
                  <a:srgbClr val="00be9c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e8e8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e8e8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e8e8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e8e8e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e8e8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2104D-F198-4FF3-B774-C40D48371A57}" type="slidenum">
              <a:rPr b="0" lang="zh-CN" sz="1000" spc="-1" strike="noStrike">
                <a:solidFill>
                  <a:srgbClr val="8e8e8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10000"/>
              </a:lnSpc>
              <a:spcBef>
                <a:spcPts val="1012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000" spc="-1" strike="noStrike">
                <a:solidFill>
                  <a:srgbClr val="6d6d6d"/>
                </a:solidFill>
                <a:latin typeface="微软雅黑"/>
              </a:rPr>
              <a:t>Click to edit the outline text format</a:t>
            </a:r>
            <a:endParaRPr b="0" lang="en-US" sz="2000" spc="-1" strike="noStrike">
              <a:solidFill>
                <a:srgbClr val="6d6d6d"/>
              </a:solidFill>
              <a:latin typeface="微软雅黑"/>
            </a:endParaRPr>
          </a:p>
          <a:p>
            <a:pPr lvl="1" indent="0" algn="ctr">
              <a:lnSpc>
                <a:spcPct val="130000"/>
              </a:lnSpc>
              <a:spcAft>
                <a:spcPts val="337"/>
              </a:spcAft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600" spc="-1" strike="noStrike">
                <a:solidFill>
                  <a:srgbClr val="2f2f2f"/>
                </a:solidFill>
                <a:latin typeface="幼圆"/>
              </a:rPr>
              <a:t>Second Outline Level</a:t>
            </a:r>
            <a:endParaRPr b="0" lang="en-US" sz="1600" spc="-1" strike="noStrike">
              <a:solidFill>
                <a:srgbClr val="2f2f2f"/>
              </a:solidFill>
              <a:latin typeface="幼圆"/>
            </a:endParaRPr>
          </a:p>
          <a:p>
            <a:pPr lvl="2" marL="514440" algn="ctr">
              <a:lnSpc>
                <a:spcPct val="90000"/>
              </a:lnSpc>
              <a:spcBef>
                <a:spcPts val="275"/>
              </a:spcBef>
              <a:buClr>
                <a:srgbClr val="2f2f2f"/>
              </a:buClr>
              <a:buFont typeface="Arial"/>
              <a:buChar char="•"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100" spc="-1" strike="noStrike">
                <a:solidFill>
                  <a:srgbClr val="2f2f2f"/>
                </a:solidFill>
                <a:latin typeface="Calibri"/>
              </a:rPr>
              <a:t>Third Outline Level</a:t>
            </a:r>
            <a:endParaRPr b="0" lang="en-US" sz="1100" spc="-1" strike="noStrike">
              <a:solidFill>
                <a:srgbClr val="2f2f2f"/>
              </a:solidFill>
              <a:latin typeface="Calibri"/>
            </a:endParaRPr>
          </a:p>
          <a:p>
            <a:pPr lvl="3" marL="771480" algn="ctr">
              <a:lnSpc>
                <a:spcPct val="90000"/>
              </a:lnSpc>
              <a:spcBef>
                <a:spcPts val="275"/>
              </a:spcBef>
              <a:buClr>
                <a:srgbClr val="2f2f2f"/>
              </a:buClr>
              <a:buFont typeface="Arial"/>
              <a:buChar char="•"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000" spc="-1" strike="noStrike">
                <a:solidFill>
                  <a:srgbClr val="2f2f2f"/>
                </a:solidFill>
                <a:latin typeface="Calibri"/>
              </a:rPr>
              <a:t>Fourth Outline Level</a:t>
            </a:r>
            <a:endParaRPr b="0" lang="en-US" sz="1000" spc="-1" strike="noStrike">
              <a:solidFill>
                <a:srgbClr val="2f2f2f"/>
              </a:solidFill>
              <a:latin typeface="Calibri"/>
            </a:endParaRPr>
          </a:p>
          <a:p>
            <a:pPr lvl="4" marL="1028880" algn="ctr">
              <a:lnSpc>
                <a:spcPct val="90000"/>
              </a:lnSpc>
              <a:spcBef>
                <a:spcPts val="275"/>
              </a:spcBef>
              <a:buClr>
                <a:srgbClr val="2f2f2f"/>
              </a:buClr>
              <a:buFont typeface="Arial"/>
              <a:buChar char="•"/>
              <a:tabLst>
                <a:tab algn="l" pos="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000" spc="-1" strike="noStrike">
                <a:solidFill>
                  <a:srgbClr val="2f2f2f"/>
                </a:solidFill>
                <a:latin typeface="Calibri"/>
              </a:rPr>
              <a:t>Fifth Outline Level</a:t>
            </a:r>
            <a:endParaRPr b="0" lang="en-US" sz="1000" spc="-1" strike="noStrike">
              <a:solidFill>
                <a:srgbClr val="2f2f2f"/>
              </a:solidFill>
              <a:latin typeface="Calibri"/>
            </a:endParaRPr>
          </a:p>
          <a:p>
            <a:pPr lvl="5" marL="1028880">
              <a:spcBef>
                <a:spcPts val="249"/>
              </a:spcBef>
              <a:buClr>
                <a:srgbClr val="2f2f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2f2f"/>
                </a:solidFill>
                <a:latin typeface="Calibri"/>
              </a:rPr>
              <a:t>Sixth Outline Level</a:t>
            </a:r>
            <a:endParaRPr b="0" lang="en-US" sz="1000" spc="-1" strike="noStrike">
              <a:solidFill>
                <a:srgbClr val="2f2f2f"/>
              </a:solidFill>
              <a:latin typeface="Calibri"/>
            </a:endParaRPr>
          </a:p>
          <a:p>
            <a:pPr lvl="6" marL="1028880">
              <a:spcBef>
                <a:spcPts val="249"/>
              </a:spcBef>
              <a:buClr>
                <a:srgbClr val="2f2f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2f2f"/>
                </a:solidFill>
                <a:latin typeface="Calibri"/>
              </a:rPr>
              <a:t>Seventh Outline Level</a:t>
            </a:r>
            <a:endParaRPr b="0" lang="en-US" sz="1000" spc="-1" strike="noStrike">
              <a:solidFill>
                <a:srgbClr val="2f2f2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836720" y="1341360"/>
            <a:ext cx="662472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8000" spc="-1" strike="noStrike">
                <a:solidFill>
                  <a:srgbClr val="00be9c"/>
                </a:solidFill>
                <a:latin typeface="微软雅黑"/>
              </a:rPr>
              <a:t>天蓝色的纽扣</a:t>
            </a:r>
            <a:endParaRPr b="1" lang="en-US" sz="80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172" name=""/>
          <p:cNvSpPr/>
          <p:nvPr/>
        </p:nvSpPr>
        <p:spPr>
          <a:xfrm>
            <a:off x="2124000" y="4724280"/>
            <a:ext cx="468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1012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941400" y="2093760"/>
            <a:ext cx="71676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012"/>
              </a:spcBef>
              <a:buClr>
                <a:srgbClr val="00be9c"/>
              </a:buClr>
              <a:buSzPct val="70000"/>
              <a:buFont typeface="Wingdings 3" charset="2"/>
              <a:buChar char="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3200" spc="-1" strike="noStrike">
                <a:solidFill>
                  <a:srgbClr val="150f05"/>
                </a:solidFill>
                <a:latin typeface="微软雅黑"/>
              </a:rPr>
              <a:t>（</a:t>
            </a:r>
            <a:r>
              <a:rPr b="0" lang="en-US" sz="3200" spc="-1" strike="noStrike">
                <a:solidFill>
                  <a:srgbClr val="150f05"/>
                </a:solidFill>
                <a:latin typeface="微软雅黑"/>
              </a:rPr>
              <a:t>2</a:t>
            </a:r>
            <a:r>
              <a:rPr b="0" lang="en-US" sz="3200" spc="-1" strike="noStrike">
                <a:solidFill>
                  <a:srgbClr val="150f05"/>
                </a:solidFill>
                <a:latin typeface="微软雅黑"/>
              </a:rPr>
              <a:t>）妈妈的心情：收到这么漂亮的天蓝色的纽扣，妈妈此时心情怎么样？你从哪些词句看出来的？</a:t>
            </a:r>
            <a:endParaRPr b="0" lang="en-US" sz="3200" spc="-1" strike="noStrike">
              <a:solidFill>
                <a:srgbClr val="00be9c"/>
              </a:solidFill>
              <a:latin typeface="微软雅黑"/>
            </a:endParaRPr>
          </a:p>
          <a:p>
            <a:pPr marL="361800" indent="-361800" algn="just">
              <a:lnSpc>
                <a:spcPct val="110000"/>
              </a:lnSpc>
              <a:spcBef>
                <a:spcPts val="1012"/>
              </a:spcBef>
              <a:buClr>
                <a:srgbClr val="00be9c"/>
              </a:buClr>
              <a:buSzPct val="70000"/>
              <a:buFont typeface="Wingdings 3" charset="2"/>
              <a:buChar char="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3200" spc="-1" strike="noStrike">
                <a:solidFill>
                  <a:srgbClr val="150f05"/>
                </a:solidFill>
                <a:latin typeface="微软雅黑"/>
              </a:rPr>
              <a:t>（抓住“呀”“真是太棒了”，体会妈妈的心情。）你们试着用自己的声音、表情表现妈妈高兴、惊讶的心情。</a:t>
            </a:r>
            <a:endParaRPr b="0" lang="en-US" sz="3200" spc="-1" strike="noStrike">
              <a:solidFill>
                <a:srgbClr val="00be9c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082520" y="2224080"/>
            <a:ext cx="702648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012"/>
              </a:spcBef>
              <a:buClr>
                <a:srgbClr val="00be9c"/>
              </a:buClr>
              <a:buSzPct val="70000"/>
              <a:buFont typeface="Wingdings 3" charset="2"/>
              <a:buChar char="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3600" spc="-1" strike="noStrike">
                <a:solidFill>
                  <a:srgbClr val="150f05"/>
                </a:solidFill>
                <a:latin typeface="微软雅黑"/>
              </a:rPr>
              <a:t>（</a:t>
            </a:r>
            <a:r>
              <a:rPr b="0" lang="en-US" sz="3600" spc="-1" strike="noStrike">
                <a:solidFill>
                  <a:srgbClr val="150f05"/>
                </a:solidFill>
                <a:latin typeface="微软雅黑"/>
              </a:rPr>
              <a:t>3</a:t>
            </a:r>
            <a:r>
              <a:rPr b="0" lang="en-US" sz="3600" spc="-1" strike="noStrike">
                <a:solidFill>
                  <a:srgbClr val="150f05"/>
                </a:solidFill>
                <a:latin typeface="微软雅黑"/>
              </a:rPr>
              <a:t>）胖胖熊拿礼物给妈妈看时心里还在失望着呢，而妈妈看到礼物后却是高兴的、惊讶的，请孩子分角色来读一读，看谁表演得最生动、最形象。</a:t>
            </a:r>
            <a:r>
              <a:rPr b="0" lang="en-US" sz="2400" spc="-1" strike="noStrike">
                <a:solidFill>
                  <a:srgbClr val="00be9c"/>
                </a:solidFill>
                <a:latin typeface="微软雅黑"/>
              </a:rPr>
              <a:t> </a:t>
            </a: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1011240" y="2532240"/>
            <a:ext cx="725472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 algn="just">
              <a:lnSpc>
                <a:spcPct val="15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2400" spc="-1" strike="noStrike">
                <a:solidFill>
                  <a:srgbClr val="00be9c"/>
                </a:solidFill>
                <a:latin typeface="微软雅黑"/>
              </a:rPr>
              <a:t>1.</a:t>
            </a:r>
            <a:r>
              <a:rPr b="1" lang="en-US" sz="2400" spc="-1" strike="noStrike">
                <a:solidFill>
                  <a:srgbClr val="00be9c"/>
                </a:solidFill>
                <a:latin typeface="微软雅黑"/>
              </a:rPr>
              <a:t>你喜欢胖胖熊吗？为什么？你有胖胖熊这样的秘密吗？</a:t>
            </a: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  <a:p>
            <a:pPr marL="361800" indent="0" algn="just">
              <a:lnSpc>
                <a:spcPct val="15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2400" spc="-1" strike="noStrike">
                <a:solidFill>
                  <a:srgbClr val="00be9c"/>
                </a:solidFill>
                <a:latin typeface="微软雅黑"/>
              </a:rPr>
              <a:t>2.</a:t>
            </a:r>
            <a:r>
              <a:rPr b="1" lang="en-US" sz="2400" spc="-1" strike="noStrike">
                <a:solidFill>
                  <a:srgbClr val="00be9c"/>
                </a:solidFill>
                <a:latin typeface="微软雅黑"/>
              </a:rPr>
              <a:t>学习了本文，你想说什么？你准备做什么？</a:t>
            </a:r>
            <a:r>
              <a:rPr b="0" lang="en-US" sz="2400" spc="-1" strike="noStrike">
                <a:solidFill>
                  <a:srgbClr val="00be9c"/>
                </a:solidFill>
                <a:latin typeface="微软雅黑"/>
              </a:rPr>
              <a:t> </a:t>
            </a: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119700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拓展提高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000" y="9079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5400" spc="-1" strike="noStrike">
                <a:solidFill>
                  <a:srgbClr val="00be9c"/>
                </a:solidFill>
                <a:latin typeface="微软雅黑"/>
              </a:rPr>
              <a:t>作业超市：</a:t>
            </a:r>
            <a:endParaRPr b="1" lang="en-US" sz="54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120" y="2014200"/>
            <a:ext cx="7667640" cy="42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012"/>
              </a:spcBef>
              <a:buClr>
                <a:srgbClr val="00be9c"/>
              </a:buClr>
              <a:buSzPct val="70000"/>
              <a:buFont typeface="Wingdings 3" charset="2"/>
              <a:buChar char="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3600" spc="-1" strike="noStrike">
                <a:solidFill>
                  <a:srgbClr val="009a79"/>
                </a:solidFill>
                <a:latin typeface="微软雅黑"/>
              </a:rPr>
              <a:t>1.</a:t>
            </a:r>
            <a:r>
              <a:rPr b="0" lang="en-US" sz="3600" spc="-1" strike="noStrike">
                <a:solidFill>
                  <a:srgbClr val="009a79"/>
                </a:solidFill>
                <a:latin typeface="微软雅黑"/>
              </a:rPr>
              <a:t>自主完成课后第</a:t>
            </a:r>
            <a:r>
              <a:rPr b="0" lang="en-US" sz="3600" spc="-1" strike="noStrike">
                <a:solidFill>
                  <a:srgbClr val="009a79"/>
                </a:solidFill>
                <a:latin typeface="微软雅黑"/>
              </a:rPr>
              <a:t>2</a:t>
            </a:r>
            <a:r>
              <a:rPr b="0" lang="en-US" sz="3600" spc="-1" strike="noStrike">
                <a:solidFill>
                  <a:srgbClr val="009a79"/>
                </a:solidFill>
                <a:latin typeface="微软雅黑"/>
              </a:rPr>
              <a:t>题。</a:t>
            </a:r>
            <a:endParaRPr b="0" lang="en-US" sz="3600" spc="-1" strike="noStrike">
              <a:solidFill>
                <a:srgbClr val="00be9c"/>
              </a:solidFill>
              <a:latin typeface="微软雅黑"/>
            </a:endParaRPr>
          </a:p>
          <a:p>
            <a:pPr marL="361800"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3600" spc="-1" strike="noStrike">
              <a:solidFill>
                <a:srgbClr val="00be9c"/>
              </a:solidFill>
              <a:latin typeface="微软雅黑"/>
            </a:endParaRPr>
          </a:p>
          <a:p>
            <a:pPr marL="361800" indent="-361800" algn="just">
              <a:lnSpc>
                <a:spcPct val="110000"/>
              </a:lnSpc>
              <a:spcBef>
                <a:spcPts val="1012"/>
              </a:spcBef>
              <a:buClr>
                <a:srgbClr val="00be9c"/>
              </a:buClr>
              <a:buSzPct val="70000"/>
              <a:buFont typeface="Wingdings 3" charset="2"/>
              <a:buChar char="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3600" spc="-1" strike="noStrike">
                <a:solidFill>
                  <a:srgbClr val="009a79"/>
                </a:solidFill>
                <a:latin typeface="微软雅黑"/>
              </a:rPr>
              <a:t>2.</a:t>
            </a:r>
            <a:r>
              <a:rPr b="0" lang="en-US" sz="3600" spc="-1" strike="noStrike">
                <a:solidFill>
                  <a:srgbClr val="009a79"/>
                </a:solidFill>
                <a:latin typeface="微软雅黑"/>
              </a:rPr>
              <a:t>开火车说一说，评一评。</a:t>
            </a:r>
            <a:endParaRPr b="0" lang="en-US" sz="3600" spc="-1" strike="noStrike">
              <a:solidFill>
                <a:srgbClr val="00be9c"/>
              </a:solidFill>
              <a:latin typeface="微软雅黑"/>
            </a:endParaRPr>
          </a:p>
          <a:p>
            <a:pPr marL="361800"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3600" spc="-1" strike="noStrike">
              <a:solidFill>
                <a:srgbClr val="00be9c"/>
              </a:solidFill>
              <a:latin typeface="微软雅黑"/>
            </a:endParaRPr>
          </a:p>
          <a:p>
            <a:pPr marL="361800" indent="-361800" algn="just">
              <a:lnSpc>
                <a:spcPct val="110000"/>
              </a:lnSpc>
              <a:spcBef>
                <a:spcPts val="1012"/>
              </a:spcBef>
              <a:buClr>
                <a:srgbClr val="00be9c"/>
              </a:buClr>
              <a:buSzPct val="70000"/>
              <a:buFont typeface="Wingdings 3" charset="2"/>
              <a:buChar char="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3600" spc="-1" strike="noStrike">
                <a:solidFill>
                  <a:srgbClr val="009a79"/>
                </a:solidFill>
                <a:latin typeface="微软雅黑"/>
              </a:rPr>
              <a:t>3.</a:t>
            </a:r>
            <a:r>
              <a:rPr b="0" lang="en-US" sz="3600" spc="-1" strike="noStrike">
                <a:solidFill>
                  <a:srgbClr val="009a79"/>
                </a:solidFill>
                <a:latin typeface="微软雅黑"/>
              </a:rPr>
              <a:t>制作生日备忘录。</a:t>
            </a:r>
            <a:r>
              <a:rPr b="0" lang="en-US" sz="2400" spc="-1" strike="noStrike">
                <a:solidFill>
                  <a:srgbClr val="00be9c"/>
                </a:solidFill>
                <a:latin typeface="微软雅黑"/>
              </a:rPr>
              <a:t> </a:t>
            </a: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195640" y="2565360"/>
            <a:ext cx="532908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方正舒体"/>
              </a:rPr>
              <a:t>敬请指导！</a:t>
            </a:r>
            <a:endParaRPr b="0" lang="en-US" sz="80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方正舒体"/>
              <a:ea typeface="方正舒体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41280" y="526680"/>
            <a:ext cx="755496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4400" spc="-1" strike="noStrike">
                <a:solidFill>
                  <a:srgbClr val="5f5f5f"/>
                </a:solidFill>
                <a:latin typeface="微软雅黑"/>
              </a:rPr>
              <a:t>学习目标</a:t>
            </a:r>
            <a:endParaRPr b="1" lang="en-US" sz="44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70120" y="2168640"/>
            <a:ext cx="744984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012"/>
              </a:spcBef>
              <a:buClr>
                <a:srgbClr val="00be9c"/>
              </a:buClr>
              <a:buSzPct val="70000"/>
              <a:buFont typeface="Wingdings 3" charset="2"/>
              <a:buChar char="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00be9c"/>
                </a:solidFill>
                <a:latin typeface="微软雅黑"/>
              </a:rPr>
              <a:t>1. </a:t>
            </a:r>
            <a:r>
              <a:rPr b="0" lang="en-US" sz="2400" spc="-1" strike="noStrike">
                <a:solidFill>
                  <a:srgbClr val="00be9c"/>
                </a:solidFill>
                <a:latin typeface="微软雅黑"/>
              </a:rPr>
              <a:t>自主认识</a:t>
            </a:r>
            <a:r>
              <a:rPr b="0" lang="en-US" sz="2400" spc="-1" strike="noStrike">
                <a:solidFill>
                  <a:srgbClr val="00be9c"/>
                </a:solidFill>
                <a:latin typeface="微软雅黑"/>
              </a:rPr>
              <a:t>12</a:t>
            </a:r>
            <a:r>
              <a:rPr b="0" lang="en-US" sz="2400" spc="-1" strike="noStrike">
                <a:solidFill>
                  <a:srgbClr val="00be9c"/>
                </a:solidFill>
                <a:latin typeface="微软雅黑"/>
              </a:rPr>
              <a:t>个生字，正确、工整地书写</a:t>
            </a:r>
            <a:r>
              <a:rPr b="0" lang="en-US" sz="2400" spc="-1" strike="noStrike">
                <a:solidFill>
                  <a:srgbClr val="00be9c"/>
                </a:solidFill>
                <a:latin typeface="微软雅黑"/>
              </a:rPr>
              <a:t>8</a:t>
            </a:r>
            <a:r>
              <a:rPr b="0" lang="en-US" sz="2400" spc="-1" strike="noStrike">
                <a:solidFill>
                  <a:srgbClr val="00be9c"/>
                </a:solidFill>
                <a:latin typeface="微软雅黑"/>
              </a:rPr>
              <a:t>个生字。</a:t>
            </a: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  <a:p>
            <a:pPr marL="361800" indent="-361800" algn="just">
              <a:lnSpc>
                <a:spcPct val="110000"/>
              </a:lnSpc>
              <a:spcBef>
                <a:spcPts val="1012"/>
              </a:spcBef>
              <a:buClr>
                <a:srgbClr val="00be9c"/>
              </a:buClr>
              <a:buSzPct val="70000"/>
              <a:buFont typeface="Wingdings 3" charset="2"/>
              <a:buChar char="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00be9c"/>
                </a:solidFill>
                <a:latin typeface="微软雅黑"/>
              </a:rPr>
              <a:t>2. </a:t>
            </a:r>
            <a:r>
              <a:rPr b="0" lang="en-US" sz="2400" spc="-1" strike="noStrike">
                <a:solidFill>
                  <a:srgbClr val="00be9c"/>
                </a:solidFill>
                <a:latin typeface="微软雅黑"/>
              </a:rPr>
              <a:t>正确、流利、有感情地朗读课文，从胖胖熊的语言和心理活动中，体会胖胖熊对妈妈的一片真情。</a:t>
            </a: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  <a:p>
            <a:pPr marL="361800" indent="-361800" algn="just">
              <a:lnSpc>
                <a:spcPct val="110000"/>
              </a:lnSpc>
              <a:spcBef>
                <a:spcPts val="1012"/>
              </a:spcBef>
              <a:buClr>
                <a:srgbClr val="00be9c"/>
              </a:buClr>
              <a:buSzPct val="70000"/>
              <a:buFont typeface="Wingdings 3" charset="2"/>
              <a:buChar char="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00be9c"/>
                </a:solidFill>
                <a:latin typeface="微软雅黑"/>
              </a:rPr>
              <a:t>3. </a:t>
            </a:r>
            <a:r>
              <a:rPr b="0" lang="en-US" sz="2400" spc="-1" strike="noStrike">
                <a:solidFill>
                  <a:srgbClr val="00be9c"/>
                </a:solidFill>
                <a:latin typeface="微软雅黑"/>
              </a:rPr>
              <a:t>联系生活实际理解课文内容，说说自己的感受和想法。 </a:t>
            </a: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79640" y="765000"/>
            <a:ext cx="5484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4000" spc="-1" strike="noStrike">
                <a:solidFill>
                  <a:srgbClr val="00be9c"/>
                </a:solidFill>
                <a:latin typeface="微软雅黑"/>
              </a:rPr>
              <a:t>设置情境</a:t>
            </a:r>
            <a:endParaRPr b="1" lang="en-US" sz="40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95840" y="2169720"/>
            <a:ext cx="327672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lnSpc>
                <a:spcPct val="110000"/>
              </a:lnSpc>
              <a:spcBef>
                <a:spcPts val="1012"/>
              </a:spcBef>
              <a:buClr>
                <a:srgbClr val="00be9c"/>
              </a:buClr>
              <a:buSzPct val="70000"/>
              <a:buFont typeface="Wingdings 3" charset="2"/>
              <a:buChar char="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zh-CN" sz="2400" spc="-1" strike="noStrike">
                <a:solidFill>
                  <a:srgbClr val="00be9c"/>
                </a:solidFill>
                <a:latin typeface="微软雅黑"/>
              </a:rPr>
              <a:t>读了这个课题，你有什么想知道吗？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be9c"/>
                </a:solidFill>
                <a:latin typeface="微软雅黑"/>
              </a:rPr>
              <a:t> </a:t>
            </a: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1966680" cy="3279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00280" y="1512720"/>
            <a:ext cx="730872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012"/>
              </a:spcBef>
              <a:buClr>
                <a:srgbClr val="00be9c"/>
              </a:buClr>
              <a:buSzPct val="70000"/>
              <a:buFont typeface="Wingdings 3" charset="2"/>
              <a:buChar char="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2400" spc="-1" strike="noStrike">
                <a:solidFill>
                  <a:srgbClr val="00be9c"/>
                </a:solidFill>
                <a:latin typeface="微软雅黑"/>
              </a:rPr>
              <a:t>初读课文（要求）</a:t>
            </a: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  <a:p>
            <a:pPr marL="361800" indent="-361800" algn="just">
              <a:lnSpc>
                <a:spcPct val="110000"/>
              </a:lnSpc>
              <a:spcBef>
                <a:spcPts val="1012"/>
              </a:spcBef>
              <a:buClr>
                <a:srgbClr val="00be9c"/>
              </a:buClr>
              <a:buSzPct val="70000"/>
              <a:buFont typeface="Wingdings 3" charset="2"/>
              <a:buChar char="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00be9c"/>
                </a:solidFill>
                <a:latin typeface="微软雅黑"/>
              </a:rPr>
              <a:t>1.</a:t>
            </a:r>
            <a:r>
              <a:rPr b="0" lang="en-US" sz="2400" spc="-1" strike="noStrike">
                <a:solidFill>
                  <a:srgbClr val="00be9c"/>
                </a:solidFill>
                <a:latin typeface="微软雅黑"/>
              </a:rPr>
              <a:t>用自己喜欢的方式读一读课文，遇到不认识的字多读两遍。</a:t>
            </a: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  <a:p>
            <a:pPr marL="361800" indent="-361800" algn="just">
              <a:lnSpc>
                <a:spcPct val="110000"/>
              </a:lnSpc>
              <a:spcBef>
                <a:spcPts val="1012"/>
              </a:spcBef>
              <a:buClr>
                <a:srgbClr val="00be9c"/>
              </a:buClr>
              <a:buSzPct val="70000"/>
              <a:buFont typeface="Wingdings 3" charset="2"/>
              <a:buChar char="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00be9c"/>
                </a:solidFill>
                <a:latin typeface="微软雅黑"/>
              </a:rPr>
              <a:t>2.</a:t>
            </a:r>
            <a:r>
              <a:rPr b="0" lang="en-US" sz="2400" spc="-1" strike="noStrike">
                <a:solidFill>
                  <a:srgbClr val="00be9c"/>
                </a:solidFill>
                <a:latin typeface="微软雅黑"/>
              </a:rPr>
              <a:t>读准字音，读通顺句子，把文中的生字词多读几遍。 </a:t>
            </a: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  <a:p>
            <a:pPr marL="361800" indent="-361800" algn="just">
              <a:lnSpc>
                <a:spcPct val="110000"/>
              </a:lnSpc>
              <a:spcBef>
                <a:spcPts val="1012"/>
              </a:spcBef>
              <a:buClr>
                <a:srgbClr val="00be9c"/>
              </a:buClr>
              <a:buSzPct val="70000"/>
              <a:buFont typeface="Wingdings 3" charset="2"/>
              <a:buChar char="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00be9c"/>
                </a:solidFill>
                <a:latin typeface="微软雅黑"/>
              </a:rPr>
              <a:t>3.</a:t>
            </a:r>
            <a:r>
              <a:rPr b="0" lang="en-US" sz="2400" spc="-1" strike="noStrike">
                <a:solidFill>
                  <a:srgbClr val="00be9c"/>
                </a:solidFill>
                <a:latin typeface="微软雅黑"/>
              </a:rPr>
              <a:t>谁愿意读读课文？其余孩子认真听他是否读准了字音、读通了句子。 </a:t>
            </a: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60240" y="2224080"/>
            <a:ext cx="7817040" cy="40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012"/>
              </a:spcBef>
              <a:buClr>
                <a:srgbClr val="00be9c"/>
              </a:buClr>
              <a:buSzPct val="70000"/>
              <a:buFont typeface="Wingdings 3" charset="2"/>
              <a:buChar char="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0" spc="-1" strike="noStrike">
                <a:solidFill>
                  <a:srgbClr val="ff66cc"/>
                </a:solidFill>
                <a:latin typeface="微软雅黑"/>
              </a:rPr>
              <a:t>再次通读全文，结合插图，想想课文主要讲了一件什么事情？</a:t>
            </a:r>
            <a:endParaRPr b="0" lang="en-US" sz="4000" spc="-1" strike="noStrike">
              <a:solidFill>
                <a:srgbClr val="00be9c"/>
              </a:solidFill>
              <a:latin typeface="微软雅黑"/>
            </a:endParaRPr>
          </a:p>
          <a:p>
            <a:pPr marL="361800" indent="-361800" algn="just">
              <a:lnSpc>
                <a:spcPct val="110000"/>
              </a:lnSpc>
              <a:spcBef>
                <a:spcPts val="1012"/>
              </a:spcBef>
              <a:buClr>
                <a:srgbClr val="00be9c"/>
              </a:buClr>
              <a:buSzPct val="70000"/>
              <a:buFont typeface="Wingdings 3" charset="2"/>
              <a:buChar char="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微软雅黑"/>
              </a:rPr>
              <a:t>胖胖熊用自己省下的零花钱——一块硬币，给妈妈买了一枚天蓝色的纽扣作为生日礼物的故事。</a:t>
            </a:r>
            <a:r>
              <a:rPr b="1" lang="en-US" sz="2400" spc="-1" strike="noStrike">
                <a:solidFill>
                  <a:srgbClr val="ff0000"/>
                </a:solidFill>
                <a:latin typeface="微软雅黑"/>
              </a:rPr>
              <a:t> </a:t>
            </a: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755640" y="836640"/>
            <a:ext cx="3095640" cy="828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869760" y="1440000"/>
            <a:ext cx="75373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012"/>
              </a:spcBef>
              <a:buClr>
                <a:srgbClr val="00be9c"/>
              </a:buClr>
              <a:buSzPct val="70000"/>
              <a:buFont typeface="Wingdings 3" charset="2"/>
              <a:buChar char="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</a:rPr>
              <a:t>这枚天蓝色的纽扣是胖胖熊用来干什么的？</a:t>
            </a:r>
            <a:endParaRPr b="0" lang="en-US" sz="3600" spc="-1" strike="noStrike">
              <a:solidFill>
                <a:srgbClr val="00be9c"/>
              </a:solidFill>
              <a:latin typeface="微软雅黑"/>
            </a:endParaRPr>
          </a:p>
          <a:p>
            <a:pPr marL="361800" indent="-361800" algn="just">
              <a:lnSpc>
                <a:spcPct val="110000"/>
              </a:lnSpc>
              <a:spcBef>
                <a:spcPts val="1012"/>
              </a:spcBef>
              <a:buClr>
                <a:srgbClr val="00be9c"/>
              </a:buClr>
              <a:buSzPct val="70000"/>
              <a:buFont typeface="Wingdings 3" charset="2"/>
              <a:buChar char="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3600" spc="-1" strike="noStrike">
                <a:solidFill>
                  <a:srgbClr val="009a79"/>
                </a:solidFill>
                <a:latin typeface="微软雅黑"/>
              </a:rPr>
              <a:t>送给妈妈做生日礼物的。</a:t>
            </a:r>
            <a:endParaRPr b="0" lang="en-US" sz="3600" spc="-1" strike="noStrike">
              <a:solidFill>
                <a:srgbClr val="00be9c"/>
              </a:solidFill>
              <a:latin typeface="微软雅黑"/>
            </a:endParaRPr>
          </a:p>
          <a:p>
            <a:pPr marL="361800" indent="-361800" algn="just">
              <a:lnSpc>
                <a:spcPct val="110000"/>
              </a:lnSpc>
              <a:spcBef>
                <a:spcPts val="1012"/>
              </a:spcBef>
              <a:buClr>
                <a:srgbClr val="00be9c"/>
              </a:buClr>
              <a:buSzPct val="70000"/>
              <a:buFont typeface="Wingdings 3" charset="2"/>
              <a:buChar char="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</a:rPr>
              <a:t>胖胖熊一开始就准备给妈妈买纽扣做生日礼物吗？自己读课文，勾画出胖胖熊心里想的话，然后读一读。</a:t>
            </a:r>
            <a:r>
              <a:rPr b="0" lang="en-US" sz="2400" spc="-1" strike="noStrike">
                <a:solidFill>
                  <a:srgbClr val="00be9c"/>
                </a:solidFill>
                <a:latin typeface="微软雅黑"/>
              </a:rPr>
              <a:t> </a:t>
            </a:r>
            <a:endParaRPr b="0" lang="en-US" sz="2400" spc="-1" strike="noStrike">
              <a:solidFill>
                <a:srgbClr val="00be9c"/>
              </a:solidFill>
              <a:latin typeface="微软雅黑"/>
            </a:endParaRPr>
          </a:p>
        </p:txBody>
      </p:sp>
    </p:spTree>
  </p:cSld>
  <p:transition>
    <p:random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353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 algn="just">
              <a:lnSpc>
                <a:spcPct val="15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3200" spc="-1" strike="noStrike">
                <a:solidFill>
                  <a:srgbClr val="00be9c"/>
                </a:solidFill>
                <a:latin typeface="微软雅黑"/>
              </a:rPr>
              <a:t>  </a:t>
            </a:r>
            <a:r>
              <a:rPr b="1" lang="zh-CN" sz="3200" spc="-1" strike="noStrike">
                <a:solidFill>
                  <a:srgbClr val="00be9c"/>
                </a:solidFill>
                <a:latin typeface="微软雅黑"/>
              </a:rPr>
              <a:t>胖胖熊心里想着给妈妈一个适用的礼物，此时它的心情如何？</a:t>
            </a:r>
            <a:endParaRPr b="0" lang="en-US" sz="3200" spc="-1" strike="noStrike">
              <a:solidFill>
                <a:srgbClr val="00be9c"/>
              </a:solidFill>
              <a:latin typeface="微软雅黑"/>
            </a:endParaRPr>
          </a:p>
          <a:p>
            <a:pPr marL="361800" indent="0" algn="just">
              <a:lnSpc>
                <a:spcPct val="15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微软雅黑"/>
              </a:rPr>
              <a:t>           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</a:rPr>
              <a:t>甜蜜的，高兴的</a:t>
            </a:r>
            <a:endParaRPr b="0" lang="en-US" sz="3200" spc="-1" strike="noStrike">
              <a:solidFill>
                <a:srgbClr val="00be9c"/>
              </a:solidFill>
              <a:latin typeface="微软雅黑"/>
            </a:endParaRPr>
          </a:p>
          <a:p>
            <a:pPr marL="361800" indent="0" algn="just">
              <a:lnSpc>
                <a:spcPct val="15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3200" spc="-1" strike="noStrike">
                <a:solidFill>
                  <a:srgbClr val="00be9c"/>
                </a:solidFill>
                <a:latin typeface="微软雅黑"/>
              </a:rPr>
              <a:t>  </a:t>
            </a:r>
            <a:r>
              <a:rPr b="1" lang="zh-CN" sz="3200" spc="-1" strike="noStrike">
                <a:solidFill>
                  <a:srgbClr val="00be9c"/>
                </a:solidFill>
                <a:latin typeface="微软雅黑"/>
              </a:rPr>
              <a:t>你能甜蜜地、高兴地读好它心里想的话吗？</a:t>
            </a:r>
            <a:endParaRPr b="0" lang="en-US" sz="3200" spc="-1" strike="noStrike">
              <a:solidFill>
                <a:srgbClr val="00be9c"/>
              </a:solidFill>
              <a:latin typeface="微软雅黑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1890720" cy="513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7344000" cy="20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3200" spc="-1" strike="noStrike">
                <a:solidFill>
                  <a:srgbClr val="00be9c"/>
                </a:solidFill>
                <a:latin typeface="微软雅黑"/>
              </a:rPr>
              <a:t>他一心想着给妈妈买软拖鞋、花伞、大围裙，可他最后为什么却买了一枚纽扣呢？</a:t>
            </a:r>
            <a:endParaRPr b="1" lang="en-US" sz="3200" spc="-1" strike="noStrike">
              <a:solidFill>
                <a:srgbClr val="00be9c"/>
              </a:solidFill>
              <a:latin typeface="微软雅黑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00280" y="3623760"/>
            <a:ext cx="7589520" cy="25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012"/>
              </a:spcBef>
              <a:buClr>
                <a:srgbClr val="00be9c"/>
              </a:buClr>
              <a:buSzPct val="70000"/>
              <a:buFont typeface="Wingdings 3" charset="2"/>
              <a:buChar char="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3200" spc="-1" strike="noStrike">
                <a:solidFill>
                  <a:srgbClr val="009a79"/>
                </a:solidFill>
                <a:latin typeface="微软雅黑"/>
              </a:rPr>
              <a:t>看着那么昂贵的东西，胖胖熊手里却只有一块硬币，它的心情由刚才的甜蜜、高兴，变得怎样了？</a:t>
            </a:r>
            <a:endParaRPr b="0" lang="en-US" sz="3200" spc="-1" strike="noStrike">
              <a:solidFill>
                <a:srgbClr val="00be9c"/>
              </a:solidFill>
              <a:latin typeface="微软雅黑"/>
            </a:endParaRPr>
          </a:p>
          <a:p>
            <a:pPr marL="361800" indent="-361800" algn="just">
              <a:lnSpc>
                <a:spcPct val="110000"/>
              </a:lnSpc>
              <a:spcBef>
                <a:spcPts val="1012"/>
              </a:spcBef>
              <a:buClr>
                <a:srgbClr val="00be9c"/>
              </a:buClr>
              <a:buSzPct val="70000"/>
              <a:buFont typeface="Wingdings 3" charset="2"/>
              <a:buChar char="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微软雅黑"/>
              </a:rPr>
              <a:t>失望、意外、伤心……</a:t>
            </a:r>
            <a:endParaRPr b="0" lang="en-US" sz="3200" spc="-1" strike="noStrike">
              <a:solidFill>
                <a:srgbClr val="00be9c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25520" y="1372680"/>
            <a:ext cx="8251920" cy="498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012"/>
              </a:spcBef>
              <a:buClr>
                <a:srgbClr val="00be9c"/>
              </a:buClr>
              <a:buSzPct val="70000"/>
              <a:buFont typeface="Wingdings 3" charset="2"/>
              <a:buChar char="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0" spc="-1" strike="noStrike">
                <a:solidFill>
                  <a:srgbClr val="150f05"/>
                </a:solidFill>
                <a:latin typeface="微软雅黑"/>
              </a:rPr>
              <a:t>（</a:t>
            </a:r>
            <a:r>
              <a:rPr b="0" lang="en-US" sz="4000" spc="-1" strike="noStrike">
                <a:solidFill>
                  <a:srgbClr val="150f05"/>
                </a:solidFill>
                <a:latin typeface="微软雅黑"/>
              </a:rPr>
              <a:t>1</a:t>
            </a:r>
            <a:r>
              <a:rPr b="0" lang="en-US" sz="4000" spc="-1" strike="noStrike">
                <a:solidFill>
                  <a:srgbClr val="150f05"/>
                </a:solidFill>
                <a:latin typeface="微软雅黑"/>
              </a:rPr>
              <a:t>）礼物的样子：谁能用文中的句子描述一下这份礼物？漂亮吗？用你的朗读表现出它的漂亮。</a:t>
            </a:r>
            <a:endParaRPr b="0" lang="en-US" sz="4000" spc="-1" strike="noStrike">
              <a:solidFill>
                <a:srgbClr val="00be9c"/>
              </a:solidFill>
              <a:latin typeface="微软雅黑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11280" y="2997360"/>
            <a:ext cx="2114280" cy="2514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9T03:47:36Z</dcterms:created>
  <dc:creator>Administrator</dc:creator>
  <dc:description/>
  <dc:language>en-US</dc:language>
  <cp:lastModifiedBy/>
  <dcterms:modified xsi:type="dcterms:W3CDTF">2016-03-29T08:49:06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  <property fmtid="{D5CDD505-2E9C-101B-9397-08002B2CF9AE}" pid="3" name="_TemplateID">
    <vt:lpwstr>TC011594392052</vt:lpwstr>
  </property>
</Properties>
</file>