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de.wav" ContentType="audio/x-wav"/>
  <Override PartName="/ppt/media/image26.jpeg" ContentType="image/jpeg"/>
  <Override PartName="/ppt/media/image24.jpeg" ContentType="image/jpeg"/>
  <Override PartName="/ppt/media/image21.jpeg" ContentType="image/jpeg"/>
  <Override PartName="/ppt/media/chimes.wav" ContentType="audio/x-wav"/>
  <Override PartName="/ppt/media/image19.gif" ContentType="image/gif"/>
  <Override PartName="/ppt/media/image14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voltage.wav" ContentType="audio/x-wav"/>
  <Override PartName="/ppt/media/image34.jpeg" ContentType="image/jpeg"/>
  <Override PartName="/ppt/media/image7.jpeg" ContentType="image/jpeg"/>
  <Override PartName="/ppt/media/suction.wav" ContentType="audio/x-wav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29.jpeg" ContentType="image/jpeg"/>
  <Override PartName="/ppt/media/image28.jpeg" ContentType="image/jpeg"/>
  <Override PartName="/ppt/media/whoosh.wav" ContentType="audio/x-wav"/>
  <Override PartName="/ppt/media/image10.jpeg" ContentType="image/jpeg"/>
  <Override PartName="/ppt/media/image8.jpeg" ContentType="image/jpeg"/>
  <Override PartName="/ppt/media/image5.png" ContentType="image/png"/>
  <Override PartName="/ppt/media/image27.jpeg" ContentType="image/jpeg"/>
  <Override PartName="/ppt/media/laser.wav" ContentType="audio/x-wav"/>
  <Override PartName="/ppt/media/image30.jpeg" ContentType="image/jpeg"/>
  <Override PartName="/ppt/media/image33.jpeg" ContentType="image/jpeg"/>
  <Override PartName="/ppt/media/drumroll.wav" ContentType="audio/x-wav"/>
  <Override PartName="/ppt/media/camera.wav" ContentType="audio/x-wav"/>
  <Override PartName="/ppt/media/image32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20.png" ContentType="image/png"/>
  <Override PartName="/ppt/media/hammer.wav" ContentType="audio/x-wav"/>
  <Override PartName="/ppt/media/image11.jpeg" ContentType="image/jpeg"/>
  <Override PartName="/ppt/media/image9.jpeg" ContentType="image/jpeg"/>
  <Override PartName="/ppt/media/image6.jpeg" ContentType="image/jpeg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055-0EAE-4FBE-AF02-4220EB37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DFD-F5ED-44C4-916B-6E6B8AEB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A761-8B6B-4ABE-BCE5-B8FB9EAF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10E-F18E-4B8F-8924-6DAC39E7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037-EA39-4E48-97D3-8F922037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0A3-23D2-4D38-9E3A-8658AEA7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79D-E062-45DF-BAE6-B64F0E32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C53B-6205-4853-87EB-A14DFE12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5125-AAD6-40C0-9011-D3591D1C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6B52-3E07-4E84-913F-400FD853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DCD0-6C31-41E4-9EA5-32859ED3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385-DBFA-48B3-BABF-69397E3A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1899-79D9-42AB-98DC-F86125AFB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suction.wav"/><Relationship Id="rId3" Type="http://schemas.openxmlformats.org/officeDocument/2006/relationships/audio" Target="../media/hamme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voltage.wav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32" descr="http://sound.cnr.cn/images/stories/Image/2010/01/wanglushanpubu1.jpg"/>
          <p:cNvPicPr/>
          <p:nvPr/>
        </p:nvPicPr>
        <p:blipFill>
          <a:blip r:embed="rId1"/>
          <a:stretch/>
        </p:blipFill>
        <p:spPr>
          <a:xfrm>
            <a:off x="226836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755640" y="476280"/>
            <a:ext cx="79246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3300"/>
                </a:solidFill>
                <a:latin typeface="华文楷体"/>
                <a:ea typeface="华文楷体"/>
              </a:rPr>
              <a:t>望庐山瀑布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-360" y="836640"/>
            <a:ext cx="126363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白发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三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丈，缘愁似个长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华文楷体"/>
                <a:ea typeface="华文楷体"/>
              </a:rPr>
              <a:t>《秋浦歌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危楼高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百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尺，手可摘星辰。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华文楷体"/>
                <a:ea typeface="华文楷体"/>
              </a:rPr>
              <a:t>《夜宿山寺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桃花潭水深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千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尺，不及汪伦送我情。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华文楷体"/>
                <a:ea typeface="华文楷体"/>
              </a:rPr>
              <a:t>《赠汪伦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朝辞白帝彩云间，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千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里江陵一日还。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华文楷体"/>
                <a:ea typeface="华文楷体"/>
              </a:rPr>
              <a:t>《早发白帝城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矩形 3" descr=""/>
          <p:cNvPicPr/>
          <p:nvPr/>
        </p:nvPicPr>
        <p:blipFill>
          <a:blip r:embed="rId1"/>
          <a:stretch/>
        </p:blipFill>
        <p:spPr>
          <a:xfrm>
            <a:off x="-181080" y="152280"/>
            <a:ext cx="194472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http://www.oldq.com.cn/dushu/gudianshici/11/images/109C.gif"/>
          <p:cNvPicPr/>
          <p:nvPr/>
        </p:nvPicPr>
        <p:blipFill>
          <a:blip r:embed="rId1"/>
          <a:stretch/>
        </p:blipFill>
        <p:spPr>
          <a:xfrm>
            <a:off x="5688000" y="189000"/>
            <a:ext cx="3456000" cy="6669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468360" y="2565360"/>
            <a:ext cx="532764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飞流直下三千尺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疑是银河落九天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图片16"/>
          <p:cNvPicPr/>
          <p:nvPr/>
        </p:nvPicPr>
        <p:blipFill>
          <a:blip r:embed="rId2"/>
          <a:stretch/>
        </p:blipFill>
        <p:spPr>
          <a:xfrm>
            <a:off x="755640" y="549360"/>
            <a:ext cx="4140360" cy="2401920"/>
          </a:xfrm>
          <a:prstGeom prst="rect">
            <a:avLst/>
          </a:prstGeom>
          <a:ln w="0">
            <a:noFill/>
          </a:ln>
        </p:spPr>
      </p:pic>
      <p:sp>
        <p:nvSpPr>
          <p:cNvPr id="95" name="椭圆形标注 9"/>
          <p:cNvSpPr/>
          <p:nvPr/>
        </p:nvSpPr>
        <p:spPr>
          <a:xfrm>
            <a:off x="250920" y="5589720"/>
            <a:ext cx="1511280" cy="765000"/>
          </a:xfrm>
          <a:prstGeom prst="wedgeEllipseCallout">
            <a:avLst>
              <a:gd name="adj1" fmla="val -2314"/>
              <a:gd name="adj2" fmla="val -89652"/>
            </a:avLst>
          </a:prstGeom>
          <a:solidFill>
            <a:srgbClr val="ffcc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好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5181480" y="62064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望庐山瀑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003640" y="1341360"/>
            <a:ext cx="4537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照香炉生紫烟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遥看瀑布挂前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飞流直下三千尺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疑是银河落九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32" descr="http://sound.cnr.cn/images/stories/Image/2010/01/wanglushanpubu1.jpg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5181480" y="62064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望庐山瀑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5003640" y="1341360"/>
            <a:ext cx="4464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）生紫烟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遥看瀑布（  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       ）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疑是银河（  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032" descr="http://sound.cnr.cn/images/stories/Image/2010/01/wanglushanpubu1.jpg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33"/>
          <p:cNvGrpSpPr/>
          <p:nvPr/>
        </p:nvGrpSpPr>
        <p:grpSpPr>
          <a:xfrm>
            <a:off x="1332000" y="476280"/>
            <a:ext cx="2638080" cy="2837160"/>
            <a:chOff x="1332000" y="476280"/>
            <a:chExt cx="2638080" cy="2837160"/>
          </a:xfrm>
        </p:grpSpPr>
        <p:sp>
          <p:nvSpPr>
            <p:cNvPr id="103" name="Text Box 39"/>
            <p:cNvSpPr/>
            <p:nvPr/>
          </p:nvSpPr>
          <p:spPr>
            <a:xfrm>
              <a:off x="1548000" y="476280"/>
              <a:ext cx="2160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炉</a:t>
              </a:r>
              <a:endParaRPr b="0" lang="en-US" sz="1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Group 4"/>
            <p:cNvGrpSpPr/>
            <p:nvPr/>
          </p:nvGrpSpPr>
          <p:grpSpPr>
            <a:xfrm>
              <a:off x="1332000" y="683280"/>
              <a:ext cx="2638080" cy="2529000"/>
              <a:chOff x="1332000" y="683280"/>
              <a:chExt cx="2638080" cy="2529000"/>
            </a:xfrm>
          </p:grpSpPr>
          <p:sp>
            <p:nvSpPr>
              <p:cNvPr id="105" name="Rectangle 5"/>
              <p:cNvSpPr/>
              <p:nvPr/>
            </p:nvSpPr>
            <p:spPr>
              <a:xfrm>
                <a:off x="1332000" y="685800"/>
                <a:ext cx="2638080" cy="2526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1332000" y="1949040"/>
                <a:ext cx="2638080" cy="360"/>
                <a:chOff x="1332000" y="1949040"/>
                <a:chExt cx="2638080" cy="360"/>
              </a:xfrm>
            </p:grpSpPr>
            <p:sp>
              <p:nvSpPr>
                <p:cNvPr id="107" name="Line 6"/>
                <p:cNvSpPr/>
                <p:nvPr/>
              </p:nvSpPr>
              <p:spPr>
                <a:xfrm>
                  <a:off x="1332000" y="1949040"/>
                  <a:ext cx="2638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 txBox="1"/>
                <p:nvPr/>
              </p:nvSpPr>
              <p:spPr>
                <a:xfrm>
                  <a:off x="1332000" y="1949040"/>
                  <a:ext cx="263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2644560" y="683280"/>
                <a:ext cx="3240" cy="2526480"/>
                <a:chOff x="2644560" y="683280"/>
                <a:chExt cx="3240" cy="2526480"/>
              </a:xfrm>
            </p:grpSpPr>
            <p:sp>
              <p:nvSpPr>
                <p:cNvPr id="110" name="Line 7"/>
                <p:cNvSpPr/>
                <p:nvPr/>
              </p:nvSpPr>
              <p:spPr>
                <a:xfrm flipV="1">
                  <a:off x="2644560" y="683280"/>
                  <a:ext cx="3240" cy="2526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 txBox="1"/>
                <p:nvPr/>
              </p:nvSpPr>
              <p:spPr>
                <a:xfrm rot="16200000">
                  <a:off x="1382760" y="1944720"/>
                  <a:ext cx="2526480" cy="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2" name="组合 33"/>
          <p:cNvGrpSpPr/>
          <p:nvPr/>
        </p:nvGrpSpPr>
        <p:grpSpPr>
          <a:xfrm>
            <a:off x="4572000" y="476280"/>
            <a:ext cx="2638080" cy="2837160"/>
            <a:chOff x="4572000" y="476280"/>
            <a:chExt cx="2638080" cy="2837160"/>
          </a:xfrm>
        </p:grpSpPr>
        <p:sp>
          <p:nvSpPr>
            <p:cNvPr id="113" name="Text Box 39"/>
            <p:cNvSpPr/>
            <p:nvPr/>
          </p:nvSpPr>
          <p:spPr>
            <a:xfrm>
              <a:off x="4716000" y="476280"/>
              <a:ext cx="2160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烟</a:t>
              </a:r>
              <a:endParaRPr b="0" lang="en-US" sz="1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Group 4"/>
            <p:cNvGrpSpPr/>
            <p:nvPr/>
          </p:nvGrpSpPr>
          <p:grpSpPr>
            <a:xfrm>
              <a:off x="4572000" y="683280"/>
              <a:ext cx="2638080" cy="2529000"/>
              <a:chOff x="4572000" y="683280"/>
              <a:chExt cx="2638080" cy="2529000"/>
            </a:xfrm>
          </p:grpSpPr>
          <p:sp>
            <p:nvSpPr>
              <p:cNvPr id="115" name="Rectangle 5"/>
              <p:cNvSpPr/>
              <p:nvPr/>
            </p:nvSpPr>
            <p:spPr>
              <a:xfrm>
                <a:off x="4572000" y="685800"/>
                <a:ext cx="2638080" cy="2526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4572000" y="1949040"/>
                <a:ext cx="2638080" cy="360"/>
                <a:chOff x="4572000" y="1949040"/>
                <a:chExt cx="2638080" cy="360"/>
              </a:xfrm>
            </p:grpSpPr>
            <p:sp>
              <p:nvSpPr>
                <p:cNvPr id="117" name="Line 6"/>
                <p:cNvSpPr/>
                <p:nvPr/>
              </p:nvSpPr>
              <p:spPr>
                <a:xfrm>
                  <a:off x="4572000" y="1949040"/>
                  <a:ext cx="2638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 txBox="1"/>
                <p:nvPr/>
              </p:nvSpPr>
              <p:spPr>
                <a:xfrm>
                  <a:off x="4572000" y="1949040"/>
                  <a:ext cx="263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5884560" y="683280"/>
                <a:ext cx="3240" cy="2526480"/>
                <a:chOff x="5884560" y="683280"/>
                <a:chExt cx="3240" cy="2526480"/>
              </a:xfrm>
            </p:grpSpPr>
            <p:sp>
              <p:nvSpPr>
                <p:cNvPr id="120" name="Line 7"/>
                <p:cNvSpPr/>
                <p:nvPr/>
              </p:nvSpPr>
              <p:spPr>
                <a:xfrm flipV="1">
                  <a:off x="5884560" y="683280"/>
                  <a:ext cx="3240" cy="2526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 txBox="1"/>
                <p:nvPr/>
              </p:nvSpPr>
              <p:spPr>
                <a:xfrm rot="16200000">
                  <a:off x="4622760" y="1944720"/>
                  <a:ext cx="2526480" cy="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2" name="组合 33"/>
          <p:cNvGrpSpPr/>
          <p:nvPr/>
        </p:nvGrpSpPr>
        <p:grpSpPr>
          <a:xfrm>
            <a:off x="1403280" y="3357720"/>
            <a:ext cx="2638080" cy="2837160"/>
            <a:chOff x="1403280" y="3357720"/>
            <a:chExt cx="2638080" cy="2837160"/>
          </a:xfrm>
        </p:grpSpPr>
        <p:sp>
          <p:nvSpPr>
            <p:cNvPr id="123" name="Text Box 39"/>
            <p:cNvSpPr/>
            <p:nvPr/>
          </p:nvSpPr>
          <p:spPr>
            <a:xfrm>
              <a:off x="1547280" y="3357720"/>
              <a:ext cx="2160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银</a:t>
              </a:r>
              <a:endParaRPr b="0" lang="en-US" sz="1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Group 4"/>
            <p:cNvGrpSpPr/>
            <p:nvPr/>
          </p:nvGrpSpPr>
          <p:grpSpPr>
            <a:xfrm>
              <a:off x="1403280" y="3564360"/>
              <a:ext cx="2638080" cy="2529000"/>
              <a:chOff x="1403280" y="3564360"/>
              <a:chExt cx="2638080" cy="2529000"/>
            </a:xfrm>
          </p:grpSpPr>
          <p:sp>
            <p:nvSpPr>
              <p:cNvPr id="125" name="Rectangle 5"/>
              <p:cNvSpPr/>
              <p:nvPr/>
            </p:nvSpPr>
            <p:spPr>
              <a:xfrm>
                <a:off x="1403280" y="3567240"/>
                <a:ext cx="2638080" cy="2526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1403280" y="4830480"/>
                <a:ext cx="2638080" cy="360"/>
                <a:chOff x="1403280" y="4830480"/>
                <a:chExt cx="2638080" cy="360"/>
              </a:xfrm>
            </p:grpSpPr>
            <p:sp>
              <p:nvSpPr>
                <p:cNvPr id="127" name="Line 6"/>
                <p:cNvSpPr/>
                <p:nvPr/>
              </p:nvSpPr>
              <p:spPr>
                <a:xfrm>
                  <a:off x="1403280" y="4830480"/>
                  <a:ext cx="2638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 txBox="1"/>
                <p:nvPr/>
              </p:nvSpPr>
              <p:spPr>
                <a:xfrm>
                  <a:off x="1403280" y="4830480"/>
                  <a:ext cx="263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715840" y="3564360"/>
                <a:ext cx="3240" cy="2526120"/>
                <a:chOff x="2715840" y="3564360"/>
                <a:chExt cx="3240" cy="2526120"/>
              </a:xfrm>
            </p:grpSpPr>
            <p:sp>
              <p:nvSpPr>
                <p:cNvPr id="130" name="Line 7"/>
                <p:cNvSpPr/>
                <p:nvPr/>
              </p:nvSpPr>
              <p:spPr>
                <a:xfrm flipV="1">
                  <a:off x="2715840" y="3564360"/>
                  <a:ext cx="3240" cy="2526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 txBox="1"/>
                <p:nvPr/>
              </p:nvSpPr>
              <p:spPr>
                <a:xfrm rot="16200000">
                  <a:off x="1454400" y="4825800"/>
                  <a:ext cx="2526120" cy="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2" name="组合 33"/>
          <p:cNvGrpSpPr/>
          <p:nvPr/>
        </p:nvGrpSpPr>
        <p:grpSpPr>
          <a:xfrm>
            <a:off x="4572000" y="3357720"/>
            <a:ext cx="2638080" cy="2837160"/>
            <a:chOff x="4572000" y="3357720"/>
            <a:chExt cx="2638080" cy="2837160"/>
          </a:xfrm>
        </p:grpSpPr>
        <p:sp>
          <p:nvSpPr>
            <p:cNvPr id="133" name="Text Box 39"/>
            <p:cNvSpPr/>
            <p:nvPr/>
          </p:nvSpPr>
          <p:spPr>
            <a:xfrm>
              <a:off x="4716000" y="3357720"/>
              <a:ext cx="2160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流</a:t>
              </a:r>
              <a:endParaRPr b="0" lang="en-US" sz="1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Group 4"/>
            <p:cNvGrpSpPr/>
            <p:nvPr/>
          </p:nvGrpSpPr>
          <p:grpSpPr>
            <a:xfrm>
              <a:off x="4572000" y="3564360"/>
              <a:ext cx="2638080" cy="2529000"/>
              <a:chOff x="4572000" y="3564360"/>
              <a:chExt cx="2638080" cy="2529000"/>
            </a:xfrm>
          </p:grpSpPr>
          <p:sp>
            <p:nvSpPr>
              <p:cNvPr id="135" name="Rectangle 5"/>
              <p:cNvSpPr/>
              <p:nvPr/>
            </p:nvSpPr>
            <p:spPr>
              <a:xfrm>
                <a:off x="4572000" y="3567240"/>
                <a:ext cx="2638080" cy="2526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4572000" y="4830480"/>
                <a:ext cx="2638080" cy="360"/>
                <a:chOff x="4572000" y="4830480"/>
                <a:chExt cx="2638080" cy="360"/>
              </a:xfrm>
            </p:grpSpPr>
            <p:sp>
              <p:nvSpPr>
                <p:cNvPr id="137" name="Line 6"/>
                <p:cNvSpPr/>
                <p:nvPr/>
              </p:nvSpPr>
              <p:spPr>
                <a:xfrm>
                  <a:off x="4572000" y="4830480"/>
                  <a:ext cx="2638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 txBox="1"/>
                <p:nvPr/>
              </p:nvSpPr>
              <p:spPr>
                <a:xfrm>
                  <a:off x="4572000" y="4830480"/>
                  <a:ext cx="263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5884560" y="3564360"/>
                <a:ext cx="3240" cy="2526120"/>
                <a:chOff x="5884560" y="3564360"/>
                <a:chExt cx="3240" cy="2526120"/>
              </a:xfrm>
            </p:grpSpPr>
            <p:sp>
              <p:nvSpPr>
                <p:cNvPr id="140" name="Line 7"/>
                <p:cNvSpPr/>
                <p:nvPr/>
              </p:nvSpPr>
              <p:spPr>
                <a:xfrm flipV="1">
                  <a:off x="5884560" y="3564360"/>
                  <a:ext cx="3240" cy="2526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 txBox="1"/>
                <p:nvPr/>
              </p:nvSpPr>
              <p:spPr>
                <a:xfrm rot="16200000">
                  <a:off x="4623120" y="4825800"/>
                  <a:ext cx="2526120" cy="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700360" y="1341360"/>
            <a:ext cx="7128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徐凝《庐山瀑布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今古长如白练飞，一条界破青山色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张九龄《湖口望庐山瀑布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万丈红泉落，迢迢半紫氛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李白《望庐山瀑布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挂落三百丈，喷壑数十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李白《望庐山瀑布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初惊河汉落，半洒云天里。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http://www.sztravel8.com/admin/xluploadimages/201131318450351.jpg"/>
          <p:cNvPicPr/>
          <p:nvPr/>
        </p:nvPicPr>
        <p:blipFill>
          <a:blip r:embed="rId1"/>
          <a:srcRect l="22888" t="20984" r="44267" b="11655"/>
          <a:stretch/>
        </p:blipFill>
        <p:spPr>
          <a:xfrm>
            <a:off x="0" y="0"/>
            <a:ext cx="2556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矩形 4" descr=""/>
          <p:cNvPicPr/>
          <p:nvPr/>
        </p:nvPicPr>
        <p:blipFill>
          <a:blip r:embed="rId2"/>
          <a:stretch/>
        </p:blipFill>
        <p:spPr>
          <a:xfrm>
            <a:off x="2556000" y="136440"/>
            <a:ext cx="4824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5181480" y="62064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望庐山瀑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003640" y="1341360"/>
            <a:ext cx="3924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日照香炉生紫烟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遥看瀑布挂前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飞流直下三千尺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疑是银河落九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32" descr="http://sound.cnr.cn/images/stories/Image/2010/01/wanglushanpubu1.jpg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http://www.oldq.com.cn/dushu/gudianshici/11/images/109C.gif"/>
          <p:cNvPicPr/>
          <p:nvPr/>
        </p:nvPicPr>
        <p:blipFill>
          <a:blip r:embed="rId1"/>
          <a:stretch/>
        </p:blipFill>
        <p:spPr>
          <a:xfrm>
            <a:off x="0" y="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http://www.xmstjx.net/scxz/UploadFiles_7343/201007/20100720100152666.jpg"/>
          <p:cNvPicPr/>
          <p:nvPr/>
        </p:nvPicPr>
        <p:blipFill>
          <a:blip r:embed="rId2"/>
          <a:stretch/>
        </p:blipFill>
        <p:spPr>
          <a:xfrm>
            <a:off x="1692360" y="765000"/>
            <a:ext cx="40669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34" descr="http://a3.att.hudong.com/77/81/01300000633919126586810256504.jpg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826920" y="476280"/>
            <a:ext cx="79250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3300"/>
                </a:solidFill>
                <a:latin typeface="楷体"/>
                <a:ea typeface="楷体"/>
              </a:rPr>
              <a:t>望庐山瀑布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图片9"/>
          <p:cNvPicPr/>
          <p:nvPr/>
        </p:nvPicPr>
        <p:blipFill>
          <a:blip r:embed="rId1"/>
          <a:stretch/>
        </p:blipFill>
        <p:spPr>
          <a:xfrm>
            <a:off x="5508720" y="4159080"/>
            <a:ext cx="3959280" cy="2941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pb1"/>
          <p:cNvPicPr/>
          <p:nvPr/>
        </p:nvPicPr>
        <p:blipFill>
          <a:blip r:embed="rId2"/>
          <a:stretch/>
        </p:blipFill>
        <p:spPr>
          <a:xfrm>
            <a:off x="1332000" y="1989000"/>
            <a:ext cx="38988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11280" y="1699920"/>
            <a:ext cx="777240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矩形 4" descr=""/>
          <p:cNvPicPr/>
          <p:nvPr/>
        </p:nvPicPr>
        <p:blipFill>
          <a:blip r:embed="rId1"/>
          <a:stretch/>
        </p:blipFill>
        <p:spPr>
          <a:xfrm>
            <a:off x="250920" y="136440"/>
            <a:ext cx="3028680" cy="1144800"/>
          </a:xfrm>
          <a:prstGeom prst="rect">
            <a:avLst/>
          </a:prstGeom>
          <a:ln w="0">
            <a:noFill/>
          </a:ln>
        </p:spPr>
      </p:pic>
      <p:sp>
        <p:nvSpPr>
          <p:cNvPr id="45" name="横卷形 5"/>
          <p:cNvSpPr/>
          <p:nvPr/>
        </p:nvSpPr>
        <p:spPr>
          <a:xfrm>
            <a:off x="250920" y="907920"/>
            <a:ext cx="8713800" cy="38163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李白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701-76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),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字太白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号青莲居士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祖籍今甘肃天水，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岁随父迁居四川江油。屈原之后我国最伟大的浪漫主义诗人，诗作想象奇特、气魄雄伟、清新俊逸，号称“诗仙”，现存诗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图片 1" descr="YS5IAP%ZX]5SB_0CX)YW9}5"/>
          <p:cNvPicPr/>
          <p:nvPr/>
        </p:nvPicPr>
        <p:blipFill>
          <a:blip r:embed="rId2"/>
          <a:stretch/>
        </p:blipFill>
        <p:spPr>
          <a:xfrm>
            <a:off x="5508720" y="4581360"/>
            <a:ext cx="3017880" cy="15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77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李白简介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李白（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7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762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）   字太白，号青莲居士。祖籍陇西成纪（今甘肃天水县附近），少年时博览群书，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岁起在四川漫游，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岁出川东游。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岁做了翰林院学士，但不受重视，抱负不能实现，离开长安，安史之乱后，因受牵连被流放夜郎，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望庐山瀑布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就是在这次流放途中经过庐山时写的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李白是我国历史上最伟大的诗人之一。他的诗表现了对封建秩序和权贵的不满，反映了人民的疾苦和愿望，描绘了祖国壮丽的山河。他的诗风格雄奇豪放，想像丰富，是屈原之后我国又一位伟大的浪漫主义诗人，被称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诗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。现存李白的诗有九百多首，有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李太白集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存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80880" y="685800"/>
            <a:ext cx="8458200" cy="18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幼圆"/>
              </a:rPr>
              <a:t>读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读准字音，读通全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28600" y="20574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幼圆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幼圆"/>
              </a:rPr>
              <a:t>想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这首诗大致讲的是什么意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28600" y="3429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幼圆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幼圆"/>
              </a:rPr>
              <a:t>找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找出相关词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0" y="46483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幼圆"/>
                <a:ea typeface="幼圆"/>
              </a:rPr>
              <a:t>品：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品味词句的意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pb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WordArt 4"/>
          <p:cNvSpPr txBox="1"/>
          <p:nvPr/>
        </p:nvSpPr>
        <p:spPr>
          <a:xfrm>
            <a:off x="1066680" y="1676520"/>
            <a:ext cx="6629400" cy="364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彩云"/>
              </a:rPr>
              <a:t>望庐山瀑布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  <p:pic>
        <p:nvPicPr>
          <p:cNvPr id="167" name="Picture 5" descr="pb1"/>
          <p:cNvPicPr/>
          <p:nvPr/>
        </p:nvPicPr>
        <p:blipFill>
          <a:blip r:embed="rId2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pb2"/>
          <p:cNvPicPr/>
          <p:nvPr/>
        </p:nvPicPr>
        <p:blipFill>
          <a:blip r:embed="rId3"/>
          <a:stretch/>
        </p:blipFill>
        <p:spPr>
          <a:xfrm>
            <a:off x="0" y="0"/>
            <a:ext cx="8763120" cy="6950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pb3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withEffect" fill="hold" presetClass="entr" presetID="17" presetSubtype="4">
                                  <p:stCondLst>
                                    <p:cond delay="8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762120" y="2286000"/>
            <a:ext cx="79246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庐瀑炉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143000" y="609480"/>
            <a:ext cx="8001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6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10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ú    pù   </a:t>
            </a:r>
            <a:r>
              <a:rPr b="0" lang="en-US" sz="106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10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ú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7"/>
          <p:cNvSpPr/>
          <p:nvPr/>
        </p:nvSpPr>
        <p:spPr>
          <a:xfrm>
            <a:off x="1523880" y="228600"/>
            <a:ext cx="58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日照香炉生紫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8" descr="ls16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667640" y="189000"/>
            <a:ext cx="1293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4" descr="图片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7158600" y="404640"/>
            <a:ext cx="164268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香炉：香炉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-300960" y="609480"/>
            <a:ext cx="20091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遥看瀑布挂前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5" descr="4241"/>
          <p:cNvPicPr/>
          <p:nvPr/>
        </p:nvPicPr>
        <p:blipFill>
          <a:blip r:embed="rId1"/>
          <a:stretch/>
        </p:blipFill>
        <p:spPr>
          <a:xfrm>
            <a:off x="220968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图片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78920" y="188640"/>
            <a:ext cx="5472360" cy="17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Times New Roman"/>
                <a:ea typeface="隶书"/>
              </a:rPr>
              <a:t>飞流直下三千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Times New Roman"/>
                <a:ea typeface="隶书"/>
              </a:rPr>
              <a:t>疑是银河落九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图片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685800" y="443700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银河：晴天夜晚，天空中呈现出的一条明亮的光带，夹杂着许多闪烁的小星星，看起来像一条银白色的大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http://www.tripc.net/travelline/images/109733img20091016160612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琵琶语.mp3" descr=""/>
          <p:cNvPicPr/>
          <p:nvPr/>
        </p:nvPicPr>
        <p:blipFill>
          <a:blip r:embed="rId2"/>
          <a:stretch/>
        </p:blipFill>
        <p:spPr>
          <a:xfrm>
            <a:off x="8664480" y="6378480"/>
            <a:ext cx="479520" cy="479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pic10.nipic.com/20100929/5862984_223636039228_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itravelqq.com/uploadfile/2010/1012/20101012113327855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pic9.nipic.com/20100827/4677298_053934872849_2.jpg"/>
          <p:cNvPicPr/>
          <p:nvPr/>
        </p:nvPicPr>
        <p:blipFill>
          <a:blip r:embed="rId5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img.pop-photo.com.cn/myspace/image/2010/08/0/21/88/218823_127714014.jpg"/>
          <p:cNvPicPr/>
          <p:nvPr/>
        </p:nvPicPr>
        <p:blipFill>
          <a:blip r:embed="rId6"/>
          <a:stretch/>
        </p:blipFill>
        <p:spPr>
          <a:xfrm>
            <a:off x="0" y="-243000"/>
            <a:ext cx="9144000" cy="734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http://www.cn878.com/uploads/allimg/101011/1-1010111H301.jpg"/>
          <p:cNvPicPr/>
          <p:nvPr/>
        </p:nvPicPr>
        <p:blipFill>
          <a:blip r:embed="rId7"/>
          <a:stretch/>
        </p:blipFill>
        <p:spPr>
          <a:xfrm>
            <a:off x="0" y="-243000"/>
            <a:ext cx="9144000" cy="734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http://baike.puertea8.com/uploads/hdpic/a0_68_65_01300000203238122098656732654_s.jpg"/>
          <p:cNvPicPr/>
          <p:nvPr/>
        </p:nvPicPr>
        <p:blipFill>
          <a:blip r:embed="rId8"/>
          <a:stretch/>
        </p:blipFill>
        <p:spPr>
          <a:xfrm>
            <a:off x="0" y="-316080"/>
            <a:ext cx="9144000" cy="795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http://img124.ph.126.net/slimMeuWZWrhu0vBdS2HJA==/3045840722987657576.jpg"/>
          <p:cNvPicPr/>
          <p:nvPr/>
        </p:nvPicPr>
        <p:blipFill>
          <a:blip r:embed="rId9"/>
          <a:stretch/>
        </p:blipFill>
        <p:spPr>
          <a:xfrm>
            <a:off x="0" y="0"/>
            <a:ext cx="9131400" cy="7605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http://www.sn.xinhuanet.com/2007-06/25/xinsrc_2806042513164842250731.jpg"/>
          <p:cNvPicPr/>
          <p:nvPr/>
        </p:nvPicPr>
        <p:blipFill>
          <a:blip r:embed="rId10"/>
          <a:stretch/>
        </p:blipFill>
        <p:spPr>
          <a:xfrm>
            <a:off x="0" y="0"/>
            <a:ext cx="9767880" cy="7677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http://travel.qqread.com/ArtImage/20100520/wa3_5.jpg"/>
          <p:cNvPicPr/>
          <p:nvPr/>
        </p:nvPicPr>
        <p:blipFill>
          <a:blip r:embed="rId11"/>
          <a:srcRect l="0" t="0" r="0" b="20075"/>
          <a:stretch/>
        </p:blipFill>
        <p:spPr>
          <a:xfrm>
            <a:off x="0" y="0"/>
            <a:ext cx="9756720" cy="78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" dur="indefinite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3000"/>
                            </p:stCondLst>
                            <p:childTnLst>
                              <p:par>
                                <p:cTn id="44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6000"/>
                            </p:stCondLst>
                            <p:childTnLst>
                              <p:par>
                                <p:cTn id="4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1000"/>
                            </p:stCondLst>
                            <p:childTnLst>
                              <p:par>
                                <p:cTn id="54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259185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图片12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图片4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4446720" y="0"/>
            <a:ext cx="1277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华文宋体"/>
              </a:rPr>
              <a:t>望庐山瀑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5181480" y="62064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望</a:t>
            </a: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庐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山</a:t>
            </a: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瀑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003640" y="1341360"/>
            <a:ext cx="4608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照香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炉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生紫烟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遥看瀑布挂前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飞流直下三千尺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疑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银河落九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32" descr="http://sound.cnr.cn/images/stories/Image/2010/01/wanglushanpubu1.jpg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矩形 8"/>
          <p:cNvSpPr/>
          <p:nvPr/>
        </p:nvSpPr>
        <p:spPr>
          <a:xfrm>
            <a:off x="5944680" y="0"/>
            <a:ext cx="65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l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7313760" y="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p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矩形 10"/>
          <p:cNvSpPr/>
          <p:nvPr/>
        </p:nvSpPr>
        <p:spPr>
          <a:xfrm>
            <a:off x="6592320" y="1557360"/>
            <a:ext cx="65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l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矩形 11"/>
          <p:cNvSpPr/>
          <p:nvPr/>
        </p:nvSpPr>
        <p:spPr>
          <a:xfrm>
            <a:off x="4792320" y="4365720"/>
            <a:ext cx="65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y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436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瀑</a:t>
            </a: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庐</a:t>
            </a: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炉</a:t>
            </a: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瀑布        庐山      火炉       疑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飞瀑        茅庐      香炉       怀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http://www.sd.xinhuanet.com/wq/2007-11/09/xin_0431104091413078179713.jpg"/>
          <p:cNvPicPr/>
          <p:nvPr/>
        </p:nvPicPr>
        <p:blipFill>
          <a:blip r:embed="rId1"/>
          <a:srcRect l="25641" t="0" r="0" b="12991"/>
          <a:stretch/>
        </p:blipFill>
        <p:spPr>
          <a:xfrm>
            <a:off x="1042920" y="3860640"/>
            <a:ext cx="3162240" cy="24768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" descr="~SH9CY4JYBI6OM_P0[XMGJP"/>
          <p:cNvPicPr/>
          <p:nvPr/>
        </p:nvPicPr>
        <p:blipFill>
          <a:blip r:embed="rId2"/>
          <a:stretch/>
        </p:blipFill>
        <p:spPr>
          <a:xfrm>
            <a:off x="4500720" y="3929040"/>
            <a:ext cx="27702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2411280" y="54936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望庐山瀑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979640" y="836640"/>
            <a:ext cx="58323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照香炉生紫烟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遥看瀑布挂前川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飞流直下三千尺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疑是银河落九天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2268360" y="62064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望庐山瀑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332000" y="981000"/>
            <a:ext cx="730872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照 香炉 生 紫烟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遥看 瀑布 挂 前川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飞流直下  三千尺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疑是银河  落九天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直接连接符 4"/>
          <p:cNvSpPr/>
          <p:nvPr/>
        </p:nvSpPr>
        <p:spPr>
          <a:xfrm flipH="1">
            <a:off x="4859280" y="2060640"/>
            <a:ext cx="216000" cy="6476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直接连接符 5"/>
          <p:cNvSpPr/>
          <p:nvPr/>
        </p:nvSpPr>
        <p:spPr>
          <a:xfrm flipH="1">
            <a:off x="4066920" y="2060640"/>
            <a:ext cx="215640" cy="6476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直接连接符 6"/>
          <p:cNvSpPr/>
          <p:nvPr/>
        </p:nvSpPr>
        <p:spPr>
          <a:xfrm flipH="1">
            <a:off x="2700360" y="1989000"/>
            <a:ext cx="216000" cy="6480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直接连接符 7"/>
          <p:cNvSpPr/>
          <p:nvPr/>
        </p:nvSpPr>
        <p:spPr>
          <a:xfrm flipH="1">
            <a:off x="2627280" y="3213000"/>
            <a:ext cx="216000" cy="6476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直接连接符 8"/>
          <p:cNvSpPr/>
          <p:nvPr/>
        </p:nvSpPr>
        <p:spPr>
          <a:xfrm flipH="1">
            <a:off x="3995640" y="3213000"/>
            <a:ext cx="216000" cy="6476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直接连接符 9"/>
          <p:cNvSpPr/>
          <p:nvPr/>
        </p:nvSpPr>
        <p:spPr>
          <a:xfrm flipH="1">
            <a:off x="4859280" y="3141720"/>
            <a:ext cx="216000" cy="6476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直接连接符 10"/>
          <p:cNvSpPr/>
          <p:nvPr/>
        </p:nvSpPr>
        <p:spPr>
          <a:xfrm flipH="1">
            <a:off x="4067280" y="4221000"/>
            <a:ext cx="217440" cy="6480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直接连接符 11"/>
          <p:cNvSpPr/>
          <p:nvPr/>
        </p:nvSpPr>
        <p:spPr>
          <a:xfrm flipH="1">
            <a:off x="3995640" y="5373720"/>
            <a:ext cx="216000" cy="6476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图片15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矩形 6"/>
          <p:cNvSpPr/>
          <p:nvPr/>
        </p:nvSpPr>
        <p:spPr>
          <a:xfrm>
            <a:off x="0" y="3500280"/>
            <a:ext cx="5076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日照香炉生紫烟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楷体"/>
                <a:ea typeface="华文楷体"/>
              </a:rPr>
              <a:t>遥看瀑布挂前川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椭圆形标注 7"/>
          <p:cNvSpPr/>
          <p:nvPr/>
        </p:nvSpPr>
        <p:spPr>
          <a:xfrm>
            <a:off x="2556000" y="2708280"/>
            <a:ext cx="1511280" cy="765000"/>
          </a:xfrm>
          <a:prstGeom prst="wedgeEllipseCallout">
            <a:avLst>
              <a:gd name="adj1" fmla="val -24611"/>
              <a:gd name="adj2" fmla="val 73708"/>
            </a:avLst>
          </a:prstGeom>
          <a:solidFill>
            <a:srgbClr val="ffcc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升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椭圆形标注 9"/>
          <p:cNvSpPr/>
          <p:nvPr/>
        </p:nvSpPr>
        <p:spPr>
          <a:xfrm>
            <a:off x="3132000" y="5516640"/>
            <a:ext cx="1511280" cy="765000"/>
          </a:xfrm>
          <a:prstGeom prst="wedgeEllipseCallout">
            <a:avLst>
              <a:gd name="adj1" fmla="val 5620"/>
              <a:gd name="adj2" fmla="val -72023"/>
            </a:avLst>
          </a:prstGeom>
          <a:solidFill>
            <a:srgbClr val="ffcc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河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http://www.xmstjx.net/scxz/UploadFiles_7343/201007/20100720100152666.jpg"/>
          <p:cNvPicPr/>
          <p:nvPr/>
        </p:nvPicPr>
        <p:blipFill>
          <a:blip r:embed="rId2"/>
          <a:srcRect l="0" t="0" r="0" b="23353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http://www.oldq.com.cn/dushu/gudianshici/11/images/109C.gif"/>
          <p:cNvPicPr/>
          <p:nvPr/>
        </p:nvPicPr>
        <p:blipFill>
          <a:blip r:embed="rId1"/>
          <a:stretch/>
        </p:blipFill>
        <p:spPr>
          <a:xfrm>
            <a:off x="5508720" y="0"/>
            <a:ext cx="3456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468360" y="1916280"/>
            <a:ext cx="561636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飞流直下三千尺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疑是银河落九天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1:47:48Z</dcterms:created>
  <dc:creator/>
  <dc:description/>
  <dc:language>en-US</dc:language>
  <cp:lastModifiedBy>user</cp:lastModifiedBy>
  <dcterms:modified xsi:type="dcterms:W3CDTF">2016-04-08T01:51:18Z</dcterms:modified>
  <cp:revision>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