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0B9-61AB-40BA-AD99-601EEB1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DBB-3551-4541-85B6-2E5A586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1D2-9A0A-4405-B068-8B61074B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795-D339-446F-A884-9DC5ED53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4317-BF33-4E1D-803D-200A547A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594-DB94-4847-B73A-8D3122D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B6F-F653-42C3-B340-AE660C30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FE1B-B7EC-45E6-BCE2-D376F24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89B-FB93-4710-8209-D0D9D62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0DBF-5FC0-4F6A-B615-70215DCF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1596-C465-4DCF-B866-D48F6AB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7FC-7F12-4B69-A1B4-FDFB608E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2174-1802-4677-ABB5-9F75C7E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6AA-618C-450B-AD3D-F26C7BA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CECE-7B8C-4F83-9D0B-6B33766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A77B-19F6-41F1-8E34-A357EBB3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FEAF-FD52-4060-A9AB-91F20232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CCC-3224-4950-AEC2-4B85DF2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D17-529F-419B-8F7E-0789FBD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817-9B4F-4842-AE25-8D7B861F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FAA-CD23-4C58-8FDA-83C5124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81B-C121-4FCE-8DA4-7650E6B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BE8-080C-4C64-A489-8CE95B9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2CB-59EA-4F1B-A902-0480303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49FD-53F4-4C6C-854B-3B34BAD1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F96C-E324-4C56-8AE9-DF1D6805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57400" y="22096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蜗牛的奖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9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352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它成天把奖杯背在身上，唯恐别人不知道它是飞行冠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1236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791320" cy="345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9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352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成天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把奖杯背在身上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唯恐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别人不知道它是飞行冠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1236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791320" cy="345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657600" cy="579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95280" y="60948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到了晚上，蜗牛就睡在奖杯里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怕被别人偷了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4880" y="4267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生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1143000"/>
            <a:ext cx="6934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成天把奖杯背在身上，惟恐别人不知道它是飞行冠军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到了晚上，蜗牛就睡在奖杯里，生怕被别人偷了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110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ce343"/>
                </a:solidFill>
                <a:latin typeface="Times New Roman"/>
                <a:ea typeface="黑体"/>
              </a:rPr>
              <a:t>惟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492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生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882720"/>
            <a:ext cx="6705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97000" y="158436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天长日久，蜗牛和奖杯粘在一起，一对翅膀也退化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304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不满足是向上的车轮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600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虚心使人进步，骄傲使人落后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成绩只能说明过去，不能说明现在，更不能说明将来，我们千万不能躺在功劳簿上睡大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——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895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不能小富即安，还得与时俱进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泽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06280" y="1449360"/>
          <a:ext cx="41911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449360"/>
                    <a:ext cx="4191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914400" y="1143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22720" y="1494000"/>
          <a:ext cx="39625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2720" y="1494000"/>
                    <a:ext cx="39625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4f44cd4365e90435122a21bc83a93563" descr=""/>
          <p:cNvPicPr/>
          <p:nvPr/>
        </p:nvPicPr>
        <p:blipFill>
          <a:blip r:embed="rId2"/>
          <a:stretch/>
        </p:blipFill>
        <p:spPr>
          <a:xfrm>
            <a:off x="6006960" y="4997520"/>
            <a:ext cx="2908440" cy="185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43200" y="15238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2767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60020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翅膀    蜻蜓    蜜蜂    爬行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坚硬    甩下    冠军    唯恐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生怕    勉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强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遥遥领先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得意洋洋    天长日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2000" y="2168640"/>
            <a:ext cx="74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）的奖杯    （          ）的外壳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）地爬行     （          ）的蜗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71640" y="1449360"/>
            <a:ext cx="62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翅膀        （           ）地飞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118800" cy="6940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02000" y="1359000"/>
            <a:ext cx="46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长着一对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黑体"/>
              </a:rPr>
              <a:t>有力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翅膀，能在空中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黑体"/>
              </a:rPr>
              <a:t>自由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地飞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172200" y="1219320"/>
            <a:ext cx="1828800" cy="152280"/>
            <a:chOff x="6172200" y="1219320"/>
            <a:chExt cx="1828800" cy="152280"/>
          </a:xfrm>
        </p:grpSpPr>
        <p:sp>
          <p:nvSpPr>
            <p:cNvPr id="105" name=""/>
            <p:cNvSpPr/>
            <p:nvPr/>
          </p:nvSpPr>
          <p:spPr>
            <a:xfrm>
              <a:off x="6172200" y="12193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720" y="12193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5200" y="12193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8720" y="12193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52880" y="4876920"/>
            <a:ext cx="762120" cy="152280"/>
            <a:chOff x="4952880" y="4876920"/>
            <a:chExt cx="762120" cy="152280"/>
          </a:xfrm>
        </p:grpSpPr>
        <p:sp>
          <p:nvSpPr>
            <p:cNvPr id="110" name=""/>
            <p:cNvSpPr/>
            <p:nvPr/>
          </p:nvSpPr>
          <p:spPr>
            <a:xfrm>
              <a:off x="4952880" y="48769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2360" y="487692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52880" y="5638680"/>
            <a:ext cx="2590920" cy="914400"/>
            <a:chOff x="4952880" y="5638680"/>
            <a:chExt cx="2590920" cy="914400"/>
          </a:xfrm>
        </p:grpSpPr>
        <p:sp>
          <p:nvSpPr>
            <p:cNvPr id="113" name=""/>
            <p:cNvSpPr/>
            <p:nvPr/>
          </p:nvSpPr>
          <p:spPr>
            <a:xfrm>
              <a:off x="4952880" y="64008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160" y="563868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71640" y="638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天长日久，蜗牛和奖杯粘在了一起，一对翅膀也退化了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沉重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的奖杯变成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坚硬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的外壳，蜗牛只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勉强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地从硬壳里伸出头来，在地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慢慢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地爬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352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07360" cy="684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3733920"/>
            <a:ext cx="7620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在一次飞行比赛中，蜗牛遥遥领先，甩下了所有的对手：蜻蜓、蜜蜂、蝴蝶……捧走了冠军奖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7400" y="5181480"/>
            <a:ext cx="1828800" cy="152280"/>
            <a:chOff x="2057400" y="5181480"/>
            <a:chExt cx="1828800" cy="152280"/>
          </a:xfrm>
        </p:grpSpPr>
        <p:sp>
          <p:nvSpPr>
            <p:cNvPr id="120" name=""/>
            <p:cNvSpPr/>
            <p:nvPr/>
          </p:nvSpPr>
          <p:spPr>
            <a:xfrm>
              <a:off x="205740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00600" y="5181480"/>
            <a:ext cx="762120" cy="152280"/>
            <a:chOff x="4800600" y="5181480"/>
            <a:chExt cx="762120" cy="152280"/>
          </a:xfrm>
        </p:grpSpPr>
        <p:sp>
          <p:nvSpPr>
            <p:cNvPr id="125" name=""/>
            <p:cNvSpPr/>
            <p:nvPr/>
          </p:nvSpPr>
          <p:spPr>
            <a:xfrm>
              <a:off x="480060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0080" y="518148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77120" y="5181480"/>
            <a:ext cx="1295280" cy="152280"/>
            <a:chOff x="6477120" y="5181480"/>
            <a:chExt cx="1295280" cy="152280"/>
          </a:xfrm>
        </p:grpSpPr>
        <p:sp>
          <p:nvSpPr>
            <p:cNvPr id="128" name=""/>
            <p:cNvSpPr/>
            <p:nvPr/>
          </p:nvSpPr>
          <p:spPr>
            <a:xfrm>
              <a:off x="647712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064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0120" y="518148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4f44cd4365e90435122a21bc83a93563" descr=""/>
          <p:cNvPicPr/>
          <p:nvPr/>
        </p:nvPicPr>
        <p:blipFill>
          <a:blip r:embed="rId2"/>
          <a:stretch/>
        </p:blipFill>
        <p:spPr>
          <a:xfrm>
            <a:off x="6006960" y="4997520"/>
            <a:ext cx="2908440" cy="185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15238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2767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002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此</a:t>
            </a: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蜗牛得意洋洋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6:33:16Z</dcterms:created>
  <dc:creator>Lenovo User</dc:creator>
  <dc:description/>
  <dc:language>en-US</dc:language>
  <cp:lastModifiedBy>Lenovo User</cp:lastModifiedBy>
  <dcterms:modified xsi:type="dcterms:W3CDTF">2015-04-02T00:10:06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