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3AD-BA7D-4F4E-970D-3085EED8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38A-B30A-4726-AAC5-C8DF86A6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4A7-12C4-44B4-9545-ABE3773D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801-C17C-492B-8587-9671EEB1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D46-2EDA-420A-AF72-F39371BC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B1D-A8A9-4FD3-8DE5-D645FDA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90E-AD51-44F9-8BBF-365EF539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07BC-3FB4-400B-9234-31FC815A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8D0E-1C9E-4123-A9B4-17E36D3A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30CB-9BF5-4C61-82B9-38F14606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7068-B207-46A1-BF0C-7C61C6C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123-4119-4682-B37E-E5B63766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5E6-10FB-4A0D-B072-1A4503A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F47-A0BB-46C3-912E-0617EA06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A7E-4D2E-424C-BB12-3330F57D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61B-19A2-49F7-A41E-75A5E83A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A930-6252-4FE0-8167-57A4E57A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61D-FBB2-4E87-8034-D8B7FF0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167-B066-4372-A080-3B4DFA2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D46-507A-4D21-A5D1-D643EE8F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E78-3983-44EF-BEB7-ECDCD0A9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256-B08E-4054-A818-FEC1A74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5E4-99B5-4B88-9489-22B1E18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2AB-BC86-448E-852C-34A86C1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D59F-3E31-4E69-82CC-0EDA7A439D2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9B35-E19A-4788-9061-8A653EAFCE1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5280" y="2133720"/>
            <a:ext cx="63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ff"/>
                </a:solidFill>
                <a:latin typeface="Arial"/>
                <a:ea typeface="楷体_GB2312"/>
              </a:rPr>
              <a:t>26</a:t>
            </a:r>
            <a:r>
              <a:rPr b="1" lang="zh-CN" sz="9000" spc="-1" strike="noStrike">
                <a:solidFill>
                  <a:srgbClr val="0000ff"/>
                </a:solidFill>
                <a:latin typeface="Arial"/>
                <a:ea typeface="楷体_GB2312"/>
              </a:rPr>
              <a:t>、我能行</a:t>
            </a:r>
            <a:endParaRPr b="0" lang="en-US" sz="9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341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语文</a:t>
            </a:r>
            <a:r>
              <a:rPr b="0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S</a:t>
            </a:r>
            <a:r>
              <a:rPr b="0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版二年级语文下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072720" cy="681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920" y="515772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c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a0c00"/>
                </a:solidFill>
                <a:latin typeface="Arial"/>
              </a:rPr>
              <a:t>贝贝呆呆地站在那儿，没有走开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3120" y="1550880"/>
            <a:ext cx="212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587700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呆呆地</a:t>
            </a:r>
            <a:r>
              <a:rPr b="1" lang="en-US" sz="4800" spc="-1" strike="noStrike" u="sng">
                <a:solidFill>
                  <a:srgbClr val="0033cc"/>
                </a:solidFill>
                <a:uFillTx/>
                <a:latin typeface="宋体"/>
              </a:rPr>
              <a:t>        </a:t>
            </a:r>
            <a:r>
              <a:rPr b="1" lang="en-US" sz="4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贝贝为什么“呆呆地站在那儿，没有走开”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7000" y="117360"/>
            <a:ext cx="9129600" cy="6813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07920" y="6296040"/>
            <a:ext cx="726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6021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，我能行！”贝贝（   ）地说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157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0c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c0c"/>
                </a:solidFill>
                <a:latin typeface="宋体"/>
              </a:rPr>
              <a:t>不，我能行  ”贝贝    地说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51577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宋体"/>
              </a:rPr>
              <a:t>自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2293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宋体"/>
              </a:rPr>
              <a:t>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6304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，找一找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贝贝是如何解决这个困难的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结果怎样？从文中找出来，读一读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84720" y="115920"/>
            <a:ext cx="4674960" cy="6448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496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贝贝静静地等待着。忽然，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力一跳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伸手接住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飞到头顶上的篮球，接着又把手中的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传给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了一个大孩子。球在孩子们的手中传递着，不一会儿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传到了贝贝的手里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很快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贝贝活跃的身影与大孩子们融到了一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61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一个小时过去了，孩子们玩儿得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汗流浃背</a:t>
            </a:r>
            <a:r>
              <a:rPr b="1" lang="zh-CN" sz="44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。大孩子们边擦汗边围拢过来，对贝贝说：“真对不起，刚才没有得到你的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允许</a:t>
            </a:r>
            <a:r>
              <a:rPr b="1" lang="zh-CN" sz="44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，就玩儿了你的球。”贝贝说：“别客气，大家一块儿玩儿多开心哪！”他们分手时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约定</a:t>
            </a:r>
            <a:r>
              <a:rPr b="1" lang="zh-CN" sz="44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以后有机会还在一起玩儿</a:t>
            </a: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7480" cy="2541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79640" y="2852640"/>
            <a:ext cx="6553080" cy="3024360"/>
          </a:xfrm>
          <a:prstGeom prst="foldedCorner">
            <a:avLst>
              <a:gd name="adj" fmla="val 22319"/>
            </a:avLst>
          </a:prstGeom>
          <a:solidFill>
            <a:srgbClr val="ccff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0000ff"/>
                </a:solidFill>
                <a:latin typeface="Arial"/>
                <a:ea typeface="楷体_GB2312"/>
              </a:rPr>
              <a:t>议一议：要是你遇到这样的事，你怎么办？</a:t>
            </a:r>
            <a:r>
              <a:rPr b="1" lang="en-US" sz="1800" spc="-1" strike="noStrike">
                <a:solidFill>
                  <a:srgbClr val="0a0c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54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说一说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从贝贝的故事中，你明白了什么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414972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c0c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  <a:ea typeface="楷体_GB2312"/>
              </a:rPr>
              <a:t>遇到问题，不要一味地依靠别人，要相信自己，自己想办法解决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cc0066"/>
                </a:solidFill>
                <a:uFillTx/>
                <a:latin typeface="Arial"/>
              </a:rPr>
              <a:t>读一读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自信是成功的第一秘诀。</a:t>
            </a:r>
            <a:r>
              <a:rPr b="1" lang="en-US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---</a:t>
            </a: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爱默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天生我材必有用。</a:t>
            </a:r>
            <a:r>
              <a:rPr b="1" lang="en-US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----</a:t>
            </a: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李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人多不足以依赖，要生存只有靠自己。</a:t>
            </a:r>
            <a:r>
              <a:rPr b="1" lang="en-US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----</a:t>
            </a:r>
            <a:r>
              <a:rPr b="1" lang="zh-CN" sz="4000" spc="-1" strike="noStrike">
                <a:solidFill>
                  <a:srgbClr val="0a0c00"/>
                </a:solidFill>
                <a:latin typeface="楷体_GB2312"/>
                <a:ea typeface="楷体_GB2312"/>
              </a:rPr>
              <a:t>拿破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468360" y="148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iáo      tóu      dèng      zhù      gǔ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8360" y="220500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瞄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  <a:ea typeface="楷体_GB2312"/>
              </a:rPr>
              <a:t>准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投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  <a:ea typeface="楷体_GB2312"/>
              </a:rPr>
              <a:t>篮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凳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  <a:ea typeface="楷体_GB2312"/>
              </a:rPr>
              <a:t>子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  <a:ea typeface="楷体_GB2312"/>
              </a:rPr>
              <a:t>意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滚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  <a:ea typeface="楷体_GB2312"/>
              </a:rPr>
              <a:t>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0920" y="31417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hī        jiǎn           dài       dì        yu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3789360"/>
            <a:ext cx="88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求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不得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捡</a:t>
            </a: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起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等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待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传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递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活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79280" y="5300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</a:rPr>
              <a:t>众不同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融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</a:rPr>
              <a:t>入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允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</a:rPr>
              <a:t>许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约</a:t>
            </a:r>
            <a:r>
              <a:rPr b="1" lang="zh-CN" sz="4400" spc="-1" strike="noStrike">
                <a:solidFill>
                  <a:srgbClr val="000c0c"/>
                </a:solidFill>
                <a:latin typeface="Times New Roman"/>
              </a:rPr>
              <a:t>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9280" y="4653000"/>
            <a:ext cx="84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ǔ               róng        yǔn         yu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260280"/>
            <a:ext cx="25430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1197000"/>
            <a:ext cx="8101080" cy="3338640"/>
          </a:xfrm>
          <a:prstGeom prst="cloudCallout">
            <a:avLst>
              <a:gd name="adj1" fmla="val -46120"/>
              <a:gd name="adj2" fmla="val 54138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227664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讲了一件什么事？</a:t>
            </a: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边读课文边思考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81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（贝贝在球场上玩儿时，遇到问题，他用自己的方式解决了问题。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与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765000"/>
            <a:ext cx="25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yǔ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35560" y="1557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参与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073160" cy="1109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378480" y="3141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赠与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08760" y="5118120"/>
            <a:ext cx="231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ff"/>
                </a:solidFill>
                <a:latin typeface="Arial"/>
                <a:ea typeface="楷体"/>
              </a:rPr>
              <a:t>与众不同</a:t>
            </a:r>
            <a:endParaRPr b="0" lang="en-US" sz="7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之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62064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zhī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7200" y="170028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之前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113520" y="5229360"/>
            <a:ext cx="2314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ff"/>
                </a:solidFill>
                <a:latin typeface="Arial"/>
                <a:ea typeface="楷体"/>
              </a:rPr>
              <a:t>求之不得</a:t>
            </a:r>
            <a:endParaRPr b="0" lang="en-US" sz="7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429000"/>
            <a:ext cx="2727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之后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注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70160" y="69228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zhù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35560" y="184464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注意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8480" y="3141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注视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80280" y="465300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关注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视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765000"/>
            <a:ext cx="25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shì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35560" y="162864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注视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307200" y="328464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视线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4797360"/>
            <a:ext cx="35496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ff"/>
                </a:solidFill>
                <a:latin typeface="Arial"/>
                <a:ea typeface="楷体"/>
              </a:rPr>
              <a:t>近视</a:t>
            </a:r>
            <a:endParaRPr b="0" lang="en-US" sz="10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球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549360"/>
            <a:ext cx="35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qiú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62840" y="1773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篮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073160" cy="11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35560" y="328464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足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4724280"/>
            <a:ext cx="4008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地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跃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54936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yuè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41300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活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019920" y="306864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跳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62840" y="4581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飞跃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准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3040" y="560520"/>
            <a:ext cx="278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zhǔn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35560" y="1773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瞄准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35560" y="3357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准备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62840" y="4941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准确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042920" y="2158920"/>
          <a:ext cx="4294080" cy="4157640"/>
        </p:xfrm>
        <a:graphic>
          <a:graphicData uri="http://schemas.openxmlformats.org/drawingml/2006/table">
            <a:tbl>
              <a:tblPr/>
              <a:tblGrid>
                <a:gridCol w="2146320"/>
                <a:gridCol w="2147760"/>
              </a:tblGrid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0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0c0c"/>
                </a:solidFill>
                <a:latin typeface="Arial"/>
                <a:ea typeface="楷体_GB2312"/>
              </a:rPr>
              <a:t>允</a:t>
            </a:r>
            <a:endParaRPr b="0" lang="en-US" sz="2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476280"/>
            <a:ext cx="28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yǔn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35560" y="148428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允许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235560" y="2997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允诺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35560" y="458136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Arial"/>
                <a:ea typeface="楷体"/>
              </a:rPr>
              <a:t>公允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8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、选择正确的读音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允许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   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   活跃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  yu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信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  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    注视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sh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瞄准（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i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  m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  长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   d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约定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yu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  我与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(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y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34936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6360" y="23493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299736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8720" y="299736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364500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371628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365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43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二、选词填空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自信        信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小明对完成这项任务（       ）十足。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一个人无论做什么事情，最重要的是要（       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注视        注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上课的时候，同学们一定要（       ）听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爸爸做在场外看书，并（        ）着儿子的举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呆呆地       静静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贝贝在那里（          ）等待家长来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他（          ）站在那儿，一动也不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1484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iáo     tóu      dèng      zhù      gǔ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2205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瞄      投      凳     注     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3141720"/>
            <a:ext cx="84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hī       jiǎn      dài             dì       yu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79280" y="378936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之   捡   待    递   跃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9280" y="5300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与          融       允           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 rot="1088400">
            <a:off x="250920" y="-166320"/>
            <a:ext cx="223200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33cc"/>
                    </a:gs>
                  </a:gsLst>
                  <a:lin ang="4314000"/>
                </a:gradFill>
                <a:latin typeface="宋体"/>
              </a:rPr>
              <a:t>我会认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33cc"/>
                  </a:gs>
                </a:gsLst>
                <a:lin ang="4314000"/>
              </a:gradFill>
              <a:latin typeface="宋体"/>
              <a:ea typeface="宋体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9280" y="4653000"/>
            <a:ext cx="84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ǔ               róng        yǔn            yu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0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用加点的词语造句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贝贝呆呆地站在那儿，没有走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______________________________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贝贝静静地等待着大家给他传球。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______________________________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贝贝一会儿拍球，一会儿瞄准球筐练习投篮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______________________________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7"/>
          <p:cNvSpPr/>
          <p:nvPr/>
        </p:nvSpPr>
        <p:spPr>
          <a:xfrm>
            <a:off x="179280" y="0"/>
            <a:ext cx="2665440" cy="1657440"/>
          </a:xfrm>
          <a:prstGeom prst="cloudCallout">
            <a:avLst>
              <a:gd name="adj1" fmla="val 50712"/>
              <a:gd name="adj2" fmla="val 6724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79e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619280" y="3213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4360" y="3429000"/>
            <a:ext cx="727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多音字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huán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传给）（传递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zhuà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自传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）（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传记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待会儿）（待在一起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Arial"/>
                <a:ea typeface="楷体_GB2312"/>
              </a:rPr>
              <a:t>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dài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（等待）（对待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08640"/>
            <a:ext cx="576360" cy="1511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413000"/>
            <a:ext cx="503280" cy="1584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8640" y="-4354200"/>
            <a:ext cx="135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268280"/>
            <a:ext cx="10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Arial"/>
                <a:ea typeface="楷体_GB2312"/>
              </a:rPr>
              <a:t>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49360"/>
            <a:ext cx="9144000" cy="3697200"/>
          </a:xfrm>
          <a:prstGeom prst="cloudCallout">
            <a:avLst>
              <a:gd name="adj1" fmla="val -34375"/>
              <a:gd name="adj2" fmla="val 47898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79640" y="4076640"/>
            <a:ext cx="2736360" cy="2781000"/>
            <a:chOff x="1979640" y="4076640"/>
            <a:chExt cx="2736360" cy="2781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979640" y="4076640"/>
              <a:ext cx="273636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401920" y="4459320"/>
              <a:ext cx="22078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边读课文</a:t>
              </a:r>
              <a:endParaRPr b="0" lang="en-US" sz="3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边思考</a:t>
              </a:r>
              <a:endParaRPr b="0" lang="en-US" sz="3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5280" y="126828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贝贝遇到了什么困难，他是如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何解决困难的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又是如何对待那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几个男孩的</a:t>
            </a:r>
            <a:r>
              <a:rPr b="1" lang="en-US" sz="4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en-US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a0c00"/>
                </a:solidFill>
                <a:latin typeface="Arial"/>
                <a:ea typeface="楷体_GB2312"/>
              </a:rPr>
              <a:t>         </a:t>
            </a:r>
            <a:r>
              <a:rPr b="1" lang="zh-CN" sz="5000" spc="-1" strike="noStrike">
                <a:solidFill>
                  <a:srgbClr val="0a0c00"/>
                </a:solidFill>
                <a:latin typeface="Arial"/>
                <a:ea typeface="楷体_GB2312"/>
              </a:rPr>
              <a:t>贝贝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r>
              <a:rPr b="1" lang="zh-CN" sz="5000" spc="-1" strike="noStrike">
                <a:solidFill>
                  <a:srgbClr val="0a0c00"/>
                </a:solidFill>
                <a:latin typeface="Arial"/>
                <a:ea typeface="楷体_GB2312"/>
              </a:rPr>
              <a:t>拍球，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一会儿</a:t>
            </a:r>
            <a:r>
              <a:rPr b="1" lang="zh-CN" sz="5000" spc="-1" strike="noStrike">
                <a:solidFill>
                  <a:srgbClr val="0a0c00"/>
                </a:solidFill>
                <a:latin typeface="Arial"/>
                <a:ea typeface="楷体_GB2312"/>
              </a:rPr>
              <a:t>瞄准球筐练习投篮</a:t>
            </a:r>
            <a:r>
              <a:rPr b="0" lang="zh-CN" sz="5000" spc="-1" strike="noStrike">
                <a:solidFill>
                  <a:srgbClr val="0a0c00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星期天下午，爸爸陪贝贝在球场上玩儿，贝贝玩儿得怎么样？从文中找出写贝贝玩儿的句子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用“一会儿……一会儿……”说一句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7002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a0c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a0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a0c00"/>
                </a:solidFill>
                <a:latin typeface="Arial"/>
              </a:rPr>
              <a:t>过了一会儿，几个大一点儿的男孩儿路过球场，站在场边看了起来。突然，球滚了过去，他们正求之不得，捡起球就玩儿了起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" y="3573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c00"/>
                </a:solidFill>
                <a:latin typeface="Arial"/>
              </a:rPr>
              <a:t>                                                   </a:t>
            </a:r>
            <a:r>
              <a:rPr b="1" lang="zh-CN" sz="4000" spc="-1" strike="noStrike">
                <a:solidFill>
                  <a:srgbClr val="0a0c00"/>
                </a:solidFill>
                <a:latin typeface="Arial"/>
              </a:rPr>
              <a:t>贝贝却被晾在一边儿，变成了观众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11280" y="3502080"/>
            <a:ext cx="7489440" cy="790560"/>
            <a:chOff x="611280" y="3502080"/>
            <a:chExt cx="7489440" cy="790560"/>
          </a:xfrm>
        </p:grpSpPr>
        <p:sp>
          <p:nvSpPr>
            <p:cNvPr id="114" name=""/>
            <p:cNvSpPr/>
            <p:nvPr/>
          </p:nvSpPr>
          <p:spPr>
            <a:xfrm>
              <a:off x="7812720" y="3502080"/>
              <a:ext cx="288000" cy="143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1280" y="4149360"/>
              <a:ext cx="288000" cy="143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5280" y="4149360"/>
              <a:ext cx="288000" cy="143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280" y="4149360"/>
              <a:ext cx="288000" cy="143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39640" y="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正在贝贝玩儿得高兴的时候，发生了什么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-488736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求之不得”什么意思</a:t>
            </a:r>
            <a:r>
              <a:rPr b="1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 </a:t>
            </a: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34136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贝贝却被抛在一边，变成了观众”这句话你是怎么理解的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?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2130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孩子很无理，他们自顾自玩起来，一点儿不管贝贝；贝贝很可怜，眼睁睁地看人家玩自己的球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-480672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贝贝虽然变成了观众，但是他既没有去找爸爸，也没有伤心地哭泣，没有直接去找他们要球，也没有接受爸爸的帮助，而是什么态度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用书上的一句话回答 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29:17Z</dcterms:created>
  <dc:creator>wenzheng</dc:creator>
  <dc:description/>
  <dc:language>en-US</dc:language>
  <cp:lastModifiedBy>微软用户</cp:lastModifiedBy>
  <dcterms:modified xsi:type="dcterms:W3CDTF">2015-07-09T01:16:42Z</dcterms:modified>
  <cp:revision>325</cp:revision>
  <dc:subject/>
  <dc:title>放小鸟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