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9C3E-B260-4791-B851-4C7684A0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813D-0DCB-47CE-B711-EAE9501C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515-046D-4186-8CE5-8E9DC928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3F1A-9831-40A7-92A9-3D09DE6B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748-1CF5-4997-A7B1-5A1F34AF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422E-8F42-47F0-A558-EA04FE8B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B903-5021-49B7-9D4E-4F4F25B2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68D1-A428-4B65-ADDA-606E668E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974-7245-41B9-B0D3-6ED174F9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90C-66A9-4592-822C-22DD01E5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1F4-6233-4FBC-AB61-8AAE8E5D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61A-70AB-4EC8-8183-D22A90E3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3916-3D4B-4ED5-A386-B1C09A4C3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wbszrxd_ruo.exe" TargetMode="External"/><Relationship Id="rId2" Type="http://schemas.openxmlformats.org/officeDocument/2006/relationships/hyperlink" Target="wbszrxd_liao.exe" TargetMode="External"/><Relationship Id="rId3" Type="http://schemas.openxmlformats.org/officeDocument/2006/relationships/hyperlink" Target="wbszrxd_jiao.exe" TargetMode="External"/><Relationship Id="rId4" Type="http://schemas.openxmlformats.org/officeDocument/2006/relationships/hyperlink" Target="wbszrxd_xian.exe" TargetMode="External"/><Relationship Id="rId5" Type="http://schemas.openxmlformats.org/officeDocument/2006/relationships/image" Target="../media/image5.png"/><Relationship Id="rId6" Type="http://schemas.openxmlformats.org/officeDocument/2006/relationships/hyperlink" Target="sa.mp3" TargetMode="External"/><Relationship Id="rId7" Type="http://schemas.openxmlformats.org/officeDocument/2006/relationships/hyperlink" Target="sa.mp3" TargetMode="External"/><Relationship Id="rId8" Type="http://schemas.openxmlformats.org/officeDocument/2006/relationships/hyperlink" Target="ling.mp3" TargetMode="External"/><Relationship Id="rId9" Type="http://schemas.openxmlformats.org/officeDocument/2006/relationships/hyperlink" Target="ling.mp3" TargetMode="External"/><Relationship Id="rId10" Type="http://schemas.openxmlformats.org/officeDocument/2006/relationships/hyperlink" Target="cu.mp3" TargetMode="External"/><Relationship Id="rId11" Type="http://schemas.openxmlformats.org/officeDocument/2006/relationships/hyperlink" Target="fen.mp3" TargetMode="External"/><Relationship Id="rId12" Type="http://schemas.openxmlformats.org/officeDocument/2006/relationships/hyperlink" Target="fang.mp3" TargetMode="External"/><Relationship Id="rId13" Type="http://schemas.openxmlformats.org/officeDocument/2006/relationships/hyperlink" Target="fang.mp3" TargetMode="External"/><Relationship Id="rId14" Type="http://schemas.openxmlformats.org/officeDocument/2006/relationships/hyperlink" Target="qing.mp3" TargetMode="External"/><Relationship Id="rId15" Type="http://schemas.openxmlformats.org/officeDocument/2006/relationships/hyperlink" Target="qing.mp3" TargetMode="External"/><Relationship Id="rId16" Type="http://schemas.openxmlformats.org/officeDocument/2006/relationships/hyperlink" Target="xuan.mp3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456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行楷简体"/>
                <a:ea typeface="方正行楷简体"/>
              </a:rPr>
              <a:t>S</a:t>
            </a:r>
            <a:r>
              <a:rPr b="0" lang="zh-CN" sz="2400" spc="-1" strike="noStrike">
                <a:solidFill>
                  <a:srgbClr val="ffffff"/>
                </a:solidFill>
                <a:latin typeface="方正行楷简体"/>
                <a:ea typeface="方正行楷简体"/>
              </a:rPr>
              <a:t>版二年级语文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55640" y="1699920"/>
            <a:ext cx="3166920" cy="649080"/>
          </a:xfrm>
          <a:prstGeom prst="rect">
            <a:avLst/>
          </a:prstGeom>
          <a:gradFill rotWithShape="0">
            <a:gsLst>
              <a:gs pos="0">
                <a:srgbClr val="dfeb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汉仪水波体简"/>
              </a:rPr>
              <a:t>我是最弱小的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60720" y="2924280"/>
            <a:ext cx="374472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71640" y="1557360"/>
            <a:ext cx="7238880" cy="733680"/>
          </a:xfrm>
          <a:prstGeom prst="rect">
            <a:avLst/>
          </a:prstGeom>
          <a:noFill/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请同学分别扮演爸爸妈妈，托利亚和萨沙，分角色演读课文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079720" cy="571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340000" y="3429000"/>
            <a:ext cx="48243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403280" y="5300640"/>
            <a:ext cx="612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一做：学会保护和帮助比你弱小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4149720"/>
            <a:ext cx="7467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说一说：讲一讲你所知道的勇敢者的故事吧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077400" cy="669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37280" y="189000"/>
            <a:ext cx="300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　</a:t>
            </a:r>
            <a:r>
              <a:rPr b="1" lang="zh-CN" sz="1800" spc="-1" strike="noStrike">
                <a:solidFill>
                  <a:srgbClr val="0099ff"/>
                </a:solidFill>
                <a:latin typeface="方正卡通简体"/>
                <a:ea typeface="方正卡通简体"/>
              </a:rPr>
              <a:t>我们是二年级的小学生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方正卡通简体"/>
                <a:ea typeface="方正卡通简体"/>
              </a:rPr>
              <a:t>在爸爸妈妈的眼里，在老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方正卡通简体"/>
                <a:ea typeface="方正卡通简体"/>
              </a:rPr>
              <a:t>眼里，我们是最弱小的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方正卡通简体"/>
                <a:ea typeface="方正卡通简体"/>
              </a:rPr>
              <a:t>在同学眼里呢？</a:t>
            </a:r>
            <a:r>
              <a:rPr b="0" lang="en-US" sz="1800" spc="-1" strike="noStrike">
                <a:solidFill>
                  <a:srgbClr val="0099ff"/>
                </a:solidFill>
                <a:latin typeface="方正卡通简体"/>
                <a:ea typeface="方正卡通简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81080" y="549360"/>
            <a:ext cx="7162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读课文，想一想，妈妈为什么夸萨沙是勇敢的孩子。借助拼音认读生字，同学间相互交流认字方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1125360"/>
            <a:ext cx="6705720" cy="36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末      萨      托      铃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簇      随      芬      芳   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倾      递   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0" y="635472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38720" y="11592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读读写写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03400" y="692280"/>
            <a:ext cx="6781680" cy="30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uò     mò   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宋体"/>
                <a:hlinkClick r:id="rId6"/>
              </a:rPr>
              <a:t>s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entury Gothic"/>
                <a:hlinkClick r:id="rId7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tuō 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宋体"/>
                <a:hlinkClick r:id="rId8"/>
              </a:rPr>
              <a:t>lín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宋体"/>
                <a:hlinkClick r:id="rId9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宋体"/>
                <a:hlinkClick r:id="rId10"/>
              </a:rPr>
              <a:t>c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suí  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宋体"/>
                <a:hlinkClick r:id="rId11"/>
              </a:rPr>
              <a:t>fē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宋体"/>
                <a:hlinkClick r:id="rId12"/>
              </a:rPr>
              <a:t>fān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宋体"/>
                <a:hlinkClick r:id="rId13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li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宋体"/>
                <a:hlinkClick r:id="rId14"/>
              </a:rPr>
              <a:t>qīn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宋体"/>
                <a:hlinkClick r:id="rId15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dì      jiāo 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宋体"/>
                <a:hlinkClick r:id="rId16"/>
              </a:rPr>
              <a:t>xi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458136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萨沙是最弱小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33577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妈妈和爸爸都需要雨衣，最后为什么给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萨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58920" y="2133720"/>
            <a:ext cx="7696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方正卡通简体"/>
                <a:ea typeface="方正卡通简体"/>
              </a:rPr>
              <a:t>下大雨了，爸爸赶忙把雨衣给了妈妈，妈妈接过雨衣没有穿，却把它给了萨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57340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692280"/>
            <a:ext cx="4473720" cy="496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正确、流利的朗读课文，想一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64000" y="49417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be0e3"/>
                </a:solidFill>
                <a:latin typeface="Arial"/>
              </a:rPr>
              <a:t>萨沙保护了娇嫩纤弱的蔷薇花，蔷薇花会怎么说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0036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16000" y="2060640"/>
            <a:ext cx="7315200" cy="2013120"/>
          </a:xfrm>
          <a:prstGeom prst="rect">
            <a:avLst/>
          </a:prstGeom>
          <a:solidFill>
            <a:srgbClr val="dfeb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“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要是你谁也保护不了，那你不就是最弱小的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“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现在我该不是最弱小的了吧，妈妈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说说你怎样理解这两句话。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6153840" y="60480"/>
            <a:ext cx="2569680" cy="1730520"/>
            <a:chOff x="6153840" y="60480"/>
            <a:chExt cx="2569680" cy="1730520"/>
          </a:xfrm>
        </p:grpSpPr>
        <p:sp>
          <p:nvSpPr>
            <p:cNvPr id="67" name=""/>
            <p:cNvSpPr/>
            <p:nvPr/>
          </p:nvSpPr>
          <p:spPr>
            <a:xfrm rot="378600">
              <a:off x="6227280" y="189000"/>
              <a:ext cx="2422440" cy="1473120"/>
            </a:xfrm>
            <a:prstGeom prst="cloudCallout">
              <a:avLst>
                <a:gd name="adj1" fmla="val -23430"/>
                <a:gd name="adj2" fmla="val 77833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44680" y="344520"/>
              <a:ext cx="1521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　你能保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更弱小的吗？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2"/>
          <a:srcRect l="0" t="0" r="5858" b="7269"/>
          <a:stretch/>
        </p:blipFill>
        <p:spPr>
          <a:xfrm>
            <a:off x="179280" y="2205000"/>
            <a:ext cx="4235400" cy="4172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0" t="0" r="-1716" b="4047"/>
          <a:stretch/>
        </p:blipFill>
        <p:spPr>
          <a:xfrm>
            <a:off x="2340000" y="-890640"/>
            <a:ext cx="3376440" cy="424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rcRect l="1763" t="8061" r="0" b="0"/>
          <a:stretch/>
        </p:blipFill>
        <p:spPr>
          <a:xfrm>
            <a:off x="5219640" y="2781360"/>
            <a:ext cx="3326040" cy="3706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244944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2:43:56Z</dcterms:created>
  <dc:creator>Sky123.Org</dc:creator>
  <dc:description/>
  <dc:language>en-US</dc:language>
  <cp:lastModifiedBy>Sky123.Org</cp:lastModifiedBy>
  <dcterms:modified xsi:type="dcterms:W3CDTF">2015-07-09T02:29:53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