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986E-3E44-4445-BF42-919D886D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2B28-D185-46D1-8CC8-9669056D1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93A-FED2-4BBB-9213-7298898C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FF0-D6E6-4571-B00E-C8A172A9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5A58D-1970-46AD-8175-E6193126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9B866-89DC-4306-B0CD-931EA53B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E7282-D232-45F8-A4B5-5F425AC8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0BC0F-0E49-46A2-B905-B55D6A6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C5BE4-84F9-44EB-BEF2-C3BF4FE3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4AA27-8C92-4531-B211-2E8B7A2A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58AFB-E9B5-4BEC-A1EE-F290549A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9DCF2-EABC-41FA-965A-066A7100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D9F66-A54B-4DD6-A907-66E9774F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66E39-304F-4BBF-8CB2-3CB3E55E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B81-0C2D-405A-AA77-A64CE524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194EC-D8F1-4168-8675-EC0F56E4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58AC4-21C5-4917-8B5E-BF9B423B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4A20B-2718-4E65-A748-503BD1A0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EBFD7-E9B1-4381-AC62-C434EF66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AF8CC-E4D6-4B5D-B0F0-AE08C945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83DCC-EC34-4392-9B94-404F9F78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8673D-282E-4B24-A21D-9EFBF14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689F7-D939-4671-ACF4-F28AD1F5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848E2-48B7-4786-801C-675D9B86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3479A-8D31-466B-A698-ECBA14DE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678-4FAC-4615-8AE7-F4EDC3C1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80D4A-79D2-4E87-96D8-0024B6B3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2F9DC-15DE-449A-8D74-4B10DA2E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8D798-3D47-4916-B7F5-DA48014A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B9C10-3BB2-4B2E-AC6A-49B72B20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140A2-C9E9-4526-8BBE-613BB321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55F3F-A293-46A2-A525-229170E9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F5515-ACF3-4E2D-B7E9-30FF7568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F40F3-E04D-4D2A-B248-B268B82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5CFDC-A93B-4396-905F-3B710819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33D1D-FB5B-468B-A96B-31EFCC2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D52B-4616-43CB-B7A6-EE61E956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7A3C3-6894-4435-8BB5-CAA6404D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0A6DC-27E0-483E-B11A-E14E4C02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581DD-3800-4931-ACBE-E47240AF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70469-66CB-430D-8C01-18E6A53E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1E727-4F1E-45B0-B44F-880B57C9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03329-F924-49C6-8C7E-8C68F730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26A80-7F20-4AE3-AF09-9424B138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C64F9-E141-46ED-8CC9-F7621DAB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9A8FB-FA63-4F5F-BDCE-EEE29102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91FFA-00EA-4F7C-B1C3-2BD64FA6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199D-36B3-400B-A985-0234E708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4CB7A-C421-4454-A5B9-A032B2DE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F363A-23BA-4FCB-B120-4FD8F9EA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6EE79-81CB-4A62-88FF-E84228F7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BB85E-A1D7-4446-92D8-90DAF012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F49F2-A784-49E0-8534-0877A704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ACC8-3C8E-49F7-9A46-85713C62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B88D-4032-4F6F-B45A-FA91120B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9C6B-DB80-4871-9981-2E44036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F932-578E-4582-83D1-689410D2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E505-0F37-45B4-9D68-E4FFF013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A8D-C2D7-4F69-9482-CADB3A8C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B246-DBF2-42A6-8B9A-C9F78B7E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6FD7-705A-4FDE-B8B3-0B1150A9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1E54-8467-4DBE-83EB-32142499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072A-F9DC-4CA8-9CD0-5E1FEC94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219E-3B22-4020-A6A6-35F9646B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D9A1-8F56-4FDD-8480-5F16BC19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3584-6AAA-412D-9804-D92F5187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2EE2B-DE97-492A-9050-46B7F303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259D-1CC1-4EE4-AED0-70DDD8AF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21CF0-7B72-4CAF-AD29-8E2F8013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579-8F91-4CC5-9A4F-CA621D82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7E71-7F5B-47E1-B1C1-77631041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93377-F773-472A-979A-42F07800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2925-C3D0-466F-8863-E7AD1BAF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C52E-CB37-4A4B-AE00-D119BDE7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4DB2-1192-4161-B294-C1A4A4F7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B1FE-E713-4D6E-BDD9-F52E2407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2940-30BD-4B0D-96C3-2EC894CB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CF0A-47FC-4768-A54B-63B1ABF9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8129A-8B67-497B-A7E7-AA845938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F43A6-6B61-4EC0-A877-DEC2FE66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11C-2337-45E9-BF46-7E2526D6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C67D6-3FAC-4488-8261-6C9F9B6B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F3E8-44FF-4974-B0E9-A9E2D74C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9AD4C-6A46-4634-A972-E7D39A9D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125BF-A2C5-45E6-82BC-6297072A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F007-E165-449C-B60D-0005B54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E931-31DA-4F9F-BBD1-304DDD2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E3C95-9326-4B3A-8555-00760C04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1BD38-FF5D-4B1E-8703-99D8C002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F3FA6-0718-47FD-AA50-5DEFB5E6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61954-7DA4-406E-BA64-41B5FD62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741-0602-41C6-A304-61BE001E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CB402-629A-497B-B739-2E65D2B2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E2EE-5A4F-4CEA-8C59-BAFD2B17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C04E2-7D58-41FE-A20F-A47A620D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58B76-0D00-4BDD-94AC-A191C27A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A5AA9-2CD7-4913-B5D8-418F84ED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1ECE1-B808-4362-AD98-A7818417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CE95D-B385-4B84-B41F-F83A332A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9CADB-68BB-428E-A3F0-B27AF8AD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6E9EE-64FD-485B-AA74-A05BA52E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16C4A-7023-4328-8216-E16365FF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EA7-8BD0-42B0-BA30-F2D9494E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898A-71D3-45DE-A514-93E835B8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E7908-3DBA-45DE-9D25-9821A6BF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F1F94-8E17-4C96-B73D-6C06B31E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3E2D-E8B6-4B7C-A039-1CDBC069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ACFD1-5A19-47EC-AF39-337168D7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FE413-253D-4CF2-AA3E-62BAC288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B581C-F2A6-4BBD-931D-E0ECE967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6C122-BF46-446D-A576-C9B3ECB3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F624F-55A8-48C9-94DD-6CDAEF49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FA89B-96BB-4D37-8DD0-E046EB45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764-ECA3-4DA8-A8F3-DEC6C861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FB541-87DD-4D98-BB49-84929158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00B51-A51E-4473-9385-71A2C07E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AFAE2-9CDC-4B9E-A31C-E5968780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0F320-C6F6-4EDD-800B-85E90A24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2885B-CCA4-4C2A-9F17-7E1A39C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08C93-2C5A-45A9-8236-9E492D35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88E95-DEDE-4071-9AB9-53D9B9F9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B9D6-C0D8-44D8-9EFE-63614935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8A3BB-94B6-4136-9BBF-3AE81644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29C69-C0F8-495C-84D4-D8DC28F8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60E-8A8F-4ED6-B899-1263046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0059E-1F14-4A41-BCEC-8DC4EC39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44BE8-6E8F-4336-AAAB-CED04265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35412-842E-4D2D-B1E8-D97E7D70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57FB8-98D4-44D8-8DD7-D9C77A17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60B9E-6DD0-4F8E-9FA9-B79C7532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B7E3F-78CC-4E67-8E9A-BFAEC7FB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667F6-956D-4AD0-B4BB-E5F3D319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56670-5449-4FA2-BE05-CD4326DD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95414-B42E-4D29-B2E6-686ECB6A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B5A2D-9FF9-43B8-B95F-5A5A40F5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823-4BD9-4A2E-A190-8A03CC8A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98173-2CA8-4439-B86D-1E4B1233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457C-E6AC-44E7-B10E-124C45E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A637-94CF-40BF-83E6-FD606375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30998-1CF2-4269-A0F1-47393C6C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01EDF-9571-4A70-8ED9-1E9E0C77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50249-35C1-425A-83A0-874F6D92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E9D51-5D6F-4152-9C6A-9ADA3CCB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D3093-2D28-4A5C-B148-5AEC44A9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6B583-0501-4AF9-A8F4-5AB156C4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9222D-D6C0-4101-9005-E6CFA489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B3CD-B46F-4277-A03C-B7E0034B3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8838-9444-4CF5-8B97-64350E396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F9EF-EBA7-465C-A938-949159A14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2C99-AE8A-4DE1-8E12-C1B53D055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AD94-8BBC-4EA4-8DFA-999DD8144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6612-F3B3-4159-975B-28AC31B60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A2C2-1C86-476D-B65D-22FCE1007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D7D3-DF79-434E-BDD0-18446712C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B3F3-774C-4A9C-BAEB-A11E477A9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E27F-4256-48A4-A250-3E8462DDF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48F5-75A8-494C-9BE3-3578E6AFB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86E3-C3FF-4904-A179-3844E9918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96720" y="1557360"/>
            <a:ext cx="9324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5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姓氏谣</a:t>
            </a:r>
            <a:endParaRPr b="0" lang="en-US" sz="2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900000" y="3429000"/>
            <a:ext cx="2952360" cy="2565000"/>
            <a:chOff x="900000" y="3429000"/>
            <a:chExt cx="2952360" cy="2565000"/>
          </a:xfrm>
        </p:grpSpPr>
        <p:sp>
          <p:nvSpPr>
            <p:cNvPr id="501" name="Rectangle 5"/>
            <p:cNvSpPr/>
            <p:nvPr/>
          </p:nvSpPr>
          <p:spPr>
            <a:xfrm>
              <a:off x="900000" y="3429000"/>
              <a:ext cx="2952360" cy="2565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946440" y="4711320"/>
              <a:ext cx="2813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2376000" y="3429000"/>
              <a:ext cx="23040" cy="2565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Text Box 8"/>
          <p:cNvSpPr/>
          <p:nvPr/>
        </p:nvSpPr>
        <p:spPr>
          <a:xfrm>
            <a:off x="1258920" y="3357720"/>
            <a:ext cx="21607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姓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01"/>
          <p:cNvPicPr/>
          <p:nvPr/>
        </p:nvPicPr>
        <p:blipFill>
          <a:blip r:embed="rId1"/>
          <a:srcRect l="22903" t="15323" r="17069" b="69928"/>
          <a:stretch/>
        </p:blipFill>
        <p:spPr>
          <a:xfrm>
            <a:off x="395280" y="1800360"/>
            <a:ext cx="842472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01"/>
          <p:cNvPicPr/>
          <p:nvPr/>
        </p:nvPicPr>
        <p:blipFill>
          <a:blip r:embed="rId1"/>
          <a:srcRect l="20335" t="29329" r="14513" b="55028"/>
          <a:stretch/>
        </p:blipFill>
        <p:spPr>
          <a:xfrm>
            <a:off x="395280" y="1989000"/>
            <a:ext cx="842472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3059280" y="2060640"/>
            <a:ext cx="2952360" cy="2565000"/>
            <a:chOff x="3059280" y="2060640"/>
            <a:chExt cx="2952360" cy="2565000"/>
          </a:xfrm>
        </p:grpSpPr>
        <p:sp>
          <p:nvSpPr>
            <p:cNvPr id="525" name="Rectangle 3"/>
            <p:cNvSpPr/>
            <p:nvPr/>
          </p:nvSpPr>
          <p:spPr>
            <a:xfrm>
              <a:off x="3059280" y="2060640"/>
              <a:ext cx="2952360" cy="2565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4"/>
            <p:cNvSpPr/>
            <p:nvPr/>
          </p:nvSpPr>
          <p:spPr>
            <a:xfrm>
              <a:off x="3105720" y="3342960"/>
              <a:ext cx="2813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4535280" y="2060640"/>
              <a:ext cx="23040" cy="2565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6"/>
          <p:cNvSpPr/>
          <p:nvPr/>
        </p:nvSpPr>
        <p:spPr>
          <a:xfrm>
            <a:off x="3406680" y="1916280"/>
            <a:ext cx="21607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尤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01"/>
          <p:cNvPicPr/>
          <p:nvPr/>
        </p:nvPicPr>
        <p:blipFill>
          <a:blip r:embed="rId1"/>
          <a:srcRect l="20335" t="29329" r="14513" b="55028"/>
          <a:stretch/>
        </p:blipFill>
        <p:spPr>
          <a:xfrm>
            <a:off x="395280" y="1989000"/>
            <a:ext cx="842472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3046320" y="2479680"/>
            <a:ext cx="2952360" cy="2565000"/>
            <a:chOff x="3046320" y="2479680"/>
            <a:chExt cx="2952360" cy="2565000"/>
          </a:xfrm>
        </p:grpSpPr>
        <p:sp>
          <p:nvSpPr>
            <p:cNvPr id="531" name="Rectangle 3"/>
            <p:cNvSpPr/>
            <p:nvPr/>
          </p:nvSpPr>
          <p:spPr>
            <a:xfrm>
              <a:off x="3046320" y="2479680"/>
              <a:ext cx="2952360" cy="2565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4"/>
            <p:cNvSpPr/>
            <p:nvPr/>
          </p:nvSpPr>
          <p:spPr>
            <a:xfrm>
              <a:off x="3092760" y="3762000"/>
              <a:ext cx="2813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5"/>
            <p:cNvSpPr/>
            <p:nvPr/>
          </p:nvSpPr>
          <p:spPr>
            <a:xfrm>
              <a:off x="4522320" y="2479680"/>
              <a:ext cx="23040" cy="2565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6"/>
          <p:cNvSpPr/>
          <p:nvPr/>
        </p:nvSpPr>
        <p:spPr>
          <a:xfrm>
            <a:off x="3419640" y="2421000"/>
            <a:ext cx="21603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严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250920" y="1844640"/>
            <a:ext cx="9144000" cy="48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50f05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150f05"/>
                </a:solidFill>
                <a:latin typeface="Arial"/>
              </a:rPr>
              <a:t>hu</a:t>
            </a:r>
            <a:r>
              <a:rPr b="1" lang="en-US" sz="6000" spc="-1" strike="noStrike">
                <a:solidFill>
                  <a:srgbClr val="150f05"/>
                </a:solidFill>
                <a:latin typeface="宋体"/>
              </a:rPr>
              <a:t>à</a:t>
            </a:r>
            <a:r>
              <a:rPr b="1" lang="en-US" sz="5400" spc="-1" strike="noStrike">
                <a:solidFill>
                  <a:srgbClr val="150f05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150f05"/>
                </a:solidFill>
                <a:latin typeface="Arial"/>
              </a:rPr>
              <a:t>（ 华山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50f05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150f05"/>
                </a:solidFill>
                <a:latin typeface="Arial"/>
              </a:rPr>
              <a:t>hu</a:t>
            </a:r>
            <a:r>
              <a:rPr b="1" lang="en-US" sz="6000" spc="-1" strike="noStrike">
                <a:solidFill>
                  <a:srgbClr val="150f05"/>
                </a:solidFill>
                <a:latin typeface="宋体"/>
              </a:rPr>
              <a:t>á</a:t>
            </a:r>
            <a:r>
              <a:rPr b="1" lang="en-US" sz="5400" spc="-1" strike="noStrike">
                <a:solidFill>
                  <a:srgbClr val="150f05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150f05"/>
                </a:solidFill>
                <a:latin typeface="Arial"/>
              </a:rPr>
              <a:t>（中华   华夏儿女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50f05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01"/>
          <p:cNvPicPr/>
          <p:nvPr/>
        </p:nvPicPr>
        <p:blipFill>
          <a:blip r:embed="rId1"/>
          <a:srcRect l="20335" t="29329" r="14513" b="55028"/>
          <a:stretch/>
        </p:blipFill>
        <p:spPr>
          <a:xfrm>
            <a:off x="395280" y="1989000"/>
            <a:ext cx="842472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01"/>
          <p:cNvPicPr/>
          <p:nvPr/>
        </p:nvPicPr>
        <p:blipFill>
          <a:blip r:embed="rId1"/>
          <a:srcRect l="20335" t="15323" r="14513" b="54658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花草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539" name="Group 3"/>
          <p:cNvGrpSpPr/>
          <p:nvPr/>
        </p:nvGrpSpPr>
        <p:grpSpPr>
          <a:xfrm>
            <a:off x="2108160" y="638280"/>
            <a:ext cx="5558400" cy="5095080"/>
            <a:chOff x="2108160" y="638280"/>
            <a:chExt cx="5558400" cy="5095080"/>
          </a:xfrm>
        </p:grpSpPr>
        <p:sp>
          <p:nvSpPr>
            <p:cNvPr id="540" name="Rectangle 4"/>
            <p:cNvSpPr/>
            <p:nvPr/>
          </p:nvSpPr>
          <p:spPr>
            <a:xfrm>
              <a:off x="2108160" y="638280"/>
              <a:ext cx="5558400" cy="50950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5"/>
            <p:cNvSpPr/>
            <p:nvPr/>
          </p:nvSpPr>
          <p:spPr>
            <a:xfrm>
              <a:off x="2195640" y="3185640"/>
              <a:ext cx="52970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"/>
            <p:cNvSpPr/>
            <p:nvPr/>
          </p:nvSpPr>
          <p:spPr>
            <a:xfrm>
              <a:off x="4887360" y="638280"/>
              <a:ext cx="43560" cy="5095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 Box 7">
            <a:hlinkClick r:id="rId2" action="ppaction://hlinksldjump"/>
          </p:cNvPr>
          <p:cNvSpPr/>
          <p:nvPr/>
        </p:nvSpPr>
        <p:spPr>
          <a:xfrm>
            <a:off x="2700360" y="590400"/>
            <a:ext cx="60483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何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01"/>
          <p:cNvPicPr/>
          <p:nvPr/>
        </p:nvPicPr>
        <p:blipFill>
          <a:blip r:embed="rId1"/>
          <a:srcRect l="27334" t="46421" r="19179" b="9959"/>
          <a:stretch/>
        </p:blipFill>
        <p:spPr>
          <a:xfrm>
            <a:off x="900000" y="0"/>
            <a:ext cx="6269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5076720" y="1989000"/>
            <a:ext cx="2952360" cy="2565000"/>
            <a:chOff x="5076720" y="1989000"/>
            <a:chExt cx="2952360" cy="2565000"/>
          </a:xfrm>
        </p:grpSpPr>
        <p:sp>
          <p:nvSpPr>
            <p:cNvPr id="506" name="Rectangle 3"/>
            <p:cNvSpPr/>
            <p:nvPr/>
          </p:nvSpPr>
          <p:spPr>
            <a:xfrm>
              <a:off x="5076720" y="1989000"/>
              <a:ext cx="2952360" cy="2565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"/>
            <p:cNvSpPr/>
            <p:nvPr/>
          </p:nvSpPr>
          <p:spPr>
            <a:xfrm>
              <a:off x="5123160" y="3271320"/>
              <a:ext cx="2813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6552720" y="1989000"/>
              <a:ext cx="23040" cy="2565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6"/>
          <p:cNvSpPr/>
          <p:nvPr/>
        </p:nvSpPr>
        <p:spPr>
          <a:xfrm>
            <a:off x="5508720" y="1773360"/>
            <a:ext cx="21603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氏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7"/>
          <p:cNvGrpSpPr/>
          <p:nvPr/>
        </p:nvGrpSpPr>
        <p:grpSpPr>
          <a:xfrm>
            <a:off x="1116000" y="2060640"/>
            <a:ext cx="2952360" cy="2565000"/>
            <a:chOff x="1116000" y="2060640"/>
            <a:chExt cx="2952360" cy="2565000"/>
          </a:xfrm>
        </p:grpSpPr>
        <p:sp>
          <p:nvSpPr>
            <p:cNvPr id="511" name="Rectangle 8"/>
            <p:cNvSpPr/>
            <p:nvPr/>
          </p:nvSpPr>
          <p:spPr>
            <a:xfrm>
              <a:off x="1116000" y="2060640"/>
              <a:ext cx="2952360" cy="2565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9"/>
            <p:cNvSpPr/>
            <p:nvPr/>
          </p:nvSpPr>
          <p:spPr>
            <a:xfrm>
              <a:off x="1162440" y="3342960"/>
              <a:ext cx="2813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0"/>
            <p:cNvSpPr/>
            <p:nvPr/>
          </p:nvSpPr>
          <p:spPr>
            <a:xfrm>
              <a:off x="2592000" y="2060640"/>
              <a:ext cx="23040" cy="2565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Text Box 11"/>
          <p:cNvSpPr/>
          <p:nvPr/>
        </p:nvSpPr>
        <p:spPr>
          <a:xfrm>
            <a:off x="1403280" y="1773360"/>
            <a:ext cx="21607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纸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花草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3"/>
          <p:cNvGrpSpPr/>
          <p:nvPr/>
        </p:nvGrpSpPr>
        <p:grpSpPr>
          <a:xfrm>
            <a:off x="2108160" y="638280"/>
            <a:ext cx="5558400" cy="5095080"/>
            <a:chOff x="2108160" y="638280"/>
            <a:chExt cx="5558400" cy="5095080"/>
          </a:xfrm>
        </p:grpSpPr>
        <p:sp>
          <p:nvSpPr>
            <p:cNvPr id="547" name="Rectangle 4"/>
            <p:cNvSpPr/>
            <p:nvPr/>
          </p:nvSpPr>
          <p:spPr>
            <a:xfrm>
              <a:off x="2108160" y="638280"/>
              <a:ext cx="5558400" cy="50950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5"/>
            <p:cNvSpPr/>
            <p:nvPr/>
          </p:nvSpPr>
          <p:spPr>
            <a:xfrm>
              <a:off x="2195640" y="3185640"/>
              <a:ext cx="52970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>
              <a:off x="4887360" y="638280"/>
              <a:ext cx="43560" cy="5095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Text Box 7">
            <a:hlinkClick r:id="rId2" action="ppaction://hlinksldjump"/>
          </p:cNvPr>
          <p:cNvSpPr/>
          <p:nvPr/>
        </p:nvSpPr>
        <p:spPr>
          <a:xfrm>
            <a:off x="2700360" y="549360"/>
            <a:ext cx="60483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慕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花草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3"/>
          <p:cNvGrpSpPr/>
          <p:nvPr/>
        </p:nvGrpSpPr>
        <p:grpSpPr>
          <a:xfrm>
            <a:off x="2108160" y="638280"/>
            <a:ext cx="5558400" cy="5095080"/>
            <a:chOff x="2108160" y="638280"/>
            <a:chExt cx="5558400" cy="5095080"/>
          </a:xfrm>
        </p:grpSpPr>
        <p:sp>
          <p:nvSpPr>
            <p:cNvPr id="553" name="Rectangle 4"/>
            <p:cNvSpPr/>
            <p:nvPr/>
          </p:nvSpPr>
          <p:spPr>
            <a:xfrm>
              <a:off x="2108160" y="638280"/>
              <a:ext cx="5558400" cy="50950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5"/>
            <p:cNvSpPr/>
            <p:nvPr/>
          </p:nvSpPr>
          <p:spPr>
            <a:xfrm>
              <a:off x="2195640" y="3185640"/>
              <a:ext cx="52970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6"/>
            <p:cNvSpPr/>
            <p:nvPr/>
          </p:nvSpPr>
          <p:spPr>
            <a:xfrm>
              <a:off x="4887360" y="638280"/>
              <a:ext cx="43560" cy="5095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7">
            <a:hlinkClick r:id="rId2" action="ppaction://hlinksldjump"/>
          </p:cNvPr>
          <p:cNvSpPr/>
          <p:nvPr/>
        </p:nvSpPr>
        <p:spPr>
          <a:xfrm>
            <a:off x="2700360" y="549360"/>
            <a:ext cx="60483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管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花草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3"/>
          <p:cNvGrpSpPr/>
          <p:nvPr/>
        </p:nvGrpSpPr>
        <p:grpSpPr>
          <a:xfrm>
            <a:off x="2108160" y="638280"/>
            <a:ext cx="5558400" cy="5095080"/>
            <a:chOff x="2108160" y="638280"/>
            <a:chExt cx="5558400" cy="5095080"/>
          </a:xfrm>
        </p:grpSpPr>
        <p:sp>
          <p:nvSpPr>
            <p:cNvPr id="559" name="Rectangle 4"/>
            <p:cNvSpPr/>
            <p:nvPr/>
          </p:nvSpPr>
          <p:spPr>
            <a:xfrm>
              <a:off x="2108160" y="638280"/>
              <a:ext cx="5558400" cy="50950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5"/>
            <p:cNvSpPr/>
            <p:nvPr/>
          </p:nvSpPr>
          <p:spPr>
            <a:xfrm>
              <a:off x="2195640" y="3185640"/>
              <a:ext cx="52970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6"/>
            <p:cNvSpPr/>
            <p:nvPr/>
          </p:nvSpPr>
          <p:spPr>
            <a:xfrm>
              <a:off x="4887360" y="638280"/>
              <a:ext cx="43560" cy="5095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7">
            <a:hlinkClick r:id="rId2" action="ppaction://hlinksldjump"/>
          </p:cNvPr>
          <p:cNvSpPr/>
          <p:nvPr/>
        </p:nvSpPr>
        <p:spPr>
          <a:xfrm>
            <a:off x="2700360" y="549360"/>
            <a:ext cx="60483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复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花草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3"/>
          <p:cNvGrpSpPr/>
          <p:nvPr/>
        </p:nvGrpSpPr>
        <p:grpSpPr>
          <a:xfrm>
            <a:off x="2108160" y="638280"/>
            <a:ext cx="5558400" cy="5095080"/>
            <a:chOff x="2108160" y="638280"/>
            <a:chExt cx="5558400" cy="5095080"/>
          </a:xfrm>
        </p:grpSpPr>
        <p:sp>
          <p:nvSpPr>
            <p:cNvPr id="565" name="Rectangle 4"/>
            <p:cNvSpPr/>
            <p:nvPr/>
          </p:nvSpPr>
          <p:spPr>
            <a:xfrm>
              <a:off x="2108160" y="638280"/>
              <a:ext cx="5558400" cy="50950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5"/>
            <p:cNvSpPr/>
            <p:nvPr/>
          </p:nvSpPr>
          <p:spPr>
            <a:xfrm>
              <a:off x="2195640" y="3185640"/>
              <a:ext cx="52970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6"/>
            <p:cNvSpPr/>
            <p:nvPr/>
          </p:nvSpPr>
          <p:spPr>
            <a:xfrm>
              <a:off x="4887360" y="638280"/>
              <a:ext cx="43560" cy="5095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ext Box 7">
            <a:hlinkClick r:id="rId2" action="ppaction://hlinksldjump"/>
          </p:cNvPr>
          <p:cNvSpPr/>
          <p:nvPr/>
        </p:nvSpPr>
        <p:spPr>
          <a:xfrm>
            <a:off x="2987640" y="549360"/>
            <a:ext cx="60483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遍 </a:t>
            </a:r>
            <a:endParaRPr b="0" lang="en-US" sz="3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899640" y="1196640"/>
            <a:ext cx="741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问题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由畅说：“华夏儿女”指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说“不管你我姓什么，华夏儿女是一家”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741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我们这个班里，有姓张的，姓李的，姓刘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管我们姓什么，我们都亲如兄弟姐妹，快乐得像一家人。而我们的祖国就是一个大家庭，不管我们姓什么，都是龙的传人，都是祖国妈妈的儿女，我们都是亲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WordArt 3"/>
          <p:cNvSpPr txBox="1"/>
          <p:nvPr/>
        </p:nvSpPr>
        <p:spPr>
          <a:xfrm>
            <a:off x="3657600" y="1197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总结升华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shucaod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WordArt 3"/>
          <p:cNvSpPr txBox="1"/>
          <p:nvPr/>
        </p:nvSpPr>
        <p:spPr>
          <a:xfrm>
            <a:off x="2195640" y="2565360"/>
            <a:ext cx="5329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舒体"/>
              </a:rPr>
              <a:t>明天继续！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01"/>
          <p:cNvPicPr/>
          <p:nvPr/>
        </p:nvPicPr>
        <p:blipFill>
          <a:blip r:embed="rId1"/>
          <a:srcRect l="20335" t="15323" r="14513" b="54658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01"/>
          <p:cNvPicPr/>
          <p:nvPr/>
        </p:nvPicPr>
        <p:blipFill>
          <a:blip r:embed="rId1"/>
          <a:srcRect l="22903" t="15323" r="17069" b="69928"/>
          <a:stretch/>
        </p:blipFill>
        <p:spPr>
          <a:xfrm>
            <a:off x="395280" y="1800360"/>
            <a:ext cx="842472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3276720" y="2276640"/>
            <a:ext cx="21603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赵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3276720" y="2276640"/>
            <a:ext cx="21603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吴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3276720" y="2276640"/>
            <a:ext cx="21603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陈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3276720" y="2276640"/>
            <a:ext cx="21603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沈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1835280" y="2060640"/>
            <a:ext cx="59054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郑  冯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8-20T18:12:3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