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D4C-E1F1-4353-82C7-0C752276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50A-93C6-4292-A0E4-4F99B553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85D67-7827-4FB7-B309-2425199B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1E7E7-F613-42F4-A3B2-D2C3F8BE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1D626-B266-4850-BC47-1F3F2A7A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1046B-599A-4626-A21E-5CA4FF7B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63706-5BBC-49F6-9B81-A1EB4478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B844A-9EDA-4015-8172-3AB9693C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8B628-9D73-46D5-9453-D77A8B4D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91D47-2739-4E17-AAA4-83A3557F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14D1D-D9F0-448E-AF49-480ADCAF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1D62D-51C0-4DA7-8789-4535F746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E3D-2A1B-4F65-B519-EDB75DAD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0901A-8B94-4736-BC63-0E36B764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BB9CF-616D-4FA9-AD7D-9C0B13A8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97F1E-9085-4944-8A5C-5141A9A8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20F83-D546-4D57-9FE0-A10A8963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1020A-62D7-46D9-BED7-053087B5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5549A-F9EE-4787-BB93-5F15AF0B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A3D6E-542C-4F2B-B529-A7CA999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DD547-C943-4E06-B37A-61BE0287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246D0-5874-4273-9F48-23798C42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4E7EA-BE33-49DF-9E1E-400928F7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A94-27C1-4043-BDA2-AD890025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01175-2120-4B47-A7EA-D1DDDBFB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437CC-8F6B-4E7E-B93A-5EBBD1A2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D45CB-7B7E-4B07-9270-DB2B4FE6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0AEAA-D9BC-4B26-B3BE-54CDDDD1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44BAB-2C2C-4DB9-84EF-4B883146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4C681-B5F8-4F75-9C18-8E6FDD30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FF10A-31CD-48F2-BF95-A29435DB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8D2FF-51AA-4FB3-B989-34E1F053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3603F-2349-47CA-9CC8-8BDB12A1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AEFC9-DDE3-44C3-8D9D-46DF65B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96C9-FD56-44A3-B61B-EF42AA02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B46CA-E564-4282-9BC1-71DBB5DD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3768E-C1AA-4F02-A9B3-3B82B9FD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FEF80-0026-4003-A742-8044F047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313559-071B-422F-B41D-4702890E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BC700-5E81-4123-9E4A-A86004C0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70D28-AD30-476F-B2A7-C77F043B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278C5-7DCD-4DC1-BF45-CE47071D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C764B-FAD6-42F9-B614-61C06DA3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0D70D-E867-4D37-8E7C-FAC9EF94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0D083-9B4B-4C15-82E7-41079A7A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8133-9D71-4CB6-80F9-202F375A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8E789-67CD-4ED1-99E7-97B175EE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A019E-A3B7-4167-A682-26D5A173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45C44-EC47-42E6-8632-E101C6A5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B26DC-5D9F-4D78-9F42-FDE794F9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1C4A9-923F-4E6A-9E8B-30D2EA06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4302-DD46-46A6-AF79-29D0263D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D836-5E54-4F59-A609-30337AD1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BF47-3852-4359-BFEA-621CB12A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DC8C-F50E-46C8-9094-EFD04C3E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496C-3F8C-40F3-BD51-D3D9B205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F3F-62EE-4A01-838C-AFD6A16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F91F-8BFA-4D0D-B663-CF1732A0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5B92-3131-4C77-9477-A2F6FAB3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AD65-7673-4363-A29E-40C8B2DE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7AAF-637E-40B8-92E7-0505F84E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2F2A-6568-416E-B927-64D2C3B7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E1E3-ECD5-413B-A8C1-CDB88A9E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18CE-4EC5-46BA-A262-D05F5A58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9B60-B4F0-4131-A208-0EAB5D06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FD600-D96F-43A4-B076-77257635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F9B9-BB0B-4F26-9970-60645C76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424-8290-44D6-B284-F87EB953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FFCA-2B55-46D5-A6FC-906F0B4B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4D9B-5656-4FFB-AD23-DF29563F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C9B4-A0F5-4DD4-A6C3-14F66676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60530-C740-426D-B26F-D514B8A0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F848-BD5A-4232-880B-C2EACACC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0EEFB-0A8F-4B73-A3F2-62CBE25E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009A5-DB70-4AF0-BACB-9288379D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F3BC-6D05-4D0F-B9FE-4C506C26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EB4EF-A2E8-422C-872A-C5C2B54D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331DB-7B2D-4B01-AC27-50B2A673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D66-052D-43C7-8677-A9918E63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8150-4335-478D-8F44-F7F57731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1CF9-8C3B-4060-BA34-1CEB1E6F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4C4F-80E9-4FE9-BF62-C8DB41C2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5F328-9606-4665-ABC4-E565A624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12D5-0A96-44A1-8650-91BE443C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B38CF-B538-412E-93AD-EC437DA8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63B5F-5BE8-40A1-AE96-DA1B7497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CEB35-C6EB-46ED-83C2-C366CE00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BA5DA-4165-4DFB-8E52-9EA59F71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AF46B-2666-43E2-8F34-8FD49726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671-7F0A-4BB5-AB0B-DD8BE3B7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DA93D-53F1-4A0D-96C9-FC0C27A8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1892B-DB1C-4A15-8ED9-B5653076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70C3D-85BE-4A3F-8224-6ECB949C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A7351-ADC7-490D-8EE7-2E5B15FC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D816A-F013-4209-A6E1-596917E1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3545-AC10-4163-8F93-C14C81B7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F199-CA0E-4B70-948D-5DCCD8B0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4F865-1DB3-4088-8F56-08EDE419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57EFB-B3EB-4911-AE0C-E89AA623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A302E-D708-453E-B290-3B0B375E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86B-3D71-4BFA-A69C-E06B9E59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DB2FE-064B-438B-8DD1-E774B129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973D0-EF0C-4B52-9A6D-1A000C34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A42EA-B7EE-4581-B695-6A923D16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23E6A-3860-4D44-95C1-20F7F064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334C5-E00E-46EA-AD61-A639AD95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B448E-430D-4F46-9A84-4E335C22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CF962-355E-4712-9664-E7565BB7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EC391-80F1-494B-9933-A9AF57EC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B403E-2E4F-4C1C-AF98-AAEEBBC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61B85-DE8A-48A0-A21B-6F6FEB67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748-8C59-4192-AB8B-2BE4685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2E6FD-5B16-45BE-AA2D-BABBFEE6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F3573-1D00-4BDB-921E-011C59F8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0AE86-AECD-41D4-8F2E-69FA01D1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578D9-DA07-4E63-A558-7687D419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4745C-87F2-4FAC-88F6-A1F2A224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C7A60-9972-4CCF-BFF8-277B4141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99856-55B9-43E6-875A-2222B769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2098C-8E74-46F6-A2E0-A89D70F4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05336-A49F-47C3-922D-FC6512F3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6E863-7C81-4F51-9A15-BF8E2845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437-92D4-4E78-824E-BD4F7AF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7907A-7F81-4253-8D7B-AF60340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36544-3ED5-42B1-9FDF-3871F56B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E3B60-D39F-4C12-8327-081B1B70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5F020-06BD-4BCA-B6BD-16E4BAD6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BF7D2-E6F8-43EC-A8AF-BEE53878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A9F5E-222E-43FC-9EED-36442AF5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42AF-7422-4167-B252-FD1C1419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A5A00-E1D9-499C-B970-1BD829B5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14BA4-61D2-4D17-BBD9-C2A44877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0685E-66DB-42D5-B88E-EEFA4D06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1E0-5BE5-4928-B467-4157CE8F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A1E95-43F8-495E-AE0C-D1AB2984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ECB16-ACD7-40E1-ABA7-031EDD3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E0E23-5F08-4B88-BD5B-6BB6AD61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CB554-F0CA-422A-8CB4-3C5D40E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9F523-BA22-4B39-A106-73131456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2F13E-B603-4727-972A-D44D0C6F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60B2C-B55A-4ED0-B2DD-DB9CBC53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F57E8-2120-46CD-9B93-1974BAA0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0B41F-3DC9-4D74-9897-BCA6E29E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B45D7-8A30-45C8-BFEB-E610CB81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532F-7B8F-497A-A31B-7D886BE26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B208-CF86-4908-8204-C0B15C4E1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F79-6919-4490-99BA-FA6A0B7A8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8148-82B0-41A6-BCAB-3AC68245E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8DD5-9A6C-4899-B4D5-711C92B27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61BD-2F79-4D86-B233-3B574D403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C50A-18A9-4C37-8681-27A417737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BF19-E3B3-4EB3-B311-4B3AC9CEC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CD60-A484-493B-84E1-D09FAB66D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CE7E-8725-4A80-A5CA-8BEA3B34E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1975-6BA1-433E-A860-648AD0E25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7D82-18A4-4380-86ED-7E956FC7F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3lian.com/e/ViewImg/index.html?url=http://img1.3lian.com/img2011/12/82/d/02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3lian.com/e/ViewImg/index.html?url=http://img1.3lian.com/img2011/12/82/d/12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3"/>
          <p:cNvSpPr/>
          <p:nvPr/>
        </p:nvSpPr>
        <p:spPr>
          <a:xfrm>
            <a:off x="1403280" y="170028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学会了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音序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查字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想知道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ǎnɡ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望”的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ǎnɡ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字怎么写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95280" y="2708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1763640" y="278136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2484360" y="2708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哇，我找到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4213080" y="285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4932360" y="2781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页有好几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ǎnɡ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，选哪个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79280" y="260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音序查字法查字典的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324000" y="9079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翻到汉语拼音音节索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新华字典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版在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页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324000" y="1700280"/>
            <a:ext cx="68403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找出音节的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声母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想到对应的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大写字母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新华字典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在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页）；从上往下找到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yɑng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（ 央）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55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就是说要翻到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正文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555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50920" y="3141720"/>
            <a:ext cx="698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到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正文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555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页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找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ǎn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共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ǎn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音节的字，再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字里选出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611280" y="333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认为要选“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字，因为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仰望和人有关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324000" y="1628640"/>
            <a:ext cx="57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539640" y="2565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àn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3419640" y="256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6227640" y="2637000"/>
            <a:ext cx="19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6012000" y="2565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ī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）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1654200" y="25830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1321560" y="40464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音序查字法查字典的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1502280" y="1125360"/>
            <a:ext cx="54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到汉语拼音音节索引（新华字典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在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页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324000" y="1844640"/>
            <a:ext cx="74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找出音节的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声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想到对应的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大写字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新华字典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在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页）；从上往下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（ 坡）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37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就是说要翻到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正文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378</a:t>
            </a:r>
            <a:r>
              <a:rPr b="0" lang="zh-CN" sz="2400" spc="-1" strike="noStrike">
                <a:solidFill>
                  <a:srgbClr val="cc0066"/>
                </a:solidFill>
                <a:latin typeface="Arial"/>
              </a:rPr>
              <a:t>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395280" y="3213000"/>
            <a:ext cx="77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翻到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正文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378</a:t>
            </a:r>
            <a:r>
              <a:rPr b="0" lang="zh-CN" sz="2800" spc="-1" strike="noStrike">
                <a:solidFill>
                  <a:srgbClr val="cc0066"/>
                </a:solidFill>
                <a:latin typeface="Arial"/>
              </a:rPr>
              <a:t>页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共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音节的字，再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字里选出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611280" y="19890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àn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5729400" y="2155680"/>
            <a:ext cx="227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泼 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3149280" y="3429000"/>
            <a:ext cx="26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ī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侵  ）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2556000" y="692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你对一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755640" y="765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大家一起来，夸夸你自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916280"/>
            <a:ext cx="2664000" cy="21207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989000"/>
            <a:ext cx="2664000" cy="20894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7"/>
          <p:cNvSpPr/>
          <p:nvPr/>
        </p:nvSpPr>
        <p:spPr>
          <a:xfrm>
            <a:off x="4284720" y="486900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3995640" y="479736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今天，我学会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用音序查字法查字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真是太开心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684360" y="76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业超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900000" y="177336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684360" y="2924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ǎn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）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419640" y="29973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à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6012000" y="2852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WordArt 2"/>
          <p:cNvSpPr txBox="1"/>
          <p:nvPr/>
        </p:nvSpPr>
        <p:spPr>
          <a:xfrm>
            <a:off x="1042920" y="907920"/>
            <a:ext cx="7129440" cy="303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！小朋友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8-20T18:16:2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