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097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29.png" ContentType="image/png"/>
  <Override PartName="/ppt/media/image6.png" ContentType="image/png"/>
  <Override PartName="/ppt/media/image8.gif" ContentType="image/gif"/>
  <Override PartName="/ppt/media/image9.jpeg" ContentType="image/jpeg"/>
  <Override PartName="/ppt/media/image23.png" ContentType="image/png"/>
  <Override PartName="/ppt/media/image20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gif" ContentType="image/gif"/>
  <Override PartName="/ppt/media/image11.jpeg" ContentType="image/jpeg"/>
  <Override PartName="/ppt/media/image24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4.gif" ContentType="image/gif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</p:sldMasterIdLst>
  <p:sldIdLst>
    <p:sldId id="256" r:id="rId94"/>
    <p:sldId id="257" r:id="rId95"/>
    <p:sldId id="258" r:id="rId96"/>
    <p:sldId id="259" r:id="rId97"/>
    <p:sldId id="260" r:id="rId98"/>
    <p:sldId id="261" r:id="rId99"/>
    <p:sldId id="262" r:id="rId100"/>
    <p:sldId id="263" r:id="rId101"/>
    <p:sldId id="264" r:id="rId102"/>
    <p:sldId id="265" r:id="rId103"/>
    <p:sldId id="266" r:id="rId104"/>
    <p:sldId id="267" r:id="rId105"/>
    <p:sldId id="268" r:id="rId106"/>
    <p:sldId id="269" r:id="rId107"/>
    <p:sldId id="270" r:id="rId108"/>
    <p:sldId id="271" r:id="rId109"/>
    <p:sldId id="272" r:id="rId110"/>
    <p:sldId id="273" r:id="rId111"/>
    <p:sldId id="274" r:id="rId112"/>
    <p:sldId id="275" r:id="rId113"/>
    <p:sldId id="276" r:id="rId114"/>
    <p:sldId id="277" r:id="rId115"/>
    <p:sldId id="278" r:id="rId116"/>
    <p:sldId id="279" r:id="rId117"/>
    <p:sldId id="280" r:id="rId118"/>
    <p:sldId id="281" r:id="rId119"/>
    <p:sldId id="282" r:id="rId120"/>
    <p:sldId id="283" r:id="rId121"/>
    <p:sldId id="284" r:id="rId122"/>
    <p:sldId id="285" r:id="rId123"/>
    <p:sldId id="286" r:id="rId124"/>
    <p:sldId id="287" r:id="rId125"/>
    <p:sldId id="288" r:id="rId126"/>
    <p:sldId id="289" r:id="rId127"/>
    <p:sldId id="290" r:id="rId128"/>
    <p:sldId id="291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" Target="slides/slide1.xml"/><Relationship Id="rId95" Type="http://schemas.openxmlformats.org/officeDocument/2006/relationships/slide" Target="slides/slide2.xml"/><Relationship Id="rId96" Type="http://schemas.openxmlformats.org/officeDocument/2006/relationships/slide" Target="slides/slide3.xml"/><Relationship Id="rId97" Type="http://schemas.openxmlformats.org/officeDocument/2006/relationships/slide" Target="slides/slide4.xml"/><Relationship Id="rId98" Type="http://schemas.openxmlformats.org/officeDocument/2006/relationships/slide" Target="slides/slide5.xml"/><Relationship Id="rId99" Type="http://schemas.openxmlformats.org/officeDocument/2006/relationships/slide" Target="slides/slide6.xml"/><Relationship Id="rId100" Type="http://schemas.openxmlformats.org/officeDocument/2006/relationships/slide" Target="slides/slide7.xml"/><Relationship Id="rId101" Type="http://schemas.openxmlformats.org/officeDocument/2006/relationships/slide" Target="slides/slide8.xml"/><Relationship Id="rId102" Type="http://schemas.openxmlformats.org/officeDocument/2006/relationships/slide" Target="slides/slide9.xml"/><Relationship Id="rId103" Type="http://schemas.openxmlformats.org/officeDocument/2006/relationships/slide" Target="slides/slide10.xml"/><Relationship Id="rId104" Type="http://schemas.openxmlformats.org/officeDocument/2006/relationships/slide" Target="slides/slide11.xml"/><Relationship Id="rId105" Type="http://schemas.openxmlformats.org/officeDocument/2006/relationships/slide" Target="slides/slide12.xml"/><Relationship Id="rId106" Type="http://schemas.openxmlformats.org/officeDocument/2006/relationships/slide" Target="slides/slide13.xml"/><Relationship Id="rId107" Type="http://schemas.openxmlformats.org/officeDocument/2006/relationships/slide" Target="slides/slide14.xml"/><Relationship Id="rId108" Type="http://schemas.openxmlformats.org/officeDocument/2006/relationships/slide" Target="slides/slide15.xml"/><Relationship Id="rId109" Type="http://schemas.openxmlformats.org/officeDocument/2006/relationships/slide" Target="slides/slide16.xml"/><Relationship Id="rId110" Type="http://schemas.openxmlformats.org/officeDocument/2006/relationships/slide" Target="slides/slide17.xml"/><Relationship Id="rId111" Type="http://schemas.openxmlformats.org/officeDocument/2006/relationships/slide" Target="slides/slide18.xml"/><Relationship Id="rId112" Type="http://schemas.openxmlformats.org/officeDocument/2006/relationships/slide" Target="slides/slide19.xml"/><Relationship Id="rId113" Type="http://schemas.openxmlformats.org/officeDocument/2006/relationships/slide" Target="slides/slide20.xml"/><Relationship Id="rId114" Type="http://schemas.openxmlformats.org/officeDocument/2006/relationships/slide" Target="slides/slide21.xml"/><Relationship Id="rId115" Type="http://schemas.openxmlformats.org/officeDocument/2006/relationships/slide" Target="slides/slide22.xml"/><Relationship Id="rId116" Type="http://schemas.openxmlformats.org/officeDocument/2006/relationships/slide" Target="slides/slide23.xml"/><Relationship Id="rId117" Type="http://schemas.openxmlformats.org/officeDocument/2006/relationships/slide" Target="slides/slide24.xml"/><Relationship Id="rId118" Type="http://schemas.openxmlformats.org/officeDocument/2006/relationships/slide" Target="slides/slide25.xml"/><Relationship Id="rId119" Type="http://schemas.openxmlformats.org/officeDocument/2006/relationships/slide" Target="slides/slide26.xml"/><Relationship Id="rId120" Type="http://schemas.openxmlformats.org/officeDocument/2006/relationships/slide" Target="slides/slide27.xml"/><Relationship Id="rId121" Type="http://schemas.openxmlformats.org/officeDocument/2006/relationships/slide" Target="slides/slide28.xml"/><Relationship Id="rId122" Type="http://schemas.openxmlformats.org/officeDocument/2006/relationships/slide" Target="slides/slide29.xml"/><Relationship Id="rId123" Type="http://schemas.openxmlformats.org/officeDocument/2006/relationships/slide" Target="slides/slide30.xml"/><Relationship Id="rId124" Type="http://schemas.openxmlformats.org/officeDocument/2006/relationships/slide" Target="slides/slide31.xml"/><Relationship Id="rId125" Type="http://schemas.openxmlformats.org/officeDocument/2006/relationships/slide" Target="slides/slide32.xml"/><Relationship Id="rId126" Type="http://schemas.openxmlformats.org/officeDocument/2006/relationships/slide" Target="slides/slide33.xml"/><Relationship Id="rId127" Type="http://schemas.openxmlformats.org/officeDocument/2006/relationships/slide" Target="slides/slide34.xml"/><Relationship Id="rId128" Type="http://schemas.openxmlformats.org/officeDocument/2006/relationships/slide" Target="slides/slide35.xml"/><Relationship Id="rId129" Type="http://schemas.openxmlformats.org/officeDocument/2006/relationships/slide" Target="slides/slide36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E40-7231-4A47-B823-DBCDD4C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E59-4E20-4A4D-B232-1F96347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839A0-A355-4478-BBCF-4375628E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461CD6C-58FB-45C1-8395-086F012D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901F1A1-167A-4010-9C96-CA4D9B0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7D42D99-F15E-482B-BF98-3D13999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E87B1FD-50DF-4F62-B25B-BB7805B3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4E0C857-35C1-4683-AEB2-B6B7548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A9E0FAC-4177-48A8-B11A-00AF50F1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2C8D22-E7A9-48E3-9A8C-6A2D5E7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EFCA92-770A-45F1-A72D-DE79558B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0667770-0D0A-4526-BEAD-1966D82C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3913353-C0B6-4C8D-BEAF-5476D119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B8A56-6304-4402-A57E-289BEECA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F40CE99-18D4-4DFC-81C3-30C4FB8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3051264-4759-4F7C-93F9-4322A291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58DD9D-C0B0-4B1F-A691-F61AAAF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5BC219B-4355-45FC-B09F-B94AB04A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2E0C84-0F27-428F-A44C-90A5063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17B25A3-372F-421B-A347-9AC0B45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5E5B463-760A-471F-9704-71EF30A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39A3873-D3CF-4EAF-B220-C38B8FDA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DA94CFF-5EFD-425B-9C71-73891AC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91F3A4C-D59A-4972-B516-0FBB334D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F8C1-FBA2-4364-BC6D-FBA01CCE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8287D81-D7A5-4CF4-8217-02A7D88F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FD17C09-EC8F-41CC-8E95-23280966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C85EBE2-EB10-402E-9589-E05AD66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14B5FC-DB3E-42B8-AD61-D2BDB04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0FDBA05-1BF8-43A0-B3B1-D1AC0A0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5548B33-E2EF-49FB-B673-2D1D808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F5705BE-C5A9-4510-AB3A-97E5944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5CCD2DD-E8DA-44E9-BC3A-92266FC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039E455-6EA4-4DA8-8BE3-86F9533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84251B9-0801-43A4-A618-9C67083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1AA1C-1938-46E9-B9A9-300A6CF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73C097C-3091-47B3-BF5F-9D8FC9CC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86C3C67-DE96-4091-A594-F494C4F6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75A962B-4D83-439A-8142-ED516553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9A158E-BFC8-4AF1-BE90-FA9BDF20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93B2868-6214-4A5C-AE89-34E291BF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C3A22C-7D38-42FB-B107-0CA4A5B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C1182DD-0238-4819-AE8F-C6CC639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BE16408-E35F-4C9A-9FA8-CF00DE7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B3C8E0A-D8F6-4DF1-BD3D-62E9A09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DC4EDE2-2AF5-4BC2-B4A5-F8490B3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CB29-A8E5-425B-A2C3-72247FF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67DA62B-6C75-43F4-870F-F8AD4CA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9FC11FA-ADC2-46E2-A584-2B16ACA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53D72EB-93B2-43E2-9AF8-F8E4CEDB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F6A509E-4B83-476A-A042-9838125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56DB19D-3BFE-4C9F-AD5B-3D4C75CB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BCE748F-E6CA-4351-8D1E-01D2CF50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112DA5B-E20F-4E66-A0AA-891ADA9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D2E2132-085A-4CB3-9238-CAEC0D5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0DEF040-6552-41F2-9A1D-A5795CB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FDF6D8A-BD0A-409F-ADD7-3A0BA68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2296D-B368-496F-8CEA-29C0150D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80C5B07-52EC-4A5A-8913-519FEE0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F8EE45C-BEA3-454C-902C-041B2B6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31642EC-3784-4234-9D96-2F3686F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6065453-FF77-451D-88B4-03A8023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6382D7E-B4B0-4A02-8E01-B096DC7E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0A44961-D1CB-4D09-9132-4E9D3460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6BC7CEA-383E-444C-B660-91FDE96C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59C22A9-4386-4B18-BB1D-1CEA457F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A87651E-907C-489F-959C-6C713C3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70805BF-4577-4BE8-81EF-8DF17444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9BE75-40E3-4105-A285-B1C2162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DFF59B3-5892-40AF-A57F-7925D63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B98D3A6-0D46-434E-A851-0B272A50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5D0B018-1501-41DC-A807-DB9BACA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1681B8C-4F3A-4612-9566-1EFF78D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C58C3B9-99F6-45F2-BED8-8C4F6DB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0ED2839-90A3-4877-87C4-245E5D1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4656A3F-0B3F-4AA3-AEF4-1CF7E02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5EEBEB8-CCFD-4D8C-8F87-2DF7B5CE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03CDDC2-CF26-43D8-ADEE-83B9DAF9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5788EF0-5B46-48C1-A537-7168E271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66BD2-09B3-4483-B364-F6CC1431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652A4C6-65F6-45EA-9CDC-67DC2FDD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125DFEA-C85B-4459-8D58-A413C58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D922AEE-5E57-4C02-92CE-973EDC8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FC0A5B8-4AAD-48C9-9F67-967BC2D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2B3475D-BEDA-4CC1-89ED-4D8A440A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BB1BE0D-ADDD-4641-9A67-1DF5590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39A989C-F5CC-4647-87F5-05B7E4D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7C5CCC9-848B-4A6E-93CD-ABFA9D1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582C87D-51D9-4597-BDE9-930B2D52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7898247-E793-49F7-95C9-135C45F1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653D2-812C-49E9-AFEA-4457D3B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9E805A-3F6A-49BE-B9DB-1235C709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F5532BA-78B4-425F-A5C1-2F7D9100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53E47E2-BC70-4EF2-96CA-17DC90C2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0E6A0E6-E35D-4EDF-A5C6-7C34DCC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F91B2EC-E727-42DD-9C81-5702AD6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2ADEC5D-4B9D-483D-AC2B-CBAE2AB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E46FE10-2295-4AF1-92B0-8DF9A36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C534308-2DB7-4505-8182-1355B58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5935583-487E-4FD3-AAD3-89B910F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1DFC3FF-C2A3-43B9-8EDF-9D6C63F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C577-F22E-49D4-9AE0-041164DE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198DAF8-4255-490A-8AAF-96EB2D2E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010553A-0EA5-479F-A42D-95F6226A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DD59BD6-7057-4768-9B45-4DF92A91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7A99CD8-0C57-48EA-A710-21166429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0564F61-D571-4614-B201-41EF6188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521B328-1751-4EB3-BDE7-51F768D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B046AD9-EC2A-4AE1-AF3B-17DD89DB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BEA0701-F6F7-4D1E-84D3-410BAD8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3EAD551-C69B-460D-BFE1-F7703D31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3F89618-073D-40D1-ABA7-B1DA9EF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AFC-7DE7-47E6-B929-D07ADA66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2ABF1-3F04-4673-8AC1-BB93B73E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FB40EA1-A04B-4E81-BE65-B314020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B03A528-CE89-42C5-B956-4ECB736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EA4AAAC-8F39-408C-917D-57C6F3E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497EACA-037C-403B-9A12-1C341730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386DB07-FE01-4A31-AB85-DB2487F2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CD513-6FBC-46D3-89EC-D3362DFF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FCFC8-C8A3-427D-8EEA-DCCEDA9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9681A-8FA1-4BCC-9A13-60C9A33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1B0B-4827-41AD-8FE8-D325B499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1B438-0FCF-4AA1-A026-906AB86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ADFE4-5FF3-471B-B0C2-DD8B98B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A3A01-5FBF-40AF-BA16-034F42E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C7BCF-76B4-4B68-9D2B-40641EA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7989-D48A-4BE9-B104-7EEE1A2D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0A6-2A32-4D87-AABB-BF6AEBB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70110-81E2-490B-829A-364F2E5A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736D4-3DC2-460B-8055-63B319A5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C86DF-54F1-4BA7-A108-EE62FFC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B7EE-DDEB-4147-A4A8-4DD5208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0FF9C-0A39-463F-9D25-BDA0CEEA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8C962-8EB0-499F-A5AD-4BE83EF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EDE7-1582-4410-83F6-FDA5684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87B39-3D5B-4F66-85B2-9F73296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FE76-274D-428D-87B4-60EB370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B16BB-A1ED-42E1-A0D9-074ADF4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5865-3164-4FF1-B196-DFD0BBE0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50306-F302-4329-8E2C-E979013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D365-EBAA-440F-96E4-379ACAB3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6FE5-699C-4741-9DA3-27D0997C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585C6-0059-4ACC-92B2-83EC2A50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39868-8B3F-4755-94EE-AA1E5CF1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E7C6E-63B1-4FF5-BAAD-F02FD2F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57D09-457B-4483-90D7-EC26E01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82E61-3481-4E91-BC67-7AD11ED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AF3F9-A7AA-44FA-B42F-CABA6C0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342EA-A0CC-428D-8630-C6DDFD3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360B-7956-4E4B-BA62-79F129B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929FB-BC55-4000-BA25-2031190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0F225-7D45-4948-AAFA-0265485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307B1-AAA8-4D10-A4AF-9E6BBDE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9729D-823D-4036-B4EC-108C28BE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F0226-5DEA-42EE-8B0A-85179FB3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5B765-918E-426A-89FE-BBB2DC2B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2C06F-BD88-493F-AF81-F54E118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1F785-8369-400B-A2E0-7DA9BA7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433D6-67F7-46DD-869A-7BFD2E3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D3D0E-CCB2-40C8-99EA-D1BF59B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C1D-65A8-41C1-9ECC-09F14CB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9AF4C-D7E7-48DC-AD60-44000204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AFFE3-2328-4955-892E-695DC57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D7893-6B72-41A3-B2C8-38E9C98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06D78-0717-4560-A48B-2E5FCAA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C92FE-D958-42D1-AD90-2C574D3B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99A2A-A923-4EDB-A994-D174EB9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A1797-1A82-46A7-B886-8B22DC70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BD496-F87A-4823-91E0-1F7B19D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194EE-90A7-4A87-A58D-332E599F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9FAC6-E226-4683-BBFF-0951E9F1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31E-3140-481C-AD63-7555711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297D6-E859-408E-BA1E-2924BC5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1D54D-D1AF-482B-B6CE-5B4ECE5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539AF-0BAD-4366-94EA-A317F8A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F1073-4DDD-4B41-90FA-A4336FA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FBB52-897F-4EDF-9361-77AA185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5190C-4CCC-4ECE-AF33-1E45E70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DE488-D2E1-4BD0-BD2A-946C73B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E267D-2C1F-4211-B5BD-5165D4A8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66C90-7B5B-402E-8779-8A16D68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B86DC-0B1F-42DE-BB89-E3DDFB76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6550-0E0A-460A-A776-930A0088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D146C-AAEB-4C66-9A48-62BCC464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5FF84-7860-4BD4-A488-9D426C2D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4522A-0ED9-4D11-B2BA-103B39B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448C8-1E31-41DC-88AB-CED306A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73D60-5E76-4879-90FA-F6737A7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F6735-C94B-4663-893C-9A2472F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C5F79-2885-4413-BA0A-90822EA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2A619-82DA-45D1-8CF4-489A31C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FEF80-6834-41FA-AFC5-7B717313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5AA47-8FCC-4A4B-82C4-4BBA903F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28E-7E3C-442D-8576-8C9093A0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A42BF-64A9-4FC1-9487-8C9EBD9C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E64BD-2119-4EF7-B0E4-7FAE2F17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1880E-260A-4B32-B712-76513DE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9F236-BDB7-4730-B11C-057FD449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2A547-A17A-4006-97C1-3A1DAEF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70B41-81E4-437F-B211-C644843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E387B-F3FB-42CC-A0B9-609B597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10BAE-3936-4FC1-8C10-EA8FC177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0F863-2223-42AC-A5FE-AA2532B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36B77-CFF3-40C0-A048-98D9E6C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9D7-669B-48DF-B74B-E49E814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EBE7E-BCE5-4064-987A-04BE191B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17193-40E0-4529-B445-B1250282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1778E-091C-40B6-BD75-10668BED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BF1E9-1693-4767-A6DC-9814C39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2FF71-A655-4E6D-9A21-9B8FAA8B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A2CEF-A4B9-43A4-9984-DF7AC617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6BA70-A21F-4A2C-B538-A7C8594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40369-13D0-42B4-97F6-14E6C280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76662-8922-4294-A6D0-791B3D0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E3F53-DF24-414A-AFE5-70726CBA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3F3-00FC-47F6-B492-C31105DE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9A0-CE1D-4ECA-B27C-68FA7EA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67CF4-ABD8-4C8C-BA9A-132D871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329AD-970E-4448-8419-ABC24B8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FBD27-2CB5-4F71-93C5-E879DC2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816ED4-1A09-4D06-9EFE-BAA0A649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4A5B6-36D3-4C36-AD95-8E0BE3A2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115EA-E8AE-4AA1-BFBB-3743326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7D7FB-1E13-442D-A621-CC00CF5F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E4702-D02F-428F-8799-04BB63E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4C8C9-43D8-407A-BE28-608B67E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E597A1-1688-4264-8140-8500018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50FA-38DD-4ACD-A59D-E1B3DD2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1A373-BACD-490C-9365-7974436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BA179-660B-4CE2-93FF-B5DADD1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DD145-90B7-418C-85AA-84408242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C2A13-E78F-4722-B812-EEDDEED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A404E-183B-454C-BC7C-3AC9054F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878B9-0607-4732-AC12-CF09451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95750-590E-4F14-9CC3-6ECEF5F1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E2F62-5564-45A6-A5AA-2425774D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9FC59-827F-46F3-A837-EA69400F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C38D8-C871-4616-8005-1D3FC84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00A-1536-4657-9C33-918D038A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BA576-C8D8-4919-AA22-6460FAF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2DC76-4B50-4F05-820B-EB8F67A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2E972-CDCC-42AE-8F07-5235974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50AA7-C258-4BCF-96B5-57ABB24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FCEE6-29DF-45A8-8F2D-F1AA886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C0789-B8C8-4F7E-BD77-A1A2B7D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18575-A5B0-4DD5-B29B-8D15C2AF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8A7DE-2506-4571-A480-EB4B13CB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C937F-0703-4D07-B6CE-6E12FFFB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CEDC40-C07A-41B8-908E-E088163E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B9D3-47CF-416B-8374-EA8AEA81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EFAB2-7251-460C-AA56-8D226887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A0E4F-D3A7-423C-B3BD-DB92F6D8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73A1F-AE11-4793-973F-FEF7B21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FF7DB-D3EF-405C-BC70-1527BF8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E8A53-7EE4-4252-9C2D-1FC82BD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3E1FB-AC4A-4311-8EE3-FB5AE652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C64738-5AC8-4894-9A88-53D651F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F3EEB-8114-4162-982E-9C4C2D0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BA9DE-B00B-4C8C-A181-626D9FB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49D88-D5F4-4D77-AE7E-782AF484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552D-A11D-4833-9F97-45C4C5C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A127B-D32A-4BEB-94F2-AB07E287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BF4F3-DA70-4FA7-AE9A-416043A1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7764B-FB86-45F0-86FB-539AB6A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26857-60EB-469D-8ADD-04C9F02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697C7-902A-4341-8432-4D0DD3F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9ECE0-BF89-4B2F-885A-3F4870A4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C69D2-797D-4F28-828C-E15902AE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6C0132-1664-43F9-9257-546E926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ECC47-4D48-4B8B-A3C5-E2F98B6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12E91-EAC5-41E8-BB9B-70DC368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F3D5-862F-4765-8751-F4AA4154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FD596-91FB-4A2D-8472-B91B212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6F6C8-8B05-449C-968D-4654AC83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A4807-0D0F-4CD1-BABD-6A7C44CC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75139-E9FC-45CE-9B11-8C37AE09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DCB68-3B6D-4D2B-B843-1B1E5E2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AF933-2925-4804-B3E4-3F2B43F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6BFFF4-198B-42CB-8039-7EACB1A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47BFE6-163B-4FC3-882A-2A00CDC1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76B78-6740-4195-A05E-1AFDD6CE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0C480-17C9-4963-86F3-36B9427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B8FD-9232-4F8A-98D5-7842F89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F5F80-428A-4039-8F4D-EB2A7025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AFD1D-8A86-4AA0-A6CA-F3E1638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54169-D1C2-4CFC-9787-A159401A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71FEE4-FC0C-4D9C-9CF2-EF7AF5D4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B5E66-1E18-4AFD-8022-87A3737C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5C934-61EF-4021-A10F-549BAEE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AB991-D08A-496D-9590-BFDDEBE4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5510F-6FB0-406A-B714-B4A9A9B1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71D0C-BB58-4754-82AB-3B2D828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51712-BCFA-4CF2-B122-F9EDBB2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61BA-584B-4A4E-BBCD-4CE3A79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0BB21-DBE2-461C-9FAA-A8BDE79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3F0B12-96E8-485F-B9D9-DA380516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45F7D-7C21-42F2-8A06-E087006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B2911-FD09-42FB-87CA-D279E57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6802DF-2618-4777-837A-65BC218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33449F-ECD7-4C97-AD6C-3A251753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71730-9E25-4DB9-8502-20287599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E5EF6-C71D-493A-AF4E-2144ECF5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CBE34E-3108-4D24-A99A-AB8AFCA4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EA4A6C-9144-4DFE-BAC1-2F888ECE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BE77-7726-43FA-ABB5-58399F4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BFCE57-B8E6-42A3-A359-CA36769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340733-CBE6-43B8-B132-4C09CCE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7A3C2B-5552-4DDC-8B6F-D02997D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D1B63B-1B10-4623-8FA3-17DCDB8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57992-6311-4098-82B4-77629A5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BACAD5-013D-43E0-8AE0-41C2379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9F250-5191-4992-A432-88D8562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AA6E4B-C223-4E98-AD22-976BE1BF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2BD8A-5006-4F23-AE15-C3C813DE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566F86-5F34-405B-831F-F13AD5C0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4961-3A8F-4A87-BDB0-416DC438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ADACD3-0E14-43B4-A38E-05D63A81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B58CBC-84DA-48E2-B5C6-24F08AB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C6598-019D-4ED1-A97A-A628848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88046-FAC7-46FE-BB61-3378A05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04D088-ECCF-41C4-A775-5041C6E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095B2D-EB29-412F-BC69-52B317F3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0E471C-5FD0-4A00-B140-D46A4FA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4CC7E1-7C83-4B4A-90E2-13B4181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7D0B16-7C56-44D9-A2A5-CD0FABA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04D06-D221-491F-8D1B-625FBE96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773-7999-4048-B22B-7C81A14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E820-3450-46E4-8588-1247014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184509-5424-47DA-A751-ADA490D6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871046-10BA-4BB2-B20D-D74E13D1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4902A1-5769-4432-803D-C24A21F4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36239A-E759-4C36-A8BD-6F2A356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5C9CE5-7267-4C35-AD54-C38DE61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D5A4DD-F531-42A0-9053-3C04996B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8D050E-7500-441A-A3DF-185003A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896CC2-F3BD-4F97-83D3-F956911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75ABB7-A5C5-43B4-BAE3-15EFEF7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492B36-1BF7-4FA8-A596-293E754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0873-576A-47FB-88C1-F8CA66D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61516-C16D-4336-B246-262BB971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C7F7B6-BFE3-48ED-A876-B6D07B82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CFEBA-5E2B-4508-BD6B-C72D14DF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164C74-A206-410D-874E-487EED70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A1FEB3-59DD-4949-983F-70D6510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B3F9DF-730A-4124-A307-D8189AC9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85F3F2-479E-4B16-BA31-32AD5538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9F87C0-BB59-4AFA-8700-F9A7915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AE0600-C2A4-41F1-AE13-E9E1E5AC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B58599-8512-4842-979F-9D1FA79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D72C-C89D-459A-A80C-7D49828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00B5D4-1959-40B0-B773-38FC56D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ED66D4-3247-47C9-9374-5EFA526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7FB73-D82F-46A9-A354-79D1AB4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6D736D-5DD1-4CD8-84D8-46946B5A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B959FF-2AB7-4C64-A46E-D8F659AE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969B22-013C-4FBA-97ED-59AD461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3EDF19-9ED7-4726-BFE4-B3EA8F9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CA28F0-2DAF-4C75-B4F6-15FA421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F9D2D-BD20-42B7-B727-A0AEE5D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CB126D-20B8-4BC4-9332-0F1B4161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B73E-E2A6-467D-9FBD-54EBB11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074010-FE11-4FFF-976A-30CA4FCB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C4442-E8B1-4D2B-9AB9-E383AD4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05D538-22FE-4974-8083-DD87072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81A100-2D50-42C8-8E2D-1E2BF89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14B375-3560-49B7-B985-1AE31F1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0CF6A-8961-4128-8872-8E5B510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C660CE-4301-46C9-962A-0A361F8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41DE8-EC00-44EA-B3B6-5F6A9D52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F10490-BB83-4B0C-8CD7-D8F9B975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D85189-7089-40F2-B0C0-5B8D6C2E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CDE5-A52E-4410-BF6F-F6AA2D2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387A59-7456-4F4A-9C29-976A767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2EDD98-9C35-406E-88F3-1CFCF2DC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1AAAF-16AF-4E8D-AE01-4CDE297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06A432-3E6A-41E8-959A-98682B2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AF547E-B72F-4D9C-AE02-49B07A1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81C8CC-2B81-426E-99A3-184F6F5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E2ED2-62AB-4D73-865D-DBF53EC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100CF8-D7B0-4742-897A-3E120C94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02A3EB-726D-4FFC-8DA6-6E346465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027681-041B-461F-8302-4CC332C1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7A6F-C82D-4199-A10C-1B12C16F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5FBCC7-C50F-4D60-B835-29641F3E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0FDA1E-8770-46E6-8A9A-A910E87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6B4B9-490C-4ABF-93E5-9307A3B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76FF80-F5AC-4527-AD20-2DE2D2A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E4869F-1C22-4E85-B482-4E37BA2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31587-6001-45FA-9BFD-4078606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BA9A4A-ACBE-42C2-984E-62935CB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6928E-2B50-45F3-889C-63B3807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F9AE39-FDAB-45A4-919B-55F2663C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B95B3D-5B8F-43D9-B3CD-DCB35368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A170-1BF5-4181-9F34-29C280B4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D19B33-F624-47AC-A637-A8652372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8462B8-6529-4E98-9EE6-871217C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4D0E77-0987-4953-AA2E-42E31B28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8E8B2A-BF6D-4BAD-9D3A-8B4060BA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5CC9A8-2785-4A28-A7A1-E3F5EE31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006DBC-E9D5-4478-B63A-20F42DC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0B6AE-D7C5-4834-8237-DC1F3D8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35D9BE-16D5-482B-B1AE-2EB6B48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77B4EB-80A4-4C0A-85A6-5ECFC4D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1CA3DE-9F80-4E4A-AEA7-48DBF71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4DA5-2C90-4FE8-B13D-BE491B6F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3A3EC7-1F78-4788-A7BE-099DBDC8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8623F-3843-4F5A-A473-86607EC6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F2990E-E7C9-4212-B58C-BD77416D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70D2BE-95B5-4C90-A426-A7699A3A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6F1684-D80E-42A0-93AC-D86BEE7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FB62AD-DE1C-4E92-A159-B3C60880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5F9122-9F97-4B01-8A7F-1902065E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915A2F-9F66-4E6D-AC20-02AF3F1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B7D9DB-B458-469C-86A3-6F2FDC9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0D55B4-E363-4B77-842D-6D290C91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D2F8-B9CD-40E1-886B-B532B36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CD6EF6-B300-44FA-830B-98D1254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AA6B7F-072B-4E8F-AB94-B1103ED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5D2B48-1073-41FE-A403-4E8876BC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FE6310-2599-4DCA-A061-E9B5D5AD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08782B-0ADE-4DCD-9149-BB084609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73545C-9469-47C3-9B62-C90FF0C7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F12F3B-A054-408C-AAC7-0466A63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E05B59-D2A9-45EC-B28B-85352590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9F9099-075F-49A7-846F-01FA0F88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97E768-A0A0-4679-B21A-F72AF6A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D2B9-CEB5-489E-AE83-82190D9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FE474F-D65B-43F0-B934-EA53DEBB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FAC37E-6E8A-4D4C-A3E4-E01D60C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D14689-CE02-4F1C-B78B-DF7AD16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753CE2-1E8F-40CD-BFEE-6A915A0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A0A643-3B0A-4FE9-8D18-3E60FB23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3C5F8D-982A-4586-859D-1FCA6A68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862338-039B-46BE-877B-7804C75A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CD293C-9F50-4723-9E2C-AFB1D54D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895B6B-17C8-4C52-A6A7-5B846401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E75C5F-0684-4328-91F6-D31DD55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271-BC0F-4EBC-8480-1EA12F7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AD0F-47D0-4622-A01A-6B19CC9E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F0AEB2-2C4F-4C75-A19B-A056D40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21C84F-6853-4C17-B0CE-A25DA55D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4C97AF-03D2-41A8-97C3-EFB964D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BB0D92-C489-4CD6-B0F2-0C2B7BC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3055F2-F5B7-438D-B527-EB4E916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9389E5-C413-4AFC-9303-6F6158B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D22C04-7CF4-4B06-904A-C8276A7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8ED646-A14E-4BFA-B4EE-4C8DBF70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01FF4-F585-4D4D-B550-DE3D9961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A2880E-2473-4249-AD4F-1D1E978D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315D-1693-4AF1-8116-49618E68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062381-C4FD-42CA-B0A5-61F336E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1C74DD-5C46-4989-8649-B7CF798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23134A-634E-49F0-AA4E-58ED6705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FA7135-221A-4528-9264-FE4042B5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A3CD29-4F82-405E-BC9B-98882B1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7AB8A9-0845-45F6-B062-80295956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D6EE03-406A-4FA5-9792-BA03465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1449FC-8336-4A66-A85F-ADFC470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AEE366-A7A7-4EEE-B3C9-3B1476D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E45AFF-D384-4807-ADBA-AB69AC2F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00FA-0F64-4B9B-BBDC-D13B71E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6C8291-2539-44E4-9839-6002C9B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A66377-B0AB-4B69-9A44-AC66FB55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D6A3D6-5F2A-49C3-A1EA-F580B1A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BC3578-305D-40E8-8430-AB40A7A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CADD8E-2083-4EB5-A404-2F80669C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3F2C20-97E3-4EC6-B10C-2344BDA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031047-AA30-4674-9962-7A5D55B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F21682-31CC-43A9-979E-2237EA6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AEC151-090F-4A31-A415-E372F34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1082E0-94A8-4E51-BD32-2EFD8E1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E949-AA76-4CA9-995E-BF7D5A35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BB890C-7A8B-4F03-B420-F473220A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08F55D-ED39-4D5D-B076-70EB90AD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675EA6-3AA9-4C44-B524-B620AA7E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B57488-E83C-4840-8851-C91090A2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71550B-A56F-48F2-9683-4A0824A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CE3001-DD83-4AFF-BD1C-38CD737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622D59-8ED0-4DCB-AC18-5A9B0026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01222E-B37E-415D-876B-58F61EC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9FA814-17B3-4995-942A-10FAC73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E1E610-1694-4C6B-86CA-B872DA9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F7FB-1ED3-44F3-8AE4-85EEDDF3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79339C-70D0-4A43-87F9-884B1E5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A418A3-B89B-46EA-92C9-A581FB1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6F8C1B-B8AC-4E82-8850-681DB0D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0EBE5C-D530-48D8-B596-510F8499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49CD1D-7A40-42EA-A460-4BC51081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037AA6-0782-4F2B-95BA-7753EAC3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5C1745-C115-4364-BC32-FF045E8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F6F116-C9B7-4AAC-8BD0-165E820D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AED9D0-5BDD-4459-8841-B20BDD8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2E3451-254B-473F-B1CA-5ECAB5F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4CA0-01FC-43E7-B7ED-823F928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044044-A489-4120-B9BA-7E7E8ACD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6E1B3D-CF7D-4B4A-A848-C59D941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E67248-4540-4CCF-BFFB-12DEFF3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1BF238-A54E-4845-9C5A-47BCA41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767292-6850-460C-BF0C-A6806E5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6C8354-EF09-495C-8377-0FCA52F0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3BBC1A-F66D-4668-A748-178C88BB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DD6E47-407A-4D95-9BBF-FE903990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D120CE-FCBB-46B1-804C-53E8FE9D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7089FA-3E57-4773-801E-1B1836E9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BB22-C207-4BAC-A3D2-FD79B96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0E217C-722F-4B39-9C02-CD3E25A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A1AC10-32EC-478D-A067-89DEE18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3E9374-B57B-401E-ADBF-F097282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345E0E-4F2E-4CE4-BC17-650A61C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700521-071E-4BEB-874C-1230E3D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5513E6-8910-4C1A-AF42-029E6F8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9300EB-2E50-45BE-9849-13604237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41DF59-D0D2-4744-961D-12B08D90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8932D0-4856-42D4-B79D-5755F235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B5D25B-9A0D-40A6-814E-523F4EEB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6FC7-B071-4C6F-889F-1E7BF82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FE2D70-BD37-4AB0-8B39-4758D21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1603FF-FB69-479E-814F-96D6A55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C2977-BE60-4B1C-959B-A64B2A4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218AE1-1CFE-4A57-9C68-813B5DA2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394AB7-7D3D-4D8B-81F9-94F939BA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6BE9F5-BB79-44A4-84F0-4CDF925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7915CF-FC23-44CE-BA29-09F4B9A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BFDD98-E15A-491D-8330-1867686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A558B0-95ED-4F7F-BB1E-40FF05D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680A98-13E2-41DB-AD97-47177DE6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59B7-51E7-4857-BE2D-7C096494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5667DD-E6E4-4B3F-B670-3200C792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E04D12-48B1-4586-AF5E-97F5A752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174DBD-A605-4037-9D2D-514E226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715DA1-6F64-43E8-88AB-A7B1E37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5D3DA5-5DAF-45E7-86A3-210EF73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32784C-9A4A-487C-8ED5-C9B1DD9C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FD510D-5363-45E8-8924-446DE31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77A1B6-E196-46CB-B188-C54D719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86F027-7B15-460D-ADDD-2046508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D90CDB-2C63-4B14-8BC7-EF1ED9D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2820-A983-453F-B100-4F09293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649955-945E-48B5-BEB9-AC89A36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B605D6-10E9-464D-B0E8-B44854D5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2D48A3-E516-4C5D-8444-9B0AFA5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E752DC-EB13-4B2B-A49C-488FBB9B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6D64A0-D448-4691-9E66-9ECE3D7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544C08-8C6A-46F2-8DE5-D385E5C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8B2791-3A20-4C43-8D96-FBECD446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E9E06C-18C7-47C7-B514-220190B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E66C2F-29C3-4BC1-9E44-010D4B6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CFA243-2D3D-4058-8207-6DC0710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263-8A33-45F3-A312-DAB23C73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FE16-3D6E-42E2-B348-F6141037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68EA25-8023-4E40-B2CC-E3A5EBB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ECBA95-257F-4E50-B2A9-95EBB15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BC9457-A144-4298-B5EA-6431ECD1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AED5C5-3DF7-44DC-AB02-7A8F5199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6AC1BF-F197-461A-B6C2-D5519C11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BD881A-A0A7-47D8-A1AF-30E014E7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339D07-20C9-4B86-8507-D5CEB48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CDFDE1A-6184-4456-8B94-43D1C17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7AF0DD-75E7-43B3-844D-FBB5C59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C74117-ABB0-41BD-B760-DA8DF0AC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F74B-06F0-4238-A7D8-6CD59291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236A34-68BF-4138-9F64-9763ACF2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D2A93B-BADF-43BD-8806-7E2D9AA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833917-9D60-4FB6-BC4B-CB0FB21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F0E179-96CC-4337-895F-B1C15B5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18E512-EC6A-4CAE-B68F-4EC5990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1D5DC0-61F8-4445-BD04-9570FA82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2BB4BB-9F0E-4E08-A7C1-2271F1DF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FE123E-374C-4A3B-8A63-E9A9F76C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41EA52-D653-45DD-B6BD-7BD145DD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DE78D9-8CDD-42D0-A94C-773B5C1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28D9-E974-414E-8FFC-86F31BF2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174158-A745-4607-85F9-0655609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426B38-68E4-4C3F-8139-03E38592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394550-455B-45C3-9131-82FE03B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1074FF-7A13-44C3-8932-4942BAEF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53E6C9-ACBA-4123-A8A2-CEA3CBB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B8177C-2EEB-4BFA-8EB1-1D2F8C7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9D7D8D-8DCB-4C5F-AEF0-BE59286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AD42E1-7381-4704-91DF-D7173015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F7147E-2199-41AD-BE1D-F330E2E7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F40554-55A0-4D47-815D-D2115F0B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2D95A-1BFC-4D62-AAA6-33B17C2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CF663A-29F2-468E-AC72-96F5DF5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564307-2F78-4DCC-9DA3-1C14697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0D0A03-1AFA-460D-832C-9EE33455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95D39D-2103-4D9F-851E-7807ABE3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65A9C3-50D8-4D0F-B634-938ABD16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7B9E22-26A3-4922-B31B-FFB0DD5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340937-C75F-472E-8B10-B7C6DAA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FA49B2-D15D-4208-BA86-A31A71F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879DA7-2956-4E8E-BF6B-A2DE829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CDE29B-D0D9-462D-BE79-79816124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35A5C-5249-47DA-B118-3EC16214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2A13E4-F492-44FA-83CB-E699D7C5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9B3B15-734C-4F38-930A-0DF8F83E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CCC798-650E-4E18-90EF-7F753E2F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7C8911-77A5-4AFC-A7D8-2621CDA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74C0AF-1B97-46CF-82AE-242A03D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BC7E95-3F4C-453C-BF9D-01E6FC7B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4444AA-9762-4381-987F-B755D89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2942DD-F530-4294-8D8D-E4AAE2A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B98423-E5AA-4711-97AD-F29F038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00CE21-65F4-4B70-8276-3C6150D0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5EA4-E282-449B-B5AB-F72AE21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9EA3E9-5546-4C63-B023-DF7E8B46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DA6067-5B34-490B-B229-9274F841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2F5D6C-A925-41C1-8981-511009B4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85BF9C-9ABC-40EB-A92B-DEA19D29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B73AD3-B495-4467-A869-0488DED7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E4C740-0934-4406-8EB8-3C3E6C3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8858D3-DF3F-4333-B7AD-7B472FE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7D0220-6AAA-41D0-900A-095573F8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47DBE9-E418-41D7-9E53-BB142BB8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689D209-E423-447E-BD56-AD32BAE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C222-9296-4EAF-A684-BEC3BFA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5ADDF3-0042-46D3-A167-FE2FD18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86B4D1-47AB-47D0-AFCC-D5E6F7C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4F6C16-CBAE-4B80-9E53-C098B13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50DAC8-E91B-4E2E-BFA3-E7896CC5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6EFB2D-876D-4BFB-901B-90AD1FC8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BFC8D2-F14E-436D-930F-EF2CF042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8097DB-8E38-4C33-A166-25DB00F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10FBCE-618D-49E4-B946-5094A5E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F881F6-E0C7-4D8C-9FF7-C6D49794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D166B8-9799-48F2-A964-D5A56D28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F82E8-DC32-4AE3-A45E-E166902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1E8D94-40BA-4C7E-9616-16056CEB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F890E2-6BC2-40E1-BE29-A67EC1C7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CE1504-6F7A-4879-BA72-31495D7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C6DA63-33D3-4DD5-93BC-F157034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F0632E-3912-4D18-862E-933ADA37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34D061-14EF-4C76-865F-2DD368F9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DD8CB3-0B49-4813-B824-91B21D8C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45D2F7-2CF2-4DB4-A372-AA361004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874E49-119A-4B3B-9549-7149F98B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D7DBC7-E633-49A2-9774-26CEE88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69E3-7CEC-4BCC-B6A4-70E0D84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46459C-9029-48F2-B478-BB84FC76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14331EC-D9B3-4CEE-8891-948DDB9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E2AFA7-E154-4372-8CA8-EFAE1A7F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B4570F-C168-4BA7-B9AE-4A8CE79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444E22D-3376-4B74-9E23-DD324DA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99FFB8-EF18-429B-BC27-F137A07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14FDD6-5BE7-4CF3-867F-5F0E2BD7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6F3A65-E33E-4347-B316-99EDA3EC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C225D9-11A9-4CE2-B20D-66098955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E3BAC9-7BCC-4062-AC73-8810A83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97B9-9709-48B9-B00D-DEABA7D4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487D12-558A-4A4F-ACE4-94A444D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710A5B2-2C87-4FDB-9A4D-AFB9F15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D1EB0C-312F-4DC9-92DF-8D53A83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E13318-952C-4B30-BC26-765F1BEE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18C020-3DA2-4C85-953E-6E7CCC7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B016B5-0941-4718-A975-B8E9EDC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70F5A6-4C86-4CFE-8971-EFC046C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38EFD8-DF3E-4FAF-B6CB-EBE6D2C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A96273-0712-4070-8FD6-8A6B83E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FA04D7-AD55-471F-8ED8-ED62980C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B1E-4808-4906-BF0A-65431146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CCB3-C5DC-413A-972E-A9519DEB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BD062E-27FB-4BD2-BB5A-74FCE743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24AFEF-F703-4212-890A-461A4079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3E05F8-066F-4C5D-A697-FBC77499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107CA6B-37D5-46F7-9DC5-EB85285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7B6851-F1FA-43DA-BB5F-04AF7C19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9B37E3-9715-4BD1-9D12-D19FC85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AF6201-2E9A-4395-A300-3E64B8E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6BC7EF-A724-45D6-82E7-CB95E118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4C6159-A8A6-4C6E-BA65-425DD1D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09D5F7-0DA1-41BC-9C5A-92F5923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EC70-14A5-44D6-A01D-0D468224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49F544-92D4-4B59-8665-2612AC1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F37A639-6EF1-4C38-B14B-47D0051B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C72D3B8-428B-4E14-A5A1-56989163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1C90A7-0F01-485D-888E-6FDC9209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5E09EC-B553-44CB-804A-1BD0803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3B3D37-DA59-4877-83EE-3469E102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4F4E62-7B0E-44FD-9EA5-0DB1219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1E2AFC-C825-45FF-81C8-192FCBD4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1D6AB6-F15D-41B0-B34C-C4676CE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EFEB7F9-86C3-4526-8075-362767A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6B5CC-395F-4289-943B-2F1ADB4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EE360C-9242-42C2-89E2-D79FCB9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395466-3B7B-42BF-9E5F-2236B10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F24170-4A95-4949-B359-05028A2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D847D6-46D0-492A-9322-50A252FB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64B11A9-B21D-4AF9-A35E-BA6E593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88A326-1869-46D6-B17C-DC25FD8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21E95FE-37D7-4705-AF9E-B53644A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6D6E6C-EEBE-4CA5-9121-2600E00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950D82-7873-4084-86A7-4E427542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237A32-9E0E-472B-B8C1-6F497AB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BC13-0C2C-45EE-AD10-30BB89A6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9939E1-F115-409E-834B-19DC2F1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AC0A01D-0793-45CA-81FB-348A849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E494F2-648A-4770-B05E-8345BD7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A8C9F9A-8267-49FF-80A6-6FE5CC6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C5E2D1F-B28C-4D1C-A070-120CA777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C6DE1CE-405E-40AE-BAD2-BD0C7FDF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59189AD-3AB7-4D2A-B0BA-B35847E1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87B09D2-5D43-494C-9B51-88FDC931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51D0184-441C-4DEE-AD52-93D3A1EE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992D8A-2182-4918-BA83-66FB3937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0B2C-BFEB-4875-B87C-E53BD66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3607C9E-2039-433E-8D7A-C062ED0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2290D9-99C2-44C3-A858-6A8D550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9A7AF6-5488-4C4B-90F3-6B6D0B5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811C747-BD6D-4768-8567-71FF4EE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C8636E-B35D-421E-B4B3-36982A4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414128-A5FD-45E3-9292-9B8C39B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0C9940-E2CE-4EFD-B533-E88272E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8B6ED7-5497-467F-8BD7-B2C8B017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8FB99C-A4FC-44BE-A4AE-A86C7104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78B538-868B-4A7F-BB5A-F774F480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70A2-CEC1-4A55-A62D-E626265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680F1F-5A35-4824-927A-49FE8DA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E92C0D-02C8-4A24-9591-9B9248C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AA0802-B16A-4105-9F14-B104C710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998D92-CEC8-4BF8-97C1-3CFDC28B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24B7CAC-C442-4A1E-B488-FFD2A32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6CFE93-8D61-437E-9ABF-D593E17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D810C6-91F3-49C2-B4D2-DDE4094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E16F7D-FE3A-4677-B01B-893819E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4AD1CB-A09D-47B3-AD8F-EA4D0448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C4FB7F-6D64-48C3-863C-079B0A19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BC2B-001C-4122-B880-E89FB943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36A429-911A-427F-9B5E-6AC0E44D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9AD544-7956-4A27-9FDF-3E558F04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4A4567-1356-4622-AD97-4D6234B5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37B088E-A386-4163-BC57-A1A0B7F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6C592B4-8037-459B-A004-F1241674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79630F-5D9E-42DE-8626-BB4D1B4C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7D44E7-86A8-4116-AEEA-06B68D6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4BD08C-6445-4E85-905B-625F88C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07802AF-8A97-44D9-A04C-5D20895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67037B-5FD1-4F09-BBF9-ECAE3E09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6383-4CF1-44A0-958E-6437592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3F4F10-6FD6-4323-9B76-EB91786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CDADD9-AE43-418F-80CB-67972CCC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329239B-14A5-47C7-8B35-683E140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25A7611-D0B2-46EC-8000-FDF10C8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EB687B2-9C2A-45D8-A2ED-225E2BD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7B2D5D-499C-4059-9A5B-C101ADD9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AABB6E-C998-48AF-AB09-2DE6474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608A2A-679A-41D5-BFD8-F2DCB4B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59401C-CCDB-458A-B1DC-C3B7BF12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5F3209-EFC6-4414-8B2C-C95DB42A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E637-C853-48FC-A036-E43409A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A3BC2F5-068C-4C8F-A8EC-2C6D8CD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17DEEA-5D63-4D5B-A6B5-1FD7F0D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8FD9E4-5848-4036-A42A-9E990EB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FA7290-BED7-4B63-9830-8E90BFEB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0FD656-477B-4C8A-862D-944AD83B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B8CE39-DA38-419F-A11D-2D9EAED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105610-4DF6-4615-902A-25065BC9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8B1D10E-8837-4583-B607-EF1023B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B399AE-A6CF-4946-BDF1-459A3BB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70A921-1D9C-47FF-A072-7142A2F9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9D74-5F28-4F8A-B0C4-F4D0FBC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62B7576-2F2D-4B85-984A-35D4B8C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2AB30F-C223-43C2-9C67-C1E9FCC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1C7D059-B052-47C4-AF1C-F487FAE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C32660-F5A6-4B79-A5BB-2A7A1F9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56279C-D5DB-4816-B07B-E766877E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3432DA3-C641-495D-A819-B9A4C6EA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0785AB-0F1E-4FCD-87B2-536EC8DD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4F71A3-69FB-4ABD-AA63-697FB525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FB616E-2B26-4065-9981-98AD779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6A51254-99EE-4F5F-AF7D-F4255CCA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6F8-F931-4DDE-B403-28B6678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896D-BEFC-41B0-A3D9-ADE2799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0922952-EE62-46A7-B7A5-0DC2B23D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93F79B-F092-4AD6-BFF1-EBFFDA0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B79818-7807-428B-AC2B-E5599AC8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632C14-163F-4AA2-B976-824A5BD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7724D73-EC06-4BB4-BC82-26B2612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F5B4BB-0A97-45DB-A049-649CA52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36C70B8-96F4-49E8-A6D6-8576DDF0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104A6B-B310-4EBD-B607-2BEDDB70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A351397-C3CD-4B4C-9D84-DACEA24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64D39E-EFA9-4911-878A-B6371E7A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1CDC3-5A41-49F7-9A1F-DEB350C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663946E-AB95-4A05-BFBD-8DF5AEC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A7F17C6-FDEA-4EF7-A242-EFAF8278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8C8519-47DA-4A1C-B66D-5A2B7C9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466CDA-E2C8-4194-A00A-F17F0D47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8E9343-18E8-4FB5-AEAB-9337EC9E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0040B63-4487-4F3B-BAB6-2FD94E0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79F58A-7E14-40B9-81D5-6F0ECD5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44832D-DBF6-4FFC-BFDA-037E2FC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E69E60-3D3F-45E4-AA11-41048F9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461321-53FD-4E6D-940A-45B3A539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9E76-3905-4978-9E6E-9EF3C300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22B4B95-98E5-4291-988E-2B5E2E86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7FB846E-04FA-495D-83CF-62F8CABC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5EE0529-22CB-423F-BA4E-470D243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3E29142-B34F-435F-B37C-2EC96E2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5D090B-2ED3-4F93-80E6-4590A669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81D7EC-1F9E-48A2-8D6C-72C7DDF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995C04D-0E76-4835-B876-DC78425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3EA94B-5E01-483C-A09C-9B64FB8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8A68EF-2F21-4D11-8C49-1C65AF8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8AB26CA-685D-42F7-AA64-C4FF64E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04CC-155A-4BDA-80E5-14D866F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93F620E-D56C-47BE-9B98-DF8EE54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D2F6934-B12A-455B-8853-387F2519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55EA9EF-A64D-4CE1-810B-D3E5BB88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F699148-D16C-4C5E-94D3-F4266E85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45E2179-3E54-4F39-A44B-51BCD85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C97E5C3-3B3E-4006-B86B-33F8ABBE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60DE680-9B57-40DD-A243-607EE50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B2E5368-5C40-4000-A87D-FF2F905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012B76E-674B-4E82-B4B9-483F409C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3C6581A-AFDA-4892-B7EB-691ADFD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F03B-18C6-4F87-A738-927C216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F73D2A7-5375-47B0-B10C-5BF473F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F8EA37F-6B0A-4C7C-8C9D-95CA270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AF53FE7-90AE-4B5A-8F70-453334A9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EB9E37E-5F3E-4024-9EC2-43B13E9C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6CDEE5-368F-4A71-8F7A-F1AE655F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0F6B53A-8472-487E-9ADC-7507FE5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585A4D0-F27F-4039-8433-F76EE32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E18E709-3C90-4690-ABEE-93FB91C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31383DA-965C-4E90-8C44-52C6CBA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2D8D298-284F-4A68-9F6F-4779B311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E833-F6C6-45A2-A7A4-9A330B7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12727A7-DAD7-429E-8F83-48C7E08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6F9BF46-3C49-4E7D-8D20-C6E65A3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31E4CFE-4EFB-478C-A42C-23D88FE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4CBB0D3-0692-44CA-8521-DAB04A5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0EDD6C0-5A69-4560-AB23-BEBD6E4C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AABD5D5-2DB9-423F-86AD-D7BAAFEA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3214057-5C0A-4964-8722-3341DA3B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8738187-B1E6-4E55-8E99-8D716136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A451B62-6E49-40D0-94BC-714DE2D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EB14B60-DDF9-49B3-97A5-6D5F2D3D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CBFC-E9F6-4A54-B74C-F67053D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CE0FEF-F77E-4F87-9190-A091214B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99429CE-0C94-44F6-A5E7-6BBCD7E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F3EE15F-FE35-48C7-B99C-B7AB00F9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E71C0A4-05CA-4C28-B75B-B029DCBD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3EC868A-8CAB-4897-8002-73DFE11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BDF2FAD-9575-44F3-BF60-092DD028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1D5F380-CFC5-40B9-AC71-912D02F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7906640-1506-4E85-BFA8-48EEEEDA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66EFE82-BB21-400C-A214-EE720033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D7F1AB-E6FB-4AF4-9660-06548163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B5F1-20BF-4AF4-9D75-1FC57E5D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79055C1-F29C-4290-A32A-461676B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FBCBF67-D15F-40B2-907B-8212D2F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6A55CE-4617-4C51-9349-445CF9B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AE03655-3C07-436B-B19C-784DA7C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5979BFE-ACC2-4DC7-B2F6-CEAAEB9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8B121FA-CCE7-4F4C-BF81-018BE73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9DD504-7732-4076-B084-DE8FA0C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CAFE389-45EE-4268-A748-01FDF75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E990100-EEFF-436A-A018-CCD0CB6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620464-086F-41E9-86F5-D624EE22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D2F05-0FA2-4FBC-BD6C-F772624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538F22-9952-45E7-9244-F175D3E7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DA2A505-C42D-4C53-879E-4B82599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21103D3-EF7C-47C9-BDF9-CD9FB69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62C6992-2630-4BE0-9B4F-4DD730C8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8896C1-7085-4949-8131-54AA9C49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57B7084-251F-4D35-B5E9-7DE159F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8006261-6602-4D09-AEFC-7758F58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6840698-93FD-46C8-BEC3-9CD0377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C8DF72A-B792-4749-81B3-35BED53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92D86D3-BCC8-4F18-A2C3-ACAA00F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23C0-E46E-45DA-B546-32D425B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DCA2448-EC86-41C4-942E-56D3F07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7B7163-88BD-4F17-8A4E-CC1266A4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DBB91AA-03B8-4636-90E8-1A570B0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C574EB-85F5-41EA-801D-DD69A59C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5B2FEBB-30A7-42F9-B81A-692A4AE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32C14D9-9667-4A35-AC1C-D170B9CA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A441A6-C5B7-4F2F-89A3-A9D11A8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4A0A049-1EF8-4902-BE95-0859EF22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B0D4F26-88FC-4C5B-ABB4-F053C79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48BCE48-9D56-4910-8DCF-866E3C2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CE6-664D-4D2E-9A6F-885EFB3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B281-9CD1-49DE-8258-D4570FF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3F14DC6-494A-45CD-94AA-958B564C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C9E7FED-17D0-4A5B-8DC1-300B373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E7545BB-BEC5-4D1D-AA16-AAB93EE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D97251-C317-4FD4-A258-519BA6E1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0BCC1D0-11E9-4B3A-BF8D-F817933D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F4A3DE0-EA9E-4EFC-B825-210D4C0E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FA232D2-FB50-4433-9F9F-E740C0C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4BCDE7-A7E1-430A-9DBB-2FD56727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240E661-2947-4831-855E-A366852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BA3D4C6-A820-4977-AB03-5543BE5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747C8-1746-4FEC-92F7-C4E9C936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0C9E10B-7776-4148-BEB7-1B8181B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DD00363-C6F0-463D-A241-D987C2F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9D1EBC8-4C6B-43B8-AF2B-D68BE9C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8A273B1-E504-4A17-B650-147514D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8FF630-BB6B-4224-A4AC-8266DA4E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DC2725A-A31D-4E75-980D-06E9767B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4947067-CD7D-4CCD-AE54-E8308D5C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A04880D-24B0-408D-B9D3-CED6EC39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AE6AB3-0BE3-4FDB-87C9-FF47748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9F0492-2666-4FA8-9E3C-01F9144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CB4C-1118-44C4-9B92-EE88B05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9B50B90-1265-444B-A633-C567E10D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A5E75D0-963E-4ED5-AF72-2DFEAEDB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366E8DB-674A-4795-9FDA-FEE91748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E0D6F53-4B61-49FA-A913-FE2E4D2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5A1642-EF2F-43FB-93DC-7470179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DA4D837-0309-4274-88CD-A5DE384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E218CA9-F1A1-48B2-926A-074FBA6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1C45867-3C3F-4924-800F-48322062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2970793-64A3-4946-B118-9FE1DFBD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0794CAF-98AA-4528-B901-ECA16C59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E43B-4EBE-4177-8764-978CCA74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40EB769-2EF6-4014-A59B-04AF577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4F0321-B0EA-4E8E-B1E2-B6B6C98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A1B5D9B-0C67-4A9A-B688-6B26CEA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56B7052-3084-429F-AE9D-D261F5EB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A530361-F4E5-483A-949B-C5A2AA4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A5A26D9-FE24-446F-80A1-658416F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5D5131F-EC40-4AF7-9589-AF271D99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3A948C1-0D5B-430A-A63A-55CD7FA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73D227-8C6B-4F36-B57A-2214789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5ED9FA-38DE-4FE8-B529-31E65158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5E68-688E-43F6-9A32-BBE5786A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39439C5-16AE-4893-96F0-8879796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C7E026-6C8E-4B61-98B2-648C77F9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6138582-517E-4C59-B174-A5F5A384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0AD7133-7980-4DD0-B2CF-83E92AA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0A4D29-A30D-4C7D-8AD0-4487174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4FCE963-9B48-44CD-9797-2ECDC52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D775A91-9809-4C46-B132-8A25B9C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4B4A75D-D746-4408-94D9-7D4A5B6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297CDE-C5F4-4E76-BBD3-F6E11157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5B55AE6-16FD-4A5E-9F75-0D79F01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B0FF-0698-4FC3-B058-DCE3D4DA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423D50-5C7B-490E-8724-74CA56D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5E75BF4-6364-4547-934E-126896E7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A276F02-31A2-4839-A0DA-D430D4B5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9CED9A7-7970-4CDB-B1F1-802CDB30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7B9C84-A483-4BFC-BA76-C594B1F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B30EC0-95CD-4924-90AC-20854ED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8CBB4C0-9783-422D-A06A-2C14826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BD4705-999F-452D-A23B-E58B364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FE4D55-04DA-41A2-BA56-8F5A4DD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F072CEE-7507-488A-8E6D-3D1403D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47500-2B9B-47DD-8D5A-AD4D066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F29089-CD82-4FEB-AA7F-9B02D99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312687-6039-4E02-A37A-D98079E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316C31-BAA1-49A0-85DF-BF7C807C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C933B37-7D6C-431C-9146-6C7214F0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088A11C-365D-4526-AEFB-4F85B59A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B9AAA40-AF65-4795-81F8-8392021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1F5DA03-753A-4FA3-AD10-CB8AF58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737B7F3-7E36-4017-A796-E63AABB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3A384F4-2644-40AA-B291-3FCD1F5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4A02B0A-A46B-46B5-A785-CCB9C09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CA56-2192-4E61-8F5C-F4B83A1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23293EF-E180-448B-A505-C4DC3BA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92557D5-1158-45E0-ABA6-B6AF444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FD758C9-507A-41BE-9B9C-91F9726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37F4B96-3C4D-4E08-82B9-E1324EB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561F9A2-9EBF-42A4-8AF4-CEF956C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A9D3E03-5C5A-42CE-ABF3-FDAA9A02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2C15885-4769-43B1-8003-75C537B6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685F787-DD99-44E9-ADF7-29B5FE6A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71018B0-9065-460F-B61E-CE001D1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73D6BB4-09C1-47A3-AAAE-D295B38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9BCD9-9E62-4EA0-8F55-C2A4141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715BB18-74F7-4324-81F6-46C01DC9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E57AC08-698F-4138-817C-8DA88740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FF81DF2-8298-47DD-839A-8A4E6836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8E37CAD-AA61-4B69-A09E-022269D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FE9519C-049A-41DD-B910-41C542EE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7E22342-40A5-471B-AC59-1E16F85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84D87EF-370F-4DF3-BC66-50CC081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64DC31D-1C82-42CB-838B-D004467B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BD18E63-FE23-4FE3-B815-AEC04F24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D83342C-0E6B-4D19-A8BD-C53DC999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18FF-D170-4052-B070-D3A52D9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1F0FCB3-F037-4BF6-8CCF-3ADCB87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D49887A-D640-471C-8814-FD7917F2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492A004-3781-4097-A4B4-941BACFE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B8DE338-DF1F-4C8B-B001-F5936ED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8D9BE7E-4411-4F5C-82C6-6B968BEA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24CDB77-2E66-4EEA-858D-45852038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1243A0-A9D0-47EB-BF8A-3D9991C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008D2D0-3648-412C-94DA-7F3D747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E4F4267-6DC8-461D-8AAA-3B4A54B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4D15F80-EEE7-4E5A-90B3-76DB85B1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8F2-BD99-46FD-834F-DD3640F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011FE-4D9B-4B38-895E-F126666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6739541-C21D-47B0-9513-4DCD5C68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38EBDF4-624A-486A-8D21-D05EAF28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F8A5CD-AD57-4008-8885-DD054ECA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DE86919-8241-4F4F-8CB4-3B7A1FC1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EAD49E0-5193-4374-A330-1CA6F30F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EDE9EF9-E936-4E3E-946F-8E9E2E18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807C91C-47E6-484E-A08D-A9B9DE0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4BD1C73-DB57-41B3-8A7B-A951218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57CFAC8-B3BB-4CC6-88CF-8C1EDF8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E36BC4F-E123-44B4-80F4-42D6937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7DD3A-6DDA-4B37-B938-B691C66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4ACEEB4-6DB6-455A-83F7-7822D90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2377551-7165-410C-9442-C375B03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F5A5299-A922-4AC4-A66D-00D089A0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5C1E17F-0F7B-4EF8-9A75-84E33917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2621773-495D-4FC4-81C8-5355463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335F4E6-E66C-4972-9D0D-C813C2E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5437EB4-80CD-4F4D-8CEE-4DA0063D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5884D6B-74D6-4D6E-80A7-B359A8D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006D98B-FA03-4D8C-9D02-11E47274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801F2CE-11EF-46A2-A89F-209875F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D4AE-DEF7-412D-885F-AAC9C80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4EDF20C-185E-49B3-B2B7-B6A6F19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80FCA56-C0BC-48B3-A35C-631EF8A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5CFB487-F47D-45AC-8D48-0D60B68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B7ED943-3046-4F44-915D-C3BBC781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5EB8BCF-F83D-4672-8549-7784C4CB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97FD41E-6136-46A9-93FF-25FD9441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8715311-335C-4DFA-AA28-F1F14DB8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F512CC2-C6C6-4047-A28C-345F56B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3F5A362-9DA6-44DF-A41B-CEADCC3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F4D690C-3336-450C-8C4B-F4B5585A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4578-3A77-4A76-AB3B-2E0E728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41A857-2042-4482-BA34-D427DB1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E681898-EDA7-447A-BAE8-3738E4D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CAB3AD3-EF66-44E3-A49F-5AB2FE6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21A91D5-E45E-4DA5-8C8C-0846BC6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2C2EBF-447C-444A-AC3F-CDDCC29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F4CBE70-2F6B-41B6-9588-F6252271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0B814AD-1C2A-4004-8531-6DAF9E40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135E288-6DEE-467B-92EE-DB69950E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2EBFBF0-9686-44AB-832F-96EE7B8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BD3534E-C166-452D-BA89-26AE0DD1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13E8-9B03-47C1-826D-C75E2D83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D0108A-3536-4084-86D6-B891175E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6168E8-5911-4603-8EA3-E80D471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3249CE-C6AF-4CE1-BB41-8D5184A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E88D2B8-3E38-438D-8B8F-6A137E5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06791DB-F404-4550-9008-AE2C58E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6F28950-C63E-4BA9-89BD-0024896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DAEBCFD-3346-4F73-8579-02DD64D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CEB540F-B5D8-436C-88FF-D38E2C77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8CB42C7-93A9-453D-BDF1-F130D76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645F628-B2C3-45FE-8296-DF79983A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F692-939F-4CE7-85BE-333BBDBC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0261FD0-3AEE-4480-B6E2-1968E11B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7898C5F-EFFB-4A64-8B32-443C74E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EAEAA35-90BC-46AC-BA3E-AC86192F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4B0F35F-9373-4C3D-BC2E-6342007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A2D30FC-03E8-4B8C-9972-5EE7A273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9CBCDE-715E-43FD-8137-1E58F85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7F94339-F41C-4B15-89F5-CD7C11E5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E7504B3-6A3B-454F-BD64-4F2D8F3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C1A2EA8-D59C-4386-8644-890B21C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27660B1-77E6-4213-801C-141C16DF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F718C-3226-40EA-9286-A8B45031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B3D606-C54D-4611-877D-E45A0182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50405D6-91D0-4BF1-A228-F2D348D4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F548BE6-BB95-4424-B5EB-1E22C75A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284AC82-48D1-4419-A80F-454DBEC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13FBCE5-CB1E-4E40-83E0-FDAF5011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081643C-EB86-4FAE-8988-B84C652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61FB2E3-A87D-40C7-AD9E-02CBB98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A96E691-516B-4981-AFF8-1909141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84561EE-F396-47B9-AD05-38D12979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3497220-D236-4D07-9BED-5C1D237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D5A44-20E2-440C-A5E0-27E384FB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B0A2EB1-F38E-4A09-9BD9-FED0D347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E8C2F90-2CB1-450E-83E4-D484F6A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48F062E-DFB5-41F9-9D27-9A58AD25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FCF4BFF-C0CA-4231-96C4-C2280392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63F15BF-80B4-47ED-8BA4-5AABC715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FBE765A-40F9-46FF-A29E-4F2C2C7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454B0A7-D0C7-437E-BB12-81FA46C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B1CE352-70BD-40FD-B8FB-63721AA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5E40206-86C2-4716-A647-6FE7A33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7E053F0-1BCD-431E-B6E0-66EB83B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60264-E6FA-4B26-AC8F-DE11680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6120911-5D66-437C-A9EC-E1FF5C6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CB3A6A3-3EE0-492A-BD87-12C558B1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2845E73-330F-45A1-8A10-F4AB6B7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ADC85F5-20D7-4DBF-AEC6-742BF6F7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D7A7000-8E18-46F9-A0A2-73658AEB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731B486-669C-4D64-B1E6-BAC40C3F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5D7BFDE-43B1-40DF-81FD-8C785C9C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A65D4C-10BA-4D29-B0D4-B0F9B79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C9FB655-0612-4A0E-9A3A-7C5150E9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786E2D8-5647-459F-A93A-2FAB8BC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D694-C7E7-47E2-99AB-8674753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6EC734C-CFF6-47BD-8B62-917E625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6E4B8A6-BCC0-4F57-BEE9-203F211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A9B7C9-E9C7-4AB3-9634-FD515B0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3AD4AA1-BBAF-4AD5-9CF7-12655E9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A1CB6CB-AD02-491E-B14D-7731BC8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8AB4AB4-26F4-4449-B799-AE776506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B07B780-B146-4A93-8AA6-FB3D5DB9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1FA0D52-E3F7-41B1-9720-57D8DE90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3C10177-2094-49DE-BC00-540CCB5E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AE623F6-974E-4089-B1C9-599BC39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0434-340F-404A-8F2A-3F41F7D74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32A7-973A-4E45-AAFC-675820FAC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D033-6AAA-4B34-8917-04D88AD0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630-3108-494B-9751-2708E8F5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ED6E-8326-4A87-AF7A-BD1C2769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144-01E1-4C36-BF9A-ECE9BA5F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0EA-A344-44D0-BC86-A6B7FED5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661-94CC-45B6-BA36-5F64DF77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CF3-E32C-4E30-B83F-BF0DE989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AC73-5501-4350-AC1F-1BEE3E23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F2DC-CE11-4845-A41B-518D14BD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1481-3E90-4DA3-8A9E-45A9FF3742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BD5-FBE1-4EAD-A6A4-33A51BEC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CD3-9D70-41A0-8555-DF78D315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5C18-2201-42EE-B7F5-02B43B72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FF93-227E-4FA9-85E9-692E58B4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989E-BA11-4109-A733-133BF7A7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B286-1B88-4FE9-877F-49818369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702-A321-4083-95A6-A285833E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68E0-2644-4399-80CF-F3AA7067F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8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CE5B-F26D-4793-BF2C-790A0E52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3B6-DB33-4D4E-B63F-5183B741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B66-15CB-4026-B098-BAACF71BC3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7B3D-EFA0-4116-BE43-9C31C6F4F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E05-F9BB-49A0-8354-5CE2FCFD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A0B7-C1CE-4C9B-9EA3-910A3321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AEE-3511-44AF-8AFA-F27E0130B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E02-4E13-4621-AE23-DC6A24A4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28C-0B1A-4440-9C32-75220B1C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C55-F88C-4340-A0E5-4EF6AFA6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79D-2196-4833-8F06-3875DF49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5C5-77E8-46A3-8E68-B6E82734A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1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F87-6601-4113-B6CE-10367414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DBB-7A84-4226-A8F8-9E217BBAF5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 type="dt" idx="11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D15-1146-4FB7-8F62-540BACD4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2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817-FEEE-4351-BE52-BAB062A8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700-1B71-4234-A057-B160BF087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2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0363-65F8-4E00-AB2E-860FD667E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dt" idx="13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E86-33FB-4FFC-81B0-F402C121F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8487-25C6-4738-B65D-78B7955E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E2B-7E35-413E-A922-E70F57C4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3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68A-389C-4865-AA90-636B389CA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14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598-2B79-45D2-B9C8-6C510DAB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 type="dt" idx="14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082-E24D-4371-BDA5-D73673925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654-2443-4C23-9CE9-0495079F36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dt" idx="14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CA5-A9D2-4C96-A2A6-D3BBA365A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5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A64-EC89-4AEE-901A-ACA62B7AC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 type="dt" idx="15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39FF-1475-4D12-AC71-4306FA58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 type="dt" idx="15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FB37-1336-4BD3-A3A0-DB1D3388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 type="dt" idx="16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74AF-12B0-4E0E-BE09-5BD921C4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 type="dt" idx="16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678-F47F-4465-A566-1E3F7C7D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 type="dt" idx="16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C69-3280-4318-95B6-93DC79A5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630-694B-4328-AF30-200BACA3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 type="dt" idx="17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992B-3B58-4494-8DA7-36E3665B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dt" idx="17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17B-A4B0-48DA-A733-3F91FEB5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6D7-1BD0-48FC-8081-614E8195F9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 type="dt" idx="17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0F9-E674-4D9C-8A94-3137EA10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 type="dt" idx="18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4C0-B685-45FC-BA9D-81C1F89C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 type="dt" idx="18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0D6-E624-4BD8-9E7B-7ED78200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 type="dt" idx="18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EAD-85A6-45E5-A38D-55EF86B7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 type="dt" idx="19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53A8-2089-4073-A5BB-B688CAAC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19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CBD3-90C6-4493-BC34-EDB75A2E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dt" idx="19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A88-61AC-4E0F-91A8-FFA37D9D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19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0101-9A26-49EE-A662-CC8896F7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 type="dt" idx="20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254E-13A3-4BA9-B210-896C43DE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C79-CC7C-4FD1-A5F0-926D12D4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A73-7716-4C90-9366-4C49E11980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 type="dt" idx="20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38F-5ED5-4480-9DE5-DF3C8F47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 type="dt" idx="21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1B6B-DDBC-4FE1-94D1-9B9E2444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 type="dt" idx="21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8C4-A8F2-4076-9E87-D7EBC627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 type="dt" idx="21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D9B-0DD8-4111-90D3-1166AD5A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 type="dt" idx="22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 type="ftr" idx="2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5474-EF0F-4949-91C1-C3CB9912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 type="dt" idx="22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 type="ftr" idx="2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70F-C969-4D1F-BD19-FF4E7DF5B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 type="dt" idx="22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 type="ftr" idx="2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57C-AD89-4A9A-9170-61FF9755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 type="dt" idx="22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4"/>
          <p:cNvSpPr>
            <a:spLocks noGrp="1"/>
          </p:cNvSpPr>
          <p:nvPr>
            <p:ph type="ftr" idx="2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5"/>
          <p:cNvSpPr>
            <a:spLocks noGrp="1"/>
          </p:cNvSpPr>
          <p:nvPr>
            <p:ph type="sldNum" idx="23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4120-4060-4D74-8562-B99DD76B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 type="dt" idx="23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PlaceHolder 4"/>
          <p:cNvSpPr>
            <a:spLocks noGrp="1"/>
          </p:cNvSpPr>
          <p:nvPr>
            <p:ph type="ftr" idx="2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5"/>
          <p:cNvSpPr>
            <a:spLocks noGrp="1"/>
          </p:cNvSpPr>
          <p:nvPr>
            <p:ph type="sldNum" idx="23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C08-5A7A-4567-92BD-74676D2D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 type="dt" idx="23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 type="ftr" idx="2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5"/>
          <p:cNvSpPr>
            <a:spLocks noGrp="1"/>
          </p:cNvSpPr>
          <p:nvPr>
            <p:ph type="sldNum" idx="23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E982-2A2E-4C0C-BA51-25BE2631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D398-47E1-4E3A-8C46-D15186A585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 type="dt" idx="23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 type="ftr" idx="2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 type="sldNum" idx="24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8191-E27D-40FD-96B8-0BBD3432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 type="dt" idx="2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 type="sldNum" idx="2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473-B72A-4A7A-BE01-D45A93C1D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24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2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24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C9B-EDFD-4015-B1E6-D3FA6B6A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 type="dt" idx="24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 type="ftr" idx="2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 type="sldNum" idx="24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F65-3C85-4EFB-B008-FB6D8B1F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 type="dt" idx="25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 type="ftr" idx="2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5"/>
          <p:cNvSpPr>
            <a:spLocks noGrp="1"/>
          </p:cNvSpPr>
          <p:nvPr>
            <p:ph type="sldNum" idx="25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60B-4BF5-485B-998C-6B321B77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 type="dt" idx="25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 type="ftr" idx="2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5"/>
          <p:cNvSpPr>
            <a:spLocks noGrp="1"/>
          </p:cNvSpPr>
          <p:nvPr>
            <p:ph type="sldNum" idx="25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777E-D311-4140-BF78-39A4B65E0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 type="dt" idx="25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 type="ftr" idx="2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 type="sldNum" idx="25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7832-7649-477D-8FD5-ACE0267F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 type="dt" idx="25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PlaceHolder 4"/>
          <p:cNvSpPr>
            <a:spLocks noGrp="1"/>
          </p:cNvSpPr>
          <p:nvPr>
            <p:ph type="ftr" idx="2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5"/>
          <p:cNvSpPr>
            <a:spLocks noGrp="1"/>
          </p:cNvSpPr>
          <p:nvPr>
            <p:ph type="sldNum" idx="26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F6F-FCCE-4D13-BAAA-53B3D299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 type="dt" idx="26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4"/>
          <p:cNvSpPr>
            <a:spLocks noGrp="1"/>
          </p:cNvSpPr>
          <p:nvPr>
            <p:ph type="ftr" idx="2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5"/>
          <p:cNvSpPr>
            <a:spLocks noGrp="1"/>
          </p:cNvSpPr>
          <p:nvPr>
            <p:ph type="sldNum" idx="26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CC0-6979-44DA-9436-E39F31ED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 type="dt" idx="26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 type="ftr" idx="2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 type="sldNum" idx="26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749A-EE94-4922-A547-86C2C7FC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FBCF-EDD0-4731-8C70-747EC620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 type="dt" idx="26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 type="ftr" idx="2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 type="sldNum" idx="27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574-BEE6-4841-A3AC-459D3965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 type="dt" idx="27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 type="ftr" idx="2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 type="sldNum" idx="27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FCA8-84EB-49E9-AEB8-315B1EC20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8" name="PlaceHolder 3"/>
          <p:cNvSpPr>
            <a:spLocks noGrp="1"/>
          </p:cNvSpPr>
          <p:nvPr>
            <p:ph type="dt" idx="27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4"/>
          <p:cNvSpPr>
            <a:spLocks noGrp="1"/>
          </p:cNvSpPr>
          <p:nvPr>
            <p:ph type="ftr" idx="2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5"/>
          <p:cNvSpPr>
            <a:spLocks noGrp="1"/>
          </p:cNvSpPr>
          <p:nvPr>
            <p:ph type="sldNum" idx="27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FAB-7C39-46C4-84C6-D73AC994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7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hyperlink" Target="http://img3.3lian.com/2006/013/07/20051010193029435.gif" TargetMode="Externa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7" name="Picture 2" descr="7ea5a81db6e77d9286d6b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8" name="Text Box 3"/>
          <p:cNvSpPr/>
          <p:nvPr/>
        </p:nvSpPr>
        <p:spPr>
          <a:xfrm>
            <a:off x="1187280" y="333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隶书"/>
                <a:ea typeface="隶书"/>
              </a:rPr>
              <a:t>27.</a:t>
            </a: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再来一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Text Box 5"/>
          <p:cNvSpPr/>
          <p:nvPr/>
        </p:nvSpPr>
        <p:spPr>
          <a:xfrm>
            <a:off x="0" y="566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5472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由自主是什么意思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能用它造句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048200" y="4802040"/>
            <a:ext cx="38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4073400" y="414792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到这幅画，他不由自主地想起了妈妈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到周末，我不由自主地想去玩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Text Box 3"/>
          <p:cNvSpPr/>
          <p:nvPr/>
        </p:nvSpPr>
        <p:spPr>
          <a:xfrm>
            <a:off x="179280" y="333360"/>
            <a:ext cx="8785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心的妈妈发现小加有些反常，就问：“怎么啦，垂头丧气的，遇到什难事了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加说：“今天课外活动，我们玩儿‘跳马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跳马？”爸爸笑着说，“这个游戏我们小时候也玩儿过。一个人站在垫子上，弯下腰，手支在腿上当‘马’，另外的人就可以跳了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，我没有跳过去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？”妈妈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我第一次玩儿‘跳马’，有点害怕。我想，要是跳不过去，或者从‘马’上摔下来，那该多难为情啊。所以，我跑到‘马’跟前的时候，不由自主地停了下来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0" name="Group 4"/>
          <p:cNvGrpSpPr/>
          <p:nvPr/>
        </p:nvGrpSpPr>
        <p:grpSpPr>
          <a:xfrm>
            <a:off x="539640" y="316080"/>
            <a:ext cx="503280" cy="5001840"/>
            <a:chOff x="539640" y="316080"/>
            <a:chExt cx="503280" cy="5001840"/>
          </a:xfrm>
        </p:grpSpPr>
        <p:sp>
          <p:nvSpPr>
            <p:cNvPr id="3991" name="Text Box 5"/>
            <p:cNvSpPr/>
            <p:nvPr/>
          </p:nvSpPr>
          <p:spPr>
            <a:xfrm>
              <a:off x="610920" y="3160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Text Box 6"/>
            <p:cNvSpPr/>
            <p:nvPr/>
          </p:nvSpPr>
          <p:spPr>
            <a:xfrm>
              <a:off x="539640" y="1412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Text Box 7"/>
            <p:cNvSpPr/>
            <p:nvPr/>
          </p:nvSpPr>
          <p:spPr>
            <a:xfrm>
              <a:off x="539640" y="1989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Text Box 8"/>
            <p:cNvSpPr/>
            <p:nvPr/>
          </p:nvSpPr>
          <p:spPr>
            <a:xfrm>
              <a:off x="539640" y="357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Text Box 9"/>
            <p:cNvSpPr/>
            <p:nvPr/>
          </p:nvSpPr>
          <p:spPr>
            <a:xfrm>
              <a:off x="539640" y="4221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Text Box 10"/>
            <p:cNvSpPr/>
            <p:nvPr/>
          </p:nvSpPr>
          <p:spPr>
            <a:xfrm>
              <a:off x="539640" y="4797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7" name="Picture 2" descr="小男孩1"/>
          <p:cNvPicPr/>
          <p:nvPr/>
        </p:nvPicPr>
        <p:blipFill>
          <a:blip r:embed="rId1"/>
          <a:stretch/>
        </p:blipFill>
        <p:spPr>
          <a:xfrm>
            <a:off x="0" y="384192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3998" name="Picture 3" descr="图片 03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9" name="Text Box 4"/>
          <p:cNvSpPr/>
          <p:nvPr/>
        </p:nvSpPr>
        <p:spPr>
          <a:xfrm>
            <a:off x="1541160" y="333360"/>
            <a:ext cx="145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跳“马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AutoShape 5"/>
          <p:cNvSpPr/>
          <p:nvPr/>
        </p:nvSpPr>
        <p:spPr>
          <a:xfrm>
            <a:off x="6300720" y="333360"/>
            <a:ext cx="1633680" cy="1295280"/>
          </a:xfrm>
          <a:prstGeom prst="cloudCallout">
            <a:avLst>
              <a:gd name="adj1" fmla="val -2476"/>
              <a:gd name="adj2" fmla="val 56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AutoShape 6"/>
          <p:cNvSpPr/>
          <p:nvPr/>
        </p:nvSpPr>
        <p:spPr>
          <a:xfrm>
            <a:off x="5580000" y="0"/>
            <a:ext cx="3095640" cy="1951200"/>
          </a:xfrm>
          <a:prstGeom prst="cloudCallout">
            <a:avLst>
              <a:gd name="adj1" fmla="val -33537"/>
              <a:gd name="adj2" fmla="val 83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AutoShape 7"/>
          <p:cNvSpPr/>
          <p:nvPr/>
        </p:nvSpPr>
        <p:spPr>
          <a:xfrm>
            <a:off x="5940360" y="404640"/>
            <a:ext cx="2232000" cy="1689120"/>
          </a:xfrm>
          <a:prstGeom prst="cloudCallout">
            <a:avLst>
              <a:gd name="adj1" fmla="val -47439"/>
              <a:gd name="adj2" fmla="val 57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AutoShape 8"/>
          <p:cNvSpPr/>
          <p:nvPr/>
        </p:nvSpPr>
        <p:spPr>
          <a:xfrm>
            <a:off x="6804000" y="98100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AutoShape 9"/>
          <p:cNvSpPr/>
          <p:nvPr/>
        </p:nvSpPr>
        <p:spPr>
          <a:xfrm>
            <a:off x="6443640" y="0"/>
            <a:ext cx="2700360" cy="1484280"/>
          </a:xfrm>
          <a:prstGeom prst="cloudCallout">
            <a:avLst>
              <a:gd name="adj1" fmla="val -56527"/>
              <a:gd name="adj2" fmla="val 96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我怕摔下来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"/>
          <p:cNvSpPr/>
          <p:nvPr/>
        </p:nvSpPr>
        <p:spPr>
          <a:xfrm>
            <a:off x="0" y="1341360"/>
            <a:ext cx="74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全班齐读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自然段，读出妈妈的关怀、鼓励，读出小加的自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6" name="Picture 6" descr="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7" name="Text Box 3"/>
          <p:cNvSpPr/>
          <p:nvPr/>
        </p:nvSpPr>
        <p:spPr>
          <a:xfrm>
            <a:off x="0" y="0"/>
            <a:ext cx="6516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哦，原来是这样。”妈妈摸着小加的头，笑着说：“那你为什么不再来一次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害怕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并没有摔下去，因为你连试没试一下，这比摔下去还糟糕。”妈妈说，“做一件事，重要的并不是成功或失败，而是专心去做，努力去做，哪怕只有一点儿希望也要坚持，绝不能因为没有信心而放弃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么说，哪怕是失败，我也应该再来一次？”小加眨眨眼睛问妈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啊，好孩子。”妈妈高兴地笑了，“别怕失败，重要的是再来一次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8" name="Picture 5" descr="1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4009" name="Text Box 21"/>
          <p:cNvSpPr/>
          <p:nvPr/>
        </p:nvSpPr>
        <p:spPr>
          <a:xfrm>
            <a:off x="32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Text Box 22"/>
          <p:cNvSpPr/>
          <p:nvPr/>
        </p:nvSpPr>
        <p:spPr>
          <a:xfrm>
            <a:off x="395280" y="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23"/>
          <p:cNvSpPr/>
          <p:nvPr/>
        </p:nvSpPr>
        <p:spPr>
          <a:xfrm>
            <a:off x="250920" y="486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24"/>
          <p:cNvSpPr/>
          <p:nvPr/>
        </p:nvSpPr>
        <p:spPr>
          <a:xfrm>
            <a:off x="250920" y="2133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Text Box 25"/>
          <p:cNvSpPr/>
          <p:nvPr/>
        </p:nvSpPr>
        <p:spPr>
          <a:xfrm>
            <a:off x="250920" y="5950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4" name="Group 38"/>
          <p:cNvGrpSpPr/>
          <p:nvPr/>
        </p:nvGrpSpPr>
        <p:grpSpPr>
          <a:xfrm>
            <a:off x="0" y="476280"/>
            <a:ext cx="6300720" cy="6381720"/>
            <a:chOff x="0" y="476280"/>
            <a:chExt cx="6300720" cy="6381720"/>
          </a:xfrm>
        </p:grpSpPr>
        <p:sp>
          <p:nvSpPr>
            <p:cNvPr id="4015" name="Line 28"/>
            <p:cNvSpPr/>
            <p:nvPr/>
          </p:nvSpPr>
          <p:spPr>
            <a:xfrm>
              <a:off x="755640" y="476280"/>
              <a:ext cx="2736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Line 29"/>
            <p:cNvSpPr/>
            <p:nvPr/>
          </p:nvSpPr>
          <p:spPr>
            <a:xfrm>
              <a:off x="2268360" y="907920"/>
              <a:ext cx="3888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Line 30"/>
            <p:cNvSpPr/>
            <p:nvPr/>
          </p:nvSpPr>
          <p:spPr>
            <a:xfrm>
              <a:off x="1187280" y="2565360"/>
              <a:ext cx="51134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Line 31"/>
            <p:cNvSpPr/>
            <p:nvPr/>
          </p:nvSpPr>
          <p:spPr>
            <a:xfrm>
              <a:off x="179280" y="2997360"/>
              <a:ext cx="3888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Line 32"/>
            <p:cNvSpPr/>
            <p:nvPr/>
          </p:nvSpPr>
          <p:spPr>
            <a:xfrm>
              <a:off x="324000" y="3429000"/>
              <a:ext cx="5616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Line 33"/>
            <p:cNvSpPr/>
            <p:nvPr/>
          </p:nvSpPr>
          <p:spPr>
            <a:xfrm>
              <a:off x="179280" y="3933720"/>
              <a:ext cx="59054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Line 34"/>
            <p:cNvSpPr/>
            <p:nvPr/>
          </p:nvSpPr>
          <p:spPr>
            <a:xfrm>
              <a:off x="179280" y="4292640"/>
              <a:ext cx="6048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Line 35"/>
            <p:cNvSpPr/>
            <p:nvPr/>
          </p:nvSpPr>
          <p:spPr>
            <a:xfrm>
              <a:off x="0" y="4724280"/>
              <a:ext cx="1692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Line 36"/>
            <p:cNvSpPr/>
            <p:nvPr/>
          </p:nvSpPr>
          <p:spPr>
            <a:xfrm>
              <a:off x="250920" y="6453360"/>
              <a:ext cx="2952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Line 37"/>
            <p:cNvSpPr/>
            <p:nvPr/>
          </p:nvSpPr>
          <p:spPr>
            <a:xfrm>
              <a:off x="0" y="6858000"/>
              <a:ext cx="558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5" name="Picture 2" descr="7ea5a81db6e77d9286d6b617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026" name="AutoShape 3"/>
          <p:cNvSpPr/>
          <p:nvPr/>
        </p:nvSpPr>
        <p:spPr>
          <a:xfrm>
            <a:off x="4643280" y="0"/>
            <a:ext cx="4321440" cy="4797360"/>
          </a:xfrm>
          <a:prstGeom prst="wedgeRoundRectCallout">
            <a:avLst>
              <a:gd name="adj1" fmla="val -80125"/>
              <a:gd name="adj2" fmla="val -2001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AutoShape 4"/>
          <p:cNvSpPr/>
          <p:nvPr/>
        </p:nvSpPr>
        <p:spPr>
          <a:xfrm>
            <a:off x="5580000" y="0"/>
            <a:ext cx="3095640" cy="1951200"/>
          </a:xfrm>
          <a:prstGeom prst="cloudCallout">
            <a:avLst>
              <a:gd name="adj1" fmla="val -33537"/>
              <a:gd name="adj2" fmla="val 83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AutoShape 5"/>
          <p:cNvSpPr/>
          <p:nvPr/>
        </p:nvSpPr>
        <p:spPr>
          <a:xfrm>
            <a:off x="5796000" y="216000"/>
            <a:ext cx="3095640" cy="1950840"/>
          </a:xfrm>
          <a:prstGeom prst="cloudCallout">
            <a:avLst>
              <a:gd name="adj1" fmla="val -103384"/>
              <a:gd name="adj2" fmla="val 1016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AutoShape 6"/>
          <p:cNvSpPr/>
          <p:nvPr/>
        </p:nvSpPr>
        <p:spPr>
          <a:xfrm>
            <a:off x="4572000" y="0"/>
            <a:ext cx="4932360" cy="4653000"/>
          </a:xfrm>
          <a:prstGeom prst="cloudCallout">
            <a:avLst>
              <a:gd name="adj1" fmla="val -95444"/>
              <a:gd name="adj2" fmla="val -17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做一件事，重要的并不是成功或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败，而是专心去做，努力去做，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怕只有一点儿希望也要坚持，绝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能因为没有信心而放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0" name="Group 7"/>
          <p:cNvGrpSpPr/>
          <p:nvPr/>
        </p:nvGrpSpPr>
        <p:grpSpPr>
          <a:xfrm>
            <a:off x="5508720" y="4869000"/>
            <a:ext cx="2520360" cy="1822320"/>
            <a:chOff x="5508720" y="4869000"/>
            <a:chExt cx="2520360" cy="1822320"/>
          </a:xfrm>
        </p:grpSpPr>
        <p:pic>
          <p:nvPicPr>
            <p:cNvPr id="4031" name="Picture 8" descr="卡通图片（2）"/>
            <p:cNvPicPr/>
            <p:nvPr/>
          </p:nvPicPr>
          <p:blipFill>
            <a:blip r:embed="rId2"/>
            <a:stretch/>
          </p:blipFill>
          <p:spPr>
            <a:xfrm>
              <a:off x="5508720" y="4869000"/>
              <a:ext cx="252036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2" name="Rectangle 9"/>
            <p:cNvSpPr/>
            <p:nvPr/>
          </p:nvSpPr>
          <p:spPr>
            <a:xfrm>
              <a:off x="5897520" y="5119560"/>
              <a:ext cx="2033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妈妈说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3" name="Picture 26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489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这么说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哪怕是失败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我也应该再来一次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5" name="Rectangle 3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869080" y="46080"/>
            <a:ext cx="3168720" cy="6767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"/>
          <p:cNvSpPr/>
          <p:nvPr/>
        </p:nvSpPr>
        <p:spPr>
          <a:xfrm>
            <a:off x="468360" y="1413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这三段话，说说小加懂了什么？你又读懂了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7" name="Picture 9" descr="圣诞树6"/>
          <p:cNvPicPr/>
          <p:nvPr/>
        </p:nvPicPr>
        <p:blipFill>
          <a:blip r:embed="rId1"/>
          <a:stretch/>
        </p:blipFill>
        <p:spPr>
          <a:xfrm>
            <a:off x="7740720" y="5288040"/>
            <a:ext cx="1143000" cy="1569960"/>
          </a:xfrm>
          <a:prstGeom prst="rect">
            <a:avLst/>
          </a:prstGeom>
          <a:ln w="0">
            <a:noFill/>
          </a:ln>
        </p:spPr>
      </p:pic>
      <p:sp>
        <p:nvSpPr>
          <p:cNvPr id="4038" name="Rectangle 11"/>
          <p:cNvSpPr/>
          <p:nvPr/>
        </p:nvSpPr>
        <p:spPr>
          <a:xfrm>
            <a:off x="272880" y="836640"/>
            <a:ext cx="88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读读妈妈鼓励小加的话，从中你读懂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Rectangle 12"/>
          <p:cNvSpPr/>
          <p:nvPr/>
        </p:nvSpPr>
        <p:spPr>
          <a:xfrm>
            <a:off x="0" y="20606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做一件事，重要的并不是成功或失败，而是专心去做，努力去做，哪怕只有一点儿希望也要坚持，绝不能因为没有信心而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Rectangle 18"/>
          <p:cNvSpPr/>
          <p:nvPr/>
        </p:nvSpPr>
        <p:spPr>
          <a:xfrm>
            <a:off x="911160" y="26082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Rectangle 19"/>
          <p:cNvSpPr/>
          <p:nvPr/>
        </p:nvSpPr>
        <p:spPr>
          <a:xfrm>
            <a:off x="2059200" y="4365720"/>
            <a:ext cx="31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请用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说一句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2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Rectangle 3"/>
          <p:cNvSpPr/>
          <p:nvPr/>
        </p:nvSpPr>
        <p:spPr>
          <a:xfrm>
            <a:off x="539640" y="1628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听了妈妈的话，小加还会难过、害怕跳马吗？他会怎么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Text Box 5"/>
          <p:cNvSpPr/>
          <p:nvPr/>
        </p:nvSpPr>
        <p:spPr>
          <a:xfrm>
            <a:off x="1403280" y="549360"/>
            <a:ext cx="2737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感体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Text Box 7"/>
          <p:cNvSpPr/>
          <p:nvPr/>
        </p:nvSpPr>
        <p:spPr>
          <a:xfrm>
            <a:off x="611280" y="3068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你认为小加再来一次的结果会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1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952" name="Text Box 4"/>
          <p:cNvSpPr/>
          <p:nvPr/>
        </p:nvSpPr>
        <p:spPr>
          <a:xfrm>
            <a:off x="395280" y="333360"/>
            <a:ext cx="51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谈谈这两个字的用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Text Box 5"/>
          <p:cNvSpPr/>
          <p:nvPr/>
        </p:nvSpPr>
        <p:spPr>
          <a:xfrm>
            <a:off x="1547640" y="141300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</a:rPr>
              <a:t>在        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Text Box 8"/>
          <p:cNvSpPr/>
          <p:nvPr/>
        </p:nvSpPr>
        <p:spPr>
          <a:xfrm>
            <a:off x="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、你有过失败的经历吗？读了这篇课文，你有什么感想？今后面对失败，你认为该怎么做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Text Box 9"/>
          <p:cNvSpPr/>
          <p:nvPr/>
        </p:nvSpPr>
        <p:spPr>
          <a:xfrm>
            <a:off x="179280" y="37162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、在生活中，我们常常会遇到这样的事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你想对他说什么？他该怎么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Text Box 10"/>
          <p:cNvSpPr/>
          <p:nvPr/>
        </p:nvSpPr>
        <p:spPr>
          <a:xfrm>
            <a:off x="0" y="189000"/>
            <a:ext cx="277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大课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8" name="Picture 8" descr="溜3"/>
          <p:cNvPicPr/>
          <p:nvPr/>
        </p:nvPicPr>
        <p:blipFill>
          <a:blip r:embed="rId1"/>
          <a:srcRect l="5042" t="0" r="0" b="8111"/>
          <a:stretch/>
        </p:blipFill>
        <p:spPr>
          <a:xfrm>
            <a:off x="250920" y="189000"/>
            <a:ext cx="8682120" cy="6300720"/>
          </a:xfrm>
          <a:prstGeom prst="rect">
            <a:avLst/>
          </a:prstGeom>
          <a:ln w="0">
            <a:noFill/>
          </a:ln>
        </p:spPr>
      </p:pic>
      <p:pic>
        <p:nvPicPr>
          <p:cNvPr id="4049" name="Picture 10" descr="溜2"/>
          <p:cNvPicPr/>
          <p:nvPr/>
        </p:nvPicPr>
        <p:blipFill>
          <a:blip r:embed="rId2"/>
          <a:srcRect l="1986" t="0" r="0" b="7874"/>
          <a:stretch/>
        </p:blipFill>
        <p:spPr>
          <a:xfrm>
            <a:off x="179280" y="260280"/>
            <a:ext cx="89614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0" name="Picture 6" descr="c3"/>
          <p:cNvPicPr/>
          <p:nvPr/>
        </p:nvPicPr>
        <p:blipFill>
          <a:blip r:embed="rId1"/>
          <a:stretch/>
        </p:blipFill>
        <p:spPr>
          <a:xfrm>
            <a:off x="179280" y="117360"/>
            <a:ext cx="85680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1" name="Picture 4" descr="骑2"/>
          <p:cNvPicPr/>
          <p:nvPr/>
        </p:nvPicPr>
        <p:blipFill>
          <a:blip r:embed="rId1"/>
          <a:stretch/>
        </p:blipFill>
        <p:spPr>
          <a:xfrm>
            <a:off x="684360" y="476280"/>
            <a:ext cx="8316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252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拓展延伸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今后面对失败你认为该怎么做呢？</a:t>
            </a:r>
            <a:br>
              <a:rPr sz="4600"/>
            </a:b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        面对失败，我认为</a:t>
            </a:r>
            <a:r>
              <a:rPr b="1" lang="zh-CN" sz="4600" spc="-1" strike="noStrike" u="sng">
                <a:solidFill>
                  <a:srgbClr val="000000"/>
                </a:solidFill>
                <a:uFillTx/>
                <a:latin typeface="Verdana"/>
              </a:rPr>
              <a:t>     </a:t>
            </a: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3" name=""/>
          <p:cNvSpPr/>
          <p:nvPr/>
        </p:nvSpPr>
        <p:spPr>
          <a:xfrm>
            <a:off x="7883640" y="486900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79280" y="61657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/>
          </p:nvPr>
        </p:nvSpPr>
        <p:spPr>
          <a:xfrm>
            <a:off x="303120" y="2637000"/>
            <a:ext cx="88408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（           ）不像往常那样（     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而是（          ），也不像往常那样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而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Text Box 3"/>
          <p:cNvSpPr/>
          <p:nvPr/>
        </p:nvSpPr>
        <p:spPr>
          <a:xfrm>
            <a:off x="324000" y="134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不像往常那样（          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7" name="WordArt 4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2913120" cy="1256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4"/>
          <p:cNvSpPr/>
          <p:nvPr/>
        </p:nvSpPr>
        <p:spPr>
          <a:xfrm>
            <a:off x="121932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十七课 再来一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Text Box 5"/>
          <p:cNvSpPr/>
          <p:nvPr/>
        </p:nvSpPr>
        <p:spPr>
          <a:xfrm>
            <a:off x="6858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认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Text Box 9"/>
          <p:cNvSpPr/>
          <p:nvPr/>
        </p:nvSpPr>
        <p:spPr>
          <a:xfrm>
            <a:off x="4876920" y="2666880"/>
            <a:ext cx="173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吞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Text Box 10"/>
          <p:cNvSpPr/>
          <p:nvPr/>
        </p:nvSpPr>
        <p:spPr>
          <a:xfrm>
            <a:off x="685800" y="472428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Text Box 11"/>
          <p:cNvSpPr/>
          <p:nvPr/>
        </p:nvSpPr>
        <p:spPr>
          <a:xfrm>
            <a:off x="4284720" y="4724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3" name="Picture 15" descr="Noname1"/>
          <p:cNvPicPr/>
          <p:nvPr/>
        </p:nvPicPr>
        <p:blipFill>
          <a:blip r:embed="rId1"/>
          <a:stretch/>
        </p:blipFill>
        <p:spPr>
          <a:xfrm>
            <a:off x="1994040" y="1104840"/>
            <a:ext cx="1143000" cy="487440"/>
          </a:xfrm>
          <a:prstGeom prst="rect">
            <a:avLst/>
          </a:prstGeom>
          <a:ln w="0">
            <a:noFill/>
          </a:ln>
        </p:spPr>
      </p:pic>
      <p:sp>
        <p:nvSpPr>
          <p:cNvPr id="4064" name="Text Box 17"/>
          <p:cNvSpPr/>
          <p:nvPr/>
        </p:nvSpPr>
        <p:spPr>
          <a:xfrm>
            <a:off x="2133720" y="1143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Text Box 19"/>
          <p:cNvSpPr/>
          <p:nvPr/>
        </p:nvSpPr>
        <p:spPr>
          <a:xfrm>
            <a:off x="6858000" y="4724280"/>
            <a:ext cx="16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Text Box 28"/>
          <p:cNvSpPr/>
          <p:nvPr/>
        </p:nvSpPr>
        <p:spPr>
          <a:xfrm>
            <a:off x="3984480" y="3933720"/>
            <a:ext cx="17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Text Box 28"/>
          <p:cNvSpPr/>
          <p:nvPr/>
        </p:nvSpPr>
        <p:spPr>
          <a:xfrm>
            <a:off x="7578720" y="3800520"/>
            <a:ext cx="17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Text Box 28"/>
          <p:cNvSpPr/>
          <p:nvPr/>
        </p:nvSpPr>
        <p:spPr>
          <a:xfrm>
            <a:off x="1494000" y="3811680"/>
            <a:ext cx="17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Text Box 28"/>
          <p:cNvSpPr/>
          <p:nvPr/>
        </p:nvSpPr>
        <p:spPr>
          <a:xfrm>
            <a:off x="5526000" y="1743120"/>
            <a:ext cx="17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à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0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071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072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073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074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075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076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Text Box 9"/>
          <p:cNvSpPr/>
          <p:nvPr/>
        </p:nvSpPr>
        <p:spPr>
          <a:xfrm>
            <a:off x="1676520" y="9907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à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Text Box 10"/>
          <p:cNvSpPr/>
          <p:nvPr/>
        </p:nvSpPr>
        <p:spPr>
          <a:xfrm>
            <a:off x="4648320" y="32767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头丧气 丧失 闻风丧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Text Box 11"/>
          <p:cNvSpPr/>
          <p:nvPr/>
        </p:nvSpPr>
        <p:spPr>
          <a:xfrm>
            <a:off x="380880" y="4876920"/>
            <a:ext cx="853452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见困难不要垂头丧气，应该迎难而上，努力克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0" name="Group 12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081" name="Rectangle 13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Line 14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Line 15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84" name="Picture 16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085" name="Text Box 28"/>
          <p:cNvSpPr/>
          <p:nvPr/>
        </p:nvSpPr>
        <p:spPr>
          <a:xfrm>
            <a:off x="4648320" y="23623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Text Box 2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Text Box 30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Text Box 31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Text Box 32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Text Box 33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Freeform 44"/>
          <p:cNvSpPr/>
          <p:nvPr/>
        </p:nvSpPr>
        <p:spPr>
          <a:xfrm>
            <a:off x="2828880" y="2352600"/>
            <a:ext cx="184320" cy="943200"/>
          </a:xfrm>
          <a:custGeom>
            <a:avLst/>
            <a:gdLst>
              <a:gd name="textAreaLeft" fmla="*/ 0 w 184320"/>
              <a:gd name="textAreaRight" fmla="*/ 184680 w 184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32" h="1188">
                <a:moveTo>
                  <a:pt x="215" y="151"/>
                </a:moveTo>
                <a:lnTo>
                  <a:pt x="215" y="153"/>
                </a:lnTo>
                <a:lnTo>
                  <a:pt x="213" y="157"/>
                </a:lnTo>
                <a:lnTo>
                  <a:pt x="213" y="163"/>
                </a:lnTo>
                <a:lnTo>
                  <a:pt x="211" y="168"/>
                </a:lnTo>
                <a:lnTo>
                  <a:pt x="211" y="174"/>
                </a:lnTo>
                <a:lnTo>
                  <a:pt x="209" y="180"/>
                </a:lnTo>
                <a:lnTo>
                  <a:pt x="209" y="190"/>
                </a:lnTo>
                <a:lnTo>
                  <a:pt x="207" y="197"/>
                </a:lnTo>
                <a:lnTo>
                  <a:pt x="207" y="207"/>
                </a:lnTo>
                <a:lnTo>
                  <a:pt x="206" y="216"/>
                </a:lnTo>
                <a:lnTo>
                  <a:pt x="206" y="228"/>
                </a:lnTo>
                <a:lnTo>
                  <a:pt x="204" y="239"/>
                </a:lnTo>
                <a:lnTo>
                  <a:pt x="204" y="253"/>
                </a:lnTo>
                <a:lnTo>
                  <a:pt x="202" y="266"/>
                </a:lnTo>
                <a:lnTo>
                  <a:pt x="202" y="280"/>
                </a:lnTo>
                <a:lnTo>
                  <a:pt x="200" y="295"/>
                </a:lnTo>
                <a:lnTo>
                  <a:pt x="200" y="312"/>
                </a:lnTo>
                <a:lnTo>
                  <a:pt x="198" y="328"/>
                </a:lnTo>
                <a:lnTo>
                  <a:pt x="198" y="345"/>
                </a:lnTo>
                <a:lnTo>
                  <a:pt x="196" y="364"/>
                </a:lnTo>
                <a:lnTo>
                  <a:pt x="196" y="383"/>
                </a:lnTo>
                <a:lnTo>
                  <a:pt x="194" y="403"/>
                </a:lnTo>
                <a:lnTo>
                  <a:pt x="194" y="424"/>
                </a:lnTo>
                <a:lnTo>
                  <a:pt x="192" y="447"/>
                </a:lnTo>
                <a:lnTo>
                  <a:pt x="192" y="468"/>
                </a:lnTo>
                <a:lnTo>
                  <a:pt x="192" y="493"/>
                </a:lnTo>
                <a:lnTo>
                  <a:pt x="190" y="516"/>
                </a:lnTo>
                <a:lnTo>
                  <a:pt x="190" y="541"/>
                </a:lnTo>
                <a:lnTo>
                  <a:pt x="188" y="568"/>
                </a:lnTo>
                <a:lnTo>
                  <a:pt x="188" y="595"/>
                </a:lnTo>
                <a:lnTo>
                  <a:pt x="186" y="621"/>
                </a:lnTo>
                <a:lnTo>
                  <a:pt x="186" y="650"/>
                </a:lnTo>
                <a:lnTo>
                  <a:pt x="184" y="677"/>
                </a:lnTo>
                <a:lnTo>
                  <a:pt x="184" y="706"/>
                </a:lnTo>
                <a:lnTo>
                  <a:pt x="183" y="733"/>
                </a:lnTo>
                <a:lnTo>
                  <a:pt x="183" y="760"/>
                </a:lnTo>
                <a:lnTo>
                  <a:pt x="183" y="785"/>
                </a:lnTo>
                <a:lnTo>
                  <a:pt x="181" y="809"/>
                </a:lnTo>
                <a:lnTo>
                  <a:pt x="181" y="833"/>
                </a:lnTo>
                <a:lnTo>
                  <a:pt x="181" y="856"/>
                </a:lnTo>
                <a:lnTo>
                  <a:pt x="179" y="879"/>
                </a:lnTo>
                <a:lnTo>
                  <a:pt x="179" y="900"/>
                </a:lnTo>
                <a:lnTo>
                  <a:pt x="179" y="921"/>
                </a:lnTo>
                <a:lnTo>
                  <a:pt x="179" y="942"/>
                </a:lnTo>
                <a:lnTo>
                  <a:pt x="179" y="961"/>
                </a:lnTo>
                <a:lnTo>
                  <a:pt x="177" y="980"/>
                </a:lnTo>
                <a:lnTo>
                  <a:pt x="177" y="998"/>
                </a:lnTo>
                <a:lnTo>
                  <a:pt x="177" y="1015"/>
                </a:lnTo>
                <a:lnTo>
                  <a:pt x="177" y="1032"/>
                </a:lnTo>
                <a:lnTo>
                  <a:pt x="177" y="1047"/>
                </a:lnTo>
                <a:lnTo>
                  <a:pt x="177" y="1063"/>
                </a:lnTo>
                <a:lnTo>
                  <a:pt x="177" y="1076"/>
                </a:lnTo>
                <a:lnTo>
                  <a:pt x="177" y="1090"/>
                </a:lnTo>
                <a:lnTo>
                  <a:pt x="177" y="1103"/>
                </a:lnTo>
                <a:lnTo>
                  <a:pt x="177" y="1115"/>
                </a:lnTo>
                <a:lnTo>
                  <a:pt x="175" y="1126"/>
                </a:lnTo>
                <a:lnTo>
                  <a:pt x="175" y="1136"/>
                </a:lnTo>
                <a:lnTo>
                  <a:pt x="175" y="1145"/>
                </a:lnTo>
                <a:lnTo>
                  <a:pt x="175" y="1155"/>
                </a:lnTo>
                <a:lnTo>
                  <a:pt x="175" y="1163"/>
                </a:lnTo>
                <a:lnTo>
                  <a:pt x="175" y="1170"/>
                </a:lnTo>
                <a:lnTo>
                  <a:pt x="175" y="1176"/>
                </a:lnTo>
                <a:lnTo>
                  <a:pt x="175" y="1182"/>
                </a:lnTo>
                <a:lnTo>
                  <a:pt x="175" y="1188"/>
                </a:lnTo>
                <a:lnTo>
                  <a:pt x="65" y="1188"/>
                </a:lnTo>
                <a:lnTo>
                  <a:pt x="65" y="1153"/>
                </a:lnTo>
                <a:lnTo>
                  <a:pt x="65" y="1118"/>
                </a:lnTo>
                <a:lnTo>
                  <a:pt x="65" y="1086"/>
                </a:lnTo>
                <a:lnTo>
                  <a:pt x="65" y="1053"/>
                </a:lnTo>
                <a:lnTo>
                  <a:pt x="65" y="1021"/>
                </a:lnTo>
                <a:lnTo>
                  <a:pt x="65" y="988"/>
                </a:lnTo>
                <a:lnTo>
                  <a:pt x="65" y="957"/>
                </a:lnTo>
                <a:lnTo>
                  <a:pt x="65" y="927"/>
                </a:lnTo>
                <a:lnTo>
                  <a:pt x="65" y="896"/>
                </a:lnTo>
                <a:lnTo>
                  <a:pt x="65" y="867"/>
                </a:lnTo>
                <a:lnTo>
                  <a:pt x="65" y="838"/>
                </a:lnTo>
                <a:lnTo>
                  <a:pt x="65" y="809"/>
                </a:lnTo>
                <a:lnTo>
                  <a:pt x="65" y="783"/>
                </a:lnTo>
                <a:lnTo>
                  <a:pt x="64" y="754"/>
                </a:lnTo>
                <a:lnTo>
                  <a:pt x="64" y="727"/>
                </a:lnTo>
                <a:lnTo>
                  <a:pt x="64" y="700"/>
                </a:lnTo>
                <a:lnTo>
                  <a:pt x="64" y="675"/>
                </a:lnTo>
                <a:lnTo>
                  <a:pt x="64" y="650"/>
                </a:lnTo>
                <a:lnTo>
                  <a:pt x="64" y="625"/>
                </a:lnTo>
                <a:lnTo>
                  <a:pt x="64" y="600"/>
                </a:lnTo>
                <a:lnTo>
                  <a:pt x="62" y="577"/>
                </a:lnTo>
                <a:lnTo>
                  <a:pt x="62" y="554"/>
                </a:lnTo>
                <a:lnTo>
                  <a:pt x="62" y="531"/>
                </a:lnTo>
                <a:lnTo>
                  <a:pt x="62" y="508"/>
                </a:lnTo>
                <a:lnTo>
                  <a:pt x="62" y="487"/>
                </a:lnTo>
                <a:lnTo>
                  <a:pt x="60" y="466"/>
                </a:lnTo>
                <a:lnTo>
                  <a:pt x="60" y="445"/>
                </a:lnTo>
                <a:lnTo>
                  <a:pt x="60" y="426"/>
                </a:lnTo>
                <a:lnTo>
                  <a:pt x="60" y="406"/>
                </a:lnTo>
                <a:lnTo>
                  <a:pt x="58" y="387"/>
                </a:lnTo>
                <a:lnTo>
                  <a:pt x="58" y="368"/>
                </a:lnTo>
                <a:lnTo>
                  <a:pt x="58" y="351"/>
                </a:lnTo>
                <a:lnTo>
                  <a:pt x="56" y="334"/>
                </a:lnTo>
                <a:lnTo>
                  <a:pt x="56" y="316"/>
                </a:lnTo>
                <a:lnTo>
                  <a:pt x="56" y="301"/>
                </a:lnTo>
                <a:lnTo>
                  <a:pt x="54" y="284"/>
                </a:lnTo>
                <a:lnTo>
                  <a:pt x="54" y="268"/>
                </a:lnTo>
                <a:lnTo>
                  <a:pt x="54" y="255"/>
                </a:lnTo>
                <a:lnTo>
                  <a:pt x="52" y="239"/>
                </a:lnTo>
                <a:lnTo>
                  <a:pt x="52" y="226"/>
                </a:lnTo>
                <a:lnTo>
                  <a:pt x="50" y="213"/>
                </a:lnTo>
                <a:lnTo>
                  <a:pt x="50" y="201"/>
                </a:lnTo>
                <a:lnTo>
                  <a:pt x="50" y="188"/>
                </a:lnTo>
                <a:lnTo>
                  <a:pt x="48" y="176"/>
                </a:lnTo>
                <a:lnTo>
                  <a:pt x="48" y="167"/>
                </a:lnTo>
                <a:lnTo>
                  <a:pt x="46" y="155"/>
                </a:lnTo>
                <a:lnTo>
                  <a:pt x="46" y="145"/>
                </a:lnTo>
                <a:lnTo>
                  <a:pt x="44" y="136"/>
                </a:lnTo>
                <a:lnTo>
                  <a:pt x="44" y="126"/>
                </a:lnTo>
                <a:lnTo>
                  <a:pt x="42" y="119"/>
                </a:lnTo>
                <a:lnTo>
                  <a:pt x="42" y="111"/>
                </a:lnTo>
                <a:lnTo>
                  <a:pt x="41" y="103"/>
                </a:lnTo>
                <a:lnTo>
                  <a:pt x="41" y="96"/>
                </a:lnTo>
                <a:lnTo>
                  <a:pt x="39" y="90"/>
                </a:lnTo>
                <a:lnTo>
                  <a:pt x="37" y="84"/>
                </a:lnTo>
                <a:lnTo>
                  <a:pt x="37" y="78"/>
                </a:lnTo>
                <a:lnTo>
                  <a:pt x="35" y="73"/>
                </a:lnTo>
                <a:lnTo>
                  <a:pt x="35" y="69"/>
                </a:lnTo>
                <a:lnTo>
                  <a:pt x="33" y="65"/>
                </a:lnTo>
                <a:lnTo>
                  <a:pt x="31" y="63"/>
                </a:lnTo>
                <a:lnTo>
                  <a:pt x="31" y="59"/>
                </a:lnTo>
                <a:lnTo>
                  <a:pt x="29" y="57"/>
                </a:lnTo>
                <a:lnTo>
                  <a:pt x="27" y="55"/>
                </a:lnTo>
                <a:lnTo>
                  <a:pt x="25" y="53"/>
                </a:lnTo>
                <a:lnTo>
                  <a:pt x="21" y="51"/>
                </a:lnTo>
                <a:lnTo>
                  <a:pt x="16" y="48"/>
                </a:lnTo>
                <a:lnTo>
                  <a:pt x="12" y="44"/>
                </a:lnTo>
                <a:lnTo>
                  <a:pt x="10" y="40"/>
                </a:lnTo>
                <a:lnTo>
                  <a:pt x="6" y="36"/>
                </a:lnTo>
                <a:lnTo>
                  <a:pt x="4" y="34"/>
                </a:lnTo>
                <a:lnTo>
                  <a:pt x="2" y="30"/>
                </a:lnTo>
                <a:lnTo>
                  <a:pt x="2" y="26"/>
                </a:lnTo>
                <a:lnTo>
                  <a:pt x="0" y="21"/>
                </a:lnTo>
                <a:lnTo>
                  <a:pt x="0" y="15"/>
                </a:lnTo>
                <a:lnTo>
                  <a:pt x="2" y="11"/>
                </a:lnTo>
                <a:lnTo>
                  <a:pt x="6" y="7"/>
                </a:lnTo>
                <a:lnTo>
                  <a:pt x="8" y="5"/>
                </a:lnTo>
                <a:lnTo>
                  <a:pt x="12" y="3"/>
                </a:lnTo>
                <a:lnTo>
                  <a:pt x="16" y="2"/>
                </a:lnTo>
                <a:lnTo>
                  <a:pt x="19" y="2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5" y="0"/>
                </a:lnTo>
                <a:lnTo>
                  <a:pt x="75" y="2"/>
                </a:lnTo>
                <a:lnTo>
                  <a:pt x="85" y="2"/>
                </a:lnTo>
                <a:lnTo>
                  <a:pt x="94" y="3"/>
                </a:lnTo>
                <a:lnTo>
                  <a:pt x="106" y="5"/>
                </a:lnTo>
                <a:lnTo>
                  <a:pt x="115" y="7"/>
                </a:lnTo>
                <a:lnTo>
                  <a:pt x="127" y="11"/>
                </a:lnTo>
                <a:lnTo>
                  <a:pt x="136" y="13"/>
                </a:lnTo>
                <a:lnTo>
                  <a:pt x="148" y="17"/>
                </a:lnTo>
                <a:lnTo>
                  <a:pt x="158" y="21"/>
                </a:lnTo>
                <a:lnTo>
                  <a:pt x="165" y="25"/>
                </a:lnTo>
                <a:lnTo>
                  <a:pt x="175" y="28"/>
                </a:lnTo>
                <a:lnTo>
                  <a:pt x="183" y="32"/>
                </a:lnTo>
                <a:lnTo>
                  <a:pt x="190" y="36"/>
                </a:lnTo>
                <a:lnTo>
                  <a:pt x="196" y="40"/>
                </a:lnTo>
                <a:lnTo>
                  <a:pt x="202" y="46"/>
                </a:lnTo>
                <a:lnTo>
                  <a:pt x="207" y="49"/>
                </a:lnTo>
                <a:lnTo>
                  <a:pt x="213" y="53"/>
                </a:lnTo>
                <a:lnTo>
                  <a:pt x="217" y="59"/>
                </a:lnTo>
                <a:lnTo>
                  <a:pt x="221" y="63"/>
                </a:lnTo>
                <a:lnTo>
                  <a:pt x="223" y="69"/>
                </a:lnTo>
                <a:lnTo>
                  <a:pt x="225" y="74"/>
                </a:lnTo>
                <a:lnTo>
                  <a:pt x="229" y="84"/>
                </a:lnTo>
                <a:lnTo>
                  <a:pt x="230" y="94"/>
                </a:lnTo>
                <a:lnTo>
                  <a:pt x="232" y="103"/>
                </a:lnTo>
                <a:lnTo>
                  <a:pt x="232" y="113"/>
                </a:lnTo>
                <a:lnTo>
                  <a:pt x="230" y="121"/>
                </a:lnTo>
                <a:lnTo>
                  <a:pt x="227" y="130"/>
                </a:lnTo>
                <a:lnTo>
                  <a:pt x="223" y="140"/>
                </a:lnTo>
                <a:lnTo>
                  <a:pt x="215" y="15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Freeform 45"/>
          <p:cNvSpPr/>
          <p:nvPr/>
        </p:nvSpPr>
        <p:spPr>
          <a:xfrm>
            <a:off x="2514600" y="2622600"/>
            <a:ext cx="849240" cy="199800"/>
          </a:xfrm>
          <a:custGeom>
            <a:avLst/>
            <a:gdLst>
              <a:gd name="textAreaLeft" fmla="*/ 0 w 849240"/>
              <a:gd name="textAreaRight" fmla="*/ 849600 w 8492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069" h="254">
                <a:moveTo>
                  <a:pt x="641" y="177"/>
                </a:moveTo>
                <a:lnTo>
                  <a:pt x="614" y="181"/>
                </a:lnTo>
                <a:lnTo>
                  <a:pt x="589" y="185"/>
                </a:lnTo>
                <a:lnTo>
                  <a:pt x="566" y="190"/>
                </a:lnTo>
                <a:lnTo>
                  <a:pt x="541" y="194"/>
                </a:lnTo>
                <a:lnTo>
                  <a:pt x="518" y="198"/>
                </a:lnTo>
                <a:lnTo>
                  <a:pt x="497" y="202"/>
                </a:lnTo>
                <a:lnTo>
                  <a:pt x="474" y="206"/>
                </a:lnTo>
                <a:lnTo>
                  <a:pt x="453" y="209"/>
                </a:lnTo>
                <a:lnTo>
                  <a:pt x="434" y="211"/>
                </a:lnTo>
                <a:lnTo>
                  <a:pt x="414" y="215"/>
                </a:lnTo>
                <a:lnTo>
                  <a:pt x="395" y="219"/>
                </a:lnTo>
                <a:lnTo>
                  <a:pt x="378" y="223"/>
                </a:lnTo>
                <a:lnTo>
                  <a:pt x="361" y="225"/>
                </a:lnTo>
                <a:lnTo>
                  <a:pt x="343" y="229"/>
                </a:lnTo>
                <a:lnTo>
                  <a:pt x="328" y="231"/>
                </a:lnTo>
                <a:lnTo>
                  <a:pt x="313" y="233"/>
                </a:lnTo>
                <a:lnTo>
                  <a:pt x="299" y="234"/>
                </a:lnTo>
                <a:lnTo>
                  <a:pt x="284" y="238"/>
                </a:lnTo>
                <a:lnTo>
                  <a:pt x="272" y="240"/>
                </a:lnTo>
                <a:lnTo>
                  <a:pt x="259" y="242"/>
                </a:lnTo>
                <a:lnTo>
                  <a:pt x="247" y="244"/>
                </a:lnTo>
                <a:lnTo>
                  <a:pt x="238" y="246"/>
                </a:lnTo>
                <a:lnTo>
                  <a:pt x="228" y="246"/>
                </a:lnTo>
                <a:lnTo>
                  <a:pt x="219" y="248"/>
                </a:lnTo>
                <a:lnTo>
                  <a:pt x="211" y="250"/>
                </a:lnTo>
                <a:lnTo>
                  <a:pt x="203" y="250"/>
                </a:lnTo>
                <a:lnTo>
                  <a:pt x="196" y="252"/>
                </a:lnTo>
                <a:lnTo>
                  <a:pt x="190" y="252"/>
                </a:lnTo>
                <a:lnTo>
                  <a:pt x="184" y="252"/>
                </a:lnTo>
                <a:lnTo>
                  <a:pt x="178" y="252"/>
                </a:lnTo>
                <a:lnTo>
                  <a:pt x="175" y="254"/>
                </a:lnTo>
                <a:lnTo>
                  <a:pt x="173" y="254"/>
                </a:lnTo>
                <a:lnTo>
                  <a:pt x="157" y="252"/>
                </a:lnTo>
                <a:lnTo>
                  <a:pt x="142" y="252"/>
                </a:lnTo>
                <a:lnTo>
                  <a:pt x="127" y="248"/>
                </a:lnTo>
                <a:lnTo>
                  <a:pt x="111" y="244"/>
                </a:lnTo>
                <a:lnTo>
                  <a:pt x="98" y="240"/>
                </a:lnTo>
                <a:lnTo>
                  <a:pt x="82" y="233"/>
                </a:lnTo>
                <a:lnTo>
                  <a:pt x="67" y="225"/>
                </a:lnTo>
                <a:lnTo>
                  <a:pt x="52" y="215"/>
                </a:lnTo>
                <a:lnTo>
                  <a:pt x="44" y="211"/>
                </a:lnTo>
                <a:lnTo>
                  <a:pt x="36" y="208"/>
                </a:lnTo>
                <a:lnTo>
                  <a:pt x="29" y="204"/>
                </a:lnTo>
                <a:lnTo>
                  <a:pt x="23" y="202"/>
                </a:lnTo>
                <a:lnTo>
                  <a:pt x="17" y="200"/>
                </a:lnTo>
                <a:lnTo>
                  <a:pt x="11" y="196"/>
                </a:lnTo>
                <a:lnTo>
                  <a:pt x="8" y="194"/>
                </a:lnTo>
                <a:lnTo>
                  <a:pt x="6" y="192"/>
                </a:lnTo>
                <a:lnTo>
                  <a:pt x="2" y="190"/>
                </a:lnTo>
                <a:lnTo>
                  <a:pt x="0" y="188"/>
                </a:lnTo>
                <a:lnTo>
                  <a:pt x="0" y="185"/>
                </a:lnTo>
                <a:lnTo>
                  <a:pt x="0" y="183"/>
                </a:lnTo>
                <a:lnTo>
                  <a:pt x="0" y="181"/>
                </a:lnTo>
                <a:lnTo>
                  <a:pt x="0" y="179"/>
                </a:lnTo>
                <a:lnTo>
                  <a:pt x="2" y="177"/>
                </a:lnTo>
                <a:lnTo>
                  <a:pt x="4" y="177"/>
                </a:lnTo>
                <a:lnTo>
                  <a:pt x="6" y="175"/>
                </a:lnTo>
                <a:lnTo>
                  <a:pt x="9" y="175"/>
                </a:lnTo>
                <a:lnTo>
                  <a:pt x="13" y="175"/>
                </a:lnTo>
                <a:lnTo>
                  <a:pt x="17" y="175"/>
                </a:lnTo>
                <a:lnTo>
                  <a:pt x="23" y="173"/>
                </a:lnTo>
                <a:lnTo>
                  <a:pt x="31" y="173"/>
                </a:lnTo>
                <a:lnTo>
                  <a:pt x="38" y="171"/>
                </a:lnTo>
                <a:lnTo>
                  <a:pt x="46" y="169"/>
                </a:lnTo>
                <a:lnTo>
                  <a:pt x="56" y="167"/>
                </a:lnTo>
                <a:lnTo>
                  <a:pt x="65" y="165"/>
                </a:lnTo>
                <a:lnTo>
                  <a:pt x="77" y="163"/>
                </a:lnTo>
                <a:lnTo>
                  <a:pt x="88" y="161"/>
                </a:lnTo>
                <a:lnTo>
                  <a:pt x="100" y="160"/>
                </a:lnTo>
                <a:lnTo>
                  <a:pt x="113" y="156"/>
                </a:lnTo>
                <a:lnTo>
                  <a:pt x="127" y="154"/>
                </a:lnTo>
                <a:lnTo>
                  <a:pt x="142" y="150"/>
                </a:lnTo>
                <a:lnTo>
                  <a:pt x="157" y="148"/>
                </a:lnTo>
                <a:lnTo>
                  <a:pt x="175" y="144"/>
                </a:lnTo>
                <a:lnTo>
                  <a:pt x="192" y="140"/>
                </a:lnTo>
                <a:lnTo>
                  <a:pt x="209" y="137"/>
                </a:lnTo>
                <a:lnTo>
                  <a:pt x="228" y="133"/>
                </a:lnTo>
                <a:lnTo>
                  <a:pt x="247" y="129"/>
                </a:lnTo>
                <a:lnTo>
                  <a:pt x="269" y="123"/>
                </a:lnTo>
                <a:lnTo>
                  <a:pt x="290" y="119"/>
                </a:lnTo>
                <a:lnTo>
                  <a:pt x="313" y="114"/>
                </a:lnTo>
                <a:lnTo>
                  <a:pt x="336" y="110"/>
                </a:lnTo>
                <a:lnTo>
                  <a:pt x="359" y="104"/>
                </a:lnTo>
                <a:lnTo>
                  <a:pt x="384" y="98"/>
                </a:lnTo>
                <a:lnTo>
                  <a:pt x="409" y="92"/>
                </a:lnTo>
                <a:lnTo>
                  <a:pt x="434" y="87"/>
                </a:lnTo>
                <a:lnTo>
                  <a:pt x="460" y="81"/>
                </a:lnTo>
                <a:lnTo>
                  <a:pt x="487" y="73"/>
                </a:lnTo>
                <a:lnTo>
                  <a:pt x="514" y="67"/>
                </a:lnTo>
                <a:lnTo>
                  <a:pt x="539" y="62"/>
                </a:lnTo>
                <a:lnTo>
                  <a:pt x="564" y="56"/>
                </a:lnTo>
                <a:lnTo>
                  <a:pt x="587" y="52"/>
                </a:lnTo>
                <a:lnTo>
                  <a:pt x="610" y="46"/>
                </a:lnTo>
                <a:lnTo>
                  <a:pt x="633" y="43"/>
                </a:lnTo>
                <a:lnTo>
                  <a:pt x="656" y="39"/>
                </a:lnTo>
                <a:lnTo>
                  <a:pt x="677" y="35"/>
                </a:lnTo>
                <a:lnTo>
                  <a:pt x="697" y="31"/>
                </a:lnTo>
                <a:lnTo>
                  <a:pt x="718" y="27"/>
                </a:lnTo>
                <a:lnTo>
                  <a:pt x="737" y="23"/>
                </a:lnTo>
                <a:lnTo>
                  <a:pt x="754" y="19"/>
                </a:lnTo>
                <a:lnTo>
                  <a:pt x="773" y="18"/>
                </a:lnTo>
                <a:lnTo>
                  <a:pt x="791" y="16"/>
                </a:lnTo>
                <a:lnTo>
                  <a:pt x="806" y="12"/>
                </a:lnTo>
                <a:lnTo>
                  <a:pt x="821" y="10"/>
                </a:lnTo>
                <a:lnTo>
                  <a:pt x="837" y="8"/>
                </a:lnTo>
                <a:lnTo>
                  <a:pt x="852" y="6"/>
                </a:lnTo>
                <a:lnTo>
                  <a:pt x="865" y="6"/>
                </a:lnTo>
                <a:lnTo>
                  <a:pt x="879" y="4"/>
                </a:lnTo>
                <a:lnTo>
                  <a:pt x="890" y="2"/>
                </a:lnTo>
                <a:lnTo>
                  <a:pt x="902" y="2"/>
                </a:lnTo>
                <a:lnTo>
                  <a:pt x="913" y="2"/>
                </a:lnTo>
                <a:lnTo>
                  <a:pt x="925" y="2"/>
                </a:lnTo>
                <a:lnTo>
                  <a:pt x="934" y="0"/>
                </a:lnTo>
                <a:lnTo>
                  <a:pt x="944" y="0"/>
                </a:lnTo>
                <a:lnTo>
                  <a:pt x="952" y="0"/>
                </a:lnTo>
                <a:lnTo>
                  <a:pt x="959" y="2"/>
                </a:lnTo>
                <a:lnTo>
                  <a:pt x="967" y="2"/>
                </a:lnTo>
                <a:lnTo>
                  <a:pt x="973" y="2"/>
                </a:lnTo>
                <a:lnTo>
                  <a:pt x="979" y="4"/>
                </a:lnTo>
                <a:lnTo>
                  <a:pt x="990" y="8"/>
                </a:lnTo>
                <a:lnTo>
                  <a:pt x="1000" y="10"/>
                </a:lnTo>
                <a:lnTo>
                  <a:pt x="1009" y="14"/>
                </a:lnTo>
                <a:lnTo>
                  <a:pt x="1019" y="18"/>
                </a:lnTo>
                <a:lnTo>
                  <a:pt x="1027" y="21"/>
                </a:lnTo>
                <a:lnTo>
                  <a:pt x="1034" y="25"/>
                </a:lnTo>
                <a:lnTo>
                  <a:pt x="1040" y="29"/>
                </a:lnTo>
                <a:lnTo>
                  <a:pt x="1046" y="33"/>
                </a:lnTo>
                <a:lnTo>
                  <a:pt x="1052" y="37"/>
                </a:lnTo>
                <a:lnTo>
                  <a:pt x="1057" y="39"/>
                </a:lnTo>
                <a:lnTo>
                  <a:pt x="1061" y="43"/>
                </a:lnTo>
                <a:lnTo>
                  <a:pt x="1063" y="46"/>
                </a:lnTo>
                <a:lnTo>
                  <a:pt x="1065" y="50"/>
                </a:lnTo>
                <a:lnTo>
                  <a:pt x="1067" y="54"/>
                </a:lnTo>
                <a:lnTo>
                  <a:pt x="1069" y="58"/>
                </a:lnTo>
                <a:lnTo>
                  <a:pt x="1069" y="62"/>
                </a:lnTo>
                <a:lnTo>
                  <a:pt x="1069" y="64"/>
                </a:lnTo>
                <a:lnTo>
                  <a:pt x="1067" y="66"/>
                </a:lnTo>
                <a:lnTo>
                  <a:pt x="1065" y="67"/>
                </a:lnTo>
                <a:lnTo>
                  <a:pt x="1063" y="69"/>
                </a:lnTo>
                <a:lnTo>
                  <a:pt x="1059" y="71"/>
                </a:lnTo>
                <a:lnTo>
                  <a:pt x="1053" y="73"/>
                </a:lnTo>
                <a:lnTo>
                  <a:pt x="1050" y="77"/>
                </a:lnTo>
                <a:lnTo>
                  <a:pt x="1042" y="79"/>
                </a:lnTo>
                <a:lnTo>
                  <a:pt x="1036" y="81"/>
                </a:lnTo>
                <a:lnTo>
                  <a:pt x="1029" y="85"/>
                </a:lnTo>
                <a:lnTo>
                  <a:pt x="1019" y="87"/>
                </a:lnTo>
                <a:lnTo>
                  <a:pt x="1009" y="90"/>
                </a:lnTo>
                <a:lnTo>
                  <a:pt x="1000" y="94"/>
                </a:lnTo>
                <a:lnTo>
                  <a:pt x="988" y="96"/>
                </a:lnTo>
                <a:lnTo>
                  <a:pt x="977" y="100"/>
                </a:lnTo>
                <a:lnTo>
                  <a:pt x="963" y="104"/>
                </a:lnTo>
                <a:lnTo>
                  <a:pt x="950" y="108"/>
                </a:lnTo>
                <a:lnTo>
                  <a:pt x="934" y="112"/>
                </a:lnTo>
                <a:lnTo>
                  <a:pt x="919" y="115"/>
                </a:lnTo>
                <a:lnTo>
                  <a:pt x="904" y="119"/>
                </a:lnTo>
                <a:lnTo>
                  <a:pt x="886" y="123"/>
                </a:lnTo>
                <a:lnTo>
                  <a:pt x="867" y="127"/>
                </a:lnTo>
                <a:lnTo>
                  <a:pt x="848" y="131"/>
                </a:lnTo>
                <a:lnTo>
                  <a:pt x="829" y="137"/>
                </a:lnTo>
                <a:lnTo>
                  <a:pt x="808" y="140"/>
                </a:lnTo>
                <a:lnTo>
                  <a:pt x="787" y="146"/>
                </a:lnTo>
                <a:lnTo>
                  <a:pt x="766" y="150"/>
                </a:lnTo>
                <a:lnTo>
                  <a:pt x="743" y="156"/>
                </a:lnTo>
                <a:lnTo>
                  <a:pt x="718" y="160"/>
                </a:lnTo>
                <a:lnTo>
                  <a:pt x="693" y="165"/>
                </a:lnTo>
                <a:lnTo>
                  <a:pt x="668" y="171"/>
                </a:lnTo>
                <a:lnTo>
                  <a:pt x="641" y="17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Freeform 46"/>
          <p:cNvSpPr/>
          <p:nvPr/>
        </p:nvSpPr>
        <p:spPr>
          <a:xfrm>
            <a:off x="2496960" y="2928960"/>
            <a:ext cx="212760" cy="231840"/>
          </a:xfrm>
          <a:custGeom>
            <a:avLst/>
            <a:gdLst>
              <a:gd name="textAreaLeft" fmla="*/ 0 w 212760"/>
              <a:gd name="textAreaRight" fmla="*/ 213120 w 212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69" h="292">
                <a:moveTo>
                  <a:pt x="184" y="86"/>
                </a:moveTo>
                <a:lnTo>
                  <a:pt x="199" y="98"/>
                </a:lnTo>
                <a:lnTo>
                  <a:pt x="213" y="109"/>
                </a:lnTo>
                <a:lnTo>
                  <a:pt x="224" y="121"/>
                </a:lnTo>
                <a:lnTo>
                  <a:pt x="236" y="134"/>
                </a:lnTo>
                <a:lnTo>
                  <a:pt x="245" y="146"/>
                </a:lnTo>
                <a:lnTo>
                  <a:pt x="253" y="159"/>
                </a:lnTo>
                <a:lnTo>
                  <a:pt x="261" y="171"/>
                </a:lnTo>
                <a:lnTo>
                  <a:pt x="263" y="177"/>
                </a:lnTo>
                <a:lnTo>
                  <a:pt x="265" y="182"/>
                </a:lnTo>
                <a:lnTo>
                  <a:pt x="267" y="196"/>
                </a:lnTo>
                <a:lnTo>
                  <a:pt x="269" y="209"/>
                </a:lnTo>
                <a:lnTo>
                  <a:pt x="269" y="221"/>
                </a:lnTo>
                <a:lnTo>
                  <a:pt x="267" y="232"/>
                </a:lnTo>
                <a:lnTo>
                  <a:pt x="263" y="244"/>
                </a:lnTo>
                <a:lnTo>
                  <a:pt x="257" y="255"/>
                </a:lnTo>
                <a:lnTo>
                  <a:pt x="251" y="267"/>
                </a:lnTo>
                <a:lnTo>
                  <a:pt x="245" y="278"/>
                </a:lnTo>
                <a:lnTo>
                  <a:pt x="242" y="282"/>
                </a:lnTo>
                <a:lnTo>
                  <a:pt x="236" y="286"/>
                </a:lnTo>
                <a:lnTo>
                  <a:pt x="232" y="290"/>
                </a:lnTo>
                <a:lnTo>
                  <a:pt x="226" y="290"/>
                </a:lnTo>
                <a:lnTo>
                  <a:pt x="221" y="292"/>
                </a:lnTo>
                <a:lnTo>
                  <a:pt x="215" y="290"/>
                </a:lnTo>
                <a:lnTo>
                  <a:pt x="207" y="290"/>
                </a:lnTo>
                <a:lnTo>
                  <a:pt x="201" y="286"/>
                </a:lnTo>
                <a:lnTo>
                  <a:pt x="194" y="282"/>
                </a:lnTo>
                <a:lnTo>
                  <a:pt x="186" y="278"/>
                </a:lnTo>
                <a:lnTo>
                  <a:pt x="178" y="272"/>
                </a:lnTo>
                <a:lnTo>
                  <a:pt x="171" y="265"/>
                </a:lnTo>
                <a:lnTo>
                  <a:pt x="161" y="257"/>
                </a:lnTo>
                <a:lnTo>
                  <a:pt x="153" y="249"/>
                </a:lnTo>
                <a:lnTo>
                  <a:pt x="144" y="240"/>
                </a:lnTo>
                <a:lnTo>
                  <a:pt x="136" y="230"/>
                </a:lnTo>
                <a:lnTo>
                  <a:pt x="113" y="211"/>
                </a:lnTo>
                <a:lnTo>
                  <a:pt x="94" y="192"/>
                </a:lnTo>
                <a:lnTo>
                  <a:pt x="77" y="173"/>
                </a:lnTo>
                <a:lnTo>
                  <a:pt x="61" y="153"/>
                </a:lnTo>
                <a:lnTo>
                  <a:pt x="46" y="132"/>
                </a:lnTo>
                <a:lnTo>
                  <a:pt x="40" y="123"/>
                </a:lnTo>
                <a:lnTo>
                  <a:pt x="34" y="113"/>
                </a:lnTo>
                <a:lnTo>
                  <a:pt x="29" y="104"/>
                </a:lnTo>
                <a:lnTo>
                  <a:pt x="23" y="94"/>
                </a:lnTo>
                <a:lnTo>
                  <a:pt x="19" y="84"/>
                </a:lnTo>
                <a:lnTo>
                  <a:pt x="15" y="77"/>
                </a:lnTo>
                <a:lnTo>
                  <a:pt x="11" y="67"/>
                </a:lnTo>
                <a:lnTo>
                  <a:pt x="9" y="59"/>
                </a:lnTo>
                <a:lnTo>
                  <a:pt x="6" y="52"/>
                </a:lnTo>
                <a:lnTo>
                  <a:pt x="4" y="46"/>
                </a:lnTo>
                <a:lnTo>
                  <a:pt x="2" y="38"/>
                </a:lnTo>
                <a:lnTo>
                  <a:pt x="2" y="33"/>
                </a:lnTo>
                <a:lnTo>
                  <a:pt x="0" y="29"/>
                </a:lnTo>
                <a:lnTo>
                  <a:pt x="0" y="23"/>
                </a:lnTo>
                <a:lnTo>
                  <a:pt x="0" y="15"/>
                </a:lnTo>
                <a:lnTo>
                  <a:pt x="0" y="8"/>
                </a:lnTo>
                <a:lnTo>
                  <a:pt x="2" y="4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21" y="0"/>
                </a:lnTo>
                <a:lnTo>
                  <a:pt x="29" y="0"/>
                </a:lnTo>
                <a:lnTo>
                  <a:pt x="38" y="2"/>
                </a:lnTo>
                <a:lnTo>
                  <a:pt x="50" y="4"/>
                </a:lnTo>
                <a:lnTo>
                  <a:pt x="61" y="6"/>
                </a:lnTo>
                <a:lnTo>
                  <a:pt x="75" y="10"/>
                </a:lnTo>
                <a:lnTo>
                  <a:pt x="86" y="13"/>
                </a:lnTo>
                <a:lnTo>
                  <a:pt x="100" y="19"/>
                </a:lnTo>
                <a:lnTo>
                  <a:pt x="113" y="27"/>
                </a:lnTo>
                <a:lnTo>
                  <a:pt x="127" y="36"/>
                </a:lnTo>
                <a:lnTo>
                  <a:pt x="140" y="46"/>
                </a:lnTo>
                <a:lnTo>
                  <a:pt x="155" y="59"/>
                </a:lnTo>
                <a:lnTo>
                  <a:pt x="171" y="71"/>
                </a:lnTo>
                <a:lnTo>
                  <a:pt x="184" y="8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Freeform 47"/>
          <p:cNvSpPr/>
          <p:nvPr/>
        </p:nvSpPr>
        <p:spPr>
          <a:xfrm>
            <a:off x="3052800" y="2797200"/>
            <a:ext cx="334800" cy="353880"/>
          </a:xfrm>
          <a:custGeom>
            <a:avLst/>
            <a:gdLst>
              <a:gd name="textAreaLeft" fmla="*/ 0 w 334800"/>
              <a:gd name="textAreaRight" fmla="*/ 335160 w 33480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423" h="445">
                <a:moveTo>
                  <a:pt x="54" y="340"/>
                </a:moveTo>
                <a:lnTo>
                  <a:pt x="71" y="313"/>
                </a:lnTo>
                <a:lnTo>
                  <a:pt x="91" y="288"/>
                </a:lnTo>
                <a:lnTo>
                  <a:pt x="108" y="265"/>
                </a:lnTo>
                <a:lnTo>
                  <a:pt x="127" y="240"/>
                </a:lnTo>
                <a:lnTo>
                  <a:pt x="144" y="219"/>
                </a:lnTo>
                <a:lnTo>
                  <a:pt x="162" y="196"/>
                </a:lnTo>
                <a:lnTo>
                  <a:pt x="177" y="177"/>
                </a:lnTo>
                <a:lnTo>
                  <a:pt x="192" y="157"/>
                </a:lnTo>
                <a:lnTo>
                  <a:pt x="200" y="148"/>
                </a:lnTo>
                <a:lnTo>
                  <a:pt x="206" y="140"/>
                </a:lnTo>
                <a:lnTo>
                  <a:pt x="211" y="130"/>
                </a:lnTo>
                <a:lnTo>
                  <a:pt x="217" y="125"/>
                </a:lnTo>
                <a:lnTo>
                  <a:pt x="221" y="117"/>
                </a:lnTo>
                <a:lnTo>
                  <a:pt x="225" y="109"/>
                </a:lnTo>
                <a:lnTo>
                  <a:pt x="229" y="104"/>
                </a:lnTo>
                <a:lnTo>
                  <a:pt x="231" y="96"/>
                </a:lnTo>
                <a:lnTo>
                  <a:pt x="233" y="90"/>
                </a:lnTo>
                <a:lnTo>
                  <a:pt x="234" y="84"/>
                </a:lnTo>
                <a:lnTo>
                  <a:pt x="236" y="79"/>
                </a:lnTo>
                <a:lnTo>
                  <a:pt x="236" y="73"/>
                </a:lnTo>
                <a:lnTo>
                  <a:pt x="236" y="67"/>
                </a:lnTo>
                <a:lnTo>
                  <a:pt x="234" y="61"/>
                </a:lnTo>
                <a:lnTo>
                  <a:pt x="234" y="56"/>
                </a:lnTo>
                <a:lnTo>
                  <a:pt x="233" y="52"/>
                </a:lnTo>
                <a:lnTo>
                  <a:pt x="229" y="40"/>
                </a:lnTo>
                <a:lnTo>
                  <a:pt x="227" y="33"/>
                </a:lnTo>
                <a:lnTo>
                  <a:pt x="227" y="25"/>
                </a:lnTo>
                <a:lnTo>
                  <a:pt x="227" y="19"/>
                </a:lnTo>
                <a:lnTo>
                  <a:pt x="229" y="15"/>
                </a:lnTo>
                <a:lnTo>
                  <a:pt x="231" y="12"/>
                </a:lnTo>
                <a:lnTo>
                  <a:pt x="236" y="8"/>
                </a:lnTo>
                <a:lnTo>
                  <a:pt x="242" y="4"/>
                </a:lnTo>
                <a:lnTo>
                  <a:pt x="248" y="0"/>
                </a:lnTo>
                <a:lnTo>
                  <a:pt x="254" y="0"/>
                </a:lnTo>
                <a:lnTo>
                  <a:pt x="261" y="0"/>
                </a:lnTo>
                <a:lnTo>
                  <a:pt x="271" y="0"/>
                </a:lnTo>
                <a:lnTo>
                  <a:pt x="280" y="2"/>
                </a:lnTo>
                <a:lnTo>
                  <a:pt x="290" y="6"/>
                </a:lnTo>
                <a:lnTo>
                  <a:pt x="313" y="13"/>
                </a:lnTo>
                <a:lnTo>
                  <a:pt x="334" y="27"/>
                </a:lnTo>
                <a:lnTo>
                  <a:pt x="355" y="42"/>
                </a:lnTo>
                <a:lnTo>
                  <a:pt x="367" y="52"/>
                </a:lnTo>
                <a:lnTo>
                  <a:pt x="376" y="59"/>
                </a:lnTo>
                <a:lnTo>
                  <a:pt x="384" y="69"/>
                </a:lnTo>
                <a:lnTo>
                  <a:pt x="392" y="81"/>
                </a:lnTo>
                <a:lnTo>
                  <a:pt x="399" y="90"/>
                </a:lnTo>
                <a:lnTo>
                  <a:pt x="405" y="100"/>
                </a:lnTo>
                <a:lnTo>
                  <a:pt x="411" y="107"/>
                </a:lnTo>
                <a:lnTo>
                  <a:pt x="415" y="115"/>
                </a:lnTo>
                <a:lnTo>
                  <a:pt x="419" y="123"/>
                </a:lnTo>
                <a:lnTo>
                  <a:pt x="421" y="129"/>
                </a:lnTo>
                <a:lnTo>
                  <a:pt x="423" y="134"/>
                </a:lnTo>
                <a:lnTo>
                  <a:pt x="423" y="138"/>
                </a:lnTo>
                <a:lnTo>
                  <a:pt x="419" y="140"/>
                </a:lnTo>
                <a:lnTo>
                  <a:pt x="415" y="144"/>
                </a:lnTo>
                <a:lnTo>
                  <a:pt x="411" y="148"/>
                </a:lnTo>
                <a:lnTo>
                  <a:pt x="403" y="154"/>
                </a:lnTo>
                <a:lnTo>
                  <a:pt x="396" y="159"/>
                </a:lnTo>
                <a:lnTo>
                  <a:pt x="386" y="167"/>
                </a:lnTo>
                <a:lnTo>
                  <a:pt x="375" y="177"/>
                </a:lnTo>
                <a:lnTo>
                  <a:pt x="361" y="186"/>
                </a:lnTo>
                <a:lnTo>
                  <a:pt x="348" y="198"/>
                </a:lnTo>
                <a:lnTo>
                  <a:pt x="332" y="209"/>
                </a:lnTo>
                <a:lnTo>
                  <a:pt x="317" y="223"/>
                </a:lnTo>
                <a:lnTo>
                  <a:pt x="298" y="236"/>
                </a:lnTo>
                <a:lnTo>
                  <a:pt x="279" y="249"/>
                </a:lnTo>
                <a:lnTo>
                  <a:pt x="257" y="267"/>
                </a:lnTo>
                <a:lnTo>
                  <a:pt x="236" y="282"/>
                </a:lnTo>
                <a:lnTo>
                  <a:pt x="213" y="301"/>
                </a:lnTo>
                <a:lnTo>
                  <a:pt x="188" y="320"/>
                </a:lnTo>
                <a:lnTo>
                  <a:pt x="167" y="338"/>
                </a:lnTo>
                <a:lnTo>
                  <a:pt x="146" y="355"/>
                </a:lnTo>
                <a:lnTo>
                  <a:pt x="127" y="370"/>
                </a:lnTo>
                <a:lnTo>
                  <a:pt x="110" y="384"/>
                </a:lnTo>
                <a:lnTo>
                  <a:pt x="92" y="395"/>
                </a:lnTo>
                <a:lnTo>
                  <a:pt x="77" y="407"/>
                </a:lnTo>
                <a:lnTo>
                  <a:pt x="64" y="416"/>
                </a:lnTo>
                <a:lnTo>
                  <a:pt x="50" y="424"/>
                </a:lnTo>
                <a:lnTo>
                  <a:pt x="41" y="432"/>
                </a:lnTo>
                <a:lnTo>
                  <a:pt x="31" y="438"/>
                </a:lnTo>
                <a:lnTo>
                  <a:pt x="21" y="441"/>
                </a:lnTo>
                <a:lnTo>
                  <a:pt x="16" y="443"/>
                </a:lnTo>
                <a:lnTo>
                  <a:pt x="10" y="445"/>
                </a:lnTo>
                <a:lnTo>
                  <a:pt x="6" y="445"/>
                </a:lnTo>
                <a:lnTo>
                  <a:pt x="4" y="445"/>
                </a:lnTo>
                <a:lnTo>
                  <a:pt x="2" y="443"/>
                </a:lnTo>
                <a:lnTo>
                  <a:pt x="0" y="439"/>
                </a:lnTo>
                <a:lnTo>
                  <a:pt x="0" y="438"/>
                </a:lnTo>
                <a:lnTo>
                  <a:pt x="0" y="434"/>
                </a:lnTo>
                <a:lnTo>
                  <a:pt x="0" y="430"/>
                </a:lnTo>
                <a:lnTo>
                  <a:pt x="2" y="424"/>
                </a:lnTo>
                <a:lnTo>
                  <a:pt x="4" y="420"/>
                </a:lnTo>
                <a:lnTo>
                  <a:pt x="6" y="413"/>
                </a:lnTo>
                <a:lnTo>
                  <a:pt x="10" y="407"/>
                </a:lnTo>
                <a:lnTo>
                  <a:pt x="14" y="399"/>
                </a:lnTo>
                <a:lnTo>
                  <a:pt x="18" y="391"/>
                </a:lnTo>
                <a:lnTo>
                  <a:pt x="23" y="382"/>
                </a:lnTo>
                <a:lnTo>
                  <a:pt x="29" y="372"/>
                </a:lnTo>
                <a:lnTo>
                  <a:pt x="37" y="363"/>
                </a:lnTo>
                <a:lnTo>
                  <a:pt x="44" y="351"/>
                </a:lnTo>
                <a:lnTo>
                  <a:pt x="54" y="34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Freeform 48"/>
          <p:cNvSpPr/>
          <p:nvPr/>
        </p:nvSpPr>
        <p:spPr>
          <a:xfrm>
            <a:off x="2127240" y="3157560"/>
            <a:ext cx="1552680" cy="26676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57" h="336">
                <a:moveTo>
                  <a:pt x="1149" y="192"/>
                </a:moveTo>
                <a:lnTo>
                  <a:pt x="992" y="213"/>
                </a:lnTo>
                <a:lnTo>
                  <a:pt x="834" y="234"/>
                </a:lnTo>
                <a:lnTo>
                  <a:pt x="754" y="245"/>
                </a:lnTo>
                <a:lnTo>
                  <a:pt x="673" y="255"/>
                </a:lnTo>
                <a:lnTo>
                  <a:pt x="593" y="267"/>
                </a:lnTo>
                <a:lnTo>
                  <a:pt x="512" y="278"/>
                </a:lnTo>
                <a:lnTo>
                  <a:pt x="491" y="282"/>
                </a:lnTo>
                <a:lnTo>
                  <a:pt x="472" y="284"/>
                </a:lnTo>
                <a:lnTo>
                  <a:pt x="452" y="288"/>
                </a:lnTo>
                <a:lnTo>
                  <a:pt x="433" y="292"/>
                </a:lnTo>
                <a:lnTo>
                  <a:pt x="416" y="293"/>
                </a:lnTo>
                <a:lnTo>
                  <a:pt x="399" y="297"/>
                </a:lnTo>
                <a:lnTo>
                  <a:pt x="381" y="299"/>
                </a:lnTo>
                <a:lnTo>
                  <a:pt x="366" y="303"/>
                </a:lnTo>
                <a:lnTo>
                  <a:pt x="351" y="305"/>
                </a:lnTo>
                <a:lnTo>
                  <a:pt x="335" y="309"/>
                </a:lnTo>
                <a:lnTo>
                  <a:pt x="320" y="311"/>
                </a:lnTo>
                <a:lnTo>
                  <a:pt x="307" y="313"/>
                </a:lnTo>
                <a:lnTo>
                  <a:pt x="293" y="315"/>
                </a:lnTo>
                <a:lnTo>
                  <a:pt x="280" y="316"/>
                </a:lnTo>
                <a:lnTo>
                  <a:pt x="268" y="318"/>
                </a:lnTo>
                <a:lnTo>
                  <a:pt x="257" y="320"/>
                </a:lnTo>
                <a:lnTo>
                  <a:pt x="245" y="322"/>
                </a:lnTo>
                <a:lnTo>
                  <a:pt x="234" y="324"/>
                </a:lnTo>
                <a:lnTo>
                  <a:pt x="224" y="326"/>
                </a:lnTo>
                <a:lnTo>
                  <a:pt x="214" y="328"/>
                </a:lnTo>
                <a:lnTo>
                  <a:pt x="205" y="328"/>
                </a:lnTo>
                <a:lnTo>
                  <a:pt x="197" y="330"/>
                </a:lnTo>
                <a:lnTo>
                  <a:pt x="190" y="330"/>
                </a:lnTo>
                <a:lnTo>
                  <a:pt x="182" y="332"/>
                </a:lnTo>
                <a:lnTo>
                  <a:pt x="174" y="332"/>
                </a:lnTo>
                <a:lnTo>
                  <a:pt x="168" y="334"/>
                </a:lnTo>
                <a:lnTo>
                  <a:pt x="163" y="334"/>
                </a:lnTo>
                <a:lnTo>
                  <a:pt x="159" y="334"/>
                </a:lnTo>
                <a:lnTo>
                  <a:pt x="153" y="334"/>
                </a:lnTo>
                <a:lnTo>
                  <a:pt x="149" y="336"/>
                </a:lnTo>
                <a:lnTo>
                  <a:pt x="145" y="336"/>
                </a:lnTo>
                <a:lnTo>
                  <a:pt x="143" y="336"/>
                </a:lnTo>
                <a:lnTo>
                  <a:pt x="130" y="334"/>
                </a:lnTo>
                <a:lnTo>
                  <a:pt x="118" y="332"/>
                </a:lnTo>
                <a:lnTo>
                  <a:pt x="105" y="328"/>
                </a:lnTo>
                <a:lnTo>
                  <a:pt x="92" y="322"/>
                </a:lnTo>
                <a:lnTo>
                  <a:pt x="80" y="315"/>
                </a:lnTo>
                <a:lnTo>
                  <a:pt x="67" y="307"/>
                </a:lnTo>
                <a:lnTo>
                  <a:pt x="55" y="297"/>
                </a:lnTo>
                <a:lnTo>
                  <a:pt x="44" y="288"/>
                </a:lnTo>
                <a:lnTo>
                  <a:pt x="36" y="282"/>
                </a:lnTo>
                <a:lnTo>
                  <a:pt x="28" y="276"/>
                </a:lnTo>
                <a:lnTo>
                  <a:pt x="24" y="272"/>
                </a:lnTo>
                <a:lnTo>
                  <a:pt x="19" y="269"/>
                </a:lnTo>
                <a:lnTo>
                  <a:pt x="15" y="265"/>
                </a:lnTo>
                <a:lnTo>
                  <a:pt x="11" y="261"/>
                </a:lnTo>
                <a:lnTo>
                  <a:pt x="7" y="259"/>
                </a:lnTo>
                <a:lnTo>
                  <a:pt x="3" y="255"/>
                </a:lnTo>
                <a:lnTo>
                  <a:pt x="1" y="253"/>
                </a:lnTo>
                <a:lnTo>
                  <a:pt x="1" y="251"/>
                </a:lnTo>
                <a:lnTo>
                  <a:pt x="0" y="249"/>
                </a:lnTo>
                <a:lnTo>
                  <a:pt x="0" y="247"/>
                </a:lnTo>
                <a:lnTo>
                  <a:pt x="0" y="245"/>
                </a:lnTo>
                <a:lnTo>
                  <a:pt x="0" y="244"/>
                </a:lnTo>
                <a:lnTo>
                  <a:pt x="1" y="242"/>
                </a:lnTo>
                <a:lnTo>
                  <a:pt x="3" y="240"/>
                </a:lnTo>
                <a:lnTo>
                  <a:pt x="7" y="236"/>
                </a:lnTo>
                <a:lnTo>
                  <a:pt x="15" y="234"/>
                </a:lnTo>
                <a:lnTo>
                  <a:pt x="23" y="232"/>
                </a:lnTo>
                <a:lnTo>
                  <a:pt x="32" y="230"/>
                </a:lnTo>
                <a:lnTo>
                  <a:pt x="46" y="230"/>
                </a:lnTo>
                <a:lnTo>
                  <a:pt x="59" y="230"/>
                </a:lnTo>
                <a:lnTo>
                  <a:pt x="74" y="230"/>
                </a:lnTo>
                <a:lnTo>
                  <a:pt x="94" y="230"/>
                </a:lnTo>
                <a:lnTo>
                  <a:pt x="101" y="230"/>
                </a:lnTo>
                <a:lnTo>
                  <a:pt x="111" y="228"/>
                </a:lnTo>
                <a:lnTo>
                  <a:pt x="122" y="228"/>
                </a:lnTo>
                <a:lnTo>
                  <a:pt x="136" y="228"/>
                </a:lnTo>
                <a:lnTo>
                  <a:pt x="151" y="226"/>
                </a:lnTo>
                <a:lnTo>
                  <a:pt x="166" y="226"/>
                </a:lnTo>
                <a:lnTo>
                  <a:pt x="186" y="224"/>
                </a:lnTo>
                <a:lnTo>
                  <a:pt x="205" y="222"/>
                </a:lnTo>
                <a:lnTo>
                  <a:pt x="226" y="221"/>
                </a:lnTo>
                <a:lnTo>
                  <a:pt x="249" y="219"/>
                </a:lnTo>
                <a:lnTo>
                  <a:pt x="274" y="217"/>
                </a:lnTo>
                <a:lnTo>
                  <a:pt x="301" y="213"/>
                </a:lnTo>
                <a:lnTo>
                  <a:pt x="328" y="211"/>
                </a:lnTo>
                <a:lnTo>
                  <a:pt x="358" y="207"/>
                </a:lnTo>
                <a:lnTo>
                  <a:pt x="389" y="205"/>
                </a:lnTo>
                <a:lnTo>
                  <a:pt x="422" y="201"/>
                </a:lnTo>
                <a:lnTo>
                  <a:pt x="452" y="197"/>
                </a:lnTo>
                <a:lnTo>
                  <a:pt x="483" y="194"/>
                </a:lnTo>
                <a:lnTo>
                  <a:pt x="514" y="190"/>
                </a:lnTo>
                <a:lnTo>
                  <a:pt x="543" y="186"/>
                </a:lnTo>
                <a:lnTo>
                  <a:pt x="571" y="182"/>
                </a:lnTo>
                <a:lnTo>
                  <a:pt x="600" y="178"/>
                </a:lnTo>
                <a:lnTo>
                  <a:pt x="627" y="174"/>
                </a:lnTo>
                <a:lnTo>
                  <a:pt x="654" y="173"/>
                </a:lnTo>
                <a:lnTo>
                  <a:pt x="679" y="169"/>
                </a:lnTo>
                <a:lnTo>
                  <a:pt x="704" y="165"/>
                </a:lnTo>
                <a:lnTo>
                  <a:pt x="729" y="161"/>
                </a:lnTo>
                <a:lnTo>
                  <a:pt x="752" y="157"/>
                </a:lnTo>
                <a:lnTo>
                  <a:pt x="775" y="153"/>
                </a:lnTo>
                <a:lnTo>
                  <a:pt x="798" y="150"/>
                </a:lnTo>
                <a:lnTo>
                  <a:pt x="819" y="148"/>
                </a:lnTo>
                <a:lnTo>
                  <a:pt x="840" y="144"/>
                </a:lnTo>
                <a:lnTo>
                  <a:pt x="861" y="142"/>
                </a:lnTo>
                <a:lnTo>
                  <a:pt x="884" y="138"/>
                </a:lnTo>
                <a:lnTo>
                  <a:pt x="909" y="136"/>
                </a:lnTo>
                <a:lnTo>
                  <a:pt x="934" y="132"/>
                </a:lnTo>
                <a:lnTo>
                  <a:pt x="961" y="128"/>
                </a:lnTo>
                <a:lnTo>
                  <a:pt x="990" y="125"/>
                </a:lnTo>
                <a:lnTo>
                  <a:pt x="1019" y="119"/>
                </a:lnTo>
                <a:lnTo>
                  <a:pt x="1049" y="115"/>
                </a:lnTo>
                <a:lnTo>
                  <a:pt x="1082" y="109"/>
                </a:lnTo>
                <a:lnTo>
                  <a:pt x="1116" y="103"/>
                </a:lnTo>
                <a:lnTo>
                  <a:pt x="1151" y="96"/>
                </a:lnTo>
                <a:lnTo>
                  <a:pt x="1187" y="90"/>
                </a:lnTo>
                <a:lnTo>
                  <a:pt x="1226" y="82"/>
                </a:lnTo>
                <a:lnTo>
                  <a:pt x="1266" y="75"/>
                </a:lnTo>
                <a:lnTo>
                  <a:pt x="1306" y="65"/>
                </a:lnTo>
                <a:lnTo>
                  <a:pt x="1349" y="57"/>
                </a:lnTo>
                <a:lnTo>
                  <a:pt x="1370" y="54"/>
                </a:lnTo>
                <a:lnTo>
                  <a:pt x="1391" y="50"/>
                </a:lnTo>
                <a:lnTo>
                  <a:pt x="1410" y="46"/>
                </a:lnTo>
                <a:lnTo>
                  <a:pt x="1429" y="44"/>
                </a:lnTo>
                <a:lnTo>
                  <a:pt x="1448" y="40"/>
                </a:lnTo>
                <a:lnTo>
                  <a:pt x="1468" y="36"/>
                </a:lnTo>
                <a:lnTo>
                  <a:pt x="1485" y="34"/>
                </a:lnTo>
                <a:lnTo>
                  <a:pt x="1502" y="31"/>
                </a:lnTo>
                <a:lnTo>
                  <a:pt x="1519" y="29"/>
                </a:lnTo>
                <a:lnTo>
                  <a:pt x="1535" y="27"/>
                </a:lnTo>
                <a:lnTo>
                  <a:pt x="1550" y="23"/>
                </a:lnTo>
                <a:lnTo>
                  <a:pt x="1565" y="21"/>
                </a:lnTo>
                <a:lnTo>
                  <a:pt x="1579" y="19"/>
                </a:lnTo>
                <a:lnTo>
                  <a:pt x="1592" y="17"/>
                </a:lnTo>
                <a:lnTo>
                  <a:pt x="1606" y="15"/>
                </a:lnTo>
                <a:lnTo>
                  <a:pt x="1617" y="13"/>
                </a:lnTo>
                <a:lnTo>
                  <a:pt x="1629" y="11"/>
                </a:lnTo>
                <a:lnTo>
                  <a:pt x="1640" y="9"/>
                </a:lnTo>
                <a:lnTo>
                  <a:pt x="1652" y="7"/>
                </a:lnTo>
                <a:lnTo>
                  <a:pt x="1661" y="7"/>
                </a:lnTo>
                <a:lnTo>
                  <a:pt x="1671" y="6"/>
                </a:lnTo>
                <a:lnTo>
                  <a:pt x="1681" y="4"/>
                </a:lnTo>
                <a:lnTo>
                  <a:pt x="1688" y="4"/>
                </a:lnTo>
                <a:lnTo>
                  <a:pt x="1696" y="2"/>
                </a:lnTo>
                <a:lnTo>
                  <a:pt x="1704" y="2"/>
                </a:lnTo>
                <a:lnTo>
                  <a:pt x="1709" y="2"/>
                </a:lnTo>
                <a:lnTo>
                  <a:pt x="1717" y="0"/>
                </a:lnTo>
                <a:lnTo>
                  <a:pt x="1721" y="0"/>
                </a:lnTo>
                <a:lnTo>
                  <a:pt x="1727" y="0"/>
                </a:lnTo>
                <a:lnTo>
                  <a:pt x="1731" y="0"/>
                </a:lnTo>
                <a:lnTo>
                  <a:pt x="1734" y="0"/>
                </a:lnTo>
                <a:lnTo>
                  <a:pt x="1738" y="0"/>
                </a:lnTo>
                <a:lnTo>
                  <a:pt x="1750" y="0"/>
                </a:lnTo>
                <a:lnTo>
                  <a:pt x="1761" y="2"/>
                </a:lnTo>
                <a:lnTo>
                  <a:pt x="1777" y="4"/>
                </a:lnTo>
                <a:lnTo>
                  <a:pt x="1792" y="7"/>
                </a:lnTo>
                <a:lnTo>
                  <a:pt x="1807" y="13"/>
                </a:lnTo>
                <a:lnTo>
                  <a:pt x="1826" y="19"/>
                </a:lnTo>
                <a:lnTo>
                  <a:pt x="1846" y="27"/>
                </a:lnTo>
                <a:lnTo>
                  <a:pt x="1867" y="38"/>
                </a:lnTo>
                <a:lnTo>
                  <a:pt x="1878" y="42"/>
                </a:lnTo>
                <a:lnTo>
                  <a:pt x="1888" y="48"/>
                </a:lnTo>
                <a:lnTo>
                  <a:pt x="1897" y="54"/>
                </a:lnTo>
                <a:lnTo>
                  <a:pt x="1907" y="57"/>
                </a:lnTo>
                <a:lnTo>
                  <a:pt x="1915" y="61"/>
                </a:lnTo>
                <a:lnTo>
                  <a:pt x="1922" y="67"/>
                </a:lnTo>
                <a:lnTo>
                  <a:pt x="1928" y="71"/>
                </a:lnTo>
                <a:lnTo>
                  <a:pt x="1934" y="73"/>
                </a:lnTo>
                <a:lnTo>
                  <a:pt x="1940" y="77"/>
                </a:lnTo>
                <a:lnTo>
                  <a:pt x="1944" y="80"/>
                </a:lnTo>
                <a:lnTo>
                  <a:pt x="1947" y="84"/>
                </a:lnTo>
                <a:lnTo>
                  <a:pt x="1951" y="86"/>
                </a:lnTo>
                <a:lnTo>
                  <a:pt x="1953" y="88"/>
                </a:lnTo>
                <a:lnTo>
                  <a:pt x="1955" y="92"/>
                </a:lnTo>
                <a:lnTo>
                  <a:pt x="1957" y="94"/>
                </a:lnTo>
                <a:lnTo>
                  <a:pt x="1957" y="96"/>
                </a:lnTo>
                <a:lnTo>
                  <a:pt x="1957" y="98"/>
                </a:lnTo>
                <a:lnTo>
                  <a:pt x="1955" y="102"/>
                </a:lnTo>
                <a:lnTo>
                  <a:pt x="1953" y="105"/>
                </a:lnTo>
                <a:lnTo>
                  <a:pt x="1949" y="107"/>
                </a:lnTo>
                <a:lnTo>
                  <a:pt x="1945" y="111"/>
                </a:lnTo>
                <a:lnTo>
                  <a:pt x="1940" y="113"/>
                </a:lnTo>
                <a:lnTo>
                  <a:pt x="1934" y="115"/>
                </a:lnTo>
                <a:lnTo>
                  <a:pt x="1926" y="117"/>
                </a:lnTo>
                <a:lnTo>
                  <a:pt x="1917" y="119"/>
                </a:lnTo>
                <a:lnTo>
                  <a:pt x="1907" y="121"/>
                </a:lnTo>
                <a:lnTo>
                  <a:pt x="1897" y="121"/>
                </a:lnTo>
                <a:lnTo>
                  <a:pt x="1886" y="123"/>
                </a:lnTo>
                <a:lnTo>
                  <a:pt x="1873" y="123"/>
                </a:lnTo>
                <a:lnTo>
                  <a:pt x="1859" y="123"/>
                </a:lnTo>
                <a:lnTo>
                  <a:pt x="1844" y="125"/>
                </a:lnTo>
                <a:lnTo>
                  <a:pt x="1826" y="125"/>
                </a:lnTo>
                <a:lnTo>
                  <a:pt x="1794" y="125"/>
                </a:lnTo>
                <a:lnTo>
                  <a:pt x="1761" y="125"/>
                </a:lnTo>
                <a:lnTo>
                  <a:pt x="1731" y="125"/>
                </a:lnTo>
                <a:lnTo>
                  <a:pt x="1700" y="125"/>
                </a:lnTo>
                <a:lnTo>
                  <a:pt x="1671" y="126"/>
                </a:lnTo>
                <a:lnTo>
                  <a:pt x="1642" y="128"/>
                </a:lnTo>
                <a:lnTo>
                  <a:pt x="1615" y="130"/>
                </a:lnTo>
                <a:lnTo>
                  <a:pt x="1589" y="134"/>
                </a:lnTo>
                <a:lnTo>
                  <a:pt x="1573" y="136"/>
                </a:lnTo>
                <a:lnTo>
                  <a:pt x="1554" y="138"/>
                </a:lnTo>
                <a:lnTo>
                  <a:pt x="1537" y="140"/>
                </a:lnTo>
                <a:lnTo>
                  <a:pt x="1516" y="142"/>
                </a:lnTo>
                <a:lnTo>
                  <a:pt x="1493" y="146"/>
                </a:lnTo>
                <a:lnTo>
                  <a:pt x="1470" y="148"/>
                </a:lnTo>
                <a:lnTo>
                  <a:pt x="1445" y="151"/>
                </a:lnTo>
                <a:lnTo>
                  <a:pt x="1418" y="155"/>
                </a:lnTo>
                <a:lnTo>
                  <a:pt x="1389" y="159"/>
                </a:lnTo>
                <a:lnTo>
                  <a:pt x="1358" y="163"/>
                </a:lnTo>
                <a:lnTo>
                  <a:pt x="1328" y="167"/>
                </a:lnTo>
                <a:lnTo>
                  <a:pt x="1295" y="171"/>
                </a:lnTo>
                <a:lnTo>
                  <a:pt x="1260" y="176"/>
                </a:lnTo>
                <a:lnTo>
                  <a:pt x="1226" y="180"/>
                </a:lnTo>
                <a:lnTo>
                  <a:pt x="1187" y="186"/>
                </a:lnTo>
                <a:lnTo>
                  <a:pt x="1149" y="19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Freeform 49"/>
          <p:cNvSpPr/>
          <p:nvPr/>
        </p:nvSpPr>
        <p:spPr>
          <a:xfrm>
            <a:off x="2462040" y="3341520"/>
            <a:ext cx="562320" cy="830520"/>
          </a:xfrm>
          <a:custGeom>
            <a:avLst/>
            <a:gdLst>
              <a:gd name="textAreaLeft" fmla="*/ 0 w 562320"/>
              <a:gd name="textAreaRight" fmla="*/ 562680 w 562320"/>
              <a:gd name="textAreaTop" fmla="*/ 0 h 830520"/>
              <a:gd name="textAreaBottom" fmla="*/ 830880 h 830520"/>
            </a:gdLst>
            <a:ahLst/>
            <a:rect l="textAreaLeft" t="textAreaTop" r="textAreaRight" b="textAreaBottom"/>
            <a:pathLst>
              <a:path w="708" h="1046">
                <a:moveTo>
                  <a:pt x="169" y="988"/>
                </a:moveTo>
                <a:lnTo>
                  <a:pt x="161" y="1002"/>
                </a:lnTo>
                <a:lnTo>
                  <a:pt x="155" y="1013"/>
                </a:lnTo>
                <a:lnTo>
                  <a:pt x="147" y="1023"/>
                </a:lnTo>
                <a:lnTo>
                  <a:pt x="140" y="1031"/>
                </a:lnTo>
                <a:lnTo>
                  <a:pt x="134" y="1036"/>
                </a:lnTo>
                <a:lnTo>
                  <a:pt x="128" y="1042"/>
                </a:lnTo>
                <a:lnTo>
                  <a:pt x="123" y="1044"/>
                </a:lnTo>
                <a:lnTo>
                  <a:pt x="119" y="1046"/>
                </a:lnTo>
                <a:lnTo>
                  <a:pt x="111" y="1044"/>
                </a:lnTo>
                <a:lnTo>
                  <a:pt x="103" y="1042"/>
                </a:lnTo>
                <a:lnTo>
                  <a:pt x="96" y="1036"/>
                </a:lnTo>
                <a:lnTo>
                  <a:pt x="88" y="1031"/>
                </a:lnTo>
                <a:lnTo>
                  <a:pt x="78" y="1023"/>
                </a:lnTo>
                <a:lnTo>
                  <a:pt x="71" y="1013"/>
                </a:lnTo>
                <a:lnTo>
                  <a:pt x="59" y="1002"/>
                </a:lnTo>
                <a:lnTo>
                  <a:pt x="50" y="988"/>
                </a:lnTo>
                <a:lnTo>
                  <a:pt x="38" y="973"/>
                </a:lnTo>
                <a:lnTo>
                  <a:pt x="28" y="962"/>
                </a:lnTo>
                <a:lnTo>
                  <a:pt x="21" y="948"/>
                </a:lnTo>
                <a:lnTo>
                  <a:pt x="13" y="937"/>
                </a:lnTo>
                <a:lnTo>
                  <a:pt x="7" y="927"/>
                </a:lnTo>
                <a:lnTo>
                  <a:pt x="4" y="917"/>
                </a:lnTo>
                <a:lnTo>
                  <a:pt x="0" y="910"/>
                </a:lnTo>
                <a:lnTo>
                  <a:pt x="0" y="902"/>
                </a:lnTo>
                <a:lnTo>
                  <a:pt x="0" y="894"/>
                </a:lnTo>
                <a:lnTo>
                  <a:pt x="4" y="885"/>
                </a:lnTo>
                <a:lnTo>
                  <a:pt x="7" y="877"/>
                </a:lnTo>
                <a:lnTo>
                  <a:pt x="13" y="868"/>
                </a:lnTo>
                <a:lnTo>
                  <a:pt x="21" y="856"/>
                </a:lnTo>
                <a:lnTo>
                  <a:pt x="28" y="846"/>
                </a:lnTo>
                <a:lnTo>
                  <a:pt x="38" y="835"/>
                </a:lnTo>
                <a:lnTo>
                  <a:pt x="50" y="825"/>
                </a:lnTo>
                <a:lnTo>
                  <a:pt x="52" y="822"/>
                </a:lnTo>
                <a:lnTo>
                  <a:pt x="55" y="816"/>
                </a:lnTo>
                <a:lnTo>
                  <a:pt x="57" y="812"/>
                </a:lnTo>
                <a:lnTo>
                  <a:pt x="59" y="806"/>
                </a:lnTo>
                <a:lnTo>
                  <a:pt x="61" y="798"/>
                </a:lnTo>
                <a:lnTo>
                  <a:pt x="63" y="793"/>
                </a:lnTo>
                <a:lnTo>
                  <a:pt x="67" y="785"/>
                </a:lnTo>
                <a:lnTo>
                  <a:pt x="69" y="775"/>
                </a:lnTo>
                <a:lnTo>
                  <a:pt x="69" y="768"/>
                </a:lnTo>
                <a:lnTo>
                  <a:pt x="71" y="758"/>
                </a:lnTo>
                <a:lnTo>
                  <a:pt x="73" y="749"/>
                </a:lnTo>
                <a:lnTo>
                  <a:pt x="75" y="737"/>
                </a:lnTo>
                <a:lnTo>
                  <a:pt x="76" y="726"/>
                </a:lnTo>
                <a:lnTo>
                  <a:pt x="76" y="714"/>
                </a:lnTo>
                <a:lnTo>
                  <a:pt x="78" y="703"/>
                </a:lnTo>
                <a:lnTo>
                  <a:pt x="78" y="689"/>
                </a:lnTo>
                <a:lnTo>
                  <a:pt x="80" y="676"/>
                </a:lnTo>
                <a:lnTo>
                  <a:pt x="80" y="662"/>
                </a:lnTo>
                <a:lnTo>
                  <a:pt x="82" y="647"/>
                </a:lnTo>
                <a:lnTo>
                  <a:pt x="82" y="632"/>
                </a:lnTo>
                <a:lnTo>
                  <a:pt x="82" y="616"/>
                </a:lnTo>
                <a:lnTo>
                  <a:pt x="82" y="599"/>
                </a:lnTo>
                <a:lnTo>
                  <a:pt x="82" y="582"/>
                </a:lnTo>
                <a:lnTo>
                  <a:pt x="82" y="564"/>
                </a:lnTo>
                <a:lnTo>
                  <a:pt x="82" y="545"/>
                </a:lnTo>
                <a:lnTo>
                  <a:pt x="82" y="528"/>
                </a:lnTo>
                <a:lnTo>
                  <a:pt x="82" y="509"/>
                </a:lnTo>
                <a:lnTo>
                  <a:pt x="82" y="488"/>
                </a:lnTo>
                <a:lnTo>
                  <a:pt x="82" y="466"/>
                </a:lnTo>
                <a:lnTo>
                  <a:pt x="80" y="445"/>
                </a:lnTo>
                <a:lnTo>
                  <a:pt x="80" y="424"/>
                </a:lnTo>
                <a:lnTo>
                  <a:pt x="80" y="403"/>
                </a:lnTo>
                <a:lnTo>
                  <a:pt x="78" y="380"/>
                </a:lnTo>
                <a:lnTo>
                  <a:pt x="78" y="359"/>
                </a:lnTo>
                <a:lnTo>
                  <a:pt x="76" y="338"/>
                </a:lnTo>
                <a:lnTo>
                  <a:pt x="76" y="317"/>
                </a:lnTo>
                <a:lnTo>
                  <a:pt x="75" y="298"/>
                </a:lnTo>
                <a:lnTo>
                  <a:pt x="75" y="278"/>
                </a:lnTo>
                <a:lnTo>
                  <a:pt x="75" y="261"/>
                </a:lnTo>
                <a:lnTo>
                  <a:pt x="75" y="242"/>
                </a:lnTo>
                <a:lnTo>
                  <a:pt x="73" y="225"/>
                </a:lnTo>
                <a:lnTo>
                  <a:pt x="73" y="209"/>
                </a:lnTo>
                <a:lnTo>
                  <a:pt x="73" y="192"/>
                </a:lnTo>
                <a:lnTo>
                  <a:pt x="73" y="177"/>
                </a:lnTo>
                <a:lnTo>
                  <a:pt x="73" y="163"/>
                </a:lnTo>
                <a:lnTo>
                  <a:pt x="73" y="148"/>
                </a:lnTo>
                <a:lnTo>
                  <a:pt x="73" y="134"/>
                </a:lnTo>
                <a:lnTo>
                  <a:pt x="73" y="121"/>
                </a:lnTo>
                <a:lnTo>
                  <a:pt x="73" y="110"/>
                </a:lnTo>
                <a:lnTo>
                  <a:pt x="73" y="98"/>
                </a:lnTo>
                <a:lnTo>
                  <a:pt x="73" y="86"/>
                </a:lnTo>
                <a:lnTo>
                  <a:pt x="73" y="77"/>
                </a:lnTo>
                <a:lnTo>
                  <a:pt x="73" y="67"/>
                </a:lnTo>
                <a:lnTo>
                  <a:pt x="73" y="58"/>
                </a:lnTo>
                <a:lnTo>
                  <a:pt x="73" y="48"/>
                </a:lnTo>
                <a:lnTo>
                  <a:pt x="75" y="40"/>
                </a:lnTo>
                <a:lnTo>
                  <a:pt x="75" y="33"/>
                </a:lnTo>
                <a:lnTo>
                  <a:pt x="75" y="27"/>
                </a:lnTo>
                <a:lnTo>
                  <a:pt x="75" y="21"/>
                </a:lnTo>
                <a:lnTo>
                  <a:pt x="76" y="15"/>
                </a:lnTo>
                <a:lnTo>
                  <a:pt x="76" y="10"/>
                </a:lnTo>
                <a:lnTo>
                  <a:pt x="78" y="6"/>
                </a:lnTo>
                <a:lnTo>
                  <a:pt x="78" y="2"/>
                </a:lnTo>
                <a:lnTo>
                  <a:pt x="80" y="0"/>
                </a:lnTo>
                <a:lnTo>
                  <a:pt x="209" y="0"/>
                </a:lnTo>
                <a:lnTo>
                  <a:pt x="209" y="44"/>
                </a:lnTo>
                <a:lnTo>
                  <a:pt x="209" y="86"/>
                </a:lnTo>
                <a:lnTo>
                  <a:pt x="209" y="129"/>
                </a:lnTo>
                <a:lnTo>
                  <a:pt x="209" y="169"/>
                </a:lnTo>
                <a:lnTo>
                  <a:pt x="209" y="207"/>
                </a:lnTo>
                <a:lnTo>
                  <a:pt x="211" y="244"/>
                </a:lnTo>
                <a:lnTo>
                  <a:pt x="211" y="280"/>
                </a:lnTo>
                <a:lnTo>
                  <a:pt x="211" y="315"/>
                </a:lnTo>
                <a:lnTo>
                  <a:pt x="211" y="347"/>
                </a:lnTo>
                <a:lnTo>
                  <a:pt x="211" y="380"/>
                </a:lnTo>
                <a:lnTo>
                  <a:pt x="213" y="409"/>
                </a:lnTo>
                <a:lnTo>
                  <a:pt x="213" y="438"/>
                </a:lnTo>
                <a:lnTo>
                  <a:pt x="213" y="466"/>
                </a:lnTo>
                <a:lnTo>
                  <a:pt x="215" y="491"/>
                </a:lnTo>
                <a:lnTo>
                  <a:pt x="215" y="516"/>
                </a:lnTo>
                <a:lnTo>
                  <a:pt x="215" y="541"/>
                </a:lnTo>
                <a:lnTo>
                  <a:pt x="217" y="562"/>
                </a:lnTo>
                <a:lnTo>
                  <a:pt x="217" y="584"/>
                </a:lnTo>
                <a:lnTo>
                  <a:pt x="217" y="603"/>
                </a:lnTo>
                <a:lnTo>
                  <a:pt x="218" y="620"/>
                </a:lnTo>
                <a:lnTo>
                  <a:pt x="218" y="637"/>
                </a:lnTo>
                <a:lnTo>
                  <a:pt x="220" y="653"/>
                </a:lnTo>
                <a:lnTo>
                  <a:pt x="220" y="666"/>
                </a:lnTo>
                <a:lnTo>
                  <a:pt x="222" y="678"/>
                </a:lnTo>
                <a:lnTo>
                  <a:pt x="222" y="689"/>
                </a:lnTo>
                <a:lnTo>
                  <a:pt x="224" y="699"/>
                </a:lnTo>
                <a:lnTo>
                  <a:pt x="224" y="706"/>
                </a:lnTo>
                <a:lnTo>
                  <a:pt x="224" y="714"/>
                </a:lnTo>
                <a:lnTo>
                  <a:pt x="226" y="720"/>
                </a:lnTo>
                <a:lnTo>
                  <a:pt x="226" y="724"/>
                </a:lnTo>
                <a:lnTo>
                  <a:pt x="228" y="727"/>
                </a:lnTo>
                <a:lnTo>
                  <a:pt x="228" y="729"/>
                </a:lnTo>
                <a:lnTo>
                  <a:pt x="232" y="729"/>
                </a:lnTo>
                <a:lnTo>
                  <a:pt x="236" y="729"/>
                </a:lnTo>
                <a:lnTo>
                  <a:pt x="242" y="727"/>
                </a:lnTo>
                <a:lnTo>
                  <a:pt x="249" y="726"/>
                </a:lnTo>
                <a:lnTo>
                  <a:pt x="259" y="722"/>
                </a:lnTo>
                <a:lnTo>
                  <a:pt x="270" y="716"/>
                </a:lnTo>
                <a:lnTo>
                  <a:pt x="282" y="708"/>
                </a:lnTo>
                <a:lnTo>
                  <a:pt x="297" y="701"/>
                </a:lnTo>
                <a:lnTo>
                  <a:pt x="313" y="691"/>
                </a:lnTo>
                <a:lnTo>
                  <a:pt x="330" y="679"/>
                </a:lnTo>
                <a:lnTo>
                  <a:pt x="349" y="668"/>
                </a:lnTo>
                <a:lnTo>
                  <a:pt x="370" y="655"/>
                </a:lnTo>
                <a:lnTo>
                  <a:pt x="391" y="639"/>
                </a:lnTo>
                <a:lnTo>
                  <a:pt x="416" y="622"/>
                </a:lnTo>
                <a:lnTo>
                  <a:pt x="441" y="605"/>
                </a:lnTo>
                <a:lnTo>
                  <a:pt x="468" y="585"/>
                </a:lnTo>
                <a:lnTo>
                  <a:pt x="495" y="566"/>
                </a:lnTo>
                <a:lnTo>
                  <a:pt x="522" y="551"/>
                </a:lnTo>
                <a:lnTo>
                  <a:pt x="545" y="536"/>
                </a:lnTo>
                <a:lnTo>
                  <a:pt x="568" y="522"/>
                </a:lnTo>
                <a:lnTo>
                  <a:pt x="587" y="511"/>
                </a:lnTo>
                <a:lnTo>
                  <a:pt x="606" y="499"/>
                </a:lnTo>
                <a:lnTo>
                  <a:pt x="623" y="491"/>
                </a:lnTo>
                <a:lnTo>
                  <a:pt x="641" y="482"/>
                </a:lnTo>
                <a:lnTo>
                  <a:pt x="654" y="476"/>
                </a:lnTo>
                <a:lnTo>
                  <a:pt x="666" y="470"/>
                </a:lnTo>
                <a:lnTo>
                  <a:pt x="677" y="465"/>
                </a:lnTo>
                <a:lnTo>
                  <a:pt x="687" y="463"/>
                </a:lnTo>
                <a:lnTo>
                  <a:pt x="694" y="459"/>
                </a:lnTo>
                <a:lnTo>
                  <a:pt x="700" y="459"/>
                </a:lnTo>
                <a:lnTo>
                  <a:pt x="704" y="459"/>
                </a:lnTo>
                <a:lnTo>
                  <a:pt x="708" y="461"/>
                </a:lnTo>
                <a:lnTo>
                  <a:pt x="708" y="463"/>
                </a:lnTo>
                <a:lnTo>
                  <a:pt x="708" y="465"/>
                </a:lnTo>
                <a:lnTo>
                  <a:pt x="708" y="466"/>
                </a:lnTo>
                <a:lnTo>
                  <a:pt x="706" y="470"/>
                </a:lnTo>
                <a:lnTo>
                  <a:pt x="704" y="474"/>
                </a:lnTo>
                <a:lnTo>
                  <a:pt x="702" y="478"/>
                </a:lnTo>
                <a:lnTo>
                  <a:pt x="700" y="482"/>
                </a:lnTo>
                <a:lnTo>
                  <a:pt x="696" y="488"/>
                </a:lnTo>
                <a:lnTo>
                  <a:pt x="692" y="491"/>
                </a:lnTo>
                <a:lnTo>
                  <a:pt x="689" y="497"/>
                </a:lnTo>
                <a:lnTo>
                  <a:pt x="683" y="503"/>
                </a:lnTo>
                <a:lnTo>
                  <a:pt x="677" y="509"/>
                </a:lnTo>
                <a:lnTo>
                  <a:pt x="671" y="516"/>
                </a:lnTo>
                <a:lnTo>
                  <a:pt x="664" y="522"/>
                </a:lnTo>
                <a:lnTo>
                  <a:pt x="658" y="530"/>
                </a:lnTo>
                <a:lnTo>
                  <a:pt x="650" y="537"/>
                </a:lnTo>
                <a:lnTo>
                  <a:pt x="641" y="545"/>
                </a:lnTo>
                <a:lnTo>
                  <a:pt x="633" y="553"/>
                </a:lnTo>
                <a:lnTo>
                  <a:pt x="623" y="562"/>
                </a:lnTo>
                <a:lnTo>
                  <a:pt x="614" y="572"/>
                </a:lnTo>
                <a:lnTo>
                  <a:pt x="602" y="582"/>
                </a:lnTo>
                <a:lnTo>
                  <a:pt x="593" y="591"/>
                </a:lnTo>
                <a:lnTo>
                  <a:pt x="581" y="601"/>
                </a:lnTo>
                <a:lnTo>
                  <a:pt x="570" y="612"/>
                </a:lnTo>
                <a:lnTo>
                  <a:pt x="556" y="622"/>
                </a:lnTo>
                <a:lnTo>
                  <a:pt x="545" y="633"/>
                </a:lnTo>
                <a:lnTo>
                  <a:pt x="518" y="658"/>
                </a:lnTo>
                <a:lnTo>
                  <a:pt x="489" y="683"/>
                </a:lnTo>
                <a:lnTo>
                  <a:pt x="458" y="710"/>
                </a:lnTo>
                <a:lnTo>
                  <a:pt x="428" y="737"/>
                </a:lnTo>
                <a:lnTo>
                  <a:pt x="399" y="762"/>
                </a:lnTo>
                <a:lnTo>
                  <a:pt x="370" y="785"/>
                </a:lnTo>
                <a:lnTo>
                  <a:pt x="345" y="808"/>
                </a:lnTo>
                <a:lnTo>
                  <a:pt x="320" y="831"/>
                </a:lnTo>
                <a:lnTo>
                  <a:pt x="297" y="852"/>
                </a:lnTo>
                <a:lnTo>
                  <a:pt x="278" y="871"/>
                </a:lnTo>
                <a:lnTo>
                  <a:pt x="259" y="889"/>
                </a:lnTo>
                <a:lnTo>
                  <a:pt x="242" y="906"/>
                </a:lnTo>
                <a:lnTo>
                  <a:pt x="224" y="921"/>
                </a:lnTo>
                <a:lnTo>
                  <a:pt x="211" y="935"/>
                </a:lnTo>
                <a:lnTo>
                  <a:pt x="199" y="948"/>
                </a:lnTo>
                <a:lnTo>
                  <a:pt x="188" y="960"/>
                </a:lnTo>
                <a:lnTo>
                  <a:pt x="180" y="971"/>
                </a:lnTo>
                <a:lnTo>
                  <a:pt x="174" y="981"/>
                </a:lnTo>
                <a:lnTo>
                  <a:pt x="169" y="98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Freeform 50"/>
          <p:cNvSpPr/>
          <p:nvPr/>
        </p:nvSpPr>
        <p:spPr>
          <a:xfrm>
            <a:off x="3086280" y="3317760"/>
            <a:ext cx="436320" cy="327240"/>
          </a:xfrm>
          <a:custGeom>
            <a:avLst/>
            <a:gdLst>
              <a:gd name="textAreaLeft" fmla="*/ 0 w 436320"/>
              <a:gd name="textAreaRight" fmla="*/ 436680 w 43632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48" h="413">
                <a:moveTo>
                  <a:pt x="320" y="135"/>
                </a:moveTo>
                <a:lnTo>
                  <a:pt x="326" y="127"/>
                </a:lnTo>
                <a:lnTo>
                  <a:pt x="333" y="119"/>
                </a:lnTo>
                <a:lnTo>
                  <a:pt x="339" y="114"/>
                </a:lnTo>
                <a:lnTo>
                  <a:pt x="343" y="106"/>
                </a:lnTo>
                <a:lnTo>
                  <a:pt x="349" y="100"/>
                </a:lnTo>
                <a:lnTo>
                  <a:pt x="353" y="94"/>
                </a:lnTo>
                <a:lnTo>
                  <a:pt x="355" y="89"/>
                </a:lnTo>
                <a:lnTo>
                  <a:pt x="358" y="83"/>
                </a:lnTo>
                <a:lnTo>
                  <a:pt x="360" y="77"/>
                </a:lnTo>
                <a:lnTo>
                  <a:pt x="360" y="71"/>
                </a:lnTo>
                <a:lnTo>
                  <a:pt x="362" y="66"/>
                </a:lnTo>
                <a:lnTo>
                  <a:pt x="362" y="60"/>
                </a:lnTo>
                <a:lnTo>
                  <a:pt x="362" y="54"/>
                </a:lnTo>
                <a:lnTo>
                  <a:pt x="362" y="48"/>
                </a:lnTo>
                <a:lnTo>
                  <a:pt x="360" y="43"/>
                </a:lnTo>
                <a:lnTo>
                  <a:pt x="358" y="39"/>
                </a:lnTo>
                <a:lnTo>
                  <a:pt x="356" y="27"/>
                </a:lnTo>
                <a:lnTo>
                  <a:pt x="355" y="20"/>
                </a:lnTo>
                <a:lnTo>
                  <a:pt x="353" y="14"/>
                </a:lnTo>
                <a:lnTo>
                  <a:pt x="355" y="8"/>
                </a:lnTo>
                <a:lnTo>
                  <a:pt x="355" y="6"/>
                </a:lnTo>
                <a:lnTo>
                  <a:pt x="356" y="4"/>
                </a:lnTo>
                <a:lnTo>
                  <a:pt x="358" y="2"/>
                </a:lnTo>
                <a:lnTo>
                  <a:pt x="362" y="2"/>
                </a:lnTo>
                <a:lnTo>
                  <a:pt x="366" y="0"/>
                </a:lnTo>
                <a:lnTo>
                  <a:pt x="370" y="0"/>
                </a:lnTo>
                <a:lnTo>
                  <a:pt x="374" y="0"/>
                </a:lnTo>
                <a:lnTo>
                  <a:pt x="380" y="0"/>
                </a:lnTo>
                <a:lnTo>
                  <a:pt x="387" y="0"/>
                </a:lnTo>
                <a:lnTo>
                  <a:pt x="397" y="2"/>
                </a:lnTo>
                <a:lnTo>
                  <a:pt x="406" y="8"/>
                </a:lnTo>
                <a:lnTo>
                  <a:pt x="418" y="12"/>
                </a:lnTo>
                <a:lnTo>
                  <a:pt x="431" y="20"/>
                </a:lnTo>
                <a:lnTo>
                  <a:pt x="445" y="27"/>
                </a:lnTo>
                <a:lnTo>
                  <a:pt x="460" y="37"/>
                </a:lnTo>
                <a:lnTo>
                  <a:pt x="479" y="48"/>
                </a:lnTo>
                <a:lnTo>
                  <a:pt x="487" y="54"/>
                </a:lnTo>
                <a:lnTo>
                  <a:pt x="497" y="62"/>
                </a:lnTo>
                <a:lnTo>
                  <a:pt x="504" y="68"/>
                </a:lnTo>
                <a:lnTo>
                  <a:pt x="510" y="75"/>
                </a:lnTo>
                <a:lnTo>
                  <a:pt x="518" y="81"/>
                </a:lnTo>
                <a:lnTo>
                  <a:pt x="523" y="87"/>
                </a:lnTo>
                <a:lnTo>
                  <a:pt x="527" y="94"/>
                </a:lnTo>
                <a:lnTo>
                  <a:pt x="533" y="100"/>
                </a:lnTo>
                <a:lnTo>
                  <a:pt x="537" y="106"/>
                </a:lnTo>
                <a:lnTo>
                  <a:pt x="539" y="112"/>
                </a:lnTo>
                <a:lnTo>
                  <a:pt x="543" y="115"/>
                </a:lnTo>
                <a:lnTo>
                  <a:pt x="545" y="121"/>
                </a:lnTo>
                <a:lnTo>
                  <a:pt x="546" y="127"/>
                </a:lnTo>
                <a:lnTo>
                  <a:pt x="548" y="133"/>
                </a:lnTo>
                <a:lnTo>
                  <a:pt x="548" y="139"/>
                </a:lnTo>
                <a:lnTo>
                  <a:pt x="548" y="144"/>
                </a:lnTo>
                <a:lnTo>
                  <a:pt x="546" y="146"/>
                </a:lnTo>
                <a:lnTo>
                  <a:pt x="545" y="150"/>
                </a:lnTo>
                <a:lnTo>
                  <a:pt x="543" y="154"/>
                </a:lnTo>
                <a:lnTo>
                  <a:pt x="539" y="158"/>
                </a:lnTo>
                <a:lnTo>
                  <a:pt x="533" y="162"/>
                </a:lnTo>
                <a:lnTo>
                  <a:pt x="527" y="165"/>
                </a:lnTo>
                <a:lnTo>
                  <a:pt x="522" y="171"/>
                </a:lnTo>
                <a:lnTo>
                  <a:pt x="514" y="175"/>
                </a:lnTo>
                <a:lnTo>
                  <a:pt x="506" y="181"/>
                </a:lnTo>
                <a:lnTo>
                  <a:pt x="497" y="186"/>
                </a:lnTo>
                <a:lnTo>
                  <a:pt x="487" y="194"/>
                </a:lnTo>
                <a:lnTo>
                  <a:pt x="477" y="200"/>
                </a:lnTo>
                <a:lnTo>
                  <a:pt x="466" y="208"/>
                </a:lnTo>
                <a:lnTo>
                  <a:pt x="452" y="215"/>
                </a:lnTo>
                <a:lnTo>
                  <a:pt x="441" y="223"/>
                </a:lnTo>
                <a:lnTo>
                  <a:pt x="426" y="231"/>
                </a:lnTo>
                <a:lnTo>
                  <a:pt x="410" y="238"/>
                </a:lnTo>
                <a:lnTo>
                  <a:pt x="395" y="248"/>
                </a:lnTo>
                <a:lnTo>
                  <a:pt x="378" y="257"/>
                </a:lnTo>
                <a:lnTo>
                  <a:pt x="360" y="267"/>
                </a:lnTo>
                <a:lnTo>
                  <a:pt x="343" y="277"/>
                </a:lnTo>
                <a:lnTo>
                  <a:pt x="324" y="286"/>
                </a:lnTo>
                <a:lnTo>
                  <a:pt x="303" y="298"/>
                </a:lnTo>
                <a:lnTo>
                  <a:pt x="282" y="309"/>
                </a:lnTo>
                <a:lnTo>
                  <a:pt x="259" y="321"/>
                </a:lnTo>
                <a:lnTo>
                  <a:pt x="237" y="332"/>
                </a:lnTo>
                <a:lnTo>
                  <a:pt x="213" y="344"/>
                </a:lnTo>
                <a:lnTo>
                  <a:pt x="188" y="357"/>
                </a:lnTo>
                <a:lnTo>
                  <a:pt x="163" y="371"/>
                </a:lnTo>
                <a:lnTo>
                  <a:pt x="136" y="384"/>
                </a:lnTo>
                <a:lnTo>
                  <a:pt x="109" y="398"/>
                </a:lnTo>
                <a:lnTo>
                  <a:pt x="80" y="413"/>
                </a:lnTo>
                <a:lnTo>
                  <a:pt x="40" y="398"/>
                </a:lnTo>
                <a:lnTo>
                  <a:pt x="0" y="384"/>
                </a:lnTo>
                <a:lnTo>
                  <a:pt x="19" y="373"/>
                </a:lnTo>
                <a:lnTo>
                  <a:pt x="38" y="359"/>
                </a:lnTo>
                <a:lnTo>
                  <a:pt x="57" y="348"/>
                </a:lnTo>
                <a:lnTo>
                  <a:pt x="78" y="332"/>
                </a:lnTo>
                <a:lnTo>
                  <a:pt x="99" y="319"/>
                </a:lnTo>
                <a:lnTo>
                  <a:pt x="120" y="304"/>
                </a:lnTo>
                <a:lnTo>
                  <a:pt x="145" y="286"/>
                </a:lnTo>
                <a:lnTo>
                  <a:pt x="170" y="269"/>
                </a:lnTo>
                <a:lnTo>
                  <a:pt x="191" y="250"/>
                </a:lnTo>
                <a:lnTo>
                  <a:pt x="213" y="233"/>
                </a:lnTo>
                <a:lnTo>
                  <a:pt x="232" y="215"/>
                </a:lnTo>
                <a:lnTo>
                  <a:pt x="251" y="198"/>
                </a:lnTo>
                <a:lnTo>
                  <a:pt x="270" y="181"/>
                </a:lnTo>
                <a:lnTo>
                  <a:pt x="287" y="165"/>
                </a:lnTo>
                <a:lnTo>
                  <a:pt x="305" y="148"/>
                </a:lnTo>
                <a:lnTo>
                  <a:pt x="320" y="13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Freeform 51"/>
          <p:cNvSpPr/>
          <p:nvPr/>
        </p:nvSpPr>
        <p:spPr>
          <a:xfrm>
            <a:off x="2714760" y="3303720"/>
            <a:ext cx="1226880" cy="7174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545" h="906">
                <a:moveTo>
                  <a:pt x="639" y="633"/>
                </a:moveTo>
                <a:lnTo>
                  <a:pt x="607" y="599"/>
                </a:lnTo>
                <a:lnTo>
                  <a:pt x="574" y="562"/>
                </a:lnTo>
                <a:lnTo>
                  <a:pt x="540" y="528"/>
                </a:lnTo>
                <a:lnTo>
                  <a:pt x="503" y="491"/>
                </a:lnTo>
                <a:lnTo>
                  <a:pt x="467" y="457"/>
                </a:lnTo>
                <a:lnTo>
                  <a:pt x="428" y="419"/>
                </a:lnTo>
                <a:lnTo>
                  <a:pt x="390" y="382"/>
                </a:lnTo>
                <a:lnTo>
                  <a:pt x="350" y="346"/>
                </a:lnTo>
                <a:lnTo>
                  <a:pt x="309" y="307"/>
                </a:lnTo>
                <a:lnTo>
                  <a:pt x="267" y="269"/>
                </a:lnTo>
                <a:lnTo>
                  <a:pt x="225" y="230"/>
                </a:lnTo>
                <a:lnTo>
                  <a:pt x="181" y="190"/>
                </a:lnTo>
                <a:lnTo>
                  <a:pt x="137" y="152"/>
                </a:lnTo>
                <a:lnTo>
                  <a:pt x="92" y="111"/>
                </a:lnTo>
                <a:lnTo>
                  <a:pt x="46" y="69"/>
                </a:lnTo>
                <a:lnTo>
                  <a:pt x="0" y="29"/>
                </a:lnTo>
                <a:lnTo>
                  <a:pt x="41" y="14"/>
                </a:lnTo>
                <a:lnTo>
                  <a:pt x="81" y="0"/>
                </a:lnTo>
                <a:lnTo>
                  <a:pt x="125" y="37"/>
                </a:lnTo>
                <a:lnTo>
                  <a:pt x="167" y="73"/>
                </a:lnTo>
                <a:lnTo>
                  <a:pt x="209" y="110"/>
                </a:lnTo>
                <a:lnTo>
                  <a:pt x="252" y="142"/>
                </a:lnTo>
                <a:lnTo>
                  <a:pt x="292" y="175"/>
                </a:lnTo>
                <a:lnTo>
                  <a:pt x="332" y="207"/>
                </a:lnTo>
                <a:lnTo>
                  <a:pt x="371" y="238"/>
                </a:lnTo>
                <a:lnTo>
                  <a:pt x="407" y="267"/>
                </a:lnTo>
                <a:lnTo>
                  <a:pt x="444" y="296"/>
                </a:lnTo>
                <a:lnTo>
                  <a:pt x="480" y="323"/>
                </a:lnTo>
                <a:lnTo>
                  <a:pt x="515" y="349"/>
                </a:lnTo>
                <a:lnTo>
                  <a:pt x="547" y="376"/>
                </a:lnTo>
                <a:lnTo>
                  <a:pt x="580" y="401"/>
                </a:lnTo>
                <a:lnTo>
                  <a:pt x="611" y="424"/>
                </a:lnTo>
                <a:lnTo>
                  <a:pt x="639" y="447"/>
                </a:lnTo>
                <a:lnTo>
                  <a:pt x="668" y="470"/>
                </a:lnTo>
                <a:lnTo>
                  <a:pt x="697" y="491"/>
                </a:lnTo>
                <a:lnTo>
                  <a:pt x="726" y="513"/>
                </a:lnTo>
                <a:lnTo>
                  <a:pt x="756" y="532"/>
                </a:lnTo>
                <a:lnTo>
                  <a:pt x="787" y="551"/>
                </a:lnTo>
                <a:lnTo>
                  <a:pt x="820" y="570"/>
                </a:lnTo>
                <a:lnTo>
                  <a:pt x="852" y="587"/>
                </a:lnTo>
                <a:lnTo>
                  <a:pt x="887" y="605"/>
                </a:lnTo>
                <a:lnTo>
                  <a:pt x="921" y="620"/>
                </a:lnTo>
                <a:lnTo>
                  <a:pt x="956" y="637"/>
                </a:lnTo>
                <a:lnTo>
                  <a:pt x="992" y="651"/>
                </a:lnTo>
                <a:lnTo>
                  <a:pt x="1031" y="666"/>
                </a:lnTo>
                <a:lnTo>
                  <a:pt x="1067" y="680"/>
                </a:lnTo>
                <a:lnTo>
                  <a:pt x="1108" y="693"/>
                </a:lnTo>
                <a:lnTo>
                  <a:pt x="1146" y="706"/>
                </a:lnTo>
                <a:lnTo>
                  <a:pt x="1186" y="718"/>
                </a:lnTo>
                <a:lnTo>
                  <a:pt x="1227" y="729"/>
                </a:lnTo>
                <a:lnTo>
                  <a:pt x="1246" y="733"/>
                </a:lnTo>
                <a:lnTo>
                  <a:pt x="1265" y="739"/>
                </a:lnTo>
                <a:lnTo>
                  <a:pt x="1282" y="745"/>
                </a:lnTo>
                <a:lnTo>
                  <a:pt x="1301" y="751"/>
                </a:lnTo>
                <a:lnTo>
                  <a:pt x="1317" y="754"/>
                </a:lnTo>
                <a:lnTo>
                  <a:pt x="1334" y="760"/>
                </a:lnTo>
                <a:lnTo>
                  <a:pt x="1349" y="764"/>
                </a:lnTo>
                <a:lnTo>
                  <a:pt x="1365" y="768"/>
                </a:lnTo>
                <a:lnTo>
                  <a:pt x="1380" y="774"/>
                </a:lnTo>
                <a:lnTo>
                  <a:pt x="1394" y="777"/>
                </a:lnTo>
                <a:lnTo>
                  <a:pt x="1407" y="781"/>
                </a:lnTo>
                <a:lnTo>
                  <a:pt x="1420" y="785"/>
                </a:lnTo>
                <a:lnTo>
                  <a:pt x="1432" y="789"/>
                </a:lnTo>
                <a:lnTo>
                  <a:pt x="1443" y="793"/>
                </a:lnTo>
                <a:lnTo>
                  <a:pt x="1455" y="797"/>
                </a:lnTo>
                <a:lnTo>
                  <a:pt x="1465" y="800"/>
                </a:lnTo>
                <a:lnTo>
                  <a:pt x="1474" y="802"/>
                </a:lnTo>
                <a:lnTo>
                  <a:pt x="1484" y="806"/>
                </a:lnTo>
                <a:lnTo>
                  <a:pt x="1491" y="810"/>
                </a:lnTo>
                <a:lnTo>
                  <a:pt x="1499" y="812"/>
                </a:lnTo>
                <a:lnTo>
                  <a:pt x="1507" y="816"/>
                </a:lnTo>
                <a:lnTo>
                  <a:pt x="1514" y="818"/>
                </a:lnTo>
                <a:lnTo>
                  <a:pt x="1520" y="820"/>
                </a:lnTo>
                <a:lnTo>
                  <a:pt x="1526" y="822"/>
                </a:lnTo>
                <a:lnTo>
                  <a:pt x="1530" y="823"/>
                </a:lnTo>
                <a:lnTo>
                  <a:pt x="1534" y="825"/>
                </a:lnTo>
                <a:lnTo>
                  <a:pt x="1537" y="827"/>
                </a:lnTo>
                <a:lnTo>
                  <a:pt x="1541" y="829"/>
                </a:lnTo>
                <a:lnTo>
                  <a:pt x="1543" y="831"/>
                </a:lnTo>
                <a:lnTo>
                  <a:pt x="1545" y="833"/>
                </a:lnTo>
                <a:lnTo>
                  <a:pt x="1545" y="835"/>
                </a:lnTo>
                <a:lnTo>
                  <a:pt x="1545" y="839"/>
                </a:lnTo>
                <a:lnTo>
                  <a:pt x="1543" y="841"/>
                </a:lnTo>
                <a:lnTo>
                  <a:pt x="1539" y="845"/>
                </a:lnTo>
                <a:lnTo>
                  <a:pt x="1534" y="848"/>
                </a:lnTo>
                <a:lnTo>
                  <a:pt x="1526" y="852"/>
                </a:lnTo>
                <a:lnTo>
                  <a:pt x="1516" y="856"/>
                </a:lnTo>
                <a:lnTo>
                  <a:pt x="1507" y="860"/>
                </a:lnTo>
                <a:lnTo>
                  <a:pt x="1495" y="864"/>
                </a:lnTo>
                <a:lnTo>
                  <a:pt x="1482" y="866"/>
                </a:lnTo>
                <a:lnTo>
                  <a:pt x="1466" y="870"/>
                </a:lnTo>
                <a:lnTo>
                  <a:pt x="1451" y="873"/>
                </a:lnTo>
                <a:lnTo>
                  <a:pt x="1432" y="877"/>
                </a:lnTo>
                <a:lnTo>
                  <a:pt x="1413" y="881"/>
                </a:lnTo>
                <a:lnTo>
                  <a:pt x="1392" y="885"/>
                </a:lnTo>
                <a:lnTo>
                  <a:pt x="1370" y="889"/>
                </a:lnTo>
                <a:lnTo>
                  <a:pt x="1347" y="893"/>
                </a:lnTo>
                <a:lnTo>
                  <a:pt x="1321" y="894"/>
                </a:lnTo>
                <a:lnTo>
                  <a:pt x="1296" y="896"/>
                </a:lnTo>
                <a:lnTo>
                  <a:pt x="1271" y="896"/>
                </a:lnTo>
                <a:lnTo>
                  <a:pt x="1248" y="898"/>
                </a:lnTo>
                <a:lnTo>
                  <a:pt x="1225" y="900"/>
                </a:lnTo>
                <a:lnTo>
                  <a:pt x="1202" y="902"/>
                </a:lnTo>
                <a:lnTo>
                  <a:pt x="1181" y="902"/>
                </a:lnTo>
                <a:lnTo>
                  <a:pt x="1159" y="904"/>
                </a:lnTo>
                <a:lnTo>
                  <a:pt x="1140" y="904"/>
                </a:lnTo>
                <a:lnTo>
                  <a:pt x="1119" y="906"/>
                </a:lnTo>
                <a:lnTo>
                  <a:pt x="1102" y="906"/>
                </a:lnTo>
                <a:lnTo>
                  <a:pt x="1083" y="906"/>
                </a:lnTo>
                <a:lnTo>
                  <a:pt x="1065" y="906"/>
                </a:lnTo>
                <a:lnTo>
                  <a:pt x="1048" y="904"/>
                </a:lnTo>
                <a:lnTo>
                  <a:pt x="1033" y="902"/>
                </a:lnTo>
                <a:lnTo>
                  <a:pt x="1017" y="902"/>
                </a:lnTo>
                <a:lnTo>
                  <a:pt x="1002" y="898"/>
                </a:lnTo>
                <a:lnTo>
                  <a:pt x="985" y="894"/>
                </a:lnTo>
                <a:lnTo>
                  <a:pt x="967" y="889"/>
                </a:lnTo>
                <a:lnTo>
                  <a:pt x="948" y="879"/>
                </a:lnTo>
                <a:lnTo>
                  <a:pt x="927" y="870"/>
                </a:lnTo>
                <a:lnTo>
                  <a:pt x="906" y="858"/>
                </a:lnTo>
                <a:lnTo>
                  <a:pt x="885" y="845"/>
                </a:lnTo>
                <a:lnTo>
                  <a:pt x="873" y="837"/>
                </a:lnTo>
                <a:lnTo>
                  <a:pt x="862" y="829"/>
                </a:lnTo>
                <a:lnTo>
                  <a:pt x="849" y="820"/>
                </a:lnTo>
                <a:lnTo>
                  <a:pt x="837" y="812"/>
                </a:lnTo>
                <a:lnTo>
                  <a:pt x="824" y="802"/>
                </a:lnTo>
                <a:lnTo>
                  <a:pt x="812" y="793"/>
                </a:lnTo>
                <a:lnTo>
                  <a:pt x="799" y="781"/>
                </a:lnTo>
                <a:lnTo>
                  <a:pt x="785" y="770"/>
                </a:lnTo>
                <a:lnTo>
                  <a:pt x="772" y="758"/>
                </a:lnTo>
                <a:lnTo>
                  <a:pt x="758" y="747"/>
                </a:lnTo>
                <a:lnTo>
                  <a:pt x="743" y="735"/>
                </a:lnTo>
                <a:lnTo>
                  <a:pt x="730" y="722"/>
                </a:lnTo>
                <a:lnTo>
                  <a:pt x="714" y="708"/>
                </a:lnTo>
                <a:lnTo>
                  <a:pt x="701" y="695"/>
                </a:lnTo>
                <a:lnTo>
                  <a:pt x="685" y="680"/>
                </a:lnTo>
                <a:lnTo>
                  <a:pt x="670" y="664"/>
                </a:lnTo>
                <a:lnTo>
                  <a:pt x="655" y="649"/>
                </a:lnTo>
                <a:lnTo>
                  <a:pt x="639" y="63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Freeform 57"/>
          <p:cNvSpPr/>
          <p:nvPr/>
        </p:nvSpPr>
        <p:spPr>
          <a:xfrm>
            <a:off x="2521080" y="2625840"/>
            <a:ext cx="849240" cy="199800"/>
          </a:xfrm>
          <a:custGeom>
            <a:avLst/>
            <a:gdLst>
              <a:gd name="textAreaLeft" fmla="*/ 0 w 849240"/>
              <a:gd name="textAreaRight" fmla="*/ 849600 w 8492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069" h="254">
                <a:moveTo>
                  <a:pt x="641" y="177"/>
                </a:moveTo>
                <a:lnTo>
                  <a:pt x="614" y="181"/>
                </a:lnTo>
                <a:lnTo>
                  <a:pt x="589" y="185"/>
                </a:lnTo>
                <a:lnTo>
                  <a:pt x="566" y="190"/>
                </a:lnTo>
                <a:lnTo>
                  <a:pt x="541" y="194"/>
                </a:lnTo>
                <a:lnTo>
                  <a:pt x="518" y="198"/>
                </a:lnTo>
                <a:lnTo>
                  <a:pt x="497" y="202"/>
                </a:lnTo>
                <a:lnTo>
                  <a:pt x="474" y="206"/>
                </a:lnTo>
                <a:lnTo>
                  <a:pt x="453" y="209"/>
                </a:lnTo>
                <a:lnTo>
                  <a:pt x="434" y="211"/>
                </a:lnTo>
                <a:lnTo>
                  <a:pt x="414" y="215"/>
                </a:lnTo>
                <a:lnTo>
                  <a:pt x="395" y="219"/>
                </a:lnTo>
                <a:lnTo>
                  <a:pt x="378" y="223"/>
                </a:lnTo>
                <a:lnTo>
                  <a:pt x="361" y="225"/>
                </a:lnTo>
                <a:lnTo>
                  <a:pt x="343" y="229"/>
                </a:lnTo>
                <a:lnTo>
                  <a:pt x="328" y="231"/>
                </a:lnTo>
                <a:lnTo>
                  <a:pt x="313" y="233"/>
                </a:lnTo>
                <a:lnTo>
                  <a:pt x="299" y="234"/>
                </a:lnTo>
                <a:lnTo>
                  <a:pt x="284" y="238"/>
                </a:lnTo>
                <a:lnTo>
                  <a:pt x="272" y="240"/>
                </a:lnTo>
                <a:lnTo>
                  <a:pt x="259" y="242"/>
                </a:lnTo>
                <a:lnTo>
                  <a:pt x="247" y="244"/>
                </a:lnTo>
                <a:lnTo>
                  <a:pt x="238" y="246"/>
                </a:lnTo>
                <a:lnTo>
                  <a:pt x="228" y="246"/>
                </a:lnTo>
                <a:lnTo>
                  <a:pt x="219" y="248"/>
                </a:lnTo>
                <a:lnTo>
                  <a:pt x="211" y="250"/>
                </a:lnTo>
                <a:lnTo>
                  <a:pt x="203" y="250"/>
                </a:lnTo>
                <a:lnTo>
                  <a:pt x="196" y="252"/>
                </a:lnTo>
                <a:lnTo>
                  <a:pt x="190" y="252"/>
                </a:lnTo>
                <a:lnTo>
                  <a:pt x="184" y="252"/>
                </a:lnTo>
                <a:lnTo>
                  <a:pt x="178" y="252"/>
                </a:lnTo>
                <a:lnTo>
                  <a:pt x="175" y="254"/>
                </a:lnTo>
                <a:lnTo>
                  <a:pt x="173" y="254"/>
                </a:lnTo>
                <a:lnTo>
                  <a:pt x="157" y="252"/>
                </a:lnTo>
                <a:lnTo>
                  <a:pt x="142" y="252"/>
                </a:lnTo>
                <a:lnTo>
                  <a:pt x="127" y="248"/>
                </a:lnTo>
                <a:lnTo>
                  <a:pt x="111" y="244"/>
                </a:lnTo>
                <a:lnTo>
                  <a:pt x="98" y="240"/>
                </a:lnTo>
                <a:lnTo>
                  <a:pt x="82" y="233"/>
                </a:lnTo>
                <a:lnTo>
                  <a:pt x="67" y="225"/>
                </a:lnTo>
                <a:lnTo>
                  <a:pt x="52" y="215"/>
                </a:lnTo>
                <a:lnTo>
                  <a:pt x="44" y="211"/>
                </a:lnTo>
                <a:lnTo>
                  <a:pt x="36" y="208"/>
                </a:lnTo>
                <a:lnTo>
                  <a:pt x="29" y="204"/>
                </a:lnTo>
                <a:lnTo>
                  <a:pt x="23" y="202"/>
                </a:lnTo>
                <a:lnTo>
                  <a:pt x="17" y="200"/>
                </a:lnTo>
                <a:lnTo>
                  <a:pt x="11" y="196"/>
                </a:lnTo>
                <a:lnTo>
                  <a:pt x="8" y="194"/>
                </a:lnTo>
                <a:lnTo>
                  <a:pt x="6" y="192"/>
                </a:lnTo>
                <a:lnTo>
                  <a:pt x="2" y="190"/>
                </a:lnTo>
                <a:lnTo>
                  <a:pt x="0" y="188"/>
                </a:lnTo>
                <a:lnTo>
                  <a:pt x="0" y="185"/>
                </a:lnTo>
                <a:lnTo>
                  <a:pt x="0" y="183"/>
                </a:lnTo>
                <a:lnTo>
                  <a:pt x="0" y="181"/>
                </a:lnTo>
                <a:lnTo>
                  <a:pt x="0" y="179"/>
                </a:lnTo>
                <a:lnTo>
                  <a:pt x="2" y="177"/>
                </a:lnTo>
                <a:lnTo>
                  <a:pt x="4" y="177"/>
                </a:lnTo>
                <a:lnTo>
                  <a:pt x="6" y="175"/>
                </a:lnTo>
                <a:lnTo>
                  <a:pt x="9" y="175"/>
                </a:lnTo>
                <a:lnTo>
                  <a:pt x="13" y="175"/>
                </a:lnTo>
                <a:lnTo>
                  <a:pt x="17" y="175"/>
                </a:lnTo>
                <a:lnTo>
                  <a:pt x="23" y="173"/>
                </a:lnTo>
                <a:lnTo>
                  <a:pt x="31" y="173"/>
                </a:lnTo>
                <a:lnTo>
                  <a:pt x="38" y="171"/>
                </a:lnTo>
                <a:lnTo>
                  <a:pt x="46" y="169"/>
                </a:lnTo>
                <a:lnTo>
                  <a:pt x="56" y="167"/>
                </a:lnTo>
                <a:lnTo>
                  <a:pt x="65" y="165"/>
                </a:lnTo>
                <a:lnTo>
                  <a:pt x="77" y="163"/>
                </a:lnTo>
                <a:lnTo>
                  <a:pt x="88" y="161"/>
                </a:lnTo>
                <a:lnTo>
                  <a:pt x="100" y="160"/>
                </a:lnTo>
                <a:lnTo>
                  <a:pt x="113" y="156"/>
                </a:lnTo>
                <a:lnTo>
                  <a:pt x="127" y="154"/>
                </a:lnTo>
                <a:lnTo>
                  <a:pt x="142" y="150"/>
                </a:lnTo>
                <a:lnTo>
                  <a:pt x="157" y="148"/>
                </a:lnTo>
                <a:lnTo>
                  <a:pt x="175" y="144"/>
                </a:lnTo>
                <a:lnTo>
                  <a:pt x="192" y="140"/>
                </a:lnTo>
                <a:lnTo>
                  <a:pt x="209" y="137"/>
                </a:lnTo>
                <a:lnTo>
                  <a:pt x="228" y="133"/>
                </a:lnTo>
                <a:lnTo>
                  <a:pt x="247" y="129"/>
                </a:lnTo>
                <a:lnTo>
                  <a:pt x="269" y="123"/>
                </a:lnTo>
                <a:lnTo>
                  <a:pt x="290" y="119"/>
                </a:lnTo>
                <a:lnTo>
                  <a:pt x="313" y="114"/>
                </a:lnTo>
                <a:lnTo>
                  <a:pt x="336" y="110"/>
                </a:lnTo>
                <a:lnTo>
                  <a:pt x="359" y="104"/>
                </a:lnTo>
                <a:lnTo>
                  <a:pt x="384" y="98"/>
                </a:lnTo>
                <a:lnTo>
                  <a:pt x="409" y="92"/>
                </a:lnTo>
                <a:lnTo>
                  <a:pt x="434" y="87"/>
                </a:lnTo>
                <a:lnTo>
                  <a:pt x="460" y="81"/>
                </a:lnTo>
                <a:lnTo>
                  <a:pt x="487" y="73"/>
                </a:lnTo>
                <a:lnTo>
                  <a:pt x="514" y="67"/>
                </a:lnTo>
                <a:lnTo>
                  <a:pt x="539" y="62"/>
                </a:lnTo>
                <a:lnTo>
                  <a:pt x="564" y="56"/>
                </a:lnTo>
                <a:lnTo>
                  <a:pt x="587" y="52"/>
                </a:lnTo>
                <a:lnTo>
                  <a:pt x="610" y="46"/>
                </a:lnTo>
                <a:lnTo>
                  <a:pt x="633" y="43"/>
                </a:lnTo>
                <a:lnTo>
                  <a:pt x="656" y="39"/>
                </a:lnTo>
                <a:lnTo>
                  <a:pt x="677" y="35"/>
                </a:lnTo>
                <a:lnTo>
                  <a:pt x="697" y="31"/>
                </a:lnTo>
                <a:lnTo>
                  <a:pt x="718" y="27"/>
                </a:lnTo>
                <a:lnTo>
                  <a:pt x="737" y="23"/>
                </a:lnTo>
                <a:lnTo>
                  <a:pt x="754" y="19"/>
                </a:lnTo>
                <a:lnTo>
                  <a:pt x="773" y="18"/>
                </a:lnTo>
                <a:lnTo>
                  <a:pt x="791" y="16"/>
                </a:lnTo>
                <a:lnTo>
                  <a:pt x="806" y="12"/>
                </a:lnTo>
                <a:lnTo>
                  <a:pt x="821" y="10"/>
                </a:lnTo>
                <a:lnTo>
                  <a:pt x="837" y="8"/>
                </a:lnTo>
                <a:lnTo>
                  <a:pt x="852" y="6"/>
                </a:lnTo>
                <a:lnTo>
                  <a:pt x="865" y="6"/>
                </a:lnTo>
                <a:lnTo>
                  <a:pt x="879" y="4"/>
                </a:lnTo>
                <a:lnTo>
                  <a:pt x="890" y="2"/>
                </a:lnTo>
                <a:lnTo>
                  <a:pt x="902" y="2"/>
                </a:lnTo>
                <a:lnTo>
                  <a:pt x="913" y="2"/>
                </a:lnTo>
                <a:lnTo>
                  <a:pt x="925" y="2"/>
                </a:lnTo>
                <a:lnTo>
                  <a:pt x="934" y="0"/>
                </a:lnTo>
                <a:lnTo>
                  <a:pt x="944" y="0"/>
                </a:lnTo>
                <a:lnTo>
                  <a:pt x="952" y="0"/>
                </a:lnTo>
                <a:lnTo>
                  <a:pt x="959" y="2"/>
                </a:lnTo>
                <a:lnTo>
                  <a:pt x="967" y="2"/>
                </a:lnTo>
                <a:lnTo>
                  <a:pt x="973" y="2"/>
                </a:lnTo>
                <a:lnTo>
                  <a:pt x="979" y="4"/>
                </a:lnTo>
                <a:lnTo>
                  <a:pt x="990" y="8"/>
                </a:lnTo>
                <a:lnTo>
                  <a:pt x="1000" y="10"/>
                </a:lnTo>
                <a:lnTo>
                  <a:pt x="1009" y="14"/>
                </a:lnTo>
                <a:lnTo>
                  <a:pt x="1019" y="18"/>
                </a:lnTo>
                <a:lnTo>
                  <a:pt x="1027" y="21"/>
                </a:lnTo>
                <a:lnTo>
                  <a:pt x="1034" y="25"/>
                </a:lnTo>
                <a:lnTo>
                  <a:pt x="1040" y="29"/>
                </a:lnTo>
                <a:lnTo>
                  <a:pt x="1046" y="33"/>
                </a:lnTo>
                <a:lnTo>
                  <a:pt x="1052" y="37"/>
                </a:lnTo>
                <a:lnTo>
                  <a:pt x="1057" y="39"/>
                </a:lnTo>
                <a:lnTo>
                  <a:pt x="1061" y="43"/>
                </a:lnTo>
                <a:lnTo>
                  <a:pt x="1063" y="46"/>
                </a:lnTo>
                <a:lnTo>
                  <a:pt x="1065" y="50"/>
                </a:lnTo>
                <a:lnTo>
                  <a:pt x="1067" y="54"/>
                </a:lnTo>
                <a:lnTo>
                  <a:pt x="1069" y="58"/>
                </a:lnTo>
                <a:lnTo>
                  <a:pt x="1069" y="62"/>
                </a:lnTo>
                <a:lnTo>
                  <a:pt x="1069" y="64"/>
                </a:lnTo>
                <a:lnTo>
                  <a:pt x="1067" y="66"/>
                </a:lnTo>
                <a:lnTo>
                  <a:pt x="1065" y="67"/>
                </a:lnTo>
                <a:lnTo>
                  <a:pt x="1063" y="69"/>
                </a:lnTo>
                <a:lnTo>
                  <a:pt x="1059" y="71"/>
                </a:lnTo>
                <a:lnTo>
                  <a:pt x="1053" y="73"/>
                </a:lnTo>
                <a:lnTo>
                  <a:pt x="1050" y="77"/>
                </a:lnTo>
                <a:lnTo>
                  <a:pt x="1042" y="79"/>
                </a:lnTo>
                <a:lnTo>
                  <a:pt x="1036" y="81"/>
                </a:lnTo>
                <a:lnTo>
                  <a:pt x="1029" y="85"/>
                </a:lnTo>
                <a:lnTo>
                  <a:pt x="1019" y="87"/>
                </a:lnTo>
                <a:lnTo>
                  <a:pt x="1009" y="90"/>
                </a:lnTo>
                <a:lnTo>
                  <a:pt x="1000" y="94"/>
                </a:lnTo>
                <a:lnTo>
                  <a:pt x="988" y="96"/>
                </a:lnTo>
                <a:lnTo>
                  <a:pt x="977" y="100"/>
                </a:lnTo>
                <a:lnTo>
                  <a:pt x="963" y="104"/>
                </a:lnTo>
                <a:lnTo>
                  <a:pt x="950" y="108"/>
                </a:lnTo>
                <a:lnTo>
                  <a:pt x="934" y="112"/>
                </a:lnTo>
                <a:lnTo>
                  <a:pt x="919" y="115"/>
                </a:lnTo>
                <a:lnTo>
                  <a:pt x="904" y="119"/>
                </a:lnTo>
                <a:lnTo>
                  <a:pt x="886" y="123"/>
                </a:lnTo>
                <a:lnTo>
                  <a:pt x="867" y="127"/>
                </a:lnTo>
                <a:lnTo>
                  <a:pt x="848" y="131"/>
                </a:lnTo>
                <a:lnTo>
                  <a:pt x="829" y="137"/>
                </a:lnTo>
                <a:lnTo>
                  <a:pt x="808" y="140"/>
                </a:lnTo>
                <a:lnTo>
                  <a:pt x="787" y="146"/>
                </a:lnTo>
                <a:lnTo>
                  <a:pt x="766" y="150"/>
                </a:lnTo>
                <a:lnTo>
                  <a:pt x="743" y="156"/>
                </a:lnTo>
                <a:lnTo>
                  <a:pt x="718" y="160"/>
                </a:lnTo>
                <a:lnTo>
                  <a:pt x="693" y="165"/>
                </a:lnTo>
                <a:lnTo>
                  <a:pt x="668" y="171"/>
                </a:lnTo>
                <a:lnTo>
                  <a:pt x="641" y="17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Freeform 58"/>
          <p:cNvSpPr/>
          <p:nvPr/>
        </p:nvSpPr>
        <p:spPr>
          <a:xfrm>
            <a:off x="2503440" y="2932200"/>
            <a:ext cx="212760" cy="231840"/>
          </a:xfrm>
          <a:custGeom>
            <a:avLst/>
            <a:gdLst>
              <a:gd name="textAreaLeft" fmla="*/ 0 w 212760"/>
              <a:gd name="textAreaRight" fmla="*/ 213120 w 212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69" h="292">
                <a:moveTo>
                  <a:pt x="184" y="86"/>
                </a:moveTo>
                <a:lnTo>
                  <a:pt x="199" y="98"/>
                </a:lnTo>
                <a:lnTo>
                  <a:pt x="213" y="109"/>
                </a:lnTo>
                <a:lnTo>
                  <a:pt x="224" y="121"/>
                </a:lnTo>
                <a:lnTo>
                  <a:pt x="236" y="134"/>
                </a:lnTo>
                <a:lnTo>
                  <a:pt x="245" y="146"/>
                </a:lnTo>
                <a:lnTo>
                  <a:pt x="253" y="159"/>
                </a:lnTo>
                <a:lnTo>
                  <a:pt x="261" y="171"/>
                </a:lnTo>
                <a:lnTo>
                  <a:pt x="263" y="177"/>
                </a:lnTo>
                <a:lnTo>
                  <a:pt x="265" y="182"/>
                </a:lnTo>
                <a:lnTo>
                  <a:pt x="267" y="196"/>
                </a:lnTo>
                <a:lnTo>
                  <a:pt x="269" y="209"/>
                </a:lnTo>
                <a:lnTo>
                  <a:pt x="269" y="221"/>
                </a:lnTo>
                <a:lnTo>
                  <a:pt x="267" y="232"/>
                </a:lnTo>
                <a:lnTo>
                  <a:pt x="263" y="244"/>
                </a:lnTo>
                <a:lnTo>
                  <a:pt x="257" y="255"/>
                </a:lnTo>
                <a:lnTo>
                  <a:pt x="251" y="267"/>
                </a:lnTo>
                <a:lnTo>
                  <a:pt x="245" y="278"/>
                </a:lnTo>
                <a:lnTo>
                  <a:pt x="242" y="282"/>
                </a:lnTo>
                <a:lnTo>
                  <a:pt x="236" y="286"/>
                </a:lnTo>
                <a:lnTo>
                  <a:pt x="232" y="290"/>
                </a:lnTo>
                <a:lnTo>
                  <a:pt x="226" y="290"/>
                </a:lnTo>
                <a:lnTo>
                  <a:pt x="221" y="292"/>
                </a:lnTo>
                <a:lnTo>
                  <a:pt x="215" y="290"/>
                </a:lnTo>
                <a:lnTo>
                  <a:pt x="207" y="290"/>
                </a:lnTo>
                <a:lnTo>
                  <a:pt x="201" y="286"/>
                </a:lnTo>
                <a:lnTo>
                  <a:pt x="194" y="282"/>
                </a:lnTo>
                <a:lnTo>
                  <a:pt x="186" y="278"/>
                </a:lnTo>
                <a:lnTo>
                  <a:pt x="178" y="272"/>
                </a:lnTo>
                <a:lnTo>
                  <a:pt x="171" y="265"/>
                </a:lnTo>
                <a:lnTo>
                  <a:pt x="161" y="257"/>
                </a:lnTo>
                <a:lnTo>
                  <a:pt x="153" y="249"/>
                </a:lnTo>
                <a:lnTo>
                  <a:pt x="144" y="240"/>
                </a:lnTo>
                <a:lnTo>
                  <a:pt x="136" y="230"/>
                </a:lnTo>
                <a:lnTo>
                  <a:pt x="113" y="211"/>
                </a:lnTo>
                <a:lnTo>
                  <a:pt x="94" y="192"/>
                </a:lnTo>
                <a:lnTo>
                  <a:pt x="77" y="173"/>
                </a:lnTo>
                <a:lnTo>
                  <a:pt x="61" y="153"/>
                </a:lnTo>
                <a:lnTo>
                  <a:pt x="46" y="132"/>
                </a:lnTo>
                <a:lnTo>
                  <a:pt x="40" y="123"/>
                </a:lnTo>
                <a:lnTo>
                  <a:pt x="34" y="113"/>
                </a:lnTo>
                <a:lnTo>
                  <a:pt x="29" y="104"/>
                </a:lnTo>
                <a:lnTo>
                  <a:pt x="23" y="94"/>
                </a:lnTo>
                <a:lnTo>
                  <a:pt x="19" y="84"/>
                </a:lnTo>
                <a:lnTo>
                  <a:pt x="15" y="77"/>
                </a:lnTo>
                <a:lnTo>
                  <a:pt x="11" y="67"/>
                </a:lnTo>
                <a:lnTo>
                  <a:pt x="9" y="59"/>
                </a:lnTo>
                <a:lnTo>
                  <a:pt x="6" y="52"/>
                </a:lnTo>
                <a:lnTo>
                  <a:pt x="4" y="46"/>
                </a:lnTo>
                <a:lnTo>
                  <a:pt x="2" y="38"/>
                </a:lnTo>
                <a:lnTo>
                  <a:pt x="2" y="33"/>
                </a:lnTo>
                <a:lnTo>
                  <a:pt x="0" y="29"/>
                </a:lnTo>
                <a:lnTo>
                  <a:pt x="0" y="23"/>
                </a:lnTo>
                <a:lnTo>
                  <a:pt x="0" y="15"/>
                </a:lnTo>
                <a:lnTo>
                  <a:pt x="0" y="8"/>
                </a:lnTo>
                <a:lnTo>
                  <a:pt x="2" y="4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21" y="0"/>
                </a:lnTo>
                <a:lnTo>
                  <a:pt x="29" y="0"/>
                </a:lnTo>
                <a:lnTo>
                  <a:pt x="38" y="2"/>
                </a:lnTo>
                <a:lnTo>
                  <a:pt x="50" y="4"/>
                </a:lnTo>
                <a:lnTo>
                  <a:pt x="61" y="6"/>
                </a:lnTo>
                <a:lnTo>
                  <a:pt x="75" y="10"/>
                </a:lnTo>
                <a:lnTo>
                  <a:pt x="86" y="13"/>
                </a:lnTo>
                <a:lnTo>
                  <a:pt x="100" y="19"/>
                </a:lnTo>
                <a:lnTo>
                  <a:pt x="113" y="27"/>
                </a:lnTo>
                <a:lnTo>
                  <a:pt x="127" y="36"/>
                </a:lnTo>
                <a:lnTo>
                  <a:pt x="140" y="46"/>
                </a:lnTo>
                <a:lnTo>
                  <a:pt x="155" y="59"/>
                </a:lnTo>
                <a:lnTo>
                  <a:pt x="171" y="71"/>
                </a:lnTo>
                <a:lnTo>
                  <a:pt x="184" y="8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Freeform 59"/>
          <p:cNvSpPr/>
          <p:nvPr/>
        </p:nvSpPr>
        <p:spPr>
          <a:xfrm>
            <a:off x="3059280" y="2800440"/>
            <a:ext cx="334800" cy="353880"/>
          </a:xfrm>
          <a:custGeom>
            <a:avLst/>
            <a:gdLst>
              <a:gd name="textAreaLeft" fmla="*/ 0 w 334800"/>
              <a:gd name="textAreaRight" fmla="*/ 335160 w 33480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423" h="445">
                <a:moveTo>
                  <a:pt x="54" y="340"/>
                </a:moveTo>
                <a:lnTo>
                  <a:pt x="71" y="313"/>
                </a:lnTo>
                <a:lnTo>
                  <a:pt x="91" y="288"/>
                </a:lnTo>
                <a:lnTo>
                  <a:pt x="108" y="265"/>
                </a:lnTo>
                <a:lnTo>
                  <a:pt x="127" y="240"/>
                </a:lnTo>
                <a:lnTo>
                  <a:pt x="144" y="219"/>
                </a:lnTo>
                <a:lnTo>
                  <a:pt x="162" y="196"/>
                </a:lnTo>
                <a:lnTo>
                  <a:pt x="177" y="177"/>
                </a:lnTo>
                <a:lnTo>
                  <a:pt x="192" y="157"/>
                </a:lnTo>
                <a:lnTo>
                  <a:pt x="200" y="148"/>
                </a:lnTo>
                <a:lnTo>
                  <a:pt x="206" y="140"/>
                </a:lnTo>
                <a:lnTo>
                  <a:pt x="211" y="130"/>
                </a:lnTo>
                <a:lnTo>
                  <a:pt x="217" y="125"/>
                </a:lnTo>
                <a:lnTo>
                  <a:pt x="221" y="117"/>
                </a:lnTo>
                <a:lnTo>
                  <a:pt x="225" y="109"/>
                </a:lnTo>
                <a:lnTo>
                  <a:pt x="229" y="104"/>
                </a:lnTo>
                <a:lnTo>
                  <a:pt x="231" y="96"/>
                </a:lnTo>
                <a:lnTo>
                  <a:pt x="233" y="90"/>
                </a:lnTo>
                <a:lnTo>
                  <a:pt x="234" y="84"/>
                </a:lnTo>
                <a:lnTo>
                  <a:pt x="236" y="79"/>
                </a:lnTo>
                <a:lnTo>
                  <a:pt x="236" y="73"/>
                </a:lnTo>
                <a:lnTo>
                  <a:pt x="236" y="67"/>
                </a:lnTo>
                <a:lnTo>
                  <a:pt x="234" y="61"/>
                </a:lnTo>
                <a:lnTo>
                  <a:pt x="234" y="56"/>
                </a:lnTo>
                <a:lnTo>
                  <a:pt x="233" y="52"/>
                </a:lnTo>
                <a:lnTo>
                  <a:pt x="229" y="40"/>
                </a:lnTo>
                <a:lnTo>
                  <a:pt x="227" y="33"/>
                </a:lnTo>
                <a:lnTo>
                  <a:pt x="227" y="25"/>
                </a:lnTo>
                <a:lnTo>
                  <a:pt x="227" y="19"/>
                </a:lnTo>
                <a:lnTo>
                  <a:pt x="229" y="15"/>
                </a:lnTo>
                <a:lnTo>
                  <a:pt x="231" y="12"/>
                </a:lnTo>
                <a:lnTo>
                  <a:pt x="236" y="8"/>
                </a:lnTo>
                <a:lnTo>
                  <a:pt x="242" y="4"/>
                </a:lnTo>
                <a:lnTo>
                  <a:pt x="248" y="0"/>
                </a:lnTo>
                <a:lnTo>
                  <a:pt x="254" y="0"/>
                </a:lnTo>
                <a:lnTo>
                  <a:pt x="261" y="0"/>
                </a:lnTo>
                <a:lnTo>
                  <a:pt x="271" y="0"/>
                </a:lnTo>
                <a:lnTo>
                  <a:pt x="280" y="2"/>
                </a:lnTo>
                <a:lnTo>
                  <a:pt x="290" y="6"/>
                </a:lnTo>
                <a:lnTo>
                  <a:pt x="313" y="13"/>
                </a:lnTo>
                <a:lnTo>
                  <a:pt x="334" y="27"/>
                </a:lnTo>
                <a:lnTo>
                  <a:pt x="355" y="42"/>
                </a:lnTo>
                <a:lnTo>
                  <a:pt x="367" y="52"/>
                </a:lnTo>
                <a:lnTo>
                  <a:pt x="376" y="59"/>
                </a:lnTo>
                <a:lnTo>
                  <a:pt x="384" y="69"/>
                </a:lnTo>
                <a:lnTo>
                  <a:pt x="392" y="81"/>
                </a:lnTo>
                <a:lnTo>
                  <a:pt x="399" y="90"/>
                </a:lnTo>
                <a:lnTo>
                  <a:pt x="405" y="100"/>
                </a:lnTo>
                <a:lnTo>
                  <a:pt x="411" y="107"/>
                </a:lnTo>
                <a:lnTo>
                  <a:pt x="415" y="115"/>
                </a:lnTo>
                <a:lnTo>
                  <a:pt x="419" y="123"/>
                </a:lnTo>
                <a:lnTo>
                  <a:pt x="421" y="129"/>
                </a:lnTo>
                <a:lnTo>
                  <a:pt x="423" y="134"/>
                </a:lnTo>
                <a:lnTo>
                  <a:pt x="423" y="138"/>
                </a:lnTo>
                <a:lnTo>
                  <a:pt x="419" y="140"/>
                </a:lnTo>
                <a:lnTo>
                  <a:pt x="415" y="144"/>
                </a:lnTo>
                <a:lnTo>
                  <a:pt x="411" y="148"/>
                </a:lnTo>
                <a:lnTo>
                  <a:pt x="403" y="154"/>
                </a:lnTo>
                <a:lnTo>
                  <a:pt x="396" y="159"/>
                </a:lnTo>
                <a:lnTo>
                  <a:pt x="386" y="167"/>
                </a:lnTo>
                <a:lnTo>
                  <a:pt x="375" y="177"/>
                </a:lnTo>
                <a:lnTo>
                  <a:pt x="361" y="186"/>
                </a:lnTo>
                <a:lnTo>
                  <a:pt x="348" y="198"/>
                </a:lnTo>
                <a:lnTo>
                  <a:pt x="332" y="209"/>
                </a:lnTo>
                <a:lnTo>
                  <a:pt x="317" y="223"/>
                </a:lnTo>
                <a:lnTo>
                  <a:pt x="298" y="236"/>
                </a:lnTo>
                <a:lnTo>
                  <a:pt x="279" y="249"/>
                </a:lnTo>
                <a:lnTo>
                  <a:pt x="257" y="267"/>
                </a:lnTo>
                <a:lnTo>
                  <a:pt x="236" y="282"/>
                </a:lnTo>
                <a:lnTo>
                  <a:pt x="213" y="301"/>
                </a:lnTo>
                <a:lnTo>
                  <a:pt x="188" y="320"/>
                </a:lnTo>
                <a:lnTo>
                  <a:pt x="167" y="338"/>
                </a:lnTo>
                <a:lnTo>
                  <a:pt x="146" y="355"/>
                </a:lnTo>
                <a:lnTo>
                  <a:pt x="127" y="370"/>
                </a:lnTo>
                <a:lnTo>
                  <a:pt x="110" y="384"/>
                </a:lnTo>
                <a:lnTo>
                  <a:pt x="92" y="395"/>
                </a:lnTo>
                <a:lnTo>
                  <a:pt x="77" y="407"/>
                </a:lnTo>
                <a:lnTo>
                  <a:pt x="64" y="416"/>
                </a:lnTo>
                <a:lnTo>
                  <a:pt x="50" y="424"/>
                </a:lnTo>
                <a:lnTo>
                  <a:pt x="41" y="432"/>
                </a:lnTo>
                <a:lnTo>
                  <a:pt x="31" y="438"/>
                </a:lnTo>
                <a:lnTo>
                  <a:pt x="21" y="441"/>
                </a:lnTo>
                <a:lnTo>
                  <a:pt x="16" y="443"/>
                </a:lnTo>
                <a:lnTo>
                  <a:pt x="10" y="445"/>
                </a:lnTo>
                <a:lnTo>
                  <a:pt x="6" y="445"/>
                </a:lnTo>
                <a:lnTo>
                  <a:pt x="4" y="445"/>
                </a:lnTo>
                <a:lnTo>
                  <a:pt x="2" y="443"/>
                </a:lnTo>
                <a:lnTo>
                  <a:pt x="0" y="439"/>
                </a:lnTo>
                <a:lnTo>
                  <a:pt x="0" y="438"/>
                </a:lnTo>
                <a:lnTo>
                  <a:pt x="0" y="434"/>
                </a:lnTo>
                <a:lnTo>
                  <a:pt x="0" y="430"/>
                </a:lnTo>
                <a:lnTo>
                  <a:pt x="2" y="424"/>
                </a:lnTo>
                <a:lnTo>
                  <a:pt x="4" y="420"/>
                </a:lnTo>
                <a:lnTo>
                  <a:pt x="6" y="413"/>
                </a:lnTo>
                <a:lnTo>
                  <a:pt x="10" y="407"/>
                </a:lnTo>
                <a:lnTo>
                  <a:pt x="14" y="399"/>
                </a:lnTo>
                <a:lnTo>
                  <a:pt x="18" y="391"/>
                </a:lnTo>
                <a:lnTo>
                  <a:pt x="23" y="382"/>
                </a:lnTo>
                <a:lnTo>
                  <a:pt x="29" y="372"/>
                </a:lnTo>
                <a:lnTo>
                  <a:pt x="37" y="363"/>
                </a:lnTo>
                <a:lnTo>
                  <a:pt x="44" y="351"/>
                </a:lnTo>
                <a:lnTo>
                  <a:pt x="54" y="34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Freeform 56"/>
          <p:cNvSpPr/>
          <p:nvPr/>
        </p:nvSpPr>
        <p:spPr>
          <a:xfrm>
            <a:off x="2835360" y="2355840"/>
            <a:ext cx="183960" cy="942840"/>
          </a:xfrm>
          <a:custGeom>
            <a:avLst/>
            <a:gdLst>
              <a:gd name="textAreaLeft" fmla="*/ 0 w 183960"/>
              <a:gd name="textAreaRight" fmla="*/ 184320 w 1839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32" h="1188">
                <a:moveTo>
                  <a:pt x="215" y="151"/>
                </a:moveTo>
                <a:lnTo>
                  <a:pt x="215" y="153"/>
                </a:lnTo>
                <a:lnTo>
                  <a:pt x="213" y="157"/>
                </a:lnTo>
                <a:lnTo>
                  <a:pt x="213" y="163"/>
                </a:lnTo>
                <a:lnTo>
                  <a:pt x="211" y="168"/>
                </a:lnTo>
                <a:lnTo>
                  <a:pt x="211" y="174"/>
                </a:lnTo>
                <a:lnTo>
                  <a:pt x="209" y="180"/>
                </a:lnTo>
                <a:lnTo>
                  <a:pt x="209" y="190"/>
                </a:lnTo>
                <a:lnTo>
                  <a:pt x="207" y="197"/>
                </a:lnTo>
                <a:lnTo>
                  <a:pt x="207" y="207"/>
                </a:lnTo>
                <a:lnTo>
                  <a:pt x="206" y="216"/>
                </a:lnTo>
                <a:lnTo>
                  <a:pt x="206" y="228"/>
                </a:lnTo>
                <a:lnTo>
                  <a:pt x="204" y="239"/>
                </a:lnTo>
                <a:lnTo>
                  <a:pt x="204" y="253"/>
                </a:lnTo>
                <a:lnTo>
                  <a:pt x="202" y="266"/>
                </a:lnTo>
                <a:lnTo>
                  <a:pt x="202" y="280"/>
                </a:lnTo>
                <a:lnTo>
                  <a:pt x="200" y="295"/>
                </a:lnTo>
                <a:lnTo>
                  <a:pt x="200" y="312"/>
                </a:lnTo>
                <a:lnTo>
                  <a:pt x="198" y="328"/>
                </a:lnTo>
                <a:lnTo>
                  <a:pt x="198" y="345"/>
                </a:lnTo>
                <a:lnTo>
                  <a:pt x="196" y="364"/>
                </a:lnTo>
                <a:lnTo>
                  <a:pt x="196" y="383"/>
                </a:lnTo>
                <a:lnTo>
                  <a:pt x="194" y="403"/>
                </a:lnTo>
                <a:lnTo>
                  <a:pt x="194" y="424"/>
                </a:lnTo>
                <a:lnTo>
                  <a:pt x="192" y="447"/>
                </a:lnTo>
                <a:lnTo>
                  <a:pt x="192" y="468"/>
                </a:lnTo>
                <a:lnTo>
                  <a:pt x="192" y="493"/>
                </a:lnTo>
                <a:lnTo>
                  <a:pt x="190" y="516"/>
                </a:lnTo>
                <a:lnTo>
                  <a:pt x="190" y="541"/>
                </a:lnTo>
                <a:lnTo>
                  <a:pt x="188" y="568"/>
                </a:lnTo>
                <a:lnTo>
                  <a:pt x="188" y="595"/>
                </a:lnTo>
                <a:lnTo>
                  <a:pt x="186" y="621"/>
                </a:lnTo>
                <a:lnTo>
                  <a:pt x="186" y="650"/>
                </a:lnTo>
                <a:lnTo>
                  <a:pt x="184" y="677"/>
                </a:lnTo>
                <a:lnTo>
                  <a:pt x="184" y="706"/>
                </a:lnTo>
                <a:lnTo>
                  <a:pt x="183" y="733"/>
                </a:lnTo>
                <a:lnTo>
                  <a:pt x="183" y="760"/>
                </a:lnTo>
                <a:lnTo>
                  <a:pt x="183" y="785"/>
                </a:lnTo>
                <a:lnTo>
                  <a:pt x="181" y="809"/>
                </a:lnTo>
                <a:lnTo>
                  <a:pt x="181" y="833"/>
                </a:lnTo>
                <a:lnTo>
                  <a:pt x="181" y="856"/>
                </a:lnTo>
                <a:lnTo>
                  <a:pt x="179" y="879"/>
                </a:lnTo>
                <a:lnTo>
                  <a:pt x="179" y="900"/>
                </a:lnTo>
                <a:lnTo>
                  <a:pt x="179" y="921"/>
                </a:lnTo>
                <a:lnTo>
                  <a:pt x="179" y="942"/>
                </a:lnTo>
                <a:lnTo>
                  <a:pt x="179" y="961"/>
                </a:lnTo>
                <a:lnTo>
                  <a:pt x="177" y="980"/>
                </a:lnTo>
                <a:lnTo>
                  <a:pt x="177" y="998"/>
                </a:lnTo>
                <a:lnTo>
                  <a:pt x="177" y="1015"/>
                </a:lnTo>
                <a:lnTo>
                  <a:pt x="177" y="1032"/>
                </a:lnTo>
                <a:lnTo>
                  <a:pt x="177" y="1047"/>
                </a:lnTo>
                <a:lnTo>
                  <a:pt x="177" y="1063"/>
                </a:lnTo>
                <a:lnTo>
                  <a:pt x="177" y="1076"/>
                </a:lnTo>
                <a:lnTo>
                  <a:pt x="177" y="1090"/>
                </a:lnTo>
                <a:lnTo>
                  <a:pt x="177" y="1103"/>
                </a:lnTo>
                <a:lnTo>
                  <a:pt x="177" y="1115"/>
                </a:lnTo>
                <a:lnTo>
                  <a:pt x="175" y="1126"/>
                </a:lnTo>
                <a:lnTo>
                  <a:pt x="175" y="1136"/>
                </a:lnTo>
                <a:lnTo>
                  <a:pt x="175" y="1145"/>
                </a:lnTo>
                <a:lnTo>
                  <a:pt x="175" y="1155"/>
                </a:lnTo>
                <a:lnTo>
                  <a:pt x="175" y="1163"/>
                </a:lnTo>
                <a:lnTo>
                  <a:pt x="175" y="1170"/>
                </a:lnTo>
                <a:lnTo>
                  <a:pt x="175" y="1176"/>
                </a:lnTo>
                <a:lnTo>
                  <a:pt x="175" y="1182"/>
                </a:lnTo>
                <a:lnTo>
                  <a:pt x="175" y="1188"/>
                </a:lnTo>
                <a:lnTo>
                  <a:pt x="65" y="1188"/>
                </a:lnTo>
                <a:lnTo>
                  <a:pt x="65" y="1153"/>
                </a:lnTo>
                <a:lnTo>
                  <a:pt x="65" y="1118"/>
                </a:lnTo>
                <a:lnTo>
                  <a:pt x="65" y="1086"/>
                </a:lnTo>
                <a:lnTo>
                  <a:pt x="65" y="1053"/>
                </a:lnTo>
                <a:lnTo>
                  <a:pt x="65" y="1021"/>
                </a:lnTo>
                <a:lnTo>
                  <a:pt x="65" y="988"/>
                </a:lnTo>
                <a:lnTo>
                  <a:pt x="65" y="957"/>
                </a:lnTo>
                <a:lnTo>
                  <a:pt x="65" y="927"/>
                </a:lnTo>
                <a:lnTo>
                  <a:pt x="65" y="896"/>
                </a:lnTo>
                <a:lnTo>
                  <a:pt x="65" y="867"/>
                </a:lnTo>
                <a:lnTo>
                  <a:pt x="65" y="838"/>
                </a:lnTo>
                <a:lnTo>
                  <a:pt x="65" y="809"/>
                </a:lnTo>
                <a:lnTo>
                  <a:pt x="65" y="783"/>
                </a:lnTo>
                <a:lnTo>
                  <a:pt x="64" y="754"/>
                </a:lnTo>
                <a:lnTo>
                  <a:pt x="64" y="727"/>
                </a:lnTo>
                <a:lnTo>
                  <a:pt x="64" y="700"/>
                </a:lnTo>
                <a:lnTo>
                  <a:pt x="64" y="675"/>
                </a:lnTo>
                <a:lnTo>
                  <a:pt x="64" y="650"/>
                </a:lnTo>
                <a:lnTo>
                  <a:pt x="64" y="625"/>
                </a:lnTo>
                <a:lnTo>
                  <a:pt x="64" y="600"/>
                </a:lnTo>
                <a:lnTo>
                  <a:pt x="62" y="577"/>
                </a:lnTo>
                <a:lnTo>
                  <a:pt x="62" y="554"/>
                </a:lnTo>
                <a:lnTo>
                  <a:pt x="62" y="531"/>
                </a:lnTo>
                <a:lnTo>
                  <a:pt x="62" y="508"/>
                </a:lnTo>
                <a:lnTo>
                  <a:pt x="62" y="487"/>
                </a:lnTo>
                <a:lnTo>
                  <a:pt x="60" y="466"/>
                </a:lnTo>
                <a:lnTo>
                  <a:pt x="60" y="445"/>
                </a:lnTo>
                <a:lnTo>
                  <a:pt x="60" y="426"/>
                </a:lnTo>
                <a:lnTo>
                  <a:pt x="60" y="406"/>
                </a:lnTo>
                <a:lnTo>
                  <a:pt x="58" y="387"/>
                </a:lnTo>
                <a:lnTo>
                  <a:pt x="58" y="368"/>
                </a:lnTo>
                <a:lnTo>
                  <a:pt x="58" y="351"/>
                </a:lnTo>
                <a:lnTo>
                  <a:pt x="56" y="334"/>
                </a:lnTo>
                <a:lnTo>
                  <a:pt x="56" y="316"/>
                </a:lnTo>
                <a:lnTo>
                  <a:pt x="56" y="301"/>
                </a:lnTo>
                <a:lnTo>
                  <a:pt x="54" y="284"/>
                </a:lnTo>
                <a:lnTo>
                  <a:pt x="54" y="268"/>
                </a:lnTo>
                <a:lnTo>
                  <a:pt x="54" y="255"/>
                </a:lnTo>
                <a:lnTo>
                  <a:pt x="52" y="239"/>
                </a:lnTo>
                <a:lnTo>
                  <a:pt x="52" y="226"/>
                </a:lnTo>
                <a:lnTo>
                  <a:pt x="50" y="213"/>
                </a:lnTo>
                <a:lnTo>
                  <a:pt x="50" y="201"/>
                </a:lnTo>
                <a:lnTo>
                  <a:pt x="50" y="188"/>
                </a:lnTo>
                <a:lnTo>
                  <a:pt x="48" y="176"/>
                </a:lnTo>
                <a:lnTo>
                  <a:pt x="48" y="167"/>
                </a:lnTo>
                <a:lnTo>
                  <a:pt x="46" y="155"/>
                </a:lnTo>
                <a:lnTo>
                  <a:pt x="46" y="145"/>
                </a:lnTo>
                <a:lnTo>
                  <a:pt x="44" y="136"/>
                </a:lnTo>
                <a:lnTo>
                  <a:pt x="44" y="126"/>
                </a:lnTo>
                <a:lnTo>
                  <a:pt x="42" y="119"/>
                </a:lnTo>
                <a:lnTo>
                  <a:pt x="42" y="111"/>
                </a:lnTo>
                <a:lnTo>
                  <a:pt x="41" y="103"/>
                </a:lnTo>
                <a:lnTo>
                  <a:pt x="41" y="96"/>
                </a:lnTo>
                <a:lnTo>
                  <a:pt x="39" y="90"/>
                </a:lnTo>
                <a:lnTo>
                  <a:pt x="37" y="84"/>
                </a:lnTo>
                <a:lnTo>
                  <a:pt x="37" y="78"/>
                </a:lnTo>
                <a:lnTo>
                  <a:pt x="35" y="73"/>
                </a:lnTo>
                <a:lnTo>
                  <a:pt x="35" y="69"/>
                </a:lnTo>
                <a:lnTo>
                  <a:pt x="33" y="65"/>
                </a:lnTo>
                <a:lnTo>
                  <a:pt x="31" y="63"/>
                </a:lnTo>
                <a:lnTo>
                  <a:pt x="31" y="59"/>
                </a:lnTo>
                <a:lnTo>
                  <a:pt x="29" y="57"/>
                </a:lnTo>
                <a:lnTo>
                  <a:pt x="27" y="55"/>
                </a:lnTo>
                <a:lnTo>
                  <a:pt x="25" y="53"/>
                </a:lnTo>
                <a:lnTo>
                  <a:pt x="21" y="51"/>
                </a:lnTo>
                <a:lnTo>
                  <a:pt x="16" y="48"/>
                </a:lnTo>
                <a:lnTo>
                  <a:pt x="12" y="44"/>
                </a:lnTo>
                <a:lnTo>
                  <a:pt x="10" y="40"/>
                </a:lnTo>
                <a:lnTo>
                  <a:pt x="6" y="36"/>
                </a:lnTo>
                <a:lnTo>
                  <a:pt x="4" y="34"/>
                </a:lnTo>
                <a:lnTo>
                  <a:pt x="2" y="30"/>
                </a:lnTo>
                <a:lnTo>
                  <a:pt x="2" y="26"/>
                </a:lnTo>
                <a:lnTo>
                  <a:pt x="0" y="21"/>
                </a:lnTo>
                <a:lnTo>
                  <a:pt x="0" y="15"/>
                </a:lnTo>
                <a:lnTo>
                  <a:pt x="2" y="11"/>
                </a:lnTo>
                <a:lnTo>
                  <a:pt x="6" y="7"/>
                </a:lnTo>
                <a:lnTo>
                  <a:pt x="8" y="5"/>
                </a:lnTo>
                <a:lnTo>
                  <a:pt x="12" y="3"/>
                </a:lnTo>
                <a:lnTo>
                  <a:pt x="16" y="2"/>
                </a:lnTo>
                <a:lnTo>
                  <a:pt x="19" y="2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5" y="0"/>
                </a:lnTo>
                <a:lnTo>
                  <a:pt x="75" y="2"/>
                </a:lnTo>
                <a:lnTo>
                  <a:pt x="85" y="2"/>
                </a:lnTo>
                <a:lnTo>
                  <a:pt x="94" y="3"/>
                </a:lnTo>
                <a:lnTo>
                  <a:pt x="106" y="5"/>
                </a:lnTo>
                <a:lnTo>
                  <a:pt x="115" y="7"/>
                </a:lnTo>
                <a:lnTo>
                  <a:pt x="127" y="11"/>
                </a:lnTo>
                <a:lnTo>
                  <a:pt x="136" y="13"/>
                </a:lnTo>
                <a:lnTo>
                  <a:pt x="148" y="17"/>
                </a:lnTo>
                <a:lnTo>
                  <a:pt x="158" y="21"/>
                </a:lnTo>
                <a:lnTo>
                  <a:pt x="165" y="25"/>
                </a:lnTo>
                <a:lnTo>
                  <a:pt x="175" y="28"/>
                </a:lnTo>
                <a:lnTo>
                  <a:pt x="183" y="32"/>
                </a:lnTo>
                <a:lnTo>
                  <a:pt x="190" y="36"/>
                </a:lnTo>
                <a:lnTo>
                  <a:pt x="196" y="40"/>
                </a:lnTo>
                <a:lnTo>
                  <a:pt x="202" y="46"/>
                </a:lnTo>
                <a:lnTo>
                  <a:pt x="207" y="49"/>
                </a:lnTo>
                <a:lnTo>
                  <a:pt x="213" y="53"/>
                </a:lnTo>
                <a:lnTo>
                  <a:pt x="217" y="59"/>
                </a:lnTo>
                <a:lnTo>
                  <a:pt x="221" y="63"/>
                </a:lnTo>
                <a:lnTo>
                  <a:pt x="223" y="69"/>
                </a:lnTo>
                <a:lnTo>
                  <a:pt x="225" y="74"/>
                </a:lnTo>
                <a:lnTo>
                  <a:pt x="229" y="84"/>
                </a:lnTo>
                <a:lnTo>
                  <a:pt x="230" y="94"/>
                </a:lnTo>
                <a:lnTo>
                  <a:pt x="232" y="103"/>
                </a:lnTo>
                <a:lnTo>
                  <a:pt x="232" y="113"/>
                </a:lnTo>
                <a:lnTo>
                  <a:pt x="230" y="121"/>
                </a:lnTo>
                <a:lnTo>
                  <a:pt x="227" y="130"/>
                </a:lnTo>
                <a:lnTo>
                  <a:pt x="223" y="140"/>
                </a:lnTo>
                <a:lnTo>
                  <a:pt x="215" y="151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Freeform 60"/>
          <p:cNvSpPr/>
          <p:nvPr/>
        </p:nvSpPr>
        <p:spPr>
          <a:xfrm>
            <a:off x="2133720" y="3160800"/>
            <a:ext cx="1552320" cy="26676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57" h="336">
                <a:moveTo>
                  <a:pt x="1149" y="192"/>
                </a:moveTo>
                <a:lnTo>
                  <a:pt x="992" y="213"/>
                </a:lnTo>
                <a:lnTo>
                  <a:pt x="834" y="234"/>
                </a:lnTo>
                <a:lnTo>
                  <a:pt x="754" y="245"/>
                </a:lnTo>
                <a:lnTo>
                  <a:pt x="673" y="255"/>
                </a:lnTo>
                <a:lnTo>
                  <a:pt x="593" y="267"/>
                </a:lnTo>
                <a:lnTo>
                  <a:pt x="512" y="278"/>
                </a:lnTo>
                <a:lnTo>
                  <a:pt x="491" y="282"/>
                </a:lnTo>
                <a:lnTo>
                  <a:pt x="472" y="284"/>
                </a:lnTo>
                <a:lnTo>
                  <a:pt x="452" y="288"/>
                </a:lnTo>
                <a:lnTo>
                  <a:pt x="433" y="292"/>
                </a:lnTo>
                <a:lnTo>
                  <a:pt x="416" y="293"/>
                </a:lnTo>
                <a:lnTo>
                  <a:pt x="399" y="297"/>
                </a:lnTo>
                <a:lnTo>
                  <a:pt x="381" y="299"/>
                </a:lnTo>
                <a:lnTo>
                  <a:pt x="366" y="303"/>
                </a:lnTo>
                <a:lnTo>
                  <a:pt x="351" y="305"/>
                </a:lnTo>
                <a:lnTo>
                  <a:pt x="335" y="309"/>
                </a:lnTo>
                <a:lnTo>
                  <a:pt x="320" y="311"/>
                </a:lnTo>
                <a:lnTo>
                  <a:pt x="307" y="313"/>
                </a:lnTo>
                <a:lnTo>
                  <a:pt x="293" y="315"/>
                </a:lnTo>
                <a:lnTo>
                  <a:pt x="280" y="316"/>
                </a:lnTo>
                <a:lnTo>
                  <a:pt x="268" y="318"/>
                </a:lnTo>
                <a:lnTo>
                  <a:pt x="257" y="320"/>
                </a:lnTo>
                <a:lnTo>
                  <a:pt x="245" y="322"/>
                </a:lnTo>
                <a:lnTo>
                  <a:pt x="234" y="324"/>
                </a:lnTo>
                <a:lnTo>
                  <a:pt x="224" y="326"/>
                </a:lnTo>
                <a:lnTo>
                  <a:pt x="214" y="328"/>
                </a:lnTo>
                <a:lnTo>
                  <a:pt x="205" y="328"/>
                </a:lnTo>
                <a:lnTo>
                  <a:pt x="197" y="330"/>
                </a:lnTo>
                <a:lnTo>
                  <a:pt x="190" y="330"/>
                </a:lnTo>
                <a:lnTo>
                  <a:pt x="182" y="332"/>
                </a:lnTo>
                <a:lnTo>
                  <a:pt x="174" y="332"/>
                </a:lnTo>
                <a:lnTo>
                  <a:pt x="168" y="334"/>
                </a:lnTo>
                <a:lnTo>
                  <a:pt x="163" y="334"/>
                </a:lnTo>
                <a:lnTo>
                  <a:pt x="159" y="334"/>
                </a:lnTo>
                <a:lnTo>
                  <a:pt x="153" y="334"/>
                </a:lnTo>
                <a:lnTo>
                  <a:pt x="149" y="336"/>
                </a:lnTo>
                <a:lnTo>
                  <a:pt x="145" y="336"/>
                </a:lnTo>
                <a:lnTo>
                  <a:pt x="143" y="336"/>
                </a:lnTo>
                <a:lnTo>
                  <a:pt x="130" y="334"/>
                </a:lnTo>
                <a:lnTo>
                  <a:pt x="118" y="332"/>
                </a:lnTo>
                <a:lnTo>
                  <a:pt x="105" y="328"/>
                </a:lnTo>
                <a:lnTo>
                  <a:pt x="92" y="322"/>
                </a:lnTo>
                <a:lnTo>
                  <a:pt x="80" y="315"/>
                </a:lnTo>
                <a:lnTo>
                  <a:pt x="67" y="307"/>
                </a:lnTo>
                <a:lnTo>
                  <a:pt x="55" y="297"/>
                </a:lnTo>
                <a:lnTo>
                  <a:pt x="44" y="288"/>
                </a:lnTo>
                <a:lnTo>
                  <a:pt x="36" y="282"/>
                </a:lnTo>
                <a:lnTo>
                  <a:pt x="28" y="276"/>
                </a:lnTo>
                <a:lnTo>
                  <a:pt x="24" y="272"/>
                </a:lnTo>
                <a:lnTo>
                  <a:pt x="19" y="269"/>
                </a:lnTo>
                <a:lnTo>
                  <a:pt x="15" y="265"/>
                </a:lnTo>
                <a:lnTo>
                  <a:pt x="11" y="261"/>
                </a:lnTo>
                <a:lnTo>
                  <a:pt x="7" y="259"/>
                </a:lnTo>
                <a:lnTo>
                  <a:pt x="3" y="255"/>
                </a:lnTo>
                <a:lnTo>
                  <a:pt x="1" y="253"/>
                </a:lnTo>
                <a:lnTo>
                  <a:pt x="1" y="251"/>
                </a:lnTo>
                <a:lnTo>
                  <a:pt x="0" y="249"/>
                </a:lnTo>
                <a:lnTo>
                  <a:pt x="0" y="247"/>
                </a:lnTo>
                <a:lnTo>
                  <a:pt x="0" y="245"/>
                </a:lnTo>
                <a:lnTo>
                  <a:pt x="0" y="244"/>
                </a:lnTo>
                <a:lnTo>
                  <a:pt x="1" y="242"/>
                </a:lnTo>
                <a:lnTo>
                  <a:pt x="3" y="240"/>
                </a:lnTo>
                <a:lnTo>
                  <a:pt x="7" y="236"/>
                </a:lnTo>
                <a:lnTo>
                  <a:pt x="15" y="234"/>
                </a:lnTo>
                <a:lnTo>
                  <a:pt x="23" y="232"/>
                </a:lnTo>
                <a:lnTo>
                  <a:pt x="32" y="230"/>
                </a:lnTo>
                <a:lnTo>
                  <a:pt x="46" y="230"/>
                </a:lnTo>
                <a:lnTo>
                  <a:pt x="59" y="230"/>
                </a:lnTo>
                <a:lnTo>
                  <a:pt x="74" y="230"/>
                </a:lnTo>
                <a:lnTo>
                  <a:pt x="94" y="230"/>
                </a:lnTo>
                <a:lnTo>
                  <a:pt x="101" y="230"/>
                </a:lnTo>
                <a:lnTo>
                  <a:pt x="111" y="228"/>
                </a:lnTo>
                <a:lnTo>
                  <a:pt x="122" y="228"/>
                </a:lnTo>
                <a:lnTo>
                  <a:pt x="136" y="228"/>
                </a:lnTo>
                <a:lnTo>
                  <a:pt x="151" y="226"/>
                </a:lnTo>
                <a:lnTo>
                  <a:pt x="166" y="226"/>
                </a:lnTo>
                <a:lnTo>
                  <a:pt x="186" y="224"/>
                </a:lnTo>
                <a:lnTo>
                  <a:pt x="205" y="222"/>
                </a:lnTo>
                <a:lnTo>
                  <a:pt x="226" y="221"/>
                </a:lnTo>
                <a:lnTo>
                  <a:pt x="249" y="219"/>
                </a:lnTo>
                <a:lnTo>
                  <a:pt x="274" y="217"/>
                </a:lnTo>
                <a:lnTo>
                  <a:pt x="301" y="213"/>
                </a:lnTo>
                <a:lnTo>
                  <a:pt x="328" y="211"/>
                </a:lnTo>
                <a:lnTo>
                  <a:pt x="358" y="207"/>
                </a:lnTo>
                <a:lnTo>
                  <a:pt x="389" y="205"/>
                </a:lnTo>
                <a:lnTo>
                  <a:pt x="422" y="201"/>
                </a:lnTo>
                <a:lnTo>
                  <a:pt x="452" y="197"/>
                </a:lnTo>
                <a:lnTo>
                  <a:pt x="483" y="194"/>
                </a:lnTo>
                <a:lnTo>
                  <a:pt x="514" y="190"/>
                </a:lnTo>
                <a:lnTo>
                  <a:pt x="543" y="186"/>
                </a:lnTo>
                <a:lnTo>
                  <a:pt x="571" y="182"/>
                </a:lnTo>
                <a:lnTo>
                  <a:pt x="600" y="178"/>
                </a:lnTo>
                <a:lnTo>
                  <a:pt x="627" y="174"/>
                </a:lnTo>
                <a:lnTo>
                  <a:pt x="654" y="173"/>
                </a:lnTo>
                <a:lnTo>
                  <a:pt x="679" y="169"/>
                </a:lnTo>
                <a:lnTo>
                  <a:pt x="704" y="165"/>
                </a:lnTo>
                <a:lnTo>
                  <a:pt x="729" y="161"/>
                </a:lnTo>
                <a:lnTo>
                  <a:pt x="752" y="157"/>
                </a:lnTo>
                <a:lnTo>
                  <a:pt x="775" y="153"/>
                </a:lnTo>
                <a:lnTo>
                  <a:pt x="798" y="150"/>
                </a:lnTo>
                <a:lnTo>
                  <a:pt x="819" y="148"/>
                </a:lnTo>
                <a:lnTo>
                  <a:pt x="840" y="144"/>
                </a:lnTo>
                <a:lnTo>
                  <a:pt x="861" y="142"/>
                </a:lnTo>
                <a:lnTo>
                  <a:pt x="884" y="138"/>
                </a:lnTo>
                <a:lnTo>
                  <a:pt x="909" y="136"/>
                </a:lnTo>
                <a:lnTo>
                  <a:pt x="934" y="132"/>
                </a:lnTo>
                <a:lnTo>
                  <a:pt x="961" y="128"/>
                </a:lnTo>
                <a:lnTo>
                  <a:pt x="990" y="125"/>
                </a:lnTo>
                <a:lnTo>
                  <a:pt x="1019" y="119"/>
                </a:lnTo>
                <a:lnTo>
                  <a:pt x="1049" y="115"/>
                </a:lnTo>
                <a:lnTo>
                  <a:pt x="1082" y="109"/>
                </a:lnTo>
                <a:lnTo>
                  <a:pt x="1116" y="103"/>
                </a:lnTo>
                <a:lnTo>
                  <a:pt x="1151" y="96"/>
                </a:lnTo>
                <a:lnTo>
                  <a:pt x="1187" y="90"/>
                </a:lnTo>
                <a:lnTo>
                  <a:pt x="1226" y="82"/>
                </a:lnTo>
                <a:lnTo>
                  <a:pt x="1266" y="75"/>
                </a:lnTo>
                <a:lnTo>
                  <a:pt x="1306" y="65"/>
                </a:lnTo>
                <a:lnTo>
                  <a:pt x="1349" y="57"/>
                </a:lnTo>
                <a:lnTo>
                  <a:pt x="1370" y="54"/>
                </a:lnTo>
                <a:lnTo>
                  <a:pt x="1391" y="50"/>
                </a:lnTo>
                <a:lnTo>
                  <a:pt x="1410" y="46"/>
                </a:lnTo>
                <a:lnTo>
                  <a:pt x="1429" y="44"/>
                </a:lnTo>
                <a:lnTo>
                  <a:pt x="1448" y="40"/>
                </a:lnTo>
                <a:lnTo>
                  <a:pt x="1468" y="36"/>
                </a:lnTo>
                <a:lnTo>
                  <a:pt x="1485" y="34"/>
                </a:lnTo>
                <a:lnTo>
                  <a:pt x="1502" y="31"/>
                </a:lnTo>
                <a:lnTo>
                  <a:pt x="1519" y="29"/>
                </a:lnTo>
                <a:lnTo>
                  <a:pt x="1535" y="27"/>
                </a:lnTo>
                <a:lnTo>
                  <a:pt x="1550" y="23"/>
                </a:lnTo>
                <a:lnTo>
                  <a:pt x="1565" y="21"/>
                </a:lnTo>
                <a:lnTo>
                  <a:pt x="1579" y="19"/>
                </a:lnTo>
                <a:lnTo>
                  <a:pt x="1592" y="17"/>
                </a:lnTo>
                <a:lnTo>
                  <a:pt x="1606" y="15"/>
                </a:lnTo>
                <a:lnTo>
                  <a:pt x="1617" y="13"/>
                </a:lnTo>
                <a:lnTo>
                  <a:pt x="1629" y="11"/>
                </a:lnTo>
                <a:lnTo>
                  <a:pt x="1640" y="9"/>
                </a:lnTo>
                <a:lnTo>
                  <a:pt x="1652" y="7"/>
                </a:lnTo>
                <a:lnTo>
                  <a:pt x="1661" y="7"/>
                </a:lnTo>
                <a:lnTo>
                  <a:pt x="1671" y="6"/>
                </a:lnTo>
                <a:lnTo>
                  <a:pt x="1681" y="4"/>
                </a:lnTo>
                <a:lnTo>
                  <a:pt x="1688" y="4"/>
                </a:lnTo>
                <a:lnTo>
                  <a:pt x="1696" y="2"/>
                </a:lnTo>
                <a:lnTo>
                  <a:pt x="1704" y="2"/>
                </a:lnTo>
                <a:lnTo>
                  <a:pt x="1709" y="2"/>
                </a:lnTo>
                <a:lnTo>
                  <a:pt x="1717" y="0"/>
                </a:lnTo>
                <a:lnTo>
                  <a:pt x="1721" y="0"/>
                </a:lnTo>
                <a:lnTo>
                  <a:pt x="1727" y="0"/>
                </a:lnTo>
                <a:lnTo>
                  <a:pt x="1731" y="0"/>
                </a:lnTo>
                <a:lnTo>
                  <a:pt x="1734" y="0"/>
                </a:lnTo>
                <a:lnTo>
                  <a:pt x="1738" y="0"/>
                </a:lnTo>
                <a:lnTo>
                  <a:pt x="1750" y="0"/>
                </a:lnTo>
                <a:lnTo>
                  <a:pt x="1761" y="2"/>
                </a:lnTo>
                <a:lnTo>
                  <a:pt x="1777" y="4"/>
                </a:lnTo>
                <a:lnTo>
                  <a:pt x="1792" y="7"/>
                </a:lnTo>
                <a:lnTo>
                  <a:pt x="1807" y="13"/>
                </a:lnTo>
                <a:lnTo>
                  <a:pt x="1826" y="19"/>
                </a:lnTo>
                <a:lnTo>
                  <a:pt x="1846" y="27"/>
                </a:lnTo>
                <a:lnTo>
                  <a:pt x="1867" y="38"/>
                </a:lnTo>
                <a:lnTo>
                  <a:pt x="1878" y="42"/>
                </a:lnTo>
                <a:lnTo>
                  <a:pt x="1888" y="48"/>
                </a:lnTo>
                <a:lnTo>
                  <a:pt x="1897" y="54"/>
                </a:lnTo>
                <a:lnTo>
                  <a:pt x="1907" y="57"/>
                </a:lnTo>
                <a:lnTo>
                  <a:pt x="1915" y="61"/>
                </a:lnTo>
                <a:lnTo>
                  <a:pt x="1922" y="67"/>
                </a:lnTo>
                <a:lnTo>
                  <a:pt x="1928" y="71"/>
                </a:lnTo>
                <a:lnTo>
                  <a:pt x="1934" y="73"/>
                </a:lnTo>
                <a:lnTo>
                  <a:pt x="1940" y="77"/>
                </a:lnTo>
                <a:lnTo>
                  <a:pt x="1944" y="80"/>
                </a:lnTo>
                <a:lnTo>
                  <a:pt x="1947" y="84"/>
                </a:lnTo>
                <a:lnTo>
                  <a:pt x="1951" y="86"/>
                </a:lnTo>
                <a:lnTo>
                  <a:pt x="1953" y="88"/>
                </a:lnTo>
                <a:lnTo>
                  <a:pt x="1955" y="92"/>
                </a:lnTo>
                <a:lnTo>
                  <a:pt x="1957" y="94"/>
                </a:lnTo>
                <a:lnTo>
                  <a:pt x="1957" y="96"/>
                </a:lnTo>
                <a:lnTo>
                  <a:pt x="1957" y="98"/>
                </a:lnTo>
                <a:lnTo>
                  <a:pt x="1955" y="102"/>
                </a:lnTo>
                <a:lnTo>
                  <a:pt x="1953" y="105"/>
                </a:lnTo>
                <a:lnTo>
                  <a:pt x="1949" y="107"/>
                </a:lnTo>
                <a:lnTo>
                  <a:pt x="1945" y="111"/>
                </a:lnTo>
                <a:lnTo>
                  <a:pt x="1940" y="113"/>
                </a:lnTo>
                <a:lnTo>
                  <a:pt x="1934" y="115"/>
                </a:lnTo>
                <a:lnTo>
                  <a:pt x="1926" y="117"/>
                </a:lnTo>
                <a:lnTo>
                  <a:pt x="1917" y="119"/>
                </a:lnTo>
                <a:lnTo>
                  <a:pt x="1907" y="121"/>
                </a:lnTo>
                <a:lnTo>
                  <a:pt x="1897" y="121"/>
                </a:lnTo>
                <a:lnTo>
                  <a:pt x="1886" y="123"/>
                </a:lnTo>
                <a:lnTo>
                  <a:pt x="1873" y="123"/>
                </a:lnTo>
                <a:lnTo>
                  <a:pt x="1859" y="123"/>
                </a:lnTo>
                <a:lnTo>
                  <a:pt x="1844" y="125"/>
                </a:lnTo>
                <a:lnTo>
                  <a:pt x="1826" y="125"/>
                </a:lnTo>
                <a:lnTo>
                  <a:pt x="1794" y="125"/>
                </a:lnTo>
                <a:lnTo>
                  <a:pt x="1761" y="125"/>
                </a:lnTo>
                <a:lnTo>
                  <a:pt x="1731" y="125"/>
                </a:lnTo>
                <a:lnTo>
                  <a:pt x="1700" y="125"/>
                </a:lnTo>
                <a:lnTo>
                  <a:pt x="1671" y="126"/>
                </a:lnTo>
                <a:lnTo>
                  <a:pt x="1642" y="128"/>
                </a:lnTo>
                <a:lnTo>
                  <a:pt x="1615" y="130"/>
                </a:lnTo>
                <a:lnTo>
                  <a:pt x="1589" y="134"/>
                </a:lnTo>
                <a:lnTo>
                  <a:pt x="1573" y="136"/>
                </a:lnTo>
                <a:lnTo>
                  <a:pt x="1554" y="138"/>
                </a:lnTo>
                <a:lnTo>
                  <a:pt x="1537" y="140"/>
                </a:lnTo>
                <a:lnTo>
                  <a:pt x="1516" y="142"/>
                </a:lnTo>
                <a:lnTo>
                  <a:pt x="1493" y="146"/>
                </a:lnTo>
                <a:lnTo>
                  <a:pt x="1470" y="148"/>
                </a:lnTo>
                <a:lnTo>
                  <a:pt x="1445" y="151"/>
                </a:lnTo>
                <a:lnTo>
                  <a:pt x="1418" y="155"/>
                </a:lnTo>
                <a:lnTo>
                  <a:pt x="1389" y="159"/>
                </a:lnTo>
                <a:lnTo>
                  <a:pt x="1358" y="163"/>
                </a:lnTo>
                <a:lnTo>
                  <a:pt x="1328" y="167"/>
                </a:lnTo>
                <a:lnTo>
                  <a:pt x="1295" y="171"/>
                </a:lnTo>
                <a:lnTo>
                  <a:pt x="1260" y="176"/>
                </a:lnTo>
                <a:lnTo>
                  <a:pt x="1226" y="180"/>
                </a:lnTo>
                <a:lnTo>
                  <a:pt x="1187" y="186"/>
                </a:lnTo>
                <a:lnTo>
                  <a:pt x="1149" y="19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Freeform 61"/>
          <p:cNvSpPr/>
          <p:nvPr/>
        </p:nvSpPr>
        <p:spPr>
          <a:xfrm>
            <a:off x="2468520" y="3344760"/>
            <a:ext cx="561960" cy="830520"/>
          </a:xfrm>
          <a:custGeom>
            <a:avLst/>
            <a:gdLst>
              <a:gd name="textAreaLeft" fmla="*/ 0 w 561960"/>
              <a:gd name="textAreaRight" fmla="*/ 562320 w 561960"/>
              <a:gd name="textAreaTop" fmla="*/ 0 h 830520"/>
              <a:gd name="textAreaBottom" fmla="*/ 830880 h 830520"/>
            </a:gdLst>
            <a:ahLst/>
            <a:rect l="textAreaLeft" t="textAreaTop" r="textAreaRight" b="textAreaBottom"/>
            <a:pathLst>
              <a:path w="708" h="1046">
                <a:moveTo>
                  <a:pt x="169" y="988"/>
                </a:moveTo>
                <a:lnTo>
                  <a:pt x="161" y="1002"/>
                </a:lnTo>
                <a:lnTo>
                  <a:pt x="155" y="1013"/>
                </a:lnTo>
                <a:lnTo>
                  <a:pt x="147" y="1023"/>
                </a:lnTo>
                <a:lnTo>
                  <a:pt x="140" y="1031"/>
                </a:lnTo>
                <a:lnTo>
                  <a:pt x="134" y="1036"/>
                </a:lnTo>
                <a:lnTo>
                  <a:pt x="128" y="1042"/>
                </a:lnTo>
                <a:lnTo>
                  <a:pt x="123" y="1044"/>
                </a:lnTo>
                <a:lnTo>
                  <a:pt x="119" y="1046"/>
                </a:lnTo>
                <a:lnTo>
                  <a:pt x="111" y="1044"/>
                </a:lnTo>
                <a:lnTo>
                  <a:pt x="103" y="1042"/>
                </a:lnTo>
                <a:lnTo>
                  <a:pt x="96" y="1036"/>
                </a:lnTo>
                <a:lnTo>
                  <a:pt x="88" y="1031"/>
                </a:lnTo>
                <a:lnTo>
                  <a:pt x="78" y="1023"/>
                </a:lnTo>
                <a:lnTo>
                  <a:pt x="71" y="1013"/>
                </a:lnTo>
                <a:lnTo>
                  <a:pt x="59" y="1002"/>
                </a:lnTo>
                <a:lnTo>
                  <a:pt x="50" y="988"/>
                </a:lnTo>
                <a:lnTo>
                  <a:pt x="38" y="973"/>
                </a:lnTo>
                <a:lnTo>
                  <a:pt x="28" y="962"/>
                </a:lnTo>
                <a:lnTo>
                  <a:pt x="21" y="948"/>
                </a:lnTo>
                <a:lnTo>
                  <a:pt x="13" y="937"/>
                </a:lnTo>
                <a:lnTo>
                  <a:pt x="7" y="927"/>
                </a:lnTo>
                <a:lnTo>
                  <a:pt x="4" y="917"/>
                </a:lnTo>
                <a:lnTo>
                  <a:pt x="0" y="910"/>
                </a:lnTo>
                <a:lnTo>
                  <a:pt x="0" y="902"/>
                </a:lnTo>
                <a:lnTo>
                  <a:pt x="0" y="894"/>
                </a:lnTo>
                <a:lnTo>
                  <a:pt x="4" y="885"/>
                </a:lnTo>
                <a:lnTo>
                  <a:pt x="7" y="877"/>
                </a:lnTo>
                <a:lnTo>
                  <a:pt x="13" y="868"/>
                </a:lnTo>
                <a:lnTo>
                  <a:pt x="21" y="856"/>
                </a:lnTo>
                <a:lnTo>
                  <a:pt x="28" y="846"/>
                </a:lnTo>
                <a:lnTo>
                  <a:pt x="38" y="835"/>
                </a:lnTo>
                <a:lnTo>
                  <a:pt x="50" y="825"/>
                </a:lnTo>
                <a:lnTo>
                  <a:pt x="52" y="822"/>
                </a:lnTo>
                <a:lnTo>
                  <a:pt x="55" y="816"/>
                </a:lnTo>
                <a:lnTo>
                  <a:pt x="57" y="812"/>
                </a:lnTo>
                <a:lnTo>
                  <a:pt x="59" y="806"/>
                </a:lnTo>
                <a:lnTo>
                  <a:pt x="61" y="798"/>
                </a:lnTo>
                <a:lnTo>
                  <a:pt x="63" y="793"/>
                </a:lnTo>
                <a:lnTo>
                  <a:pt x="67" y="785"/>
                </a:lnTo>
                <a:lnTo>
                  <a:pt x="69" y="775"/>
                </a:lnTo>
                <a:lnTo>
                  <a:pt x="69" y="768"/>
                </a:lnTo>
                <a:lnTo>
                  <a:pt x="71" y="758"/>
                </a:lnTo>
                <a:lnTo>
                  <a:pt x="73" y="749"/>
                </a:lnTo>
                <a:lnTo>
                  <a:pt x="75" y="737"/>
                </a:lnTo>
                <a:lnTo>
                  <a:pt x="76" y="726"/>
                </a:lnTo>
                <a:lnTo>
                  <a:pt x="76" y="714"/>
                </a:lnTo>
                <a:lnTo>
                  <a:pt x="78" y="703"/>
                </a:lnTo>
                <a:lnTo>
                  <a:pt x="78" y="689"/>
                </a:lnTo>
                <a:lnTo>
                  <a:pt x="80" y="676"/>
                </a:lnTo>
                <a:lnTo>
                  <a:pt x="80" y="662"/>
                </a:lnTo>
                <a:lnTo>
                  <a:pt x="82" y="647"/>
                </a:lnTo>
                <a:lnTo>
                  <a:pt x="82" y="632"/>
                </a:lnTo>
                <a:lnTo>
                  <a:pt x="82" y="616"/>
                </a:lnTo>
                <a:lnTo>
                  <a:pt x="82" y="599"/>
                </a:lnTo>
                <a:lnTo>
                  <a:pt x="82" y="582"/>
                </a:lnTo>
                <a:lnTo>
                  <a:pt x="82" y="564"/>
                </a:lnTo>
                <a:lnTo>
                  <a:pt x="82" y="545"/>
                </a:lnTo>
                <a:lnTo>
                  <a:pt x="82" y="528"/>
                </a:lnTo>
                <a:lnTo>
                  <a:pt x="82" y="509"/>
                </a:lnTo>
                <a:lnTo>
                  <a:pt x="82" y="488"/>
                </a:lnTo>
                <a:lnTo>
                  <a:pt x="82" y="466"/>
                </a:lnTo>
                <a:lnTo>
                  <a:pt x="80" y="445"/>
                </a:lnTo>
                <a:lnTo>
                  <a:pt x="80" y="424"/>
                </a:lnTo>
                <a:lnTo>
                  <a:pt x="80" y="403"/>
                </a:lnTo>
                <a:lnTo>
                  <a:pt x="78" y="380"/>
                </a:lnTo>
                <a:lnTo>
                  <a:pt x="78" y="359"/>
                </a:lnTo>
                <a:lnTo>
                  <a:pt x="76" y="338"/>
                </a:lnTo>
                <a:lnTo>
                  <a:pt x="76" y="317"/>
                </a:lnTo>
                <a:lnTo>
                  <a:pt x="75" y="298"/>
                </a:lnTo>
                <a:lnTo>
                  <a:pt x="75" y="278"/>
                </a:lnTo>
                <a:lnTo>
                  <a:pt x="75" y="261"/>
                </a:lnTo>
                <a:lnTo>
                  <a:pt x="75" y="242"/>
                </a:lnTo>
                <a:lnTo>
                  <a:pt x="73" y="225"/>
                </a:lnTo>
                <a:lnTo>
                  <a:pt x="73" y="209"/>
                </a:lnTo>
                <a:lnTo>
                  <a:pt x="73" y="192"/>
                </a:lnTo>
                <a:lnTo>
                  <a:pt x="73" y="177"/>
                </a:lnTo>
                <a:lnTo>
                  <a:pt x="73" y="163"/>
                </a:lnTo>
                <a:lnTo>
                  <a:pt x="73" y="148"/>
                </a:lnTo>
                <a:lnTo>
                  <a:pt x="73" y="134"/>
                </a:lnTo>
                <a:lnTo>
                  <a:pt x="73" y="121"/>
                </a:lnTo>
                <a:lnTo>
                  <a:pt x="73" y="110"/>
                </a:lnTo>
                <a:lnTo>
                  <a:pt x="73" y="98"/>
                </a:lnTo>
                <a:lnTo>
                  <a:pt x="73" y="86"/>
                </a:lnTo>
                <a:lnTo>
                  <a:pt x="73" y="77"/>
                </a:lnTo>
                <a:lnTo>
                  <a:pt x="73" y="67"/>
                </a:lnTo>
                <a:lnTo>
                  <a:pt x="73" y="58"/>
                </a:lnTo>
                <a:lnTo>
                  <a:pt x="73" y="48"/>
                </a:lnTo>
                <a:lnTo>
                  <a:pt x="75" y="40"/>
                </a:lnTo>
                <a:lnTo>
                  <a:pt x="75" y="33"/>
                </a:lnTo>
                <a:lnTo>
                  <a:pt x="75" y="27"/>
                </a:lnTo>
                <a:lnTo>
                  <a:pt x="75" y="21"/>
                </a:lnTo>
                <a:lnTo>
                  <a:pt x="76" y="15"/>
                </a:lnTo>
                <a:lnTo>
                  <a:pt x="76" y="10"/>
                </a:lnTo>
                <a:lnTo>
                  <a:pt x="78" y="6"/>
                </a:lnTo>
                <a:lnTo>
                  <a:pt x="78" y="2"/>
                </a:lnTo>
                <a:lnTo>
                  <a:pt x="80" y="0"/>
                </a:lnTo>
                <a:lnTo>
                  <a:pt x="209" y="0"/>
                </a:lnTo>
                <a:lnTo>
                  <a:pt x="209" y="44"/>
                </a:lnTo>
                <a:lnTo>
                  <a:pt x="209" y="86"/>
                </a:lnTo>
                <a:lnTo>
                  <a:pt x="209" y="129"/>
                </a:lnTo>
                <a:lnTo>
                  <a:pt x="209" y="169"/>
                </a:lnTo>
                <a:lnTo>
                  <a:pt x="209" y="207"/>
                </a:lnTo>
                <a:lnTo>
                  <a:pt x="211" y="244"/>
                </a:lnTo>
                <a:lnTo>
                  <a:pt x="211" y="280"/>
                </a:lnTo>
                <a:lnTo>
                  <a:pt x="211" y="315"/>
                </a:lnTo>
                <a:lnTo>
                  <a:pt x="211" y="347"/>
                </a:lnTo>
                <a:lnTo>
                  <a:pt x="211" y="380"/>
                </a:lnTo>
                <a:lnTo>
                  <a:pt x="213" y="409"/>
                </a:lnTo>
                <a:lnTo>
                  <a:pt x="213" y="438"/>
                </a:lnTo>
                <a:lnTo>
                  <a:pt x="213" y="466"/>
                </a:lnTo>
                <a:lnTo>
                  <a:pt x="215" y="491"/>
                </a:lnTo>
                <a:lnTo>
                  <a:pt x="215" y="516"/>
                </a:lnTo>
                <a:lnTo>
                  <a:pt x="215" y="541"/>
                </a:lnTo>
                <a:lnTo>
                  <a:pt x="217" y="562"/>
                </a:lnTo>
                <a:lnTo>
                  <a:pt x="217" y="584"/>
                </a:lnTo>
                <a:lnTo>
                  <a:pt x="217" y="603"/>
                </a:lnTo>
                <a:lnTo>
                  <a:pt x="218" y="620"/>
                </a:lnTo>
                <a:lnTo>
                  <a:pt x="218" y="637"/>
                </a:lnTo>
                <a:lnTo>
                  <a:pt x="220" y="653"/>
                </a:lnTo>
                <a:lnTo>
                  <a:pt x="220" y="666"/>
                </a:lnTo>
                <a:lnTo>
                  <a:pt x="222" y="678"/>
                </a:lnTo>
                <a:lnTo>
                  <a:pt x="222" y="689"/>
                </a:lnTo>
                <a:lnTo>
                  <a:pt x="224" y="699"/>
                </a:lnTo>
                <a:lnTo>
                  <a:pt x="224" y="706"/>
                </a:lnTo>
                <a:lnTo>
                  <a:pt x="224" y="714"/>
                </a:lnTo>
                <a:lnTo>
                  <a:pt x="226" y="720"/>
                </a:lnTo>
                <a:lnTo>
                  <a:pt x="226" y="724"/>
                </a:lnTo>
                <a:lnTo>
                  <a:pt x="228" y="727"/>
                </a:lnTo>
                <a:lnTo>
                  <a:pt x="228" y="729"/>
                </a:lnTo>
                <a:lnTo>
                  <a:pt x="232" y="729"/>
                </a:lnTo>
                <a:lnTo>
                  <a:pt x="236" y="729"/>
                </a:lnTo>
                <a:lnTo>
                  <a:pt x="242" y="727"/>
                </a:lnTo>
                <a:lnTo>
                  <a:pt x="249" y="726"/>
                </a:lnTo>
                <a:lnTo>
                  <a:pt x="259" y="722"/>
                </a:lnTo>
                <a:lnTo>
                  <a:pt x="270" y="716"/>
                </a:lnTo>
                <a:lnTo>
                  <a:pt x="282" y="708"/>
                </a:lnTo>
                <a:lnTo>
                  <a:pt x="297" y="701"/>
                </a:lnTo>
                <a:lnTo>
                  <a:pt x="313" y="691"/>
                </a:lnTo>
                <a:lnTo>
                  <a:pt x="330" y="679"/>
                </a:lnTo>
                <a:lnTo>
                  <a:pt x="349" y="668"/>
                </a:lnTo>
                <a:lnTo>
                  <a:pt x="370" y="655"/>
                </a:lnTo>
                <a:lnTo>
                  <a:pt x="391" y="639"/>
                </a:lnTo>
                <a:lnTo>
                  <a:pt x="416" y="622"/>
                </a:lnTo>
                <a:lnTo>
                  <a:pt x="441" y="605"/>
                </a:lnTo>
                <a:lnTo>
                  <a:pt x="468" y="585"/>
                </a:lnTo>
                <a:lnTo>
                  <a:pt x="495" y="566"/>
                </a:lnTo>
                <a:lnTo>
                  <a:pt x="522" y="551"/>
                </a:lnTo>
                <a:lnTo>
                  <a:pt x="545" y="536"/>
                </a:lnTo>
                <a:lnTo>
                  <a:pt x="568" y="522"/>
                </a:lnTo>
                <a:lnTo>
                  <a:pt x="587" y="511"/>
                </a:lnTo>
                <a:lnTo>
                  <a:pt x="606" y="499"/>
                </a:lnTo>
                <a:lnTo>
                  <a:pt x="623" y="491"/>
                </a:lnTo>
                <a:lnTo>
                  <a:pt x="641" y="482"/>
                </a:lnTo>
                <a:lnTo>
                  <a:pt x="654" y="476"/>
                </a:lnTo>
                <a:lnTo>
                  <a:pt x="666" y="470"/>
                </a:lnTo>
                <a:lnTo>
                  <a:pt x="677" y="465"/>
                </a:lnTo>
                <a:lnTo>
                  <a:pt x="687" y="463"/>
                </a:lnTo>
                <a:lnTo>
                  <a:pt x="694" y="459"/>
                </a:lnTo>
                <a:lnTo>
                  <a:pt x="700" y="459"/>
                </a:lnTo>
                <a:lnTo>
                  <a:pt x="704" y="459"/>
                </a:lnTo>
                <a:lnTo>
                  <a:pt x="708" y="461"/>
                </a:lnTo>
                <a:lnTo>
                  <a:pt x="708" y="463"/>
                </a:lnTo>
                <a:lnTo>
                  <a:pt x="708" y="465"/>
                </a:lnTo>
                <a:lnTo>
                  <a:pt x="708" y="466"/>
                </a:lnTo>
                <a:lnTo>
                  <a:pt x="706" y="470"/>
                </a:lnTo>
                <a:lnTo>
                  <a:pt x="704" y="474"/>
                </a:lnTo>
                <a:lnTo>
                  <a:pt x="702" y="478"/>
                </a:lnTo>
                <a:lnTo>
                  <a:pt x="700" y="482"/>
                </a:lnTo>
                <a:lnTo>
                  <a:pt x="696" y="488"/>
                </a:lnTo>
                <a:lnTo>
                  <a:pt x="692" y="491"/>
                </a:lnTo>
                <a:lnTo>
                  <a:pt x="689" y="497"/>
                </a:lnTo>
                <a:lnTo>
                  <a:pt x="683" y="503"/>
                </a:lnTo>
                <a:lnTo>
                  <a:pt x="677" y="509"/>
                </a:lnTo>
                <a:lnTo>
                  <a:pt x="671" y="516"/>
                </a:lnTo>
                <a:lnTo>
                  <a:pt x="664" y="522"/>
                </a:lnTo>
                <a:lnTo>
                  <a:pt x="658" y="530"/>
                </a:lnTo>
                <a:lnTo>
                  <a:pt x="650" y="537"/>
                </a:lnTo>
                <a:lnTo>
                  <a:pt x="641" y="545"/>
                </a:lnTo>
                <a:lnTo>
                  <a:pt x="633" y="553"/>
                </a:lnTo>
                <a:lnTo>
                  <a:pt x="623" y="562"/>
                </a:lnTo>
                <a:lnTo>
                  <a:pt x="614" y="572"/>
                </a:lnTo>
                <a:lnTo>
                  <a:pt x="602" y="582"/>
                </a:lnTo>
                <a:lnTo>
                  <a:pt x="593" y="591"/>
                </a:lnTo>
                <a:lnTo>
                  <a:pt x="581" y="601"/>
                </a:lnTo>
                <a:lnTo>
                  <a:pt x="570" y="612"/>
                </a:lnTo>
                <a:lnTo>
                  <a:pt x="556" y="622"/>
                </a:lnTo>
                <a:lnTo>
                  <a:pt x="545" y="633"/>
                </a:lnTo>
                <a:lnTo>
                  <a:pt x="518" y="658"/>
                </a:lnTo>
                <a:lnTo>
                  <a:pt x="489" y="683"/>
                </a:lnTo>
                <a:lnTo>
                  <a:pt x="458" y="710"/>
                </a:lnTo>
                <a:lnTo>
                  <a:pt x="428" y="737"/>
                </a:lnTo>
                <a:lnTo>
                  <a:pt x="399" y="762"/>
                </a:lnTo>
                <a:lnTo>
                  <a:pt x="370" y="785"/>
                </a:lnTo>
                <a:lnTo>
                  <a:pt x="345" y="808"/>
                </a:lnTo>
                <a:lnTo>
                  <a:pt x="320" y="831"/>
                </a:lnTo>
                <a:lnTo>
                  <a:pt x="297" y="852"/>
                </a:lnTo>
                <a:lnTo>
                  <a:pt x="278" y="871"/>
                </a:lnTo>
                <a:lnTo>
                  <a:pt x="259" y="889"/>
                </a:lnTo>
                <a:lnTo>
                  <a:pt x="242" y="906"/>
                </a:lnTo>
                <a:lnTo>
                  <a:pt x="224" y="921"/>
                </a:lnTo>
                <a:lnTo>
                  <a:pt x="211" y="935"/>
                </a:lnTo>
                <a:lnTo>
                  <a:pt x="199" y="948"/>
                </a:lnTo>
                <a:lnTo>
                  <a:pt x="188" y="960"/>
                </a:lnTo>
                <a:lnTo>
                  <a:pt x="180" y="971"/>
                </a:lnTo>
                <a:lnTo>
                  <a:pt x="174" y="981"/>
                </a:lnTo>
                <a:lnTo>
                  <a:pt x="169" y="98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Freeform 62"/>
          <p:cNvSpPr/>
          <p:nvPr/>
        </p:nvSpPr>
        <p:spPr>
          <a:xfrm>
            <a:off x="3086280" y="3321000"/>
            <a:ext cx="436320" cy="327240"/>
          </a:xfrm>
          <a:custGeom>
            <a:avLst/>
            <a:gdLst>
              <a:gd name="textAreaLeft" fmla="*/ 0 w 436320"/>
              <a:gd name="textAreaRight" fmla="*/ 436680 w 43632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548" h="413">
                <a:moveTo>
                  <a:pt x="320" y="135"/>
                </a:moveTo>
                <a:lnTo>
                  <a:pt x="326" y="127"/>
                </a:lnTo>
                <a:lnTo>
                  <a:pt x="333" y="119"/>
                </a:lnTo>
                <a:lnTo>
                  <a:pt x="339" y="114"/>
                </a:lnTo>
                <a:lnTo>
                  <a:pt x="343" y="106"/>
                </a:lnTo>
                <a:lnTo>
                  <a:pt x="349" y="100"/>
                </a:lnTo>
                <a:lnTo>
                  <a:pt x="353" y="94"/>
                </a:lnTo>
                <a:lnTo>
                  <a:pt x="355" y="89"/>
                </a:lnTo>
                <a:lnTo>
                  <a:pt x="358" y="83"/>
                </a:lnTo>
                <a:lnTo>
                  <a:pt x="360" y="77"/>
                </a:lnTo>
                <a:lnTo>
                  <a:pt x="360" y="71"/>
                </a:lnTo>
                <a:lnTo>
                  <a:pt x="362" y="66"/>
                </a:lnTo>
                <a:lnTo>
                  <a:pt x="362" y="60"/>
                </a:lnTo>
                <a:lnTo>
                  <a:pt x="362" y="54"/>
                </a:lnTo>
                <a:lnTo>
                  <a:pt x="362" y="48"/>
                </a:lnTo>
                <a:lnTo>
                  <a:pt x="360" y="43"/>
                </a:lnTo>
                <a:lnTo>
                  <a:pt x="358" y="39"/>
                </a:lnTo>
                <a:lnTo>
                  <a:pt x="356" y="27"/>
                </a:lnTo>
                <a:lnTo>
                  <a:pt x="355" y="20"/>
                </a:lnTo>
                <a:lnTo>
                  <a:pt x="353" y="14"/>
                </a:lnTo>
                <a:lnTo>
                  <a:pt x="355" y="8"/>
                </a:lnTo>
                <a:lnTo>
                  <a:pt x="355" y="6"/>
                </a:lnTo>
                <a:lnTo>
                  <a:pt x="356" y="4"/>
                </a:lnTo>
                <a:lnTo>
                  <a:pt x="358" y="2"/>
                </a:lnTo>
                <a:lnTo>
                  <a:pt x="362" y="2"/>
                </a:lnTo>
                <a:lnTo>
                  <a:pt x="366" y="0"/>
                </a:lnTo>
                <a:lnTo>
                  <a:pt x="370" y="0"/>
                </a:lnTo>
                <a:lnTo>
                  <a:pt x="374" y="0"/>
                </a:lnTo>
                <a:lnTo>
                  <a:pt x="380" y="0"/>
                </a:lnTo>
                <a:lnTo>
                  <a:pt x="387" y="0"/>
                </a:lnTo>
                <a:lnTo>
                  <a:pt x="397" y="2"/>
                </a:lnTo>
                <a:lnTo>
                  <a:pt x="406" y="8"/>
                </a:lnTo>
                <a:lnTo>
                  <a:pt x="418" y="12"/>
                </a:lnTo>
                <a:lnTo>
                  <a:pt x="431" y="20"/>
                </a:lnTo>
                <a:lnTo>
                  <a:pt x="445" y="27"/>
                </a:lnTo>
                <a:lnTo>
                  <a:pt x="460" y="37"/>
                </a:lnTo>
                <a:lnTo>
                  <a:pt x="479" y="48"/>
                </a:lnTo>
                <a:lnTo>
                  <a:pt x="487" y="54"/>
                </a:lnTo>
                <a:lnTo>
                  <a:pt x="497" y="62"/>
                </a:lnTo>
                <a:lnTo>
                  <a:pt x="504" y="68"/>
                </a:lnTo>
                <a:lnTo>
                  <a:pt x="510" y="75"/>
                </a:lnTo>
                <a:lnTo>
                  <a:pt x="518" y="81"/>
                </a:lnTo>
                <a:lnTo>
                  <a:pt x="523" y="87"/>
                </a:lnTo>
                <a:lnTo>
                  <a:pt x="527" y="94"/>
                </a:lnTo>
                <a:lnTo>
                  <a:pt x="533" y="100"/>
                </a:lnTo>
                <a:lnTo>
                  <a:pt x="537" y="106"/>
                </a:lnTo>
                <a:lnTo>
                  <a:pt x="539" y="112"/>
                </a:lnTo>
                <a:lnTo>
                  <a:pt x="543" y="115"/>
                </a:lnTo>
                <a:lnTo>
                  <a:pt x="545" y="121"/>
                </a:lnTo>
                <a:lnTo>
                  <a:pt x="546" y="127"/>
                </a:lnTo>
                <a:lnTo>
                  <a:pt x="548" y="133"/>
                </a:lnTo>
                <a:lnTo>
                  <a:pt x="548" y="139"/>
                </a:lnTo>
                <a:lnTo>
                  <a:pt x="548" y="144"/>
                </a:lnTo>
                <a:lnTo>
                  <a:pt x="546" y="146"/>
                </a:lnTo>
                <a:lnTo>
                  <a:pt x="545" y="150"/>
                </a:lnTo>
                <a:lnTo>
                  <a:pt x="543" y="154"/>
                </a:lnTo>
                <a:lnTo>
                  <a:pt x="539" y="158"/>
                </a:lnTo>
                <a:lnTo>
                  <a:pt x="533" y="162"/>
                </a:lnTo>
                <a:lnTo>
                  <a:pt x="527" y="165"/>
                </a:lnTo>
                <a:lnTo>
                  <a:pt x="522" y="171"/>
                </a:lnTo>
                <a:lnTo>
                  <a:pt x="514" y="175"/>
                </a:lnTo>
                <a:lnTo>
                  <a:pt x="506" y="181"/>
                </a:lnTo>
                <a:lnTo>
                  <a:pt x="497" y="186"/>
                </a:lnTo>
                <a:lnTo>
                  <a:pt x="487" y="194"/>
                </a:lnTo>
                <a:lnTo>
                  <a:pt x="477" y="200"/>
                </a:lnTo>
                <a:lnTo>
                  <a:pt x="466" y="208"/>
                </a:lnTo>
                <a:lnTo>
                  <a:pt x="452" y="215"/>
                </a:lnTo>
                <a:lnTo>
                  <a:pt x="441" y="223"/>
                </a:lnTo>
                <a:lnTo>
                  <a:pt x="426" y="231"/>
                </a:lnTo>
                <a:lnTo>
                  <a:pt x="410" y="238"/>
                </a:lnTo>
                <a:lnTo>
                  <a:pt x="395" y="248"/>
                </a:lnTo>
                <a:lnTo>
                  <a:pt x="378" y="257"/>
                </a:lnTo>
                <a:lnTo>
                  <a:pt x="360" y="267"/>
                </a:lnTo>
                <a:lnTo>
                  <a:pt x="343" y="277"/>
                </a:lnTo>
                <a:lnTo>
                  <a:pt x="324" y="286"/>
                </a:lnTo>
                <a:lnTo>
                  <a:pt x="303" y="298"/>
                </a:lnTo>
                <a:lnTo>
                  <a:pt x="282" y="309"/>
                </a:lnTo>
                <a:lnTo>
                  <a:pt x="259" y="321"/>
                </a:lnTo>
                <a:lnTo>
                  <a:pt x="237" y="332"/>
                </a:lnTo>
                <a:lnTo>
                  <a:pt x="213" y="344"/>
                </a:lnTo>
                <a:lnTo>
                  <a:pt x="188" y="357"/>
                </a:lnTo>
                <a:lnTo>
                  <a:pt x="163" y="371"/>
                </a:lnTo>
                <a:lnTo>
                  <a:pt x="136" y="384"/>
                </a:lnTo>
                <a:lnTo>
                  <a:pt x="109" y="398"/>
                </a:lnTo>
                <a:lnTo>
                  <a:pt x="80" y="413"/>
                </a:lnTo>
                <a:lnTo>
                  <a:pt x="40" y="398"/>
                </a:lnTo>
                <a:lnTo>
                  <a:pt x="0" y="384"/>
                </a:lnTo>
                <a:lnTo>
                  <a:pt x="19" y="373"/>
                </a:lnTo>
                <a:lnTo>
                  <a:pt x="38" y="359"/>
                </a:lnTo>
                <a:lnTo>
                  <a:pt x="57" y="348"/>
                </a:lnTo>
                <a:lnTo>
                  <a:pt x="78" y="332"/>
                </a:lnTo>
                <a:lnTo>
                  <a:pt x="99" y="319"/>
                </a:lnTo>
                <a:lnTo>
                  <a:pt x="120" y="304"/>
                </a:lnTo>
                <a:lnTo>
                  <a:pt x="145" y="286"/>
                </a:lnTo>
                <a:lnTo>
                  <a:pt x="170" y="269"/>
                </a:lnTo>
                <a:lnTo>
                  <a:pt x="191" y="250"/>
                </a:lnTo>
                <a:lnTo>
                  <a:pt x="213" y="233"/>
                </a:lnTo>
                <a:lnTo>
                  <a:pt x="232" y="215"/>
                </a:lnTo>
                <a:lnTo>
                  <a:pt x="251" y="198"/>
                </a:lnTo>
                <a:lnTo>
                  <a:pt x="270" y="181"/>
                </a:lnTo>
                <a:lnTo>
                  <a:pt x="287" y="165"/>
                </a:lnTo>
                <a:lnTo>
                  <a:pt x="305" y="148"/>
                </a:lnTo>
                <a:lnTo>
                  <a:pt x="320" y="13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Freeform 63"/>
          <p:cNvSpPr/>
          <p:nvPr/>
        </p:nvSpPr>
        <p:spPr>
          <a:xfrm>
            <a:off x="2720880" y="3306600"/>
            <a:ext cx="1227240" cy="71784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717840"/>
              <a:gd name="textAreaBottom" fmla="*/ 718200 h 717840"/>
            </a:gdLst>
            <a:ahLst/>
            <a:rect l="textAreaLeft" t="textAreaTop" r="textAreaRight" b="textAreaBottom"/>
            <a:pathLst>
              <a:path w="1545" h="906">
                <a:moveTo>
                  <a:pt x="639" y="633"/>
                </a:moveTo>
                <a:lnTo>
                  <a:pt x="607" y="599"/>
                </a:lnTo>
                <a:lnTo>
                  <a:pt x="574" y="562"/>
                </a:lnTo>
                <a:lnTo>
                  <a:pt x="540" y="528"/>
                </a:lnTo>
                <a:lnTo>
                  <a:pt x="503" y="491"/>
                </a:lnTo>
                <a:lnTo>
                  <a:pt x="467" y="457"/>
                </a:lnTo>
                <a:lnTo>
                  <a:pt x="428" y="419"/>
                </a:lnTo>
                <a:lnTo>
                  <a:pt x="390" y="382"/>
                </a:lnTo>
                <a:lnTo>
                  <a:pt x="350" y="346"/>
                </a:lnTo>
                <a:lnTo>
                  <a:pt x="309" y="307"/>
                </a:lnTo>
                <a:lnTo>
                  <a:pt x="267" y="269"/>
                </a:lnTo>
                <a:lnTo>
                  <a:pt x="225" y="230"/>
                </a:lnTo>
                <a:lnTo>
                  <a:pt x="181" y="190"/>
                </a:lnTo>
                <a:lnTo>
                  <a:pt x="137" y="152"/>
                </a:lnTo>
                <a:lnTo>
                  <a:pt x="92" y="111"/>
                </a:lnTo>
                <a:lnTo>
                  <a:pt x="46" y="69"/>
                </a:lnTo>
                <a:lnTo>
                  <a:pt x="0" y="29"/>
                </a:lnTo>
                <a:lnTo>
                  <a:pt x="41" y="14"/>
                </a:lnTo>
                <a:lnTo>
                  <a:pt x="81" y="0"/>
                </a:lnTo>
                <a:lnTo>
                  <a:pt x="125" y="37"/>
                </a:lnTo>
                <a:lnTo>
                  <a:pt x="167" y="73"/>
                </a:lnTo>
                <a:lnTo>
                  <a:pt x="209" y="110"/>
                </a:lnTo>
                <a:lnTo>
                  <a:pt x="252" y="142"/>
                </a:lnTo>
                <a:lnTo>
                  <a:pt x="292" y="175"/>
                </a:lnTo>
                <a:lnTo>
                  <a:pt x="332" y="207"/>
                </a:lnTo>
                <a:lnTo>
                  <a:pt x="371" y="238"/>
                </a:lnTo>
                <a:lnTo>
                  <a:pt x="407" y="267"/>
                </a:lnTo>
                <a:lnTo>
                  <a:pt x="444" y="296"/>
                </a:lnTo>
                <a:lnTo>
                  <a:pt x="480" y="323"/>
                </a:lnTo>
                <a:lnTo>
                  <a:pt x="515" y="349"/>
                </a:lnTo>
                <a:lnTo>
                  <a:pt x="547" y="376"/>
                </a:lnTo>
                <a:lnTo>
                  <a:pt x="580" y="401"/>
                </a:lnTo>
                <a:lnTo>
                  <a:pt x="611" y="424"/>
                </a:lnTo>
                <a:lnTo>
                  <a:pt x="639" y="447"/>
                </a:lnTo>
                <a:lnTo>
                  <a:pt x="668" y="470"/>
                </a:lnTo>
                <a:lnTo>
                  <a:pt x="697" y="491"/>
                </a:lnTo>
                <a:lnTo>
                  <a:pt x="726" y="513"/>
                </a:lnTo>
                <a:lnTo>
                  <a:pt x="756" y="532"/>
                </a:lnTo>
                <a:lnTo>
                  <a:pt x="787" y="551"/>
                </a:lnTo>
                <a:lnTo>
                  <a:pt x="820" y="570"/>
                </a:lnTo>
                <a:lnTo>
                  <a:pt x="852" y="587"/>
                </a:lnTo>
                <a:lnTo>
                  <a:pt x="887" y="605"/>
                </a:lnTo>
                <a:lnTo>
                  <a:pt x="921" y="620"/>
                </a:lnTo>
                <a:lnTo>
                  <a:pt x="956" y="637"/>
                </a:lnTo>
                <a:lnTo>
                  <a:pt x="992" y="651"/>
                </a:lnTo>
                <a:lnTo>
                  <a:pt x="1031" y="666"/>
                </a:lnTo>
                <a:lnTo>
                  <a:pt x="1067" y="680"/>
                </a:lnTo>
                <a:lnTo>
                  <a:pt x="1108" y="693"/>
                </a:lnTo>
                <a:lnTo>
                  <a:pt x="1146" y="706"/>
                </a:lnTo>
                <a:lnTo>
                  <a:pt x="1186" y="718"/>
                </a:lnTo>
                <a:lnTo>
                  <a:pt x="1227" y="729"/>
                </a:lnTo>
                <a:lnTo>
                  <a:pt x="1246" y="733"/>
                </a:lnTo>
                <a:lnTo>
                  <a:pt x="1265" y="739"/>
                </a:lnTo>
                <a:lnTo>
                  <a:pt x="1282" y="745"/>
                </a:lnTo>
                <a:lnTo>
                  <a:pt x="1301" y="751"/>
                </a:lnTo>
                <a:lnTo>
                  <a:pt x="1317" y="754"/>
                </a:lnTo>
                <a:lnTo>
                  <a:pt x="1334" y="760"/>
                </a:lnTo>
                <a:lnTo>
                  <a:pt x="1349" y="764"/>
                </a:lnTo>
                <a:lnTo>
                  <a:pt x="1365" y="768"/>
                </a:lnTo>
                <a:lnTo>
                  <a:pt x="1380" y="774"/>
                </a:lnTo>
                <a:lnTo>
                  <a:pt x="1394" y="777"/>
                </a:lnTo>
                <a:lnTo>
                  <a:pt x="1407" y="781"/>
                </a:lnTo>
                <a:lnTo>
                  <a:pt x="1420" y="785"/>
                </a:lnTo>
                <a:lnTo>
                  <a:pt x="1432" y="789"/>
                </a:lnTo>
                <a:lnTo>
                  <a:pt x="1443" y="793"/>
                </a:lnTo>
                <a:lnTo>
                  <a:pt x="1455" y="797"/>
                </a:lnTo>
                <a:lnTo>
                  <a:pt x="1465" y="800"/>
                </a:lnTo>
                <a:lnTo>
                  <a:pt x="1474" y="802"/>
                </a:lnTo>
                <a:lnTo>
                  <a:pt x="1484" y="806"/>
                </a:lnTo>
                <a:lnTo>
                  <a:pt x="1491" y="810"/>
                </a:lnTo>
                <a:lnTo>
                  <a:pt x="1499" y="812"/>
                </a:lnTo>
                <a:lnTo>
                  <a:pt x="1507" y="816"/>
                </a:lnTo>
                <a:lnTo>
                  <a:pt x="1514" y="818"/>
                </a:lnTo>
                <a:lnTo>
                  <a:pt x="1520" y="820"/>
                </a:lnTo>
                <a:lnTo>
                  <a:pt x="1526" y="822"/>
                </a:lnTo>
                <a:lnTo>
                  <a:pt x="1530" y="823"/>
                </a:lnTo>
                <a:lnTo>
                  <a:pt x="1534" y="825"/>
                </a:lnTo>
                <a:lnTo>
                  <a:pt x="1537" y="827"/>
                </a:lnTo>
                <a:lnTo>
                  <a:pt x="1541" y="829"/>
                </a:lnTo>
                <a:lnTo>
                  <a:pt x="1543" y="831"/>
                </a:lnTo>
                <a:lnTo>
                  <a:pt x="1545" y="833"/>
                </a:lnTo>
                <a:lnTo>
                  <a:pt x="1545" y="835"/>
                </a:lnTo>
                <a:lnTo>
                  <a:pt x="1545" y="839"/>
                </a:lnTo>
                <a:lnTo>
                  <a:pt x="1543" y="841"/>
                </a:lnTo>
                <a:lnTo>
                  <a:pt x="1539" y="845"/>
                </a:lnTo>
                <a:lnTo>
                  <a:pt x="1534" y="848"/>
                </a:lnTo>
                <a:lnTo>
                  <a:pt x="1526" y="852"/>
                </a:lnTo>
                <a:lnTo>
                  <a:pt x="1516" y="856"/>
                </a:lnTo>
                <a:lnTo>
                  <a:pt x="1507" y="860"/>
                </a:lnTo>
                <a:lnTo>
                  <a:pt x="1495" y="864"/>
                </a:lnTo>
                <a:lnTo>
                  <a:pt x="1482" y="866"/>
                </a:lnTo>
                <a:lnTo>
                  <a:pt x="1466" y="870"/>
                </a:lnTo>
                <a:lnTo>
                  <a:pt x="1451" y="873"/>
                </a:lnTo>
                <a:lnTo>
                  <a:pt x="1432" y="877"/>
                </a:lnTo>
                <a:lnTo>
                  <a:pt x="1413" y="881"/>
                </a:lnTo>
                <a:lnTo>
                  <a:pt x="1392" y="885"/>
                </a:lnTo>
                <a:lnTo>
                  <a:pt x="1370" y="889"/>
                </a:lnTo>
                <a:lnTo>
                  <a:pt x="1347" y="893"/>
                </a:lnTo>
                <a:lnTo>
                  <a:pt x="1321" y="894"/>
                </a:lnTo>
                <a:lnTo>
                  <a:pt x="1296" y="896"/>
                </a:lnTo>
                <a:lnTo>
                  <a:pt x="1271" y="896"/>
                </a:lnTo>
                <a:lnTo>
                  <a:pt x="1248" y="898"/>
                </a:lnTo>
                <a:lnTo>
                  <a:pt x="1225" y="900"/>
                </a:lnTo>
                <a:lnTo>
                  <a:pt x="1202" y="902"/>
                </a:lnTo>
                <a:lnTo>
                  <a:pt x="1181" y="902"/>
                </a:lnTo>
                <a:lnTo>
                  <a:pt x="1159" y="904"/>
                </a:lnTo>
                <a:lnTo>
                  <a:pt x="1140" y="904"/>
                </a:lnTo>
                <a:lnTo>
                  <a:pt x="1119" y="906"/>
                </a:lnTo>
                <a:lnTo>
                  <a:pt x="1102" y="906"/>
                </a:lnTo>
                <a:lnTo>
                  <a:pt x="1083" y="906"/>
                </a:lnTo>
                <a:lnTo>
                  <a:pt x="1065" y="906"/>
                </a:lnTo>
                <a:lnTo>
                  <a:pt x="1048" y="904"/>
                </a:lnTo>
                <a:lnTo>
                  <a:pt x="1033" y="902"/>
                </a:lnTo>
                <a:lnTo>
                  <a:pt x="1017" y="902"/>
                </a:lnTo>
                <a:lnTo>
                  <a:pt x="1002" y="898"/>
                </a:lnTo>
                <a:lnTo>
                  <a:pt x="985" y="894"/>
                </a:lnTo>
                <a:lnTo>
                  <a:pt x="967" y="889"/>
                </a:lnTo>
                <a:lnTo>
                  <a:pt x="948" y="879"/>
                </a:lnTo>
                <a:lnTo>
                  <a:pt x="927" y="870"/>
                </a:lnTo>
                <a:lnTo>
                  <a:pt x="906" y="858"/>
                </a:lnTo>
                <a:lnTo>
                  <a:pt x="885" y="845"/>
                </a:lnTo>
                <a:lnTo>
                  <a:pt x="873" y="837"/>
                </a:lnTo>
                <a:lnTo>
                  <a:pt x="862" y="829"/>
                </a:lnTo>
                <a:lnTo>
                  <a:pt x="849" y="820"/>
                </a:lnTo>
                <a:lnTo>
                  <a:pt x="837" y="812"/>
                </a:lnTo>
                <a:lnTo>
                  <a:pt x="824" y="802"/>
                </a:lnTo>
                <a:lnTo>
                  <a:pt x="812" y="793"/>
                </a:lnTo>
                <a:lnTo>
                  <a:pt x="799" y="781"/>
                </a:lnTo>
                <a:lnTo>
                  <a:pt x="785" y="770"/>
                </a:lnTo>
                <a:lnTo>
                  <a:pt x="772" y="758"/>
                </a:lnTo>
                <a:lnTo>
                  <a:pt x="758" y="747"/>
                </a:lnTo>
                <a:lnTo>
                  <a:pt x="743" y="735"/>
                </a:lnTo>
                <a:lnTo>
                  <a:pt x="730" y="722"/>
                </a:lnTo>
                <a:lnTo>
                  <a:pt x="714" y="708"/>
                </a:lnTo>
                <a:lnTo>
                  <a:pt x="701" y="695"/>
                </a:lnTo>
                <a:lnTo>
                  <a:pt x="685" y="680"/>
                </a:lnTo>
                <a:lnTo>
                  <a:pt x="670" y="664"/>
                </a:lnTo>
                <a:lnTo>
                  <a:pt x="655" y="649"/>
                </a:lnTo>
                <a:lnTo>
                  <a:pt x="639" y="63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7" name="Group 39"/>
          <p:cNvGrpSpPr/>
          <p:nvPr/>
        </p:nvGrpSpPr>
        <p:grpSpPr>
          <a:xfrm>
            <a:off x="4648320" y="1523880"/>
            <a:ext cx="2361600" cy="703440"/>
            <a:chOff x="4648320" y="1523880"/>
            <a:chExt cx="2361600" cy="703440"/>
          </a:xfrm>
        </p:grpSpPr>
        <p:grpSp>
          <p:nvGrpSpPr>
            <p:cNvPr id="4108" name="Group 40"/>
            <p:cNvGrpSpPr/>
            <p:nvPr/>
          </p:nvGrpSpPr>
          <p:grpSpPr>
            <a:xfrm>
              <a:off x="6476760" y="1523880"/>
              <a:ext cx="533160" cy="609480"/>
              <a:chOff x="6476760" y="1523880"/>
              <a:chExt cx="533160" cy="609480"/>
            </a:xfrm>
          </p:grpSpPr>
          <p:sp>
            <p:nvSpPr>
              <p:cNvPr id="4109" name="Freeform 52"/>
              <p:cNvSpPr/>
              <p:nvPr/>
            </p:nvSpPr>
            <p:spPr>
              <a:xfrm>
                <a:off x="6674040" y="1523880"/>
                <a:ext cx="115560" cy="6094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609480"/>
                  <a:gd name="textAreaBottom" fmla="*/ 609480 h 609480"/>
                </a:gdLst>
                <a:ahLst/>
                <a:rect l="textAreaLeft" t="textAreaTop" r="textAreaRight" b="textAreaBottom"/>
                <a:pathLst>
                  <a:path w="232" h="1188">
                    <a:moveTo>
                      <a:pt x="215" y="151"/>
                    </a:moveTo>
                    <a:lnTo>
                      <a:pt x="215" y="153"/>
                    </a:lnTo>
                    <a:lnTo>
                      <a:pt x="213" y="157"/>
                    </a:lnTo>
                    <a:lnTo>
                      <a:pt x="213" y="163"/>
                    </a:lnTo>
                    <a:lnTo>
                      <a:pt x="211" y="168"/>
                    </a:lnTo>
                    <a:lnTo>
                      <a:pt x="211" y="174"/>
                    </a:lnTo>
                    <a:lnTo>
                      <a:pt x="209" y="180"/>
                    </a:lnTo>
                    <a:lnTo>
                      <a:pt x="209" y="190"/>
                    </a:lnTo>
                    <a:lnTo>
                      <a:pt x="207" y="197"/>
                    </a:lnTo>
                    <a:lnTo>
                      <a:pt x="207" y="207"/>
                    </a:lnTo>
                    <a:lnTo>
                      <a:pt x="206" y="216"/>
                    </a:lnTo>
                    <a:lnTo>
                      <a:pt x="206" y="228"/>
                    </a:lnTo>
                    <a:lnTo>
                      <a:pt x="204" y="239"/>
                    </a:lnTo>
                    <a:lnTo>
                      <a:pt x="204" y="253"/>
                    </a:lnTo>
                    <a:lnTo>
                      <a:pt x="202" y="266"/>
                    </a:lnTo>
                    <a:lnTo>
                      <a:pt x="202" y="280"/>
                    </a:lnTo>
                    <a:lnTo>
                      <a:pt x="200" y="295"/>
                    </a:lnTo>
                    <a:lnTo>
                      <a:pt x="200" y="312"/>
                    </a:lnTo>
                    <a:lnTo>
                      <a:pt x="198" y="328"/>
                    </a:lnTo>
                    <a:lnTo>
                      <a:pt x="198" y="345"/>
                    </a:lnTo>
                    <a:lnTo>
                      <a:pt x="196" y="364"/>
                    </a:lnTo>
                    <a:lnTo>
                      <a:pt x="196" y="383"/>
                    </a:lnTo>
                    <a:lnTo>
                      <a:pt x="194" y="403"/>
                    </a:lnTo>
                    <a:lnTo>
                      <a:pt x="194" y="424"/>
                    </a:lnTo>
                    <a:lnTo>
                      <a:pt x="192" y="447"/>
                    </a:lnTo>
                    <a:lnTo>
                      <a:pt x="192" y="468"/>
                    </a:lnTo>
                    <a:lnTo>
                      <a:pt x="192" y="493"/>
                    </a:lnTo>
                    <a:lnTo>
                      <a:pt x="190" y="516"/>
                    </a:lnTo>
                    <a:lnTo>
                      <a:pt x="190" y="541"/>
                    </a:lnTo>
                    <a:lnTo>
                      <a:pt x="188" y="568"/>
                    </a:lnTo>
                    <a:lnTo>
                      <a:pt x="188" y="595"/>
                    </a:lnTo>
                    <a:lnTo>
                      <a:pt x="186" y="621"/>
                    </a:lnTo>
                    <a:lnTo>
                      <a:pt x="186" y="650"/>
                    </a:lnTo>
                    <a:lnTo>
                      <a:pt x="184" y="677"/>
                    </a:lnTo>
                    <a:lnTo>
                      <a:pt x="184" y="706"/>
                    </a:lnTo>
                    <a:lnTo>
                      <a:pt x="183" y="733"/>
                    </a:lnTo>
                    <a:lnTo>
                      <a:pt x="183" y="760"/>
                    </a:lnTo>
                    <a:lnTo>
                      <a:pt x="183" y="785"/>
                    </a:lnTo>
                    <a:lnTo>
                      <a:pt x="181" y="809"/>
                    </a:lnTo>
                    <a:lnTo>
                      <a:pt x="181" y="833"/>
                    </a:lnTo>
                    <a:lnTo>
                      <a:pt x="181" y="856"/>
                    </a:lnTo>
                    <a:lnTo>
                      <a:pt x="179" y="879"/>
                    </a:lnTo>
                    <a:lnTo>
                      <a:pt x="179" y="900"/>
                    </a:lnTo>
                    <a:lnTo>
                      <a:pt x="179" y="921"/>
                    </a:lnTo>
                    <a:lnTo>
                      <a:pt x="179" y="942"/>
                    </a:lnTo>
                    <a:lnTo>
                      <a:pt x="179" y="961"/>
                    </a:lnTo>
                    <a:lnTo>
                      <a:pt x="177" y="980"/>
                    </a:lnTo>
                    <a:lnTo>
                      <a:pt x="177" y="998"/>
                    </a:lnTo>
                    <a:lnTo>
                      <a:pt x="177" y="1015"/>
                    </a:lnTo>
                    <a:lnTo>
                      <a:pt x="177" y="1032"/>
                    </a:lnTo>
                    <a:lnTo>
                      <a:pt x="177" y="1047"/>
                    </a:lnTo>
                    <a:lnTo>
                      <a:pt x="177" y="1063"/>
                    </a:lnTo>
                    <a:lnTo>
                      <a:pt x="177" y="1076"/>
                    </a:lnTo>
                    <a:lnTo>
                      <a:pt x="177" y="1090"/>
                    </a:lnTo>
                    <a:lnTo>
                      <a:pt x="177" y="1103"/>
                    </a:lnTo>
                    <a:lnTo>
                      <a:pt x="177" y="1115"/>
                    </a:lnTo>
                    <a:lnTo>
                      <a:pt x="175" y="1126"/>
                    </a:lnTo>
                    <a:lnTo>
                      <a:pt x="175" y="1136"/>
                    </a:lnTo>
                    <a:lnTo>
                      <a:pt x="175" y="1145"/>
                    </a:lnTo>
                    <a:lnTo>
                      <a:pt x="175" y="1155"/>
                    </a:lnTo>
                    <a:lnTo>
                      <a:pt x="175" y="1163"/>
                    </a:lnTo>
                    <a:lnTo>
                      <a:pt x="175" y="1170"/>
                    </a:lnTo>
                    <a:lnTo>
                      <a:pt x="175" y="1176"/>
                    </a:lnTo>
                    <a:lnTo>
                      <a:pt x="175" y="1182"/>
                    </a:lnTo>
                    <a:lnTo>
                      <a:pt x="175" y="1188"/>
                    </a:lnTo>
                    <a:lnTo>
                      <a:pt x="65" y="1188"/>
                    </a:lnTo>
                    <a:lnTo>
                      <a:pt x="65" y="1153"/>
                    </a:lnTo>
                    <a:lnTo>
                      <a:pt x="65" y="1118"/>
                    </a:lnTo>
                    <a:lnTo>
                      <a:pt x="65" y="1086"/>
                    </a:lnTo>
                    <a:lnTo>
                      <a:pt x="65" y="1053"/>
                    </a:lnTo>
                    <a:lnTo>
                      <a:pt x="65" y="1021"/>
                    </a:lnTo>
                    <a:lnTo>
                      <a:pt x="65" y="988"/>
                    </a:lnTo>
                    <a:lnTo>
                      <a:pt x="65" y="957"/>
                    </a:lnTo>
                    <a:lnTo>
                      <a:pt x="65" y="927"/>
                    </a:lnTo>
                    <a:lnTo>
                      <a:pt x="65" y="896"/>
                    </a:lnTo>
                    <a:lnTo>
                      <a:pt x="65" y="867"/>
                    </a:lnTo>
                    <a:lnTo>
                      <a:pt x="65" y="838"/>
                    </a:lnTo>
                    <a:lnTo>
                      <a:pt x="65" y="809"/>
                    </a:lnTo>
                    <a:lnTo>
                      <a:pt x="65" y="783"/>
                    </a:lnTo>
                    <a:lnTo>
                      <a:pt x="64" y="754"/>
                    </a:lnTo>
                    <a:lnTo>
                      <a:pt x="64" y="727"/>
                    </a:lnTo>
                    <a:lnTo>
                      <a:pt x="64" y="700"/>
                    </a:lnTo>
                    <a:lnTo>
                      <a:pt x="64" y="675"/>
                    </a:lnTo>
                    <a:lnTo>
                      <a:pt x="64" y="650"/>
                    </a:lnTo>
                    <a:lnTo>
                      <a:pt x="64" y="625"/>
                    </a:lnTo>
                    <a:lnTo>
                      <a:pt x="64" y="600"/>
                    </a:lnTo>
                    <a:lnTo>
                      <a:pt x="62" y="577"/>
                    </a:lnTo>
                    <a:lnTo>
                      <a:pt x="62" y="554"/>
                    </a:lnTo>
                    <a:lnTo>
                      <a:pt x="62" y="531"/>
                    </a:lnTo>
                    <a:lnTo>
                      <a:pt x="62" y="508"/>
                    </a:lnTo>
                    <a:lnTo>
                      <a:pt x="62" y="487"/>
                    </a:lnTo>
                    <a:lnTo>
                      <a:pt x="60" y="466"/>
                    </a:lnTo>
                    <a:lnTo>
                      <a:pt x="60" y="445"/>
                    </a:lnTo>
                    <a:lnTo>
                      <a:pt x="60" y="426"/>
                    </a:lnTo>
                    <a:lnTo>
                      <a:pt x="60" y="406"/>
                    </a:lnTo>
                    <a:lnTo>
                      <a:pt x="58" y="387"/>
                    </a:lnTo>
                    <a:lnTo>
                      <a:pt x="58" y="368"/>
                    </a:lnTo>
                    <a:lnTo>
                      <a:pt x="58" y="351"/>
                    </a:lnTo>
                    <a:lnTo>
                      <a:pt x="56" y="334"/>
                    </a:lnTo>
                    <a:lnTo>
                      <a:pt x="56" y="316"/>
                    </a:lnTo>
                    <a:lnTo>
                      <a:pt x="56" y="301"/>
                    </a:lnTo>
                    <a:lnTo>
                      <a:pt x="54" y="284"/>
                    </a:lnTo>
                    <a:lnTo>
                      <a:pt x="54" y="268"/>
                    </a:lnTo>
                    <a:lnTo>
                      <a:pt x="54" y="255"/>
                    </a:lnTo>
                    <a:lnTo>
                      <a:pt x="52" y="239"/>
                    </a:lnTo>
                    <a:lnTo>
                      <a:pt x="52" y="226"/>
                    </a:lnTo>
                    <a:lnTo>
                      <a:pt x="50" y="213"/>
                    </a:lnTo>
                    <a:lnTo>
                      <a:pt x="50" y="201"/>
                    </a:lnTo>
                    <a:lnTo>
                      <a:pt x="50" y="188"/>
                    </a:lnTo>
                    <a:lnTo>
                      <a:pt x="48" y="176"/>
                    </a:lnTo>
                    <a:lnTo>
                      <a:pt x="48" y="167"/>
                    </a:lnTo>
                    <a:lnTo>
                      <a:pt x="46" y="155"/>
                    </a:lnTo>
                    <a:lnTo>
                      <a:pt x="46" y="145"/>
                    </a:lnTo>
                    <a:lnTo>
                      <a:pt x="44" y="136"/>
                    </a:lnTo>
                    <a:lnTo>
                      <a:pt x="44" y="126"/>
                    </a:lnTo>
                    <a:lnTo>
                      <a:pt x="42" y="119"/>
                    </a:lnTo>
                    <a:lnTo>
                      <a:pt x="42" y="111"/>
                    </a:lnTo>
                    <a:lnTo>
                      <a:pt x="41" y="103"/>
                    </a:lnTo>
                    <a:lnTo>
                      <a:pt x="41" y="96"/>
                    </a:lnTo>
                    <a:lnTo>
                      <a:pt x="39" y="90"/>
                    </a:lnTo>
                    <a:lnTo>
                      <a:pt x="37" y="84"/>
                    </a:lnTo>
                    <a:lnTo>
                      <a:pt x="37" y="78"/>
                    </a:lnTo>
                    <a:lnTo>
                      <a:pt x="35" y="73"/>
                    </a:lnTo>
                    <a:lnTo>
                      <a:pt x="35" y="69"/>
                    </a:lnTo>
                    <a:lnTo>
                      <a:pt x="33" y="65"/>
                    </a:lnTo>
                    <a:lnTo>
                      <a:pt x="31" y="63"/>
                    </a:lnTo>
                    <a:lnTo>
                      <a:pt x="31" y="59"/>
                    </a:lnTo>
                    <a:lnTo>
                      <a:pt x="29" y="57"/>
                    </a:lnTo>
                    <a:lnTo>
                      <a:pt x="27" y="55"/>
                    </a:lnTo>
                    <a:lnTo>
                      <a:pt x="25" y="53"/>
                    </a:lnTo>
                    <a:lnTo>
                      <a:pt x="21" y="51"/>
                    </a:lnTo>
                    <a:lnTo>
                      <a:pt x="16" y="48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5" y="2"/>
                    </a:lnTo>
                    <a:lnTo>
                      <a:pt x="85" y="2"/>
                    </a:lnTo>
                    <a:lnTo>
                      <a:pt x="94" y="3"/>
                    </a:lnTo>
                    <a:lnTo>
                      <a:pt x="106" y="5"/>
                    </a:lnTo>
                    <a:lnTo>
                      <a:pt x="115" y="7"/>
                    </a:lnTo>
                    <a:lnTo>
                      <a:pt x="127" y="11"/>
                    </a:lnTo>
                    <a:lnTo>
                      <a:pt x="136" y="13"/>
                    </a:lnTo>
                    <a:lnTo>
                      <a:pt x="148" y="17"/>
                    </a:lnTo>
                    <a:lnTo>
                      <a:pt x="158" y="21"/>
                    </a:lnTo>
                    <a:lnTo>
                      <a:pt x="165" y="25"/>
                    </a:lnTo>
                    <a:lnTo>
                      <a:pt x="175" y="28"/>
                    </a:lnTo>
                    <a:lnTo>
                      <a:pt x="183" y="32"/>
                    </a:lnTo>
                    <a:lnTo>
                      <a:pt x="190" y="36"/>
                    </a:lnTo>
                    <a:lnTo>
                      <a:pt x="196" y="40"/>
                    </a:lnTo>
                    <a:lnTo>
                      <a:pt x="202" y="46"/>
                    </a:lnTo>
                    <a:lnTo>
                      <a:pt x="207" y="49"/>
                    </a:lnTo>
                    <a:lnTo>
                      <a:pt x="213" y="53"/>
                    </a:lnTo>
                    <a:lnTo>
                      <a:pt x="217" y="59"/>
                    </a:lnTo>
                    <a:lnTo>
                      <a:pt x="221" y="63"/>
                    </a:lnTo>
                    <a:lnTo>
                      <a:pt x="223" y="69"/>
                    </a:lnTo>
                    <a:lnTo>
                      <a:pt x="225" y="74"/>
                    </a:lnTo>
                    <a:lnTo>
                      <a:pt x="229" y="84"/>
                    </a:lnTo>
                    <a:lnTo>
                      <a:pt x="230" y="94"/>
                    </a:lnTo>
                    <a:lnTo>
                      <a:pt x="232" y="103"/>
                    </a:lnTo>
                    <a:lnTo>
                      <a:pt x="232" y="113"/>
                    </a:lnTo>
                    <a:lnTo>
                      <a:pt x="230" y="121"/>
                    </a:lnTo>
                    <a:lnTo>
                      <a:pt x="227" y="130"/>
                    </a:lnTo>
                    <a:lnTo>
                      <a:pt x="223" y="140"/>
                    </a:lnTo>
                    <a:lnTo>
                      <a:pt x="215" y="151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Freeform 53"/>
              <p:cNvSpPr/>
              <p:nvPr/>
            </p:nvSpPr>
            <p:spPr>
              <a:xfrm>
                <a:off x="6476760" y="1698120"/>
                <a:ext cx="533160" cy="1288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1069" h="254">
                    <a:moveTo>
                      <a:pt x="641" y="177"/>
                    </a:moveTo>
                    <a:lnTo>
                      <a:pt x="614" y="181"/>
                    </a:lnTo>
                    <a:lnTo>
                      <a:pt x="589" y="185"/>
                    </a:lnTo>
                    <a:lnTo>
                      <a:pt x="566" y="190"/>
                    </a:lnTo>
                    <a:lnTo>
                      <a:pt x="541" y="194"/>
                    </a:lnTo>
                    <a:lnTo>
                      <a:pt x="518" y="198"/>
                    </a:lnTo>
                    <a:lnTo>
                      <a:pt x="497" y="202"/>
                    </a:lnTo>
                    <a:lnTo>
                      <a:pt x="474" y="206"/>
                    </a:lnTo>
                    <a:lnTo>
                      <a:pt x="453" y="209"/>
                    </a:lnTo>
                    <a:lnTo>
                      <a:pt x="434" y="211"/>
                    </a:lnTo>
                    <a:lnTo>
                      <a:pt x="414" y="215"/>
                    </a:lnTo>
                    <a:lnTo>
                      <a:pt x="395" y="219"/>
                    </a:lnTo>
                    <a:lnTo>
                      <a:pt x="378" y="223"/>
                    </a:lnTo>
                    <a:lnTo>
                      <a:pt x="361" y="225"/>
                    </a:lnTo>
                    <a:lnTo>
                      <a:pt x="343" y="229"/>
                    </a:lnTo>
                    <a:lnTo>
                      <a:pt x="328" y="231"/>
                    </a:lnTo>
                    <a:lnTo>
                      <a:pt x="313" y="233"/>
                    </a:lnTo>
                    <a:lnTo>
                      <a:pt x="299" y="234"/>
                    </a:lnTo>
                    <a:lnTo>
                      <a:pt x="284" y="238"/>
                    </a:lnTo>
                    <a:lnTo>
                      <a:pt x="272" y="240"/>
                    </a:lnTo>
                    <a:lnTo>
                      <a:pt x="259" y="242"/>
                    </a:lnTo>
                    <a:lnTo>
                      <a:pt x="247" y="244"/>
                    </a:lnTo>
                    <a:lnTo>
                      <a:pt x="238" y="246"/>
                    </a:lnTo>
                    <a:lnTo>
                      <a:pt x="228" y="246"/>
                    </a:lnTo>
                    <a:lnTo>
                      <a:pt x="219" y="248"/>
                    </a:lnTo>
                    <a:lnTo>
                      <a:pt x="211" y="250"/>
                    </a:lnTo>
                    <a:lnTo>
                      <a:pt x="203" y="250"/>
                    </a:lnTo>
                    <a:lnTo>
                      <a:pt x="196" y="252"/>
                    </a:lnTo>
                    <a:lnTo>
                      <a:pt x="190" y="252"/>
                    </a:lnTo>
                    <a:lnTo>
                      <a:pt x="184" y="252"/>
                    </a:lnTo>
                    <a:lnTo>
                      <a:pt x="178" y="252"/>
                    </a:lnTo>
                    <a:lnTo>
                      <a:pt x="175" y="254"/>
                    </a:lnTo>
                    <a:lnTo>
                      <a:pt x="173" y="254"/>
                    </a:lnTo>
                    <a:lnTo>
                      <a:pt x="157" y="252"/>
                    </a:lnTo>
                    <a:lnTo>
                      <a:pt x="142" y="252"/>
                    </a:lnTo>
                    <a:lnTo>
                      <a:pt x="127" y="248"/>
                    </a:lnTo>
                    <a:lnTo>
                      <a:pt x="111" y="244"/>
                    </a:lnTo>
                    <a:lnTo>
                      <a:pt x="98" y="240"/>
                    </a:lnTo>
                    <a:lnTo>
                      <a:pt x="82" y="233"/>
                    </a:lnTo>
                    <a:lnTo>
                      <a:pt x="67" y="225"/>
                    </a:lnTo>
                    <a:lnTo>
                      <a:pt x="52" y="215"/>
                    </a:lnTo>
                    <a:lnTo>
                      <a:pt x="44" y="211"/>
                    </a:lnTo>
                    <a:lnTo>
                      <a:pt x="36" y="208"/>
                    </a:lnTo>
                    <a:lnTo>
                      <a:pt x="29" y="204"/>
                    </a:lnTo>
                    <a:lnTo>
                      <a:pt x="23" y="202"/>
                    </a:lnTo>
                    <a:lnTo>
                      <a:pt x="17" y="200"/>
                    </a:lnTo>
                    <a:lnTo>
                      <a:pt x="11" y="196"/>
                    </a:lnTo>
                    <a:lnTo>
                      <a:pt x="8" y="194"/>
                    </a:lnTo>
                    <a:lnTo>
                      <a:pt x="6" y="192"/>
                    </a:lnTo>
                    <a:lnTo>
                      <a:pt x="2" y="190"/>
                    </a:lnTo>
                    <a:lnTo>
                      <a:pt x="0" y="188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2" y="177"/>
                    </a:lnTo>
                    <a:lnTo>
                      <a:pt x="4" y="177"/>
                    </a:lnTo>
                    <a:lnTo>
                      <a:pt x="6" y="175"/>
                    </a:lnTo>
                    <a:lnTo>
                      <a:pt x="9" y="175"/>
                    </a:lnTo>
                    <a:lnTo>
                      <a:pt x="13" y="175"/>
                    </a:lnTo>
                    <a:lnTo>
                      <a:pt x="17" y="175"/>
                    </a:lnTo>
                    <a:lnTo>
                      <a:pt x="23" y="173"/>
                    </a:lnTo>
                    <a:lnTo>
                      <a:pt x="31" y="173"/>
                    </a:lnTo>
                    <a:lnTo>
                      <a:pt x="38" y="171"/>
                    </a:lnTo>
                    <a:lnTo>
                      <a:pt x="46" y="169"/>
                    </a:lnTo>
                    <a:lnTo>
                      <a:pt x="56" y="167"/>
                    </a:lnTo>
                    <a:lnTo>
                      <a:pt x="65" y="165"/>
                    </a:lnTo>
                    <a:lnTo>
                      <a:pt x="77" y="163"/>
                    </a:lnTo>
                    <a:lnTo>
                      <a:pt x="88" y="161"/>
                    </a:lnTo>
                    <a:lnTo>
                      <a:pt x="100" y="160"/>
                    </a:lnTo>
                    <a:lnTo>
                      <a:pt x="113" y="156"/>
                    </a:lnTo>
                    <a:lnTo>
                      <a:pt x="127" y="154"/>
                    </a:lnTo>
                    <a:lnTo>
                      <a:pt x="142" y="150"/>
                    </a:lnTo>
                    <a:lnTo>
                      <a:pt x="157" y="148"/>
                    </a:lnTo>
                    <a:lnTo>
                      <a:pt x="175" y="144"/>
                    </a:lnTo>
                    <a:lnTo>
                      <a:pt x="192" y="140"/>
                    </a:lnTo>
                    <a:lnTo>
                      <a:pt x="209" y="137"/>
                    </a:lnTo>
                    <a:lnTo>
                      <a:pt x="228" y="133"/>
                    </a:lnTo>
                    <a:lnTo>
                      <a:pt x="247" y="129"/>
                    </a:lnTo>
                    <a:lnTo>
                      <a:pt x="269" y="123"/>
                    </a:lnTo>
                    <a:lnTo>
                      <a:pt x="290" y="119"/>
                    </a:lnTo>
                    <a:lnTo>
                      <a:pt x="313" y="114"/>
                    </a:lnTo>
                    <a:lnTo>
                      <a:pt x="336" y="110"/>
                    </a:lnTo>
                    <a:lnTo>
                      <a:pt x="359" y="104"/>
                    </a:lnTo>
                    <a:lnTo>
                      <a:pt x="384" y="98"/>
                    </a:lnTo>
                    <a:lnTo>
                      <a:pt x="409" y="92"/>
                    </a:lnTo>
                    <a:lnTo>
                      <a:pt x="434" y="87"/>
                    </a:lnTo>
                    <a:lnTo>
                      <a:pt x="460" y="81"/>
                    </a:lnTo>
                    <a:lnTo>
                      <a:pt x="487" y="73"/>
                    </a:lnTo>
                    <a:lnTo>
                      <a:pt x="514" y="67"/>
                    </a:lnTo>
                    <a:lnTo>
                      <a:pt x="539" y="62"/>
                    </a:lnTo>
                    <a:lnTo>
                      <a:pt x="564" y="56"/>
                    </a:lnTo>
                    <a:lnTo>
                      <a:pt x="587" y="52"/>
                    </a:lnTo>
                    <a:lnTo>
                      <a:pt x="610" y="46"/>
                    </a:lnTo>
                    <a:lnTo>
                      <a:pt x="633" y="43"/>
                    </a:lnTo>
                    <a:lnTo>
                      <a:pt x="656" y="39"/>
                    </a:lnTo>
                    <a:lnTo>
                      <a:pt x="677" y="35"/>
                    </a:lnTo>
                    <a:lnTo>
                      <a:pt x="697" y="31"/>
                    </a:lnTo>
                    <a:lnTo>
                      <a:pt x="718" y="27"/>
                    </a:lnTo>
                    <a:lnTo>
                      <a:pt x="737" y="23"/>
                    </a:lnTo>
                    <a:lnTo>
                      <a:pt x="754" y="19"/>
                    </a:lnTo>
                    <a:lnTo>
                      <a:pt x="773" y="18"/>
                    </a:lnTo>
                    <a:lnTo>
                      <a:pt x="791" y="16"/>
                    </a:lnTo>
                    <a:lnTo>
                      <a:pt x="806" y="12"/>
                    </a:lnTo>
                    <a:lnTo>
                      <a:pt x="821" y="10"/>
                    </a:lnTo>
                    <a:lnTo>
                      <a:pt x="837" y="8"/>
                    </a:lnTo>
                    <a:lnTo>
                      <a:pt x="852" y="6"/>
                    </a:lnTo>
                    <a:lnTo>
                      <a:pt x="865" y="6"/>
                    </a:lnTo>
                    <a:lnTo>
                      <a:pt x="879" y="4"/>
                    </a:lnTo>
                    <a:lnTo>
                      <a:pt x="890" y="2"/>
                    </a:lnTo>
                    <a:lnTo>
                      <a:pt x="902" y="2"/>
                    </a:lnTo>
                    <a:lnTo>
                      <a:pt x="913" y="2"/>
                    </a:lnTo>
                    <a:lnTo>
                      <a:pt x="925" y="2"/>
                    </a:lnTo>
                    <a:lnTo>
                      <a:pt x="934" y="0"/>
                    </a:lnTo>
                    <a:lnTo>
                      <a:pt x="944" y="0"/>
                    </a:lnTo>
                    <a:lnTo>
                      <a:pt x="952" y="0"/>
                    </a:lnTo>
                    <a:lnTo>
                      <a:pt x="959" y="2"/>
                    </a:lnTo>
                    <a:lnTo>
                      <a:pt x="967" y="2"/>
                    </a:lnTo>
                    <a:lnTo>
                      <a:pt x="973" y="2"/>
                    </a:lnTo>
                    <a:lnTo>
                      <a:pt x="979" y="4"/>
                    </a:lnTo>
                    <a:lnTo>
                      <a:pt x="990" y="8"/>
                    </a:lnTo>
                    <a:lnTo>
                      <a:pt x="1000" y="10"/>
                    </a:lnTo>
                    <a:lnTo>
                      <a:pt x="1009" y="14"/>
                    </a:lnTo>
                    <a:lnTo>
                      <a:pt x="1019" y="18"/>
                    </a:lnTo>
                    <a:lnTo>
                      <a:pt x="1027" y="21"/>
                    </a:lnTo>
                    <a:lnTo>
                      <a:pt x="1034" y="25"/>
                    </a:lnTo>
                    <a:lnTo>
                      <a:pt x="1040" y="29"/>
                    </a:lnTo>
                    <a:lnTo>
                      <a:pt x="1046" y="33"/>
                    </a:lnTo>
                    <a:lnTo>
                      <a:pt x="1052" y="37"/>
                    </a:lnTo>
                    <a:lnTo>
                      <a:pt x="1057" y="39"/>
                    </a:lnTo>
                    <a:lnTo>
                      <a:pt x="1061" y="43"/>
                    </a:lnTo>
                    <a:lnTo>
                      <a:pt x="1063" y="46"/>
                    </a:lnTo>
                    <a:lnTo>
                      <a:pt x="1065" y="50"/>
                    </a:lnTo>
                    <a:lnTo>
                      <a:pt x="1067" y="54"/>
                    </a:lnTo>
                    <a:lnTo>
                      <a:pt x="1069" y="58"/>
                    </a:lnTo>
                    <a:lnTo>
                      <a:pt x="1069" y="62"/>
                    </a:lnTo>
                    <a:lnTo>
                      <a:pt x="1069" y="64"/>
                    </a:lnTo>
                    <a:lnTo>
                      <a:pt x="1067" y="66"/>
                    </a:lnTo>
                    <a:lnTo>
                      <a:pt x="1065" y="67"/>
                    </a:lnTo>
                    <a:lnTo>
                      <a:pt x="1063" y="69"/>
                    </a:lnTo>
                    <a:lnTo>
                      <a:pt x="1059" y="71"/>
                    </a:lnTo>
                    <a:lnTo>
                      <a:pt x="1053" y="73"/>
                    </a:lnTo>
                    <a:lnTo>
                      <a:pt x="1050" y="77"/>
                    </a:lnTo>
                    <a:lnTo>
                      <a:pt x="1042" y="79"/>
                    </a:lnTo>
                    <a:lnTo>
                      <a:pt x="1036" y="81"/>
                    </a:lnTo>
                    <a:lnTo>
                      <a:pt x="1029" y="85"/>
                    </a:lnTo>
                    <a:lnTo>
                      <a:pt x="1019" y="87"/>
                    </a:lnTo>
                    <a:lnTo>
                      <a:pt x="1009" y="90"/>
                    </a:lnTo>
                    <a:lnTo>
                      <a:pt x="1000" y="94"/>
                    </a:lnTo>
                    <a:lnTo>
                      <a:pt x="988" y="96"/>
                    </a:lnTo>
                    <a:lnTo>
                      <a:pt x="977" y="100"/>
                    </a:lnTo>
                    <a:lnTo>
                      <a:pt x="963" y="104"/>
                    </a:lnTo>
                    <a:lnTo>
                      <a:pt x="950" y="108"/>
                    </a:lnTo>
                    <a:lnTo>
                      <a:pt x="934" y="112"/>
                    </a:lnTo>
                    <a:lnTo>
                      <a:pt x="919" y="115"/>
                    </a:lnTo>
                    <a:lnTo>
                      <a:pt x="904" y="119"/>
                    </a:lnTo>
                    <a:lnTo>
                      <a:pt x="886" y="123"/>
                    </a:lnTo>
                    <a:lnTo>
                      <a:pt x="867" y="127"/>
                    </a:lnTo>
                    <a:lnTo>
                      <a:pt x="848" y="131"/>
                    </a:lnTo>
                    <a:lnTo>
                      <a:pt x="829" y="137"/>
                    </a:lnTo>
                    <a:lnTo>
                      <a:pt x="808" y="140"/>
                    </a:lnTo>
                    <a:lnTo>
                      <a:pt x="787" y="146"/>
                    </a:lnTo>
                    <a:lnTo>
                      <a:pt x="766" y="150"/>
                    </a:lnTo>
                    <a:lnTo>
                      <a:pt x="743" y="156"/>
                    </a:lnTo>
                    <a:lnTo>
                      <a:pt x="718" y="160"/>
                    </a:lnTo>
                    <a:lnTo>
                      <a:pt x="693" y="165"/>
                    </a:lnTo>
                    <a:lnTo>
                      <a:pt x="668" y="171"/>
                    </a:lnTo>
                    <a:lnTo>
                      <a:pt x="641" y="177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1" name="Text Box 64"/>
            <p:cNvSpPr/>
            <p:nvPr/>
          </p:nvSpPr>
          <p:spPr>
            <a:xfrm>
              <a:off x="4648320" y="152388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十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amond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407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407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408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408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408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408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408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408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4090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4090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1000"/>
                                        <p:tgtEl>
                                          <p:spTgt spid="4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4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6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9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10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10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8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10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10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4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408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408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跟死了人有关的事：～事。～礼。～亡。～假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。～乱。治～。吊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à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丢掉，失去：～失。～生。～偶。～胆。～气颓～（情绪低落，精神委靡）。懊～。沮～。～权辱国。～尽天良（良心全部失去了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3" name="Picture 4" descr="20050928160158958"/>
          <p:cNvPicPr/>
          <p:nvPr/>
        </p:nvPicPr>
        <p:blipFill>
          <a:blip r:embed="rId1"/>
          <a:stretch/>
        </p:blipFill>
        <p:spPr>
          <a:xfrm>
            <a:off x="7165800" y="4581360"/>
            <a:ext cx="1978200" cy="2276640"/>
          </a:xfrm>
          <a:prstGeom prst="rect">
            <a:avLst/>
          </a:prstGeom>
          <a:ln w="0">
            <a:noFill/>
          </a:ln>
        </p:spPr>
      </p:pic>
      <p:sp>
        <p:nvSpPr>
          <p:cNvPr id="4114" name="TextBox 1"/>
          <p:cNvSpPr/>
          <p:nvPr/>
        </p:nvSpPr>
        <p:spPr>
          <a:xfrm>
            <a:off x="2340720" y="47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矩形 8"/>
          <p:cNvSpPr/>
          <p:nvPr/>
        </p:nvSpPr>
        <p:spPr>
          <a:xfrm>
            <a:off x="4255200" y="4381560"/>
            <a:ext cx="33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ā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丧事）（丧亡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矩形 9"/>
          <p:cNvSpPr/>
          <p:nvPr/>
        </p:nvSpPr>
        <p:spPr>
          <a:xfrm>
            <a:off x="4326840" y="548964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àng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丧失）（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丧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7" name="Picture 3" descr="200510101930294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005360"/>
            <a:ext cx="2235240" cy="2852640"/>
          </a:xfrm>
          <a:prstGeom prst="rect">
            <a:avLst/>
          </a:prstGeom>
          <a:ln w="0">
            <a:noFill/>
          </a:ln>
        </p:spPr>
      </p:pic>
      <p:sp>
        <p:nvSpPr>
          <p:cNvPr id="4118" name="左大括号 10"/>
          <p:cNvSpPr/>
          <p:nvPr/>
        </p:nvSpPr>
        <p:spPr>
          <a:xfrm>
            <a:off x="2932200" y="4381560"/>
            <a:ext cx="415800" cy="1560600"/>
          </a:xfrm>
          <a:custGeom>
            <a:avLst/>
            <a:gdLst>
              <a:gd name="textAreaLeft" fmla="*/ 265680 w 415800"/>
              <a:gd name="textAreaRight" fmla="*/ 416160 w 415800"/>
              <a:gd name="textAreaTop" fmla="*/ 10800 h 1560600"/>
              <a:gd name="textAreaBottom" fmla="*/ 154980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79"/>
                </a:cubicBezTo>
                <a:lnTo>
                  <a:pt x="10800" y="10321"/>
                </a:lnTo>
                <a:cubicBezTo>
                  <a:pt x="10800" y="10561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79"/>
                </a:cubicBezTo>
                <a:lnTo>
                  <a:pt x="10800" y="21121"/>
                </a:lnTo>
                <a:cubicBezTo>
                  <a:pt x="10800" y="213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9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20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121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22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23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124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125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Text Box 12"/>
          <p:cNvSpPr/>
          <p:nvPr/>
        </p:nvSpPr>
        <p:spPr>
          <a:xfrm>
            <a:off x="1346040" y="958680"/>
            <a:ext cx="28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í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Text Box 13"/>
          <p:cNvSpPr/>
          <p:nvPr/>
        </p:nvSpPr>
        <p:spPr>
          <a:xfrm>
            <a:off x="472428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Text Box 14"/>
          <p:cNvSpPr/>
          <p:nvPr/>
        </p:nvSpPr>
        <p:spPr>
          <a:xfrm>
            <a:off x="4724280" y="32767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下 停留     停放 停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Text Box 15"/>
          <p:cNvSpPr/>
          <p:nvPr/>
        </p:nvSpPr>
        <p:spPr>
          <a:xfrm>
            <a:off x="609480" y="5105520"/>
            <a:ext cx="800100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校车开到学校门口的时候停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3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134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7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138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Freeform 41"/>
          <p:cNvSpPr/>
          <p:nvPr/>
        </p:nvSpPr>
        <p:spPr>
          <a:xfrm>
            <a:off x="1990800" y="2455920"/>
            <a:ext cx="601560" cy="888840"/>
          </a:xfrm>
          <a:custGeom>
            <a:avLst/>
            <a:gdLst>
              <a:gd name="textAreaLeft" fmla="*/ 0 w 601560"/>
              <a:gd name="textAreaRight" fmla="*/ 601920 w 601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758" h="1121">
                <a:moveTo>
                  <a:pt x="408" y="724"/>
                </a:moveTo>
                <a:lnTo>
                  <a:pt x="391" y="747"/>
                </a:lnTo>
                <a:lnTo>
                  <a:pt x="374" y="770"/>
                </a:lnTo>
                <a:lnTo>
                  <a:pt x="356" y="793"/>
                </a:lnTo>
                <a:lnTo>
                  <a:pt x="339" y="816"/>
                </a:lnTo>
                <a:lnTo>
                  <a:pt x="322" y="837"/>
                </a:lnTo>
                <a:lnTo>
                  <a:pt x="307" y="858"/>
                </a:lnTo>
                <a:lnTo>
                  <a:pt x="289" y="877"/>
                </a:lnTo>
                <a:lnTo>
                  <a:pt x="272" y="896"/>
                </a:lnTo>
                <a:lnTo>
                  <a:pt x="257" y="915"/>
                </a:lnTo>
                <a:lnTo>
                  <a:pt x="239" y="935"/>
                </a:lnTo>
                <a:lnTo>
                  <a:pt x="224" y="952"/>
                </a:lnTo>
                <a:lnTo>
                  <a:pt x="207" y="967"/>
                </a:lnTo>
                <a:lnTo>
                  <a:pt x="191" y="985"/>
                </a:lnTo>
                <a:lnTo>
                  <a:pt x="176" y="1000"/>
                </a:lnTo>
                <a:lnTo>
                  <a:pt x="161" y="1013"/>
                </a:lnTo>
                <a:lnTo>
                  <a:pt x="143" y="1027"/>
                </a:lnTo>
                <a:lnTo>
                  <a:pt x="128" y="1040"/>
                </a:lnTo>
                <a:lnTo>
                  <a:pt x="115" y="1054"/>
                </a:lnTo>
                <a:lnTo>
                  <a:pt x="101" y="1065"/>
                </a:lnTo>
                <a:lnTo>
                  <a:pt x="88" y="1077"/>
                </a:lnTo>
                <a:lnTo>
                  <a:pt x="76" y="1086"/>
                </a:lnTo>
                <a:lnTo>
                  <a:pt x="65" y="1094"/>
                </a:lnTo>
                <a:lnTo>
                  <a:pt x="55" y="1102"/>
                </a:lnTo>
                <a:lnTo>
                  <a:pt x="46" y="1107"/>
                </a:lnTo>
                <a:lnTo>
                  <a:pt x="36" y="1113"/>
                </a:lnTo>
                <a:lnTo>
                  <a:pt x="28" y="1117"/>
                </a:lnTo>
                <a:lnTo>
                  <a:pt x="23" y="1119"/>
                </a:lnTo>
                <a:lnTo>
                  <a:pt x="17" y="1121"/>
                </a:lnTo>
                <a:lnTo>
                  <a:pt x="11" y="1121"/>
                </a:lnTo>
                <a:lnTo>
                  <a:pt x="7" y="1121"/>
                </a:lnTo>
                <a:lnTo>
                  <a:pt x="5" y="1119"/>
                </a:lnTo>
                <a:lnTo>
                  <a:pt x="3" y="1115"/>
                </a:lnTo>
                <a:lnTo>
                  <a:pt x="1" y="1113"/>
                </a:lnTo>
                <a:lnTo>
                  <a:pt x="0" y="1109"/>
                </a:lnTo>
                <a:lnTo>
                  <a:pt x="0" y="1105"/>
                </a:lnTo>
                <a:lnTo>
                  <a:pt x="1" y="1100"/>
                </a:lnTo>
                <a:lnTo>
                  <a:pt x="3" y="1096"/>
                </a:lnTo>
                <a:lnTo>
                  <a:pt x="5" y="1088"/>
                </a:lnTo>
                <a:lnTo>
                  <a:pt x="7" y="1081"/>
                </a:lnTo>
                <a:lnTo>
                  <a:pt x="13" y="1073"/>
                </a:lnTo>
                <a:lnTo>
                  <a:pt x="17" y="1065"/>
                </a:lnTo>
                <a:lnTo>
                  <a:pt x="23" y="1056"/>
                </a:lnTo>
                <a:lnTo>
                  <a:pt x="30" y="1046"/>
                </a:lnTo>
                <a:lnTo>
                  <a:pt x="38" y="1034"/>
                </a:lnTo>
                <a:lnTo>
                  <a:pt x="46" y="1025"/>
                </a:lnTo>
                <a:lnTo>
                  <a:pt x="55" y="1013"/>
                </a:lnTo>
                <a:lnTo>
                  <a:pt x="67" y="1000"/>
                </a:lnTo>
                <a:lnTo>
                  <a:pt x="78" y="988"/>
                </a:lnTo>
                <a:lnTo>
                  <a:pt x="90" y="973"/>
                </a:lnTo>
                <a:lnTo>
                  <a:pt x="103" y="960"/>
                </a:lnTo>
                <a:lnTo>
                  <a:pt x="117" y="944"/>
                </a:lnTo>
                <a:lnTo>
                  <a:pt x="130" y="927"/>
                </a:lnTo>
                <a:lnTo>
                  <a:pt x="143" y="910"/>
                </a:lnTo>
                <a:lnTo>
                  <a:pt x="157" y="891"/>
                </a:lnTo>
                <a:lnTo>
                  <a:pt x="172" y="869"/>
                </a:lnTo>
                <a:lnTo>
                  <a:pt x="188" y="848"/>
                </a:lnTo>
                <a:lnTo>
                  <a:pt x="203" y="825"/>
                </a:lnTo>
                <a:lnTo>
                  <a:pt x="218" y="802"/>
                </a:lnTo>
                <a:lnTo>
                  <a:pt x="234" y="777"/>
                </a:lnTo>
                <a:lnTo>
                  <a:pt x="251" y="750"/>
                </a:lnTo>
                <a:lnTo>
                  <a:pt x="268" y="724"/>
                </a:lnTo>
                <a:lnTo>
                  <a:pt x="285" y="695"/>
                </a:lnTo>
                <a:lnTo>
                  <a:pt x="305" y="666"/>
                </a:lnTo>
                <a:lnTo>
                  <a:pt x="324" y="635"/>
                </a:lnTo>
                <a:lnTo>
                  <a:pt x="341" y="605"/>
                </a:lnTo>
                <a:lnTo>
                  <a:pt x="360" y="574"/>
                </a:lnTo>
                <a:lnTo>
                  <a:pt x="378" y="545"/>
                </a:lnTo>
                <a:lnTo>
                  <a:pt x="393" y="516"/>
                </a:lnTo>
                <a:lnTo>
                  <a:pt x="410" y="489"/>
                </a:lnTo>
                <a:lnTo>
                  <a:pt x="426" y="463"/>
                </a:lnTo>
                <a:lnTo>
                  <a:pt x="439" y="438"/>
                </a:lnTo>
                <a:lnTo>
                  <a:pt x="452" y="411"/>
                </a:lnTo>
                <a:lnTo>
                  <a:pt x="466" y="388"/>
                </a:lnTo>
                <a:lnTo>
                  <a:pt x="477" y="363"/>
                </a:lnTo>
                <a:lnTo>
                  <a:pt x="491" y="340"/>
                </a:lnTo>
                <a:lnTo>
                  <a:pt x="500" y="319"/>
                </a:lnTo>
                <a:lnTo>
                  <a:pt x="512" y="296"/>
                </a:lnTo>
                <a:lnTo>
                  <a:pt x="522" y="275"/>
                </a:lnTo>
                <a:lnTo>
                  <a:pt x="531" y="253"/>
                </a:lnTo>
                <a:lnTo>
                  <a:pt x="541" y="232"/>
                </a:lnTo>
                <a:lnTo>
                  <a:pt x="546" y="213"/>
                </a:lnTo>
                <a:lnTo>
                  <a:pt x="552" y="194"/>
                </a:lnTo>
                <a:lnTo>
                  <a:pt x="558" y="177"/>
                </a:lnTo>
                <a:lnTo>
                  <a:pt x="564" y="161"/>
                </a:lnTo>
                <a:lnTo>
                  <a:pt x="568" y="146"/>
                </a:lnTo>
                <a:lnTo>
                  <a:pt x="571" y="132"/>
                </a:lnTo>
                <a:lnTo>
                  <a:pt x="573" y="119"/>
                </a:lnTo>
                <a:lnTo>
                  <a:pt x="575" y="108"/>
                </a:lnTo>
                <a:lnTo>
                  <a:pt x="577" y="96"/>
                </a:lnTo>
                <a:lnTo>
                  <a:pt x="577" y="86"/>
                </a:lnTo>
                <a:lnTo>
                  <a:pt x="577" y="77"/>
                </a:lnTo>
                <a:lnTo>
                  <a:pt x="577" y="69"/>
                </a:lnTo>
                <a:lnTo>
                  <a:pt x="575" y="61"/>
                </a:lnTo>
                <a:lnTo>
                  <a:pt x="573" y="56"/>
                </a:lnTo>
                <a:lnTo>
                  <a:pt x="571" y="52"/>
                </a:lnTo>
                <a:lnTo>
                  <a:pt x="569" y="46"/>
                </a:lnTo>
                <a:lnTo>
                  <a:pt x="562" y="42"/>
                </a:lnTo>
                <a:lnTo>
                  <a:pt x="558" y="38"/>
                </a:lnTo>
                <a:lnTo>
                  <a:pt x="554" y="33"/>
                </a:lnTo>
                <a:lnTo>
                  <a:pt x="554" y="27"/>
                </a:lnTo>
                <a:lnTo>
                  <a:pt x="552" y="21"/>
                </a:lnTo>
                <a:lnTo>
                  <a:pt x="554" y="17"/>
                </a:lnTo>
                <a:lnTo>
                  <a:pt x="556" y="12"/>
                </a:lnTo>
                <a:lnTo>
                  <a:pt x="560" y="8"/>
                </a:lnTo>
                <a:lnTo>
                  <a:pt x="564" y="4"/>
                </a:lnTo>
                <a:lnTo>
                  <a:pt x="569" y="2"/>
                </a:lnTo>
                <a:lnTo>
                  <a:pt x="577" y="0"/>
                </a:lnTo>
                <a:lnTo>
                  <a:pt x="587" y="0"/>
                </a:lnTo>
                <a:lnTo>
                  <a:pt x="596" y="0"/>
                </a:lnTo>
                <a:lnTo>
                  <a:pt x="608" y="2"/>
                </a:lnTo>
                <a:lnTo>
                  <a:pt x="621" y="4"/>
                </a:lnTo>
                <a:lnTo>
                  <a:pt x="635" y="8"/>
                </a:lnTo>
                <a:lnTo>
                  <a:pt x="646" y="12"/>
                </a:lnTo>
                <a:lnTo>
                  <a:pt x="656" y="17"/>
                </a:lnTo>
                <a:lnTo>
                  <a:pt x="667" y="23"/>
                </a:lnTo>
                <a:lnTo>
                  <a:pt x="677" y="29"/>
                </a:lnTo>
                <a:lnTo>
                  <a:pt x="688" y="37"/>
                </a:lnTo>
                <a:lnTo>
                  <a:pt x="698" y="46"/>
                </a:lnTo>
                <a:lnTo>
                  <a:pt x="710" y="56"/>
                </a:lnTo>
                <a:lnTo>
                  <a:pt x="719" y="67"/>
                </a:lnTo>
                <a:lnTo>
                  <a:pt x="729" y="77"/>
                </a:lnTo>
                <a:lnTo>
                  <a:pt x="738" y="86"/>
                </a:lnTo>
                <a:lnTo>
                  <a:pt x="744" y="96"/>
                </a:lnTo>
                <a:lnTo>
                  <a:pt x="750" y="104"/>
                </a:lnTo>
                <a:lnTo>
                  <a:pt x="754" y="113"/>
                </a:lnTo>
                <a:lnTo>
                  <a:pt x="756" y="121"/>
                </a:lnTo>
                <a:lnTo>
                  <a:pt x="758" y="127"/>
                </a:lnTo>
                <a:lnTo>
                  <a:pt x="758" y="134"/>
                </a:lnTo>
                <a:lnTo>
                  <a:pt x="758" y="140"/>
                </a:lnTo>
                <a:lnTo>
                  <a:pt x="756" y="148"/>
                </a:lnTo>
                <a:lnTo>
                  <a:pt x="754" y="156"/>
                </a:lnTo>
                <a:lnTo>
                  <a:pt x="752" y="165"/>
                </a:lnTo>
                <a:lnTo>
                  <a:pt x="748" y="175"/>
                </a:lnTo>
                <a:lnTo>
                  <a:pt x="744" y="184"/>
                </a:lnTo>
                <a:lnTo>
                  <a:pt x="740" y="196"/>
                </a:lnTo>
                <a:lnTo>
                  <a:pt x="735" y="207"/>
                </a:lnTo>
                <a:lnTo>
                  <a:pt x="729" y="221"/>
                </a:lnTo>
                <a:lnTo>
                  <a:pt x="721" y="236"/>
                </a:lnTo>
                <a:lnTo>
                  <a:pt x="713" y="251"/>
                </a:lnTo>
                <a:lnTo>
                  <a:pt x="706" y="267"/>
                </a:lnTo>
                <a:lnTo>
                  <a:pt x="696" y="284"/>
                </a:lnTo>
                <a:lnTo>
                  <a:pt x="687" y="301"/>
                </a:lnTo>
                <a:lnTo>
                  <a:pt x="675" y="321"/>
                </a:lnTo>
                <a:lnTo>
                  <a:pt x="664" y="342"/>
                </a:lnTo>
                <a:lnTo>
                  <a:pt x="650" y="363"/>
                </a:lnTo>
                <a:lnTo>
                  <a:pt x="639" y="386"/>
                </a:lnTo>
                <a:lnTo>
                  <a:pt x="625" y="409"/>
                </a:lnTo>
                <a:lnTo>
                  <a:pt x="610" y="432"/>
                </a:lnTo>
                <a:lnTo>
                  <a:pt x="596" y="455"/>
                </a:lnTo>
                <a:lnTo>
                  <a:pt x="581" y="478"/>
                </a:lnTo>
                <a:lnTo>
                  <a:pt x="550" y="524"/>
                </a:lnTo>
                <a:lnTo>
                  <a:pt x="518" y="572"/>
                </a:lnTo>
                <a:lnTo>
                  <a:pt x="481" y="622"/>
                </a:lnTo>
                <a:lnTo>
                  <a:pt x="447" y="672"/>
                </a:lnTo>
                <a:lnTo>
                  <a:pt x="408" y="72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Freeform 42"/>
          <p:cNvSpPr/>
          <p:nvPr/>
        </p:nvSpPr>
        <p:spPr>
          <a:xfrm>
            <a:off x="2335320" y="2881440"/>
            <a:ext cx="142920" cy="1158840"/>
          </a:xfrm>
          <a:custGeom>
            <a:avLst/>
            <a:gdLst>
              <a:gd name="textAreaLeft" fmla="*/ 0 w 142920"/>
              <a:gd name="textAreaRight" fmla="*/ 143280 w 14292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181" h="1461">
                <a:moveTo>
                  <a:pt x="173" y="146"/>
                </a:moveTo>
                <a:lnTo>
                  <a:pt x="175" y="150"/>
                </a:lnTo>
                <a:lnTo>
                  <a:pt x="175" y="154"/>
                </a:lnTo>
                <a:lnTo>
                  <a:pt x="175" y="158"/>
                </a:lnTo>
                <a:lnTo>
                  <a:pt x="177" y="162"/>
                </a:lnTo>
                <a:lnTo>
                  <a:pt x="177" y="167"/>
                </a:lnTo>
                <a:lnTo>
                  <a:pt x="177" y="173"/>
                </a:lnTo>
                <a:lnTo>
                  <a:pt x="179" y="181"/>
                </a:lnTo>
                <a:lnTo>
                  <a:pt x="179" y="187"/>
                </a:lnTo>
                <a:lnTo>
                  <a:pt x="179" y="194"/>
                </a:lnTo>
                <a:lnTo>
                  <a:pt x="179" y="204"/>
                </a:lnTo>
                <a:lnTo>
                  <a:pt x="179" y="212"/>
                </a:lnTo>
                <a:lnTo>
                  <a:pt x="181" y="221"/>
                </a:lnTo>
                <a:lnTo>
                  <a:pt x="181" y="233"/>
                </a:lnTo>
                <a:lnTo>
                  <a:pt x="181" y="242"/>
                </a:lnTo>
                <a:lnTo>
                  <a:pt x="181" y="254"/>
                </a:lnTo>
                <a:lnTo>
                  <a:pt x="181" y="265"/>
                </a:lnTo>
                <a:lnTo>
                  <a:pt x="181" y="279"/>
                </a:lnTo>
                <a:lnTo>
                  <a:pt x="181" y="292"/>
                </a:lnTo>
                <a:lnTo>
                  <a:pt x="181" y="306"/>
                </a:lnTo>
                <a:lnTo>
                  <a:pt x="181" y="319"/>
                </a:lnTo>
                <a:lnTo>
                  <a:pt x="179" y="334"/>
                </a:lnTo>
                <a:lnTo>
                  <a:pt x="179" y="350"/>
                </a:lnTo>
                <a:lnTo>
                  <a:pt x="179" y="365"/>
                </a:lnTo>
                <a:lnTo>
                  <a:pt x="179" y="382"/>
                </a:lnTo>
                <a:lnTo>
                  <a:pt x="179" y="400"/>
                </a:lnTo>
                <a:lnTo>
                  <a:pt x="177" y="417"/>
                </a:lnTo>
                <a:lnTo>
                  <a:pt x="177" y="436"/>
                </a:lnTo>
                <a:lnTo>
                  <a:pt x="177" y="455"/>
                </a:lnTo>
                <a:lnTo>
                  <a:pt x="175" y="476"/>
                </a:lnTo>
                <a:lnTo>
                  <a:pt x="175" y="496"/>
                </a:lnTo>
                <a:lnTo>
                  <a:pt x="175" y="517"/>
                </a:lnTo>
                <a:lnTo>
                  <a:pt x="173" y="540"/>
                </a:lnTo>
                <a:lnTo>
                  <a:pt x="171" y="582"/>
                </a:lnTo>
                <a:lnTo>
                  <a:pt x="169" y="624"/>
                </a:lnTo>
                <a:lnTo>
                  <a:pt x="169" y="664"/>
                </a:lnTo>
                <a:lnTo>
                  <a:pt x="167" y="705"/>
                </a:lnTo>
                <a:lnTo>
                  <a:pt x="165" y="741"/>
                </a:lnTo>
                <a:lnTo>
                  <a:pt x="163" y="778"/>
                </a:lnTo>
                <a:lnTo>
                  <a:pt x="161" y="812"/>
                </a:lnTo>
                <a:lnTo>
                  <a:pt x="161" y="847"/>
                </a:lnTo>
                <a:lnTo>
                  <a:pt x="160" y="877"/>
                </a:lnTo>
                <a:lnTo>
                  <a:pt x="158" y="908"/>
                </a:lnTo>
                <a:lnTo>
                  <a:pt x="158" y="937"/>
                </a:lnTo>
                <a:lnTo>
                  <a:pt x="156" y="964"/>
                </a:lnTo>
                <a:lnTo>
                  <a:pt x="156" y="991"/>
                </a:lnTo>
                <a:lnTo>
                  <a:pt x="156" y="1014"/>
                </a:lnTo>
                <a:lnTo>
                  <a:pt x="154" y="1037"/>
                </a:lnTo>
                <a:lnTo>
                  <a:pt x="154" y="1058"/>
                </a:lnTo>
                <a:lnTo>
                  <a:pt x="152" y="1098"/>
                </a:lnTo>
                <a:lnTo>
                  <a:pt x="148" y="1137"/>
                </a:lnTo>
                <a:lnTo>
                  <a:pt x="144" y="1175"/>
                </a:lnTo>
                <a:lnTo>
                  <a:pt x="138" y="1209"/>
                </a:lnTo>
                <a:lnTo>
                  <a:pt x="136" y="1227"/>
                </a:lnTo>
                <a:lnTo>
                  <a:pt x="135" y="1244"/>
                </a:lnTo>
                <a:lnTo>
                  <a:pt x="133" y="1259"/>
                </a:lnTo>
                <a:lnTo>
                  <a:pt x="129" y="1277"/>
                </a:lnTo>
                <a:lnTo>
                  <a:pt x="127" y="1290"/>
                </a:lnTo>
                <a:lnTo>
                  <a:pt x="123" y="1305"/>
                </a:lnTo>
                <a:lnTo>
                  <a:pt x="121" y="1319"/>
                </a:lnTo>
                <a:lnTo>
                  <a:pt x="117" y="1332"/>
                </a:lnTo>
                <a:lnTo>
                  <a:pt x="112" y="1348"/>
                </a:lnTo>
                <a:lnTo>
                  <a:pt x="108" y="1361"/>
                </a:lnTo>
                <a:lnTo>
                  <a:pt x="102" y="1373"/>
                </a:lnTo>
                <a:lnTo>
                  <a:pt x="98" y="1384"/>
                </a:lnTo>
                <a:lnTo>
                  <a:pt x="92" y="1396"/>
                </a:lnTo>
                <a:lnTo>
                  <a:pt x="89" y="1405"/>
                </a:lnTo>
                <a:lnTo>
                  <a:pt x="85" y="1415"/>
                </a:lnTo>
                <a:lnTo>
                  <a:pt x="81" y="1423"/>
                </a:lnTo>
                <a:lnTo>
                  <a:pt x="79" y="1430"/>
                </a:lnTo>
                <a:lnTo>
                  <a:pt x="75" y="1436"/>
                </a:lnTo>
                <a:lnTo>
                  <a:pt x="71" y="1442"/>
                </a:lnTo>
                <a:lnTo>
                  <a:pt x="69" y="1447"/>
                </a:lnTo>
                <a:lnTo>
                  <a:pt x="67" y="1451"/>
                </a:lnTo>
                <a:lnTo>
                  <a:pt x="64" y="1455"/>
                </a:lnTo>
                <a:lnTo>
                  <a:pt x="62" y="1457"/>
                </a:lnTo>
                <a:lnTo>
                  <a:pt x="60" y="1461"/>
                </a:lnTo>
                <a:lnTo>
                  <a:pt x="58" y="1459"/>
                </a:lnTo>
                <a:lnTo>
                  <a:pt x="56" y="1459"/>
                </a:lnTo>
                <a:lnTo>
                  <a:pt x="54" y="1457"/>
                </a:lnTo>
                <a:lnTo>
                  <a:pt x="52" y="1455"/>
                </a:lnTo>
                <a:lnTo>
                  <a:pt x="48" y="1451"/>
                </a:lnTo>
                <a:lnTo>
                  <a:pt x="46" y="1447"/>
                </a:lnTo>
                <a:lnTo>
                  <a:pt x="44" y="1444"/>
                </a:lnTo>
                <a:lnTo>
                  <a:pt x="41" y="1438"/>
                </a:lnTo>
                <a:lnTo>
                  <a:pt x="39" y="1432"/>
                </a:lnTo>
                <a:lnTo>
                  <a:pt x="37" y="1426"/>
                </a:lnTo>
                <a:lnTo>
                  <a:pt x="33" y="1419"/>
                </a:lnTo>
                <a:lnTo>
                  <a:pt x="31" y="1411"/>
                </a:lnTo>
                <a:lnTo>
                  <a:pt x="29" y="1401"/>
                </a:lnTo>
                <a:lnTo>
                  <a:pt x="27" y="1392"/>
                </a:lnTo>
                <a:lnTo>
                  <a:pt x="23" y="1382"/>
                </a:lnTo>
                <a:lnTo>
                  <a:pt x="23" y="1373"/>
                </a:lnTo>
                <a:lnTo>
                  <a:pt x="16" y="1352"/>
                </a:lnTo>
                <a:lnTo>
                  <a:pt x="10" y="1330"/>
                </a:lnTo>
                <a:lnTo>
                  <a:pt x="6" y="1313"/>
                </a:lnTo>
                <a:lnTo>
                  <a:pt x="2" y="1298"/>
                </a:lnTo>
                <a:lnTo>
                  <a:pt x="0" y="1284"/>
                </a:lnTo>
                <a:lnTo>
                  <a:pt x="0" y="1273"/>
                </a:lnTo>
                <a:lnTo>
                  <a:pt x="0" y="1263"/>
                </a:lnTo>
                <a:lnTo>
                  <a:pt x="4" y="1254"/>
                </a:lnTo>
                <a:lnTo>
                  <a:pt x="4" y="1250"/>
                </a:lnTo>
                <a:lnTo>
                  <a:pt x="4" y="1246"/>
                </a:lnTo>
                <a:lnTo>
                  <a:pt x="4" y="1240"/>
                </a:lnTo>
                <a:lnTo>
                  <a:pt x="6" y="1234"/>
                </a:lnTo>
                <a:lnTo>
                  <a:pt x="6" y="1227"/>
                </a:lnTo>
                <a:lnTo>
                  <a:pt x="8" y="1219"/>
                </a:lnTo>
                <a:lnTo>
                  <a:pt x="8" y="1211"/>
                </a:lnTo>
                <a:lnTo>
                  <a:pt x="10" y="1202"/>
                </a:lnTo>
                <a:lnTo>
                  <a:pt x="12" y="1192"/>
                </a:lnTo>
                <a:lnTo>
                  <a:pt x="12" y="1183"/>
                </a:lnTo>
                <a:lnTo>
                  <a:pt x="14" y="1171"/>
                </a:lnTo>
                <a:lnTo>
                  <a:pt x="16" y="1160"/>
                </a:lnTo>
                <a:lnTo>
                  <a:pt x="17" y="1148"/>
                </a:lnTo>
                <a:lnTo>
                  <a:pt x="19" y="1135"/>
                </a:lnTo>
                <a:lnTo>
                  <a:pt x="21" y="1121"/>
                </a:lnTo>
                <a:lnTo>
                  <a:pt x="23" y="1108"/>
                </a:lnTo>
                <a:lnTo>
                  <a:pt x="23" y="1094"/>
                </a:lnTo>
                <a:lnTo>
                  <a:pt x="27" y="1079"/>
                </a:lnTo>
                <a:lnTo>
                  <a:pt x="29" y="1062"/>
                </a:lnTo>
                <a:lnTo>
                  <a:pt x="31" y="1044"/>
                </a:lnTo>
                <a:lnTo>
                  <a:pt x="33" y="1025"/>
                </a:lnTo>
                <a:lnTo>
                  <a:pt x="37" y="1006"/>
                </a:lnTo>
                <a:lnTo>
                  <a:pt x="39" y="985"/>
                </a:lnTo>
                <a:lnTo>
                  <a:pt x="42" y="962"/>
                </a:lnTo>
                <a:lnTo>
                  <a:pt x="46" y="937"/>
                </a:lnTo>
                <a:lnTo>
                  <a:pt x="48" y="912"/>
                </a:lnTo>
                <a:lnTo>
                  <a:pt x="52" y="885"/>
                </a:lnTo>
                <a:lnTo>
                  <a:pt x="56" y="858"/>
                </a:lnTo>
                <a:lnTo>
                  <a:pt x="60" y="829"/>
                </a:lnTo>
                <a:lnTo>
                  <a:pt x="64" y="799"/>
                </a:lnTo>
                <a:lnTo>
                  <a:pt x="65" y="768"/>
                </a:lnTo>
                <a:lnTo>
                  <a:pt x="69" y="735"/>
                </a:lnTo>
                <a:lnTo>
                  <a:pt x="71" y="703"/>
                </a:lnTo>
                <a:lnTo>
                  <a:pt x="73" y="670"/>
                </a:lnTo>
                <a:lnTo>
                  <a:pt x="75" y="641"/>
                </a:lnTo>
                <a:lnTo>
                  <a:pt x="77" y="611"/>
                </a:lnTo>
                <a:lnTo>
                  <a:pt x="79" y="584"/>
                </a:lnTo>
                <a:lnTo>
                  <a:pt x="79" y="557"/>
                </a:lnTo>
                <a:lnTo>
                  <a:pt x="81" y="530"/>
                </a:lnTo>
                <a:lnTo>
                  <a:pt x="83" y="505"/>
                </a:lnTo>
                <a:lnTo>
                  <a:pt x="85" y="482"/>
                </a:lnTo>
                <a:lnTo>
                  <a:pt x="85" y="459"/>
                </a:lnTo>
                <a:lnTo>
                  <a:pt x="87" y="438"/>
                </a:lnTo>
                <a:lnTo>
                  <a:pt x="87" y="417"/>
                </a:lnTo>
                <a:lnTo>
                  <a:pt x="89" y="396"/>
                </a:lnTo>
                <a:lnTo>
                  <a:pt x="89" y="378"/>
                </a:lnTo>
                <a:lnTo>
                  <a:pt x="89" y="359"/>
                </a:lnTo>
                <a:lnTo>
                  <a:pt x="89" y="342"/>
                </a:lnTo>
                <a:lnTo>
                  <a:pt x="87" y="327"/>
                </a:lnTo>
                <a:lnTo>
                  <a:pt x="85" y="311"/>
                </a:lnTo>
                <a:lnTo>
                  <a:pt x="83" y="294"/>
                </a:lnTo>
                <a:lnTo>
                  <a:pt x="81" y="277"/>
                </a:lnTo>
                <a:lnTo>
                  <a:pt x="79" y="258"/>
                </a:lnTo>
                <a:lnTo>
                  <a:pt x="77" y="238"/>
                </a:lnTo>
                <a:lnTo>
                  <a:pt x="75" y="217"/>
                </a:lnTo>
                <a:lnTo>
                  <a:pt x="71" y="196"/>
                </a:lnTo>
                <a:lnTo>
                  <a:pt x="69" y="175"/>
                </a:lnTo>
                <a:lnTo>
                  <a:pt x="65" y="152"/>
                </a:lnTo>
                <a:lnTo>
                  <a:pt x="64" y="129"/>
                </a:lnTo>
                <a:lnTo>
                  <a:pt x="60" y="104"/>
                </a:lnTo>
                <a:lnTo>
                  <a:pt x="56" y="79"/>
                </a:lnTo>
                <a:lnTo>
                  <a:pt x="50" y="54"/>
                </a:lnTo>
                <a:lnTo>
                  <a:pt x="46" y="27"/>
                </a:lnTo>
                <a:lnTo>
                  <a:pt x="41" y="0"/>
                </a:lnTo>
                <a:lnTo>
                  <a:pt x="56" y="12"/>
                </a:lnTo>
                <a:lnTo>
                  <a:pt x="71" y="25"/>
                </a:lnTo>
                <a:lnTo>
                  <a:pt x="85" y="37"/>
                </a:lnTo>
                <a:lnTo>
                  <a:pt x="96" y="48"/>
                </a:lnTo>
                <a:lnTo>
                  <a:pt x="108" y="58"/>
                </a:lnTo>
                <a:lnTo>
                  <a:pt x="117" y="70"/>
                </a:lnTo>
                <a:lnTo>
                  <a:pt x="127" y="79"/>
                </a:lnTo>
                <a:lnTo>
                  <a:pt x="135" y="89"/>
                </a:lnTo>
                <a:lnTo>
                  <a:pt x="142" y="96"/>
                </a:lnTo>
                <a:lnTo>
                  <a:pt x="150" y="106"/>
                </a:lnTo>
                <a:lnTo>
                  <a:pt x="156" y="114"/>
                </a:lnTo>
                <a:lnTo>
                  <a:pt x="161" y="121"/>
                </a:lnTo>
                <a:lnTo>
                  <a:pt x="165" y="129"/>
                </a:lnTo>
                <a:lnTo>
                  <a:pt x="169" y="135"/>
                </a:lnTo>
                <a:lnTo>
                  <a:pt x="171" y="141"/>
                </a:lnTo>
                <a:lnTo>
                  <a:pt x="173" y="14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Freeform 43"/>
          <p:cNvSpPr/>
          <p:nvPr/>
        </p:nvSpPr>
        <p:spPr>
          <a:xfrm>
            <a:off x="2546280" y="3152880"/>
            <a:ext cx="179280" cy="382320"/>
          </a:xfrm>
          <a:custGeom>
            <a:avLst/>
            <a:gdLst>
              <a:gd name="textAreaLeft" fmla="*/ 0 w 179280"/>
              <a:gd name="textAreaRight" fmla="*/ 179640 w 1792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226" h="482">
                <a:moveTo>
                  <a:pt x="161" y="384"/>
                </a:moveTo>
                <a:lnTo>
                  <a:pt x="154" y="395"/>
                </a:lnTo>
                <a:lnTo>
                  <a:pt x="148" y="407"/>
                </a:lnTo>
                <a:lnTo>
                  <a:pt x="142" y="418"/>
                </a:lnTo>
                <a:lnTo>
                  <a:pt x="134" y="428"/>
                </a:lnTo>
                <a:lnTo>
                  <a:pt x="129" y="436"/>
                </a:lnTo>
                <a:lnTo>
                  <a:pt x="123" y="443"/>
                </a:lnTo>
                <a:lnTo>
                  <a:pt x="119" y="451"/>
                </a:lnTo>
                <a:lnTo>
                  <a:pt x="113" y="459"/>
                </a:lnTo>
                <a:lnTo>
                  <a:pt x="107" y="463"/>
                </a:lnTo>
                <a:lnTo>
                  <a:pt x="104" y="468"/>
                </a:lnTo>
                <a:lnTo>
                  <a:pt x="100" y="472"/>
                </a:lnTo>
                <a:lnTo>
                  <a:pt x="96" y="476"/>
                </a:lnTo>
                <a:lnTo>
                  <a:pt x="92" y="478"/>
                </a:lnTo>
                <a:lnTo>
                  <a:pt x="90" y="480"/>
                </a:lnTo>
                <a:lnTo>
                  <a:pt x="88" y="480"/>
                </a:lnTo>
                <a:lnTo>
                  <a:pt x="86" y="482"/>
                </a:lnTo>
                <a:lnTo>
                  <a:pt x="79" y="480"/>
                </a:lnTo>
                <a:lnTo>
                  <a:pt x="71" y="478"/>
                </a:lnTo>
                <a:lnTo>
                  <a:pt x="65" y="474"/>
                </a:lnTo>
                <a:lnTo>
                  <a:pt x="58" y="468"/>
                </a:lnTo>
                <a:lnTo>
                  <a:pt x="50" y="461"/>
                </a:lnTo>
                <a:lnTo>
                  <a:pt x="42" y="453"/>
                </a:lnTo>
                <a:lnTo>
                  <a:pt x="36" y="443"/>
                </a:lnTo>
                <a:lnTo>
                  <a:pt x="29" y="432"/>
                </a:lnTo>
                <a:lnTo>
                  <a:pt x="23" y="422"/>
                </a:lnTo>
                <a:lnTo>
                  <a:pt x="17" y="411"/>
                </a:lnTo>
                <a:lnTo>
                  <a:pt x="11" y="403"/>
                </a:lnTo>
                <a:lnTo>
                  <a:pt x="8" y="393"/>
                </a:lnTo>
                <a:lnTo>
                  <a:pt x="6" y="386"/>
                </a:lnTo>
                <a:lnTo>
                  <a:pt x="2" y="378"/>
                </a:lnTo>
                <a:lnTo>
                  <a:pt x="2" y="370"/>
                </a:lnTo>
                <a:lnTo>
                  <a:pt x="0" y="363"/>
                </a:lnTo>
                <a:lnTo>
                  <a:pt x="2" y="355"/>
                </a:lnTo>
                <a:lnTo>
                  <a:pt x="4" y="347"/>
                </a:lnTo>
                <a:lnTo>
                  <a:pt x="8" y="338"/>
                </a:lnTo>
                <a:lnTo>
                  <a:pt x="13" y="328"/>
                </a:lnTo>
                <a:lnTo>
                  <a:pt x="21" y="319"/>
                </a:lnTo>
                <a:lnTo>
                  <a:pt x="29" y="307"/>
                </a:lnTo>
                <a:lnTo>
                  <a:pt x="38" y="296"/>
                </a:lnTo>
                <a:lnTo>
                  <a:pt x="48" y="286"/>
                </a:lnTo>
                <a:lnTo>
                  <a:pt x="54" y="278"/>
                </a:lnTo>
                <a:lnTo>
                  <a:pt x="59" y="271"/>
                </a:lnTo>
                <a:lnTo>
                  <a:pt x="65" y="261"/>
                </a:lnTo>
                <a:lnTo>
                  <a:pt x="73" y="250"/>
                </a:lnTo>
                <a:lnTo>
                  <a:pt x="81" y="238"/>
                </a:lnTo>
                <a:lnTo>
                  <a:pt x="88" y="223"/>
                </a:lnTo>
                <a:lnTo>
                  <a:pt x="96" y="207"/>
                </a:lnTo>
                <a:lnTo>
                  <a:pt x="104" y="190"/>
                </a:lnTo>
                <a:lnTo>
                  <a:pt x="113" y="173"/>
                </a:lnTo>
                <a:lnTo>
                  <a:pt x="121" y="152"/>
                </a:lnTo>
                <a:lnTo>
                  <a:pt x="130" y="131"/>
                </a:lnTo>
                <a:lnTo>
                  <a:pt x="140" y="108"/>
                </a:lnTo>
                <a:lnTo>
                  <a:pt x="150" y="83"/>
                </a:lnTo>
                <a:lnTo>
                  <a:pt x="159" y="58"/>
                </a:lnTo>
                <a:lnTo>
                  <a:pt x="171" y="29"/>
                </a:lnTo>
                <a:lnTo>
                  <a:pt x="180" y="0"/>
                </a:lnTo>
                <a:lnTo>
                  <a:pt x="186" y="6"/>
                </a:lnTo>
                <a:lnTo>
                  <a:pt x="190" y="13"/>
                </a:lnTo>
                <a:lnTo>
                  <a:pt x="196" y="21"/>
                </a:lnTo>
                <a:lnTo>
                  <a:pt x="200" y="29"/>
                </a:lnTo>
                <a:lnTo>
                  <a:pt x="203" y="36"/>
                </a:lnTo>
                <a:lnTo>
                  <a:pt x="207" y="46"/>
                </a:lnTo>
                <a:lnTo>
                  <a:pt x="211" y="56"/>
                </a:lnTo>
                <a:lnTo>
                  <a:pt x="215" y="65"/>
                </a:lnTo>
                <a:lnTo>
                  <a:pt x="219" y="86"/>
                </a:lnTo>
                <a:lnTo>
                  <a:pt x="225" y="108"/>
                </a:lnTo>
                <a:lnTo>
                  <a:pt x="226" y="132"/>
                </a:lnTo>
                <a:lnTo>
                  <a:pt x="226" y="157"/>
                </a:lnTo>
                <a:lnTo>
                  <a:pt x="226" y="186"/>
                </a:lnTo>
                <a:lnTo>
                  <a:pt x="225" y="202"/>
                </a:lnTo>
                <a:lnTo>
                  <a:pt x="223" y="217"/>
                </a:lnTo>
                <a:lnTo>
                  <a:pt x="221" y="230"/>
                </a:lnTo>
                <a:lnTo>
                  <a:pt x="219" y="246"/>
                </a:lnTo>
                <a:lnTo>
                  <a:pt x="215" y="259"/>
                </a:lnTo>
                <a:lnTo>
                  <a:pt x="211" y="274"/>
                </a:lnTo>
                <a:lnTo>
                  <a:pt x="207" y="288"/>
                </a:lnTo>
                <a:lnTo>
                  <a:pt x="203" y="301"/>
                </a:lnTo>
                <a:lnTo>
                  <a:pt x="198" y="317"/>
                </a:lnTo>
                <a:lnTo>
                  <a:pt x="192" y="330"/>
                </a:lnTo>
                <a:lnTo>
                  <a:pt x="184" y="344"/>
                </a:lnTo>
                <a:lnTo>
                  <a:pt x="177" y="357"/>
                </a:lnTo>
                <a:lnTo>
                  <a:pt x="169" y="370"/>
                </a:lnTo>
                <a:lnTo>
                  <a:pt x="161" y="38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Freeform 44"/>
          <p:cNvSpPr/>
          <p:nvPr/>
        </p:nvSpPr>
        <p:spPr>
          <a:xfrm>
            <a:off x="2755800" y="3379680"/>
            <a:ext cx="727200" cy="147600"/>
          </a:xfrm>
          <a:custGeom>
            <a:avLst/>
            <a:gdLst>
              <a:gd name="textAreaLeft" fmla="*/ 0 w 727200"/>
              <a:gd name="textAreaRight" fmla="*/ 727560 w 7272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15" h="186">
                <a:moveTo>
                  <a:pt x="330" y="58"/>
                </a:moveTo>
                <a:lnTo>
                  <a:pt x="370" y="50"/>
                </a:lnTo>
                <a:lnTo>
                  <a:pt x="409" y="44"/>
                </a:lnTo>
                <a:lnTo>
                  <a:pt x="445" y="38"/>
                </a:lnTo>
                <a:lnTo>
                  <a:pt x="480" y="33"/>
                </a:lnTo>
                <a:lnTo>
                  <a:pt x="512" y="27"/>
                </a:lnTo>
                <a:lnTo>
                  <a:pt x="543" y="21"/>
                </a:lnTo>
                <a:lnTo>
                  <a:pt x="572" y="17"/>
                </a:lnTo>
                <a:lnTo>
                  <a:pt x="599" y="13"/>
                </a:lnTo>
                <a:lnTo>
                  <a:pt x="625" y="10"/>
                </a:lnTo>
                <a:lnTo>
                  <a:pt x="648" y="8"/>
                </a:lnTo>
                <a:lnTo>
                  <a:pt x="671" y="4"/>
                </a:lnTo>
                <a:lnTo>
                  <a:pt x="691" y="2"/>
                </a:lnTo>
                <a:lnTo>
                  <a:pt x="710" y="2"/>
                </a:lnTo>
                <a:lnTo>
                  <a:pt x="727" y="0"/>
                </a:lnTo>
                <a:lnTo>
                  <a:pt x="742" y="0"/>
                </a:lnTo>
                <a:lnTo>
                  <a:pt x="756" y="0"/>
                </a:lnTo>
                <a:lnTo>
                  <a:pt x="775" y="0"/>
                </a:lnTo>
                <a:lnTo>
                  <a:pt x="796" y="2"/>
                </a:lnTo>
                <a:lnTo>
                  <a:pt x="815" y="4"/>
                </a:lnTo>
                <a:lnTo>
                  <a:pt x="833" y="8"/>
                </a:lnTo>
                <a:lnTo>
                  <a:pt x="850" y="13"/>
                </a:lnTo>
                <a:lnTo>
                  <a:pt x="867" y="19"/>
                </a:lnTo>
                <a:lnTo>
                  <a:pt x="883" y="29"/>
                </a:lnTo>
                <a:lnTo>
                  <a:pt x="896" y="38"/>
                </a:lnTo>
                <a:lnTo>
                  <a:pt x="902" y="44"/>
                </a:lnTo>
                <a:lnTo>
                  <a:pt x="906" y="48"/>
                </a:lnTo>
                <a:lnTo>
                  <a:pt x="909" y="54"/>
                </a:lnTo>
                <a:lnTo>
                  <a:pt x="911" y="58"/>
                </a:lnTo>
                <a:lnTo>
                  <a:pt x="913" y="63"/>
                </a:lnTo>
                <a:lnTo>
                  <a:pt x="915" y="67"/>
                </a:lnTo>
                <a:lnTo>
                  <a:pt x="915" y="71"/>
                </a:lnTo>
                <a:lnTo>
                  <a:pt x="915" y="75"/>
                </a:lnTo>
                <a:lnTo>
                  <a:pt x="913" y="79"/>
                </a:lnTo>
                <a:lnTo>
                  <a:pt x="911" y="83"/>
                </a:lnTo>
                <a:lnTo>
                  <a:pt x="909" y="84"/>
                </a:lnTo>
                <a:lnTo>
                  <a:pt x="904" y="88"/>
                </a:lnTo>
                <a:lnTo>
                  <a:pt x="900" y="90"/>
                </a:lnTo>
                <a:lnTo>
                  <a:pt x="894" y="92"/>
                </a:lnTo>
                <a:lnTo>
                  <a:pt x="886" y="96"/>
                </a:lnTo>
                <a:lnTo>
                  <a:pt x="879" y="98"/>
                </a:lnTo>
                <a:lnTo>
                  <a:pt x="869" y="100"/>
                </a:lnTo>
                <a:lnTo>
                  <a:pt x="860" y="104"/>
                </a:lnTo>
                <a:lnTo>
                  <a:pt x="848" y="107"/>
                </a:lnTo>
                <a:lnTo>
                  <a:pt x="837" y="109"/>
                </a:lnTo>
                <a:lnTo>
                  <a:pt x="825" y="113"/>
                </a:lnTo>
                <a:lnTo>
                  <a:pt x="813" y="115"/>
                </a:lnTo>
                <a:lnTo>
                  <a:pt x="800" y="117"/>
                </a:lnTo>
                <a:lnTo>
                  <a:pt x="787" y="119"/>
                </a:lnTo>
                <a:lnTo>
                  <a:pt x="771" y="121"/>
                </a:lnTo>
                <a:lnTo>
                  <a:pt x="756" y="123"/>
                </a:lnTo>
                <a:lnTo>
                  <a:pt x="741" y="123"/>
                </a:lnTo>
                <a:lnTo>
                  <a:pt x="723" y="125"/>
                </a:lnTo>
                <a:lnTo>
                  <a:pt x="706" y="125"/>
                </a:lnTo>
                <a:lnTo>
                  <a:pt x="689" y="127"/>
                </a:lnTo>
                <a:lnTo>
                  <a:pt x="670" y="127"/>
                </a:lnTo>
                <a:lnTo>
                  <a:pt x="652" y="127"/>
                </a:lnTo>
                <a:lnTo>
                  <a:pt x="612" y="127"/>
                </a:lnTo>
                <a:lnTo>
                  <a:pt x="572" y="129"/>
                </a:lnTo>
                <a:lnTo>
                  <a:pt x="531" y="130"/>
                </a:lnTo>
                <a:lnTo>
                  <a:pt x="491" y="134"/>
                </a:lnTo>
                <a:lnTo>
                  <a:pt x="451" y="138"/>
                </a:lnTo>
                <a:lnTo>
                  <a:pt x="410" y="142"/>
                </a:lnTo>
                <a:lnTo>
                  <a:pt x="370" y="150"/>
                </a:lnTo>
                <a:lnTo>
                  <a:pt x="330" y="155"/>
                </a:lnTo>
                <a:lnTo>
                  <a:pt x="309" y="159"/>
                </a:lnTo>
                <a:lnTo>
                  <a:pt x="290" y="163"/>
                </a:lnTo>
                <a:lnTo>
                  <a:pt x="272" y="165"/>
                </a:lnTo>
                <a:lnTo>
                  <a:pt x="255" y="169"/>
                </a:lnTo>
                <a:lnTo>
                  <a:pt x="238" y="171"/>
                </a:lnTo>
                <a:lnTo>
                  <a:pt x="222" y="175"/>
                </a:lnTo>
                <a:lnTo>
                  <a:pt x="209" y="177"/>
                </a:lnTo>
                <a:lnTo>
                  <a:pt x="196" y="178"/>
                </a:lnTo>
                <a:lnTo>
                  <a:pt x="182" y="180"/>
                </a:lnTo>
                <a:lnTo>
                  <a:pt x="171" y="180"/>
                </a:lnTo>
                <a:lnTo>
                  <a:pt x="161" y="182"/>
                </a:lnTo>
                <a:lnTo>
                  <a:pt x="151" y="184"/>
                </a:lnTo>
                <a:lnTo>
                  <a:pt x="142" y="184"/>
                </a:lnTo>
                <a:lnTo>
                  <a:pt x="134" y="184"/>
                </a:lnTo>
                <a:lnTo>
                  <a:pt x="128" y="184"/>
                </a:lnTo>
                <a:lnTo>
                  <a:pt x="123" y="186"/>
                </a:lnTo>
                <a:lnTo>
                  <a:pt x="113" y="184"/>
                </a:lnTo>
                <a:lnTo>
                  <a:pt x="103" y="184"/>
                </a:lnTo>
                <a:lnTo>
                  <a:pt x="94" y="182"/>
                </a:lnTo>
                <a:lnTo>
                  <a:pt x="84" y="178"/>
                </a:lnTo>
                <a:lnTo>
                  <a:pt x="67" y="173"/>
                </a:lnTo>
                <a:lnTo>
                  <a:pt x="57" y="169"/>
                </a:lnTo>
                <a:lnTo>
                  <a:pt x="48" y="165"/>
                </a:lnTo>
                <a:lnTo>
                  <a:pt x="36" y="161"/>
                </a:lnTo>
                <a:lnTo>
                  <a:pt x="29" y="157"/>
                </a:lnTo>
                <a:lnTo>
                  <a:pt x="19" y="152"/>
                </a:lnTo>
                <a:lnTo>
                  <a:pt x="13" y="146"/>
                </a:lnTo>
                <a:lnTo>
                  <a:pt x="7" y="140"/>
                </a:lnTo>
                <a:lnTo>
                  <a:pt x="4" y="136"/>
                </a:lnTo>
                <a:lnTo>
                  <a:pt x="2" y="130"/>
                </a:lnTo>
                <a:lnTo>
                  <a:pt x="0" y="127"/>
                </a:lnTo>
                <a:lnTo>
                  <a:pt x="0" y="125"/>
                </a:lnTo>
                <a:lnTo>
                  <a:pt x="2" y="125"/>
                </a:lnTo>
                <a:lnTo>
                  <a:pt x="4" y="123"/>
                </a:lnTo>
                <a:lnTo>
                  <a:pt x="6" y="123"/>
                </a:lnTo>
                <a:lnTo>
                  <a:pt x="7" y="121"/>
                </a:lnTo>
                <a:lnTo>
                  <a:pt x="11" y="119"/>
                </a:lnTo>
                <a:lnTo>
                  <a:pt x="17" y="119"/>
                </a:lnTo>
                <a:lnTo>
                  <a:pt x="21" y="117"/>
                </a:lnTo>
                <a:lnTo>
                  <a:pt x="27" y="115"/>
                </a:lnTo>
                <a:lnTo>
                  <a:pt x="32" y="115"/>
                </a:lnTo>
                <a:lnTo>
                  <a:pt x="40" y="113"/>
                </a:lnTo>
                <a:lnTo>
                  <a:pt x="48" y="111"/>
                </a:lnTo>
                <a:lnTo>
                  <a:pt x="55" y="109"/>
                </a:lnTo>
                <a:lnTo>
                  <a:pt x="65" y="107"/>
                </a:lnTo>
                <a:lnTo>
                  <a:pt x="75" y="106"/>
                </a:lnTo>
                <a:lnTo>
                  <a:pt x="84" y="104"/>
                </a:lnTo>
                <a:lnTo>
                  <a:pt x="94" y="102"/>
                </a:lnTo>
                <a:lnTo>
                  <a:pt x="105" y="100"/>
                </a:lnTo>
                <a:lnTo>
                  <a:pt x="119" y="96"/>
                </a:lnTo>
                <a:lnTo>
                  <a:pt x="130" y="94"/>
                </a:lnTo>
                <a:lnTo>
                  <a:pt x="144" y="92"/>
                </a:lnTo>
                <a:lnTo>
                  <a:pt x="157" y="90"/>
                </a:lnTo>
                <a:lnTo>
                  <a:pt x="173" y="86"/>
                </a:lnTo>
                <a:lnTo>
                  <a:pt x="188" y="84"/>
                </a:lnTo>
                <a:lnTo>
                  <a:pt x="203" y="81"/>
                </a:lnTo>
                <a:lnTo>
                  <a:pt x="219" y="79"/>
                </a:lnTo>
                <a:lnTo>
                  <a:pt x="236" y="75"/>
                </a:lnTo>
                <a:lnTo>
                  <a:pt x="253" y="71"/>
                </a:lnTo>
                <a:lnTo>
                  <a:pt x="272" y="69"/>
                </a:lnTo>
                <a:lnTo>
                  <a:pt x="292" y="65"/>
                </a:lnTo>
                <a:lnTo>
                  <a:pt x="311" y="61"/>
                </a:lnTo>
                <a:lnTo>
                  <a:pt x="330" y="5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Freeform 45"/>
          <p:cNvSpPr/>
          <p:nvPr/>
        </p:nvSpPr>
        <p:spPr>
          <a:xfrm>
            <a:off x="2890800" y="3465360"/>
            <a:ext cx="328680" cy="723960"/>
          </a:xfrm>
          <a:custGeom>
            <a:avLst/>
            <a:gdLst>
              <a:gd name="textAreaLeft" fmla="*/ 0 w 328680"/>
              <a:gd name="textAreaRight" fmla="*/ 329040 w 328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414" h="912">
                <a:moveTo>
                  <a:pt x="407" y="137"/>
                </a:moveTo>
                <a:lnTo>
                  <a:pt x="410" y="144"/>
                </a:lnTo>
                <a:lnTo>
                  <a:pt x="412" y="152"/>
                </a:lnTo>
                <a:lnTo>
                  <a:pt x="412" y="160"/>
                </a:lnTo>
                <a:lnTo>
                  <a:pt x="414" y="166"/>
                </a:lnTo>
                <a:lnTo>
                  <a:pt x="412" y="173"/>
                </a:lnTo>
                <a:lnTo>
                  <a:pt x="412" y="181"/>
                </a:lnTo>
                <a:lnTo>
                  <a:pt x="410" y="189"/>
                </a:lnTo>
                <a:lnTo>
                  <a:pt x="407" y="196"/>
                </a:lnTo>
                <a:lnTo>
                  <a:pt x="405" y="202"/>
                </a:lnTo>
                <a:lnTo>
                  <a:pt x="405" y="210"/>
                </a:lnTo>
                <a:lnTo>
                  <a:pt x="403" y="219"/>
                </a:lnTo>
                <a:lnTo>
                  <a:pt x="401" y="231"/>
                </a:lnTo>
                <a:lnTo>
                  <a:pt x="401" y="244"/>
                </a:lnTo>
                <a:lnTo>
                  <a:pt x="401" y="258"/>
                </a:lnTo>
                <a:lnTo>
                  <a:pt x="401" y="273"/>
                </a:lnTo>
                <a:lnTo>
                  <a:pt x="399" y="292"/>
                </a:lnTo>
                <a:lnTo>
                  <a:pt x="401" y="311"/>
                </a:lnTo>
                <a:lnTo>
                  <a:pt x="401" y="331"/>
                </a:lnTo>
                <a:lnTo>
                  <a:pt x="401" y="354"/>
                </a:lnTo>
                <a:lnTo>
                  <a:pt x="401" y="379"/>
                </a:lnTo>
                <a:lnTo>
                  <a:pt x="403" y="403"/>
                </a:lnTo>
                <a:lnTo>
                  <a:pt x="405" y="430"/>
                </a:lnTo>
                <a:lnTo>
                  <a:pt x="405" y="459"/>
                </a:lnTo>
                <a:lnTo>
                  <a:pt x="407" y="490"/>
                </a:lnTo>
                <a:lnTo>
                  <a:pt x="407" y="522"/>
                </a:lnTo>
                <a:lnTo>
                  <a:pt x="407" y="553"/>
                </a:lnTo>
                <a:lnTo>
                  <a:pt x="405" y="582"/>
                </a:lnTo>
                <a:lnTo>
                  <a:pt x="403" y="611"/>
                </a:lnTo>
                <a:lnTo>
                  <a:pt x="401" y="638"/>
                </a:lnTo>
                <a:lnTo>
                  <a:pt x="399" y="663"/>
                </a:lnTo>
                <a:lnTo>
                  <a:pt x="397" y="688"/>
                </a:lnTo>
                <a:lnTo>
                  <a:pt x="393" y="709"/>
                </a:lnTo>
                <a:lnTo>
                  <a:pt x="391" y="730"/>
                </a:lnTo>
                <a:lnTo>
                  <a:pt x="387" y="749"/>
                </a:lnTo>
                <a:lnTo>
                  <a:pt x="384" y="766"/>
                </a:lnTo>
                <a:lnTo>
                  <a:pt x="378" y="783"/>
                </a:lnTo>
                <a:lnTo>
                  <a:pt x="374" y="799"/>
                </a:lnTo>
                <a:lnTo>
                  <a:pt x="370" y="810"/>
                </a:lnTo>
                <a:lnTo>
                  <a:pt x="364" y="822"/>
                </a:lnTo>
                <a:lnTo>
                  <a:pt x="360" y="833"/>
                </a:lnTo>
                <a:lnTo>
                  <a:pt x="355" y="841"/>
                </a:lnTo>
                <a:lnTo>
                  <a:pt x="349" y="851"/>
                </a:lnTo>
                <a:lnTo>
                  <a:pt x="343" y="858"/>
                </a:lnTo>
                <a:lnTo>
                  <a:pt x="339" y="866"/>
                </a:lnTo>
                <a:lnTo>
                  <a:pt x="334" y="874"/>
                </a:lnTo>
                <a:lnTo>
                  <a:pt x="328" y="879"/>
                </a:lnTo>
                <a:lnTo>
                  <a:pt x="324" y="885"/>
                </a:lnTo>
                <a:lnTo>
                  <a:pt x="318" y="891"/>
                </a:lnTo>
                <a:lnTo>
                  <a:pt x="314" y="895"/>
                </a:lnTo>
                <a:lnTo>
                  <a:pt x="309" y="899"/>
                </a:lnTo>
                <a:lnTo>
                  <a:pt x="305" y="902"/>
                </a:lnTo>
                <a:lnTo>
                  <a:pt x="299" y="906"/>
                </a:lnTo>
                <a:lnTo>
                  <a:pt x="295" y="908"/>
                </a:lnTo>
                <a:lnTo>
                  <a:pt x="291" y="910"/>
                </a:lnTo>
                <a:lnTo>
                  <a:pt x="288" y="910"/>
                </a:lnTo>
                <a:lnTo>
                  <a:pt x="284" y="912"/>
                </a:lnTo>
                <a:lnTo>
                  <a:pt x="280" y="910"/>
                </a:lnTo>
                <a:lnTo>
                  <a:pt x="278" y="910"/>
                </a:lnTo>
                <a:lnTo>
                  <a:pt x="274" y="908"/>
                </a:lnTo>
                <a:lnTo>
                  <a:pt x="272" y="908"/>
                </a:lnTo>
                <a:lnTo>
                  <a:pt x="268" y="904"/>
                </a:lnTo>
                <a:lnTo>
                  <a:pt x="266" y="902"/>
                </a:lnTo>
                <a:lnTo>
                  <a:pt x="265" y="899"/>
                </a:lnTo>
                <a:lnTo>
                  <a:pt x="263" y="895"/>
                </a:lnTo>
                <a:lnTo>
                  <a:pt x="259" y="891"/>
                </a:lnTo>
                <a:lnTo>
                  <a:pt x="257" y="885"/>
                </a:lnTo>
                <a:lnTo>
                  <a:pt x="255" y="879"/>
                </a:lnTo>
                <a:lnTo>
                  <a:pt x="253" y="874"/>
                </a:lnTo>
                <a:lnTo>
                  <a:pt x="251" y="868"/>
                </a:lnTo>
                <a:lnTo>
                  <a:pt x="249" y="860"/>
                </a:lnTo>
                <a:lnTo>
                  <a:pt x="247" y="851"/>
                </a:lnTo>
                <a:lnTo>
                  <a:pt x="247" y="843"/>
                </a:lnTo>
                <a:lnTo>
                  <a:pt x="243" y="833"/>
                </a:lnTo>
                <a:lnTo>
                  <a:pt x="241" y="824"/>
                </a:lnTo>
                <a:lnTo>
                  <a:pt x="238" y="816"/>
                </a:lnTo>
                <a:lnTo>
                  <a:pt x="232" y="808"/>
                </a:lnTo>
                <a:lnTo>
                  <a:pt x="226" y="799"/>
                </a:lnTo>
                <a:lnTo>
                  <a:pt x="220" y="791"/>
                </a:lnTo>
                <a:lnTo>
                  <a:pt x="213" y="783"/>
                </a:lnTo>
                <a:lnTo>
                  <a:pt x="205" y="776"/>
                </a:lnTo>
                <a:lnTo>
                  <a:pt x="195" y="768"/>
                </a:lnTo>
                <a:lnTo>
                  <a:pt x="186" y="760"/>
                </a:lnTo>
                <a:lnTo>
                  <a:pt x="176" y="753"/>
                </a:lnTo>
                <a:lnTo>
                  <a:pt x="165" y="745"/>
                </a:lnTo>
                <a:lnTo>
                  <a:pt x="153" y="737"/>
                </a:lnTo>
                <a:lnTo>
                  <a:pt x="142" y="730"/>
                </a:lnTo>
                <a:lnTo>
                  <a:pt x="128" y="722"/>
                </a:lnTo>
                <a:lnTo>
                  <a:pt x="115" y="714"/>
                </a:lnTo>
                <a:lnTo>
                  <a:pt x="99" y="707"/>
                </a:lnTo>
                <a:lnTo>
                  <a:pt x="84" y="697"/>
                </a:lnTo>
                <a:lnTo>
                  <a:pt x="71" y="689"/>
                </a:lnTo>
                <a:lnTo>
                  <a:pt x="59" y="682"/>
                </a:lnTo>
                <a:lnTo>
                  <a:pt x="48" y="674"/>
                </a:lnTo>
                <a:lnTo>
                  <a:pt x="38" y="668"/>
                </a:lnTo>
                <a:lnTo>
                  <a:pt x="30" y="663"/>
                </a:lnTo>
                <a:lnTo>
                  <a:pt x="23" y="657"/>
                </a:lnTo>
                <a:lnTo>
                  <a:pt x="15" y="651"/>
                </a:lnTo>
                <a:lnTo>
                  <a:pt x="11" y="645"/>
                </a:lnTo>
                <a:lnTo>
                  <a:pt x="5" y="641"/>
                </a:lnTo>
                <a:lnTo>
                  <a:pt x="4" y="638"/>
                </a:lnTo>
                <a:lnTo>
                  <a:pt x="2" y="634"/>
                </a:lnTo>
                <a:lnTo>
                  <a:pt x="0" y="632"/>
                </a:lnTo>
                <a:lnTo>
                  <a:pt x="0" y="630"/>
                </a:lnTo>
                <a:lnTo>
                  <a:pt x="2" y="628"/>
                </a:lnTo>
                <a:lnTo>
                  <a:pt x="4" y="626"/>
                </a:lnTo>
                <a:lnTo>
                  <a:pt x="5" y="624"/>
                </a:lnTo>
                <a:lnTo>
                  <a:pt x="9" y="622"/>
                </a:lnTo>
                <a:lnTo>
                  <a:pt x="15" y="622"/>
                </a:lnTo>
                <a:lnTo>
                  <a:pt x="21" y="620"/>
                </a:lnTo>
                <a:lnTo>
                  <a:pt x="27" y="620"/>
                </a:lnTo>
                <a:lnTo>
                  <a:pt x="34" y="620"/>
                </a:lnTo>
                <a:lnTo>
                  <a:pt x="44" y="620"/>
                </a:lnTo>
                <a:lnTo>
                  <a:pt x="53" y="620"/>
                </a:lnTo>
                <a:lnTo>
                  <a:pt x="63" y="622"/>
                </a:lnTo>
                <a:lnTo>
                  <a:pt x="75" y="624"/>
                </a:lnTo>
                <a:lnTo>
                  <a:pt x="86" y="626"/>
                </a:lnTo>
                <a:lnTo>
                  <a:pt x="99" y="628"/>
                </a:lnTo>
                <a:lnTo>
                  <a:pt x="113" y="630"/>
                </a:lnTo>
                <a:lnTo>
                  <a:pt x="126" y="634"/>
                </a:lnTo>
                <a:lnTo>
                  <a:pt x="142" y="638"/>
                </a:lnTo>
                <a:lnTo>
                  <a:pt x="157" y="640"/>
                </a:lnTo>
                <a:lnTo>
                  <a:pt x="172" y="643"/>
                </a:lnTo>
                <a:lnTo>
                  <a:pt x="186" y="645"/>
                </a:lnTo>
                <a:lnTo>
                  <a:pt x="199" y="647"/>
                </a:lnTo>
                <a:lnTo>
                  <a:pt x="211" y="647"/>
                </a:lnTo>
                <a:lnTo>
                  <a:pt x="222" y="647"/>
                </a:lnTo>
                <a:lnTo>
                  <a:pt x="232" y="647"/>
                </a:lnTo>
                <a:lnTo>
                  <a:pt x="241" y="645"/>
                </a:lnTo>
                <a:lnTo>
                  <a:pt x="249" y="643"/>
                </a:lnTo>
                <a:lnTo>
                  <a:pt x="257" y="641"/>
                </a:lnTo>
                <a:lnTo>
                  <a:pt x="265" y="640"/>
                </a:lnTo>
                <a:lnTo>
                  <a:pt x="270" y="636"/>
                </a:lnTo>
                <a:lnTo>
                  <a:pt x="274" y="632"/>
                </a:lnTo>
                <a:lnTo>
                  <a:pt x="278" y="628"/>
                </a:lnTo>
                <a:lnTo>
                  <a:pt x="282" y="622"/>
                </a:lnTo>
                <a:lnTo>
                  <a:pt x="284" y="617"/>
                </a:lnTo>
                <a:lnTo>
                  <a:pt x="286" y="611"/>
                </a:lnTo>
                <a:lnTo>
                  <a:pt x="288" y="605"/>
                </a:lnTo>
                <a:lnTo>
                  <a:pt x="288" y="597"/>
                </a:lnTo>
                <a:lnTo>
                  <a:pt x="289" y="590"/>
                </a:lnTo>
                <a:lnTo>
                  <a:pt x="289" y="582"/>
                </a:lnTo>
                <a:lnTo>
                  <a:pt x="291" y="572"/>
                </a:lnTo>
                <a:lnTo>
                  <a:pt x="291" y="561"/>
                </a:lnTo>
                <a:lnTo>
                  <a:pt x="291" y="551"/>
                </a:lnTo>
                <a:lnTo>
                  <a:pt x="293" y="540"/>
                </a:lnTo>
                <a:lnTo>
                  <a:pt x="293" y="528"/>
                </a:lnTo>
                <a:lnTo>
                  <a:pt x="293" y="515"/>
                </a:lnTo>
                <a:lnTo>
                  <a:pt x="293" y="501"/>
                </a:lnTo>
                <a:lnTo>
                  <a:pt x="293" y="488"/>
                </a:lnTo>
                <a:lnTo>
                  <a:pt x="293" y="473"/>
                </a:lnTo>
                <a:lnTo>
                  <a:pt x="293" y="457"/>
                </a:lnTo>
                <a:lnTo>
                  <a:pt x="293" y="440"/>
                </a:lnTo>
                <a:lnTo>
                  <a:pt x="293" y="423"/>
                </a:lnTo>
                <a:lnTo>
                  <a:pt x="293" y="405"/>
                </a:lnTo>
                <a:lnTo>
                  <a:pt x="291" y="384"/>
                </a:lnTo>
                <a:lnTo>
                  <a:pt x="289" y="363"/>
                </a:lnTo>
                <a:lnTo>
                  <a:pt x="288" y="340"/>
                </a:lnTo>
                <a:lnTo>
                  <a:pt x="286" y="317"/>
                </a:lnTo>
                <a:lnTo>
                  <a:pt x="284" y="292"/>
                </a:lnTo>
                <a:lnTo>
                  <a:pt x="280" y="265"/>
                </a:lnTo>
                <a:lnTo>
                  <a:pt x="278" y="237"/>
                </a:lnTo>
                <a:lnTo>
                  <a:pt x="274" y="206"/>
                </a:lnTo>
                <a:lnTo>
                  <a:pt x="270" y="175"/>
                </a:lnTo>
                <a:lnTo>
                  <a:pt x="265" y="142"/>
                </a:lnTo>
                <a:lnTo>
                  <a:pt x="261" y="110"/>
                </a:lnTo>
                <a:lnTo>
                  <a:pt x="257" y="73"/>
                </a:lnTo>
                <a:lnTo>
                  <a:pt x="251" y="37"/>
                </a:lnTo>
                <a:lnTo>
                  <a:pt x="247" y="0"/>
                </a:lnTo>
                <a:lnTo>
                  <a:pt x="265" y="12"/>
                </a:lnTo>
                <a:lnTo>
                  <a:pt x="282" y="25"/>
                </a:lnTo>
                <a:lnTo>
                  <a:pt x="299" y="37"/>
                </a:lnTo>
                <a:lnTo>
                  <a:pt x="314" y="48"/>
                </a:lnTo>
                <a:lnTo>
                  <a:pt x="328" y="58"/>
                </a:lnTo>
                <a:lnTo>
                  <a:pt x="339" y="68"/>
                </a:lnTo>
                <a:lnTo>
                  <a:pt x="351" y="77"/>
                </a:lnTo>
                <a:lnTo>
                  <a:pt x="362" y="87"/>
                </a:lnTo>
                <a:lnTo>
                  <a:pt x="370" y="96"/>
                </a:lnTo>
                <a:lnTo>
                  <a:pt x="380" y="104"/>
                </a:lnTo>
                <a:lnTo>
                  <a:pt x="385" y="110"/>
                </a:lnTo>
                <a:lnTo>
                  <a:pt x="393" y="118"/>
                </a:lnTo>
                <a:lnTo>
                  <a:pt x="397" y="123"/>
                </a:lnTo>
                <a:lnTo>
                  <a:pt x="401" y="129"/>
                </a:lnTo>
                <a:lnTo>
                  <a:pt x="405" y="133"/>
                </a:lnTo>
                <a:lnTo>
                  <a:pt x="407" y="13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Freeform 46"/>
          <p:cNvSpPr/>
          <p:nvPr/>
        </p:nvSpPr>
        <p:spPr>
          <a:xfrm>
            <a:off x="2835360" y="2808360"/>
            <a:ext cx="145800" cy="322200"/>
          </a:xfrm>
          <a:custGeom>
            <a:avLst/>
            <a:gdLst/>
            <a:ahLst/>
            <a:rect l="l" t="t" r="r" b="b"/>
            <a:pathLst>
              <a:path w="184" h="405">
                <a:moveTo>
                  <a:pt x="13" y="52"/>
                </a:moveTo>
                <a:lnTo>
                  <a:pt x="7" y="43"/>
                </a:lnTo>
                <a:lnTo>
                  <a:pt x="5" y="39"/>
                </a:lnTo>
                <a:lnTo>
                  <a:pt x="3" y="35"/>
                </a:lnTo>
                <a:lnTo>
                  <a:pt x="2" y="31"/>
                </a:lnTo>
                <a:lnTo>
                  <a:pt x="2" y="27"/>
                </a:lnTo>
                <a:lnTo>
                  <a:pt x="0" y="23"/>
                </a:ln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3" y="14"/>
                </a:lnTo>
                <a:lnTo>
                  <a:pt x="7" y="12"/>
                </a:lnTo>
                <a:lnTo>
                  <a:pt x="9" y="10"/>
                </a:lnTo>
                <a:lnTo>
                  <a:pt x="13" y="8"/>
                </a:lnTo>
                <a:lnTo>
                  <a:pt x="17" y="6"/>
                </a:lnTo>
                <a:lnTo>
                  <a:pt x="23" y="4"/>
                </a:lnTo>
                <a:lnTo>
                  <a:pt x="28" y="2"/>
                </a:lnTo>
                <a:lnTo>
                  <a:pt x="34" y="0"/>
                </a:lnTo>
                <a:lnTo>
                  <a:pt x="40" y="0"/>
                </a:lnTo>
                <a:lnTo>
                  <a:pt x="46" y="2"/>
                </a:lnTo>
                <a:lnTo>
                  <a:pt x="51" y="2"/>
                </a:lnTo>
                <a:lnTo>
                  <a:pt x="59" y="4"/>
                </a:lnTo>
                <a:lnTo>
                  <a:pt x="67" y="6"/>
                </a:lnTo>
                <a:lnTo>
                  <a:pt x="74" y="8"/>
                </a:lnTo>
                <a:lnTo>
                  <a:pt x="90" y="14"/>
                </a:lnTo>
                <a:lnTo>
                  <a:pt x="107" y="23"/>
                </a:lnTo>
                <a:lnTo>
                  <a:pt x="124" y="33"/>
                </a:lnTo>
                <a:lnTo>
                  <a:pt x="145" y="43"/>
                </a:lnTo>
                <a:lnTo>
                  <a:pt x="151" y="71"/>
                </a:lnTo>
                <a:lnTo>
                  <a:pt x="155" y="98"/>
                </a:lnTo>
                <a:lnTo>
                  <a:pt x="159" y="125"/>
                </a:lnTo>
                <a:lnTo>
                  <a:pt x="163" y="150"/>
                </a:lnTo>
                <a:lnTo>
                  <a:pt x="167" y="173"/>
                </a:lnTo>
                <a:lnTo>
                  <a:pt x="170" y="194"/>
                </a:lnTo>
                <a:lnTo>
                  <a:pt x="172" y="215"/>
                </a:lnTo>
                <a:lnTo>
                  <a:pt x="174" y="234"/>
                </a:lnTo>
                <a:lnTo>
                  <a:pt x="176" y="252"/>
                </a:lnTo>
                <a:lnTo>
                  <a:pt x="178" y="267"/>
                </a:lnTo>
                <a:lnTo>
                  <a:pt x="180" y="282"/>
                </a:lnTo>
                <a:lnTo>
                  <a:pt x="182" y="296"/>
                </a:lnTo>
                <a:lnTo>
                  <a:pt x="182" y="309"/>
                </a:lnTo>
                <a:lnTo>
                  <a:pt x="182" y="319"/>
                </a:lnTo>
                <a:lnTo>
                  <a:pt x="184" y="328"/>
                </a:lnTo>
                <a:lnTo>
                  <a:pt x="184" y="336"/>
                </a:lnTo>
                <a:lnTo>
                  <a:pt x="184" y="346"/>
                </a:lnTo>
                <a:lnTo>
                  <a:pt x="182" y="353"/>
                </a:lnTo>
                <a:lnTo>
                  <a:pt x="182" y="361"/>
                </a:lnTo>
                <a:lnTo>
                  <a:pt x="182" y="369"/>
                </a:lnTo>
                <a:lnTo>
                  <a:pt x="180" y="375"/>
                </a:lnTo>
                <a:lnTo>
                  <a:pt x="180" y="380"/>
                </a:lnTo>
                <a:lnTo>
                  <a:pt x="178" y="384"/>
                </a:lnTo>
                <a:lnTo>
                  <a:pt x="176" y="390"/>
                </a:lnTo>
                <a:lnTo>
                  <a:pt x="174" y="394"/>
                </a:lnTo>
                <a:lnTo>
                  <a:pt x="172" y="396"/>
                </a:lnTo>
                <a:lnTo>
                  <a:pt x="170" y="399"/>
                </a:lnTo>
                <a:lnTo>
                  <a:pt x="167" y="401"/>
                </a:lnTo>
                <a:lnTo>
                  <a:pt x="165" y="403"/>
                </a:lnTo>
                <a:lnTo>
                  <a:pt x="161" y="405"/>
                </a:lnTo>
                <a:lnTo>
                  <a:pt x="159" y="405"/>
                </a:lnTo>
                <a:lnTo>
                  <a:pt x="155" y="405"/>
                </a:lnTo>
                <a:lnTo>
                  <a:pt x="151" y="405"/>
                </a:lnTo>
                <a:lnTo>
                  <a:pt x="147" y="403"/>
                </a:lnTo>
                <a:lnTo>
                  <a:pt x="144" y="399"/>
                </a:lnTo>
                <a:lnTo>
                  <a:pt x="140" y="396"/>
                </a:lnTo>
                <a:lnTo>
                  <a:pt x="136" y="390"/>
                </a:lnTo>
                <a:lnTo>
                  <a:pt x="134" y="384"/>
                </a:lnTo>
                <a:lnTo>
                  <a:pt x="128" y="376"/>
                </a:lnTo>
                <a:lnTo>
                  <a:pt x="124" y="367"/>
                </a:lnTo>
                <a:lnTo>
                  <a:pt x="121" y="357"/>
                </a:lnTo>
                <a:lnTo>
                  <a:pt x="117" y="346"/>
                </a:lnTo>
                <a:lnTo>
                  <a:pt x="113" y="332"/>
                </a:lnTo>
                <a:lnTo>
                  <a:pt x="109" y="319"/>
                </a:lnTo>
                <a:lnTo>
                  <a:pt x="103" y="304"/>
                </a:lnTo>
                <a:lnTo>
                  <a:pt x="99" y="286"/>
                </a:lnTo>
                <a:lnTo>
                  <a:pt x="94" y="269"/>
                </a:lnTo>
                <a:lnTo>
                  <a:pt x="90" y="248"/>
                </a:lnTo>
                <a:lnTo>
                  <a:pt x="84" y="229"/>
                </a:lnTo>
                <a:lnTo>
                  <a:pt x="78" y="209"/>
                </a:lnTo>
                <a:lnTo>
                  <a:pt x="74" y="192"/>
                </a:lnTo>
                <a:lnTo>
                  <a:pt x="69" y="177"/>
                </a:lnTo>
                <a:lnTo>
                  <a:pt x="65" y="162"/>
                </a:lnTo>
                <a:lnTo>
                  <a:pt x="61" y="146"/>
                </a:lnTo>
                <a:lnTo>
                  <a:pt x="55" y="135"/>
                </a:lnTo>
                <a:lnTo>
                  <a:pt x="51" y="121"/>
                </a:lnTo>
                <a:lnTo>
                  <a:pt x="48" y="110"/>
                </a:lnTo>
                <a:lnTo>
                  <a:pt x="42" y="100"/>
                </a:lnTo>
                <a:lnTo>
                  <a:pt x="38" y="89"/>
                </a:lnTo>
                <a:lnTo>
                  <a:pt x="32" y="81"/>
                </a:lnTo>
                <a:lnTo>
                  <a:pt x="28" y="73"/>
                </a:lnTo>
                <a:lnTo>
                  <a:pt x="23" y="66"/>
                </a:lnTo>
                <a:lnTo>
                  <a:pt x="19" y="58"/>
                </a:lnTo>
                <a:lnTo>
                  <a:pt x="13" y="5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Freeform 47"/>
          <p:cNvSpPr/>
          <p:nvPr/>
        </p:nvSpPr>
        <p:spPr>
          <a:xfrm>
            <a:off x="2928960" y="2757600"/>
            <a:ext cx="539640" cy="271440"/>
          </a:xfrm>
          <a:custGeom>
            <a:avLst/>
            <a:gdLst>
              <a:gd name="textAreaLeft" fmla="*/ 0 w 539640"/>
              <a:gd name="textAreaRight" fmla="*/ 540000 w 5396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679" h="344">
                <a:moveTo>
                  <a:pt x="0" y="108"/>
                </a:moveTo>
                <a:lnTo>
                  <a:pt x="5" y="108"/>
                </a:lnTo>
                <a:lnTo>
                  <a:pt x="13" y="108"/>
                </a:lnTo>
                <a:lnTo>
                  <a:pt x="23" y="108"/>
                </a:lnTo>
                <a:lnTo>
                  <a:pt x="32" y="106"/>
                </a:lnTo>
                <a:lnTo>
                  <a:pt x="44" y="106"/>
                </a:lnTo>
                <a:lnTo>
                  <a:pt x="55" y="104"/>
                </a:lnTo>
                <a:lnTo>
                  <a:pt x="69" y="102"/>
                </a:lnTo>
                <a:lnTo>
                  <a:pt x="84" y="100"/>
                </a:lnTo>
                <a:lnTo>
                  <a:pt x="99" y="98"/>
                </a:lnTo>
                <a:lnTo>
                  <a:pt x="117" y="96"/>
                </a:lnTo>
                <a:lnTo>
                  <a:pt x="136" y="94"/>
                </a:lnTo>
                <a:lnTo>
                  <a:pt x="155" y="92"/>
                </a:lnTo>
                <a:lnTo>
                  <a:pt x="176" y="88"/>
                </a:lnTo>
                <a:lnTo>
                  <a:pt x="197" y="85"/>
                </a:lnTo>
                <a:lnTo>
                  <a:pt x="222" y="83"/>
                </a:lnTo>
                <a:lnTo>
                  <a:pt x="245" y="79"/>
                </a:lnTo>
                <a:lnTo>
                  <a:pt x="268" y="75"/>
                </a:lnTo>
                <a:lnTo>
                  <a:pt x="289" y="71"/>
                </a:lnTo>
                <a:lnTo>
                  <a:pt x="309" y="67"/>
                </a:lnTo>
                <a:lnTo>
                  <a:pt x="328" y="63"/>
                </a:lnTo>
                <a:lnTo>
                  <a:pt x="347" y="60"/>
                </a:lnTo>
                <a:lnTo>
                  <a:pt x="362" y="56"/>
                </a:lnTo>
                <a:lnTo>
                  <a:pt x="380" y="52"/>
                </a:lnTo>
                <a:lnTo>
                  <a:pt x="393" y="48"/>
                </a:lnTo>
                <a:lnTo>
                  <a:pt x="407" y="46"/>
                </a:lnTo>
                <a:lnTo>
                  <a:pt x="418" y="42"/>
                </a:lnTo>
                <a:lnTo>
                  <a:pt x="430" y="38"/>
                </a:lnTo>
                <a:lnTo>
                  <a:pt x="437" y="35"/>
                </a:lnTo>
                <a:lnTo>
                  <a:pt x="447" y="31"/>
                </a:lnTo>
                <a:lnTo>
                  <a:pt x="453" y="27"/>
                </a:lnTo>
                <a:lnTo>
                  <a:pt x="458" y="23"/>
                </a:lnTo>
                <a:lnTo>
                  <a:pt x="462" y="19"/>
                </a:lnTo>
                <a:lnTo>
                  <a:pt x="466" y="15"/>
                </a:lnTo>
                <a:lnTo>
                  <a:pt x="472" y="12"/>
                </a:lnTo>
                <a:lnTo>
                  <a:pt x="478" y="10"/>
                </a:lnTo>
                <a:lnTo>
                  <a:pt x="483" y="6"/>
                </a:lnTo>
                <a:lnTo>
                  <a:pt x="489" y="4"/>
                </a:lnTo>
                <a:lnTo>
                  <a:pt x="497" y="2"/>
                </a:lnTo>
                <a:lnTo>
                  <a:pt x="502" y="0"/>
                </a:lnTo>
                <a:lnTo>
                  <a:pt x="510" y="0"/>
                </a:lnTo>
                <a:lnTo>
                  <a:pt x="512" y="0"/>
                </a:lnTo>
                <a:lnTo>
                  <a:pt x="514" y="0"/>
                </a:lnTo>
                <a:lnTo>
                  <a:pt x="518" y="2"/>
                </a:lnTo>
                <a:lnTo>
                  <a:pt x="522" y="2"/>
                </a:lnTo>
                <a:lnTo>
                  <a:pt x="525" y="4"/>
                </a:lnTo>
                <a:lnTo>
                  <a:pt x="531" y="4"/>
                </a:lnTo>
                <a:lnTo>
                  <a:pt x="537" y="6"/>
                </a:lnTo>
                <a:lnTo>
                  <a:pt x="543" y="8"/>
                </a:lnTo>
                <a:lnTo>
                  <a:pt x="556" y="13"/>
                </a:lnTo>
                <a:lnTo>
                  <a:pt x="572" y="21"/>
                </a:lnTo>
                <a:lnTo>
                  <a:pt x="587" y="29"/>
                </a:lnTo>
                <a:lnTo>
                  <a:pt x="604" y="38"/>
                </a:lnTo>
                <a:lnTo>
                  <a:pt x="621" y="50"/>
                </a:lnTo>
                <a:lnTo>
                  <a:pt x="629" y="56"/>
                </a:lnTo>
                <a:lnTo>
                  <a:pt x="635" y="60"/>
                </a:lnTo>
                <a:lnTo>
                  <a:pt x="643" y="63"/>
                </a:lnTo>
                <a:lnTo>
                  <a:pt x="648" y="69"/>
                </a:lnTo>
                <a:lnTo>
                  <a:pt x="654" y="73"/>
                </a:lnTo>
                <a:lnTo>
                  <a:pt x="660" y="77"/>
                </a:lnTo>
                <a:lnTo>
                  <a:pt x="664" y="79"/>
                </a:lnTo>
                <a:lnTo>
                  <a:pt x="668" y="83"/>
                </a:lnTo>
                <a:lnTo>
                  <a:pt x="671" y="86"/>
                </a:lnTo>
                <a:lnTo>
                  <a:pt x="675" y="88"/>
                </a:lnTo>
                <a:lnTo>
                  <a:pt x="677" y="92"/>
                </a:lnTo>
                <a:lnTo>
                  <a:pt x="679" y="94"/>
                </a:lnTo>
                <a:lnTo>
                  <a:pt x="679" y="96"/>
                </a:lnTo>
                <a:lnTo>
                  <a:pt x="679" y="98"/>
                </a:lnTo>
                <a:lnTo>
                  <a:pt x="679" y="106"/>
                </a:lnTo>
                <a:lnTo>
                  <a:pt x="677" y="113"/>
                </a:lnTo>
                <a:lnTo>
                  <a:pt x="675" y="119"/>
                </a:lnTo>
                <a:lnTo>
                  <a:pt x="671" y="127"/>
                </a:lnTo>
                <a:lnTo>
                  <a:pt x="666" y="132"/>
                </a:lnTo>
                <a:lnTo>
                  <a:pt x="660" y="138"/>
                </a:lnTo>
                <a:lnTo>
                  <a:pt x="652" y="142"/>
                </a:lnTo>
                <a:lnTo>
                  <a:pt x="643" y="148"/>
                </a:lnTo>
                <a:lnTo>
                  <a:pt x="637" y="152"/>
                </a:lnTo>
                <a:lnTo>
                  <a:pt x="631" y="157"/>
                </a:lnTo>
                <a:lnTo>
                  <a:pt x="625" y="163"/>
                </a:lnTo>
                <a:lnTo>
                  <a:pt x="620" y="171"/>
                </a:lnTo>
                <a:lnTo>
                  <a:pt x="612" y="179"/>
                </a:lnTo>
                <a:lnTo>
                  <a:pt x="606" y="190"/>
                </a:lnTo>
                <a:lnTo>
                  <a:pt x="598" y="200"/>
                </a:lnTo>
                <a:lnTo>
                  <a:pt x="593" y="211"/>
                </a:lnTo>
                <a:lnTo>
                  <a:pt x="585" y="225"/>
                </a:lnTo>
                <a:lnTo>
                  <a:pt x="577" y="238"/>
                </a:lnTo>
                <a:lnTo>
                  <a:pt x="570" y="253"/>
                </a:lnTo>
                <a:lnTo>
                  <a:pt x="562" y="269"/>
                </a:lnTo>
                <a:lnTo>
                  <a:pt x="554" y="286"/>
                </a:lnTo>
                <a:lnTo>
                  <a:pt x="547" y="305"/>
                </a:lnTo>
                <a:lnTo>
                  <a:pt x="537" y="322"/>
                </a:lnTo>
                <a:lnTo>
                  <a:pt x="529" y="344"/>
                </a:lnTo>
                <a:lnTo>
                  <a:pt x="426" y="344"/>
                </a:lnTo>
                <a:lnTo>
                  <a:pt x="431" y="321"/>
                </a:lnTo>
                <a:lnTo>
                  <a:pt x="437" y="298"/>
                </a:lnTo>
                <a:lnTo>
                  <a:pt x="443" y="278"/>
                </a:lnTo>
                <a:lnTo>
                  <a:pt x="447" y="259"/>
                </a:lnTo>
                <a:lnTo>
                  <a:pt x="451" y="240"/>
                </a:lnTo>
                <a:lnTo>
                  <a:pt x="454" y="225"/>
                </a:lnTo>
                <a:lnTo>
                  <a:pt x="458" y="209"/>
                </a:lnTo>
                <a:lnTo>
                  <a:pt x="460" y="194"/>
                </a:lnTo>
                <a:lnTo>
                  <a:pt x="462" y="182"/>
                </a:lnTo>
                <a:lnTo>
                  <a:pt x="462" y="171"/>
                </a:lnTo>
                <a:lnTo>
                  <a:pt x="462" y="161"/>
                </a:lnTo>
                <a:lnTo>
                  <a:pt x="462" y="152"/>
                </a:lnTo>
                <a:lnTo>
                  <a:pt x="460" y="144"/>
                </a:lnTo>
                <a:lnTo>
                  <a:pt x="458" y="136"/>
                </a:lnTo>
                <a:lnTo>
                  <a:pt x="456" y="132"/>
                </a:lnTo>
                <a:lnTo>
                  <a:pt x="453" y="127"/>
                </a:lnTo>
                <a:lnTo>
                  <a:pt x="451" y="127"/>
                </a:lnTo>
                <a:lnTo>
                  <a:pt x="449" y="127"/>
                </a:lnTo>
                <a:lnTo>
                  <a:pt x="445" y="125"/>
                </a:lnTo>
                <a:lnTo>
                  <a:pt x="439" y="125"/>
                </a:lnTo>
                <a:lnTo>
                  <a:pt x="435" y="125"/>
                </a:lnTo>
                <a:lnTo>
                  <a:pt x="430" y="125"/>
                </a:lnTo>
                <a:lnTo>
                  <a:pt x="422" y="125"/>
                </a:lnTo>
                <a:lnTo>
                  <a:pt x="414" y="125"/>
                </a:lnTo>
                <a:lnTo>
                  <a:pt x="407" y="125"/>
                </a:lnTo>
                <a:lnTo>
                  <a:pt x="397" y="125"/>
                </a:lnTo>
                <a:lnTo>
                  <a:pt x="387" y="125"/>
                </a:lnTo>
                <a:lnTo>
                  <a:pt x="376" y="125"/>
                </a:lnTo>
                <a:lnTo>
                  <a:pt x="364" y="127"/>
                </a:lnTo>
                <a:lnTo>
                  <a:pt x="353" y="127"/>
                </a:lnTo>
                <a:lnTo>
                  <a:pt x="339" y="129"/>
                </a:lnTo>
                <a:lnTo>
                  <a:pt x="326" y="129"/>
                </a:lnTo>
                <a:lnTo>
                  <a:pt x="311" y="131"/>
                </a:lnTo>
                <a:lnTo>
                  <a:pt x="295" y="132"/>
                </a:lnTo>
                <a:lnTo>
                  <a:pt x="280" y="134"/>
                </a:lnTo>
                <a:lnTo>
                  <a:pt x="263" y="136"/>
                </a:lnTo>
                <a:lnTo>
                  <a:pt x="245" y="138"/>
                </a:lnTo>
                <a:lnTo>
                  <a:pt x="226" y="140"/>
                </a:lnTo>
                <a:lnTo>
                  <a:pt x="207" y="144"/>
                </a:lnTo>
                <a:lnTo>
                  <a:pt x="188" y="146"/>
                </a:lnTo>
                <a:lnTo>
                  <a:pt x="167" y="150"/>
                </a:lnTo>
                <a:lnTo>
                  <a:pt x="146" y="152"/>
                </a:lnTo>
                <a:lnTo>
                  <a:pt x="122" y="156"/>
                </a:lnTo>
                <a:lnTo>
                  <a:pt x="99" y="159"/>
                </a:lnTo>
                <a:lnTo>
                  <a:pt x="76" y="163"/>
                </a:lnTo>
                <a:lnTo>
                  <a:pt x="51" y="167"/>
                </a:lnTo>
                <a:lnTo>
                  <a:pt x="27" y="173"/>
                </a:lnTo>
                <a:lnTo>
                  <a:pt x="0" y="177"/>
                </a:lnTo>
                <a:lnTo>
                  <a:pt x="0" y="10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Freeform 48"/>
          <p:cNvSpPr/>
          <p:nvPr/>
        </p:nvSpPr>
        <p:spPr>
          <a:xfrm>
            <a:off x="3017880" y="2371680"/>
            <a:ext cx="225360" cy="182520"/>
          </a:xfrm>
          <a:custGeom>
            <a:avLst/>
            <a:gdLst>
              <a:gd name="textAreaLeft" fmla="*/ 0 w 225360"/>
              <a:gd name="textAreaRight" fmla="*/ 225720 w 225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84" h="230">
                <a:moveTo>
                  <a:pt x="246" y="63"/>
                </a:moveTo>
                <a:lnTo>
                  <a:pt x="255" y="74"/>
                </a:lnTo>
                <a:lnTo>
                  <a:pt x="263" y="86"/>
                </a:lnTo>
                <a:lnTo>
                  <a:pt x="270" y="97"/>
                </a:lnTo>
                <a:lnTo>
                  <a:pt x="274" y="109"/>
                </a:lnTo>
                <a:lnTo>
                  <a:pt x="278" y="120"/>
                </a:lnTo>
                <a:lnTo>
                  <a:pt x="282" y="134"/>
                </a:lnTo>
                <a:lnTo>
                  <a:pt x="284" y="147"/>
                </a:lnTo>
                <a:lnTo>
                  <a:pt x="284" y="161"/>
                </a:lnTo>
                <a:lnTo>
                  <a:pt x="284" y="170"/>
                </a:lnTo>
                <a:lnTo>
                  <a:pt x="284" y="178"/>
                </a:lnTo>
                <a:lnTo>
                  <a:pt x="282" y="186"/>
                </a:lnTo>
                <a:lnTo>
                  <a:pt x="282" y="193"/>
                </a:lnTo>
                <a:lnTo>
                  <a:pt x="280" y="199"/>
                </a:lnTo>
                <a:lnTo>
                  <a:pt x="278" y="205"/>
                </a:lnTo>
                <a:lnTo>
                  <a:pt x="278" y="211"/>
                </a:lnTo>
                <a:lnTo>
                  <a:pt x="274" y="214"/>
                </a:lnTo>
                <a:lnTo>
                  <a:pt x="272" y="218"/>
                </a:lnTo>
                <a:lnTo>
                  <a:pt x="270" y="222"/>
                </a:lnTo>
                <a:lnTo>
                  <a:pt x="267" y="224"/>
                </a:lnTo>
                <a:lnTo>
                  <a:pt x="263" y="226"/>
                </a:lnTo>
                <a:lnTo>
                  <a:pt x="259" y="228"/>
                </a:lnTo>
                <a:lnTo>
                  <a:pt x="255" y="230"/>
                </a:lnTo>
                <a:lnTo>
                  <a:pt x="251" y="230"/>
                </a:lnTo>
                <a:lnTo>
                  <a:pt x="246" y="230"/>
                </a:lnTo>
                <a:lnTo>
                  <a:pt x="240" y="230"/>
                </a:lnTo>
                <a:lnTo>
                  <a:pt x="232" y="228"/>
                </a:lnTo>
                <a:lnTo>
                  <a:pt x="224" y="224"/>
                </a:lnTo>
                <a:lnTo>
                  <a:pt x="215" y="218"/>
                </a:lnTo>
                <a:lnTo>
                  <a:pt x="203" y="211"/>
                </a:lnTo>
                <a:lnTo>
                  <a:pt x="190" y="201"/>
                </a:lnTo>
                <a:lnTo>
                  <a:pt x="176" y="191"/>
                </a:lnTo>
                <a:lnTo>
                  <a:pt x="161" y="180"/>
                </a:lnTo>
                <a:lnTo>
                  <a:pt x="146" y="166"/>
                </a:lnTo>
                <a:lnTo>
                  <a:pt x="128" y="151"/>
                </a:lnTo>
                <a:lnTo>
                  <a:pt x="109" y="134"/>
                </a:lnTo>
                <a:lnTo>
                  <a:pt x="90" y="115"/>
                </a:lnTo>
                <a:lnTo>
                  <a:pt x="69" y="95"/>
                </a:lnTo>
                <a:lnTo>
                  <a:pt x="48" y="72"/>
                </a:lnTo>
                <a:lnTo>
                  <a:pt x="25" y="49"/>
                </a:lnTo>
                <a:lnTo>
                  <a:pt x="0" y="24"/>
                </a:lnTo>
                <a:lnTo>
                  <a:pt x="11" y="19"/>
                </a:lnTo>
                <a:lnTo>
                  <a:pt x="21" y="15"/>
                </a:lnTo>
                <a:lnTo>
                  <a:pt x="31" y="11"/>
                </a:lnTo>
                <a:lnTo>
                  <a:pt x="42" y="7"/>
                </a:lnTo>
                <a:lnTo>
                  <a:pt x="52" y="5"/>
                </a:lnTo>
                <a:lnTo>
                  <a:pt x="61" y="3"/>
                </a:lnTo>
                <a:lnTo>
                  <a:pt x="71" y="1"/>
                </a:lnTo>
                <a:lnTo>
                  <a:pt x="79" y="0"/>
                </a:lnTo>
                <a:lnTo>
                  <a:pt x="98" y="0"/>
                </a:lnTo>
                <a:lnTo>
                  <a:pt x="115" y="0"/>
                </a:lnTo>
                <a:lnTo>
                  <a:pt x="134" y="1"/>
                </a:lnTo>
                <a:lnTo>
                  <a:pt x="151" y="5"/>
                </a:lnTo>
                <a:lnTo>
                  <a:pt x="169" y="9"/>
                </a:lnTo>
                <a:lnTo>
                  <a:pt x="184" y="15"/>
                </a:lnTo>
                <a:lnTo>
                  <a:pt x="198" y="21"/>
                </a:lnTo>
                <a:lnTo>
                  <a:pt x="209" y="26"/>
                </a:lnTo>
                <a:lnTo>
                  <a:pt x="221" y="34"/>
                </a:lnTo>
                <a:lnTo>
                  <a:pt x="230" y="44"/>
                </a:lnTo>
                <a:lnTo>
                  <a:pt x="238" y="53"/>
                </a:lnTo>
                <a:lnTo>
                  <a:pt x="246" y="6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Freeform 49"/>
          <p:cNvSpPr/>
          <p:nvPr/>
        </p:nvSpPr>
        <p:spPr>
          <a:xfrm>
            <a:off x="2771640" y="2554200"/>
            <a:ext cx="771840" cy="163440"/>
          </a:xfrm>
          <a:custGeom>
            <a:avLst/>
            <a:gdLst>
              <a:gd name="textAreaLeft" fmla="*/ 0 w 771840"/>
              <a:gd name="textAreaRight" fmla="*/ 772200 w 771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973" h="205">
                <a:moveTo>
                  <a:pt x="0" y="167"/>
                </a:moveTo>
                <a:lnTo>
                  <a:pt x="0" y="165"/>
                </a:lnTo>
                <a:lnTo>
                  <a:pt x="0" y="163"/>
                </a:lnTo>
                <a:lnTo>
                  <a:pt x="2" y="161"/>
                </a:lnTo>
                <a:lnTo>
                  <a:pt x="6" y="161"/>
                </a:lnTo>
                <a:lnTo>
                  <a:pt x="8" y="159"/>
                </a:lnTo>
                <a:lnTo>
                  <a:pt x="13" y="157"/>
                </a:lnTo>
                <a:lnTo>
                  <a:pt x="17" y="155"/>
                </a:lnTo>
                <a:lnTo>
                  <a:pt x="23" y="151"/>
                </a:lnTo>
                <a:lnTo>
                  <a:pt x="31" y="150"/>
                </a:lnTo>
                <a:lnTo>
                  <a:pt x="36" y="148"/>
                </a:lnTo>
                <a:lnTo>
                  <a:pt x="46" y="144"/>
                </a:lnTo>
                <a:lnTo>
                  <a:pt x="54" y="142"/>
                </a:lnTo>
                <a:lnTo>
                  <a:pt x="63" y="140"/>
                </a:lnTo>
                <a:lnTo>
                  <a:pt x="73" y="136"/>
                </a:lnTo>
                <a:lnTo>
                  <a:pt x="84" y="132"/>
                </a:lnTo>
                <a:lnTo>
                  <a:pt x="96" y="130"/>
                </a:lnTo>
                <a:lnTo>
                  <a:pt x="109" y="126"/>
                </a:lnTo>
                <a:lnTo>
                  <a:pt x="123" y="123"/>
                </a:lnTo>
                <a:lnTo>
                  <a:pt x="136" y="119"/>
                </a:lnTo>
                <a:lnTo>
                  <a:pt x="152" y="115"/>
                </a:lnTo>
                <a:lnTo>
                  <a:pt x="167" y="111"/>
                </a:lnTo>
                <a:lnTo>
                  <a:pt x="184" y="107"/>
                </a:lnTo>
                <a:lnTo>
                  <a:pt x="202" y="103"/>
                </a:lnTo>
                <a:lnTo>
                  <a:pt x="221" y="100"/>
                </a:lnTo>
                <a:lnTo>
                  <a:pt x="238" y="96"/>
                </a:lnTo>
                <a:lnTo>
                  <a:pt x="259" y="92"/>
                </a:lnTo>
                <a:lnTo>
                  <a:pt x="278" y="86"/>
                </a:lnTo>
                <a:lnTo>
                  <a:pt x="299" y="82"/>
                </a:lnTo>
                <a:lnTo>
                  <a:pt x="322" y="78"/>
                </a:lnTo>
                <a:lnTo>
                  <a:pt x="345" y="73"/>
                </a:lnTo>
                <a:lnTo>
                  <a:pt x="368" y="69"/>
                </a:lnTo>
                <a:lnTo>
                  <a:pt x="391" y="65"/>
                </a:lnTo>
                <a:lnTo>
                  <a:pt x="415" y="59"/>
                </a:lnTo>
                <a:lnTo>
                  <a:pt x="438" y="55"/>
                </a:lnTo>
                <a:lnTo>
                  <a:pt x="459" y="52"/>
                </a:lnTo>
                <a:lnTo>
                  <a:pt x="480" y="48"/>
                </a:lnTo>
                <a:lnTo>
                  <a:pt x="501" y="44"/>
                </a:lnTo>
                <a:lnTo>
                  <a:pt x="520" y="40"/>
                </a:lnTo>
                <a:lnTo>
                  <a:pt x="539" y="36"/>
                </a:lnTo>
                <a:lnTo>
                  <a:pt x="558" y="34"/>
                </a:lnTo>
                <a:lnTo>
                  <a:pt x="576" y="31"/>
                </a:lnTo>
                <a:lnTo>
                  <a:pt x="593" y="29"/>
                </a:lnTo>
                <a:lnTo>
                  <a:pt x="610" y="25"/>
                </a:lnTo>
                <a:lnTo>
                  <a:pt x="628" y="23"/>
                </a:lnTo>
                <a:lnTo>
                  <a:pt x="643" y="21"/>
                </a:lnTo>
                <a:lnTo>
                  <a:pt x="658" y="17"/>
                </a:lnTo>
                <a:lnTo>
                  <a:pt x="672" y="15"/>
                </a:lnTo>
                <a:lnTo>
                  <a:pt x="687" y="13"/>
                </a:lnTo>
                <a:lnTo>
                  <a:pt x="699" y="11"/>
                </a:lnTo>
                <a:lnTo>
                  <a:pt x="712" y="9"/>
                </a:lnTo>
                <a:lnTo>
                  <a:pt x="723" y="9"/>
                </a:lnTo>
                <a:lnTo>
                  <a:pt x="735" y="7"/>
                </a:lnTo>
                <a:lnTo>
                  <a:pt x="747" y="6"/>
                </a:lnTo>
                <a:lnTo>
                  <a:pt x="756" y="6"/>
                </a:lnTo>
                <a:lnTo>
                  <a:pt x="766" y="4"/>
                </a:lnTo>
                <a:lnTo>
                  <a:pt x="775" y="4"/>
                </a:lnTo>
                <a:lnTo>
                  <a:pt x="783" y="2"/>
                </a:lnTo>
                <a:lnTo>
                  <a:pt x="791" y="2"/>
                </a:lnTo>
                <a:lnTo>
                  <a:pt x="798" y="2"/>
                </a:lnTo>
                <a:lnTo>
                  <a:pt x="806" y="2"/>
                </a:lnTo>
                <a:lnTo>
                  <a:pt x="812" y="0"/>
                </a:lnTo>
                <a:lnTo>
                  <a:pt x="816" y="0"/>
                </a:lnTo>
                <a:lnTo>
                  <a:pt x="821" y="0"/>
                </a:lnTo>
                <a:lnTo>
                  <a:pt x="839" y="0"/>
                </a:lnTo>
                <a:lnTo>
                  <a:pt x="854" y="0"/>
                </a:lnTo>
                <a:lnTo>
                  <a:pt x="869" y="2"/>
                </a:lnTo>
                <a:lnTo>
                  <a:pt x="885" y="2"/>
                </a:lnTo>
                <a:lnTo>
                  <a:pt x="898" y="2"/>
                </a:lnTo>
                <a:lnTo>
                  <a:pt x="912" y="4"/>
                </a:lnTo>
                <a:lnTo>
                  <a:pt x="923" y="7"/>
                </a:lnTo>
                <a:lnTo>
                  <a:pt x="935" y="9"/>
                </a:lnTo>
                <a:lnTo>
                  <a:pt x="944" y="13"/>
                </a:lnTo>
                <a:lnTo>
                  <a:pt x="952" y="19"/>
                </a:lnTo>
                <a:lnTo>
                  <a:pt x="960" y="25"/>
                </a:lnTo>
                <a:lnTo>
                  <a:pt x="963" y="31"/>
                </a:lnTo>
                <a:lnTo>
                  <a:pt x="967" y="34"/>
                </a:lnTo>
                <a:lnTo>
                  <a:pt x="971" y="40"/>
                </a:lnTo>
                <a:lnTo>
                  <a:pt x="971" y="46"/>
                </a:lnTo>
                <a:lnTo>
                  <a:pt x="973" y="50"/>
                </a:lnTo>
                <a:lnTo>
                  <a:pt x="971" y="54"/>
                </a:lnTo>
                <a:lnTo>
                  <a:pt x="971" y="57"/>
                </a:lnTo>
                <a:lnTo>
                  <a:pt x="969" y="59"/>
                </a:lnTo>
                <a:lnTo>
                  <a:pt x="967" y="63"/>
                </a:lnTo>
                <a:lnTo>
                  <a:pt x="963" y="67"/>
                </a:lnTo>
                <a:lnTo>
                  <a:pt x="960" y="71"/>
                </a:lnTo>
                <a:lnTo>
                  <a:pt x="956" y="75"/>
                </a:lnTo>
                <a:lnTo>
                  <a:pt x="950" y="77"/>
                </a:lnTo>
                <a:lnTo>
                  <a:pt x="944" y="80"/>
                </a:lnTo>
                <a:lnTo>
                  <a:pt x="937" y="84"/>
                </a:lnTo>
                <a:lnTo>
                  <a:pt x="929" y="86"/>
                </a:lnTo>
                <a:lnTo>
                  <a:pt x="921" y="88"/>
                </a:lnTo>
                <a:lnTo>
                  <a:pt x="912" y="92"/>
                </a:lnTo>
                <a:lnTo>
                  <a:pt x="900" y="94"/>
                </a:lnTo>
                <a:lnTo>
                  <a:pt x="890" y="96"/>
                </a:lnTo>
                <a:lnTo>
                  <a:pt x="877" y="98"/>
                </a:lnTo>
                <a:lnTo>
                  <a:pt x="864" y="102"/>
                </a:lnTo>
                <a:lnTo>
                  <a:pt x="850" y="105"/>
                </a:lnTo>
                <a:lnTo>
                  <a:pt x="833" y="109"/>
                </a:lnTo>
                <a:lnTo>
                  <a:pt x="814" y="113"/>
                </a:lnTo>
                <a:lnTo>
                  <a:pt x="794" y="117"/>
                </a:lnTo>
                <a:lnTo>
                  <a:pt x="773" y="121"/>
                </a:lnTo>
                <a:lnTo>
                  <a:pt x="748" y="125"/>
                </a:lnTo>
                <a:lnTo>
                  <a:pt x="723" y="128"/>
                </a:lnTo>
                <a:lnTo>
                  <a:pt x="699" y="132"/>
                </a:lnTo>
                <a:lnTo>
                  <a:pt x="670" y="138"/>
                </a:lnTo>
                <a:lnTo>
                  <a:pt x="641" y="142"/>
                </a:lnTo>
                <a:lnTo>
                  <a:pt x="610" y="146"/>
                </a:lnTo>
                <a:lnTo>
                  <a:pt x="578" y="151"/>
                </a:lnTo>
                <a:lnTo>
                  <a:pt x="543" y="155"/>
                </a:lnTo>
                <a:lnTo>
                  <a:pt x="509" y="161"/>
                </a:lnTo>
                <a:lnTo>
                  <a:pt x="472" y="167"/>
                </a:lnTo>
                <a:lnTo>
                  <a:pt x="453" y="169"/>
                </a:lnTo>
                <a:lnTo>
                  <a:pt x="436" y="173"/>
                </a:lnTo>
                <a:lnTo>
                  <a:pt x="418" y="174"/>
                </a:lnTo>
                <a:lnTo>
                  <a:pt x="401" y="176"/>
                </a:lnTo>
                <a:lnTo>
                  <a:pt x="386" y="180"/>
                </a:lnTo>
                <a:lnTo>
                  <a:pt x="368" y="182"/>
                </a:lnTo>
                <a:lnTo>
                  <a:pt x="353" y="184"/>
                </a:lnTo>
                <a:lnTo>
                  <a:pt x="340" y="186"/>
                </a:lnTo>
                <a:lnTo>
                  <a:pt x="324" y="188"/>
                </a:lnTo>
                <a:lnTo>
                  <a:pt x="311" y="190"/>
                </a:lnTo>
                <a:lnTo>
                  <a:pt x="297" y="192"/>
                </a:lnTo>
                <a:lnTo>
                  <a:pt x="284" y="192"/>
                </a:lnTo>
                <a:lnTo>
                  <a:pt x="273" y="194"/>
                </a:lnTo>
                <a:lnTo>
                  <a:pt x="261" y="196"/>
                </a:lnTo>
                <a:lnTo>
                  <a:pt x="249" y="196"/>
                </a:lnTo>
                <a:lnTo>
                  <a:pt x="238" y="197"/>
                </a:lnTo>
                <a:lnTo>
                  <a:pt x="228" y="199"/>
                </a:lnTo>
                <a:lnTo>
                  <a:pt x="219" y="199"/>
                </a:lnTo>
                <a:lnTo>
                  <a:pt x="209" y="201"/>
                </a:lnTo>
                <a:lnTo>
                  <a:pt x="200" y="201"/>
                </a:lnTo>
                <a:lnTo>
                  <a:pt x="192" y="201"/>
                </a:lnTo>
                <a:lnTo>
                  <a:pt x="184" y="203"/>
                </a:lnTo>
                <a:lnTo>
                  <a:pt x="177" y="203"/>
                </a:lnTo>
                <a:lnTo>
                  <a:pt x="169" y="203"/>
                </a:lnTo>
                <a:lnTo>
                  <a:pt x="163" y="205"/>
                </a:lnTo>
                <a:lnTo>
                  <a:pt x="157" y="205"/>
                </a:lnTo>
                <a:lnTo>
                  <a:pt x="152" y="205"/>
                </a:lnTo>
                <a:lnTo>
                  <a:pt x="146" y="205"/>
                </a:lnTo>
                <a:lnTo>
                  <a:pt x="142" y="205"/>
                </a:lnTo>
                <a:lnTo>
                  <a:pt x="138" y="205"/>
                </a:lnTo>
                <a:lnTo>
                  <a:pt x="134" y="205"/>
                </a:lnTo>
                <a:lnTo>
                  <a:pt x="132" y="205"/>
                </a:lnTo>
                <a:lnTo>
                  <a:pt x="121" y="205"/>
                </a:lnTo>
                <a:lnTo>
                  <a:pt x="111" y="205"/>
                </a:lnTo>
                <a:lnTo>
                  <a:pt x="94" y="205"/>
                </a:lnTo>
                <a:lnTo>
                  <a:pt x="84" y="203"/>
                </a:lnTo>
                <a:lnTo>
                  <a:pt x="77" y="201"/>
                </a:lnTo>
                <a:lnTo>
                  <a:pt x="67" y="199"/>
                </a:lnTo>
                <a:lnTo>
                  <a:pt x="58" y="196"/>
                </a:lnTo>
                <a:lnTo>
                  <a:pt x="46" y="192"/>
                </a:lnTo>
                <a:lnTo>
                  <a:pt x="36" y="188"/>
                </a:lnTo>
                <a:lnTo>
                  <a:pt x="29" y="186"/>
                </a:lnTo>
                <a:lnTo>
                  <a:pt x="21" y="182"/>
                </a:lnTo>
                <a:lnTo>
                  <a:pt x="15" y="178"/>
                </a:lnTo>
                <a:lnTo>
                  <a:pt x="10" y="174"/>
                </a:lnTo>
                <a:lnTo>
                  <a:pt x="4" y="171"/>
                </a:lnTo>
                <a:lnTo>
                  <a:pt x="0" y="16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Freeform 50"/>
          <p:cNvSpPr/>
          <p:nvPr/>
        </p:nvSpPr>
        <p:spPr>
          <a:xfrm>
            <a:off x="2967120" y="2989440"/>
            <a:ext cx="419040" cy="102960"/>
          </a:xfrm>
          <a:custGeom>
            <a:avLst/>
            <a:gdLst>
              <a:gd name="textAreaLeft" fmla="*/ 0 w 419040"/>
              <a:gd name="textAreaRight" fmla="*/ 419400 w 419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27" h="128">
                <a:moveTo>
                  <a:pt x="301" y="30"/>
                </a:moveTo>
                <a:lnTo>
                  <a:pt x="320" y="27"/>
                </a:lnTo>
                <a:lnTo>
                  <a:pt x="337" y="23"/>
                </a:lnTo>
                <a:lnTo>
                  <a:pt x="355" y="19"/>
                </a:lnTo>
                <a:lnTo>
                  <a:pt x="370" y="17"/>
                </a:lnTo>
                <a:lnTo>
                  <a:pt x="385" y="13"/>
                </a:lnTo>
                <a:lnTo>
                  <a:pt x="399" y="11"/>
                </a:lnTo>
                <a:lnTo>
                  <a:pt x="412" y="9"/>
                </a:lnTo>
                <a:lnTo>
                  <a:pt x="424" y="7"/>
                </a:lnTo>
                <a:lnTo>
                  <a:pt x="435" y="5"/>
                </a:lnTo>
                <a:lnTo>
                  <a:pt x="445" y="4"/>
                </a:lnTo>
                <a:lnTo>
                  <a:pt x="454" y="4"/>
                </a:lnTo>
                <a:lnTo>
                  <a:pt x="464" y="2"/>
                </a:lnTo>
                <a:lnTo>
                  <a:pt x="472" y="2"/>
                </a:lnTo>
                <a:lnTo>
                  <a:pt x="477" y="0"/>
                </a:lnTo>
                <a:lnTo>
                  <a:pt x="485" y="0"/>
                </a:lnTo>
                <a:lnTo>
                  <a:pt x="491" y="0"/>
                </a:lnTo>
                <a:lnTo>
                  <a:pt x="501" y="0"/>
                </a:lnTo>
                <a:lnTo>
                  <a:pt x="508" y="2"/>
                </a:lnTo>
                <a:lnTo>
                  <a:pt x="514" y="5"/>
                </a:lnTo>
                <a:lnTo>
                  <a:pt x="520" y="9"/>
                </a:lnTo>
                <a:lnTo>
                  <a:pt x="524" y="13"/>
                </a:lnTo>
                <a:lnTo>
                  <a:pt x="525" y="21"/>
                </a:lnTo>
                <a:lnTo>
                  <a:pt x="527" y="28"/>
                </a:lnTo>
                <a:lnTo>
                  <a:pt x="527" y="40"/>
                </a:lnTo>
                <a:lnTo>
                  <a:pt x="527" y="50"/>
                </a:lnTo>
                <a:lnTo>
                  <a:pt x="525" y="57"/>
                </a:lnTo>
                <a:lnTo>
                  <a:pt x="524" y="65"/>
                </a:lnTo>
                <a:lnTo>
                  <a:pt x="520" y="71"/>
                </a:lnTo>
                <a:lnTo>
                  <a:pt x="514" y="75"/>
                </a:lnTo>
                <a:lnTo>
                  <a:pt x="508" y="76"/>
                </a:lnTo>
                <a:lnTo>
                  <a:pt x="501" y="78"/>
                </a:lnTo>
                <a:lnTo>
                  <a:pt x="491" y="78"/>
                </a:lnTo>
                <a:lnTo>
                  <a:pt x="487" y="78"/>
                </a:lnTo>
                <a:lnTo>
                  <a:pt x="483" y="78"/>
                </a:lnTo>
                <a:lnTo>
                  <a:pt x="479" y="78"/>
                </a:lnTo>
                <a:lnTo>
                  <a:pt x="474" y="78"/>
                </a:lnTo>
                <a:lnTo>
                  <a:pt x="468" y="80"/>
                </a:lnTo>
                <a:lnTo>
                  <a:pt x="460" y="80"/>
                </a:lnTo>
                <a:lnTo>
                  <a:pt x="453" y="80"/>
                </a:lnTo>
                <a:lnTo>
                  <a:pt x="443" y="82"/>
                </a:lnTo>
                <a:lnTo>
                  <a:pt x="435" y="82"/>
                </a:lnTo>
                <a:lnTo>
                  <a:pt x="424" y="84"/>
                </a:lnTo>
                <a:lnTo>
                  <a:pt x="414" y="84"/>
                </a:lnTo>
                <a:lnTo>
                  <a:pt x="403" y="86"/>
                </a:lnTo>
                <a:lnTo>
                  <a:pt x="389" y="88"/>
                </a:lnTo>
                <a:lnTo>
                  <a:pt x="376" y="88"/>
                </a:lnTo>
                <a:lnTo>
                  <a:pt x="362" y="90"/>
                </a:lnTo>
                <a:lnTo>
                  <a:pt x="347" y="92"/>
                </a:lnTo>
                <a:lnTo>
                  <a:pt x="332" y="94"/>
                </a:lnTo>
                <a:lnTo>
                  <a:pt x="314" y="96"/>
                </a:lnTo>
                <a:lnTo>
                  <a:pt x="297" y="98"/>
                </a:lnTo>
                <a:lnTo>
                  <a:pt x="280" y="99"/>
                </a:lnTo>
                <a:lnTo>
                  <a:pt x="261" y="101"/>
                </a:lnTo>
                <a:lnTo>
                  <a:pt x="241" y="103"/>
                </a:lnTo>
                <a:lnTo>
                  <a:pt x="220" y="105"/>
                </a:lnTo>
                <a:lnTo>
                  <a:pt x="199" y="107"/>
                </a:lnTo>
                <a:lnTo>
                  <a:pt x="178" y="109"/>
                </a:lnTo>
                <a:lnTo>
                  <a:pt x="155" y="111"/>
                </a:lnTo>
                <a:lnTo>
                  <a:pt x="130" y="115"/>
                </a:lnTo>
                <a:lnTo>
                  <a:pt x="105" y="117"/>
                </a:lnTo>
                <a:lnTo>
                  <a:pt x="80" y="119"/>
                </a:lnTo>
                <a:lnTo>
                  <a:pt x="55" y="123"/>
                </a:lnTo>
                <a:lnTo>
                  <a:pt x="27" y="124"/>
                </a:lnTo>
                <a:lnTo>
                  <a:pt x="0" y="128"/>
                </a:lnTo>
                <a:lnTo>
                  <a:pt x="0" y="50"/>
                </a:lnTo>
                <a:lnTo>
                  <a:pt x="38" y="48"/>
                </a:lnTo>
                <a:lnTo>
                  <a:pt x="76" y="48"/>
                </a:lnTo>
                <a:lnTo>
                  <a:pt x="113" y="46"/>
                </a:lnTo>
                <a:lnTo>
                  <a:pt x="151" y="44"/>
                </a:lnTo>
                <a:lnTo>
                  <a:pt x="224" y="36"/>
                </a:lnTo>
                <a:lnTo>
                  <a:pt x="263" y="32"/>
                </a:lnTo>
                <a:lnTo>
                  <a:pt x="301" y="3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Freeform 51"/>
          <p:cNvSpPr/>
          <p:nvPr/>
        </p:nvSpPr>
        <p:spPr>
          <a:xfrm>
            <a:off x="2689200" y="3106800"/>
            <a:ext cx="1117800" cy="26676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407" h="336">
                <a:moveTo>
                  <a:pt x="1369" y="137"/>
                </a:moveTo>
                <a:lnTo>
                  <a:pt x="1374" y="144"/>
                </a:lnTo>
                <a:lnTo>
                  <a:pt x="1382" y="152"/>
                </a:lnTo>
                <a:lnTo>
                  <a:pt x="1386" y="158"/>
                </a:lnTo>
                <a:lnTo>
                  <a:pt x="1392" y="166"/>
                </a:lnTo>
                <a:lnTo>
                  <a:pt x="1396" y="171"/>
                </a:lnTo>
                <a:lnTo>
                  <a:pt x="1399" y="177"/>
                </a:lnTo>
                <a:lnTo>
                  <a:pt x="1403" y="183"/>
                </a:lnTo>
                <a:lnTo>
                  <a:pt x="1407" y="187"/>
                </a:lnTo>
                <a:lnTo>
                  <a:pt x="1405" y="192"/>
                </a:lnTo>
                <a:lnTo>
                  <a:pt x="1405" y="196"/>
                </a:lnTo>
                <a:lnTo>
                  <a:pt x="1403" y="198"/>
                </a:lnTo>
                <a:lnTo>
                  <a:pt x="1401" y="202"/>
                </a:lnTo>
                <a:lnTo>
                  <a:pt x="1397" y="204"/>
                </a:lnTo>
                <a:lnTo>
                  <a:pt x="1396" y="206"/>
                </a:lnTo>
                <a:lnTo>
                  <a:pt x="1392" y="208"/>
                </a:lnTo>
                <a:lnTo>
                  <a:pt x="1386" y="210"/>
                </a:lnTo>
                <a:lnTo>
                  <a:pt x="1382" y="212"/>
                </a:lnTo>
                <a:lnTo>
                  <a:pt x="1376" y="213"/>
                </a:lnTo>
                <a:lnTo>
                  <a:pt x="1371" y="213"/>
                </a:lnTo>
                <a:lnTo>
                  <a:pt x="1365" y="215"/>
                </a:lnTo>
                <a:lnTo>
                  <a:pt x="1357" y="215"/>
                </a:lnTo>
                <a:lnTo>
                  <a:pt x="1349" y="215"/>
                </a:lnTo>
                <a:lnTo>
                  <a:pt x="1340" y="215"/>
                </a:lnTo>
                <a:lnTo>
                  <a:pt x="1323" y="219"/>
                </a:lnTo>
                <a:lnTo>
                  <a:pt x="1302" y="225"/>
                </a:lnTo>
                <a:lnTo>
                  <a:pt x="1280" y="231"/>
                </a:lnTo>
                <a:lnTo>
                  <a:pt x="1257" y="238"/>
                </a:lnTo>
                <a:lnTo>
                  <a:pt x="1232" y="248"/>
                </a:lnTo>
                <a:lnTo>
                  <a:pt x="1206" y="258"/>
                </a:lnTo>
                <a:lnTo>
                  <a:pt x="1179" y="271"/>
                </a:lnTo>
                <a:lnTo>
                  <a:pt x="1165" y="277"/>
                </a:lnTo>
                <a:lnTo>
                  <a:pt x="1152" y="284"/>
                </a:lnTo>
                <a:lnTo>
                  <a:pt x="1138" y="294"/>
                </a:lnTo>
                <a:lnTo>
                  <a:pt x="1125" y="302"/>
                </a:lnTo>
                <a:lnTo>
                  <a:pt x="1113" y="308"/>
                </a:lnTo>
                <a:lnTo>
                  <a:pt x="1102" y="315"/>
                </a:lnTo>
                <a:lnTo>
                  <a:pt x="1092" y="319"/>
                </a:lnTo>
                <a:lnTo>
                  <a:pt x="1083" y="325"/>
                </a:lnTo>
                <a:lnTo>
                  <a:pt x="1073" y="329"/>
                </a:lnTo>
                <a:lnTo>
                  <a:pt x="1065" y="331"/>
                </a:lnTo>
                <a:lnTo>
                  <a:pt x="1058" y="334"/>
                </a:lnTo>
                <a:lnTo>
                  <a:pt x="1052" y="334"/>
                </a:lnTo>
                <a:lnTo>
                  <a:pt x="1046" y="336"/>
                </a:lnTo>
                <a:lnTo>
                  <a:pt x="1041" y="336"/>
                </a:lnTo>
                <a:lnTo>
                  <a:pt x="1037" y="336"/>
                </a:lnTo>
                <a:lnTo>
                  <a:pt x="1033" y="336"/>
                </a:lnTo>
                <a:lnTo>
                  <a:pt x="1031" y="334"/>
                </a:lnTo>
                <a:lnTo>
                  <a:pt x="1029" y="332"/>
                </a:lnTo>
                <a:lnTo>
                  <a:pt x="1027" y="331"/>
                </a:lnTo>
                <a:lnTo>
                  <a:pt x="1027" y="329"/>
                </a:lnTo>
                <a:lnTo>
                  <a:pt x="1027" y="325"/>
                </a:lnTo>
                <a:lnTo>
                  <a:pt x="1027" y="323"/>
                </a:lnTo>
                <a:lnTo>
                  <a:pt x="1027" y="319"/>
                </a:lnTo>
                <a:lnTo>
                  <a:pt x="1029" y="313"/>
                </a:lnTo>
                <a:lnTo>
                  <a:pt x="1031" y="309"/>
                </a:lnTo>
                <a:lnTo>
                  <a:pt x="1033" y="304"/>
                </a:lnTo>
                <a:lnTo>
                  <a:pt x="1041" y="292"/>
                </a:lnTo>
                <a:lnTo>
                  <a:pt x="1048" y="279"/>
                </a:lnTo>
                <a:lnTo>
                  <a:pt x="1056" y="263"/>
                </a:lnTo>
                <a:lnTo>
                  <a:pt x="1067" y="244"/>
                </a:lnTo>
                <a:lnTo>
                  <a:pt x="1077" y="231"/>
                </a:lnTo>
                <a:lnTo>
                  <a:pt x="1085" y="217"/>
                </a:lnTo>
                <a:lnTo>
                  <a:pt x="1090" y="204"/>
                </a:lnTo>
                <a:lnTo>
                  <a:pt x="1094" y="192"/>
                </a:lnTo>
                <a:lnTo>
                  <a:pt x="1098" y="181"/>
                </a:lnTo>
                <a:lnTo>
                  <a:pt x="1098" y="169"/>
                </a:lnTo>
                <a:lnTo>
                  <a:pt x="1098" y="158"/>
                </a:lnTo>
                <a:lnTo>
                  <a:pt x="1094" y="146"/>
                </a:lnTo>
                <a:lnTo>
                  <a:pt x="1090" y="141"/>
                </a:lnTo>
                <a:lnTo>
                  <a:pt x="1087" y="135"/>
                </a:lnTo>
                <a:lnTo>
                  <a:pt x="1081" y="129"/>
                </a:lnTo>
                <a:lnTo>
                  <a:pt x="1073" y="125"/>
                </a:lnTo>
                <a:lnTo>
                  <a:pt x="1065" y="121"/>
                </a:lnTo>
                <a:lnTo>
                  <a:pt x="1058" y="119"/>
                </a:lnTo>
                <a:lnTo>
                  <a:pt x="1048" y="118"/>
                </a:lnTo>
                <a:lnTo>
                  <a:pt x="1039" y="118"/>
                </a:lnTo>
                <a:lnTo>
                  <a:pt x="1027" y="118"/>
                </a:lnTo>
                <a:lnTo>
                  <a:pt x="1016" y="118"/>
                </a:lnTo>
                <a:lnTo>
                  <a:pt x="1002" y="118"/>
                </a:lnTo>
                <a:lnTo>
                  <a:pt x="989" y="119"/>
                </a:lnTo>
                <a:lnTo>
                  <a:pt x="973" y="119"/>
                </a:lnTo>
                <a:lnTo>
                  <a:pt x="958" y="121"/>
                </a:lnTo>
                <a:lnTo>
                  <a:pt x="943" y="123"/>
                </a:lnTo>
                <a:lnTo>
                  <a:pt x="925" y="127"/>
                </a:lnTo>
                <a:lnTo>
                  <a:pt x="920" y="129"/>
                </a:lnTo>
                <a:lnTo>
                  <a:pt x="916" y="129"/>
                </a:lnTo>
                <a:lnTo>
                  <a:pt x="910" y="131"/>
                </a:lnTo>
                <a:lnTo>
                  <a:pt x="904" y="133"/>
                </a:lnTo>
                <a:lnTo>
                  <a:pt x="897" y="133"/>
                </a:lnTo>
                <a:lnTo>
                  <a:pt x="889" y="135"/>
                </a:lnTo>
                <a:lnTo>
                  <a:pt x="881" y="137"/>
                </a:lnTo>
                <a:lnTo>
                  <a:pt x="874" y="139"/>
                </a:lnTo>
                <a:lnTo>
                  <a:pt x="866" y="141"/>
                </a:lnTo>
                <a:lnTo>
                  <a:pt x="856" y="142"/>
                </a:lnTo>
                <a:lnTo>
                  <a:pt x="847" y="144"/>
                </a:lnTo>
                <a:lnTo>
                  <a:pt x="837" y="146"/>
                </a:lnTo>
                <a:lnTo>
                  <a:pt x="826" y="148"/>
                </a:lnTo>
                <a:lnTo>
                  <a:pt x="814" y="150"/>
                </a:lnTo>
                <a:lnTo>
                  <a:pt x="803" y="152"/>
                </a:lnTo>
                <a:lnTo>
                  <a:pt x="791" y="154"/>
                </a:lnTo>
                <a:lnTo>
                  <a:pt x="778" y="156"/>
                </a:lnTo>
                <a:lnTo>
                  <a:pt x="764" y="160"/>
                </a:lnTo>
                <a:lnTo>
                  <a:pt x="751" y="162"/>
                </a:lnTo>
                <a:lnTo>
                  <a:pt x="737" y="164"/>
                </a:lnTo>
                <a:lnTo>
                  <a:pt x="722" y="166"/>
                </a:lnTo>
                <a:lnTo>
                  <a:pt x="707" y="169"/>
                </a:lnTo>
                <a:lnTo>
                  <a:pt x="691" y="171"/>
                </a:lnTo>
                <a:lnTo>
                  <a:pt x="676" y="173"/>
                </a:lnTo>
                <a:lnTo>
                  <a:pt x="659" y="177"/>
                </a:lnTo>
                <a:lnTo>
                  <a:pt x="641" y="179"/>
                </a:lnTo>
                <a:lnTo>
                  <a:pt x="624" y="183"/>
                </a:lnTo>
                <a:lnTo>
                  <a:pt x="607" y="185"/>
                </a:lnTo>
                <a:lnTo>
                  <a:pt x="588" y="189"/>
                </a:lnTo>
                <a:lnTo>
                  <a:pt x="568" y="190"/>
                </a:lnTo>
                <a:lnTo>
                  <a:pt x="549" y="192"/>
                </a:lnTo>
                <a:lnTo>
                  <a:pt x="528" y="196"/>
                </a:lnTo>
                <a:lnTo>
                  <a:pt x="488" y="204"/>
                </a:lnTo>
                <a:lnTo>
                  <a:pt x="449" y="210"/>
                </a:lnTo>
                <a:lnTo>
                  <a:pt x="411" y="215"/>
                </a:lnTo>
                <a:lnTo>
                  <a:pt x="373" y="221"/>
                </a:lnTo>
                <a:lnTo>
                  <a:pt x="336" y="227"/>
                </a:lnTo>
                <a:lnTo>
                  <a:pt x="302" y="233"/>
                </a:lnTo>
                <a:lnTo>
                  <a:pt x="267" y="237"/>
                </a:lnTo>
                <a:lnTo>
                  <a:pt x="233" y="240"/>
                </a:lnTo>
                <a:lnTo>
                  <a:pt x="200" y="244"/>
                </a:lnTo>
                <a:lnTo>
                  <a:pt x="167" y="246"/>
                </a:lnTo>
                <a:lnTo>
                  <a:pt x="139" y="250"/>
                </a:lnTo>
                <a:lnTo>
                  <a:pt x="108" y="252"/>
                </a:lnTo>
                <a:lnTo>
                  <a:pt x="79" y="252"/>
                </a:lnTo>
                <a:lnTo>
                  <a:pt x="52" y="254"/>
                </a:lnTo>
                <a:lnTo>
                  <a:pt x="25" y="254"/>
                </a:lnTo>
                <a:lnTo>
                  <a:pt x="0" y="256"/>
                </a:lnTo>
                <a:lnTo>
                  <a:pt x="0" y="187"/>
                </a:lnTo>
                <a:lnTo>
                  <a:pt x="18" y="187"/>
                </a:lnTo>
                <a:lnTo>
                  <a:pt x="35" y="185"/>
                </a:lnTo>
                <a:lnTo>
                  <a:pt x="54" y="185"/>
                </a:lnTo>
                <a:lnTo>
                  <a:pt x="77" y="183"/>
                </a:lnTo>
                <a:lnTo>
                  <a:pt x="98" y="181"/>
                </a:lnTo>
                <a:lnTo>
                  <a:pt x="123" y="179"/>
                </a:lnTo>
                <a:lnTo>
                  <a:pt x="150" y="175"/>
                </a:lnTo>
                <a:lnTo>
                  <a:pt x="177" y="173"/>
                </a:lnTo>
                <a:lnTo>
                  <a:pt x="206" y="169"/>
                </a:lnTo>
                <a:lnTo>
                  <a:pt x="236" y="166"/>
                </a:lnTo>
                <a:lnTo>
                  <a:pt x="269" y="162"/>
                </a:lnTo>
                <a:lnTo>
                  <a:pt x="304" y="158"/>
                </a:lnTo>
                <a:lnTo>
                  <a:pt x="338" y="152"/>
                </a:lnTo>
                <a:lnTo>
                  <a:pt x="375" y="148"/>
                </a:lnTo>
                <a:lnTo>
                  <a:pt x="413" y="142"/>
                </a:lnTo>
                <a:lnTo>
                  <a:pt x="453" y="137"/>
                </a:lnTo>
                <a:lnTo>
                  <a:pt x="494" y="131"/>
                </a:lnTo>
                <a:lnTo>
                  <a:pt x="532" y="125"/>
                </a:lnTo>
                <a:lnTo>
                  <a:pt x="568" y="121"/>
                </a:lnTo>
                <a:lnTo>
                  <a:pt x="603" y="116"/>
                </a:lnTo>
                <a:lnTo>
                  <a:pt x="638" y="110"/>
                </a:lnTo>
                <a:lnTo>
                  <a:pt x="670" y="104"/>
                </a:lnTo>
                <a:lnTo>
                  <a:pt x="701" y="100"/>
                </a:lnTo>
                <a:lnTo>
                  <a:pt x="730" y="94"/>
                </a:lnTo>
                <a:lnTo>
                  <a:pt x="758" y="89"/>
                </a:lnTo>
                <a:lnTo>
                  <a:pt x="785" y="85"/>
                </a:lnTo>
                <a:lnTo>
                  <a:pt x="810" y="79"/>
                </a:lnTo>
                <a:lnTo>
                  <a:pt x="833" y="75"/>
                </a:lnTo>
                <a:lnTo>
                  <a:pt x="856" y="71"/>
                </a:lnTo>
                <a:lnTo>
                  <a:pt x="877" y="66"/>
                </a:lnTo>
                <a:lnTo>
                  <a:pt x="897" y="62"/>
                </a:lnTo>
                <a:lnTo>
                  <a:pt x="916" y="58"/>
                </a:lnTo>
                <a:lnTo>
                  <a:pt x="933" y="54"/>
                </a:lnTo>
                <a:lnTo>
                  <a:pt x="948" y="52"/>
                </a:lnTo>
                <a:lnTo>
                  <a:pt x="964" y="48"/>
                </a:lnTo>
                <a:lnTo>
                  <a:pt x="979" y="45"/>
                </a:lnTo>
                <a:lnTo>
                  <a:pt x="993" y="41"/>
                </a:lnTo>
                <a:lnTo>
                  <a:pt x="1006" y="37"/>
                </a:lnTo>
                <a:lnTo>
                  <a:pt x="1017" y="33"/>
                </a:lnTo>
                <a:lnTo>
                  <a:pt x="1027" y="31"/>
                </a:lnTo>
                <a:lnTo>
                  <a:pt x="1037" y="27"/>
                </a:lnTo>
                <a:lnTo>
                  <a:pt x="1046" y="23"/>
                </a:lnTo>
                <a:lnTo>
                  <a:pt x="1054" y="22"/>
                </a:lnTo>
                <a:lnTo>
                  <a:pt x="1060" y="20"/>
                </a:lnTo>
                <a:lnTo>
                  <a:pt x="1065" y="16"/>
                </a:lnTo>
                <a:lnTo>
                  <a:pt x="1071" y="14"/>
                </a:lnTo>
                <a:lnTo>
                  <a:pt x="1073" y="12"/>
                </a:lnTo>
                <a:lnTo>
                  <a:pt x="1077" y="10"/>
                </a:lnTo>
                <a:lnTo>
                  <a:pt x="1081" y="6"/>
                </a:lnTo>
                <a:lnTo>
                  <a:pt x="1085" y="4"/>
                </a:lnTo>
                <a:lnTo>
                  <a:pt x="1090" y="2"/>
                </a:lnTo>
                <a:lnTo>
                  <a:pt x="1096" y="0"/>
                </a:lnTo>
                <a:lnTo>
                  <a:pt x="1110" y="0"/>
                </a:lnTo>
                <a:lnTo>
                  <a:pt x="1123" y="0"/>
                </a:lnTo>
                <a:lnTo>
                  <a:pt x="1131" y="4"/>
                </a:lnTo>
                <a:lnTo>
                  <a:pt x="1136" y="6"/>
                </a:lnTo>
                <a:lnTo>
                  <a:pt x="1140" y="10"/>
                </a:lnTo>
                <a:lnTo>
                  <a:pt x="1146" y="12"/>
                </a:lnTo>
                <a:lnTo>
                  <a:pt x="1154" y="16"/>
                </a:lnTo>
                <a:lnTo>
                  <a:pt x="1159" y="18"/>
                </a:lnTo>
                <a:lnTo>
                  <a:pt x="1167" y="22"/>
                </a:lnTo>
                <a:lnTo>
                  <a:pt x="1175" y="25"/>
                </a:lnTo>
                <a:lnTo>
                  <a:pt x="1183" y="29"/>
                </a:lnTo>
                <a:lnTo>
                  <a:pt x="1192" y="33"/>
                </a:lnTo>
                <a:lnTo>
                  <a:pt x="1202" y="39"/>
                </a:lnTo>
                <a:lnTo>
                  <a:pt x="1211" y="43"/>
                </a:lnTo>
                <a:lnTo>
                  <a:pt x="1223" y="48"/>
                </a:lnTo>
                <a:lnTo>
                  <a:pt x="1234" y="54"/>
                </a:lnTo>
                <a:lnTo>
                  <a:pt x="1246" y="58"/>
                </a:lnTo>
                <a:lnTo>
                  <a:pt x="1257" y="64"/>
                </a:lnTo>
                <a:lnTo>
                  <a:pt x="1269" y="70"/>
                </a:lnTo>
                <a:lnTo>
                  <a:pt x="1280" y="75"/>
                </a:lnTo>
                <a:lnTo>
                  <a:pt x="1290" y="81"/>
                </a:lnTo>
                <a:lnTo>
                  <a:pt x="1300" y="87"/>
                </a:lnTo>
                <a:lnTo>
                  <a:pt x="1309" y="91"/>
                </a:lnTo>
                <a:lnTo>
                  <a:pt x="1317" y="96"/>
                </a:lnTo>
                <a:lnTo>
                  <a:pt x="1325" y="102"/>
                </a:lnTo>
                <a:lnTo>
                  <a:pt x="1332" y="106"/>
                </a:lnTo>
                <a:lnTo>
                  <a:pt x="1340" y="112"/>
                </a:lnTo>
                <a:lnTo>
                  <a:pt x="1346" y="116"/>
                </a:lnTo>
                <a:lnTo>
                  <a:pt x="1351" y="121"/>
                </a:lnTo>
                <a:lnTo>
                  <a:pt x="1355" y="125"/>
                </a:lnTo>
                <a:lnTo>
                  <a:pt x="1361" y="129"/>
                </a:lnTo>
                <a:lnTo>
                  <a:pt x="1365" y="133"/>
                </a:lnTo>
                <a:lnTo>
                  <a:pt x="1369" y="13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1" name="Group 34"/>
          <p:cNvGrpSpPr/>
          <p:nvPr/>
        </p:nvGrpSpPr>
        <p:grpSpPr>
          <a:xfrm>
            <a:off x="4724280" y="1371600"/>
            <a:ext cx="3276720" cy="1107720"/>
            <a:chOff x="4724280" y="1371600"/>
            <a:chExt cx="3276720" cy="1107720"/>
          </a:xfrm>
        </p:grpSpPr>
        <p:sp>
          <p:nvSpPr>
            <p:cNvPr id="4152" name="Text Box 31"/>
            <p:cNvSpPr/>
            <p:nvPr/>
          </p:nvSpPr>
          <p:spPr>
            <a:xfrm>
              <a:off x="4724280" y="1738440"/>
              <a:ext cx="327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单人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3" name="Group 36"/>
            <p:cNvGrpSpPr/>
            <p:nvPr/>
          </p:nvGrpSpPr>
          <p:grpSpPr>
            <a:xfrm>
              <a:off x="6781680" y="1371600"/>
              <a:ext cx="420840" cy="1107720"/>
              <a:chOff x="6781680" y="1371600"/>
              <a:chExt cx="420840" cy="1107720"/>
            </a:xfrm>
          </p:grpSpPr>
          <p:sp>
            <p:nvSpPr>
              <p:cNvPr id="4154" name="Freeform 52"/>
              <p:cNvSpPr/>
              <p:nvPr/>
            </p:nvSpPr>
            <p:spPr>
              <a:xfrm>
                <a:off x="6781680" y="1371600"/>
                <a:ext cx="420840" cy="62136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758" h="1121">
                    <a:moveTo>
                      <a:pt x="408" y="724"/>
                    </a:moveTo>
                    <a:lnTo>
                      <a:pt x="391" y="747"/>
                    </a:lnTo>
                    <a:lnTo>
                      <a:pt x="374" y="770"/>
                    </a:lnTo>
                    <a:lnTo>
                      <a:pt x="356" y="793"/>
                    </a:lnTo>
                    <a:lnTo>
                      <a:pt x="339" y="816"/>
                    </a:lnTo>
                    <a:lnTo>
                      <a:pt x="322" y="837"/>
                    </a:lnTo>
                    <a:lnTo>
                      <a:pt x="307" y="858"/>
                    </a:lnTo>
                    <a:lnTo>
                      <a:pt x="289" y="877"/>
                    </a:lnTo>
                    <a:lnTo>
                      <a:pt x="272" y="896"/>
                    </a:lnTo>
                    <a:lnTo>
                      <a:pt x="257" y="915"/>
                    </a:lnTo>
                    <a:lnTo>
                      <a:pt x="239" y="935"/>
                    </a:lnTo>
                    <a:lnTo>
                      <a:pt x="224" y="952"/>
                    </a:lnTo>
                    <a:lnTo>
                      <a:pt x="207" y="967"/>
                    </a:lnTo>
                    <a:lnTo>
                      <a:pt x="191" y="985"/>
                    </a:lnTo>
                    <a:lnTo>
                      <a:pt x="176" y="1000"/>
                    </a:lnTo>
                    <a:lnTo>
                      <a:pt x="161" y="1013"/>
                    </a:lnTo>
                    <a:lnTo>
                      <a:pt x="143" y="1027"/>
                    </a:lnTo>
                    <a:lnTo>
                      <a:pt x="128" y="1040"/>
                    </a:lnTo>
                    <a:lnTo>
                      <a:pt x="115" y="1054"/>
                    </a:lnTo>
                    <a:lnTo>
                      <a:pt x="101" y="1065"/>
                    </a:lnTo>
                    <a:lnTo>
                      <a:pt x="88" y="1077"/>
                    </a:lnTo>
                    <a:lnTo>
                      <a:pt x="76" y="1086"/>
                    </a:lnTo>
                    <a:lnTo>
                      <a:pt x="65" y="1094"/>
                    </a:lnTo>
                    <a:lnTo>
                      <a:pt x="55" y="1102"/>
                    </a:lnTo>
                    <a:lnTo>
                      <a:pt x="46" y="1107"/>
                    </a:lnTo>
                    <a:lnTo>
                      <a:pt x="36" y="1113"/>
                    </a:lnTo>
                    <a:lnTo>
                      <a:pt x="28" y="1117"/>
                    </a:lnTo>
                    <a:lnTo>
                      <a:pt x="23" y="1119"/>
                    </a:lnTo>
                    <a:lnTo>
                      <a:pt x="17" y="1121"/>
                    </a:lnTo>
                    <a:lnTo>
                      <a:pt x="11" y="1121"/>
                    </a:lnTo>
                    <a:lnTo>
                      <a:pt x="7" y="1121"/>
                    </a:lnTo>
                    <a:lnTo>
                      <a:pt x="5" y="1119"/>
                    </a:lnTo>
                    <a:lnTo>
                      <a:pt x="3" y="1115"/>
                    </a:lnTo>
                    <a:lnTo>
                      <a:pt x="1" y="1113"/>
                    </a:lnTo>
                    <a:lnTo>
                      <a:pt x="0" y="1109"/>
                    </a:lnTo>
                    <a:lnTo>
                      <a:pt x="0" y="1105"/>
                    </a:lnTo>
                    <a:lnTo>
                      <a:pt x="1" y="1100"/>
                    </a:lnTo>
                    <a:lnTo>
                      <a:pt x="3" y="1096"/>
                    </a:lnTo>
                    <a:lnTo>
                      <a:pt x="5" y="1088"/>
                    </a:lnTo>
                    <a:lnTo>
                      <a:pt x="7" y="1081"/>
                    </a:lnTo>
                    <a:lnTo>
                      <a:pt x="13" y="1073"/>
                    </a:lnTo>
                    <a:lnTo>
                      <a:pt x="17" y="1065"/>
                    </a:lnTo>
                    <a:lnTo>
                      <a:pt x="23" y="1056"/>
                    </a:lnTo>
                    <a:lnTo>
                      <a:pt x="30" y="1046"/>
                    </a:lnTo>
                    <a:lnTo>
                      <a:pt x="38" y="1034"/>
                    </a:lnTo>
                    <a:lnTo>
                      <a:pt x="46" y="1025"/>
                    </a:lnTo>
                    <a:lnTo>
                      <a:pt x="55" y="1013"/>
                    </a:lnTo>
                    <a:lnTo>
                      <a:pt x="67" y="1000"/>
                    </a:lnTo>
                    <a:lnTo>
                      <a:pt x="78" y="988"/>
                    </a:lnTo>
                    <a:lnTo>
                      <a:pt x="90" y="973"/>
                    </a:lnTo>
                    <a:lnTo>
                      <a:pt x="103" y="960"/>
                    </a:lnTo>
                    <a:lnTo>
                      <a:pt x="117" y="944"/>
                    </a:lnTo>
                    <a:lnTo>
                      <a:pt x="130" y="927"/>
                    </a:lnTo>
                    <a:lnTo>
                      <a:pt x="143" y="910"/>
                    </a:lnTo>
                    <a:lnTo>
                      <a:pt x="157" y="891"/>
                    </a:lnTo>
                    <a:lnTo>
                      <a:pt x="172" y="869"/>
                    </a:lnTo>
                    <a:lnTo>
                      <a:pt x="188" y="848"/>
                    </a:lnTo>
                    <a:lnTo>
                      <a:pt x="203" y="825"/>
                    </a:lnTo>
                    <a:lnTo>
                      <a:pt x="218" y="802"/>
                    </a:lnTo>
                    <a:lnTo>
                      <a:pt x="234" y="777"/>
                    </a:lnTo>
                    <a:lnTo>
                      <a:pt x="251" y="750"/>
                    </a:lnTo>
                    <a:lnTo>
                      <a:pt x="268" y="724"/>
                    </a:lnTo>
                    <a:lnTo>
                      <a:pt x="285" y="695"/>
                    </a:lnTo>
                    <a:lnTo>
                      <a:pt x="305" y="666"/>
                    </a:lnTo>
                    <a:lnTo>
                      <a:pt x="324" y="635"/>
                    </a:lnTo>
                    <a:lnTo>
                      <a:pt x="341" y="605"/>
                    </a:lnTo>
                    <a:lnTo>
                      <a:pt x="360" y="574"/>
                    </a:lnTo>
                    <a:lnTo>
                      <a:pt x="378" y="545"/>
                    </a:lnTo>
                    <a:lnTo>
                      <a:pt x="393" y="516"/>
                    </a:lnTo>
                    <a:lnTo>
                      <a:pt x="410" y="489"/>
                    </a:lnTo>
                    <a:lnTo>
                      <a:pt x="426" y="463"/>
                    </a:lnTo>
                    <a:lnTo>
                      <a:pt x="439" y="438"/>
                    </a:lnTo>
                    <a:lnTo>
                      <a:pt x="452" y="411"/>
                    </a:lnTo>
                    <a:lnTo>
                      <a:pt x="466" y="388"/>
                    </a:lnTo>
                    <a:lnTo>
                      <a:pt x="477" y="363"/>
                    </a:lnTo>
                    <a:lnTo>
                      <a:pt x="491" y="340"/>
                    </a:lnTo>
                    <a:lnTo>
                      <a:pt x="500" y="319"/>
                    </a:lnTo>
                    <a:lnTo>
                      <a:pt x="512" y="296"/>
                    </a:lnTo>
                    <a:lnTo>
                      <a:pt x="522" y="275"/>
                    </a:lnTo>
                    <a:lnTo>
                      <a:pt x="531" y="253"/>
                    </a:lnTo>
                    <a:lnTo>
                      <a:pt x="541" y="232"/>
                    </a:lnTo>
                    <a:lnTo>
                      <a:pt x="546" y="213"/>
                    </a:lnTo>
                    <a:lnTo>
                      <a:pt x="552" y="194"/>
                    </a:lnTo>
                    <a:lnTo>
                      <a:pt x="558" y="177"/>
                    </a:lnTo>
                    <a:lnTo>
                      <a:pt x="564" y="161"/>
                    </a:lnTo>
                    <a:lnTo>
                      <a:pt x="568" y="146"/>
                    </a:lnTo>
                    <a:lnTo>
                      <a:pt x="571" y="132"/>
                    </a:lnTo>
                    <a:lnTo>
                      <a:pt x="573" y="119"/>
                    </a:lnTo>
                    <a:lnTo>
                      <a:pt x="575" y="108"/>
                    </a:lnTo>
                    <a:lnTo>
                      <a:pt x="577" y="96"/>
                    </a:lnTo>
                    <a:lnTo>
                      <a:pt x="577" y="86"/>
                    </a:lnTo>
                    <a:lnTo>
                      <a:pt x="577" y="77"/>
                    </a:lnTo>
                    <a:lnTo>
                      <a:pt x="577" y="69"/>
                    </a:lnTo>
                    <a:lnTo>
                      <a:pt x="575" y="61"/>
                    </a:lnTo>
                    <a:lnTo>
                      <a:pt x="573" y="56"/>
                    </a:lnTo>
                    <a:lnTo>
                      <a:pt x="571" y="52"/>
                    </a:lnTo>
                    <a:lnTo>
                      <a:pt x="569" y="46"/>
                    </a:lnTo>
                    <a:lnTo>
                      <a:pt x="562" y="42"/>
                    </a:lnTo>
                    <a:lnTo>
                      <a:pt x="558" y="38"/>
                    </a:lnTo>
                    <a:lnTo>
                      <a:pt x="554" y="33"/>
                    </a:lnTo>
                    <a:lnTo>
                      <a:pt x="554" y="27"/>
                    </a:lnTo>
                    <a:lnTo>
                      <a:pt x="552" y="21"/>
                    </a:lnTo>
                    <a:lnTo>
                      <a:pt x="554" y="17"/>
                    </a:lnTo>
                    <a:lnTo>
                      <a:pt x="556" y="12"/>
                    </a:lnTo>
                    <a:lnTo>
                      <a:pt x="560" y="8"/>
                    </a:lnTo>
                    <a:lnTo>
                      <a:pt x="564" y="4"/>
                    </a:lnTo>
                    <a:lnTo>
                      <a:pt x="569" y="2"/>
                    </a:lnTo>
                    <a:lnTo>
                      <a:pt x="577" y="0"/>
                    </a:lnTo>
                    <a:lnTo>
                      <a:pt x="587" y="0"/>
                    </a:lnTo>
                    <a:lnTo>
                      <a:pt x="596" y="0"/>
                    </a:lnTo>
                    <a:lnTo>
                      <a:pt x="608" y="2"/>
                    </a:lnTo>
                    <a:lnTo>
                      <a:pt x="621" y="4"/>
                    </a:lnTo>
                    <a:lnTo>
                      <a:pt x="635" y="8"/>
                    </a:lnTo>
                    <a:lnTo>
                      <a:pt x="646" y="12"/>
                    </a:lnTo>
                    <a:lnTo>
                      <a:pt x="656" y="17"/>
                    </a:lnTo>
                    <a:lnTo>
                      <a:pt x="667" y="23"/>
                    </a:lnTo>
                    <a:lnTo>
                      <a:pt x="677" y="29"/>
                    </a:lnTo>
                    <a:lnTo>
                      <a:pt x="688" y="37"/>
                    </a:lnTo>
                    <a:lnTo>
                      <a:pt x="698" y="46"/>
                    </a:lnTo>
                    <a:lnTo>
                      <a:pt x="710" y="56"/>
                    </a:lnTo>
                    <a:lnTo>
                      <a:pt x="719" y="67"/>
                    </a:lnTo>
                    <a:lnTo>
                      <a:pt x="729" y="77"/>
                    </a:lnTo>
                    <a:lnTo>
                      <a:pt x="738" y="86"/>
                    </a:lnTo>
                    <a:lnTo>
                      <a:pt x="744" y="96"/>
                    </a:lnTo>
                    <a:lnTo>
                      <a:pt x="750" y="104"/>
                    </a:lnTo>
                    <a:lnTo>
                      <a:pt x="754" y="113"/>
                    </a:lnTo>
                    <a:lnTo>
                      <a:pt x="756" y="121"/>
                    </a:lnTo>
                    <a:lnTo>
                      <a:pt x="758" y="127"/>
                    </a:lnTo>
                    <a:lnTo>
                      <a:pt x="758" y="134"/>
                    </a:lnTo>
                    <a:lnTo>
                      <a:pt x="758" y="140"/>
                    </a:lnTo>
                    <a:lnTo>
                      <a:pt x="756" y="148"/>
                    </a:lnTo>
                    <a:lnTo>
                      <a:pt x="754" y="156"/>
                    </a:lnTo>
                    <a:lnTo>
                      <a:pt x="752" y="165"/>
                    </a:lnTo>
                    <a:lnTo>
                      <a:pt x="748" y="175"/>
                    </a:lnTo>
                    <a:lnTo>
                      <a:pt x="744" y="184"/>
                    </a:lnTo>
                    <a:lnTo>
                      <a:pt x="740" y="196"/>
                    </a:lnTo>
                    <a:lnTo>
                      <a:pt x="735" y="207"/>
                    </a:lnTo>
                    <a:lnTo>
                      <a:pt x="729" y="221"/>
                    </a:lnTo>
                    <a:lnTo>
                      <a:pt x="721" y="236"/>
                    </a:lnTo>
                    <a:lnTo>
                      <a:pt x="713" y="251"/>
                    </a:lnTo>
                    <a:lnTo>
                      <a:pt x="706" y="267"/>
                    </a:lnTo>
                    <a:lnTo>
                      <a:pt x="696" y="284"/>
                    </a:lnTo>
                    <a:lnTo>
                      <a:pt x="687" y="301"/>
                    </a:lnTo>
                    <a:lnTo>
                      <a:pt x="675" y="321"/>
                    </a:lnTo>
                    <a:lnTo>
                      <a:pt x="664" y="342"/>
                    </a:lnTo>
                    <a:lnTo>
                      <a:pt x="650" y="363"/>
                    </a:lnTo>
                    <a:lnTo>
                      <a:pt x="639" y="386"/>
                    </a:lnTo>
                    <a:lnTo>
                      <a:pt x="625" y="409"/>
                    </a:lnTo>
                    <a:lnTo>
                      <a:pt x="610" y="432"/>
                    </a:lnTo>
                    <a:lnTo>
                      <a:pt x="596" y="455"/>
                    </a:lnTo>
                    <a:lnTo>
                      <a:pt x="581" y="478"/>
                    </a:lnTo>
                    <a:lnTo>
                      <a:pt x="550" y="524"/>
                    </a:lnTo>
                    <a:lnTo>
                      <a:pt x="518" y="572"/>
                    </a:lnTo>
                    <a:lnTo>
                      <a:pt x="481" y="622"/>
                    </a:lnTo>
                    <a:lnTo>
                      <a:pt x="447" y="672"/>
                    </a:lnTo>
                    <a:lnTo>
                      <a:pt x="408" y="724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Freeform 53"/>
              <p:cNvSpPr/>
              <p:nvPr/>
            </p:nvSpPr>
            <p:spPr>
              <a:xfrm>
                <a:off x="7022520" y="1668960"/>
                <a:ext cx="99720" cy="810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10360"/>
                  <a:gd name="textAreaBottom" fmla="*/ 810720 h 810360"/>
                </a:gdLst>
                <a:ahLst/>
                <a:rect l="textAreaLeft" t="textAreaTop" r="textAreaRight" b="textAreaBottom"/>
                <a:pathLst>
                  <a:path w="181" h="1461">
                    <a:moveTo>
                      <a:pt x="173" y="146"/>
                    </a:moveTo>
                    <a:lnTo>
                      <a:pt x="175" y="150"/>
                    </a:lnTo>
                    <a:lnTo>
                      <a:pt x="175" y="154"/>
                    </a:lnTo>
                    <a:lnTo>
                      <a:pt x="175" y="158"/>
                    </a:lnTo>
                    <a:lnTo>
                      <a:pt x="177" y="162"/>
                    </a:lnTo>
                    <a:lnTo>
                      <a:pt x="177" y="167"/>
                    </a:lnTo>
                    <a:lnTo>
                      <a:pt x="177" y="173"/>
                    </a:lnTo>
                    <a:lnTo>
                      <a:pt x="179" y="181"/>
                    </a:lnTo>
                    <a:lnTo>
                      <a:pt x="179" y="187"/>
                    </a:lnTo>
                    <a:lnTo>
                      <a:pt x="179" y="194"/>
                    </a:lnTo>
                    <a:lnTo>
                      <a:pt x="179" y="204"/>
                    </a:lnTo>
                    <a:lnTo>
                      <a:pt x="179" y="212"/>
                    </a:lnTo>
                    <a:lnTo>
                      <a:pt x="181" y="221"/>
                    </a:lnTo>
                    <a:lnTo>
                      <a:pt x="181" y="233"/>
                    </a:lnTo>
                    <a:lnTo>
                      <a:pt x="181" y="242"/>
                    </a:lnTo>
                    <a:lnTo>
                      <a:pt x="181" y="254"/>
                    </a:lnTo>
                    <a:lnTo>
                      <a:pt x="181" y="265"/>
                    </a:lnTo>
                    <a:lnTo>
                      <a:pt x="181" y="279"/>
                    </a:lnTo>
                    <a:lnTo>
                      <a:pt x="181" y="292"/>
                    </a:lnTo>
                    <a:lnTo>
                      <a:pt x="181" y="306"/>
                    </a:lnTo>
                    <a:lnTo>
                      <a:pt x="181" y="319"/>
                    </a:lnTo>
                    <a:lnTo>
                      <a:pt x="179" y="334"/>
                    </a:lnTo>
                    <a:lnTo>
                      <a:pt x="179" y="350"/>
                    </a:lnTo>
                    <a:lnTo>
                      <a:pt x="179" y="365"/>
                    </a:lnTo>
                    <a:lnTo>
                      <a:pt x="179" y="382"/>
                    </a:lnTo>
                    <a:lnTo>
                      <a:pt x="179" y="400"/>
                    </a:lnTo>
                    <a:lnTo>
                      <a:pt x="177" y="417"/>
                    </a:lnTo>
                    <a:lnTo>
                      <a:pt x="177" y="436"/>
                    </a:lnTo>
                    <a:lnTo>
                      <a:pt x="177" y="455"/>
                    </a:lnTo>
                    <a:lnTo>
                      <a:pt x="175" y="476"/>
                    </a:lnTo>
                    <a:lnTo>
                      <a:pt x="175" y="496"/>
                    </a:lnTo>
                    <a:lnTo>
                      <a:pt x="175" y="517"/>
                    </a:lnTo>
                    <a:lnTo>
                      <a:pt x="173" y="540"/>
                    </a:lnTo>
                    <a:lnTo>
                      <a:pt x="171" y="582"/>
                    </a:lnTo>
                    <a:lnTo>
                      <a:pt x="169" y="624"/>
                    </a:lnTo>
                    <a:lnTo>
                      <a:pt x="169" y="664"/>
                    </a:lnTo>
                    <a:lnTo>
                      <a:pt x="167" y="705"/>
                    </a:lnTo>
                    <a:lnTo>
                      <a:pt x="165" y="741"/>
                    </a:lnTo>
                    <a:lnTo>
                      <a:pt x="163" y="778"/>
                    </a:lnTo>
                    <a:lnTo>
                      <a:pt x="161" y="812"/>
                    </a:lnTo>
                    <a:lnTo>
                      <a:pt x="161" y="847"/>
                    </a:lnTo>
                    <a:lnTo>
                      <a:pt x="160" y="877"/>
                    </a:lnTo>
                    <a:lnTo>
                      <a:pt x="158" y="908"/>
                    </a:lnTo>
                    <a:lnTo>
                      <a:pt x="158" y="937"/>
                    </a:lnTo>
                    <a:lnTo>
                      <a:pt x="156" y="964"/>
                    </a:lnTo>
                    <a:lnTo>
                      <a:pt x="156" y="991"/>
                    </a:lnTo>
                    <a:lnTo>
                      <a:pt x="156" y="1014"/>
                    </a:lnTo>
                    <a:lnTo>
                      <a:pt x="154" y="1037"/>
                    </a:lnTo>
                    <a:lnTo>
                      <a:pt x="154" y="1058"/>
                    </a:lnTo>
                    <a:lnTo>
                      <a:pt x="152" y="1098"/>
                    </a:lnTo>
                    <a:lnTo>
                      <a:pt x="148" y="1137"/>
                    </a:lnTo>
                    <a:lnTo>
                      <a:pt x="144" y="1175"/>
                    </a:lnTo>
                    <a:lnTo>
                      <a:pt x="138" y="1209"/>
                    </a:lnTo>
                    <a:lnTo>
                      <a:pt x="136" y="1227"/>
                    </a:lnTo>
                    <a:lnTo>
                      <a:pt x="135" y="1244"/>
                    </a:lnTo>
                    <a:lnTo>
                      <a:pt x="133" y="1259"/>
                    </a:lnTo>
                    <a:lnTo>
                      <a:pt x="129" y="1277"/>
                    </a:lnTo>
                    <a:lnTo>
                      <a:pt x="127" y="1290"/>
                    </a:lnTo>
                    <a:lnTo>
                      <a:pt x="123" y="1305"/>
                    </a:lnTo>
                    <a:lnTo>
                      <a:pt x="121" y="1319"/>
                    </a:lnTo>
                    <a:lnTo>
                      <a:pt x="117" y="1332"/>
                    </a:lnTo>
                    <a:lnTo>
                      <a:pt x="112" y="1348"/>
                    </a:lnTo>
                    <a:lnTo>
                      <a:pt x="108" y="1361"/>
                    </a:lnTo>
                    <a:lnTo>
                      <a:pt x="102" y="1373"/>
                    </a:lnTo>
                    <a:lnTo>
                      <a:pt x="98" y="1384"/>
                    </a:lnTo>
                    <a:lnTo>
                      <a:pt x="92" y="1396"/>
                    </a:lnTo>
                    <a:lnTo>
                      <a:pt x="89" y="1405"/>
                    </a:lnTo>
                    <a:lnTo>
                      <a:pt x="85" y="1415"/>
                    </a:lnTo>
                    <a:lnTo>
                      <a:pt x="81" y="1423"/>
                    </a:lnTo>
                    <a:lnTo>
                      <a:pt x="79" y="1430"/>
                    </a:lnTo>
                    <a:lnTo>
                      <a:pt x="75" y="1436"/>
                    </a:lnTo>
                    <a:lnTo>
                      <a:pt x="71" y="1442"/>
                    </a:lnTo>
                    <a:lnTo>
                      <a:pt x="69" y="1447"/>
                    </a:lnTo>
                    <a:lnTo>
                      <a:pt x="67" y="1451"/>
                    </a:lnTo>
                    <a:lnTo>
                      <a:pt x="64" y="1455"/>
                    </a:lnTo>
                    <a:lnTo>
                      <a:pt x="62" y="1457"/>
                    </a:lnTo>
                    <a:lnTo>
                      <a:pt x="60" y="1461"/>
                    </a:lnTo>
                    <a:lnTo>
                      <a:pt x="58" y="1459"/>
                    </a:lnTo>
                    <a:lnTo>
                      <a:pt x="56" y="1459"/>
                    </a:lnTo>
                    <a:lnTo>
                      <a:pt x="54" y="1457"/>
                    </a:lnTo>
                    <a:lnTo>
                      <a:pt x="52" y="1455"/>
                    </a:lnTo>
                    <a:lnTo>
                      <a:pt x="48" y="1451"/>
                    </a:lnTo>
                    <a:lnTo>
                      <a:pt x="46" y="1447"/>
                    </a:lnTo>
                    <a:lnTo>
                      <a:pt x="44" y="1444"/>
                    </a:lnTo>
                    <a:lnTo>
                      <a:pt x="41" y="1438"/>
                    </a:lnTo>
                    <a:lnTo>
                      <a:pt x="39" y="1432"/>
                    </a:lnTo>
                    <a:lnTo>
                      <a:pt x="37" y="1426"/>
                    </a:lnTo>
                    <a:lnTo>
                      <a:pt x="33" y="1419"/>
                    </a:lnTo>
                    <a:lnTo>
                      <a:pt x="31" y="1411"/>
                    </a:lnTo>
                    <a:lnTo>
                      <a:pt x="29" y="1401"/>
                    </a:lnTo>
                    <a:lnTo>
                      <a:pt x="27" y="1392"/>
                    </a:lnTo>
                    <a:lnTo>
                      <a:pt x="23" y="1382"/>
                    </a:lnTo>
                    <a:lnTo>
                      <a:pt x="23" y="1373"/>
                    </a:lnTo>
                    <a:lnTo>
                      <a:pt x="16" y="1352"/>
                    </a:lnTo>
                    <a:lnTo>
                      <a:pt x="10" y="1330"/>
                    </a:lnTo>
                    <a:lnTo>
                      <a:pt x="6" y="1313"/>
                    </a:lnTo>
                    <a:lnTo>
                      <a:pt x="2" y="1298"/>
                    </a:lnTo>
                    <a:lnTo>
                      <a:pt x="0" y="1284"/>
                    </a:lnTo>
                    <a:lnTo>
                      <a:pt x="0" y="1273"/>
                    </a:lnTo>
                    <a:lnTo>
                      <a:pt x="0" y="1263"/>
                    </a:lnTo>
                    <a:lnTo>
                      <a:pt x="4" y="1254"/>
                    </a:lnTo>
                    <a:lnTo>
                      <a:pt x="4" y="1250"/>
                    </a:lnTo>
                    <a:lnTo>
                      <a:pt x="4" y="1246"/>
                    </a:lnTo>
                    <a:lnTo>
                      <a:pt x="4" y="1240"/>
                    </a:lnTo>
                    <a:lnTo>
                      <a:pt x="6" y="1234"/>
                    </a:lnTo>
                    <a:lnTo>
                      <a:pt x="6" y="1227"/>
                    </a:lnTo>
                    <a:lnTo>
                      <a:pt x="8" y="1219"/>
                    </a:lnTo>
                    <a:lnTo>
                      <a:pt x="8" y="1211"/>
                    </a:lnTo>
                    <a:lnTo>
                      <a:pt x="10" y="1202"/>
                    </a:lnTo>
                    <a:lnTo>
                      <a:pt x="12" y="1192"/>
                    </a:lnTo>
                    <a:lnTo>
                      <a:pt x="12" y="1183"/>
                    </a:lnTo>
                    <a:lnTo>
                      <a:pt x="14" y="1171"/>
                    </a:lnTo>
                    <a:lnTo>
                      <a:pt x="16" y="1160"/>
                    </a:lnTo>
                    <a:lnTo>
                      <a:pt x="17" y="1148"/>
                    </a:lnTo>
                    <a:lnTo>
                      <a:pt x="19" y="1135"/>
                    </a:lnTo>
                    <a:lnTo>
                      <a:pt x="21" y="1121"/>
                    </a:lnTo>
                    <a:lnTo>
                      <a:pt x="23" y="1108"/>
                    </a:lnTo>
                    <a:lnTo>
                      <a:pt x="23" y="1094"/>
                    </a:lnTo>
                    <a:lnTo>
                      <a:pt x="27" y="1079"/>
                    </a:lnTo>
                    <a:lnTo>
                      <a:pt x="29" y="1062"/>
                    </a:lnTo>
                    <a:lnTo>
                      <a:pt x="31" y="1044"/>
                    </a:lnTo>
                    <a:lnTo>
                      <a:pt x="33" y="1025"/>
                    </a:lnTo>
                    <a:lnTo>
                      <a:pt x="37" y="1006"/>
                    </a:lnTo>
                    <a:lnTo>
                      <a:pt x="39" y="985"/>
                    </a:lnTo>
                    <a:lnTo>
                      <a:pt x="42" y="962"/>
                    </a:lnTo>
                    <a:lnTo>
                      <a:pt x="46" y="937"/>
                    </a:lnTo>
                    <a:lnTo>
                      <a:pt x="48" y="912"/>
                    </a:lnTo>
                    <a:lnTo>
                      <a:pt x="52" y="885"/>
                    </a:lnTo>
                    <a:lnTo>
                      <a:pt x="56" y="858"/>
                    </a:lnTo>
                    <a:lnTo>
                      <a:pt x="60" y="829"/>
                    </a:lnTo>
                    <a:lnTo>
                      <a:pt x="64" y="799"/>
                    </a:lnTo>
                    <a:lnTo>
                      <a:pt x="65" y="768"/>
                    </a:lnTo>
                    <a:lnTo>
                      <a:pt x="69" y="735"/>
                    </a:lnTo>
                    <a:lnTo>
                      <a:pt x="71" y="703"/>
                    </a:lnTo>
                    <a:lnTo>
                      <a:pt x="73" y="670"/>
                    </a:lnTo>
                    <a:lnTo>
                      <a:pt x="75" y="641"/>
                    </a:lnTo>
                    <a:lnTo>
                      <a:pt x="77" y="611"/>
                    </a:lnTo>
                    <a:lnTo>
                      <a:pt x="79" y="584"/>
                    </a:lnTo>
                    <a:lnTo>
                      <a:pt x="79" y="557"/>
                    </a:lnTo>
                    <a:lnTo>
                      <a:pt x="81" y="530"/>
                    </a:lnTo>
                    <a:lnTo>
                      <a:pt x="83" y="505"/>
                    </a:lnTo>
                    <a:lnTo>
                      <a:pt x="85" y="482"/>
                    </a:lnTo>
                    <a:lnTo>
                      <a:pt x="85" y="459"/>
                    </a:lnTo>
                    <a:lnTo>
                      <a:pt x="87" y="438"/>
                    </a:lnTo>
                    <a:lnTo>
                      <a:pt x="87" y="417"/>
                    </a:lnTo>
                    <a:lnTo>
                      <a:pt x="89" y="396"/>
                    </a:lnTo>
                    <a:lnTo>
                      <a:pt x="89" y="378"/>
                    </a:lnTo>
                    <a:lnTo>
                      <a:pt x="89" y="359"/>
                    </a:lnTo>
                    <a:lnTo>
                      <a:pt x="89" y="342"/>
                    </a:lnTo>
                    <a:lnTo>
                      <a:pt x="87" y="327"/>
                    </a:lnTo>
                    <a:lnTo>
                      <a:pt x="85" y="311"/>
                    </a:lnTo>
                    <a:lnTo>
                      <a:pt x="83" y="294"/>
                    </a:lnTo>
                    <a:lnTo>
                      <a:pt x="81" y="277"/>
                    </a:lnTo>
                    <a:lnTo>
                      <a:pt x="79" y="258"/>
                    </a:lnTo>
                    <a:lnTo>
                      <a:pt x="77" y="238"/>
                    </a:lnTo>
                    <a:lnTo>
                      <a:pt x="75" y="217"/>
                    </a:lnTo>
                    <a:lnTo>
                      <a:pt x="71" y="196"/>
                    </a:lnTo>
                    <a:lnTo>
                      <a:pt x="69" y="175"/>
                    </a:lnTo>
                    <a:lnTo>
                      <a:pt x="65" y="152"/>
                    </a:lnTo>
                    <a:lnTo>
                      <a:pt x="64" y="129"/>
                    </a:lnTo>
                    <a:lnTo>
                      <a:pt x="60" y="104"/>
                    </a:lnTo>
                    <a:lnTo>
                      <a:pt x="56" y="79"/>
                    </a:lnTo>
                    <a:lnTo>
                      <a:pt x="50" y="54"/>
                    </a:lnTo>
                    <a:lnTo>
                      <a:pt x="46" y="27"/>
                    </a:lnTo>
                    <a:lnTo>
                      <a:pt x="41" y="0"/>
                    </a:lnTo>
                    <a:lnTo>
                      <a:pt x="56" y="12"/>
                    </a:lnTo>
                    <a:lnTo>
                      <a:pt x="71" y="25"/>
                    </a:lnTo>
                    <a:lnTo>
                      <a:pt x="85" y="37"/>
                    </a:lnTo>
                    <a:lnTo>
                      <a:pt x="96" y="48"/>
                    </a:lnTo>
                    <a:lnTo>
                      <a:pt x="108" y="58"/>
                    </a:lnTo>
                    <a:lnTo>
                      <a:pt x="117" y="70"/>
                    </a:lnTo>
                    <a:lnTo>
                      <a:pt x="127" y="79"/>
                    </a:lnTo>
                    <a:lnTo>
                      <a:pt x="135" y="89"/>
                    </a:lnTo>
                    <a:lnTo>
                      <a:pt x="142" y="96"/>
                    </a:lnTo>
                    <a:lnTo>
                      <a:pt x="150" y="106"/>
                    </a:lnTo>
                    <a:lnTo>
                      <a:pt x="156" y="114"/>
                    </a:lnTo>
                    <a:lnTo>
                      <a:pt x="161" y="121"/>
                    </a:lnTo>
                    <a:lnTo>
                      <a:pt x="165" y="129"/>
                    </a:lnTo>
                    <a:lnTo>
                      <a:pt x="169" y="135"/>
                    </a:lnTo>
                    <a:lnTo>
                      <a:pt x="171" y="141"/>
                    </a:lnTo>
                    <a:lnTo>
                      <a:pt x="173" y="146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6" name="Freeform 56"/>
          <p:cNvSpPr/>
          <p:nvPr/>
        </p:nvSpPr>
        <p:spPr>
          <a:xfrm>
            <a:off x="1994040" y="2452680"/>
            <a:ext cx="601560" cy="888840"/>
          </a:xfrm>
          <a:custGeom>
            <a:avLst/>
            <a:gdLst>
              <a:gd name="textAreaLeft" fmla="*/ 0 w 601560"/>
              <a:gd name="textAreaRight" fmla="*/ 601920 w 601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758" h="1121">
                <a:moveTo>
                  <a:pt x="408" y="724"/>
                </a:moveTo>
                <a:lnTo>
                  <a:pt x="391" y="747"/>
                </a:lnTo>
                <a:lnTo>
                  <a:pt x="374" y="770"/>
                </a:lnTo>
                <a:lnTo>
                  <a:pt x="356" y="793"/>
                </a:lnTo>
                <a:lnTo>
                  <a:pt x="339" y="816"/>
                </a:lnTo>
                <a:lnTo>
                  <a:pt x="322" y="837"/>
                </a:lnTo>
                <a:lnTo>
                  <a:pt x="307" y="858"/>
                </a:lnTo>
                <a:lnTo>
                  <a:pt x="289" y="877"/>
                </a:lnTo>
                <a:lnTo>
                  <a:pt x="272" y="896"/>
                </a:lnTo>
                <a:lnTo>
                  <a:pt x="257" y="915"/>
                </a:lnTo>
                <a:lnTo>
                  <a:pt x="239" y="935"/>
                </a:lnTo>
                <a:lnTo>
                  <a:pt x="224" y="952"/>
                </a:lnTo>
                <a:lnTo>
                  <a:pt x="207" y="967"/>
                </a:lnTo>
                <a:lnTo>
                  <a:pt x="191" y="985"/>
                </a:lnTo>
                <a:lnTo>
                  <a:pt x="176" y="1000"/>
                </a:lnTo>
                <a:lnTo>
                  <a:pt x="161" y="1013"/>
                </a:lnTo>
                <a:lnTo>
                  <a:pt x="143" y="1027"/>
                </a:lnTo>
                <a:lnTo>
                  <a:pt x="128" y="1040"/>
                </a:lnTo>
                <a:lnTo>
                  <a:pt x="115" y="1054"/>
                </a:lnTo>
                <a:lnTo>
                  <a:pt x="101" y="1065"/>
                </a:lnTo>
                <a:lnTo>
                  <a:pt x="88" y="1077"/>
                </a:lnTo>
                <a:lnTo>
                  <a:pt x="76" y="1086"/>
                </a:lnTo>
                <a:lnTo>
                  <a:pt x="65" y="1094"/>
                </a:lnTo>
                <a:lnTo>
                  <a:pt x="55" y="1102"/>
                </a:lnTo>
                <a:lnTo>
                  <a:pt x="46" y="1107"/>
                </a:lnTo>
                <a:lnTo>
                  <a:pt x="36" y="1113"/>
                </a:lnTo>
                <a:lnTo>
                  <a:pt x="28" y="1117"/>
                </a:lnTo>
                <a:lnTo>
                  <a:pt x="23" y="1119"/>
                </a:lnTo>
                <a:lnTo>
                  <a:pt x="17" y="1121"/>
                </a:lnTo>
                <a:lnTo>
                  <a:pt x="11" y="1121"/>
                </a:lnTo>
                <a:lnTo>
                  <a:pt x="7" y="1121"/>
                </a:lnTo>
                <a:lnTo>
                  <a:pt x="5" y="1119"/>
                </a:lnTo>
                <a:lnTo>
                  <a:pt x="3" y="1115"/>
                </a:lnTo>
                <a:lnTo>
                  <a:pt x="1" y="1113"/>
                </a:lnTo>
                <a:lnTo>
                  <a:pt x="0" y="1109"/>
                </a:lnTo>
                <a:lnTo>
                  <a:pt x="0" y="1105"/>
                </a:lnTo>
                <a:lnTo>
                  <a:pt x="1" y="1100"/>
                </a:lnTo>
                <a:lnTo>
                  <a:pt x="3" y="1096"/>
                </a:lnTo>
                <a:lnTo>
                  <a:pt x="5" y="1088"/>
                </a:lnTo>
                <a:lnTo>
                  <a:pt x="7" y="1081"/>
                </a:lnTo>
                <a:lnTo>
                  <a:pt x="13" y="1073"/>
                </a:lnTo>
                <a:lnTo>
                  <a:pt x="17" y="1065"/>
                </a:lnTo>
                <a:lnTo>
                  <a:pt x="23" y="1056"/>
                </a:lnTo>
                <a:lnTo>
                  <a:pt x="30" y="1046"/>
                </a:lnTo>
                <a:lnTo>
                  <a:pt x="38" y="1034"/>
                </a:lnTo>
                <a:lnTo>
                  <a:pt x="46" y="1025"/>
                </a:lnTo>
                <a:lnTo>
                  <a:pt x="55" y="1013"/>
                </a:lnTo>
                <a:lnTo>
                  <a:pt x="67" y="1000"/>
                </a:lnTo>
                <a:lnTo>
                  <a:pt x="78" y="988"/>
                </a:lnTo>
                <a:lnTo>
                  <a:pt x="90" y="973"/>
                </a:lnTo>
                <a:lnTo>
                  <a:pt x="103" y="960"/>
                </a:lnTo>
                <a:lnTo>
                  <a:pt x="117" y="944"/>
                </a:lnTo>
                <a:lnTo>
                  <a:pt x="130" y="927"/>
                </a:lnTo>
                <a:lnTo>
                  <a:pt x="143" y="910"/>
                </a:lnTo>
                <a:lnTo>
                  <a:pt x="157" y="891"/>
                </a:lnTo>
                <a:lnTo>
                  <a:pt x="172" y="869"/>
                </a:lnTo>
                <a:lnTo>
                  <a:pt x="188" y="848"/>
                </a:lnTo>
                <a:lnTo>
                  <a:pt x="203" y="825"/>
                </a:lnTo>
                <a:lnTo>
                  <a:pt x="218" y="802"/>
                </a:lnTo>
                <a:lnTo>
                  <a:pt x="234" y="777"/>
                </a:lnTo>
                <a:lnTo>
                  <a:pt x="251" y="750"/>
                </a:lnTo>
                <a:lnTo>
                  <a:pt x="268" y="724"/>
                </a:lnTo>
                <a:lnTo>
                  <a:pt x="285" y="695"/>
                </a:lnTo>
                <a:lnTo>
                  <a:pt x="305" y="666"/>
                </a:lnTo>
                <a:lnTo>
                  <a:pt x="324" y="635"/>
                </a:lnTo>
                <a:lnTo>
                  <a:pt x="341" y="605"/>
                </a:lnTo>
                <a:lnTo>
                  <a:pt x="360" y="574"/>
                </a:lnTo>
                <a:lnTo>
                  <a:pt x="378" y="545"/>
                </a:lnTo>
                <a:lnTo>
                  <a:pt x="393" y="516"/>
                </a:lnTo>
                <a:lnTo>
                  <a:pt x="410" y="489"/>
                </a:lnTo>
                <a:lnTo>
                  <a:pt x="426" y="463"/>
                </a:lnTo>
                <a:lnTo>
                  <a:pt x="439" y="438"/>
                </a:lnTo>
                <a:lnTo>
                  <a:pt x="452" y="411"/>
                </a:lnTo>
                <a:lnTo>
                  <a:pt x="466" y="388"/>
                </a:lnTo>
                <a:lnTo>
                  <a:pt x="477" y="363"/>
                </a:lnTo>
                <a:lnTo>
                  <a:pt x="491" y="340"/>
                </a:lnTo>
                <a:lnTo>
                  <a:pt x="500" y="319"/>
                </a:lnTo>
                <a:lnTo>
                  <a:pt x="512" y="296"/>
                </a:lnTo>
                <a:lnTo>
                  <a:pt x="522" y="275"/>
                </a:lnTo>
                <a:lnTo>
                  <a:pt x="531" y="253"/>
                </a:lnTo>
                <a:lnTo>
                  <a:pt x="541" y="232"/>
                </a:lnTo>
                <a:lnTo>
                  <a:pt x="546" y="213"/>
                </a:lnTo>
                <a:lnTo>
                  <a:pt x="552" y="194"/>
                </a:lnTo>
                <a:lnTo>
                  <a:pt x="558" y="177"/>
                </a:lnTo>
                <a:lnTo>
                  <a:pt x="564" y="161"/>
                </a:lnTo>
                <a:lnTo>
                  <a:pt x="568" y="146"/>
                </a:lnTo>
                <a:lnTo>
                  <a:pt x="571" y="132"/>
                </a:lnTo>
                <a:lnTo>
                  <a:pt x="573" y="119"/>
                </a:lnTo>
                <a:lnTo>
                  <a:pt x="575" y="108"/>
                </a:lnTo>
                <a:lnTo>
                  <a:pt x="577" y="96"/>
                </a:lnTo>
                <a:lnTo>
                  <a:pt x="577" y="86"/>
                </a:lnTo>
                <a:lnTo>
                  <a:pt x="577" y="77"/>
                </a:lnTo>
                <a:lnTo>
                  <a:pt x="577" y="69"/>
                </a:lnTo>
                <a:lnTo>
                  <a:pt x="575" y="61"/>
                </a:lnTo>
                <a:lnTo>
                  <a:pt x="573" y="56"/>
                </a:lnTo>
                <a:lnTo>
                  <a:pt x="571" y="52"/>
                </a:lnTo>
                <a:lnTo>
                  <a:pt x="569" y="46"/>
                </a:lnTo>
                <a:lnTo>
                  <a:pt x="562" y="42"/>
                </a:lnTo>
                <a:lnTo>
                  <a:pt x="558" y="38"/>
                </a:lnTo>
                <a:lnTo>
                  <a:pt x="554" y="33"/>
                </a:lnTo>
                <a:lnTo>
                  <a:pt x="554" y="27"/>
                </a:lnTo>
                <a:lnTo>
                  <a:pt x="552" y="21"/>
                </a:lnTo>
                <a:lnTo>
                  <a:pt x="554" y="17"/>
                </a:lnTo>
                <a:lnTo>
                  <a:pt x="556" y="12"/>
                </a:lnTo>
                <a:lnTo>
                  <a:pt x="560" y="8"/>
                </a:lnTo>
                <a:lnTo>
                  <a:pt x="564" y="4"/>
                </a:lnTo>
                <a:lnTo>
                  <a:pt x="569" y="2"/>
                </a:lnTo>
                <a:lnTo>
                  <a:pt x="577" y="0"/>
                </a:lnTo>
                <a:lnTo>
                  <a:pt x="587" y="0"/>
                </a:lnTo>
                <a:lnTo>
                  <a:pt x="596" y="0"/>
                </a:lnTo>
                <a:lnTo>
                  <a:pt x="608" y="2"/>
                </a:lnTo>
                <a:lnTo>
                  <a:pt x="621" y="4"/>
                </a:lnTo>
                <a:lnTo>
                  <a:pt x="635" y="8"/>
                </a:lnTo>
                <a:lnTo>
                  <a:pt x="646" y="12"/>
                </a:lnTo>
                <a:lnTo>
                  <a:pt x="656" y="17"/>
                </a:lnTo>
                <a:lnTo>
                  <a:pt x="667" y="23"/>
                </a:lnTo>
                <a:lnTo>
                  <a:pt x="677" y="29"/>
                </a:lnTo>
                <a:lnTo>
                  <a:pt x="688" y="37"/>
                </a:lnTo>
                <a:lnTo>
                  <a:pt x="698" y="46"/>
                </a:lnTo>
                <a:lnTo>
                  <a:pt x="710" y="56"/>
                </a:lnTo>
                <a:lnTo>
                  <a:pt x="719" y="67"/>
                </a:lnTo>
                <a:lnTo>
                  <a:pt x="729" y="77"/>
                </a:lnTo>
                <a:lnTo>
                  <a:pt x="738" y="86"/>
                </a:lnTo>
                <a:lnTo>
                  <a:pt x="744" y="96"/>
                </a:lnTo>
                <a:lnTo>
                  <a:pt x="750" y="104"/>
                </a:lnTo>
                <a:lnTo>
                  <a:pt x="754" y="113"/>
                </a:lnTo>
                <a:lnTo>
                  <a:pt x="756" y="121"/>
                </a:lnTo>
                <a:lnTo>
                  <a:pt x="758" y="127"/>
                </a:lnTo>
                <a:lnTo>
                  <a:pt x="758" y="134"/>
                </a:lnTo>
                <a:lnTo>
                  <a:pt x="758" y="140"/>
                </a:lnTo>
                <a:lnTo>
                  <a:pt x="756" y="148"/>
                </a:lnTo>
                <a:lnTo>
                  <a:pt x="754" y="156"/>
                </a:lnTo>
                <a:lnTo>
                  <a:pt x="752" y="165"/>
                </a:lnTo>
                <a:lnTo>
                  <a:pt x="748" y="175"/>
                </a:lnTo>
                <a:lnTo>
                  <a:pt x="744" y="184"/>
                </a:lnTo>
                <a:lnTo>
                  <a:pt x="740" y="196"/>
                </a:lnTo>
                <a:lnTo>
                  <a:pt x="735" y="207"/>
                </a:lnTo>
                <a:lnTo>
                  <a:pt x="729" y="221"/>
                </a:lnTo>
                <a:lnTo>
                  <a:pt x="721" y="236"/>
                </a:lnTo>
                <a:lnTo>
                  <a:pt x="713" y="251"/>
                </a:lnTo>
                <a:lnTo>
                  <a:pt x="706" y="267"/>
                </a:lnTo>
                <a:lnTo>
                  <a:pt x="696" y="284"/>
                </a:lnTo>
                <a:lnTo>
                  <a:pt x="687" y="301"/>
                </a:lnTo>
                <a:lnTo>
                  <a:pt x="675" y="321"/>
                </a:lnTo>
                <a:lnTo>
                  <a:pt x="664" y="342"/>
                </a:lnTo>
                <a:lnTo>
                  <a:pt x="650" y="363"/>
                </a:lnTo>
                <a:lnTo>
                  <a:pt x="639" y="386"/>
                </a:lnTo>
                <a:lnTo>
                  <a:pt x="625" y="409"/>
                </a:lnTo>
                <a:lnTo>
                  <a:pt x="610" y="432"/>
                </a:lnTo>
                <a:lnTo>
                  <a:pt x="596" y="455"/>
                </a:lnTo>
                <a:lnTo>
                  <a:pt x="581" y="478"/>
                </a:lnTo>
                <a:lnTo>
                  <a:pt x="550" y="524"/>
                </a:lnTo>
                <a:lnTo>
                  <a:pt x="518" y="572"/>
                </a:lnTo>
                <a:lnTo>
                  <a:pt x="481" y="622"/>
                </a:lnTo>
                <a:lnTo>
                  <a:pt x="447" y="672"/>
                </a:lnTo>
                <a:lnTo>
                  <a:pt x="408" y="72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Freeform 57"/>
          <p:cNvSpPr/>
          <p:nvPr/>
        </p:nvSpPr>
        <p:spPr>
          <a:xfrm>
            <a:off x="2338560" y="2878200"/>
            <a:ext cx="142560" cy="1158840"/>
          </a:xfrm>
          <a:custGeom>
            <a:avLst/>
            <a:gdLst>
              <a:gd name="textAreaLeft" fmla="*/ 0 w 142560"/>
              <a:gd name="textAreaRight" fmla="*/ 142920 w 14256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181" h="1461">
                <a:moveTo>
                  <a:pt x="173" y="146"/>
                </a:moveTo>
                <a:lnTo>
                  <a:pt x="175" y="150"/>
                </a:lnTo>
                <a:lnTo>
                  <a:pt x="175" y="154"/>
                </a:lnTo>
                <a:lnTo>
                  <a:pt x="175" y="158"/>
                </a:lnTo>
                <a:lnTo>
                  <a:pt x="177" y="162"/>
                </a:lnTo>
                <a:lnTo>
                  <a:pt x="177" y="167"/>
                </a:lnTo>
                <a:lnTo>
                  <a:pt x="177" y="173"/>
                </a:lnTo>
                <a:lnTo>
                  <a:pt x="179" y="181"/>
                </a:lnTo>
                <a:lnTo>
                  <a:pt x="179" y="187"/>
                </a:lnTo>
                <a:lnTo>
                  <a:pt x="179" y="194"/>
                </a:lnTo>
                <a:lnTo>
                  <a:pt x="179" y="204"/>
                </a:lnTo>
                <a:lnTo>
                  <a:pt x="179" y="212"/>
                </a:lnTo>
                <a:lnTo>
                  <a:pt x="181" y="221"/>
                </a:lnTo>
                <a:lnTo>
                  <a:pt x="181" y="233"/>
                </a:lnTo>
                <a:lnTo>
                  <a:pt x="181" y="242"/>
                </a:lnTo>
                <a:lnTo>
                  <a:pt x="181" y="254"/>
                </a:lnTo>
                <a:lnTo>
                  <a:pt x="181" y="265"/>
                </a:lnTo>
                <a:lnTo>
                  <a:pt x="181" y="279"/>
                </a:lnTo>
                <a:lnTo>
                  <a:pt x="181" y="292"/>
                </a:lnTo>
                <a:lnTo>
                  <a:pt x="181" y="306"/>
                </a:lnTo>
                <a:lnTo>
                  <a:pt x="181" y="319"/>
                </a:lnTo>
                <a:lnTo>
                  <a:pt x="179" y="334"/>
                </a:lnTo>
                <a:lnTo>
                  <a:pt x="179" y="350"/>
                </a:lnTo>
                <a:lnTo>
                  <a:pt x="179" y="365"/>
                </a:lnTo>
                <a:lnTo>
                  <a:pt x="179" y="382"/>
                </a:lnTo>
                <a:lnTo>
                  <a:pt x="179" y="400"/>
                </a:lnTo>
                <a:lnTo>
                  <a:pt x="177" y="417"/>
                </a:lnTo>
                <a:lnTo>
                  <a:pt x="177" y="436"/>
                </a:lnTo>
                <a:lnTo>
                  <a:pt x="177" y="455"/>
                </a:lnTo>
                <a:lnTo>
                  <a:pt x="175" y="476"/>
                </a:lnTo>
                <a:lnTo>
                  <a:pt x="175" y="496"/>
                </a:lnTo>
                <a:lnTo>
                  <a:pt x="175" y="517"/>
                </a:lnTo>
                <a:lnTo>
                  <a:pt x="173" y="540"/>
                </a:lnTo>
                <a:lnTo>
                  <a:pt x="171" y="582"/>
                </a:lnTo>
                <a:lnTo>
                  <a:pt x="169" y="624"/>
                </a:lnTo>
                <a:lnTo>
                  <a:pt x="169" y="664"/>
                </a:lnTo>
                <a:lnTo>
                  <a:pt x="167" y="705"/>
                </a:lnTo>
                <a:lnTo>
                  <a:pt x="165" y="741"/>
                </a:lnTo>
                <a:lnTo>
                  <a:pt x="163" y="778"/>
                </a:lnTo>
                <a:lnTo>
                  <a:pt x="161" y="812"/>
                </a:lnTo>
                <a:lnTo>
                  <a:pt x="161" y="847"/>
                </a:lnTo>
                <a:lnTo>
                  <a:pt x="160" y="877"/>
                </a:lnTo>
                <a:lnTo>
                  <a:pt x="158" y="908"/>
                </a:lnTo>
                <a:lnTo>
                  <a:pt x="158" y="937"/>
                </a:lnTo>
                <a:lnTo>
                  <a:pt x="156" y="964"/>
                </a:lnTo>
                <a:lnTo>
                  <a:pt x="156" y="991"/>
                </a:lnTo>
                <a:lnTo>
                  <a:pt x="156" y="1014"/>
                </a:lnTo>
                <a:lnTo>
                  <a:pt x="154" y="1037"/>
                </a:lnTo>
                <a:lnTo>
                  <a:pt x="154" y="1058"/>
                </a:lnTo>
                <a:lnTo>
                  <a:pt x="152" y="1098"/>
                </a:lnTo>
                <a:lnTo>
                  <a:pt x="148" y="1137"/>
                </a:lnTo>
                <a:lnTo>
                  <a:pt x="144" y="1175"/>
                </a:lnTo>
                <a:lnTo>
                  <a:pt x="138" y="1209"/>
                </a:lnTo>
                <a:lnTo>
                  <a:pt x="136" y="1227"/>
                </a:lnTo>
                <a:lnTo>
                  <a:pt x="135" y="1244"/>
                </a:lnTo>
                <a:lnTo>
                  <a:pt x="133" y="1259"/>
                </a:lnTo>
                <a:lnTo>
                  <a:pt x="129" y="1277"/>
                </a:lnTo>
                <a:lnTo>
                  <a:pt x="127" y="1290"/>
                </a:lnTo>
                <a:lnTo>
                  <a:pt x="123" y="1305"/>
                </a:lnTo>
                <a:lnTo>
                  <a:pt x="121" y="1319"/>
                </a:lnTo>
                <a:lnTo>
                  <a:pt x="117" y="1332"/>
                </a:lnTo>
                <a:lnTo>
                  <a:pt x="112" y="1348"/>
                </a:lnTo>
                <a:lnTo>
                  <a:pt x="108" y="1361"/>
                </a:lnTo>
                <a:lnTo>
                  <a:pt x="102" y="1373"/>
                </a:lnTo>
                <a:lnTo>
                  <a:pt x="98" y="1384"/>
                </a:lnTo>
                <a:lnTo>
                  <a:pt x="92" y="1396"/>
                </a:lnTo>
                <a:lnTo>
                  <a:pt x="89" y="1405"/>
                </a:lnTo>
                <a:lnTo>
                  <a:pt x="85" y="1415"/>
                </a:lnTo>
                <a:lnTo>
                  <a:pt x="81" y="1423"/>
                </a:lnTo>
                <a:lnTo>
                  <a:pt x="79" y="1430"/>
                </a:lnTo>
                <a:lnTo>
                  <a:pt x="75" y="1436"/>
                </a:lnTo>
                <a:lnTo>
                  <a:pt x="71" y="1442"/>
                </a:lnTo>
                <a:lnTo>
                  <a:pt x="69" y="1447"/>
                </a:lnTo>
                <a:lnTo>
                  <a:pt x="67" y="1451"/>
                </a:lnTo>
                <a:lnTo>
                  <a:pt x="64" y="1455"/>
                </a:lnTo>
                <a:lnTo>
                  <a:pt x="62" y="1457"/>
                </a:lnTo>
                <a:lnTo>
                  <a:pt x="60" y="1461"/>
                </a:lnTo>
                <a:lnTo>
                  <a:pt x="58" y="1459"/>
                </a:lnTo>
                <a:lnTo>
                  <a:pt x="56" y="1459"/>
                </a:lnTo>
                <a:lnTo>
                  <a:pt x="54" y="1457"/>
                </a:lnTo>
                <a:lnTo>
                  <a:pt x="52" y="1455"/>
                </a:lnTo>
                <a:lnTo>
                  <a:pt x="48" y="1451"/>
                </a:lnTo>
                <a:lnTo>
                  <a:pt x="46" y="1447"/>
                </a:lnTo>
                <a:lnTo>
                  <a:pt x="44" y="1444"/>
                </a:lnTo>
                <a:lnTo>
                  <a:pt x="41" y="1438"/>
                </a:lnTo>
                <a:lnTo>
                  <a:pt x="39" y="1432"/>
                </a:lnTo>
                <a:lnTo>
                  <a:pt x="37" y="1426"/>
                </a:lnTo>
                <a:lnTo>
                  <a:pt x="33" y="1419"/>
                </a:lnTo>
                <a:lnTo>
                  <a:pt x="31" y="1411"/>
                </a:lnTo>
                <a:lnTo>
                  <a:pt x="29" y="1401"/>
                </a:lnTo>
                <a:lnTo>
                  <a:pt x="27" y="1392"/>
                </a:lnTo>
                <a:lnTo>
                  <a:pt x="23" y="1382"/>
                </a:lnTo>
                <a:lnTo>
                  <a:pt x="23" y="1373"/>
                </a:lnTo>
                <a:lnTo>
                  <a:pt x="16" y="1352"/>
                </a:lnTo>
                <a:lnTo>
                  <a:pt x="10" y="1330"/>
                </a:lnTo>
                <a:lnTo>
                  <a:pt x="6" y="1313"/>
                </a:lnTo>
                <a:lnTo>
                  <a:pt x="2" y="1298"/>
                </a:lnTo>
                <a:lnTo>
                  <a:pt x="0" y="1284"/>
                </a:lnTo>
                <a:lnTo>
                  <a:pt x="0" y="1273"/>
                </a:lnTo>
                <a:lnTo>
                  <a:pt x="0" y="1263"/>
                </a:lnTo>
                <a:lnTo>
                  <a:pt x="4" y="1254"/>
                </a:lnTo>
                <a:lnTo>
                  <a:pt x="4" y="1250"/>
                </a:lnTo>
                <a:lnTo>
                  <a:pt x="4" y="1246"/>
                </a:lnTo>
                <a:lnTo>
                  <a:pt x="4" y="1240"/>
                </a:lnTo>
                <a:lnTo>
                  <a:pt x="6" y="1234"/>
                </a:lnTo>
                <a:lnTo>
                  <a:pt x="6" y="1227"/>
                </a:lnTo>
                <a:lnTo>
                  <a:pt x="8" y="1219"/>
                </a:lnTo>
                <a:lnTo>
                  <a:pt x="8" y="1211"/>
                </a:lnTo>
                <a:lnTo>
                  <a:pt x="10" y="1202"/>
                </a:lnTo>
                <a:lnTo>
                  <a:pt x="12" y="1192"/>
                </a:lnTo>
                <a:lnTo>
                  <a:pt x="12" y="1183"/>
                </a:lnTo>
                <a:lnTo>
                  <a:pt x="14" y="1171"/>
                </a:lnTo>
                <a:lnTo>
                  <a:pt x="16" y="1160"/>
                </a:lnTo>
                <a:lnTo>
                  <a:pt x="17" y="1148"/>
                </a:lnTo>
                <a:lnTo>
                  <a:pt x="19" y="1135"/>
                </a:lnTo>
                <a:lnTo>
                  <a:pt x="21" y="1121"/>
                </a:lnTo>
                <a:lnTo>
                  <a:pt x="23" y="1108"/>
                </a:lnTo>
                <a:lnTo>
                  <a:pt x="23" y="1094"/>
                </a:lnTo>
                <a:lnTo>
                  <a:pt x="27" y="1079"/>
                </a:lnTo>
                <a:lnTo>
                  <a:pt x="29" y="1062"/>
                </a:lnTo>
                <a:lnTo>
                  <a:pt x="31" y="1044"/>
                </a:lnTo>
                <a:lnTo>
                  <a:pt x="33" y="1025"/>
                </a:lnTo>
                <a:lnTo>
                  <a:pt x="37" y="1006"/>
                </a:lnTo>
                <a:lnTo>
                  <a:pt x="39" y="985"/>
                </a:lnTo>
                <a:lnTo>
                  <a:pt x="42" y="962"/>
                </a:lnTo>
                <a:lnTo>
                  <a:pt x="46" y="937"/>
                </a:lnTo>
                <a:lnTo>
                  <a:pt x="48" y="912"/>
                </a:lnTo>
                <a:lnTo>
                  <a:pt x="52" y="885"/>
                </a:lnTo>
                <a:lnTo>
                  <a:pt x="56" y="858"/>
                </a:lnTo>
                <a:lnTo>
                  <a:pt x="60" y="829"/>
                </a:lnTo>
                <a:lnTo>
                  <a:pt x="64" y="799"/>
                </a:lnTo>
                <a:lnTo>
                  <a:pt x="65" y="768"/>
                </a:lnTo>
                <a:lnTo>
                  <a:pt x="69" y="735"/>
                </a:lnTo>
                <a:lnTo>
                  <a:pt x="71" y="703"/>
                </a:lnTo>
                <a:lnTo>
                  <a:pt x="73" y="670"/>
                </a:lnTo>
                <a:lnTo>
                  <a:pt x="75" y="641"/>
                </a:lnTo>
                <a:lnTo>
                  <a:pt x="77" y="611"/>
                </a:lnTo>
                <a:lnTo>
                  <a:pt x="79" y="584"/>
                </a:lnTo>
                <a:lnTo>
                  <a:pt x="79" y="557"/>
                </a:lnTo>
                <a:lnTo>
                  <a:pt x="81" y="530"/>
                </a:lnTo>
                <a:lnTo>
                  <a:pt x="83" y="505"/>
                </a:lnTo>
                <a:lnTo>
                  <a:pt x="85" y="482"/>
                </a:lnTo>
                <a:lnTo>
                  <a:pt x="85" y="459"/>
                </a:lnTo>
                <a:lnTo>
                  <a:pt x="87" y="438"/>
                </a:lnTo>
                <a:lnTo>
                  <a:pt x="87" y="417"/>
                </a:lnTo>
                <a:lnTo>
                  <a:pt x="89" y="396"/>
                </a:lnTo>
                <a:lnTo>
                  <a:pt x="89" y="378"/>
                </a:lnTo>
                <a:lnTo>
                  <a:pt x="89" y="359"/>
                </a:lnTo>
                <a:lnTo>
                  <a:pt x="89" y="342"/>
                </a:lnTo>
                <a:lnTo>
                  <a:pt x="87" y="327"/>
                </a:lnTo>
                <a:lnTo>
                  <a:pt x="85" y="311"/>
                </a:lnTo>
                <a:lnTo>
                  <a:pt x="83" y="294"/>
                </a:lnTo>
                <a:lnTo>
                  <a:pt x="81" y="277"/>
                </a:lnTo>
                <a:lnTo>
                  <a:pt x="79" y="258"/>
                </a:lnTo>
                <a:lnTo>
                  <a:pt x="77" y="238"/>
                </a:lnTo>
                <a:lnTo>
                  <a:pt x="75" y="217"/>
                </a:lnTo>
                <a:lnTo>
                  <a:pt x="71" y="196"/>
                </a:lnTo>
                <a:lnTo>
                  <a:pt x="69" y="175"/>
                </a:lnTo>
                <a:lnTo>
                  <a:pt x="65" y="152"/>
                </a:lnTo>
                <a:lnTo>
                  <a:pt x="64" y="129"/>
                </a:lnTo>
                <a:lnTo>
                  <a:pt x="60" y="104"/>
                </a:lnTo>
                <a:lnTo>
                  <a:pt x="56" y="79"/>
                </a:lnTo>
                <a:lnTo>
                  <a:pt x="50" y="54"/>
                </a:lnTo>
                <a:lnTo>
                  <a:pt x="46" y="27"/>
                </a:lnTo>
                <a:lnTo>
                  <a:pt x="41" y="0"/>
                </a:lnTo>
                <a:lnTo>
                  <a:pt x="56" y="12"/>
                </a:lnTo>
                <a:lnTo>
                  <a:pt x="71" y="25"/>
                </a:lnTo>
                <a:lnTo>
                  <a:pt x="85" y="37"/>
                </a:lnTo>
                <a:lnTo>
                  <a:pt x="96" y="48"/>
                </a:lnTo>
                <a:lnTo>
                  <a:pt x="108" y="58"/>
                </a:lnTo>
                <a:lnTo>
                  <a:pt x="117" y="70"/>
                </a:lnTo>
                <a:lnTo>
                  <a:pt x="127" y="79"/>
                </a:lnTo>
                <a:lnTo>
                  <a:pt x="135" y="89"/>
                </a:lnTo>
                <a:lnTo>
                  <a:pt x="142" y="96"/>
                </a:lnTo>
                <a:lnTo>
                  <a:pt x="150" y="106"/>
                </a:lnTo>
                <a:lnTo>
                  <a:pt x="156" y="114"/>
                </a:lnTo>
                <a:lnTo>
                  <a:pt x="161" y="121"/>
                </a:lnTo>
                <a:lnTo>
                  <a:pt x="165" y="129"/>
                </a:lnTo>
                <a:lnTo>
                  <a:pt x="169" y="135"/>
                </a:lnTo>
                <a:lnTo>
                  <a:pt x="171" y="141"/>
                </a:lnTo>
                <a:lnTo>
                  <a:pt x="173" y="14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Freeform 58"/>
          <p:cNvSpPr/>
          <p:nvPr/>
        </p:nvSpPr>
        <p:spPr>
          <a:xfrm>
            <a:off x="2549520" y="3149640"/>
            <a:ext cx="179280" cy="382680"/>
          </a:xfrm>
          <a:custGeom>
            <a:avLst/>
            <a:gdLst>
              <a:gd name="textAreaLeft" fmla="*/ 0 w 179280"/>
              <a:gd name="textAreaRight" fmla="*/ 179640 w 179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26" h="482">
                <a:moveTo>
                  <a:pt x="161" y="384"/>
                </a:moveTo>
                <a:lnTo>
                  <a:pt x="154" y="395"/>
                </a:lnTo>
                <a:lnTo>
                  <a:pt x="148" y="407"/>
                </a:lnTo>
                <a:lnTo>
                  <a:pt x="142" y="418"/>
                </a:lnTo>
                <a:lnTo>
                  <a:pt x="134" y="428"/>
                </a:lnTo>
                <a:lnTo>
                  <a:pt x="129" y="436"/>
                </a:lnTo>
                <a:lnTo>
                  <a:pt x="123" y="443"/>
                </a:lnTo>
                <a:lnTo>
                  <a:pt x="119" y="451"/>
                </a:lnTo>
                <a:lnTo>
                  <a:pt x="113" y="459"/>
                </a:lnTo>
                <a:lnTo>
                  <a:pt x="107" y="463"/>
                </a:lnTo>
                <a:lnTo>
                  <a:pt x="104" y="468"/>
                </a:lnTo>
                <a:lnTo>
                  <a:pt x="100" y="472"/>
                </a:lnTo>
                <a:lnTo>
                  <a:pt x="96" y="476"/>
                </a:lnTo>
                <a:lnTo>
                  <a:pt x="92" y="478"/>
                </a:lnTo>
                <a:lnTo>
                  <a:pt x="90" y="480"/>
                </a:lnTo>
                <a:lnTo>
                  <a:pt x="88" y="480"/>
                </a:lnTo>
                <a:lnTo>
                  <a:pt x="86" y="482"/>
                </a:lnTo>
                <a:lnTo>
                  <a:pt x="79" y="480"/>
                </a:lnTo>
                <a:lnTo>
                  <a:pt x="71" y="478"/>
                </a:lnTo>
                <a:lnTo>
                  <a:pt x="65" y="474"/>
                </a:lnTo>
                <a:lnTo>
                  <a:pt x="58" y="468"/>
                </a:lnTo>
                <a:lnTo>
                  <a:pt x="50" y="461"/>
                </a:lnTo>
                <a:lnTo>
                  <a:pt x="42" y="453"/>
                </a:lnTo>
                <a:lnTo>
                  <a:pt x="36" y="443"/>
                </a:lnTo>
                <a:lnTo>
                  <a:pt x="29" y="432"/>
                </a:lnTo>
                <a:lnTo>
                  <a:pt x="23" y="422"/>
                </a:lnTo>
                <a:lnTo>
                  <a:pt x="17" y="411"/>
                </a:lnTo>
                <a:lnTo>
                  <a:pt x="11" y="403"/>
                </a:lnTo>
                <a:lnTo>
                  <a:pt x="8" y="393"/>
                </a:lnTo>
                <a:lnTo>
                  <a:pt x="6" y="386"/>
                </a:lnTo>
                <a:lnTo>
                  <a:pt x="2" y="378"/>
                </a:lnTo>
                <a:lnTo>
                  <a:pt x="2" y="370"/>
                </a:lnTo>
                <a:lnTo>
                  <a:pt x="0" y="363"/>
                </a:lnTo>
                <a:lnTo>
                  <a:pt x="2" y="355"/>
                </a:lnTo>
                <a:lnTo>
                  <a:pt x="4" y="347"/>
                </a:lnTo>
                <a:lnTo>
                  <a:pt x="8" y="338"/>
                </a:lnTo>
                <a:lnTo>
                  <a:pt x="13" y="328"/>
                </a:lnTo>
                <a:lnTo>
                  <a:pt x="21" y="319"/>
                </a:lnTo>
                <a:lnTo>
                  <a:pt x="29" y="307"/>
                </a:lnTo>
                <a:lnTo>
                  <a:pt x="38" y="296"/>
                </a:lnTo>
                <a:lnTo>
                  <a:pt x="48" y="286"/>
                </a:lnTo>
                <a:lnTo>
                  <a:pt x="54" y="278"/>
                </a:lnTo>
                <a:lnTo>
                  <a:pt x="59" y="271"/>
                </a:lnTo>
                <a:lnTo>
                  <a:pt x="65" y="261"/>
                </a:lnTo>
                <a:lnTo>
                  <a:pt x="73" y="250"/>
                </a:lnTo>
                <a:lnTo>
                  <a:pt x="81" y="238"/>
                </a:lnTo>
                <a:lnTo>
                  <a:pt x="88" y="223"/>
                </a:lnTo>
                <a:lnTo>
                  <a:pt x="96" y="207"/>
                </a:lnTo>
                <a:lnTo>
                  <a:pt x="104" y="190"/>
                </a:lnTo>
                <a:lnTo>
                  <a:pt x="113" y="173"/>
                </a:lnTo>
                <a:lnTo>
                  <a:pt x="121" y="152"/>
                </a:lnTo>
                <a:lnTo>
                  <a:pt x="130" y="131"/>
                </a:lnTo>
                <a:lnTo>
                  <a:pt x="140" y="108"/>
                </a:lnTo>
                <a:lnTo>
                  <a:pt x="150" y="83"/>
                </a:lnTo>
                <a:lnTo>
                  <a:pt x="159" y="58"/>
                </a:lnTo>
                <a:lnTo>
                  <a:pt x="171" y="29"/>
                </a:lnTo>
                <a:lnTo>
                  <a:pt x="180" y="0"/>
                </a:lnTo>
                <a:lnTo>
                  <a:pt x="186" y="6"/>
                </a:lnTo>
                <a:lnTo>
                  <a:pt x="190" y="13"/>
                </a:lnTo>
                <a:lnTo>
                  <a:pt x="196" y="21"/>
                </a:lnTo>
                <a:lnTo>
                  <a:pt x="200" y="29"/>
                </a:lnTo>
                <a:lnTo>
                  <a:pt x="203" y="36"/>
                </a:lnTo>
                <a:lnTo>
                  <a:pt x="207" y="46"/>
                </a:lnTo>
                <a:lnTo>
                  <a:pt x="211" y="56"/>
                </a:lnTo>
                <a:lnTo>
                  <a:pt x="215" y="65"/>
                </a:lnTo>
                <a:lnTo>
                  <a:pt x="219" y="86"/>
                </a:lnTo>
                <a:lnTo>
                  <a:pt x="225" y="108"/>
                </a:lnTo>
                <a:lnTo>
                  <a:pt x="226" y="132"/>
                </a:lnTo>
                <a:lnTo>
                  <a:pt x="226" y="157"/>
                </a:lnTo>
                <a:lnTo>
                  <a:pt x="226" y="186"/>
                </a:lnTo>
                <a:lnTo>
                  <a:pt x="225" y="202"/>
                </a:lnTo>
                <a:lnTo>
                  <a:pt x="223" y="217"/>
                </a:lnTo>
                <a:lnTo>
                  <a:pt x="221" y="230"/>
                </a:lnTo>
                <a:lnTo>
                  <a:pt x="219" y="246"/>
                </a:lnTo>
                <a:lnTo>
                  <a:pt x="215" y="259"/>
                </a:lnTo>
                <a:lnTo>
                  <a:pt x="211" y="274"/>
                </a:lnTo>
                <a:lnTo>
                  <a:pt x="207" y="288"/>
                </a:lnTo>
                <a:lnTo>
                  <a:pt x="203" y="301"/>
                </a:lnTo>
                <a:lnTo>
                  <a:pt x="198" y="317"/>
                </a:lnTo>
                <a:lnTo>
                  <a:pt x="192" y="330"/>
                </a:lnTo>
                <a:lnTo>
                  <a:pt x="184" y="344"/>
                </a:lnTo>
                <a:lnTo>
                  <a:pt x="177" y="357"/>
                </a:lnTo>
                <a:lnTo>
                  <a:pt x="169" y="370"/>
                </a:lnTo>
                <a:lnTo>
                  <a:pt x="161" y="38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Freeform 59"/>
          <p:cNvSpPr/>
          <p:nvPr/>
        </p:nvSpPr>
        <p:spPr>
          <a:xfrm>
            <a:off x="2759040" y="3376440"/>
            <a:ext cx="727200" cy="147960"/>
          </a:xfrm>
          <a:custGeom>
            <a:avLst/>
            <a:gdLst>
              <a:gd name="textAreaLeft" fmla="*/ 0 w 727200"/>
              <a:gd name="textAreaRight" fmla="*/ 727560 w 727200"/>
              <a:gd name="textAreaTop" fmla="*/ 0 h 147960"/>
              <a:gd name="textAreaBottom" fmla="*/ 147960 h 147960"/>
            </a:gdLst>
            <a:ahLst/>
            <a:rect l="textAreaLeft" t="textAreaTop" r="textAreaRight" b="textAreaBottom"/>
            <a:pathLst>
              <a:path w="915" h="186">
                <a:moveTo>
                  <a:pt x="330" y="58"/>
                </a:moveTo>
                <a:lnTo>
                  <a:pt x="370" y="50"/>
                </a:lnTo>
                <a:lnTo>
                  <a:pt x="409" y="44"/>
                </a:lnTo>
                <a:lnTo>
                  <a:pt x="445" y="38"/>
                </a:lnTo>
                <a:lnTo>
                  <a:pt x="480" y="33"/>
                </a:lnTo>
                <a:lnTo>
                  <a:pt x="512" y="27"/>
                </a:lnTo>
                <a:lnTo>
                  <a:pt x="543" y="21"/>
                </a:lnTo>
                <a:lnTo>
                  <a:pt x="572" y="17"/>
                </a:lnTo>
                <a:lnTo>
                  <a:pt x="599" y="13"/>
                </a:lnTo>
                <a:lnTo>
                  <a:pt x="625" y="10"/>
                </a:lnTo>
                <a:lnTo>
                  <a:pt x="648" y="8"/>
                </a:lnTo>
                <a:lnTo>
                  <a:pt x="671" y="4"/>
                </a:lnTo>
                <a:lnTo>
                  <a:pt x="691" y="2"/>
                </a:lnTo>
                <a:lnTo>
                  <a:pt x="710" y="2"/>
                </a:lnTo>
                <a:lnTo>
                  <a:pt x="727" y="0"/>
                </a:lnTo>
                <a:lnTo>
                  <a:pt x="742" y="0"/>
                </a:lnTo>
                <a:lnTo>
                  <a:pt x="756" y="0"/>
                </a:lnTo>
                <a:lnTo>
                  <a:pt x="775" y="0"/>
                </a:lnTo>
                <a:lnTo>
                  <a:pt x="796" y="2"/>
                </a:lnTo>
                <a:lnTo>
                  <a:pt x="815" y="4"/>
                </a:lnTo>
                <a:lnTo>
                  <a:pt x="833" y="8"/>
                </a:lnTo>
                <a:lnTo>
                  <a:pt x="850" y="13"/>
                </a:lnTo>
                <a:lnTo>
                  <a:pt x="867" y="19"/>
                </a:lnTo>
                <a:lnTo>
                  <a:pt x="883" y="29"/>
                </a:lnTo>
                <a:lnTo>
                  <a:pt x="896" y="38"/>
                </a:lnTo>
                <a:lnTo>
                  <a:pt x="902" y="44"/>
                </a:lnTo>
                <a:lnTo>
                  <a:pt x="906" y="48"/>
                </a:lnTo>
                <a:lnTo>
                  <a:pt x="909" y="54"/>
                </a:lnTo>
                <a:lnTo>
                  <a:pt x="911" y="58"/>
                </a:lnTo>
                <a:lnTo>
                  <a:pt x="913" y="63"/>
                </a:lnTo>
                <a:lnTo>
                  <a:pt x="915" y="67"/>
                </a:lnTo>
                <a:lnTo>
                  <a:pt x="915" y="71"/>
                </a:lnTo>
                <a:lnTo>
                  <a:pt x="915" y="75"/>
                </a:lnTo>
                <a:lnTo>
                  <a:pt x="913" y="79"/>
                </a:lnTo>
                <a:lnTo>
                  <a:pt x="911" y="83"/>
                </a:lnTo>
                <a:lnTo>
                  <a:pt x="909" y="84"/>
                </a:lnTo>
                <a:lnTo>
                  <a:pt x="904" y="88"/>
                </a:lnTo>
                <a:lnTo>
                  <a:pt x="900" y="90"/>
                </a:lnTo>
                <a:lnTo>
                  <a:pt x="894" y="92"/>
                </a:lnTo>
                <a:lnTo>
                  <a:pt x="886" y="96"/>
                </a:lnTo>
                <a:lnTo>
                  <a:pt x="879" y="98"/>
                </a:lnTo>
                <a:lnTo>
                  <a:pt x="869" y="100"/>
                </a:lnTo>
                <a:lnTo>
                  <a:pt x="860" y="104"/>
                </a:lnTo>
                <a:lnTo>
                  <a:pt x="848" y="107"/>
                </a:lnTo>
                <a:lnTo>
                  <a:pt x="837" y="109"/>
                </a:lnTo>
                <a:lnTo>
                  <a:pt x="825" y="113"/>
                </a:lnTo>
                <a:lnTo>
                  <a:pt x="813" y="115"/>
                </a:lnTo>
                <a:lnTo>
                  <a:pt x="800" y="117"/>
                </a:lnTo>
                <a:lnTo>
                  <a:pt x="787" y="119"/>
                </a:lnTo>
                <a:lnTo>
                  <a:pt x="771" y="121"/>
                </a:lnTo>
                <a:lnTo>
                  <a:pt x="756" y="123"/>
                </a:lnTo>
                <a:lnTo>
                  <a:pt x="741" y="123"/>
                </a:lnTo>
                <a:lnTo>
                  <a:pt x="723" y="125"/>
                </a:lnTo>
                <a:lnTo>
                  <a:pt x="706" y="125"/>
                </a:lnTo>
                <a:lnTo>
                  <a:pt x="689" y="127"/>
                </a:lnTo>
                <a:lnTo>
                  <a:pt x="670" y="127"/>
                </a:lnTo>
                <a:lnTo>
                  <a:pt x="652" y="127"/>
                </a:lnTo>
                <a:lnTo>
                  <a:pt x="612" y="127"/>
                </a:lnTo>
                <a:lnTo>
                  <a:pt x="572" y="129"/>
                </a:lnTo>
                <a:lnTo>
                  <a:pt x="531" y="130"/>
                </a:lnTo>
                <a:lnTo>
                  <a:pt x="491" y="134"/>
                </a:lnTo>
                <a:lnTo>
                  <a:pt x="451" y="138"/>
                </a:lnTo>
                <a:lnTo>
                  <a:pt x="410" y="142"/>
                </a:lnTo>
                <a:lnTo>
                  <a:pt x="370" y="150"/>
                </a:lnTo>
                <a:lnTo>
                  <a:pt x="330" y="155"/>
                </a:lnTo>
                <a:lnTo>
                  <a:pt x="309" y="159"/>
                </a:lnTo>
                <a:lnTo>
                  <a:pt x="290" y="163"/>
                </a:lnTo>
                <a:lnTo>
                  <a:pt x="272" y="165"/>
                </a:lnTo>
                <a:lnTo>
                  <a:pt x="255" y="169"/>
                </a:lnTo>
                <a:lnTo>
                  <a:pt x="238" y="171"/>
                </a:lnTo>
                <a:lnTo>
                  <a:pt x="222" y="175"/>
                </a:lnTo>
                <a:lnTo>
                  <a:pt x="209" y="177"/>
                </a:lnTo>
                <a:lnTo>
                  <a:pt x="196" y="178"/>
                </a:lnTo>
                <a:lnTo>
                  <a:pt x="182" y="180"/>
                </a:lnTo>
                <a:lnTo>
                  <a:pt x="171" y="180"/>
                </a:lnTo>
                <a:lnTo>
                  <a:pt x="161" y="182"/>
                </a:lnTo>
                <a:lnTo>
                  <a:pt x="151" y="184"/>
                </a:lnTo>
                <a:lnTo>
                  <a:pt x="142" y="184"/>
                </a:lnTo>
                <a:lnTo>
                  <a:pt x="134" y="184"/>
                </a:lnTo>
                <a:lnTo>
                  <a:pt x="128" y="184"/>
                </a:lnTo>
                <a:lnTo>
                  <a:pt x="123" y="186"/>
                </a:lnTo>
                <a:lnTo>
                  <a:pt x="113" y="184"/>
                </a:lnTo>
                <a:lnTo>
                  <a:pt x="103" y="184"/>
                </a:lnTo>
                <a:lnTo>
                  <a:pt x="94" y="182"/>
                </a:lnTo>
                <a:lnTo>
                  <a:pt x="84" y="178"/>
                </a:lnTo>
                <a:lnTo>
                  <a:pt x="67" y="173"/>
                </a:lnTo>
                <a:lnTo>
                  <a:pt x="57" y="169"/>
                </a:lnTo>
                <a:lnTo>
                  <a:pt x="48" y="165"/>
                </a:lnTo>
                <a:lnTo>
                  <a:pt x="36" y="161"/>
                </a:lnTo>
                <a:lnTo>
                  <a:pt x="29" y="157"/>
                </a:lnTo>
                <a:lnTo>
                  <a:pt x="19" y="152"/>
                </a:lnTo>
                <a:lnTo>
                  <a:pt x="13" y="146"/>
                </a:lnTo>
                <a:lnTo>
                  <a:pt x="7" y="140"/>
                </a:lnTo>
                <a:lnTo>
                  <a:pt x="4" y="136"/>
                </a:lnTo>
                <a:lnTo>
                  <a:pt x="2" y="130"/>
                </a:lnTo>
                <a:lnTo>
                  <a:pt x="0" y="127"/>
                </a:lnTo>
                <a:lnTo>
                  <a:pt x="0" y="125"/>
                </a:lnTo>
                <a:lnTo>
                  <a:pt x="2" y="125"/>
                </a:lnTo>
                <a:lnTo>
                  <a:pt x="4" y="123"/>
                </a:lnTo>
                <a:lnTo>
                  <a:pt x="6" y="123"/>
                </a:lnTo>
                <a:lnTo>
                  <a:pt x="7" y="121"/>
                </a:lnTo>
                <a:lnTo>
                  <a:pt x="11" y="119"/>
                </a:lnTo>
                <a:lnTo>
                  <a:pt x="17" y="119"/>
                </a:lnTo>
                <a:lnTo>
                  <a:pt x="21" y="117"/>
                </a:lnTo>
                <a:lnTo>
                  <a:pt x="27" y="115"/>
                </a:lnTo>
                <a:lnTo>
                  <a:pt x="32" y="115"/>
                </a:lnTo>
                <a:lnTo>
                  <a:pt x="40" y="113"/>
                </a:lnTo>
                <a:lnTo>
                  <a:pt x="48" y="111"/>
                </a:lnTo>
                <a:lnTo>
                  <a:pt x="55" y="109"/>
                </a:lnTo>
                <a:lnTo>
                  <a:pt x="65" y="107"/>
                </a:lnTo>
                <a:lnTo>
                  <a:pt x="75" y="106"/>
                </a:lnTo>
                <a:lnTo>
                  <a:pt x="84" y="104"/>
                </a:lnTo>
                <a:lnTo>
                  <a:pt x="94" y="102"/>
                </a:lnTo>
                <a:lnTo>
                  <a:pt x="105" y="100"/>
                </a:lnTo>
                <a:lnTo>
                  <a:pt x="119" y="96"/>
                </a:lnTo>
                <a:lnTo>
                  <a:pt x="130" y="94"/>
                </a:lnTo>
                <a:lnTo>
                  <a:pt x="144" y="92"/>
                </a:lnTo>
                <a:lnTo>
                  <a:pt x="157" y="90"/>
                </a:lnTo>
                <a:lnTo>
                  <a:pt x="173" y="86"/>
                </a:lnTo>
                <a:lnTo>
                  <a:pt x="188" y="84"/>
                </a:lnTo>
                <a:lnTo>
                  <a:pt x="203" y="81"/>
                </a:lnTo>
                <a:lnTo>
                  <a:pt x="219" y="79"/>
                </a:lnTo>
                <a:lnTo>
                  <a:pt x="236" y="75"/>
                </a:lnTo>
                <a:lnTo>
                  <a:pt x="253" y="71"/>
                </a:lnTo>
                <a:lnTo>
                  <a:pt x="272" y="69"/>
                </a:lnTo>
                <a:lnTo>
                  <a:pt x="292" y="65"/>
                </a:lnTo>
                <a:lnTo>
                  <a:pt x="311" y="61"/>
                </a:lnTo>
                <a:lnTo>
                  <a:pt x="330" y="5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Freeform 60"/>
          <p:cNvSpPr/>
          <p:nvPr/>
        </p:nvSpPr>
        <p:spPr>
          <a:xfrm>
            <a:off x="2894040" y="3462480"/>
            <a:ext cx="328680" cy="723600"/>
          </a:xfrm>
          <a:custGeom>
            <a:avLst/>
            <a:gdLst>
              <a:gd name="textAreaLeft" fmla="*/ 0 w 328680"/>
              <a:gd name="textAreaRight" fmla="*/ 329040 w 32868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414" h="912">
                <a:moveTo>
                  <a:pt x="407" y="137"/>
                </a:moveTo>
                <a:lnTo>
                  <a:pt x="410" y="144"/>
                </a:lnTo>
                <a:lnTo>
                  <a:pt x="412" y="152"/>
                </a:lnTo>
                <a:lnTo>
                  <a:pt x="412" y="160"/>
                </a:lnTo>
                <a:lnTo>
                  <a:pt x="414" y="166"/>
                </a:lnTo>
                <a:lnTo>
                  <a:pt x="412" y="173"/>
                </a:lnTo>
                <a:lnTo>
                  <a:pt x="412" y="181"/>
                </a:lnTo>
                <a:lnTo>
                  <a:pt x="410" y="189"/>
                </a:lnTo>
                <a:lnTo>
                  <a:pt x="407" y="196"/>
                </a:lnTo>
                <a:lnTo>
                  <a:pt x="405" y="202"/>
                </a:lnTo>
                <a:lnTo>
                  <a:pt x="405" y="210"/>
                </a:lnTo>
                <a:lnTo>
                  <a:pt x="403" y="219"/>
                </a:lnTo>
                <a:lnTo>
                  <a:pt x="401" y="231"/>
                </a:lnTo>
                <a:lnTo>
                  <a:pt x="401" y="244"/>
                </a:lnTo>
                <a:lnTo>
                  <a:pt x="401" y="258"/>
                </a:lnTo>
                <a:lnTo>
                  <a:pt x="401" y="273"/>
                </a:lnTo>
                <a:lnTo>
                  <a:pt x="399" y="292"/>
                </a:lnTo>
                <a:lnTo>
                  <a:pt x="401" y="311"/>
                </a:lnTo>
                <a:lnTo>
                  <a:pt x="401" y="331"/>
                </a:lnTo>
                <a:lnTo>
                  <a:pt x="401" y="354"/>
                </a:lnTo>
                <a:lnTo>
                  <a:pt x="401" y="379"/>
                </a:lnTo>
                <a:lnTo>
                  <a:pt x="403" y="403"/>
                </a:lnTo>
                <a:lnTo>
                  <a:pt x="405" y="430"/>
                </a:lnTo>
                <a:lnTo>
                  <a:pt x="405" y="459"/>
                </a:lnTo>
                <a:lnTo>
                  <a:pt x="407" y="490"/>
                </a:lnTo>
                <a:lnTo>
                  <a:pt x="407" y="522"/>
                </a:lnTo>
                <a:lnTo>
                  <a:pt x="407" y="553"/>
                </a:lnTo>
                <a:lnTo>
                  <a:pt x="405" y="582"/>
                </a:lnTo>
                <a:lnTo>
                  <a:pt x="403" y="611"/>
                </a:lnTo>
                <a:lnTo>
                  <a:pt x="401" y="638"/>
                </a:lnTo>
                <a:lnTo>
                  <a:pt x="399" y="663"/>
                </a:lnTo>
                <a:lnTo>
                  <a:pt x="397" y="688"/>
                </a:lnTo>
                <a:lnTo>
                  <a:pt x="393" y="709"/>
                </a:lnTo>
                <a:lnTo>
                  <a:pt x="391" y="730"/>
                </a:lnTo>
                <a:lnTo>
                  <a:pt x="387" y="749"/>
                </a:lnTo>
                <a:lnTo>
                  <a:pt x="384" y="766"/>
                </a:lnTo>
                <a:lnTo>
                  <a:pt x="378" y="783"/>
                </a:lnTo>
                <a:lnTo>
                  <a:pt x="374" y="799"/>
                </a:lnTo>
                <a:lnTo>
                  <a:pt x="370" y="810"/>
                </a:lnTo>
                <a:lnTo>
                  <a:pt x="364" y="822"/>
                </a:lnTo>
                <a:lnTo>
                  <a:pt x="360" y="833"/>
                </a:lnTo>
                <a:lnTo>
                  <a:pt x="355" y="841"/>
                </a:lnTo>
                <a:lnTo>
                  <a:pt x="349" y="851"/>
                </a:lnTo>
                <a:lnTo>
                  <a:pt x="343" y="858"/>
                </a:lnTo>
                <a:lnTo>
                  <a:pt x="339" y="866"/>
                </a:lnTo>
                <a:lnTo>
                  <a:pt x="334" y="874"/>
                </a:lnTo>
                <a:lnTo>
                  <a:pt x="328" y="879"/>
                </a:lnTo>
                <a:lnTo>
                  <a:pt x="324" y="885"/>
                </a:lnTo>
                <a:lnTo>
                  <a:pt x="318" y="891"/>
                </a:lnTo>
                <a:lnTo>
                  <a:pt x="314" y="895"/>
                </a:lnTo>
                <a:lnTo>
                  <a:pt x="309" y="899"/>
                </a:lnTo>
                <a:lnTo>
                  <a:pt x="305" y="902"/>
                </a:lnTo>
                <a:lnTo>
                  <a:pt x="299" y="906"/>
                </a:lnTo>
                <a:lnTo>
                  <a:pt x="295" y="908"/>
                </a:lnTo>
                <a:lnTo>
                  <a:pt x="291" y="910"/>
                </a:lnTo>
                <a:lnTo>
                  <a:pt x="288" y="910"/>
                </a:lnTo>
                <a:lnTo>
                  <a:pt x="284" y="912"/>
                </a:lnTo>
                <a:lnTo>
                  <a:pt x="280" y="910"/>
                </a:lnTo>
                <a:lnTo>
                  <a:pt x="278" y="910"/>
                </a:lnTo>
                <a:lnTo>
                  <a:pt x="274" y="908"/>
                </a:lnTo>
                <a:lnTo>
                  <a:pt x="272" y="908"/>
                </a:lnTo>
                <a:lnTo>
                  <a:pt x="268" y="904"/>
                </a:lnTo>
                <a:lnTo>
                  <a:pt x="266" y="902"/>
                </a:lnTo>
                <a:lnTo>
                  <a:pt x="265" y="899"/>
                </a:lnTo>
                <a:lnTo>
                  <a:pt x="263" y="895"/>
                </a:lnTo>
                <a:lnTo>
                  <a:pt x="259" y="891"/>
                </a:lnTo>
                <a:lnTo>
                  <a:pt x="257" y="885"/>
                </a:lnTo>
                <a:lnTo>
                  <a:pt x="255" y="879"/>
                </a:lnTo>
                <a:lnTo>
                  <a:pt x="253" y="874"/>
                </a:lnTo>
                <a:lnTo>
                  <a:pt x="251" y="868"/>
                </a:lnTo>
                <a:lnTo>
                  <a:pt x="249" y="860"/>
                </a:lnTo>
                <a:lnTo>
                  <a:pt x="247" y="851"/>
                </a:lnTo>
                <a:lnTo>
                  <a:pt x="247" y="843"/>
                </a:lnTo>
                <a:lnTo>
                  <a:pt x="243" y="833"/>
                </a:lnTo>
                <a:lnTo>
                  <a:pt x="241" y="824"/>
                </a:lnTo>
                <a:lnTo>
                  <a:pt x="238" y="816"/>
                </a:lnTo>
                <a:lnTo>
                  <a:pt x="232" y="808"/>
                </a:lnTo>
                <a:lnTo>
                  <a:pt x="226" y="799"/>
                </a:lnTo>
                <a:lnTo>
                  <a:pt x="220" y="791"/>
                </a:lnTo>
                <a:lnTo>
                  <a:pt x="213" y="783"/>
                </a:lnTo>
                <a:lnTo>
                  <a:pt x="205" y="776"/>
                </a:lnTo>
                <a:lnTo>
                  <a:pt x="195" y="768"/>
                </a:lnTo>
                <a:lnTo>
                  <a:pt x="186" y="760"/>
                </a:lnTo>
                <a:lnTo>
                  <a:pt x="176" y="753"/>
                </a:lnTo>
                <a:lnTo>
                  <a:pt x="165" y="745"/>
                </a:lnTo>
                <a:lnTo>
                  <a:pt x="153" y="737"/>
                </a:lnTo>
                <a:lnTo>
                  <a:pt x="142" y="730"/>
                </a:lnTo>
                <a:lnTo>
                  <a:pt x="128" y="722"/>
                </a:lnTo>
                <a:lnTo>
                  <a:pt x="115" y="714"/>
                </a:lnTo>
                <a:lnTo>
                  <a:pt x="99" y="707"/>
                </a:lnTo>
                <a:lnTo>
                  <a:pt x="84" y="697"/>
                </a:lnTo>
                <a:lnTo>
                  <a:pt x="71" y="689"/>
                </a:lnTo>
                <a:lnTo>
                  <a:pt x="59" y="682"/>
                </a:lnTo>
                <a:lnTo>
                  <a:pt x="48" y="674"/>
                </a:lnTo>
                <a:lnTo>
                  <a:pt x="38" y="668"/>
                </a:lnTo>
                <a:lnTo>
                  <a:pt x="30" y="663"/>
                </a:lnTo>
                <a:lnTo>
                  <a:pt x="23" y="657"/>
                </a:lnTo>
                <a:lnTo>
                  <a:pt x="15" y="651"/>
                </a:lnTo>
                <a:lnTo>
                  <a:pt x="11" y="645"/>
                </a:lnTo>
                <a:lnTo>
                  <a:pt x="5" y="641"/>
                </a:lnTo>
                <a:lnTo>
                  <a:pt x="4" y="638"/>
                </a:lnTo>
                <a:lnTo>
                  <a:pt x="2" y="634"/>
                </a:lnTo>
                <a:lnTo>
                  <a:pt x="0" y="632"/>
                </a:lnTo>
                <a:lnTo>
                  <a:pt x="0" y="630"/>
                </a:lnTo>
                <a:lnTo>
                  <a:pt x="2" y="628"/>
                </a:lnTo>
                <a:lnTo>
                  <a:pt x="4" y="626"/>
                </a:lnTo>
                <a:lnTo>
                  <a:pt x="5" y="624"/>
                </a:lnTo>
                <a:lnTo>
                  <a:pt x="9" y="622"/>
                </a:lnTo>
                <a:lnTo>
                  <a:pt x="15" y="622"/>
                </a:lnTo>
                <a:lnTo>
                  <a:pt x="21" y="620"/>
                </a:lnTo>
                <a:lnTo>
                  <a:pt x="27" y="620"/>
                </a:lnTo>
                <a:lnTo>
                  <a:pt x="34" y="620"/>
                </a:lnTo>
                <a:lnTo>
                  <a:pt x="44" y="620"/>
                </a:lnTo>
                <a:lnTo>
                  <a:pt x="53" y="620"/>
                </a:lnTo>
                <a:lnTo>
                  <a:pt x="63" y="622"/>
                </a:lnTo>
                <a:lnTo>
                  <a:pt x="75" y="624"/>
                </a:lnTo>
                <a:lnTo>
                  <a:pt x="86" y="626"/>
                </a:lnTo>
                <a:lnTo>
                  <a:pt x="99" y="628"/>
                </a:lnTo>
                <a:lnTo>
                  <a:pt x="113" y="630"/>
                </a:lnTo>
                <a:lnTo>
                  <a:pt x="126" y="634"/>
                </a:lnTo>
                <a:lnTo>
                  <a:pt x="142" y="638"/>
                </a:lnTo>
                <a:lnTo>
                  <a:pt x="157" y="640"/>
                </a:lnTo>
                <a:lnTo>
                  <a:pt x="172" y="643"/>
                </a:lnTo>
                <a:lnTo>
                  <a:pt x="186" y="645"/>
                </a:lnTo>
                <a:lnTo>
                  <a:pt x="199" y="647"/>
                </a:lnTo>
                <a:lnTo>
                  <a:pt x="211" y="647"/>
                </a:lnTo>
                <a:lnTo>
                  <a:pt x="222" y="647"/>
                </a:lnTo>
                <a:lnTo>
                  <a:pt x="232" y="647"/>
                </a:lnTo>
                <a:lnTo>
                  <a:pt x="241" y="645"/>
                </a:lnTo>
                <a:lnTo>
                  <a:pt x="249" y="643"/>
                </a:lnTo>
                <a:lnTo>
                  <a:pt x="257" y="641"/>
                </a:lnTo>
                <a:lnTo>
                  <a:pt x="265" y="640"/>
                </a:lnTo>
                <a:lnTo>
                  <a:pt x="270" y="636"/>
                </a:lnTo>
                <a:lnTo>
                  <a:pt x="274" y="632"/>
                </a:lnTo>
                <a:lnTo>
                  <a:pt x="278" y="628"/>
                </a:lnTo>
                <a:lnTo>
                  <a:pt x="282" y="622"/>
                </a:lnTo>
                <a:lnTo>
                  <a:pt x="284" y="617"/>
                </a:lnTo>
                <a:lnTo>
                  <a:pt x="286" y="611"/>
                </a:lnTo>
                <a:lnTo>
                  <a:pt x="288" y="605"/>
                </a:lnTo>
                <a:lnTo>
                  <a:pt x="288" y="597"/>
                </a:lnTo>
                <a:lnTo>
                  <a:pt x="289" y="590"/>
                </a:lnTo>
                <a:lnTo>
                  <a:pt x="289" y="582"/>
                </a:lnTo>
                <a:lnTo>
                  <a:pt x="291" y="572"/>
                </a:lnTo>
                <a:lnTo>
                  <a:pt x="291" y="561"/>
                </a:lnTo>
                <a:lnTo>
                  <a:pt x="291" y="551"/>
                </a:lnTo>
                <a:lnTo>
                  <a:pt x="293" y="540"/>
                </a:lnTo>
                <a:lnTo>
                  <a:pt x="293" y="528"/>
                </a:lnTo>
                <a:lnTo>
                  <a:pt x="293" y="515"/>
                </a:lnTo>
                <a:lnTo>
                  <a:pt x="293" y="501"/>
                </a:lnTo>
                <a:lnTo>
                  <a:pt x="293" y="488"/>
                </a:lnTo>
                <a:lnTo>
                  <a:pt x="293" y="473"/>
                </a:lnTo>
                <a:lnTo>
                  <a:pt x="293" y="457"/>
                </a:lnTo>
                <a:lnTo>
                  <a:pt x="293" y="440"/>
                </a:lnTo>
                <a:lnTo>
                  <a:pt x="293" y="423"/>
                </a:lnTo>
                <a:lnTo>
                  <a:pt x="293" y="405"/>
                </a:lnTo>
                <a:lnTo>
                  <a:pt x="291" y="384"/>
                </a:lnTo>
                <a:lnTo>
                  <a:pt x="289" y="363"/>
                </a:lnTo>
                <a:lnTo>
                  <a:pt x="288" y="340"/>
                </a:lnTo>
                <a:lnTo>
                  <a:pt x="286" y="317"/>
                </a:lnTo>
                <a:lnTo>
                  <a:pt x="284" y="292"/>
                </a:lnTo>
                <a:lnTo>
                  <a:pt x="280" y="265"/>
                </a:lnTo>
                <a:lnTo>
                  <a:pt x="278" y="237"/>
                </a:lnTo>
                <a:lnTo>
                  <a:pt x="274" y="206"/>
                </a:lnTo>
                <a:lnTo>
                  <a:pt x="270" y="175"/>
                </a:lnTo>
                <a:lnTo>
                  <a:pt x="265" y="142"/>
                </a:lnTo>
                <a:lnTo>
                  <a:pt x="261" y="110"/>
                </a:lnTo>
                <a:lnTo>
                  <a:pt x="257" y="73"/>
                </a:lnTo>
                <a:lnTo>
                  <a:pt x="251" y="37"/>
                </a:lnTo>
                <a:lnTo>
                  <a:pt x="247" y="0"/>
                </a:lnTo>
                <a:lnTo>
                  <a:pt x="265" y="12"/>
                </a:lnTo>
                <a:lnTo>
                  <a:pt x="282" y="25"/>
                </a:lnTo>
                <a:lnTo>
                  <a:pt x="299" y="37"/>
                </a:lnTo>
                <a:lnTo>
                  <a:pt x="314" y="48"/>
                </a:lnTo>
                <a:lnTo>
                  <a:pt x="328" y="58"/>
                </a:lnTo>
                <a:lnTo>
                  <a:pt x="339" y="68"/>
                </a:lnTo>
                <a:lnTo>
                  <a:pt x="351" y="77"/>
                </a:lnTo>
                <a:lnTo>
                  <a:pt x="362" y="87"/>
                </a:lnTo>
                <a:lnTo>
                  <a:pt x="370" y="96"/>
                </a:lnTo>
                <a:lnTo>
                  <a:pt x="380" y="104"/>
                </a:lnTo>
                <a:lnTo>
                  <a:pt x="385" y="110"/>
                </a:lnTo>
                <a:lnTo>
                  <a:pt x="393" y="118"/>
                </a:lnTo>
                <a:lnTo>
                  <a:pt x="397" y="123"/>
                </a:lnTo>
                <a:lnTo>
                  <a:pt x="401" y="129"/>
                </a:lnTo>
                <a:lnTo>
                  <a:pt x="405" y="133"/>
                </a:lnTo>
                <a:lnTo>
                  <a:pt x="407" y="13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Freeform 61"/>
          <p:cNvSpPr/>
          <p:nvPr/>
        </p:nvSpPr>
        <p:spPr>
          <a:xfrm>
            <a:off x="2838600" y="2805120"/>
            <a:ext cx="145800" cy="322200"/>
          </a:xfrm>
          <a:custGeom>
            <a:avLst/>
            <a:gdLst/>
            <a:ahLst/>
            <a:rect l="l" t="t" r="r" b="b"/>
            <a:pathLst>
              <a:path w="184" h="405">
                <a:moveTo>
                  <a:pt x="13" y="52"/>
                </a:moveTo>
                <a:lnTo>
                  <a:pt x="7" y="43"/>
                </a:lnTo>
                <a:lnTo>
                  <a:pt x="5" y="39"/>
                </a:lnTo>
                <a:lnTo>
                  <a:pt x="3" y="35"/>
                </a:lnTo>
                <a:lnTo>
                  <a:pt x="2" y="31"/>
                </a:lnTo>
                <a:lnTo>
                  <a:pt x="2" y="27"/>
                </a:lnTo>
                <a:lnTo>
                  <a:pt x="0" y="23"/>
                </a:ln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3" y="14"/>
                </a:lnTo>
                <a:lnTo>
                  <a:pt x="7" y="12"/>
                </a:lnTo>
                <a:lnTo>
                  <a:pt x="9" y="10"/>
                </a:lnTo>
                <a:lnTo>
                  <a:pt x="13" y="8"/>
                </a:lnTo>
                <a:lnTo>
                  <a:pt x="17" y="6"/>
                </a:lnTo>
                <a:lnTo>
                  <a:pt x="23" y="4"/>
                </a:lnTo>
                <a:lnTo>
                  <a:pt x="28" y="2"/>
                </a:lnTo>
                <a:lnTo>
                  <a:pt x="34" y="0"/>
                </a:lnTo>
                <a:lnTo>
                  <a:pt x="40" y="0"/>
                </a:lnTo>
                <a:lnTo>
                  <a:pt x="46" y="2"/>
                </a:lnTo>
                <a:lnTo>
                  <a:pt x="51" y="2"/>
                </a:lnTo>
                <a:lnTo>
                  <a:pt x="59" y="4"/>
                </a:lnTo>
                <a:lnTo>
                  <a:pt x="67" y="6"/>
                </a:lnTo>
                <a:lnTo>
                  <a:pt x="74" y="8"/>
                </a:lnTo>
                <a:lnTo>
                  <a:pt x="90" y="14"/>
                </a:lnTo>
                <a:lnTo>
                  <a:pt x="107" y="23"/>
                </a:lnTo>
                <a:lnTo>
                  <a:pt x="124" y="33"/>
                </a:lnTo>
                <a:lnTo>
                  <a:pt x="145" y="43"/>
                </a:lnTo>
                <a:lnTo>
                  <a:pt x="151" y="71"/>
                </a:lnTo>
                <a:lnTo>
                  <a:pt x="155" y="98"/>
                </a:lnTo>
                <a:lnTo>
                  <a:pt x="159" y="125"/>
                </a:lnTo>
                <a:lnTo>
                  <a:pt x="163" y="150"/>
                </a:lnTo>
                <a:lnTo>
                  <a:pt x="167" y="173"/>
                </a:lnTo>
                <a:lnTo>
                  <a:pt x="170" y="194"/>
                </a:lnTo>
                <a:lnTo>
                  <a:pt x="172" y="215"/>
                </a:lnTo>
                <a:lnTo>
                  <a:pt x="174" y="234"/>
                </a:lnTo>
                <a:lnTo>
                  <a:pt x="176" y="252"/>
                </a:lnTo>
                <a:lnTo>
                  <a:pt x="178" y="267"/>
                </a:lnTo>
                <a:lnTo>
                  <a:pt x="180" y="282"/>
                </a:lnTo>
                <a:lnTo>
                  <a:pt x="182" y="296"/>
                </a:lnTo>
                <a:lnTo>
                  <a:pt x="182" y="309"/>
                </a:lnTo>
                <a:lnTo>
                  <a:pt x="182" y="319"/>
                </a:lnTo>
                <a:lnTo>
                  <a:pt x="184" y="328"/>
                </a:lnTo>
                <a:lnTo>
                  <a:pt x="184" y="336"/>
                </a:lnTo>
                <a:lnTo>
                  <a:pt x="184" y="346"/>
                </a:lnTo>
                <a:lnTo>
                  <a:pt x="182" y="353"/>
                </a:lnTo>
                <a:lnTo>
                  <a:pt x="182" y="361"/>
                </a:lnTo>
                <a:lnTo>
                  <a:pt x="182" y="369"/>
                </a:lnTo>
                <a:lnTo>
                  <a:pt x="180" y="375"/>
                </a:lnTo>
                <a:lnTo>
                  <a:pt x="180" y="380"/>
                </a:lnTo>
                <a:lnTo>
                  <a:pt x="178" y="384"/>
                </a:lnTo>
                <a:lnTo>
                  <a:pt x="176" y="390"/>
                </a:lnTo>
                <a:lnTo>
                  <a:pt x="174" y="394"/>
                </a:lnTo>
                <a:lnTo>
                  <a:pt x="172" y="396"/>
                </a:lnTo>
                <a:lnTo>
                  <a:pt x="170" y="399"/>
                </a:lnTo>
                <a:lnTo>
                  <a:pt x="167" y="401"/>
                </a:lnTo>
                <a:lnTo>
                  <a:pt x="165" y="403"/>
                </a:lnTo>
                <a:lnTo>
                  <a:pt x="161" y="405"/>
                </a:lnTo>
                <a:lnTo>
                  <a:pt x="159" y="405"/>
                </a:lnTo>
                <a:lnTo>
                  <a:pt x="155" y="405"/>
                </a:lnTo>
                <a:lnTo>
                  <a:pt x="151" y="405"/>
                </a:lnTo>
                <a:lnTo>
                  <a:pt x="147" y="403"/>
                </a:lnTo>
                <a:lnTo>
                  <a:pt x="144" y="399"/>
                </a:lnTo>
                <a:lnTo>
                  <a:pt x="140" y="396"/>
                </a:lnTo>
                <a:lnTo>
                  <a:pt x="136" y="390"/>
                </a:lnTo>
                <a:lnTo>
                  <a:pt x="134" y="384"/>
                </a:lnTo>
                <a:lnTo>
                  <a:pt x="128" y="376"/>
                </a:lnTo>
                <a:lnTo>
                  <a:pt x="124" y="367"/>
                </a:lnTo>
                <a:lnTo>
                  <a:pt x="121" y="357"/>
                </a:lnTo>
                <a:lnTo>
                  <a:pt x="117" y="346"/>
                </a:lnTo>
                <a:lnTo>
                  <a:pt x="113" y="332"/>
                </a:lnTo>
                <a:lnTo>
                  <a:pt x="109" y="319"/>
                </a:lnTo>
                <a:lnTo>
                  <a:pt x="103" y="304"/>
                </a:lnTo>
                <a:lnTo>
                  <a:pt x="99" y="286"/>
                </a:lnTo>
                <a:lnTo>
                  <a:pt x="94" y="269"/>
                </a:lnTo>
                <a:lnTo>
                  <a:pt x="90" y="248"/>
                </a:lnTo>
                <a:lnTo>
                  <a:pt x="84" y="229"/>
                </a:lnTo>
                <a:lnTo>
                  <a:pt x="78" y="209"/>
                </a:lnTo>
                <a:lnTo>
                  <a:pt x="74" y="192"/>
                </a:lnTo>
                <a:lnTo>
                  <a:pt x="69" y="177"/>
                </a:lnTo>
                <a:lnTo>
                  <a:pt x="65" y="162"/>
                </a:lnTo>
                <a:lnTo>
                  <a:pt x="61" y="146"/>
                </a:lnTo>
                <a:lnTo>
                  <a:pt x="55" y="135"/>
                </a:lnTo>
                <a:lnTo>
                  <a:pt x="51" y="121"/>
                </a:lnTo>
                <a:lnTo>
                  <a:pt x="48" y="110"/>
                </a:lnTo>
                <a:lnTo>
                  <a:pt x="42" y="100"/>
                </a:lnTo>
                <a:lnTo>
                  <a:pt x="38" y="89"/>
                </a:lnTo>
                <a:lnTo>
                  <a:pt x="32" y="81"/>
                </a:lnTo>
                <a:lnTo>
                  <a:pt x="28" y="73"/>
                </a:lnTo>
                <a:lnTo>
                  <a:pt x="23" y="66"/>
                </a:lnTo>
                <a:lnTo>
                  <a:pt x="19" y="58"/>
                </a:lnTo>
                <a:lnTo>
                  <a:pt x="13" y="5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Freeform 62"/>
          <p:cNvSpPr/>
          <p:nvPr/>
        </p:nvSpPr>
        <p:spPr>
          <a:xfrm>
            <a:off x="2932200" y="2754360"/>
            <a:ext cx="539640" cy="271440"/>
          </a:xfrm>
          <a:custGeom>
            <a:avLst/>
            <a:gdLst>
              <a:gd name="textAreaLeft" fmla="*/ 0 w 539640"/>
              <a:gd name="textAreaRight" fmla="*/ 540000 w 5396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679" h="344">
                <a:moveTo>
                  <a:pt x="0" y="108"/>
                </a:moveTo>
                <a:lnTo>
                  <a:pt x="5" y="108"/>
                </a:lnTo>
                <a:lnTo>
                  <a:pt x="13" y="108"/>
                </a:lnTo>
                <a:lnTo>
                  <a:pt x="23" y="108"/>
                </a:lnTo>
                <a:lnTo>
                  <a:pt x="32" y="106"/>
                </a:lnTo>
                <a:lnTo>
                  <a:pt x="44" y="106"/>
                </a:lnTo>
                <a:lnTo>
                  <a:pt x="55" y="104"/>
                </a:lnTo>
                <a:lnTo>
                  <a:pt x="69" y="102"/>
                </a:lnTo>
                <a:lnTo>
                  <a:pt x="84" y="100"/>
                </a:lnTo>
                <a:lnTo>
                  <a:pt x="99" y="98"/>
                </a:lnTo>
                <a:lnTo>
                  <a:pt x="117" y="96"/>
                </a:lnTo>
                <a:lnTo>
                  <a:pt x="136" y="94"/>
                </a:lnTo>
                <a:lnTo>
                  <a:pt x="155" y="92"/>
                </a:lnTo>
                <a:lnTo>
                  <a:pt x="176" y="88"/>
                </a:lnTo>
                <a:lnTo>
                  <a:pt x="197" y="85"/>
                </a:lnTo>
                <a:lnTo>
                  <a:pt x="222" y="83"/>
                </a:lnTo>
                <a:lnTo>
                  <a:pt x="245" y="79"/>
                </a:lnTo>
                <a:lnTo>
                  <a:pt x="268" y="75"/>
                </a:lnTo>
                <a:lnTo>
                  <a:pt x="289" y="71"/>
                </a:lnTo>
                <a:lnTo>
                  <a:pt x="309" y="67"/>
                </a:lnTo>
                <a:lnTo>
                  <a:pt x="328" y="63"/>
                </a:lnTo>
                <a:lnTo>
                  <a:pt x="347" y="60"/>
                </a:lnTo>
                <a:lnTo>
                  <a:pt x="362" y="56"/>
                </a:lnTo>
                <a:lnTo>
                  <a:pt x="380" y="52"/>
                </a:lnTo>
                <a:lnTo>
                  <a:pt x="393" y="48"/>
                </a:lnTo>
                <a:lnTo>
                  <a:pt x="407" y="46"/>
                </a:lnTo>
                <a:lnTo>
                  <a:pt x="418" y="42"/>
                </a:lnTo>
                <a:lnTo>
                  <a:pt x="430" y="38"/>
                </a:lnTo>
                <a:lnTo>
                  <a:pt x="437" y="35"/>
                </a:lnTo>
                <a:lnTo>
                  <a:pt x="447" y="31"/>
                </a:lnTo>
                <a:lnTo>
                  <a:pt x="453" y="27"/>
                </a:lnTo>
                <a:lnTo>
                  <a:pt x="458" y="23"/>
                </a:lnTo>
                <a:lnTo>
                  <a:pt x="462" y="19"/>
                </a:lnTo>
                <a:lnTo>
                  <a:pt x="466" y="15"/>
                </a:lnTo>
                <a:lnTo>
                  <a:pt x="472" y="12"/>
                </a:lnTo>
                <a:lnTo>
                  <a:pt x="478" y="10"/>
                </a:lnTo>
                <a:lnTo>
                  <a:pt x="483" y="6"/>
                </a:lnTo>
                <a:lnTo>
                  <a:pt x="489" y="4"/>
                </a:lnTo>
                <a:lnTo>
                  <a:pt x="497" y="2"/>
                </a:lnTo>
                <a:lnTo>
                  <a:pt x="502" y="0"/>
                </a:lnTo>
                <a:lnTo>
                  <a:pt x="510" y="0"/>
                </a:lnTo>
                <a:lnTo>
                  <a:pt x="512" y="0"/>
                </a:lnTo>
                <a:lnTo>
                  <a:pt x="514" y="0"/>
                </a:lnTo>
                <a:lnTo>
                  <a:pt x="518" y="2"/>
                </a:lnTo>
                <a:lnTo>
                  <a:pt x="522" y="2"/>
                </a:lnTo>
                <a:lnTo>
                  <a:pt x="525" y="4"/>
                </a:lnTo>
                <a:lnTo>
                  <a:pt x="531" y="4"/>
                </a:lnTo>
                <a:lnTo>
                  <a:pt x="537" y="6"/>
                </a:lnTo>
                <a:lnTo>
                  <a:pt x="543" y="8"/>
                </a:lnTo>
                <a:lnTo>
                  <a:pt x="556" y="13"/>
                </a:lnTo>
                <a:lnTo>
                  <a:pt x="572" y="21"/>
                </a:lnTo>
                <a:lnTo>
                  <a:pt x="587" y="29"/>
                </a:lnTo>
                <a:lnTo>
                  <a:pt x="604" y="38"/>
                </a:lnTo>
                <a:lnTo>
                  <a:pt x="621" y="50"/>
                </a:lnTo>
                <a:lnTo>
                  <a:pt x="629" y="56"/>
                </a:lnTo>
                <a:lnTo>
                  <a:pt x="635" y="60"/>
                </a:lnTo>
                <a:lnTo>
                  <a:pt x="643" y="63"/>
                </a:lnTo>
                <a:lnTo>
                  <a:pt x="648" y="69"/>
                </a:lnTo>
                <a:lnTo>
                  <a:pt x="654" y="73"/>
                </a:lnTo>
                <a:lnTo>
                  <a:pt x="660" y="77"/>
                </a:lnTo>
                <a:lnTo>
                  <a:pt x="664" y="79"/>
                </a:lnTo>
                <a:lnTo>
                  <a:pt x="668" y="83"/>
                </a:lnTo>
                <a:lnTo>
                  <a:pt x="671" y="86"/>
                </a:lnTo>
                <a:lnTo>
                  <a:pt x="675" y="88"/>
                </a:lnTo>
                <a:lnTo>
                  <a:pt x="677" y="92"/>
                </a:lnTo>
                <a:lnTo>
                  <a:pt x="679" y="94"/>
                </a:lnTo>
                <a:lnTo>
                  <a:pt x="679" y="96"/>
                </a:lnTo>
                <a:lnTo>
                  <a:pt x="679" y="98"/>
                </a:lnTo>
                <a:lnTo>
                  <a:pt x="679" y="106"/>
                </a:lnTo>
                <a:lnTo>
                  <a:pt x="677" y="113"/>
                </a:lnTo>
                <a:lnTo>
                  <a:pt x="675" y="119"/>
                </a:lnTo>
                <a:lnTo>
                  <a:pt x="671" y="127"/>
                </a:lnTo>
                <a:lnTo>
                  <a:pt x="666" y="132"/>
                </a:lnTo>
                <a:lnTo>
                  <a:pt x="660" y="138"/>
                </a:lnTo>
                <a:lnTo>
                  <a:pt x="652" y="142"/>
                </a:lnTo>
                <a:lnTo>
                  <a:pt x="643" y="148"/>
                </a:lnTo>
                <a:lnTo>
                  <a:pt x="637" y="152"/>
                </a:lnTo>
                <a:lnTo>
                  <a:pt x="631" y="157"/>
                </a:lnTo>
                <a:lnTo>
                  <a:pt x="625" y="163"/>
                </a:lnTo>
                <a:lnTo>
                  <a:pt x="620" y="171"/>
                </a:lnTo>
                <a:lnTo>
                  <a:pt x="612" y="179"/>
                </a:lnTo>
                <a:lnTo>
                  <a:pt x="606" y="190"/>
                </a:lnTo>
                <a:lnTo>
                  <a:pt x="598" y="200"/>
                </a:lnTo>
                <a:lnTo>
                  <a:pt x="593" y="211"/>
                </a:lnTo>
                <a:lnTo>
                  <a:pt x="585" y="225"/>
                </a:lnTo>
                <a:lnTo>
                  <a:pt x="577" y="238"/>
                </a:lnTo>
                <a:lnTo>
                  <a:pt x="570" y="253"/>
                </a:lnTo>
                <a:lnTo>
                  <a:pt x="562" y="269"/>
                </a:lnTo>
                <a:lnTo>
                  <a:pt x="554" y="286"/>
                </a:lnTo>
                <a:lnTo>
                  <a:pt x="547" y="305"/>
                </a:lnTo>
                <a:lnTo>
                  <a:pt x="537" y="322"/>
                </a:lnTo>
                <a:lnTo>
                  <a:pt x="529" y="344"/>
                </a:lnTo>
                <a:lnTo>
                  <a:pt x="426" y="344"/>
                </a:lnTo>
                <a:lnTo>
                  <a:pt x="431" y="321"/>
                </a:lnTo>
                <a:lnTo>
                  <a:pt x="437" y="298"/>
                </a:lnTo>
                <a:lnTo>
                  <a:pt x="443" y="278"/>
                </a:lnTo>
                <a:lnTo>
                  <a:pt x="447" y="259"/>
                </a:lnTo>
                <a:lnTo>
                  <a:pt x="451" y="240"/>
                </a:lnTo>
                <a:lnTo>
                  <a:pt x="454" y="225"/>
                </a:lnTo>
                <a:lnTo>
                  <a:pt x="458" y="209"/>
                </a:lnTo>
                <a:lnTo>
                  <a:pt x="460" y="194"/>
                </a:lnTo>
                <a:lnTo>
                  <a:pt x="462" y="182"/>
                </a:lnTo>
                <a:lnTo>
                  <a:pt x="462" y="171"/>
                </a:lnTo>
                <a:lnTo>
                  <a:pt x="462" y="161"/>
                </a:lnTo>
                <a:lnTo>
                  <a:pt x="462" y="152"/>
                </a:lnTo>
                <a:lnTo>
                  <a:pt x="460" y="144"/>
                </a:lnTo>
                <a:lnTo>
                  <a:pt x="458" y="136"/>
                </a:lnTo>
                <a:lnTo>
                  <a:pt x="456" y="132"/>
                </a:lnTo>
                <a:lnTo>
                  <a:pt x="453" y="127"/>
                </a:lnTo>
                <a:lnTo>
                  <a:pt x="451" y="127"/>
                </a:lnTo>
                <a:lnTo>
                  <a:pt x="449" y="127"/>
                </a:lnTo>
                <a:lnTo>
                  <a:pt x="445" y="125"/>
                </a:lnTo>
                <a:lnTo>
                  <a:pt x="439" y="125"/>
                </a:lnTo>
                <a:lnTo>
                  <a:pt x="435" y="125"/>
                </a:lnTo>
                <a:lnTo>
                  <a:pt x="430" y="125"/>
                </a:lnTo>
                <a:lnTo>
                  <a:pt x="422" y="125"/>
                </a:lnTo>
                <a:lnTo>
                  <a:pt x="414" y="125"/>
                </a:lnTo>
                <a:lnTo>
                  <a:pt x="407" y="125"/>
                </a:lnTo>
                <a:lnTo>
                  <a:pt x="397" y="125"/>
                </a:lnTo>
                <a:lnTo>
                  <a:pt x="387" y="125"/>
                </a:lnTo>
                <a:lnTo>
                  <a:pt x="376" y="125"/>
                </a:lnTo>
                <a:lnTo>
                  <a:pt x="364" y="127"/>
                </a:lnTo>
                <a:lnTo>
                  <a:pt x="353" y="127"/>
                </a:lnTo>
                <a:lnTo>
                  <a:pt x="339" y="129"/>
                </a:lnTo>
                <a:lnTo>
                  <a:pt x="326" y="129"/>
                </a:lnTo>
                <a:lnTo>
                  <a:pt x="311" y="131"/>
                </a:lnTo>
                <a:lnTo>
                  <a:pt x="295" y="132"/>
                </a:lnTo>
                <a:lnTo>
                  <a:pt x="280" y="134"/>
                </a:lnTo>
                <a:lnTo>
                  <a:pt x="263" y="136"/>
                </a:lnTo>
                <a:lnTo>
                  <a:pt x="245" y="138"/>
                </a:lnTo>
                <a:lnTo>
                  <a:pt x="226" y="140"/>
                </a:lnTo>
                <a:lnTo>
                  <a:pt x="207" y="144"/>
                </a:lnTo>
                <a:lnTo>
                  <a:pt x="188" y="146"/>
                </a:lnTo>
                <a:lnTo>
                  <a:pt x="167" y="150"/>
                </a:lnTo>
                <a:lnTo>
                  <a:pt x="146" y="152"/>
                </a:lnTo>
                <a:lnTo>
                  <a:pt x="122" y="156"/>
                </a:lnTo>
                <a:lnTo>
                  <a:pt x="99" y="159"/>
                </a:lnTo>
                <a:lnTo>
                  <a:pt x="76" y="163"/>
                </a:lnTo>
                <a:lnTo>
                  <a:pt x="51" y="167"/>
                </a:lnTo>
                <a:lnTo>
                  <a:pt x="27" y="173"/>
                </a:lnTo>
                <a:lnTo>
                  <a:pt x="0" y="177"/>
                </a:lnTo>
                <a:lnTo>
                  <a:pt x="0" y="10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Freeform 63"/>
          <p:cNvSpPr/>
          <p:nvPr/>
        </p:nvSpPr>
        <p:spPr>
          <a:xfrm>
            <a:off x="3021120" y="2368440"/>
            <a:ext cx="225360" cy="182520"/>
          </a:xfrm>
          <a:custGeom>
            <a:avLst/>
            <a:gdLst>
              <a:gd name="textAreaLeft" fmla="*/ 0 w 225360"/>
              <a:gd name="textAreaRight" fmla="*/ 225720 w 225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84" h="230">
                <a:moveTo>
                  <a:pt x="246" y="63"/>
                </a:moveTo>
                <a:lnTo>
                  <a:pt x="255" y="74"/>
                </a:lnTo>
                <a:lnTo>
                  <a:pt x="263" y="86"/>
                </a:lnTo>
                <a:lnTo>
                  <a:pt x="270" y="97"/>
                </a:lnTo>
                <a:lnTo>
                  <a:pt x="274" y="109"/>
                </a:lnTo>
                <a:lnTo>
                  <a:pt x="278" y="120"/>
                </a:lnTo>
                <a:lnTo>
                  <a:pt x="282" y="134"/>
                </a:lnTo>
                <a:lnTo>
                  <a:pt x="284" y="147"/>
                </a:lnTo>
                <a:lnTo>
                  <a:pt x="284" y="161"/>
                </a:lnTo>
                <a:lnTo>
                  <a:pt x="284" y="170"/>
                </a:lnTo>
                <a:lnTo>
                  <a:pt x="284" y="178"/>
                </a:lnTo>
                <a:lnTo>
                  <a:pt x="282" y="186"/>
                </a:lnTo>
                <a:lnTo>
                  <a:pt x="282" y="193"/>
                </a:lnTo>
                <a:lnTo>
                  <a:pt x="280" y="199"/>
                </a:lnTo>
                <a:lnTo>
                  <a:pt x="278" y="205"/>
                </a:lnTo>
                <a:lnTo>
                  <a:pt x="278" y="211"/>
                </a:lnTo>
                <a:lnTo>
                  <a:pt x="274" y="214"/>
                </a:lnTo>
                <a:lnTo>
                  <a:pt x="272" y="218"/>
                </a:lnTo>
                <a:lnTo>
                  <a:pt x="270" y="222"/>
                </a:lnTo>
                <a:lnTo>
                  <a:pt x="267" y="224"/>
                </a:lnTo>
                <a:lnTo>
                  <a:pt x="263" y="226"/>
                </a:lnTo>
                <a:lnTo>
                  <a:pt x="259" y="228"/>
                </a:lnTo>
                <a:lnTo>
                  <a:pt x="255" y="230"/>
                </a:lnTo>
                <a:lnTo>
                  <a:pt x="251" y="230"/>
                </a:lnTo>
                <a:lnTo>
                  <a:pt x="246" y="230"/>
                </a:lnTo>
                <a:lnTo>
                  <a:pt x="240" y="230"/>
                </a:lnTo>
                <a:lnTo>
                  <a:pt x="232" y="228"/>
                </a:lnTo>
                <a:lnTo>
                  <a:pt x="224" y="224"/>
                </a:lnTo>
                <a:lnTo>
                  <a:pt x="215" y="218"/>
                </a:lnTo>
                <a:lnTo>
                  <a:pt x="203" y="211"/>
                </a:lnTo>
                <a:lnTo>
                  <a:pt x="190" y="201"/>
                </a:lnTo>
                <a:lnTo>
                  <a:pt x="176" y="191"/>
                </a:lnTo>
                <a:lnTo>
                  <a:pt x="161" y="180"/>
                </a:lnTo>
                <a:lnTo>
                  <a:pt x="146" y="166"/>
                </a:lnTo>
                <a:lnTo>
                  <a:pt x="128" y="151"/>
                </a:lnTo>
                <a:lnTo>
                  <a:pt x="109" y="134"/>
                </a:lnTo>
                <a:lnTo>
                  <a:pt x="90" y="115"/>
                </a:lnTo>
                <a:lnTo>
                  <a:pt x="69" y="95"/>
                </a:lnTo>
                <a:lnTo>
                  <a:pt x="48" y="72"/>
                </a:lnTo>
                <a:lnTo>
                  <a:pt x="25" y="49"/>
                </a:lnTo>
                <a:lnTo>
                  <a:pt x="0" y="24"/>
                </a:lnTo>
                <a:lnTo>
                  <a:pt x="11" y="19"/>
                </a:lnTo>
                <a:lnTo>
                  <a:pt x="21" y="15"/>
                </a:lnTo>
                <a:lnTo>
                  <a:pt x="31" y="11"/>
                </a:lnTo>
                <a:lnTo>
                  <a:pt x="42" y="7"/>
                </a:lnTo>
                <a:lnTo>
                  <a:pt x="52" y="5"/>
                </a:lnTo>
                <a:lnTo>
                  <a:pt x="61" y="3"/>
                </a:lnTo>
                <a:lnTo>
                  <a:pt x="71" y="1"/>
                </a:lnTo>
                <a:lnTo>
                  <a:pt x="79" y="0"/>
                </a:lnTo>
                <a:lnTo>
                  <a:pt x="98" y="0"/>
                </a:lnTo>
                <a:lnTo>
                  <a:pt x="115" y="0"/>
                </a:lnTo>
                <a:lnTo>
                  <a:pt x="134" y="1"/>
                </a:lnTo>
                <a:lnTo>
                  <a:pt x="151" y="5"/>
                </a:lnTo>
                <a:lnTo>
                  <a:pt x="169" y="9"/>
                </a:lnTo>
                <a:lnTo>
                  <a:pt x="184" y="15"/>
                </a:lnTo>
                <a:lnTo>
                  <a:pt x="198" y="21"/>
                </a:lnTo>
                <a:lnTo>
                  <a:pt x="209" y="26"/>
                </a:lnTo>
                <a:lnTo>
                  <a:pt x="221" y="34"/>
                </a:lnTo>
                <a:lnTo>
                  <a:pt x="230" y="44"/>
                </a:lnTo>
                <a:lnTo>
                  <a:pt x="238" y="53"/>
                </a:lnTo>
                <a:lnTo>
                  <a:pt x="246" y="6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Freeform 64"/>
          <p:cNvSpPr/>
          <p:nvPr/>
        </p:nvSpPr>
        <p:spPr>
          <a:xfrm>
            <a:off x="2774880" y="2550960"/>
            <a:ext cx="771480" cy="163800"/>
          </a:xfrm>
          <a:custGeom>
            <a:avLst/>
            <a:gdLst>
              <a:gd name="textAreaLeft" fmla="*/ 0 w 771480"/>
              <a:gd name="textAreaRight" fmla="*/ 771840 w 77148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973" h="205">
                <a:moveTo>
                  <a:pt x="0" y="167"/>
                </a:moveTo>
                <a:lnTo>
                  <a:pt x="0" y="165"/>
                </a:lnTo>
                <a:lnTo>
                  <a:pt x="0" y="163"/>
                </a:lnTo>
                <a:lnTo>
                  <a:pt x="2" y="161"/>
                </a:lnTo>
                <a:lnTo>
                  <a:pt x="6" y="161"/>
                </a:lnTo>
                <a:lnTo>
                  <a:pt x="8" y="159"/>
                </a:lnTo>
                <a:lnTo>
                  <a:pt x="13" y="157"/>
                </a:lnTo>
                <a:lnTo>
                  <a:pt x="17" y="155"/>
                </a:lnTo>
                <a:lnTo>
                  <a:pt x="23" y="151"/>
                </a:lnTo>
                <a:lnTo>
                  <a:pt x="31" y="150"/>
                </a:lnTo>
                <a:lnTo>
                  <a:pt x="36" y="148"/>
                </a:lnTo>
                <a:lnTo>
                  <a:pt x="46" y="144"/>
                </a:lnTo>
                <a:lnTo>
                  <a:pt x="54" y="142"/>
                </a:lnTo>
                <a:lnTo>
                  <a:pt x="63" y="140"/>
                </a:lnTo>
                <a:lnTo>
                  <a:pt x="73" y="136"/>
                </a:lnTo>
                <a:lnTo>
                  <a:pt x="84" y="132"/>
                </a:lnTo>
                <a:lnTo>
                  <a:pt x="96" y="130"/>
                </a:lnTo>
                <a:lnTo>
                  <a:pt x="109" y="126"/>
                </a:lnTo>
                <a:lnTo>
                  <a:pt x="123" y="123"/>
                </a:lnTo>
                <a:lnTo>
                  <a:pt x="136" y="119"/>
                </a:lnTo>
                <a:lnTo>
                  <a:pt x="152" y="115"/>
                </a:lnTo>
                <a:lnTo>
                  <a:pt x="167" y="111"/>
                </a:lnTo>
                <a:lnTo>
                  <a:pt x="184" y="107"/>
                </a:lnTo>
                <a:lnTo>
                  <a:pt x="202" y="103"/>
                </a:lnTo>
                <a:lnTo>
                  <a:pt x="221" y="100"/>
                </a:lnTo>
                <a:lnTo>
                  <a:pt x="238" y="96"/>
                </a:lnTo>
                <a:lnTo>
                  <a:pt x="259" y="92"/>
                </a:lnTo>
                <a:lnTo>
                  <a:pt x="278" y="86"/>
                </a:lnTo>
                <a:lnTo>
                  <a:pt x="299" y="82"/>
                </a:lnTo>
                <a:lnTo>
                  <a:pt x="322" y="78"/>
                </a:lnTo>
                <a:lnTo>
                  <a:pt x="345" y="73"/>
                </a:lnTo>
                <a:lnTo>
                  <a:pt x="368" y="69"/>
                </a:lnTo>
                <a:lnTo>
                  <a:pt x="391" y="65"/>
                </a:lnTo>
                <a:lnTo>
                  <a:pt x="415" y="59"/>
                </a:lnTo>
                <a:lnTo>
                  <a:pt x="438" y="55"/>
                </a:lnTo>
                <a:lnTo>
                  <a:pt x="459" y="52"/>
                </a:lnTo>
                <a:lnTo>
                  <a:pt x="480" y="48"/>
                </a:lnTo>
                <a:lnTo>
                  <a:pt x="501" y="44"/>
                </a:lnTo>
                <a:lnTo>
                  <a:pt x="520" y="40"/>
                </a:lnTo>
                <a:lnTo>
                  <a:pt x="539" y="36"/>
                </a:lnTo>
                <a:lnTo>
                  <a:pt x="558" y="34"/>
                </a:lnTo>
                <a:lnTo>
                  <a:pt x="576" y="31"/>
                </a:lnTo>
                <a:lnTo>
                  <a:pt x="593" y="29"/>
                </a:lnTo>
                <a:lnTo>
                  <a:pt x="610" y="25"/>
                </a:lnTo>
                <a:lnTo>
                  <a:pt x="628" y="23"/>
                </a:lnTo>
                <a:lnTo>
                  <a:pt x="643" y="21"/>
                </a:lnTo>
                <a:lnTo>
                  <a:pt x="658" y="17"/>
                </a:lnTo>
                <a:lnTo>
                  <a:pt x="672" y="15"/>
                </a:lnTo>
                <a:lnTo>
                  <a:pt x="687" y="13"/>
                </a:lnTo>
                <a:lnTo>
                  <a:pt x="699" y="11"/>
                </a:lnTo>
                <a:lnTo>
                  <a:pt x="712" y="9"/>
                </a:lnTo>
                <a:lnTo>
                  <a:pt x="723" y="9"/>
                </a:lnTo>
                <a:lnTo>
                  <a:pt x="735" y="7"/>
                </a:lnTo>
                <a:lnTo>
                  <a:pt x="747" y="6"/>
                </a:lnTo>
                <a:lnTo>
                  <a:pt x="756" y="6"/>
                </a:lnTo>
                <a:lnTo>
                  <a:pt x="766" y="4"/>
                </a:lnTo>
                <a:lnTo>
                  <a:pt x="775" y="4"/>
                </a:lnTo>
                <a:lnTo>
                  <a:pt x="783" y="2"/>
                </a:lnTo>
                <a:lnTo>
                  <a:pt x="791" y="2"/>
                </a:lnTo>
                <a:lnTo>
                  <a:pt x="798" y="2"/>
                </a:lnTo>
                <a:lnTo>
                  <a:pt x="806" y="2"/>
                </a:lnTo>
                <a:lnTo>
                  <a:pt x="812" y="0"/>
                </a:lnTo>
                <a:lnTo>
                  <a:pt x="816" y="0"/>
                </a:lnTo>
                <a:lnTo>
                  <a:pt x="821" y="0"/>
                </a:lnTo>
                <a:lnTo>
                  <a:pt x="839" y="0"/>
                </a:lnTo>
                <a:lnTo>
                  <a:pt x="854" y="0"/>
                </a:lnTo>
                <a:lnTo>
                  <a:pt x="869" y="2"/>
                </a:lnTo>
                <a:lnTo>
                  <a:pt x="885" y="2"/>
                </a:lnTo>
                <a:lnTo>
                  <a:pt x="898" y="2"/>
                </a:lnTo>
                <a:lnTo>
                  <a:pt x="912" y="4"/>
                </a:lnTo>
                <a:lnTo>
                  <a:pt x="923" y="7"/>
                </a:lnTo>
                <a:lnTo>
                  <a:pt x="935" y="9"/>
                </a:lnTo>
                <a:lnTo>
                  <a:pt x="944" y="13"/>
                </a:lnTo>
                <a:lnTo>
                  <a:pt x="952" y="19"/>
                </a:lnTo>
                <a:lnTo>
                  <a:pt x="960" y="25"/>
                </a:lnTo>
                <a:lnTo>
                  <a:pt x="963" y="31"/>
                </a:lnTo>
                <a:lnTo>
                  <a:pt x="967" y="34"/>
                </a:lnTo>
                <a:lnTo>
                  <a:pt x="971" y="40"/>
                </a:lnTo>
                <a:lnTo>
                  <a:pt x="971" y="46"/>
                </a:lnTo>
                <a:lnTo>
                  <a:pt x="973" y="50"/>
                </a:lnTo>
                <a:lnTo>
                  <a:pt x="971" y="54"/>
                </a:lnTo>
                <a:lnTo>
                  <a:pt x="971" y="57"/>
                </a:lnTo>
                <a:lnTo>
                  <a:pt x="969" y="59"/>
                </a:lnTo>
                <a:lnTo>
                  <a:pt x="967" y="63"/>
                </a:lnTo>
                <a:lnTo>
                  <a:pt x="963" y="67"/>
                </a:lnTo>
                <a:lnTo>
                  <a:pt x="960" y="71"/>
                </a:lnTo>
                <a:lnTo>
                  <a:pt x="956" y="75"/>
                </a:lnTo>
                <a:lnTo>
                  <a:pt x="950" y="77"/>
                </a:lnTo>
                <a:lnTo>
                  <a:pt x="944" y="80"/>
                </a:lnTo>
                <a:lnTo>
                  <a:pt x="937" y="84"/>
                </a:lnTo>
                <a:lnTo>
                  <a:pt x="929" y="86"/>
                </a:lnTo>
                <a:lnTo>
                  <a:pt x="921" y="88"/>
                </a:lnTo>
                <a:lnTo>
                  <a:pt x="912" y="92"/>
                </a:lnTo>
                <a:lnTo>
                  <a:pt x="900" y="94"/>
                </a:lnTo>
                <a:lnTo>
                  <a:pt x="890" y="96"/>
                </a:lnTo>
                <a:lnTo>
                  <a:pt x="877" y="98"/>
                </a:lnTo>
                <a:lnTo>
                  <a:pt x="864" y="102"/>
                </a:lnTo>
                <a:lnTo>
                  <a:pt x="850" y="105"/>
                </a:lnTo>
                <a:lnTo>
                  <a:pt x="833" y="109"/>
                </a:lnTo>
                <a:lnTo>
                  <a:pt x="814" y="113"/>
                </a:lnTo>
                <a:lnTo>
                  <a:pt x="794" y="117"/>
                </a:lnTo>
                <a:lnTo>
                  <a:pt x="773" y="121"/>
                </a:lnTo>
                <a:lnTo>
                  <a:pt x="748" y="125"/>
                </a:lnTo>
                <a:lnTo>
                  <a:pt x="723" y="128"/>
                </a:lnTo>
                <a:lnTo>
                  <a:pt x="699" y="132"/>
                </a:lnTo>
                <a:lnTo>
                  <a:pt x="670" y="138"/>
                </a:lnTo>
                <a:lnTo>
                  <a:pt x="641" y="142"/>
                </a:lnTo>
                <a:lnTo>
                  <a:pt x="610" y="146"/>
                </a:lnTo>
                <a:lnTo>
                  <a:pt x="578" y="151"/>
                </a:lnTo>
                <a:lnTo>
                  <a:pt x="543" y="155"/>
                </a:lnTo>
                <a:lnTo>
                  <a:pt x="509" y="161"/>
                </a:lnTo>
                <a:lnTo>
                  <a:pt x="472" y="167"/>
                </a:lnTo>
                <a:lnTo>
                  <a:pt x="453" y="169"/>
                </a:lnTo>
                <a:lnTo>
                  <a:pt x="436" y="173"/>
                </a:lnTo>
                <a:lnTo>
                  <a:pt x="418" y="174"/>
                </a:lnTo>
                <a:lnTo>
                  <a:pt x="401" y="176"/>
                </a:lnTo>
                <a:lnTo>
                  <a:pt x="386" y="180"/>
                </a:lnTo>
                <a:lnTo>
                  <a:pt x="368" y="182"/>
                </a:lnTo>
                <a:lnTo>
                  <a:pt x="353" y="184"/>
                </a:lnTo>
                <a:lnTo>
                  <a:pt x="340" y="186"/>
                </a:lnTo>
                <a:lnTo>
                  <a:pt x="324" y="188"/>
                </a:lnTo>
                <a:lnTo>
                  <a:pt x="311" y="190"/>
                </a:lnTo>
                <a:lnTo>
                  <a:pt x="297" y="192"/>
                </a:lnTo>
                <a:lnTo>
                  <a:pt x="284" y="192"/>
                </a:lnTo>
                <a:lnTo>
                  <a:pt x="273" y="194"/>
                </a:lnTo>
                <a:lnTo>
                  <a:pt x="261" y="196"/>
                </a:lnTo>
                <a:lnTo>
                  <a:pt x="249" y="196"/>
                </a:lnTo>
                <a:lnTo>
                  <a:pt x="238" y="197"/>
                </a:lnTo>
                <a:lnTo>
                  <a:pt x="228" y="199"/>
                </a:lnTo>
                <a:lnTo>
                  <a:pt x="219" y="199"/>
                </a:lnTo>
                <a:lnTo>
                  <a:pt x="209" y="201"/>
                </a:lnTo>
                <a:lnTo>
                  <a:pt x="200" y="201"/>
                </a:lnTo>
                <a:lnTo>
                  <a:pt x="192" y="201"/>
                </a:lnTo>
                <a:lnTo>
                  <a:pt x="184" y="203"/>
                </a:lnTo>
                <a:lnTo>
                  <a:pt x="177" y="203"/>
                </a:lnTo>
                <a:lnTo>
                  <a:pt x="169" y="203"/>
                </a:lnTo>
                <a:lnTo>
                  <a:pt x="163" y="205"/>
                </a:lnTo>
                <a:lnTo>
                  <a:pt x="157" y="205"/>
                </a:lnTo>
                <a:lnTo>
                  <a:pt x="152" y="205"/>
                </a:lnTo>
                <a:lnTo>
                  <a:pt x="146" y="205"/>
                </a:lnTo>
                <a:lnTo>
                  <a:pt x="142" y="205"/>
                </a:lnTo>
                <a:lnTo>
                  <a:pt x="138" y="205"/>
                </a:lnTo>
                <a:lnTo>
                  <a:pt x="134" y="205"/>
                </a:lnTo>
                <a:lnTo>
                  <a:pt x="132" y="205"/>
                </a:lnTo>
                <a:lnTo>
                  <a:pt x="121" y="205"/>
                </a:lnTo>
                <a:lnTo>
                  <a:pt x="111" y="205"/>
                </a:lnTo>
                <a:lnTo>
                  <a:pt x="94" y="205"/>
                </a:lnTo>
                <a:lnTo>
                  <a:pt x="84" y="203"/>
                </a:lnTo>
                <a:lnTo>
                  <a:pt x="77" y="201"/>
                </a:lnTo>
                <a:lnTo>
                  <a:pt x="67" y="199"/>
                </a:lnTo>
                <a:lnTo>
                  <a:pt x="58" y="196"/>
                </a:lnTo>
                <a:lnTo>
                  <a:pt x="46" y="192"/>
                </a:lnTo>
                <a:lnTo>
                  <a:pt x="36" y="188"/>
                </a:lnTo>
                <a:lnTo>
                  <a:pt x="29" y="186"/>
                </a:lnTo>
                <a:lnTo>
                  <a:pt x="21" y="182"/>
                </a:lnTo>
                <a:lnTo>
                  <a:pt x="15" y="178"/>
                </a:lnTo>
                <a:lnTo>
                  <a:pt x="10" y="174"/>
                </a:lnTo>
                <a:lnTo>
                  <a:pt x="4" y="171"/>
                </a:lnTo>
                <a:lnTo>
                  <a:pt x="0" y="16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Freeform 65"/>
          <p:cNvSpPr/>
          <p:nvPr/>
        </p:nvSpPr>
        <p:spPr>
          <a:xfrm>
            <a:off x="2970360" y="2986200"/>
            <a:ext cx="419040" cy="102960"/>
          </a:xfrm>
          <a:custGeom>
            <a:avLst/>
            <a:gdLst>
              <a:gd name="textAreaLeft" fmla="*/ 0 w 419040"/>
              <a:gd name="textAreaRight" fmla="*/ 419400 w 419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27" h="128">
                <a:moveTo>
                  <a:pt x="301" y="30"/>
                </a:moveTo>
                <a:lnTo>
                  <a:pt x="320" y="27"/>
                </a:lnTo>
                <a:lnTo>
                  <a:pt x="337" y="23"/>
                </a:lnTo>
                <a:lnTo>
                  <a:pt x="355" y="19"/>
                </a:lnTo>
                <a:lnTo>
                  <a:pt x="370" y="17"/>
                </a:lnTo>
                <a:lnTo>
                  <a:pt x="385" y="13"/>
                </a:lnTo>
                <a:lnTo>
                  <a:pt x="399" y="11"/>
                </a:lnTo>
                <a:lnTo>
                  <a:pt x="412" y="9"/>
                </a:lnTo>
                <a:lnTo>
                  <a:pt x="424" y="7"/>
                </a:lnTo>
                <a:lnTo>
                  <a:pt x="435" y="5"/>
                </a:lnTo>
                <a:lnTo>
                  <a:pt x="445" y="4"/>
                </a:lnTo>
                <a:lnTo>
                  <a:pt x="454" y="4"/>
                </a:lnTo>
                <a:lnTo>
                  <a:pt x="464" y="2"/>
                </a:lnTo>
                <a:lnTo>
                  <a:pt x="472" y="2"/>
                </a:lnTo>
                <a:lnTo>
                  <a:pt x="477" y="0"/>
                </a:lnTo>
                <a:lnTo>
                  <a:pt x="485" y="0"/>
                </a:lnTo>
                <a:lnTo>
                  <a:pt x="491" y="0"/>
                </a:lnTo>
                <a:lnTo>
                  <a:pt x="501" y="0"/>
                </a:lnTo>
                <a:lnTo>
                  <a:pt x="508" y="2"/>
                </a:lnTo>
                <a:lnTo>
                  <a:pt x="514" y="5"/>
                </a:lnTo>
                <a:lnTo>
                  <a:pt x="520" y="9"/>
                </a:lnTo>
                <a:lnTo>
                  <a:pt x="524" y="13"/>
                </a:lnTo>
                <a:lnTo>
                  <a:pt x="525" y="21"/>
                </a:lnTo>
                <a:lnTo>
                  <a:pt x="527" y="28"/>
                </a:lnTo>
                <a:lnTo>
                  <a:pt x="527" y="40"/>
                </a:lnTo>
                <a:lnTo>
                  <a:pt x="527" y="50"/>
                </a:lnTo>
                <a:lnTo>
                  <a:pt x="525" y="57"/>
                </a:lnTo>
                <a:lnTo>
                  <a:pt x="524" y="65"/>
                </a:lnTo>
                <a:lnTo>
                  <a:pt x="520" y="71"/>
                </a:lnTo>
                <a:lnTo>
                  <a:pt x="514" y="75"/>
                </a:lnTo>
                <a:lnTo>
                  <a:pt x="508" y="76"/>
                </a:lnTo>
                <a:lnTo>
                  <a:pt x="501" y="78"/>
                </a:lnTo>
                <a:lnTo>
                  <a:pt x="491" y="78"/>
                </a:lnTo>
                <a:lnTo>
                  <a:pt x="487" y="78"/>
                </a:lnTo>
                <a:lnTo>
                  <a:pt x="483" y="78"/>
                </a:lnTo>
                <a:lnTo>
                  <a:pt x="479" y="78"/>
                </a:lnTo>
                <a:lnTo>
                  <a:pt x="474" y="78"/>
                </a:lnTo>
                <a:lnTo>
                  <a:pt x="468" y="80"/>
                </a:lnTo>
                <a:lnTo>
                  <a:pt x="460" y="80"/>
                </a:lnTo>
                <a:lnTo>
                  <a:pt x="453" y="80"/>
                </a:lnTo>
                <a:lnTo>
                  <a:pt x="443" y="82"/>
                </a:lnTo>
                <a:lnTo>
                  <a:pt x="435" y="82"/>
                </a:lnTo>
                <a:lnTo>
                  <a:pt x="424" y="84"/>
                </a:lnTo>
                <a:lnTo>
                  <a:pt x="414" y="84"/>
                </a:lnTo>
                <a:lnTo>
                  <a:pt x="403" y="86"/>
                </a:lnTo>
                <a:lnTo>
                  <a:pt x="389" y="88"/>
                </a:lnTo>
                <a:lnTo>
                  <a:pt x="376" y="88"/>
                </a:lnTo>
                <a:lnTo>
                  <a:pt x="362" y="90"/>
                </a:lnTo>
                <a:lnTo>
                  <a:pt x="347" y="92"/>
                </a:lnTo>
                <a:lnTo>
                  <a:pt x="332" y="94"/>
                </a:lnTo>
                <a:lnTo>
                  <a:pt x="314" y="96"/>
                </a:lnTo>
                <a:lnTo>
                  <a:pt x="297" y="98"/>
                </a:lnTo>
                <a:lnTo>
                  <a:pt x="280" y="99"/>
                </a:lnTo>
                <a:lnTo>
                  <a:pt x="261" y="101"/>
                </a:lnTo>
                <a:lnTo>
                  <a:pt x="241" y="103"/>
                </a:lnTo>
                <a:lnTo>
                  <a:pt x="220" y="105"/>
                </a:lnTo>
                <a:lnTo>
                  <a:pt x="199" y="107"/>
                </a:lnTo>
                <a:lnTo>
                  <a:pt x="178" y="109"/>
                </a:lnTo>
                <a:lnTo>
                  <a:pt x="155" y="111"/>
                </a:lnTo>
                <a:lnTo>
                  <a:pt x="130" y="115"/>
                </a:lnTo>
                <a:lnTo>
                  <a:pt x="105" y="117"/>
                </a:lnTo>
                <a:lnTo>
                  <a:pt x="80" y="119"/>
                </a:lnTo>
                <a:lnTo>
                  <a:pt x="55" y="123"/>
                </a:lnTo>
                <a:lnTo>
                  <a:pt x="27" y="124"/>
                </a:lnTo>
                <a:lnTo>
                  <a:pt x="0" y="128"/>
                </a:lnTo>
                <a:lnTo>
                  <a:pt x="0" y="50"/>
                </a:lnTo>
                <a:lnTo>
                  <a:pt x="38" y="48"/>
                </a:lnTo>
                <a:lnTo>
                  <a:pt x="76" y="48"/>
                </a:lnTo>
                <a:lnTo>
                  <a:pt x="113" y="46"/>
                </a:lnTo>
                <a:lnTo>
                  <a:pt x="151" y="44"/>
                </a:lnTo>
                <a:lnTo>
                  <a:pt x="224" y="36"/>
                </a:lnTo>
                <a:lnTo>
                  <a:pt x="263" y="32"/>
                </a:lnTo>
                <a:lnTo>
                  <a:pt x="301" y="3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Freeform 66"/>
          <p:cNvSpPr/>
          <p:nvPr/>
        </p:nvSpPr>
        <p:spPr>
          <a:xfrm>
            <a:off x="2692440" y="3103560"/>
            <a:ext cx="1117440" cy="266760"/>
          </a:xfrm>
          <a:custGeom>
            <a:avLst/>
            <a:gdLst>
              <a:gd name="textAreaLeft" fmla="*/ 0 w 1117440"/>
              <a:gd name="textAreaRight" fmla="*/ 1117800 w 11174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407" h="336">
                <a:moveTo>
                  <a:pt x="1369" y="137"/>
                </a:moveTo>
                <a:lnTo>
                  <a:pt x="1374" y="144"/>
                </a:lnTo>
                <a:lnTo>
                  <a:pt x="1382" y="152"/>
                </a:lnTo>
                <a:lnTo>
                  <a:pt x="1386" y="158"/>
                </a:lnTo>
                <a:lnTo>
                  <a:pt x="1392" y="166"/>
                </a:lnTo>
                <a:lnTo>
                  <a:pt x="1396" y="171"/>
                </a:lnTo>
                <a:lnTo>
                  <a:pt x="1399" y="177"/>
                </a:lnTo>
                <a:lnTo>
                  <a:pt x="1403" y="183"/>
                </a:lnTo>
                <a:lnTo>
                  <a:pt x="1407" y="187"/>
                </a:lnTo>
                <a:lnTo>
                  <a:pt x="1405" y="192"/>
                </a:lnTo>
                <a:lnTo>
                  <a:pt x="1405" y="196"/>
                </a:lnTo>
                <a:lnTo>
                  <a:pt x="1403" y="198"/>
                </a:lnTo>
                <a:lnTo>
                  <a:pt x="1401" y="202"/>
                </a:lnTo>
                <a:lnTo>
                  <a:pt x="1397" y="204"/>
                </a:lnTo>
                <a:lnTo>
                  <a:pt x="1396" y="206"/>
                </a:lnTo>
                <a:lnTo>
                  <a:pt x="1392" y="208"/>
                </a:lnTo>
                <a:lnTo>
                  <a:pt x="1386" y="210"/>
                </a:lnTo>
                <a:lnTo>
                  <a:pt x="1382" y="212"/>
                </a:lnTo>
                <a:lnTo>
                  <a:pt x="1376" y="213"/>
                </a:lnTo>
                <a:lnTo>
                  <a:pt x="1371" y="213"/>
                </a:lnTo>
                <a:lnTo>
                  <a:pt x="1365" y="215"/>
                </a:lnTo>
                <a:lnTo>
                  <a:pt x="1357" y="215"/>
                </a:lnTo>
                <a:lnTo>
                  <a:pt x="1349" y="215"/>
                </a:lnTo>
                <a:lnTo>
                  <a:pt x="1340" y="215"/>
                </a:lnTo>
                <a:lnTo>
                  <a:pt x="1323" y="219"/>
                </a:lnTo>
                <a:lnTo>
                  <a:pt x="1302" y="225"/>
                </a:lnTo>
                <a:lnTo>
                  <a:pt x="1280" y="231"/>
                </a:lnTo>
                <a:lnTo>
                  <a:pt x="1257" y="238"/>
                </a:lnTo>
                <a:lnTo>
                  <a:pt x="1232" y="248"/>
                </a:lnTo>
                <a:lnTo>
                  <a:pt x="1206" y="258"/>
                </a:lnTo>
                <a:lnTo>
                  <a:pt x="1179" y="271"/>
                </a:lnTo>
                <a:lnTo>
                  <a:pt x="1165" y="277"/>
                </a:lnTo>
                <a:lnTo>
                  <a:pt x="1152" y="284"/>
                </a:lnTo>
                <a:lnTo>
                  <a:pt x="1138" y="294"/>
                </a:lnTo>
                <a:lnTo>
                  <a:pt x="1125" y="302"/>
                </a:lnTo>
                <a:lnTo>
                  <a:pt x="1113" y="308"/>
                </a:lnTo>
                <a:lnTo>
                  <a:pt x="1102" y="315"/>
                </a:lnTo>
                <a:lnTo>
                  <a:pt x="1092" y="319"/>
                </a:lnTo>
                <a:lnTo>
                  <a:pt x="1083" y="325"/>
                </a:lnTo>
                <a:lnTo>
                  <a:pt x="1073" y="329"/>
                </a:lnTo>
                <a:lnTo>
                  <a:pt x="1065" y="331"/>
                </a:lnTo>
                <a:lnTo>
                  <a:pt x="1058" y="334"/>
                </a:lnTo>
                <a:lnTo>
                  <a:pt x="1052" y="334"/>
                </a:lnTo>
                <a:lnTo>
                  <a:pt x="1046" y="336"/>
                </a:lnTo>
                <a:lnTo>
                  <a:pt x="1041" y="336"/>
                </a:lnTo>
                <a:lnTo>
                  <a:pt x="1037" y="336"/>
                </a:lnTo>
                <a:lnTo>
                  <a:pt x="1033" y="336"/>
                </a:lnTo>
                <a:lnTo>
                  <a:pt x="1031" y="334"/>
                </a:lnTo>
                <a:lnTo>
                  <a:pt x="1029" y="332"/>
                </a:lnTo>
                <a:lnTo>
                  <a:pt x="1027" y="331"/>
                </a:lnTo>
                <a:lnTo>
                  <a:pt x="1027" y="329"/>
                </a:lnTo>
                <a:lnTo>
                  <a:pt x="1027" y="325"/>
                </a:lnTo>
                <a:lnTo>
                  <a:pt x="1027" y="323"/>
                </a:lnTo>
                <a:lnTo>
                  <a:pt x="1027" y="319"/>
                </a:lnTo>
                <a:lnTo>
                  <a:pt x="1029" y="313"/>
                </a:lnTo>
                <a:lnTo>
                  <a:pt x="1031" y="309"/>
                </a:lnTo>
                <a:lnTo>
                  <a:pt x="1033" y="304"/>
                </a:lnTo>
                <a:lnTo>
                  <a:pt x="1041" y="292"/>
                </a:lnTo>
                <a:lnTo>
                  <a:pt x="1048" y="279"/>
                </a:lnTo>
                <a:lnTo>
                  <a:pt x="1056" y="263"/>
                </a:lnTo>
                <a:lnTo>
                  <a:pt x="1067" y="244"/>
                </a:lnTo>
                <a:lnTo>
                  <a:pt x="1077" y="231"/>
                </a:lnTo>
                <a:lnTo>
                  <a:pt x="1085" y="217"/>
                </a:lnTo>
                <a:lnTo>
                  <a:pt x="1090" y="204"/>
                </a:lnTo>
                <a:lnTo>
                  <a:pt x="1094" y="192"/>
                </a:lnTo>
                <a:lnTo>
                  <a:pt x="1098" y="181"/>
                </a:lnTo>
                <a:lnTo>
                  <a:pt x="1098" y="169"/>
                </a:lnTo>
                <a:lnTo>
                  <a:pt x="1098" y="158"/>
                </a:lnTo>
                <a:lnTo>
                  <a:pt x="1094" y="146"/>
                </a:lnTo>
                <a:lnTo>
                  <a:pt x="1090" y="141"/>
                </a:lnTo>
                <a:lnTo>
                  <a:pt x="1087" y="135"/>
                </a:lnTo>
                <a:lnTo>
                  <a:pt x="1081" y="129"/>
                </a:lnTo>
                <a:lnTo>
                  <a:pt x="1073" y="125"/>
                </a:lnTo>
                <a:lnTo>
                  <a:pt x="1065" y="121"/>
                </a:lnTo>
                <a:lnTo>
                  <a:pt x="1058" y="119"/>
                </a:lnTo>
                <a:lnTo>
                  <a:pt x="1048" y="118"/>
                </a:lnTo>
                <a:lnTo>
                  <a:pt x="1039" y="118"/>
                </a:lnTo>
                <a:lnTo>
                  <a:pt x="1027" y="118"/>
                </a:lnTo>
                <a:lnTo>
                  <a:pt x="1016" y="118"/>
                </a:lnTo>
                <a:lnTo>
                  <a:pt x="1002" y="118"/>
                </a:lnTo>
                <a:lnTo>
                  <a:pt x="989" y="119"/>
                </a:lnTo>
                <a:lnTo>
                  <a:pt x="973" y="119"/>
                </a:lnTo>
                <a:lnTo>
                  <a:pt x="958" y="121"/>
                </a:lnTo>
                <a:lnTo>
                  <a:pt x="943" y="123"/>
                </a:lnTo>
                <a:lnTo>
                  <a:pt x="925" y="127"/>
                </a:lnTo>
                <a:lnTo>
                  <a:pt x="920" y="129"/>
                </a:lnTo>
                <a:lnTo>
                  <a:pt x="916" y="129"/>
                </a:lnTo>
                <a:lnTo>
                  <a:pt x="910" y="131"/>
                </a:lnTo>
                <a:lnTo>
                  <a:pt x="904" y="133"/>
                </a:lnTo>
                <a:lnTo>
                  <a:pt x="897" y="133"/>
                </a:lnTo>
                <a:lnTo>
                  <a:pt x="889" y="135"/>
                </a:lnTo>
                <a:lnTo>
                  <a:pt x="881" y="137"/>
                </a:lnTo>
                <a:lnTo>
                  <a:pt x="874" y="139"/>
                </a:lnTo>
                <a:lnTo>
                  <a:pt x="866" y="141"/>
                </a:lnTo>
                <a:lnTo>
                  <a:pt x="856" y="142"/>
                </a:lnTo>
                <a:lnTo>
                  <a:pt x="847" y="144"/>
                </a:lnTo>
                <a:lnTo>
                  <a:pt x="837" y="146"/>
                </a:lnTo>
                <a:lnTo>
                  <a:pt x="826" y="148"/>
                </a:lnTo>
                <a:lnTo>
                  <a:pt x="814" y="150"/>
                </a:lnTo>
                <a:lnTo>
                  <a:pt x="803" y="152"/>
                </a:lnTo>
                <a:lnTo>
                  <a:pt x="791" y="154"/>
                </a:lnTo>
                <a:lnTo>
                  <a:pt x="778" y="156"/>
                </a:lnTo>
                <a:lnTo>
                  <a:pt x="764" y="160"/>
                </a:lnTo>
                <a:lnTo>
                  <a:pt x="751" y="162"/>
                </a:lnTo>
                <a:lnTo>
                  <a:pt x="737" y="164"/>
                </a:lnTo>
                <a:lnTo>
                  <a:pt x="722" y="166"/>
                </a:lnTo>
                <a:lnTo>
                  <a:pt x="707" y="169"/>
                </a:lnTo>
                <a:lnTo>
                  <a:pt x="691" y="171"/>
                </a:lnTo>
                <a:lnTo>
                  <a:pt x="676" y="173"/>
                </a:lnTo>
                <a:lnTo>
                  <a:pt x="659" y="177"/>
                </a:lnTo>
                <a:lnTo>
                  <a:pt x="641" y="179"/>
                </a:lnTo>
                <a:lnTo>
                  <a:pt x="624" y="183"/>
                </a:lnTo>
                <a:lnTo>
                  <a:pt x="607" y="185"/>
                </a:lnTo>
                <a:lnTo>
                  <a:pt x="588" y="189"/>
                </a:lnTo>
                <a:lnTo>
                  <a:pt x="568" y="190"/>
                </a:lnTo>
                <a:lnTo>
                  <a:pt x="549" y="192"/>
                </a:lnTo>
                <a:lnTo>
                  <a:pt x="528" y="196"/>
                </a:lnTo>
                <a:lnTo>
                  <a:pt x="488" y="204"/>
                </a:lnTo>
                <a:lnTo>
                  <a:pt x="449" y="210"/>
                </a:lnTo>
                <a:lnTo>
                  <a:pt x="411" y="215"/>
                </a:lnTo>
                <a:lnTo>
                  <a:pt x="373" y="221"/>
                </a:lnTo>
                <a:lnTo>
                  <a:pt x="336" y="227"/>
                </a:lnTo>
                <a:lnTo>
                  <a:pt x="302" y="233"/>
                </a:lnTo>
                <a:lnTo>
                  <a:pt x="267" y="237"/>
                </a:lnTo>
                <a:lnTo>
                  <a:pt x="233" y="240"/>
                </a:lnTo>
                <a:lnTo>
                  <a:pt x="200" y="244"/>
                </a:lnTo>
                <a:lnTo>
                  <a:pt x="167" y="246"/>
                </a:lnTo>
                <a:lnTo>
                  <a:pt x="139" y="250"/>
                </a:lnTo>
                <a:lnTo>
                  <a:pt x="108" y="252"/>
                </a:lnTo>
                <a:lnTo>
                  <a:pt x="79" y="252"/>
                </a:lnTo>
                <a:lnTo>
                  <a:pt x="52" y="254"/>
                </a:lnTo>
                <a:lnTo>
                  <a:pt x="25" y="254"/>
                </a:lnTo>
                <a:lnTo>
                  <a:pt x="0" y="256"/>
                </a:lnTo>
                <a:lnTo>
                  <a:pt x="0" y="187"/>
                </a:lnTo>
                <a:lnTo>
                  <a:pt x="18" y="187"/>
                </a:lnTo>
                <a:lnTo>
                  <a:pt x="35" y="185"/>
                </a:lnTo>
                <a:lnTo>
                  <a:pt x="54" y="185"/>
                </a:lnTo>
                <a:lnTo>
                  <a:pt x="77" y="183"/>
                </a:lnTo>
                <a:lnTo>
                  <a:pt x="98" y="181"/>
                </a:lnTo>
                <a:lnTo>
                  <a:pt x="123" y="179"/>
                </a:lnTo>
                <a:lnTo>
                  <a:pt x="150" y="175"/>
                </a:lnTo>
                <a:lnTo>
                  <a:pt x="177" y="173"/>
                </a:lnTo>
                <a:lnTo>
                  <a:pt x="206" y="169"/>
                </a:lnTo>
                <a:lnTo>
                  <a:pt x="236" y="166"/>
                </a:lnTo>
                <a:lnTo>
                  <a:pt x="269" y="162"/>
                </a:lnTo>
                <a:lnTo>
                  <a:pt x="304" y="158"/>
                </a:lnTo>
                <a:lnTo>
                  <a:pt x="338" y="152"/>
                </a:lnTo>
                <a:lnTo>
                  <a:pt x="375" y="148"/>
                </a:lnTo>
                <a:lnTo>
                  <a:pt x="413" y="142"/>
                </a:lnTo>
                <a:lnTo>
                  <a:pt x="453" y="137"/>
                </a:lnTo>
                <a:lnTo>
                  <a:pt x="494" y="131"/>
                </a:lnTo>
                <a:lnTo>
                  <a:pt x="532" y="125"/>
                </a:lnTo>
                <a:lnTo>
                  <a:pt x="568" y="121"/>
                </a:lnTo>
                <a:lnTo>
                  <a:pt x="603" y="116"/>
                </a:lnTo>
                <a:lnTo>
                  <a:pt x="638" y="110"/>
                </a:lnTo>
                <a:lnTo>
                  <a:pt x="670" y="104"/>
                </a:lnTo>
                <a:lnTo>
                  <a:pt x="701" y="100"/>
                </a:lnTo>
                <a:lnTo>
                  <a:pt x="730" y="94"/>
                </a:lnTo>
                <a:lnTo>
                  <a:pt x="758" y="89"/>
                </a:lnTo>
                <a:lnTo>
                  <a:pt x="785" y="85"/>
                </a:lnTo>
                <a:lnTo>
                  <a:pt x="810" y="79"/>
                </a:lnTo>
                <a:lnTo>
                  <a:pt x="833" y="75"/>
                </a:lnTo>
                <a:lnTo>
                  <a:pt x="856" y="71"/>
                </a:lnTo>
                <a:lnTo>
                  <a:pt x="877" y="66"/>
                </a:lnTo>
                <a:lnTo>
                  <a:pt x="897" y="62"/>
                </a:lnTo>
                <a:lnTo>
                  <a:pt x="916" y="58"/>
                </a:lnTo>
                <a:lnTo>
                  <a:pt x="933" y="54"/>
                </a:lnTo>
                <a:lnTo>
                  <a:pt x="948" y="52"/>
                </a:lnTo>
                <a:lnTo>
                  <a:pt x="964" y="48"/>
                </a:lnTo>
                <a:lnTo>
                  <a:pt x="979" y="45"/>
                </a:lnTo>
                <a:lnTo>
                  <a:pt x="993" y="41"/>
                </a:lnTo>
                <a:lnTo>
                  <a:pt x="1006" y="37"/>
                </a:lnTo>
                <a:lnTo>
                  <a:pt x="1017" y="33"/>
                </a:lnTo>
                <a:lnTo>
                  <a:pt x="1027" y="31"/>
                </a:lnTo>
                <a:lnTo>
                  <a:pt x="1037" y="27"/>
                </a:lnTo>
                <a:lnTo>
                  <a:pt x="1046" y="23"/>
                </a:lnTo>
                <a:lnTo>
                  <a:pt x="1054" y="22"/>
                </a:lnTo>
                <a:lnTo>
                  <a:pt x="1060" y="20"/>
                </a:lnTo>
                <a:lnTo>
                  <a:pt x="1065" y="16"/>
                </a:lnTo>
                <a:lnTo>
                  <a:pt x="1071" y="14"/>
                </a:lnTo>
                <a:lnTo>
                  <a:pt x="1073" y="12"/>
                </a:lnTo>
                <a:lnTo>
                  <a:pt x="1077" y="10"/>
                </a:lnTo>
                <a:lnTo>
                  <a:pt x="1081" y="6"/>
                </a:lnTo>
                <a:lnTo>
                  <a:pt x="1085" y="4"/>
                </a:lnTo>
                <a:lnTo>
                  <a:pt x="1090" y="2"/>
                </a:lnTo>
                <a:lnTo>
                  <a:pt x="1096" y="0"/>
                </a:lnTo>
                <a:lnTo>
                  <a:pt x="1110" y="0"/>
                </a:lnTo>
                <a:lnTo>
                  <a:pt x="1123" y="0"/>
                </a:lnTo>
                <a:lnTo>
                  <a:pt x="1131" y="4"/>
                </a:lnTo>
                <a:lnTo>
                  <a:pt x="1136" y="6"/>
                </a:lnTo>
                <a:lnTo>
                  <a:pt x="1140" y="10"/>
                </a:lnTo>
                <a:lnTo>
                  <a:pt x="1146" y="12"/>
                </a:lnTo>
                <a:lnTo>
                  <a:pt x="1154" y="16"/>
                </a:lnTo>
                <a:lnTo>
                  <a:pt x="1159" y="18"/>
                </a:lnTo>
                <a:lnTo>
                  <a:pt x="1167" y="22"/>
                </a:lnTo>
                <a:lnTo>
                  <a:pt x="1175" y="25"/>
                </a:lnTo>
                <a:lnTo>
                  <a:pt x="1183" y="29"/>
                </a:lnTo>
                <a:lnTo>
                  <a:pt x="1192" y="33"/>
                </a:lnTo>
                <a:lnTo>
                  <a:pt x="1202" y="39"/>
                </a:lnTo>
                <a:lnTo>
                  <a:pt x="1211" y="43"/>
                </a:lnTo>
                <a:lnTo>
                  <a:pt x="1223" y="48"/>
                </a:lnTo>
                <a:lnTo>
                  <a:pt x="1234" y="54"/>
                </a:lnTo>
                <a:lnTo>
                  <a:pt x="1246" y="58"/>
                </a:lnTo>
                <a:lnTo>
                  <a:pt x="1257" y="64"/>
                </a:lnTo>
                <a:lnTo>
                  <a:pt x="1269" y="70"/>
                </a:lnTo>
                <a:lnTo>
                  <a:pt x="1280" y="75"/>
                </a:lnTo>
                <a:lnTo>
                  <a:pt x="1290" y="81"/>
                </a:lnTo>
                <a:lnTo>
                  <a:pt x="1300" y="87"/>
                </a:lnTo>
                <a:lnTo>
                  <a:pt x="1309" y="91"/>
                </a:lnTo>
                <a:lnTo>
                  <a:pt x="1317" y="96"/>
                </a:lnTo>
                <a:lnTo>
                  <a:pt x="1325" y="102"/>
                </a:lnTo>
                <a:lnTo>
                  <a:pt x="1332" y="106"/>
                </a:lnTo>
                <a:lnTo>
                  <a:pt x="1340" y="112"/>
                </a:lnTo>
                <a:lnTo>
                  <a:pt x="1346" y="116"/>
                </a:lnTo>
                <a:lnTo>
                  <a:pt x="1351" y="121"/>
                </a:lnTo>
                <a:lnTo>
                  <a:pt x="1355" y="125"/>
                </a:lnTo>
                <a:lnTo>
                  <a:pt x="1361" y="129"/>
                </a:lnTo>
                <a:lnTo>
                  <a:pt x="1365" y="133"/>
                </a:lnTo>
                <a:lnTo>
                  <a:pt x="1369" y="13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412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412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412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412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412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412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4128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4128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4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4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413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413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4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4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10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900"/>
                            </p:stCondLst>
                            <p:childTnLst>
                              <p:par>
                                <p:cTn id="313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10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2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1000"/>
                                        <p:tgtEl>
                                          <p:spTgt spid="4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800"/>
                            </p:stCondLst>
                            <p:childTnLst>
                              <p:par>
                                <p:cTn id="325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1000"/>
                                        <p:tgtEl>
                                          <p:spTgt spid="4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1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10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1000"/>
                                        <p:tgtEl>
                                          <p:spTgt spid="4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700"/>
                            </p:stCondLst>
                            <p:childTnLst>
                              <p:par>
                                <p:cTn id="337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1000"/>
                                        <p:tgtEl>
                                          <p:spTgt spid="4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4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Text Box 2"/>
          <p:cNvSpPr/>
          <p:nvPr/>
        </p:nvSpPr>
        <p:spPr>
          <a:xfrm>
            <a:off x="2268360" y="765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5" name="Picture 3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956" name="Text Box 4"/>
          <p:cNvSpPr/>
          <p:nvPr/>
        </p:nvSpPr>
        <p:spPr>
          <a:xfrm>
            <a:off x="395280" y="5157720"/>
            <a:ext cx="7632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在”与地点、时间有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再”与“又”“重新”有关。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WordArt 5"/>
          <p:cNvSpPr txBox="1"/>
          <p:nvPr/>
        </p:nvSpPr>
        <p:spPr>
          <a:xfrm>
            <a:off x="539640" y="549360"/>
            <a:ext cx="41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老师告诉我：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7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68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169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70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71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172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17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Text Box 12"/>
          <p:cNvSpPr/>
          <p:nvPr/>
        </p:nvSpPr>
        <p:spPr>
          <a:xfrm>
            <a:off x="1676520" y="9907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Text Box 13"/>
          <p:cNvSpPr/>
          <p:nvPr/>
        </p:nvSpPr>
        <p:spPr>
          <a:xfrm>
            <a:off x="47242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Text Box 14"/>
          <p:cNvSpPr/>
          <p:nvPr/>
        </p:nvSpPr>
        <p:spPr>
          <a:xfrm>
            <a:off x="4724280" y="38098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扒饭 扒手  扒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Text Box 15"/>
          <p:cNvSpPr/>
          <p:nvPr/>
        </p:nvSpPr>
        <p:spPr>
          <a:xfrm>
            <a:off x="228600" y="4952880"/>
            <a:ext cx="868680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加往常喜欢大口大口地往嘴里扒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1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182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5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7" name="Group 23"/>
          <p:cNvGrpSpPr/>
          <p:nvPr/>
        </p:nvGrpSpPr>
        <p:grpSpPr>
          <a:xfrm>
            <a:off x="4724280" y="1600200"/>
            <a:ext cx="2361960" cy="917640"/>
            <a:chOff x="4724280" y="1600200"/>
            <a:chExt cx="2361960" cy="917640"/>
          </a:xfrm>
        </p:grpSpPr>
        <p:sp>
          <p:nvSpPr>
            <p:cNvPr id="4188" name="Text Box 24"/>
            <p:cNvSpPr/>
            <p:nvPr/>
          </p:nvSpPr>
          <p:spPr>
            <a:xfrm>
              <a:off x="4724280" y="181440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提手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9" name="Group 25"/>
            <p:cNvGrpSpPr/>
            <p:nvPr/>
          </p:nvGrpSpPr>
          <p:grpSpPr>
            <a:xfrm>
              <a:off x="6553080" y="1600200"/>
              <a:ext cx="533160" cy="812880"/>
              <a:chOff x="6553080" y="1600200"/>
              <a:chExt cx="533160" cy="812880"/>
            </a:xfrm>
          </p:grpSpPr>
          <p:sp>
            <p:nvSpPr>
              <p:cNvPr id="4190" name="Freeform 26"/>
              <p:cNvSpPr/>
              <p:nvPr/>
            </p:nvSpPr>
            <p:spPr>
              <a:xfrm>
                <a:off x="6733440" y="1600200"/>
                <a:ext cx="226440" cy="8128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12880"/>
                  <a:gd name="textAreaBottom" fmla="*/ 813240 h 812880"/>
                </a:gdLst>
                <a:ahLst/>
                <a:rect l="textAreaLeft" t="textAreaTop" r="textAreaRight" b="textAreaBottom"/>
                <a:pathLst>
                  <a:path w="401" h="2286">
                    <a:moveTo>
                      <a:pt x="211" y="79"/>
                    </a:moveTo>
                    <a:lnTo>
                      <a:pt x="206" y="75"/>
                    </a:lnTo>
                    <a:lnTo>
                      <a:pt x="202" y="71"/>
                    </a:lnTo>
                    <a:lnTo>
                      <a:pt x="198" y="68"/>
                    </a:lnTo>
                    <a:lnTo>
                      <a:pt x="196" y="64"/>
                    </a:lnTo>
                    <a:lnTo>
                      <a:pt x="192" y="60"/>
                    </a:lnTo>
                    <a:lnTo>
                      <a:pt x="190" y="56"/>
                    </a:lnTo>
                    <a:lnTo>
                      <a:pt x="190" y="52"/>
                    </a:lnTo>
                    <a:lnTo>
                      <a:pt x="188" y="48"/>
                    </a:lnTo>
                    <a:lnTo>
                      <a:pt x="188" y="39"/>
                    </a:lnTo>
                    <a:lnTo>
                      <a:pt x="188" y="31"/>
                    </a:lnTo>
                    <a:lnTo>
                      <a:pt x="190" y="23"/>
                    </a:lnTo>
                    <a:lnTo>
                      <a:pt x="192" y="16"/>
                    </a:lnTo>
                    <a:lnTo>
                      <a:pt x="198" y="12"/>
                    </a:lnTo>
                    <a:lnTo>
                      <a:pt x="204" y="8"/>
                    </a:lnTo>
                    <a:lnTo>
                      <a:pt x="211" y="4"/>
                    </a:lnTo>
                    <a:lnTo>
                      <a:pt x="221" y="2"/>
                    </a:lnTo>
                    <a:lnTo>
                      <a:pt x="232" y="0"/>
                    </a:lnTo>
                    <a:lnTo>
                      <a:pt x="244" y="0"/>
                    </a:lnTo>
                    <a:lnTo>
                      <a:pt x="259" y="2"/>
                    </a:lnTo>
                    <a:lnTo>
                      <a:pt x="267" y="2"/>
                    </a:lnTo>
                    <a:lnTo>
                      <a:pt x="277" y="4"/>
                    </a:lnTo>
                    <a:lnTo>
                      <a:pt x="292" y="8"/>
                    </a:lnTo>
                    <a:lnTo>
                      <a:pt x="307" y="12"/>
                    </a:lnTo>
                    <a:lnTo>
                      <a:pt x="321" y="18"/>
                    </a:lnTo>
                    <a:lnTo>
                      <a:pt x="334" y="22"/>
                    </a:lnTo>
                    <a:lnTo>
                      <a:pt x="346" y="27"/>
                    </a:lnTo>
                    <a:lnTo>
                      <a:pt x="355" y="33"/>
                    </a:lnTo>
                    <a:lnTo>
                      <a:pt x="367" y="41"/>
                    </a:lnTo>
                    <a:lnTo>
                      <a:pt x="376" y="48"/>
                    </a:lnTo>
                    <a:lnTo>
                      <a:pt x="382" y="54"/>
                    </a:lnTo>
                    <a:lnTo>
                      <a:pt x="386" y="60"/>
                    </a:lnTo>
                    <a:lnTo>
                      <a:pt x="390" y="66"/>
                    </a:lnTo>
                    <a:lnTo>
                      <a:pt x="394" y="71"/>
                    </a:lnTo>
                    <a:lnTo>
                      <a:pt x="395" y="77"/>
                    </a:lnTo>
                    <a:lnTo>
                      <a:pt x="397" y="85"/>
                    </a:lnTo>
                    <a:lnTo>
                      <a:pt x="399" y="96"/>
                    </a:lnTo>
                    <a:lnTo>
                      <a:pt x="401" y="108"/>
                    </a:lnTo>
                    <a:lnTo>
                      <a:pt x="399" y="119"/>
                    </a:lnTo>
                    <a:lnTo>
                      <a:pt x="399" y="133"/>
                    </a:lnTo>
                    <a:lnTo>
                      <a:pt x="395" y="144"/>
                    </a:lnTo>
                    <a:lnTo>
                      <a:pt x="395" y="148"/>
                    </a:lnTo>
                    <a:lnTo>
                      <a:pt x="394" y="152"/>
                    </a:lnTo>
                    <a:lnTo>
                      <a:pt x="394" y="156"/>
                    </a:lnTo>
                    <a:lnTo>
                      <a:pt x="392" y="162"/>
                    </a:lnTo>
                    <a:lnTo>
                      <a:pt x="392" y="167"/>
                    </a:lnTo>
                    <a:lnTo>
                      <a:pt x="390" y="173"/>
                    </a:lnTo>
                    <a:lnTo>
                      <a:pt x="390" y="181"/>
                    </a:lnTo>
                    <a:lnTo>
                      <a:pt x="388" y="189"/>
                    </a:lnTo>
                    <a:lnTo>
                      <a:pt x="388" y="198"/>
                    </a:lnTo>
                    <a:lnTo>
                      <a:pt x="388" y="206"/>
                    </a:lnTo>
                    <a:lnTo>
                      <a:pt x="386" y="215"/>
                    </a:lnTo>
                    <a:lnTo>
                      <a:pt x="386" y="227"/>
                    </a:lnTo>
                    <a:lnTo>
                      <a:pt x="384" y="236"/>
                    </a:lnTo>
                    <a:lnTo>
                      <a:pt x="384" y="248"/>
                    </a:lnTo>
                    <a:lnTo>
                      <a:pt x="382" y="261"/>
                    </a:lnTo>
                    <a:lnTo>
                      <a:pt x="382" y="273"/>
                    </a:lnTo>
                    <a:lnTo>
                      <a:pt x="380" y="286"/>
                    </a:lnTo>
                    <a:lnTo>
                      <a:pt x="380" y="302"/>
                    </a:lnTo>
                    <a:lnTo>
                      <a:pt x="378" y="315"/>
                    </a:lnTo>
                    <a:lnTo>
                      <a:pt x="378" y="331"/>
                    </a:lnTo>
                    <a:lnTo>
                      <a:pt x="376" y="348"/>
                    </a:lnTo>
                    <a:lnTo>
                      <a:pt x="376" y="363"/>
                    </a:lnTo>
                    <a:lnTo>
                      <a:pt x="376" y="380"/>
                    </a:lnTo>
                    <a:lnTo>
                      <a:pt x="374" y="400"/>
                    </a:lnTo>
                    <a:lnTo>
                      <a:pt x="374" y="417"/>
                    </a:lnTo>
                    <a:lnTo>
                      <a:pt x="372" y="436"/>
                    </a:lnTo>
                    <a:lnTo>
                      <a:pt x="372" y="455"/>
                    </a:lnTo>
                    <a:lnTo>
                      <a:pt x="371" y="476"/>
                    </a:lnTo>
                    <a:lnTo>
                      <a:pt x="371" y="497"/>
                    </a:lnTo>
                    <a:lnTo>
                      <a:pt x="369" y="519"/>
                    </a:lnTo>
                    <a:lnTo>
                      <a:pt x="369" y="542"/>
                    </a:lnTo>
                    <a:lnTo>
                      <a:pt x="369" y="565"/>
                    </a:lnTo>
                    <a:lnTo>
                      <a:pt x="367" y="611"/>
                    </a:lnTo>
                    <a:lnTo>
                      <a:pt x="365" y="659"/>
                    </a:lnTo>
                    <a:lnTo>
                      <a:pt x="363" y="707"/>
                    </a:lnTo>
                    <a:lnTo>
                      <a:pt x="361" y="757"/>
                    </a:lnTo>
                    <a:lnTo>
                      <a:pt x="359" y="805"/>
                    </a:lnTo>
                    <a:lnTo>
                      <a:pt x="359" y="856"/>
                    </a:lnTo>
                    <a:lnTo>
                      <a:pt x="357" y="906"/>
                    </a:lnTo>
                    <a:lnTo>
                      <a:pt x="357" y="958"/>
                    </a:lnTo>
                    <a:lnTo>
                      <a:pt x="355" y="1010"/>
                    </a:lnTo>
                    <a:lnTo>
                      <a:pt x="355" y="1064"/>
                    </a:lnTo>
                    <a:lnTo>
                      <a:pt x="355" y="1117"/>
                    </a:lnTo>
                    <a:lnTo>
                      <a:pt x="355" y="1171"/>
                    </a:lnTo>
                    <a:lnTo>
                      <a:pt x="355" y="1225"/>
                    </a:lnTo>
                    <a:lnTo>
                      <a:pt x="355" y="1280"/>
                    </a:lnTo>
                    <a:lnTo>
                      <a:pt x="357" y="1336"/>
                    </a:lnTo>
                    <a:lnTo>
                      <a:pt x="359" y="1394"/>
                    </a:lnTo>
                    <a:lnTo>
                      <a:pt x="359" y="1422"/>
                    </a:lnTo>
                    <a:lnTo>
                      <a:pt x="361" y="1449"/>
                    </a:lnTo>
                    <a:lnTo>
                      <a:pt x="361" y="1478"/>
                    </a:lnTo>
                    <a:lnTo>
                      <a:pt x="361" y="1505"/>
                    </a:lnTo>
                    <a:lnTo>
                      <a:pt x="363" y="1530"/>
                    </a:lnTo>
                    <a:lnTo>
                      <a:pt x="363" y="1557"/>
                    </a:lnTo>
                    <a:lnTo>
                      <a:pt x="363" y="1582"/>
                    </a:lnTo>
                    <a:lnTo>
                      <a:pt x="363" y="1605"/>
                    </a:lnTo>
                    <a:lnTo>
                      <a:pt x="365" y="1628"/>
                    </a:lnTo>
                    <a:lnTo>
                      <a:pt x="365" y="1651"/>
                    </a:lnTo>
                    <a:lnTo>
                      <a:pt x="365" y="1674"/>
                    </a:lnTo>
                    <a:lnTo>
                      <a:pt x="365" y="1695"/>
                    </a:lnTo>
                    <a:lnTo>
                      <a:pt x="365" y="1716"/>
                    </a:lnTo>
                    <a:lnTo>
                      <a:pt x="365" y="1737"/>
                    </a:lnTo>
                    <a:lnTo>
                      <a:pt x="365" y="1756"/>
                    </a:lnTo>
                    <a:lnTo>
                      <a:pt x="365" y="1776"/>
                    </a:lnTo>
                    <a:lnTo>
                      <a:pt x="365" y="1793"/>
                    </a:lnTo>
                    <a:lnTo>
                      <a:pt x="365" y="1810"/>
                    </a:lnTo>
                    <a:lnTo>
                      <a:pt x="365" y="1827"/>
                    </a:lnTo>
                    <a:lnTo>
                      <a:pt x="365" y="1845"/>
                    </a:lnTo>
                    <a:lnTo>
                      <a:pt x="365" y="1860"/>
                    </a:lnTo>
                    <a:lnTo>
                      <a:pt x="365" y="1875"/>
                    </a:lnTo>
                    <a:lnTo>
                      <a:pt x="365" y="1891"/>
                    </a:lnTo>
                    <a:lnTo>
                      <a:pt x="363" y="1904"/>
                    </a:lnTo>
                    <a:lnTo>
                      <a:pt x="363" y="1918"/>
                    </a:lnTo>
                    <a:lnTo>
                      <a:pt x="363" y="1931"/>
                    </a:lnTo>
                    <a:lnTo>
                      <a:pt x="363" y="1943"/>
                    </a:lnTo>
                    <a:lnTo>
                      <a:pt x="361" y="1954"/>
                    </a:lnTo>
                    <a:lnTo>
                      <a:pt x="361" y="1966"/>
                    </a:lnTo>
                    <a:lnTo>
                      <a:pt x="361" y="1975"/>
                    </a:lnTo>
                    <a:lnTo>
                      <a:pt x="359" y="1987"/>
                    </a:lnTo>
                    <a:lnTo>
                      <a:pt x="359" y="1996"/>
                    </a:lnTo>
                    <a:lnTo>
                      <a:pt x="357" y="2014"/>
                    </a:lnTo>
                    <a:lnTo>
                      <a:pt x="355" y="2031"/>
                    </a:lnTo>
                    <a:lnTo>
                      <a:pt x="353" y="2048"/>
                    </a:lnTo>
                    <a:lnTo>
                      <a:pt x="349" y="2063"/>
                    </a:lnTo>
                    <a:lnTo>
                      <a:pt x="348" y="2081"/>
                    </a:lnTo>
                    <a:lnTo>
                      <a:pt x="344" y="2096"/>
                    </a:lnTo>
                    <a:lnTo>
                      <a:pt x="342" y="2109"/>
                    </a:lnTo>
                    <a:lnTo>
                      <a:pt x="338" y="2125"/>
                    </a:lnTo>
                    <a:lnTo>
                      <a:pt x="334" y="2138"/>
                    </a:lnTo>
                    <a:lnTo>
                      <a:pt x="330" y="2152"/>
                    </a:lnTo>
                    <a:lnTo>
                      <a:pt x="326" y="2165"/>
                    </a:lnTo>
                    <a:lnTo>
                      <a:pt x="323" y="2177"/>
                    </a:lnTo>
                    <a:lnTo>
                      <a:pt x="319" y="2188"/>
                    </a:lnTo>
                    <a:lnTo>
                      <a:pt x="313" y="2200"/>
                    </a:lnTo>
                    <a:lnTo>
                      <a:pt x="309" y="2211"/>
                    </a:lnTo>
                    <a:lnTo>
                      <a:pt x="303" y="2221"/>
                    </a:lnTo>
                    <a:lnTo>
                      <a:pt x="298" y="2228"/>
                    </a:lnTo>
                    <a:lnTo>
                      <a:pt x="294" y="2236"/>
                    </a:lnTo>
                    <a:lnTo>
                      <a:pt x="288" y="2244"/>
                    </a:lnTo>
                    <a:lnTo>
                      <a:pt x="282" y="2250"/>
                    </a:lnTo>
                    <a:lnTo>
                      <a:pt x="278" y="2255"/>
                    </a:lnTo>
                    <a:lnTo>
                      <a:pt x="273" y="2261"/>
                    </a:lnTo>
                    <a:lnTo>
                      <a:pt x="267" y="2265"/>
                    </a:lnTo>
                    <a:lnTo>
                      <a:pt x="261" y="2271"/>
                    </a:lnTo>
                    <a:lnTo>
                      <a:pt x="257" y="2275"/>
                    </a:lnTo>
                    <a:lnTo>
                      <a:pt x="252" y="2276"/>
                    </a:lnTo>
                    <a:lnTo>
                      <a:pt x="246" y="2280"/>
                    </a:lnTo>
                    <a:lnTo>
                      <a:pt x="242" y="2282"/>
                    </a:lnTo>
                    <a:lnTo>
                      <a:pt x="236" y="2284"/>
                    </a:lnTo>
                    <a:lnTo>
                      <a:pt x="230" y="2284"/>
                    </a:lnTo>
                    <a:lnTo>
                      <a:pt x="225" y="2286"/>
                    </a:lnTo>
                    <a:lnTo>
                      <a:pt x="221" y="2286"/>
                    </a:lnTo>
                    <a:lnTo>
                      <a:pt x="215" y="2286"/>
                    </a:lnTo>
                    <a:lnTo>
                      <a:pt x="211" y="2284"/>
                    </a:lnTo>
                    <a:lnTo>
                      <a:pt x="207" y="2284"/>
                    </a:lnTo>
                    <a:lnTo>
                      <a:pt x="204" y="2282"/>
                    </a:lnTo>
                    <a:lnTo>
                      <a:pt x="200" y="2278"/>
                    </a:lnTo>
                    <a:lnTo>
                      <a:pt x="198" y="2276"/>
                    </a:lnTo>
                    <a:lnTo>
                      <a:pt x="194" y="2273"/>
                    </a:lnTo>
                    <a:lnTo>
                      <a:pt x="192" y="2269"/>
                    </a:lnTo>
                    <a:lnTo>
                      <a:pt x="192" y="2263"/>
                    </a:lnTo>
                    <a:lnTo>
                      <a:pt x="190" y="2257"/>
                    </a:lnTo>
                    <a:lnTo>
                      <a:pt x="190" y="2252"/>
                    </a:lnTo>
                    <a:lnTo>
                      <a:pt x="190" y="2246"/>
                    </a:lnTo>
                    <a:lnTo>
                      <a:pt x="190" y="2238"/>
                    </a:lnTo>
                    <a:lnTo>
                      <a:pt x="190" y="2228"/>
                    </a:lnTo>
                    <a:lnTo>
                      <a:pt x="192" y="2221"/>
                    </a:lnTo>
                    <a:lnTo>
                      <a:pt x="192" y="2211"/>
                    </a:lnTo>
                    <a:lnTo>
                      <a:pt x="192" y="2202"/>
                    </a:lnTo>
                    <a:lnTo>
                      <a:pt x="192" y="2190"/>
                    </a:lnTo>
                    <a:lnTo>
                      <a:pt x="190" y="2182"/>
                    </a:lnTo>
                    <a:lnTo>
                      <a:pt x="188" y="2173"/>
                    </a:lnTo>
                    <a:lnTo>
                      <a:pt x="184" y="2163"/>
                    </a:lnTo>
                    <a:lnTo>
                      <a:pt x="181" y="2154"/>
                    </a:lnTo>
                    <a:lnTo>
                      <a:pt x="177" y="2144"/>
                    </a:lnTo>
                    <a:lnTo>
                      <a:pt x="171" y="2136"/>
                    </a:lnTo>
                    <a:lnTo>
                      <a:pt x="165" y="2127"/>
                    </a:lnTo>
                    <a:lnTo>
                      <a:pt x="158" y="2117"/>
                    </a:lnTo>
                    <a:lnTo>
                      <a:pt x="150" y="2108"/>
                    </a:lnTo>
                    <a:lnTo>
                      <a:pt x="142" y="2098"/>
                    </a:lnTo>
                    <a:lnTo>
                      <a:pt x="133" y="2090"/>
                    </a:lnTo>
                    <a:lnTo>
                      <a:pt x="123" y="2081"/>
                    </a:lnTo>
                    <a:lnTo>
                      <a:pt x="111" y="2069"/>
                    </a:lnTo>
                    <a:lnTo>
                      <a:pt x="100" y="2060"/>
                    </a:lnTo>
                    <a:lnTo>
                      <a:pt x="88" y="2050"/>
                    </a:lnTo>
                    <a:lnTo>
                      <a:pt x="79" y="2040"/>
                    </a:lnTo>
                    <a:lnTo>
                      <a:pt x="67" y="2031"/>
                    </a:lnTo>
                    <a:lnTo>
                      <a:pt x="58" y="2023"/>
                    </a:lnTo>
                    <a:lnTo>
                      <a:pt x="48" y="2015"/>
                    </a:lnTo>
                    <a:lnTo>
                      <a:pt x="40" y="2008"/>
                    </a:lnTo>
                    <a:lnTo>
                      <a:pt x="33" y="2002"/>
                    </a:lnTo>
                    <a:lnTo>
                      <a:pt x="25" y="1994"/>
                    </a:lnTo>
                    <a:lnTo>
                      <a:pt x="19" y="1989"/>
                    </a:lnTo>
                    <a:lnTo>
                      <a:pt x="14" y="1985"/>
                    </a:lnTo>
                    <a:lnTo>
                      <a:pt x="10" y="1979"/>
                    </a:lnTo>
                    <a:lnTo>
                      <a:pt x="6" y="1975"/>
                    </a:lnTo>
                    <a:lnTo>
                      <a:pt x="4" y="1971"/>
                    </a:lnTo>
                    <a:lnTo>
                      <a:pt x="0" y="1967"/>
                    </a:lnTo>
                    <a:lnTo>
                      <a:pt x="0" y="1966"/>
                    </a:lnTo>
                    <a:lnTo>
                      <a:pt x="0" y="1964"/>
                    </a:lnTo>
                    <a:lnTo>
                      <a:pt x="0" y="1960"/>
                    </a:lnTo>
                    <a:lnTo>
                      <a:pt x="2" y="1958"/>
                    </a:lnTo>
                    <a:lnTo>
                      <a:pt x="2" y="1956"/>
                    </a:lnTo>
                    <a:lnTo>
                      <a:pt x="4" y="1954"/>
                    </a:lnTo>
                    <a:lnTo>
                      <a:pt x="8" y="1952"/>
                    </a:lnTo>
                    <a:lnTo>
                      <a:pt x="10" y="1950"/>
                    </a:lnTo>
                    <a:lnTo>
                      <a:pt x="14" y="1950"/>
                    </a:lnTo>
                    <a:lnTo>
                      <a:pt x="19" y="1948"/>
                    </a:lnTo>
                    <a:lnTo>
                      <a:pt x="23" y="1948"/>
                    </a:lnTo>
                    <a:lnTo>
                      <a:pt x="29" y="1948"/>
                    </a:lnTo>
                    <a:lnTo>
                      <a:pt x="35" y="1948"/>
                    </a:lnTo>
                    <a:lnTo>
                      <a:pt x="40" y="1948"/>
                    </a:lnTo>
                    <a:lnTo>
                      <a:pt x="48" y="1950"/>
                    </a:lnTo>
                    <a:lnTo>
                      <a:pt x="56" y="1950"/>
                    </a:lnTo>
                    <a:lnTo>
                      <a:pt x="63" y="1952"/>
                    </a:lnTo>
                    <a:lnTo>
                      <a:pt x="81" y="1956"/>
                    </a:lnTo>
                    <a:lnTo>
                      <a:pt x="96" y="1960"/>
                    </a:lnTo>
                    <a:lnTo>
                      <a:pt x="111" y="1964"/>
                    </a:lnTo>
                    <a:lnTo>
                      <a:pt x="127" y="1967"/>
                    </a:lnTo>
                    <a:lnTo>
                      <a:pt x="140" y="1969"/>
                    </a:lnTo>
                    <a:lnTo>
                      <a:pt x="152" y="1971"/>
                    </a:lnTo>
                    <a:lnTo>
                      <a:pt x="163" y="1973"/>
                    </a:lnTo>
                    <a:lnTo>
                      <a:pt x="175" y="1973"/>
                    </a:lnTo>
                    <a:lnTo>
                      <a:pt x="179" y="1975"/>
                    </a:lnTo>
                    <a:lnTo>
                      <a:pt x="184" y="1977"/>
                    </a:lnTo>
                    <a:lnTo>
                      <a:pt x="190" y="1977"/>
                    </a:lnTo>
                    <a:lnTo>
                      <a:pt x="194" y="1977"/>
                    </a:lnTo>
                    <a:lnTo>
                      <a:pt x="200" y="1975"/>
                    </a:lnTo>
                    <a:lnTo>
                      <a:pt x="204" y="1973"/>
                    </a:lnTo>
                    <a:lnTo>
                      <a:pt x="209" y="1971"/>
                    </a:lnTo>
                    <a:lnTo>
                      <a:pt x="213" y="1969"/>
                    </a:lnTo>
                    <a:lnTo>
                      <a:pt x="217" y="1966"/>
                    </a:lnTo>
                    <a:lnTo>
                      <a:pt x="221" y="1962"/>
                    </a:lnTo>
                    <a:lnTo>
                      <a:pt x="229" y="1952"/>
                    </a:lnTo>
                    <a:lnTo>
                      <a:pt x="234" y="1943"/>
                    </a:lnTo>
                    <a:lnTo>
                      <a:pt x="238" y="1931"/>
                    </a:lnTo>
                    <a:lnTo>
                      <a:pt x="240" y="1923"/>
                    </a:lnTo>
                    <a:lnTo>
                      <a:pt x="242" y="1918"/>
                    </a:lnTo>
                    <a:lnTo>
                      <a:pt x="244" y="1908"/>
                    </a:lnTo>
                    <a:lnTo>
                      <a:pt x="246" y="1898"/>
                    </a:lnTo>
                    <a:lnTo>
                      <a:pt x="248" y="1887"/>
                    </a:lnTo>
                    <a:lnTo>
                      <a:pt x="250" y="1875"/>
                    </a:lnTo>
                    <a:lnTo>
                      <a:pt x="252" y="1862"/>
                    </a:lnTo>
                    <a:lnTo>
                      <a:pt x="253" y="1847"/>
                    </a:lnTo>
                    <a:lnTo>
                      <a:pt x="253" y="1831"/>
                    </a:lnTo>
                    <a:lnTo>
                      <a:pt x="255" y="1814"/>
                    </a:lnTo>
                    <a:lnTo>
                      <a:pt x="257" y="1797"/>
                    </a:lnTo>
                    <a:lnTo>
                      <a:pt x="259" y="1776"/>
                    </a:lnTo>
                    <a:lnTo>
                      <a:pt x="261" y="1754"/>
                    </a:lnTo>
                    <a:lnTo>
                      <a:pt x="263" y="1733"/>
                    </a:lnTo>
                    <a:lnTo>
                      <a:pt x="265" y="1708"/>
                    </a:lnTo>
                    <a:lnTo>
                      <a:pt x="267" y="1683"/>
                    </a:lnTo>
                    <a:lnTo>
                      <a:pt x="267" y="1659"/>
                    </a:lnTo>
                    <a:lnTo>
                      <a:pt x="267" y="1632"/>
                    </a:lnTo>
                    <a:lnTo>
                      <a:pt x="267" y="1603"/>
                    </a:lnTo>
                    <a:lnTo>
                      <a:pt x="267" y="1572"/>
                    </a:lnTo>
                    <a:lnTo>
                      <a:pt x="267" y="1540"/>
                    </a:lnTo>
                    <a:lnTo>
                      <a:pt x="267" y="1505"/>
                    </a:lnTo>
                    <a:lnTo>
                      <a:pt x="267" y="1470"/>
                    </a:lnTo>
                    <a:lnTo>
                      <a:pt x="267" y="1432"/>
                    </a:lnTo>
                    <a:lnTo>
                      <a:pt x="267" y="1392"/>
                    </a:lnTo>
                    <a:lnTo>
                      <a:pt x="267" y="1371"/>
                    </a:lnTo>
                    <a:lnTo>
                      <a:pt x="267" y="1350"/>
                    </a:lnTo>
                    <a:lnTo>
                      <a:pt x="267" y="1328"/>
                    </a:lnTo>
                    <a:lnTo>
                      <a:pt x="267" y="1307"/>
                    </a:lnTo>
                    <a:lnTo>
                      <a:pt x="267" y="1284"/>
                    </a:lnTo>
                    <a:lnTo>
                      <a:pt x="267" y="1261"/>
                    </a:lnTo>
                    <a:lnTo>
                      <a:pt x="267" y="1238"/>
                    </a:lnTo>
                    <a:lnTo>
                      <a:pt x="267" y="1213"/>
                    </a:lnTo>
                    <a:lnTo>
                      <a:pt x="267" y="1188"/>
                    </a:lnTo>
                    <a:lnTo>
                      <a:pt x="267" y="1163"/>
                    </a:lnTo>
                    <a:lnTo>
                      <a:pt x="267" y="1138"/>
                    </a:lnTo>
                    <a:lnTo>
                      <a:pt x="267" y="1113"/>
                    </a:lnTo>
                    <a:lnTo>
                      <a:pt x="267" y="1087"/>
                    </a:lnTo>
                    <a:lnTo>
                      <a:pt x="267" y="1060"/>
                    </a:lnTo>
                    <a:lnTo>
                      <a:pt x="265" y="1006"/>
                    </a:lnTo>
                    <a:lnTo>
                      <a:pt x="263" y="954"/>
                    </a:lnTo>
                    <a:lnTo>
                      <a:pt x="263" y="902"/>
                    </a:lnTo>
                    <a:lnTo>
                      <a:pt x="261" y="853"/>
                    </a:lnTo>
                    <a:lnTo>
                      <a:pt x="261" y="805"/>
                    </a:lnTo>
                    <a:lnTo>
                      <a:pt x="259" y="758"/>
                    </a:lnTo>
                    <a:lnTo>
                      <a:pt x="259" y="712"/>
                    </a:lnTo>
                    <a:lnTo>
                      <a:pt x="259" y="668"/>
                    </a:lnTo>
                    <a:lnTo>
                      <a:pt x="257" y="626"/>
                    </a:lnTo>
                    <a:lnTo>
                      <a:pt x="257" y="586"/>
                    </a:lnTo>
                    <a:lnTo>
                      <a:pt x="257" y="545"/>
                    </a:lnTo>
                    <a:lnTo>
                      <a:pt x="257" y="505"/>
                    </a:lnTo>
                    <a:lnTo>
                      <a:pt x="257" y="467"/>
                    </a:lnTo>
                    <a:lnTo>
                      <a:pt x="257" y="430"/>
                    </a:lnTo>
                    <a:lnTo>
                      <a:pt x="257" y="394"/>
                    </a:lnTo>
                    <a:lnTo>
                      <a:pt x="257" y="359"/>
                    </a:lnTo>
                    <a:lnTo>
                      <a:pt x="255" y="329"/>
                    </a:lnTo>
                    <a:lnTo>
                      <a:pt x="253" y="298"/>
                    </a:lnTo>
                    <a:lnTo>
                      <a:pt x="252" y="271"/>
                    </a:lnTo>
                    <a:lnTo>
                      <a:pt x="250" y="244"/>
                    </a:lnTo>
                    <a:lnTo>
                      <a:pt x="248" y="221"/>
                    </a:lnTo>
                    <a:lnTo>
                      <a:pt x="246" y="198"/>
                    </a:lnTo>
                    <a:lnTo>
                      <a:pt x="244" y="179"/>
                    </a:lnTo>
                    <a:lnTo>
                      <a:pt x="242" y="160"/>
                    </a:lnTo>
                    <a:lnTo>
                      <a:pt x="238" y="142"/>
                    </a:lnTo>
                    <a:lnTo>
                      <a:pt x="236" y="127"/>
                    </a:lnTo>
                    <a:lnTo>
                      <a:pt x="234" y="121"/>
                    </a:lnTo>
                    <a:lnTo>
                      <a:pt x="232" y="116"/>
                    </a:lnTo>
                    <a:lnTo>
                      <a:pt x="230" y="110"/>
                    </a:lnTo>
                    <a:lnTo>
                      <a:pt x="229" y="104"/>
                    </a:lnTo>
                    <a:lnTo>
                      <a:pt x="227" y="100"/>
                    </a:lnTo>
                    <a:lnTo>
                      <a:pt x="225" y="94"/>
                    </a:lnTo>
                    <a:lnTo>
                      <a:pt x="223" y="91"/>
                    </a:lnTo>
                    <a:lnTo>
                      <a:pt x="221" y="89"/>
                    </a:lnTo>
                    <a:lnTo>
                      <a:pt x="219" y="85"/>
                    </a:lnTo>
                    <a:lnTo>
                      <a:pt x="217" y="83"/>
                    </a:lnTo>
                    <a:lnTo>
                      <a:pt x="213" y="81"/>
                    </a:lnTo>
                    <a:lnTo>
                      <a:pt x="211" y="7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Freeform 27"/>
              <p:cNvSpPr/>
              <p:nvPr/>
            </p:nvSpPr>
            <p:spPr>
              <a:xfrm>
                <a:off x="6655320" y="1839240"/>
                <a:ext cx="430920" cy="9504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64" h="269">
                    <a:moveTo>
                      <a:pt x="192" y="269"/>
                    </a:moveTo>
                    <a:lnTo>
                      <a:pt x="169" y="269"/>
                    </a:lnTo>
                    <a:lnTo>
                      <a:pt x="148" y="267"/>
                    </a:lnTo>
                    <a:lnTo>
                      <a:pt x="129" y="265"/>
                    </a:lnTo>
                    <a:lnTo>
                      <a:pt x="109" y="261"/>
                    </a:lnTo>
                    <a:lnTo>
                      <a:pt x="94" y="255"/>
                    </a:lnTo>
                    <a:lnTo>
                      <a:pt x="79" y="252"/>
                    </a:lnTo>
                    <a:lnTo>
                      <a:pt x="65" y="244"/>
                    </a:lnTo>
                    <a:lnTo>
                      <a:pt x="54" y="236"/>
                    </a:lnTo>
                    <a:lnTo>
                      <a:pt x="42" y="232"/>
                    </a:lnTo>
                    <a:lnTo>
                      <a:pt x="31" y="227"/>
                    </a:lnTo>
                    <a:lnTo>
                      <a:pt x="21" y="221"/>
                    </a:lnTo>
                    <a:lnTo>
                      <a:pt x="13" y="215"/>
                    </a:lnTo>
                    <a:lnTo>
                      <a:pt x="8" y="209"/>
                    </a:lnTo>
                    <a:lnTo>
                      <a:pt x="2" y="204"/>
                    </a:lnTo>
                    <a:lnTo>
                      <a:pt x="0" y="198"/>
                    </a:lnTo>
                    <a:lnTo>
                      <a:pt x="0" y="194"/>
                    </a:lnTo>
                    <a:lnTo>
                      <a:pt x="0" y="192"/>
                    </a:lnTo>
                    <a:lnTo>
                      <a:pt x="2" y="190"/>
                    </a:lnTo>
                    <a:lnTo>
                      <a:pt x="4" y="188"/>
                    </a:lnTo>
                    <a:lnTo>
                      <a:pt x="6" y="186"/>
                    </a:lnTo>
                    <a:lnTo>
                      <a:pt x="10" y="184"/>
                    </a:lnTo>
                    <a:lnTo>
                      <a:pt x="13" y="182"/>
                    </a:lnTo>
                    <a:lnTo>
                      <a:pt x="19" y="181"/>
                    </a:lnTo>
                    <a:lnTo>
                      <a:pt x="23" y="179"/>
                    </a:lnTo>
                    <a:lnTo>
                      <a:pt x="29" y="177"/>
                    </a:lnTo>
                    <a:lnTo>
                      <a:pt x="35" y="175"/>
                    </a:lnTo>
                    <a:lnTo>
                      <a:pt x="42" y="173"/>
                    </a:lnTo>
                    <a:lnTo>
                      <a:pt x="50" y="169"/>
                    </a:lnTo>
                    <a:lnTo>
                      <a:pt x="58" y="167"/>
                    </a:lnTo>
                    <a:lnTo>
                      <a:pt x="67" y="163"/>
                    </a:lnTo>
                    <a:lnTo>
                      <a:pt x="77" y="159"/>
                    </a:lnTo>
                    <a:lnTo>
                      <a:pt x="86" y="157"/>
                    </a:lnTo>
                    <a:lnTo>
                      <a:pt x="98" y="154"/>
                    </a:lnTo>
                    <a:lnTo>
                      <a:pt x="107" y="150"/>
                    </a:lnTo>
                    <a:lnTo>
                      <a:pt x="121" y="146"/>
                    </a:lnTo>
                    <a:lnTo>
                      <a:pt x="132" y="142"/>
                    </a:lnTo>
                    <a:lnTo>
                      <a:pt x="146" y="138"/>
                    </a:lnTo>
                    <a:lnTo>
                      <a:pt x="159" y="133"/>
                    </a:lnTo>
                    <a:lnTo>
                      <a:pt x="175" y="129"/>
                    </a:lnTo>
                    <a:lnTo>
                      <a:pt x="190" y="125"/>
                    </a:lnTo>
                    <a:lnTo>
                      <a:pt x="205" y="119"/>
                    </a:lnTo>
                    <a:lnTo>
                      <a:pt x="221" y="113"/>
                    </a:lnTo>
                    <a:lnTo>
                      <a:pt x="238" y="109"/>
                    </a:lnTo>
                    <a:lnTo>
                      <a:pt x="255" y="104"/>
                    </a:lnTo>
                    <a:lnTo>
                      <a:pt x="274" y="98"/>
                    </a:lnTo>
                    <a:lnTo>
                      <a:pt x="294" y="92"/>
                    </a:lnTo>
                    <a:lnTo>
                      <a:pt x="313" y="86"/>
                    </a:lnTo>
                    <a:lnTo>
                      <a:pt x="349" y="75"/>
                    </a:lnTo>
                    <a:lnTo>
                      <a:pt x="386" y="67"/>
                    </a:lnTo>
                    <a:lnTo>
                      <a:pt x="418" y="58"/>
                    </a:lnTo>
                    <a:lnTo>
                      <a:pt x="451" y="50"/>
                    </a:lnTo>
                    <a:lnTo>
                      <a:pt x="480" y="42"/>
                    </a:lnTo>
                    <a:lnTo>
                      <a:pt x="509" y="35"/>
                    </a:lnTo>
                    <a:lnTo>
                      <a:pt x="535" y="29"/>
                    </a:lnTo>
                    <a:lnTo>
                      <a:pt x="560" y="23"/>
                    </a:lnTo>
                    <a:lnTo>
                      <a:pt x="583" y="17"/>
                    </a:lnTo>
                    <a:lnTo>
                      <a:pt x="604" y="14"/>
                    </a:lnTo>
                    <a:lnTo>
                      <a:pt x="624" y="10"/>
                    </a:lnTo>
                    <a:lnTo>
                      <a:pt x="639" y="6"/>
                    </a:lnTo>
                    <a:lnTo>
                      <a:pt x="654" y="4"/>
                    </a:lnTo>
                    <a:lnTo>
                      <a:pt x="670" y="2"/>
                    </a:lnTo>
                    <a:lnTo>
                      <a:pt x="676" y="0"/>
                    </a:lnTo>
                    <a:lnTo>
                      <a:pt x="681" y="0"/>
                    </a:lnTo>
                    <a:lnTo>
                      <a:pt x="685" y="0"/>
                    </a:lnTo>
                    <a:lnTo>
                      <a:pt x="691" y="0"/>
                    </a:lnTo>
                    <a:lnTo>
                      <a:pt x="706" y="4"/>
                    </a:lnTo>
                    <a:lnTo>
                      <a:pt x="714" y="6"/>
                    </a:lnTo>
                    <a:lnTo>
                      <a:pt x="722" y="8"/>
                    </a:lnTo>
                    <a:lnTo>
                      <a:pt x="727" y="10"/>
                    </a:lnTo>
                    <a:lnTo>
                      <a:pt x="733" y="12"/>
                    </a:lnTo>
                    <a:lnTo>
                      <a:pt x="739" y="15"/>
                    </a:lnTo>
                    <a:lnTo>
                      <a:pt x="745" y="17"/>
                    </a:lnTo>
                    <a:lnTo>
                      <a:pt x="748" y="19"/>
                    </a:lnTo>
                    <a:lnTo>
                      <a:pt x="752" y="23"/>
                    </a:lnTo>
                    <a:lnTo>
                      <a:pt x="756" y="25"/>
                    </a:lnTo>
                    <a:lnTo>
                      <a:pt x="758" y="29"/>
                    </a:lnTo>
                    <a:lnTo>
                      <a:pt x="762" y="33"/>
                    </a:lnTo>
                    <a:lnTo>
                      <a:pt x="762" y="35"/>
                    </a:lnTo>
                    <a:lnTo>
                      <a:pt x="764" y="38"/>
                    </a:lnTo>
                    <a:lnTo>
                      <a:pt x="764" y="42"/>
                    </a:lnTo>
                    <a:lnTo>
                      <a:pt x="764" y="44"/>
                    </a:lnTo>
                    <a:lnTo>
                      <a:pt x="764" y="48"/>
                    </a:lnTo>
                    <a:lnTo>
                      <a:pt x="762" y="50"/>
                    </a:lnTo>
                    <a:lnTo>
                      <a:pt x="760" y="52"/>
                    </a:lnTo>
                    <a:lnTo>
                      <a:pt x="758" y="54"/>
                    </a:lnTo>
                    <a:lnTo>
                      <a:pt x="754" y="58"/>
                    </a:lnTo>
                    <a:lnTo>
                      <a:pt x="748" y="63"/>
                    </a:lnTo>
                    <a:lnTo>
                      <a:pt x="739" y="69"/>
                    </a:lnTo>
                    <a:lnTo>
                      <a:pt x="729" y="75"/>
                    </a:lnTo>
                    <a:lnTo>
                      <a:pt x="718" y="83"/>
                    </a:lnTo>
                    <a:lnTo>
                      <a:pt x="702" y="90"/>
                    </a:lnTo>
                    <a:lnTo>
                      <a:pt x="687" y="100"/>
                    </a:lnTo>
                    <a:lnTo>
                      <a:pt x="668" y="108"/>
                    </a:lnTo>
                    <a:lnTo>
                      <a:pt x="649" y="117"/>
                    </a:lnTo>
                    <a:lnTo>
                      <a:pt x="628" y="127"/>
                    </a:lnTo>
                    <a:lnTo>
                      <a:pt x="604" y="138"/>
                    </a:lnTo>
                    <a:lnTo>
                      <a:pt x="580" y="148"/>
                    </a:lnTo>
                    <a:lnTo>
                      <a:pt x="553" y="159"/>
                    </a:lnTo>
                    <a:lnTo>
                      <a:pt x="524" y="173"/>
                    </a:lnTo>
                    <a:lnTo>
                      <a:pt x="495" y="184"/>
                    </a:lnTo>
                    <a:lnTo>
                      <a:pt x="468" y="196"/>
                    </a:lnTo>
                    <a:lnTo>
                      <a:pt x="441" y="205"/>
                    </a:lnTo>
                    <a:lnTo>
                      <a:pt x="416" y="215"/>
                    </a:lnTo>
                    <a:lnTo>
                      <a:pt x="391" y="223"/>
                    </a:lnTo>
                    <a:lnTo>
                      <a:pt x="368" y="232"/>
                    </a:lnTo>
                    <a:lnTo>
                      <a:pt x="345" y="238"/>
                    </a:lnTo>
                    <a:lnTo>
                      <a:pt x="324" y="246"/>
                    </a:lnTo>
                    <a:lnTo>
                      <a:pt x="303" y="252"/>
                    </a:lnTo>
                    <a:lnTo>
                      <a:pt x="284" y="255"/>
                    </a:lnTo>
                    <a:lnTo>
                      <a:pt x="267" y="259"/>
                    </a:lnTo>
                    <a:lnTo>
                      <a:pt x="249" y="263"/>
                    </a:lnTo>
                    <a:lnTo>
                      <a:pt x="234" y="265"/>
                    </a:lnTo>
                    <a:lnTo>
                      <a:pt x="219" y="267"/>
                    </a:lnTo>
                    <a:lnTo>
                      <a:pt x="205" y="269"/>
                    </a:lnTo>
                    <a:lnTo>
                      <a:pt x="192" y="26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Freeform 28"/>
              <p:cNvSpPr/>
              <p:nvPr/>
            </p:nvSpPr>
            <p:spPr>
              <a:xfrm>
                <a:off x="6553080" y="1980000"/>
                <a:ext cx="471240" cy="2689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836" h="756">
                    <a:moveTo>
                      <a:pt x="107" y="561"/>
                    </a:moveTo>
                    <a:lnTo>
                      <a:pt x="109" y="559"/>
                    </a:lnTo>
                    <a:lnTo>
                      <a:pt x="113" y="557"/>
                    </a:lnTo>
                    <a:lnTo>
                      <a:pt x="115" y="555"/>
                    </a:lnTo>
                    <a:lnTo>
                      <a:pt x="119" y="553"/>
                    </a:lnTo>
                    <a:lnTo>
                      <a:pt x="124" y="549"/>
                    </a:lnTo>
                    <a:lnTo>
                      <a:pt x="128" y="545"/>
                    </a:lnTo>
                    <a:lnTo>
                      <a:pt x="134" y="542"/>
                    </a:lnTo>
                    <a:lnTo>
                      <a:pt x="140" y="536"/>
                    </a:lnTo>
                    <a:lnTo>
                      <a:pt x="147" y="532"/>
                    </a:lnTo>
                    <a:lnTo>
                      <a:pt x="155" y="526"/>
                    </a:lnTo>
                    <a:lnTo>
                      <a:pt x="163" y="519"/>
                    </a:lnTo>
                    <a:lnTo>
                      <a:pt x="172" y="513"/>
                    </a:lnTo>
                    <a:lnTo>
                      <a:pt x="182" y="505"/>
                    </a:lnTo>
                    <a:lnTo>
                      <a:pt x="192" y="497"/>
                    </a:lnTo>
                    <a:lnTo>
                      <a:pt x="201" y="490"/>
                    </a:lnTo>
                    <a:lnTo>
                      <a:pt x="213" y="480"/>
                    </a:lnTo>
                    <a:lnTo>
                      <a:pt x="224" y="471"/>
                    </a:lnTo>
                    <a:lnTo>
                      <a:pt x="238" y="461"/>
                    </a:lnTo>
                    <a:lnTo>
                      <a:pt x="251" y="451"/>
                    </a:lnTo>
                    <a:lnTo>
                      <a:pt x="265" y="440"/>
                    </a:lnTo>
                    <a:lnTo>
                      <a:pt x="278" y="428"/>
                    </a:lnTo>
                    <a:lnTo>
                      <a:pt x="293" y="417"/>
                    </a:lnTo>
                    <a:lnTo>
                      <a:pt x="309" y="405"/>
                    </a:lnTo>
                    <a:lnTo>
                      <a:pt x="324" y="392"/>
                    </a:lnTo>
                    <a:lnTo>
                      <a:pt x="341" y="378"/>
                    </a:lnTo>
                    <a:lnTo>
                      <a:pt x="359" y="365"/>
                    </a:lnTo>
                    <a:lnTo>
                      <a:pt x="376" y="350"/>
                    </a:lnTo>
                    <a:lnTo>
                      <a:pt x="395" y="334"/>
                    </a:lnTo>
                    <a:lnTo>
                      <a:pt x="414" y="319"/>
                    </a:lnTo>
                    <a:lnTo>
                      <a:pt x="433" y="304"/>
                    </a:lnTo>
                    <a:lnTo>
                      <a:pt x="454" y="286"/>
                    </a:lnTo>
                    <a:lnTo>
                      <a:pt x="476" y="271"/>
                    </a:lnTo>
                    <a:lnTo>
                      <a:pt x="497" y="254"/>
                    </a:lnTo>
                    <a:lnTo>
                      <a:pt x="518" y="236"/>
                    </a:lnTo>
                    <a:lnTo>
                      <a:pt x="537" y="221"/>
                    </a:lnTo>
                    <a:lnTo>
                      <a:pt x="556" y="206"/>
                    </a:lnTo>
                    <a:lnTo>
                      <a:pt x="575" y="190"/>
                    </a:lnTo>
                    <a:lnTo>
                      <a:pt x="593" y="175"/>
                    </a:lnTo>
                    <a:lnTo>
                      <a:pt x="610" y="162"/>
                    </a:lnTo>
                    <a:lnTo>
                      <a:pt x="627" y="148"/>
                    </a:lnTo>
                    <a:lnTo>
                      <a:pt x="643" y="135"/>
                    </a:lnTo>
                    <a:lnTo>
                      <a:pt x="658" y="123"/>
                    </a:lnTo>
                    <a:lnTo>
                      <a:pt x="673" y="112"/>
                    </a:lnTo>
                    <a:lnTo>
                      <a:pt x="687" y="100"/>
                    </a:lnTo>
                    <a:lnTo>
                      <a:pt x="702" y="91"/>
                    </a:lnTo>
                    <a:lnTo>
                      <a:pt x="714" y="81"/>
                    </a:lnTo>
                    <a:lnTo>
                      <a:pt x="727" y="71"/>
                    </a:lnTo>
                    <a:lnTo>
                      <a:pt x="739" y="62"/>
                    </a:lnTo>
                    <a:lnTo>
                      <a:pt x="748" y="54"/>
                    </a:lnTo>
                    <a:lnTo>
                      <a:pt x="760" y="46"/>
                    </a:lnTo>
                    <a:lnTo>
                      <a:pt x="769" y="39"/>
                    </a:lnTo>
                    <a:lnTo>
                      <a:pt x="777" y="33"/>
                    </a:lnTo>
                    <a:lnTo>
                      <a:pt x="786" y="27"/>
                    </a:lnTo>
                    <a:lnTo>
                      <a:pt x="794" y="21"/>
                    </a:lnTo>
                    <a:lnTo>
                      <a:pt x="802" y="16"/>
                    </a:lnTo>
                    <a:lnTo>
                      <a:pt x="808" y="12"/>
                    </a:lnTo>
                    <a:lnTo>
                      <a:pt x="813" y="8"/>
                    </a:lnTo>
                    <a:lnTo>
                      <a:pt x="819" y="6"/>
                    </a:lnTo>
                    <a:lnTo>
                      <a:pt x="823" y="4"/>
                    </a:lnTo>
                    <a:lnTo>
                      <a:pt x="827" y="2"/>
                    </a:lnTo>
                    <a:lnTo>
                      <a:pt x="831" y="0"/>
                    </a:lnTo>
                    <a:lnTo>
                      <a:pt x="833" y="0"/>
                    </a:lnTo>
                    <a:lnTo>
                      <a:pt x="834" y="0"/>
                    </a:lnTo>
                    <a:lnTo>
                      <a:pt x="836" y="4"/>
                    </a:lnTo>
                    <a:lnTo>
                      <a:pt x="836" y="8"/>
                    </a:lnTo>
                    <a:lnTo>
                      <a:pt x="834" y="12"/>
                    </a:lnTo>
                    <a:lnTo>
                      <a:pt x="833" y="20"/>
                    </a:lnTo>
                    <a:lnTo>
                      <a:pt x="829" y="25"/>
                    </a:lnTo>
                    <a:lnTo>
                      <a:pt x="823" y="35"/>
                    </a:lnTo>
                    <a:lnTo>
                      <a:pt x="817" y="44"/>
                    </a:lnTo>
                    <a:lnTo>
                      <a:pt x="810" y="54"/>
                    </a:lnTo>
                    <a:lnTo>
                      <a:pt x="802" y="66"/>
                    </a:lnTo>
                    <a:lnTo>
                      <a:pt x="792" y="79"/>
                    </a:lnTo>
                    <a:lnTo>
                      <a:pt x="781" y="92"/>
                    </a:lnTo>
                    <a:lnTo>
                      <a:pt x="769" y="106"/>
                    </a:lnTo>
                    <a:lnTo>
                      <a:pt x="758" y="121"/>
                    </a:lnTo>
                    <a:lnTo>
                      <a:pt x="744" y="139"/>
                    </a:lnTo>
                    <a:lnTo>
                      <a:pt x="731" y="156"/>
                    </a:lnTo>
                    <a:lnTo>
                      <a:pt x="715" y="173"/>
                    </a:lnTo>
                    <a:lnTo>
                      <a:pt x="698" y="192"/>
                    </a:lnTo>
                    <a:lnTo>
                      <a:pt x="681" y="211"/>
                    </a:lnTo>
                    <a:lnTo>
                      <a:pt x="662" y="231"/>
                    </a:lnTo>
                    <a:lnTo>
                      <a:pt x="643" y="252"/>
                    </a:lnTo>
                    <a:lnTo>
                      <a:pt x="623" y="273"/>
                    </a:lnTo>
                    <a:lnTo>
                      <a:pt x="604" y="294"/>
                    </a:lnTo>
                    <a:lnTo>
                      <a:pt x="583" y="317"/>
                    </a:lnTo>
                    <a:lnTo>
                      <a:pt x="562" y="340"/>
                    </a:lnTo>
                    <a:lnTo>
                      <a:pt x="541" y="363"/>
                    </a:lnTo>
                    <a:lnTo>
                      <a:pt x="518" y="386"/>
                    </a:lnTo>
                    <a:lnTo>
                      <a:pt x="497" y="411"/>
                    </a:lnTo>
                    <a:lnTo>
                      <a:pt x="474" y="436"/>
                    </a:lnTo>
                    <a:lnTo>
                      <a:pt x="449" y="461"/>
                    </a:lnTo>
                    <a:lnTo>
                      <a:pt x="426" y="486"/>
                    </a:lnTo>
                    <a:lnTo>
                      <a:pt x="401" y="513"/>
                    </a:lnTo>
                    <a:lnTo>
                      <a:pt x="374" y="540"/>
                    </a:lnTo>
                    <a:lnTo>
                      <a:pt x="349" y="565"/>
                    </a:lnTo>
                    <a:lnTo>
                      <a:pt x="326" y="590"/>
                    </a:lnTo>
                    <a:lnTo>
                      <a:pt x="303" y="611"/>
                    </a:lnTo>
                    <a:lnTo>
                      <a:pt x="282" y="632"/>
                    </a:lnTo>
                    <a:lnTo>
                      <a:pt x="263" y="651"/>
                    </a:lnTo>
                    <a:lnTo>
                      <a:pt x="243" y="670"/>
                    </a:lnTo>
                    <a:lnTo>
                      <a:pt x="228" y="685"/>
                    </a:lnTo>
                    <a:lnTo>
                      <a:pt x="211" y="699"/>
                    </a:lnTo>
                    <a:lnTo>
                      <a:pt x="197" y="712"/>
                    </a:lnTo>
                    <a:lnTo>
                      <a:pt x="186" y="724"/>
                    </a:lnTo>
                    <a:lnTo>
                      <a:pt x="174" y="733"/>
                    </a:lnTo>
                    <a:lnTo>
                      <a:pt x="165" y="741"/>
                    </a:lnTo>
                    <a:lnTo>
                      <a:pt x="157" y="747"/>
                    </a:lnTo>
                    <a:lnTo>
                      <a:pt x="151" y="751"/>
                    </a:lnTo>
                    <a:lnTo>
                      <a:pt x="147" y="753"/>
                    </a:lnTo>
                    <a:lnTo>
                      <a:pt x="144" y="755"/>
                    </a:lnTo>
                    <a:lnTo>
                      <a:pt x="142" y="756"/>
                    </a:lnTo>
                    <a:lnTo>
                      <a:pt x="138" y="756"/>
                    </a:lnTo>
                    <a:lnTo>
                      <a:pt x="132" y="756"/>
                    </a:lnTo>
                    <a:lnTo>
                      <a:pt x="128" y="756"/>
                    </a:lnTo>
                    <a:lnTo>
                      <a:pt x="124" y="756"/>
                    </a:lnTo>
                    <a:lnTo>
                      <a:pt x="121" y="755"/>
                    </a:lnTo>
                    <a:lnTo>
                      <a:pt x="115" y="753"/>
                    </a:lnTo>
                    <a:lnTo>
                      <a:pt x="111" y="749"/>
                    </a:lnTo>
                    <a:lnTo>
                      <a:pt x="105" y="745"/>
                    </a:lnTo>
                    <a:lnTo>
                      <a:pt x="101" y="741"/>
                    </a:lnTo>
                    <a:lnTo>
                      <a:pt x="92" y="733"/>
                    </a:lnTo>
                    <a:lnTo>
                      <a:pt x="80" y="722"/>
                    </a:lnTo>
                    <a:lnTo>
                      <a:pt x="71" y="710"/>
                    </a:lnTo>
                    <a:lnTo>
                      <a:pt x="57" y="699"/>
                    </a:lnTo>
                    <a:lnTo>
                      <a:pt x="46" y="689"/>
                    </a:lnTo>
                    <a:lnTo>
                      <a:pt x="36" y="678"/>
                    </a:lnTo>
                    <a:lnTo>
                      <a:pt x="28" y="668"/>
                    </a:lnTo>
                    <a:lnTo>
                      <a:pt x="21" y="659"/>
                    </a:lnTo>
                    <a:lnTo>
                      <a:pt x="15" y="647"/>
                    </a:lnTo>
                    <a:lnTo>
                      <a:pt x="9" y="637"/>
                    </a:lnTo>
                    <a:lnTo>
                      <a:pt x="5" y="626"/>
                    </a:lnTo>
                    <a:lnTo>
                      <a:pt x="4" y="613"/>
                    </a:lnTo>
                    <a:lnTo>
                      <a:pt x="2" y="603"/>
                    </a:lnTo>
                    <a:lnTo>
                      <a:pt x="0" y="593"/>
                    </a:lnTo>
                    <a:lnTo>
                      <a:pt x="0" y="584"/>
                    </a:lnTo>
                    <a:lnTo>
                      <a:pt x="0" y="578"/>
                    </a:lnTo>
                    <a:lnTo>
                      <a:pt x="2" y="570"/>
                    </a:lnTo>
                    <a:lnTo>
                      <a:pt x="4" y="565"/>
                    </a:lnTo>
                    <a:lnTo>
                      <a:pt x="5" y="561"/>
                    </a:lnTo>
                    <a:lnTo>
                      <a:pt x="9" y="557"/>
                    </a:lnTo>
                    <a:lnTo>
                      <a:pt x="13" y="555"/>
                    </a:lnTo>
                    <a:lnTo>
                      <a:pt x="17" y="553"/>
                    </a:lnTo>
                    <a:lnTo>
                      <a:pt x="23" y="553"/>
                    </a:lnTo>
                    <a:lnTo>
                      <a:pt x="28" y="553"/>
                    </a:lnTo>
                    <a:lnTo>
                      <a:pt x="34" y="555"/>
                    </a:lnTo>
                    <a:lnTo>
                      <a:pt x="42" y="557"/>
                    </a:lnTo>
                    <a:lnTo>
                      <a:pt x="51" y="561"/>
                    </a:lnTo>
                    <a:lnTo>
                      <a:pt x="59" y="565"/>
                    </a:lnTo>
                    <a:lnTo>
                      <a:pt x="67" y="566"/>
                    </a:lnTo>
                    <a:lnTo>
                      <a:pt x="73" y="568"/>
                    </a:lnTo>
                    <a:lnTo>
                      <a:pt x="80" y="568"/>
                    </a:lnTo>
                    <a:lnTo>
                      <a:pt x="86" y="568"/>
                    </a:lnTo>
                    <a:lnTo>
                      <a:pt x="94" y="566"/>
                    </a:lnTo>
                    <a:lnTo>
                      <a:pt x="101" y="565"/>
                    </a:lnTo>
                    <a:lnTo>
                      <a:pt x="107" y="561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3" name="Freeform 45"/>
          <p:cNvSpPr/>
          <p:nvPr/>
        </p:nvSpPr>
        <p:spPr>
          <a:xfrm>
            <a:off x="2530440" y="2948040"/>
            <a:ext cx="490680" cy="944640"/>
          </a:xfrm>
          <a:custGeom>
            <a:avLst/>
            <a:gdLst>
              <a:gd name="textAreaLeft" fmla="*/ 0 w 490680"/>
              <a:gd name="textAreaRight" fmla="*/ 491040 w 49068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618" h="1190">
                <a:moveTo>
                  <a:pt x="412" y="409"/>
                </a:moveTo>
                <a:lnTo>
                  <a:pt x="418" y="382"/>
                </a:lnTo>
                <a:lnTo>
                  <a:pt x="422" y="355"/>
                </a:lnTo>
                <a:lnTo>
                  <a:pt x="426" y="332"/>
                </a:lnTo>
                <a:lnTo>
                  <a:pt x="432" y="309"/>
                </a:lnTo>
                <a:lnTo>
                  <a:pt x="435" y="288"/>
                </a:lnTo>
                <a:lnTo>
                  <a:pt x="439" y="267"/>
                </a:lnTo>
                <a:lnTo>
                  <a:pt x="443" y="249"/>
                </a:lnTo>
                <a:lnTo>
                  <a:pt x="445" y="232"/>
                </a:lnTo>
                <a:lnTo>
                  <a:pt x="449" y="215"/>
                </a:lnTo>
                <a:lnTo>
                  <a:pt x="451" y="201"/>
                </a:lnTo>
                <a:lnTo>
                  <a:pt x="453" y="188"/>
                </a:lnTo>
                <a:lnTo>
                  <a:pt x="455" y="176"/>
                </a:lnTo>
                <a:lnTo>
                  <a:pt x="457" y="165"/>
                </a:lnTo>
                <a:lnTo>
                  <a:pt x="458" y="157"/>
                </a:lnTo>
                <a:lnTo>
                  <a:pt x="458" y="149"/>
                </a:lnTo>
                <a:lnTo>
                  <a:pt x="458" y="142"/>
                </a:lnTo>
                <a:lnTo>
                  <a:pt x="455" y="130"/>
                </a:lnTo>
                <a:lnTo>
                  <a:pt x="451" y="119"/>
                </a:lnTo>
                <a:lnTo>
                  <a:pt x="447" y="109"/>
                </a:lnTo>
                <a:lnTo>
                  <a:pt x="443" y="100"/>
                </a:lnTo>
                <a:lnTo>
                  <a:pt x="439" y="90"/>
                </a:lnTo>
                <a:lnTo>
                  <a:pt x="433" y="78"/>
                </a:lnTo>
                <a:lnTo>
                  <a:pt x="428" y="69"/>
                </a:lnTo>
                <a:lnTo>
                  <a:pt x="422" y="57"/>
                </a:lnTo>
                <a:lnTo>
                  <a:pt x="416" y="48"/>
                </a:lnTo>
                <a:lnTo>
                  <a:pt x="410" y="40"/>
                </a:lnTo>
                <a:lnTo>
                  <a:pt x="409" y="32"/>
                </a:lnTo>
                <a:lnTo>
                  <a:pt x="409" y="27"/>
                </a:lnTo>
                <a:lnTo>
                  <a:pt x="409" y="19"/>
                </a:lnTo>
                <a:lnTo>
                  <a:pt x="410" y="13"/>
                </a:lnTo>
                <a:lnTo>
                  <a:pt x="416" y="7"/>
                </a:lnTo>
                <a:lnTo>
                  <a:pt x="422" y="4"/>
                </a:lnTo>
                <a:lnTo>
                  <a:pt x="424" y="2"/>
                </a:lnTo>
                <a:lnTo>
                  <a:pt x="426" y="0"/>
                </a:lnTo>
                <a:lnTo>
                  <a:pt x="432" y="0"/>
                </a:lnTo>
                <a:lnTo>
                  <a:pt x="439" y="0"/>
                </a:lnTo>
                <a:lnTo>
                  <a:pt x="449" y="0"/>
                </a:lnTo>
                <a:lnTo>
                  <a:pt x="460" y="4"/>
                </a:lnTo>
                <a:lnTo>
                  <a:pt x="474" y="6"/>
                </a:lnTo>
                <a:lnTo>
                  <a:pt x="489" y="9"/>
                </a:lnTo>
                <a:lnTo>
                  <a:pt x="505" y="15"/>
                </a:lnTo>
                <a:lnTo>
                  <a:pt x="518" y="23"/>
                </a:lnTo>
                <a:lnTo>
                  <a:pt x="531" y="31"/>
                </a:lnTo>
                <a:lnTo>
                  <a:pt x="543" y="38"/>
                </a:lnTo>
                <a:lnTo>
                  <a:pt x="554" y="46"/>
                </a:lnTo>
                <a:lnTo>
                  <a:pt x="564" y="54"/>
                </a:lnTo>
                <a:lnTo>
                  <a:pt x="574" y="61"/>
                </a:lnTo>
                <a:lnTo>
                  <a:pt x="581" y="71"/>
                </a:lnTo>
                <a:lnTo>
                  <a:pt x="589" y="78"/>
                </a:lnTo>
                <a:lnTo>
                  <a:pt x="597" y="86"/>
                </a:lnTo>
                <a:lnTo>
                  <a:pt x="600" y="94"/>
                </a:lnTo>
                <a:lnTo>
                  <a:pt x="606" y="103"/>
                </a:lnTo>
                <a:lnTo>
                  <a:pt x="610" y="111"/>
                </a:lnTo>
                <a:lnTo>
                  <a:pt x="614" y="121"/>
                </a:lnTo>
                <a:lnTo>
                  <a:pt x="616" y="130"/>
                </a:lnTo>
                <a:lnTo>
                  <a:pt x="618" y="142"/>
                </a:lnTo>
                <a:lnTo>
                  <a:pt x="618" y="153"/>
                </a:lnTo>
                <a:lnTo>
                  <a:pt x="616" y="159"/>
                </a:lnTo>
                <a:lnTo>
                  <a:pt x="614" y="167"/>
                </a:lnTo>
                <a:lnTo>
                  <a:pt x="612" y="176"/>
                </a:lnTo>
                <a:lnTo>
                  <a:pt x="608" y="188"/>
                </a:lnTo>
                <a:lnTo>
                  <a:pt x="606" y="201"/>
                </a:lnTo>
                <a:lnTo>
                  <a:pt x="602" y="215"/>
                </a:lnTo>
                <a:lnTo>
                  <a:pt x="600" y="230"/>
                </a:lnTo>
                <a:lnTo>
                  <a:pt x="597" y="245"/>
                </a:lnTo>
                <a:lnTo>
                  <a:pt x="593" y="263"/>
                </a:lnTo>
                <a:lnTo>
                  <a:pt x="589" y="282"/>
                </a:lnTo>
                <a:lnTo>
                  <a:pt x="585" y="303"/>
                </a:lnTo>
                <a:lnTo>
                  <a:pt x="579" y="324"/>
                </a:lnTo>
                <a:lnTo>
                  <a:pt x="576" y="345"/>
                </a:lnTo>
                <a:lnTo>
                  <a:pt x="572" y="368"/>
                </a:lnTo>
                <a:lnTo>
                  <a:pt x="566" y="393"/>
                </a:lnTo>
                <a:lnTo>
                  <a:pt x="562" y="420"/>
                </a:lnTo>
                <a:lnTo>
                  <a:pt x="554" y="447"/>
                </a:lnTo>
                <a:lnTo>
                  <a:pt x="547" y="474"/>
                </a:lnTo>
                <a:lnTo>
                  <a:pt x="539" y="503"/>
                </a:lnTo>
                <a:lnTo>
                  <a:pt x="529" y="529"/>
                </a:lnTo>
                <a:lnTo>
                  <a:pt x="520" y="556"/>
                </a:lnTo>
                <a:lnTo>
                  <a:pt x="510" y="583"/>
                </a:lnTo>
                <a:lnTo>
                  <a:pt x="501" y="610"/>
                </a:lnTo>
                <a:lnTo>
                  <a:pt x="489" y="637"/>
                </a:lnTo>
                <a:lnTo>
                  <a:pt x="480" y="662"/>
                </a:lnTo>
                <a:lnTo>
                  <a:pt x="466" y="689"/>
                </a:lnTo>
                <a:lnTo>
                  <a:pt x="455" y="716"/>
                </a:lnTo>
                <a:lnTo>
                  <a:pt x="441" y="741"/>
                </a:lnTo>
                <a:lnTo>
                  <a:pt x="428" y="767"/>
                </a:lnTo>
                <a:lnTo>
                  <a:pt x="414" y="794"/>
                </a:lnTo>
                <a:lnTo>
                  <a:pt x="399" y="819"/>
                </a:lnTo>
                <a:lnTo>
                  <a:pt x="384" y="846"/>
                </a:lnTo>
                <a:lnTo>
                  <a:pt x="368" y="871"/>
                </a:lnTo>
                <a:lnTo>
                  <a:pt x="353" y="896"/>
                </a:lnTo>
                <a:lnTo>
                  <a:pt x="338" y="919"/>
                </a:lnTo>
                <a:lnTo>
                  <a:pt x="322" y="940"/>
                </a:lnTo>
                <a:lnTo>
                  <a:pt x="309" y="961"/>
                </a:lnTo>
                <a:lnTo>
                  <a:pt x="293" y="980"/>
                </a:lnTo>
                <a:lnTo>
                  <a:pt x="278" y="1000"/>
                </a:lnTo>
                <a:lnTo>
                  <a:pt x="263" y="1017"/>
                </a:lnTo>
                <a:lnTo>
                  <a:pt x="247" y="1032"/>
                </a:lnTo>
                <a:lnTo>
                  <a:pt x="234" y="1048"/>
                </a:lnTo>
                <a:lnTo>
                  <a:pt x="219" y="1063"/>
                </a:lnTo>
                <a:lnTo>
                  <a:pt x="203" y="1076"/>
                </a:lnTo>
                <a:lnTo>
                  <a:pt x="188" y="1090"/>
                </a:lnTo>
                <a:lnTo>
                  <a:pt x="173" y="1101"/>
                </a:lnTo>
                <a:lnTo>
                  <a:pt x="157" y="1113"/>
                </a:lnTo>
                <a:lnTo>
                  <a:pt x="142" y="1122"/>
                </a:lnTo>
                <a:lnTo>
                  <a:pt x="126" y="1132"/>
                </a:lnTo>
                <a:lnTo>
                  <a:pt x="113" y="1142"/>
                </a:lnTo>
                <a:lnTo>
                  <a:pt x="100" y="1149"/>
                </a:lnTo>
                <a:lnTo>
                  <a:pt x="86" y="1157"/>
                </a:lnTo>
                <a:lnTo>
                  <a:pt x="75" y="1165"/>
                </a:lnTo>
                <a:lnTo>
                  <a:pt x="63" y="1170"/>
                </a:lnTo>
                <a:lnTo>
                  <a:pt x="54" y="1174"/>
                </a:lnTo>
                <a:lnTo>
                  <a:pt x="44" y="1180"/>
                </a:lnTo>
                <a:lnTo>
                  <a:pt x="36" y="1182"/>
                </a:lnTo>
                <a:lnTo>
                  <a:pt x="29" y="1186"/>
                </a:lnTo>
                <a:lnTo>
                  <a:pt x="21" y="1188"/>
                </a:lnTo>
                <a:lnTo>
                  <a:pt x="15" y="1190"/>
                </a:lnTo>
                <a:lnTo>
                  <a:pt x="11" y="1190"/>
                </a:lnTo>
                <a:lnTo>
                  <a:pt x="7" y="1190"/>
                </a:lnTo>
                <a:lnTo>
                  <a:pt x="4" y="1188"/>
                </a:lnTo>
                <a:lnTo>
                  <a:pt x="2" y="1188"/>
                </a:lnTo>
                <a:lnTo>
                  <a:pt x="0" y="1184"/>
                </a:lnTo>
                <a:lnTo>
                  <a:pt x="0" y="1182"/>
                </a:lnTo>
                <a:lnTo>
                  <a:pt x="0" y="1178"/>
                </a:lnTo>
                <a:lnTo>
                  <a:pt x="2" y="1172"/>
                </a:lnTo>
                <a:lnTo>
                  <a:pt x="4" y="1169"/>
                </a:lnTo>
                <a:lnTo>
                  <a:pt x="7" y="1163"/>
                </a:lnTo>
                <a:lnTo>
                  <a:pt x="11" y="1155"/>
                </a:lnTo>
                <a:lnTo>
                  <a:pt x="17" y="1149"/>
                </a:lnTo>
                <a:lnTo>
                  <a:pt x="21" y="1140"/>
                </a:lnTo>
                <a:lnTo>
                  <a:pt x="29" y="1132"/>
                </a:lnTo>
                <a:lnTo>
                  <a:pt x="36" y="1122"/>
                </a:lnTo>
                <a:lnTo>
                  <a:pt x="44" y="1113"/>
                </a:lnTo>
                <a:lnTo>
                  <a:pt x="54" y="1103"/>
                </a:lnTo>
                <a:lnTo>
                  <a:pt x="63" y="1094"/>
                </a:lnTo>
                <a:lnTo>
                  <a:pt x="75" y="1082"/>
                </a:lnTo>
                <a:lnTo>
                  <a:pt x="86" y="1071"/>
                </a:lnTo>
                <a:lnTo>
                  <a:pt x="98" y="1059"/>
                </a:lnTo>
                <a:lnTo>
                  <a:pt x="109" y="1048"/>
                </a:lnTo>
                <a:lnTo>
                  <a:pt x="123" y="1036"/>
                </a:lnTo>
                <a:lnTo>
                  <a:pt x="134" y="1023"/>
                </a:lnTo>
                <a:lnTo>
                  <a:pt x="148" y="1007"/>
                </a:lnTo>
                <a:lnTo>
                  <a:pt x="159" y="992"/>
                </a:lnTo>
                <a:lnTo>
                  <a:pt x="173" y="977"/>
                </a:lnTo>
                <a:lnTo>
                  <a:pt x="184" y="961"/>
                </a:lnTo>
                <a:lnTo>
                  <a:pt x="196" y="944"/>
                </a:lnTo>
                <a:lnTo>
                  <a:pt x="209" y="925"/>
                </a:lnTo>
                <a:lnTo>
                  <a:pt x="220" y="906"/>
                </a:lnTo>
                <a:lnTo>
                  <a:pt x="234" y="886"/>
                </a:lnTo>
                <a:lnTo>
                  <a:pt x="245" y="867"/>
                </a:lnTo>
                <a:lnTo>
                  <a:pt x="257" y="846"/>
                </a:lnTo>
                <a:lnTo>
                  <a:pt x="270" y="825"/>
                </a:lnTo>
                <a:lnTo>
                  <a:pt x="282" y="804"/>
                </a:lnTo>
                <a:lnTo>
                  <a:pt x="293" y="781"/>
                </a:lnTo>
                <a:lnTo>
                  <a:pt x="305" y="758"/>
                </a:lnTo>
                <a:lnTo>
                  <a:pt x="315" y="735"/>
                </a:lnTo>
                <a:lnTo>
                  <a:pt x="326" y="712"/>
                </a:lnTo>
                <a:lnTo>
                  <a:pt x="336" y="687"/>
                </a:lnTo>
                <a:lnTo>
                  <a:pt x="343" y="664"/>
                </a:lnTo>
                <a:lnTo>
                  <a:pt x="361" y="614"/>
                </a:lnTo>
                <a:lnTo>
                  <a:pt x="376" y="564"/>
                </a:lnTo>
                <a:lnTo>
                  <a:pt x="389" y="512"/>
                </a:lnTo>
                <a:lnTo>
                  <a:pt x="401" y="460"/>
                </a:lnTo>
                <a:lnTo>
                  <a:pt x="412" y="40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Freeform 46"/>
          <p:cNvSpPr/>
          <p:nvPr/>
        </p:nvSpPr>
        <p:spPr>
          <a:xfrm>
            <a:off x="2922480" y="2465280"/>
            <a:ext cx="884520" cy="1344600"/>
          </a:xfrm>
          <a:custGeom>
            <a:avLst/>
            <a:gdLst>
              <a:gd name="textAreaLeft" fmla="*/ 0 w 884520"/>
              <a:gd name="textAreaRight" fmla="*/ 884880 w 88452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1113" h="1693">
                <a:moveTo>
                  <a:pt x="367" y="505"/>
                </a:moveTo>
                <a:lnTo>
                  <a:pt x="384" y="542"/>
                </a:lnTo>
                <a:lnTo>
                  <a:pt x="401" y="576"/>
                </a:lnTo>
                <a:lnTo>
                  <a:pt x="418" y="613"/>
                </a:lnTo>
                <a:lnTo>
                  <a:pt x="434" y="647"/>
                </a:lnTo>
                <a:lnTo>
                  <a:pt x="468" y="714"/>
                </a:lnTo>
                <a:lnTo>
                  <a:pt x="499" y="780"/>
                </a:lnTo>
                <a:lnTo>
                  <a:pt x="532" y="843"/>
                </a:lnTo>
                <a:lnTo>
                  <a:pt x="560" y="906"/>
                </a:lnTo>
                <a:lnTo>
                  <a:pt x="591" y="968"/>
                </a:lnTo>
                <a:lnTo>
                  <a:pt x="618" y="1029"/>
                </a:lnTo>
                <a:lnTo>
                  <a:pt x="631" y="1058"/>
                </a:lnTo>
                <a:lnTo>
                  <a:pt x="645" y="1087"/>
                </a:lnTo>
                <a:lnTo>
                  <a:pt x="658" y="1114"/>
                </a:lnTo>
                <a:lnTo>
                  <a:pt x="672" y="1138"/>
                </a:lnTo>
                <a:lnTo>
                  <a:pt x="685" y="1163"/>
                </a:lnTo>
                <a:lnTo>
                  <a:pt x="699" y="1186"/>
                </a:lnTo>
                <a:lnTo>
                  <a:pt x="712" y="1209"/>
                </a:lnTo>
                <a:lnTo>
                  <a:pt x="723" y="1231"/>
                </a:lnTo>
                <a:lnTo>
                  <a:pt x="737" y="1252"/>
                </a:lnTo>
                <a:lnTo>
                  <a:pt x="750" y="1271"/>
                </a:lnTo>
                <a:lnTo>
                  <a:pt x="762" y="1290"/>
                </a:lnTo>
                <a:lnTo>
                  <a:pt x="775" y="1307"/>
                </a:lnTo>
                <a:lnTo>
                  <a:pt x="787" y="1325"/>
                </a:lnTo>
                <a:lnTo>
                  <a:pt x="798" y="1340"/>
                </a:lnTo>
                <a:lnTo>
                  <a:pt x="812" y="1355"/>
                </a:lnTo>
                <a:lnTo>
                  <a:pt x="823" y="1369"/>
                </a:lnTo>
                <a:lnTo>
                  <a:pt x="835" y="1384"/>
                </a:lnTo>
                <a:lnTo>
                  <a:pt x="848" y="1398"/>
                </a:lnTo>
                <a:lnTo>
                  <a:pt x="871" y="1422"/>
                </a:lnTo>
                <a:lnTo>
                  <a:pt x="894" y="1446"/>
                </a:lnTo>
                <a:lnTo>
                  <a:pt x="917" y="1469"/>
                </a:lnTo>
                <a:lnTo>
                  <a:pt x="940" y="1490"/>
                </a:lnTo>
                <a:lnTo>
                  <a:pt x="963" y="1511"/>
                </a:lnTo>
                <a:lnTo>
                  <a:pt x="986" y="1530"/>
                </a:lnTo>
                <a:lnTo>
                  <a:pt x="1009" y="1551"/>
                </a:lnTo>
                <a:lnTo>
                  <a:pt x="1021" y="1561"/>
                </a:lnTo>
                <a:lnTo>
                  <a:pt x="1032" y="1570"/>
                </a:lnTo>
                <a:lnTo>
                  <a:pt x="1042" y="1580"/>
                </a:lnTo>
                <a:lnTo>
                  <a:pt x="1052" y="1589"/>
                </a:lnTo>
                <a:lnTo>
                  <a:pt x="1061" y="1597"/>
                </a:lnTo>
                <a:lnTo>
                  <a:pt x="1069" y="1607"/>
                </a:lnTo>
                <a:lnTo>
                  <a:pt x="1075" y="1614"/>
                </a:lnTo>
                <a:lnTo>
                  <a:pt x="1082" y="1622"/>
                </a:lnTo>
                <a:lnTo>
                  <a:pt x="1088" y="1628"/>
                </a:lnTo>
                <a:lnTo>
                  <a:pt x="1094" y="1636"/>
                </a:lnTo>
                <a:lnTo>
                  <a:pt x="1098" y="1641"/>
                </a:lnTo>
                <a:lnTo>
                  <a:pt x="1102" y="1649"/>
                </a:lnTo>
                <a:lnTo>
                  <a:pt x="1105" y="1655"/>
                </a:lnTo>
                <a:lnTo>
                  <a:pt x="1107" y="1659"/>
                </a:lnTo>
                <a:lnTo>
                  <a:pt x="1111" y="1664"/>
                </a:lnTo>
                <a:lnTo>
                  <a:pt x="1113" y="1668"/>
                </a:lnTo>
                <a:lnTo>
                  <a:pt x="1111" y="1672"/>
                </a:lnTo>
                <a:lnTo>
                  <a:pt x="1109" y="1676"/>
                </a:lnTo>
                <a:lnTo>
                  <a:pt x="1107" y="1680"/>
                </a:lnTo>
                <a:lnTo>
                  <a:pt x="1102" y="1682"/>
                </a:lnTo>
                <a:lnTo>
                  <a:pt x="1096" y="1685"/>
                </a:lnTo>
                <a:lnTo>
                  <a:pt x="1090" y="1687"/>
                </a:lnTo>
                <a:lnTo>
                  <a:pt x="1080" y="1689"/>
                </a:lnTo>
                <a:lnTo>
                  <a:pt x="1071" y="1691"/>
                </a:lnTo>
                <a:lnTo>
                  <a:pt x="1061" y="1691"/>
                </a:lnTo>
                <a:lnTo>
                  <a:pt x="1050" y="1693"/>
                </a:lnTo>
                <a:lnTo>
                  <a:pt x="1036" y="1693"/>
                </a:lnTo>
                <a:lnTo>
                  <a:pt x="1023" y="1693"/>
                </a:lnTo>
                <a:lnTo>
                  <a:pt x="1008" y="1693"/>
                </a:lnTo>
                <a:lnTo>
                  <a:pt x="990" y="1693"/>
                </a:lnTo>
                <a:lnTo>
                  <a:pt x="973" y="1691"/>
                </a:lnTo>
                <a:lnTo>
                  <a:pt x="954" y="1689"/>
                </a:lnTo>
                <a:lnTo>
                  <a:pt x="933" y="1687"/>
                </a:lnTo>
                <a:lnTo>
                  <a:pt x="913" y="1685"/>
                </a:lnTo>
                <a:lnTo>
                  <a:pt x="896" y="1683"/>
                </a:lnTo>
                <a:lnTo>
                  <a:pt x="879" y="1682"/>
                </a:lnTo>
                <a:lnTo>
                  <a:pt x="862" y="1680"/>
                </a:lnTo>
                <a:lnTo>
                  <a:pt x="848" y="1678"/>
                </a:lnTo>
                <a:lnTo>
                  <a:pt x="833" y="1676"/>
                </a:lnTo>
                <a:lnTo>
                  <a:pt x="819" y="1674"/>
                </a:lnTo>
                <a:lnTo>
                  <a:pt x="808" y="1672"/>
                </a:lnTo>
                <a:lnTo>
                  <a:pt x="796" y="1670"/>
                </a:lnTo>
                <a:lnTo>
                  <a:pt x="787" y="1668"/>
                </a:lnTo>
                <a:lnTo>
                  <a:pt x="777" y="1666"/>
                </a:lnTo>
                <a:lnTo>
                  <a:pt x="770" y="1664"/>
                </a:lnTo>
                <a:lnTo>
                  <a:pt x="762" y="1660"/>
                </a:lnTo>
                <a:lnTo>
                  <a:pt x="754" y="1659"/>
                </a:lnTo>
                <a:lnTo>
                  <a:pt x="748" y="1657"/>
                </a:lnTo>
                <a:lnTo>
                  <a:pt x="745" y="1655"/>
                </a:lnTo>
                <a:lnTo>
                  <a:pt x="739" y="1653"/>
                </a:lnTo>
                <a:lnTo>
                  <a:pt x="729" y="1645"/>
                </a:lnTo>
                <a:lnTo>
                  <a:pt x="722" y="1637"/>
                </a:lnTo>
                <a:lnTo>
                  <a:pt x="712" y="1626"/>
                </a:lnTo>
                <a:lnTo>
                  <a:pt x="704" y="1614"/>
                </a:lnTo>
                <a:lnTo>
                  <a:pt x="699" y="1601"/>
                </a:lnTo>
                <a:lnTo>
                  <a:pt x="691" y="1588"/>
                </a:lnTo>
                <a:lnTo>
                  <a:pt x="683" y="1572"/>
                </a:lnTo>
                <a:lnTo>
                  <a:pt x="681" y="1568"/>
                </a:lnTo>
                <a:lnTo>
                  <a:pt x="679" y="1563"/>
                </a:lnTo>
                <a:lnTo>
                  <a:pt x="677" y="1555"/>
                </a:lnTo>
                <a:lnTo>
                  <a:pt x="674" y="1547"/>
                </a:lnTo>
                <a:lnTo>
                  <a:pt x="670" y="1540"/>
                </a:lnTo>
                <a:lnTo>
                  <a:pt x="666" y="1530"/>
                </a:lnTo>
                <a:lnTo>
                  <a:pt x="662" y="1520"/>
                </a:lnTo>
                <a:lnTo>
                  <a:pt x="658" y="1509"/>
                </a:lnTo>
                <a:lnTo>
                  <a:pt x="652" y="1495"/>
                </a:lnTo>
                <a:lnTo>
                  <a:pt x="647" y="1482"/>
                </a:lnTo>
                <a:lnTo>
                  <a:pt x="641" y="1469"/>
                </a:lnTo>
                <a:lnTo>
                  <a:pt x="635" y="1453"/>
                </a:lnTo>
                <a:lnTo>
                  <a:pt x="629" y="1436"/>
                </a:lnTo>
                <a:lnTo>
                  <a:pt x="622" y="1419"/>
                </a:lnTo>
                <a:lnTo>
                  <a:pt x="614" y="1401"/>
                </a:lnTo>
                <a:lnTo>
                  <a:pt x="606" y="1382"/>
                </a:lnTo>
                <a:lnTo>
                  <a:pt x="599" y="1361"/>
                </a:lnTo>
                <a:lnTo>
                  <a:pt x="591" y="1340"/>
                </a:lnTo>
                <a:lnTo>
                  <a:pt x="581" y="1319"/>
                </a:lnTo>
                <a:lnTo>
                  <a:pt x="574" y="1296"/>
                </a:lnTo>
                <a:lnTo>
                  <a:pt x="564" y="1271"/>
                </a:lnTo>
                <a:lnTo>
                  <a:pt x="555" y="1246"/>
                </a:lnTo>
                <a:lnTo>
                  <a:pt x="545" y="1219"/>
                </a:lnTo>
                <a:lnTo>
                  <a:pt x="535" y="1192"/>
                </a:lnTo>
                <a:lnTo>
                  <a:pt x="524" y="1165"/>
                </a:lnTo>
                <a:lnTo>
                  <a:pt x="512" y="1137"/>
                </a:lnTo>
                <a:lnTo>
                  <a:pt x="501" y="1106"/>
                </a:lnTo>
                <a:lnTo>
                  <a:pt x="489" y="1075"/>
                </a:lnTo>
                <a:lnTo>
                  <a:pt x="478" y="1044"/>
                </a:lnTo>
                <a:lnTo>
                  <a:pt x="466" y="1012"/>
                </a:lnTo>
                <a:lnTo>
                  <a:pt x="455" y="977"/>
                </a:lnTo>
                <a:lnTo>
                  <a:pt x="441" y="943"/>
                </a:lnTo>
                <a:lnTo>
                  <a:pt x="428" y="908"/>
                </a:lnTo>
                <a:lnTo>
                  <a:pt x="415" y="876"/>
                </a:lnTo>
                <a:lnTo>
                  <a:pt x="401" y="841"/>
                </a:lnTo>
                <a:lnTo>
                  <a:pt x="388" y="810"/>
                </a:lnTo>
                <a:lnTo>
                  <a:pt x="376" y="778"/>
                </a:lnTo>
                <a:lnTo>
                  <a:pt x="365" y="749"/>
                </a:lnTo>
                <a:lnTo>
                  <a:pt x="353" y="718"/>
                </a:lnTo>
                <a:lnTo>
                  <a:pt x="342" y="691"/>
                </a:lnTo>
                <a:lnTo>
                  <a:pt x="330" y="663"/>
                </a:lnTo>
                <a:lnTo>
                  <a:pt x="319" y="636"/>
                </a:lnTo>
                <a:lnTo>
                  <a:pt x="309" y="611"/>
                </a:lnTo>
                <a:lnTo>
                  <a:pt x="297" y="584"/>
                </a:lnTo>
                <a:lnTo>
                  <a:pt x="288" y="561"/>
                </a:lnTo>
                <a:lnTo>
                  <a:pt x="278" y="536"/>
                </a:lnTo>
                <a:lnTo>
                  <a:pt x="269" y="515"/>
                </a:lnTo>
                <a:lnTo>
                  <a:pt x="261" y="492"/>
                </a:lnTo>
                <a:lnTo>
                  <a:pt x="251" y="471"/>
                </a:lnTo>
                <a:lnTo>
                  <a:pt x="244" y="451"/>
                </a:lnTo>
                <a:lnTo>
                  <a:pt x="236" y="432"/>
                </a:lnTo>
                <a:lnTo>
                  <a:pt x="228" y="413"/>
                </a:lnTo>
                <a:lnTo>
                  <a:pt x="221" y="396"/>
                </a:lnTo>
                <a:lnTo>
                  <a:pt x="213" y="379"/>
                </a:lnTo>
                <a:lnTo>
                  <a:pt x="207" y="361"/>
                </a:lnTo>
                <a:lnTo>
                  <a:pt x="200" y="346"/>
                </a:lnTo>
                <a:lnTo>
                  <a:pt x="194" y="332"/>
                </a:lnTo>
                <a:lnTo>
                  <a:pt x="188" y="317"/>
                </a:lnTo>
                <a:lnTo>
                  <a:pt x="182" y="304"/>
                </a:lnTo>
                <a:lnTo>
                  <a:pt x="178" y="292"/>
                </a:lnTo>
                <a:lnTo>
                  <a:pt x="173" y="281"/>
                </a:lnTo>
                <a:lnTo>
                  <a:pt x="169" y="269"/>
                </a:lnTo>
                <a:lnTo>
                  <a:pt x="165" y="260"/>
                </a:lnTo>
                <a:lnTo>
                  <a:pt x="161" y="250"/>
                </a:lnTo>
                <a:lnTo>
                  <a:pt x="155" y="233"/>
                </a:lnTo>
                <a:lnTo>
                  <a:pt x="148" y="215"/>
                </a:lnTo>
                <a:lnTo>
                  <a:pt x="140" y="200"/>
                </a:lnTo>
                <a:lnTo>
                  <a:pt x="134" y="187"/>
                </a:lnTo>
                <a:lnTo>
                  <a:pt x="127" y="171"/>
                </a:lnTo>
                <a:lnTo>
                  <a:pt x="121" y="160"/>
                </a:lnTo>
                <a:lnTo>
                  <a:pt x="113" y="148"/>
                </a:lnTo>
                <a:lnTo>
                  <a:pt x="107" y="137"/>
                </a:lnTo>
                <a:lnTo>
                  <a:pt x="100" y="127"/>
                </a:lnTo>
                <a:lnTo>
                  <a:pt x="94" y="118"/>
                </a:lnTo>
                <a:lnTo>
                  <a:pt x="88" y="110"/>
                </a:lnTo>
                <a:lnTo>
                  <a:pt x="81" y="102"/>
                </a:lnTo>
                <a:lnTo>
                  <a:pt x="75" y="94"/>
                </a:lnTo>
                <a:lnTo>
                  <a:pt x="69" y="89"/>
                </a:lnTo>
                <a:lnTo>
                  <a:pt x="65" y="83"/>
                </a:lnTo>
                <a:lnTo>
                  <a:pt x="59" y="79"/>
                </a:lnTo>
                <a:lnTo>
                  <a:pt x="50" y="75"/>
                </a:lnTo>
                <a:lnTo>
                  <a:pt x="40" y="70"/>
                </a:lnTo>
                <a:lnTo>
                  <a:pt x="31" y="64"/>
                </a:lnTo>
                <a:lnTo>
                  <a:pt x="23" y="58"/>
                </a:lnTo>
                <a:lnTo>
                  <a:pt x="17" y="52"/>
                </a:lnTo>
                <a:lnTo>
                  <a:pt x="12" y="47"/>
                </a:lnTo>
                <a:lnTo>
                  <a:pt x="8" y="41"/>
                </a:lnTo>
                <a:lnTo>
                  <a:pt x="4" y="37"/>
                </a:lnTo>
                <a:lnTo>
                  <a:pt x="2" y="35"/>
                </a:lnTo>
                <a:lnTo>
                  <a:pt x="0" y="33"/>
                </a:lnTo>
                <a:lnTo>
                  <a:pt x="0" y="31"/>
                </a:lnTo>
                <a:lnTo>
                  <a:pt x="2" y="29"/>
                </a:lnTo>
                <a:lnTo>
                  <a:pt x="2" y="27"/>
                </a:lnTo>
                <a:lnTo>
                  <a:pt x="4" y="25"/>
                </a:lnTo>
                <a:lnTo>
                  <a:pt x="6" y="23"/>
                </a:lnTo>
                <a:lnTo>
                  <a:pt x="8" y="22"/>
                </a:lnTo>
                <a:lnTo>
                  <a:pt x="13" y="18"/>
                </a:lnTo>
                <a:lnTo>
                  <a:pt x="21" y="12"/>
                </a:lnTo>
                <a:lnTo>
                  <a:pt x="31" y="8"/>
                </a:lnTo>
                <a:lnTo>
                  <a:pt x="40" y="4"/>
                </a:lnTo>
                <a:lnTo>
                  <a:pt x="46" y="2"/>
                </a:lnTo>
                <a:lnTo>
                  <a:pt x="50" y="2"/>
                </a:lnTo>
                <a:lnTo>
                  <a:pt x="61" y="0"/>
                </a:lnTo>
                <a:lnTo>
                  <a:pt x="73" y="0"/>
                </a:lnTo>
                <a:lnTo>
                  <a:pt x="83" y="2"/>
                </a:lnTo>
                <a:lnTo>
                  <a:pt x="96" y="4"/>
                </a:lnTo>
                <a:lnTo>
                  <a:pt x="107" y="8"/>
                </a:lnTo>
                <a:lnTo>
                  <a:pt x="121" y="12"/>
                </a:lnTo>
                <a:lnTo>
                  <a:pt x="134" y="16"/>
                </a:lnTo>
                <a:lnTo>
                  <a:pt x="138" y="18"/>
                </a:lnTo>
                <a:lnTo>
                  <a:pt x="144" y="22"/>
                </a:lnTo>
                <a:lnTo>
                  <a:pt x="150" y="25"/>
                </a:lnTo>
                <a:lnTo>
                  <a:pt x="154" y="29"/>
                </a:lnTo>
                <a:lnTo>
                  <a:pt x="159" y="35"/>
                </a:lnTo>
                <a:lnTo>
                  <a:pt x="165" y="39"/>
                </a:lnTo>
                <a:lnTo>
                  <a:pt x="169" y="47"/>
                </a:lnTo>
                <a:lnTo>
                  <a:pt x="175" y="52"/>
                </a:lnTo>
                <a:lnTo>
                  <a:pt x="178" y="60"/>
                </a:lnTo>
                <a:lnTo>
                  <a:pt x="184" y="68"/>
                </a:lnTo>
                <a:lnTo>
                  <a:pt x="192" y="85"/>
                </a:lnTo>
                <a:lnTo>
                  <a:pt x="201" y="102"/>
                </a:lnTo>
                <a:lnTo>
                  <a:pt x="207" y="121"/>
                </a:lnTo>
                <a:lnTo>
                  <a:pt x="211" y="135"/>
                </a:lnTo>
                <a:lnTo>
                  <a:pt x="217" y="148"/>
                </a:lnTo>
                <a:lnTo>
                  <a:pt x="223" y="165"/>
                </a:lnTo>
                <a:lnTo>
                  <a:pt x="228" y="183"/>
                </a:lnTo>
                <a:lnTo>
                  <a:pt x="236" y="200"/>
                </a:lnTo>
                <a:lnTo>
                  <a:pt x="244" y="221"/>
                </a:lnTo>
                <a:lnTo>
                  <a:pt x="253" y="242"/>
                </a:lnTo>
                <a:lnTo>
                  <a:pt x="263" y="265"/>
                </a:lnTo>
                <a:lnTo>
                  <a:pt x="274" y="290"/>
                </a:lnTo>
                <a:lnTo>
                  <a:pt x="286" y="317"/>
                </a:lnTo>
                <a:lnTo>
                  <a:pt x="297" y="344"/>
                </a:lnTo>
                <a:lnTo>
                  <a:pt x="309" y="373"/>
                </a:lnTo>
                <a:lnTo>
                  <a:pt x="322" y="405"/>
                </a:lnTo>
                <a:lnTo>
                  <a:pt x="338" y="436"/>
                </a:lnTo>
                <a:lnTo>
                  <a:pt x="351" y="471"/>
                </a:lnTo>
                <a:lnTo>
                  <a:pt x="367" y="50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Freeform 47"/>
          <p:cNvSpPr/>
          <p:nvPr/>
        </p:nvSpPr>
        <p:spPr>
          <a:xfrm>
            <a:off x="2095560" y="2825640"/>
            <a:ext cx="608040" cy="201600"/>
          </a:xfrm>
          <a:custGeom>
            <a:avLst/>
            <a:gdLst>
              <a:gd name="textAreaLeft" fmla="*/ 0 w 608040"/>
              <a:gd name="textAreaRight" fmla="*/ 608400 w 6080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66" h="256">
                <a:moveTo>
                  <a:pt x="309" y="96"/>
                </a:moveTo>
                <a:lnTo>
                  <a:pt x="328" y="89"/>
                </a:lnTo>
                <a:lnTo>
                  <a:pt x="345" y="83"/>
                </a:lnTo>
                <a:lnTo>
                  <a:pt x="365" y="77"/>
                </a:lnTo>
                <a:lnTo>
                  <a:pt x="382" y="73"/>
                </a:lnTo>
                <a:lnTo>
                  <a:pt x="397" y="68"/>
                </a:lnTo>
                <a:lnTo>
                  <a:pt x="414" y="62"/>
                </a:lnTo>
                <a:lnTo>
                  <a:pt x="430" y="58"/>
                </a:lnTo>
                <a:lnTo>
                  <a:pt x="445" y="52"/>
                </a:lnTo>
                <a:lnTo>
                  <a:pt x="459" y="48"/>
                </a:lnTo>
                <a:lnTo>
                  <a:pt x="474" y="44"/>
                </a:lnTo>
                <a:lnTo>
                  <a:pt x="487" y="41"/>
                </a:lnTo>
                <a:lnTo>
                  <a:pt x="501" y="37"/>
                </a:lnTo>
                <a:lnTo>
                  <a:pt x="512" y="33"/>
                </a:lnTo>
                <a:lnTo>
                  <a:pt x="524" y="29"/>
                </a:lnTo>
                <a:lnTo>
                  <a:pt x="535" y="25"/>
                </a:lnTo>
                <a:lnTo>
                  <a:pt x="547" y="23"/>
                </a:lnTo>
                <a:lnTo>
                  <a:pt x="558" y="20"/>
                </a:lnTo>
                <a:lnTo>
                  <a:pt x="568" y="18"/>
                </a:lnTo>
                <a:lnTo>
                  <a:pt x="578" y="16"/>
                </a:lnTo>
                <a:lnTo>
                  <a:pt x="585" y="12"/>
                </a:lnTo>
                <a:lnTo>
                  <a:pt x="595" y="10"/>
                </a:lnTo>
                <a:lnTo>
                  <a:pt x="603" y="8"/>
                </a:lnTo>
                <a:lnTo>
                  <a:pt x="610" y="6"/>
                </a:lnTo>
                <a:lnTo>
                  <a:pt x="616" y="6"/>
                </a:lnTo>
                <a:lnTo>
                  <a:pt x="624" y="4"/>
                </a:lnTo>
                <a:lnTo>
                  <a:pt x="629" y="2"/>
                </a:lnTo>
                <a:lnTo>
                  <a:pt x="633" y="2"/>
                </a:lnTo>
                <a:lnTo>
                  <a:pt x="639" y="0"/>
                </a:lnTo>
                <a:lnTo>
                  <a:pt x="643" y="0"/>
                </a:lnTo>
                <a:lnTo>
                  <a:pt x="647" y="0"/>
                </a:lnTo>
                <a:lnTo>
                  <a:pt x="650" y="0"/>
                </a:lnTo>
                <a:lnTo>
                  <a:pt x="654" y="0"/>
                </a:lnTo>
                <a:lnTo>
                  <a:pt x="664" y="0"/>
                </a:lnTo>
                <a:lnTo>
                  <a:pt x="674" y="0"/>
                </a:lnTo>
                <a:lnTo>
                  <a:pt x="681" y="0"/>
                </a:lnTo>
                <a:lnTo>
                  <a:pt x="691" y="0"/>
                </a:lnTo>
                <a:lnTo>
                  <a:pt x="700" y="2"/>
                </a:lnTo>
                <a:lnTo>
                  <a:pt x="708" y="4"/>
                </a:lnTo>
                <a:lnTo>
                  <a:pt x="718" y="6"/>
                </a:lnTo>
                <a:lnTo>
                  <a:pt x="727" y="10"/>
                </a:lnTo>
                <a:lnTo>
                  <a:pt x="737" y="14"/>
                </a:lnTo>
                <a:lnTo>
                  <a:pt x="746" y="20"/>
                </a:lnTo>
                <a:lnTo>
                  <a:pt x="752" y="25"/>
                </a:lnTo>
                <a:lnTo>
                  <a:pt x="758" y="31"/>
                </a:lnTo>
                <a:lnTo>
                  <a:pt x="760" y="37"/>
                </a:lnTo>
                <a:lnTo>
                  <a:pt x="764" y="43"/>
                </a:lnTo>
                <a:lnTo>
                  <a:pt x="766" y="48"/>
                </a:lnTo>
                <a:lnTo>
                  <a:pt x="766" y="52"/>
                </a:lnTo>
                <a:lnTo>
                  <a:pt x="766" y="56"/>
                </a:lnTo>
                <a:lnTo>
                  <a:pt x="764" y="62"/>
                </a:lnTo>
                <a:lnTo>
                  <a:pt x="762" y="66"/>
                </a:lnTo>
                <a:lnTo>
                  <a:pt x="760" y="69"/>
                </a:lnTo>
                <a:lnTo>
                  <a:pt x="756" y="73"/>
                </a:lnTo>
                <a:lnTo>
                  <a:pt x="754" y="77"/>
                </a:lnTo>
                <a:lnTo>
                  <a:pt x="748" y="81"/>
                </a:lnTo>
                <a:lnTo>
                  <a:pt x="745" y="87"/>
                </a:lnTo>
                <a:lnTo>
                  <a:pt x="739" y="91"/>
                </a:lnTo>
                <a:lnTo>
                  <a:pt x="733" y="94"/>
                </a:lnTo>
                <a:lnTo>
                  <a:pt x="725" y="100"/>
                </a:lnTo>
                <a:lnTo>
                  <a:pt x="718" y="106"/>
                </a:lnTo>
                <a:lnTo>
                  <a:pt x="710" y="110"/>
                </a:lnTo>
                <a:lnTo>
                  <a:pt x="700" y="115"/>
                </a:lnTo>
                <a:lnTo>
                  <a:pt x="691" y="121"/>
                </a:lnTo>
                <a:lnTo>
                  <a:pt x="681" y="127"/>
                </a:lnTo>
                <a:lnTo>
                  <a:pt x="670" y="133"/>
                </a:lnTo>
                <a:lnTo>
                  <a:pt x="656" y="139"/>
                </a:lnTo>
                <a:lnTo>
                  <a:pt x="641" y="144"/>
                </a:lnTo>
                <a:lnTo>
                  <a:pt x="627" y="150"/>
                </a:lnTo>
                <a:lnTo>
                  <a:pt x="612" y="156"/>
                </a:lnTo>
                <a:lnTo>
                  <a:pt x="595" y="160"/>
                </a:lnTo>
                <a:lnTo>
                  <a:pt x="579" y="165"/>
                </a:lnTo>
                <a:lnTo>
                  <a:pt x="562" y="169"/>
                </a:lnTo>
                <a:lnTo>
                  <a:pt x="543" y="175"/>
                </a:lnTo>
                <a:lnTo>
                  <a:pt x="524" y="181"/>
                </a:lnTo>
                <a:lnTo>
                  <a:pt x="505" y="185"/>
                </a:lnTo>
                <a:lnTo>
                  <a:pt x="484" y="190"/>
                </a:lnTo>
                <a:lnTo>
                  <a:pt x="462" y="196"/>
                </a:lnTo>
                <a:lnTo>
                  <a:pt x="439" y="202"/>
                </a:lnTo>
                <a:lnTo>
                  <a:pt x="416" y="208"/>
                </a:lnTo>
                <a:lnTo>
                  <a:pt x="393" y="213"/>
                </a:lnTo>
                <a:lnTo>
                  <a:pt x="366" y="219"/>
                </a:lnTo>
                <a:lnTo>
                  <a:pt x="343" y="223"/>
                </a:lnTo>
                <a:lnTo>
                  <a:pt x="320" y="229"/>
                </a:lnTo>
                <a:lnTo>
                  <a:pt x="297" y="233"/>
                </a:lnTo>
                <a:lnTo>
                  <a:pt x="278" y="236"/>
                </a:lnTo>
                <a:lnTo>
                  <a:pt x="259" y="240"/>
                </a:lnTo>
                <a:lnTo>
                  <a:pt x="242" y="244"/>
                </a:lnTo>
                <a:lnTo>
                  <a:pt x="224" y="246"/>
                </a:lnTo>
                <a:lnTo>
                  <a:pt x="209" y="248"/>
                </a:lnTo>
                <a:lnTo>
                  <a:pt x="196" y="250"/>
                </a:lnTo>
                <a:lnTo>
                  <a:pt x="184" y="252"/>
                </a:lnTo>
                <a:lnTo>
                  <a:pt x="173" y="254"/>
                </a:lnTo>
                <a:lnTo>
                  <a:pt x="163" y="254"/>
                </a:lnTo>
                <a:lnTo>
                  <a:pt x="153" y="256"/>
                </a:lnTo>
                <a:lnTo>
                  <a:pt x="146" y="256"/>
                </a:lnTo>
                <a:lnTo>
                  <a:pt x="140" y="256"/>
                </a:lnTo>
                <a:lnTo>
                  <a:pt x="130" y="256"/>
                </a:lnTo>
                <a:lnTo>
                  <a:pt x="119" y="256"/>
                </a:lnTo>
                <a:lnTo>
                  <a:pt x="105" y="256"/>
                </a:lnTo>
                <a:lnTo>
                  <a:pt x="94" y="254"/>
                </a:lnTo>
                <a:lnTo>
                  <a:pt x="82" y="254"/>
                </a:lnTo>
                <a:lnTo>
                  <a:pt x="69" y="252"/>
                </a:lnTo>
                <a:lnTo>
                  <a:pt x="58" y="248"/>
                </a:lnTo>
                <a:lnTo>
                  <a:pt x="48" y="244"/>
                </a:lnTo>
                <a:lnTo>
                  <a:pt x="38" y="240"/>
                </a:lnTo>
                <a:lnTo>
                  <a:pt x="29" y="236"/>
                </a:lnTo>
                <a:lnTo>
                  <a:pt x="21" y="233"/>
                </a:lnTo>
                <a:lnTo>
                  <a:pt x="13" y="227"/>
                </a:lnTo>
                <a:lnTo>
                  <a:pt x="8" y="223"/>
                </a:lnTo>
                <a:lnTo>
                  <a:pt x="4" y="217"/>
                </a:lnTo>
                <a:lnTo>
                  <a:pt x="2" y="210"/>
                </a:lnTo>
                <a:lnTo>
                  <a:pt x="0" y="202"/>
                </a:lnTo>
                <a:lnTo>
                  <a:pt x="2" y="202"/>
                </a:lnTo>
                <a:lnTo>
                  <a:pt x="2" y="200"/>
                </a:lnTo>
                <a:lnTo>
                  <a:pt x="4" y="198"/>
                </a:lnTo>
                <a:lnTo>
                  <a:pt x="6" y="196"/>
                </a:lnTo>
                <a:lnTo>
                  <a:pt x="8" y="194"/>
                </a:lnTo>
                <a:lnTo>
                  <a:pt x="11" y="192"/>
                </a:lnTo>
                <a:lnTo>
                  <a:pt x="15" y="190"/>
                </a:lnTo>
                <a:lnTo>
                  <a:pt x="19" y="188"/>
                </a:lnTo>
                <a:lnTo>
                  <a:pt x="25" y="187"/>
                </a:lnTo>
                <a:lnTo>
                  <a:pt x="31" y="183"/>
                </a:lnTo>
                <a:lnTo>
                  <a:pt x="36" y="181"/>
                </a:lnTo>
                <a:lnTo>
                  <a:pt x="44" y="179"/>
                </a:lnTo>
                <a:lnTo>
                  <a:pt x="52" y="175"/>
                </a:lnTo>
                <a:lnTo>
                  <a:pt x="59" y="171"/>
                </a:lnTo>
                <a:lnTo>
                  <a:pt x="69" y="169"/>
                </a:lnTo>
                <a:lnTo>
                  <a:pt x="79" y="165"/>
                </a:lnTo>
                <a:lnTo>
                  <a:pt x="88" y="162"/>
                </a:lnTo>
                <a:lnTo>
                  <a:pt x="98" y="158"/>
                </a:lnTo>
                <a:lnTo>
                  <a:pt x="109" y="154"/>
                </a:lnTo>
                <a:lnTo>
                  <a:pt x="121" y="150"/>
                </a:lnTo>
                <a:lnTo>
                  <a:pt x="134" y="146"/>
                </a:lnTo>
                <a:lnTo>
                  <a:pt x="146" y="142"/>
                </a:lnTo>
                <a:lnTo>
                  <a:pt x="159" y="139"/>
                </a:lnTo>
                <a:lnTo>
                  <a:pt x="175" y="133"/>
                </a:lnTo>
                <a:lnTo>
                  <a:pt x="188" y="129"/>
                </a:lnTo>
                <a:lnTo>
                  <a:pt x="203" y="125"/>
                </a:lnTo>
                <a:lnTo>
                  <a:pt x="221" y="119"/>
                </a:lnTo>
                <a:lnTo>
                  <a:pt x="236" y="115"/>
                </a:lnTo>
                <a:lnTo>
                  <a:pt x="253" y="110"/>
                </a:lnTo>
                <a:lnTo>
                  <a:pt x="271" y="106"/>
                </a:lnTo>
                <a:lnTo>
                  <a:pt x="290" y="100"/>
                </a:lnTo>
                <a:lnTo>
                  <a:pt x="309" y="9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Freeform 48"/>
          <p:cNvSpPr/>
          <p:nvPr/>
        </p:nvSpPr>
        <p:spPr>
          <a:xfrm>
            <a:off x="2184480" y="2293920"/>
            <a:ext cx="355680" cy="1817640"/>
          </a:xfrm>
          <a:custGeom>
            <a:avLst/>
            <a:gdLst>
              <a:gd name="textAreaLeft" fmla="*/ 0 w 355680"/>
              <a:gd name="textAreaRight" fmla="*/ 356040 w 355680"/>
              <a:gd name="textAreaTop" fmla="*/ 0 h 1817640"/>
              <a:gd name="textAreaBottom" fmla="*/ 1818000 h 1817640"/>
            </a:gdLst>
            <a:ahLst/>
            <a:rect l="textAreaLeft" t="textAreaTop" r="textAreaRight" b="textAreaBottom"/>
            <a:pathLst>
              <a:path w="449" h="2289">
                <a:moveTo>
                  <a:pt x="348" y="2193"/>
                </a:moveTo>
                <a:lnTo>
                  <a:pt x="342" y="2205"/>
                </a:lnTo>
                <a:lnTo>
                  <a:pt x="336" y="2216"/>
                </a:lnTo>
                <a:lnTo>
                  <a:pt x="330" y="2226"/>
                </a:lnTo>
                <a:lnTo>
                  <a:pt x="326" y="2235"/>
                </a:lnTo>
                <a:lnTo>
                  <a:pt x="321" y="2243"/>
                </a:lnTo>
                <a:lnTo>
                  <a:pt x="317" y="2253"/>
                </a:lnTo>
                <a:lnTo>
                  <a:pt x="311" y="2258"/>
                </a:lnTo>
                <a:lnTo>
                  <a:pt x="307" y="2266"/>
                </a:lnTo>
                <a:lnTo>
                  <a:pt x="303" y="2272"/>
                </a:lnTo>
                <a:lnTo>
                  <a:pt x="300" y="2276"/>
                </a:lnTo>
                <a:lnTo>
                  <a:pt x="296" y="2279"/>
                </a:lnTo>
                <a:lnTo>
                  <a:pt x="292" y="2283"/>
                </a:lnTo>
                <a:lnTo>
                  <a:pt x="288" y="2285"/>
                </a:lnTo>
                <a:lnTo>
                  <a:pt x="286" y="2287"/>
                </a:lnTo>
                <a:lnTo>
                  <a:pt x="284" y="2289"/>
                </a:lnTo>
                <a:lnTo>
                  <a:pt x="282" y="2289"/>
                </a:lnTo>
                <a:lnTo>
                  <a:pt x="279" y="2289"/>
                </a:lnTo>
                <a:lnTo>
                  <a:pt x="275" y="2287"/>
                </a:lnTo>
                <a:lnTo>
                  <a:pt x="271" y="2285"/>
                </a:lnTo>
                <a:lnTo>
                  <a:pt x="267" y="2283"/>
                </a:lnTo>
                <a:lnTo>
                  <a:pt x="263" y="2279"/>
                </a:lnTo>
                <a:lnTo>
                  <a:pt x="259" y="2276"/>
                </a:lnTo>
                <a:lnTo>
                  <a:pt x="255" y="2272"/>
                </a:lnTo>
                <a:lnTo>
                  <a:pt x="252" y="2266"/>
                </a:lnTo>
                <a:lnTo>
                  <a:pt x="248" y="2260"/>
                </a:lnTo>
                <a:lnTo>
                  <a:pt x="244" y="2255"/>
                </a:lnTo>
                <a:lnTo>
                  <a:pt x="240" y="2247"/>
                </a:lnTo>
                <a:lnTo>
                  <a:pt x="234" y="2239"/>
                </a:lnTo>
                <a:lnTo>
                  <a:pt x="231" y="2231"/>
                </a:lnTo>
                <a:lnTo>
                  <a:pt x="227" y="2222"/>
                </a:lnTo>
                <a:lnTo>
                  <a:pt x="221" y="2214"/>
                </a:lnTo>
                <a:lnTo>
                  <a:pt x="217" y="2205"/>
                </a:lnTo>
                <a:lnTo>
                  <a:pt x="206" y="2184"/>
                </a:lnTo>
                <a:lnTo>
                  <a:pt x="194" y="2164"/>
                </a:lnTo>
                <a:lnTo>
                  <a:pt x="181" y="2143"/>
                </a:lnTo>
                <a:lnTo>
                  <a:pt x="165" y="2124"/>
                </a:lnTo>
                <a:lnTo>
                  <a:pt x="148" y="2105"/>
                </a:lnTo>
                <a:lnTo>
                  <a:pt x="138" y="2093"/>
                </a:lnTo>
                <a:lnTo>
                  <a:pt x="129" y="2084"/>
                </a:lnTo>
                <a:lnTo>
                  <a:pt x="119" y="2074"/>
                </a:lnTo>
                <a:lnTo>
                  <a:pt x="110" y="2065"/>
                </a:lnTo>
                <a:lnTo>
                  <a:pt x="98" y="2055"/>
                </a:lnTo>
                <a:lnTo>
                  <a:pt x="87" y="2043"/>
                </a:lnTo>
                <a:lnTo>
                  <a:pt x="73" y="2036"/>
                </a:lnTo>
                <a:lnTo>
                  <a:pt x="64" y="2028"/>
                </a:lnTo>
                <a:lnTo>
                  <a:pt x="52" y="2020"/>
                </a:lnTo>
                <a:lnTo>
                  <a:pt x="44" y="2015"/>
                </a:lnTo>
                <a:lnTo>
                  <a:pt x="35" y="2007"/>
                </a:lnTo>
                <a:lnTo>
                  <a:pt x="29" y="2001"/>
                </a:lnTo>
                <a:lnTo>
                  <a:pt x="21" y="1995"/>
                </a:lnTo>
                <a:lnTo>
                  <a:pt x="16" y="1990"/>
                </a:lnTo>
                <a:lnTo>
                  <a:pt x="12" y="1984"/>
                </a:lnTo>
                <a:lnTo>
                  <a:pt x="8" y="1978"/>
                </a:lnTo>
                <a:lnTo>
                  <a:pt x="4" y="1974"/>
                </a:lnTo>
                <a:lnTo>
                  <a:pt x="2" y="1970"/>
                </a:lnTo>
                <a:lnTo>
                  <a:pt x="0" y="1967"/>
                </a:lnTo>
                <a:lnTo>
                  <a:pt x="0" y="1963"/>
                </a:lnTo>
                <a:lnTo>
                  <a:pt x="0" y="1961"/>
                </a:lnTo>
                <a:lnTo>
                  <a:pt x="2" y="1959"/>
                </a:lnTo>
                <a:lnTo>
                  <a:pt x="2" y="1957"/>
                </a:lnTo>
                <a:lnTo>
                  <a:pt x="4" y="1955"/>
                </a:lnTo>
                <a:lnTo>
                  <a:pt x="6" y="1953"/>
                </a:lnTo>
                <a:lnTo>
                  <a:pt x="8" y="1953"/>
                </a:lnTo>
                <a:lnTo>
                  <a:pt x="12" y="1951"/>
                </a:lnTo>
                <a:lnTo>
                  <a:pt x="18" y="1951"/>
                </a:lnTo>
                <a:lnTo>
                  <a:pt x="23" y="1951"/>
                </a:lnTo>
                <a:lnTo>
                  <a:pt x="29" y="1951"/>
                </a:lnTo>
                <a:lnTo>
                  <a:pt x="37" y="1951"/>
                </a:lnTo>
                <a:lnTo>
                  <a:pt x="46" y="1951"/>
                </a:lnTo>
                <a:lnTo>
                  <a:pt x="54" y="1951"/>
                </a:lnTo>
                <a:lnTo>
                  <a:pt x="65" y="1953"/>
                </a:lnTo>
                <a:lnTo>
                  <a:pt x="75" y="1953"/>
                </a:lnTo>
                <a:lnTo>
                  <a:pt x="87" y="1955"/>
                </a:lnTo>
                <a:lnTo>
                  <a:pt x="100" y="1957"/>
                </a:lnTo>
                <a:lnTo>
                  <a:pt x="113" y="1959"/>
                </a:lnTo>
                <a:lnTo>
                  <a:pt x="127" y="1963"/>
                </a:lnTo>
                <a:lnTo>
                  <a:pt x="140" y="1967"/>
                </a:lnTo>
                <a:lnTo>
                  <a:pt x="152" y="1969"/>
                </a:lnTo>
                <a:lnTo>
                  <a:pt x="163" y="1970"/>
                </a:lnTo>
                <a:lnTo>
                  <a:pt x="175" y="1972"/>
                </a:lnTo>
                <a:lnTo>
                  <a:pt x="184" y="1974"/>
                </a:lnTo>
                <a:lnTo>
                  <a:pt x="194" y="1976"/>
                </a:lnTo>
                <a:lnTo>
                  <a:pt x="204" y="1976"/>
                </a:lnTo>
                <a:lnTo>
                  <a:pt x="211" y="1976"/>
                </a:lnTo>
                <a:lnTo>
                  <a:pt x="219" y="1976"/>
                </a:lnTo>
                <a:lnTo>
                  <a:pt x="225" y="1976"/>
                </a:lnTo>
                <a:lnTo>
                  <a:pt x="231" y="1974"/>
                </a:lnTo>
                <a:lnTo>
                  <a:pt x="234" y="1974"/>
                </a:lnTo>
                <a:lnTo>
                  <a:pt x="238" y="1972"/>
                </a:lnTo>
                <a:lnTo>
                  <a:pt x="242" y="1970"/>
                </a:lnTo>
                <a:lnTo>
                  <a:pt x="244" y="1969"/>
                </a:lnTo>
                <a:lnTo>
                  <a:pt x="246" y="1965"/>
                </a:lnTo>
                <a:lnTo>
                  <a:pt x="246" y="1963"/>
                </a:lnTo>
                <a:lnTo>
                  <a:pt x="248" y="1959"/>
                </a:lnTo>
                <a:lnTo>
                  <a:pt x="248" y="1953"/>
                </a:lnTo>
                <a:lnTo>
                  <a:pt x="250" y="1947"/>
                </a:lnTo>
                <a:lnTo>
                  <a:pt x="250" y="1942"/>
                </a:lnTo>
                <a:lnTo>
                  <a:pt x="252" y="1934"/>
                </a:lnTo>
                <a:lnTo>
                  <a:pt x="252" y="1924"/>
                </a:lnTo>
                <a:lnTo>
                  <a:pt x="254" y="1917"/>
                </a:lnTo>
                <a:lnTo>
                  <a:pt x="254" y="1905"/>
                </a:lnTo>
                <a:lnTo>
                  <a:pt x="255" y="1896"/>
                </a:lnTo>
                <a:lnTo>
                  <a:pt x="255" y="1882"/>
                </a:lnTo>
                <a:lnTo>
                  <a:pt x="255" y="1871"/>
                </a:lnTo>
                <a:lnTo>
                  <a:pt x="257" y="1857"/>
                </a:lnTo>
                <a:lnTo>
                  <a:pt x="257" y="1842"/>
                </a:lnTo>
                <a:lnTo>
                  <a:pt x="259" y="1827"/>
                </a:lnTo>
                <a:lnTo>
                  <a:pt x="259" y="1811"/>
                </a:lnTo>
                <a:lnTo>
                  <a:pt x="261" y="1794"/>
                </a:lnTo>
                <a:lnTo>
                  <a:pt x="261" y="1777"/>
                </a:lnTo>
                <a:lnTo>
                  <a:pt x="263" y="1759"/>
                </a:lnTo>
                <a:lnTo>
                  <a:pt x="263" y="1738"/>
                </a:lnTo>
                <a:lnTo>
                  <a:pt x="265" y="1719"/>
                </a:lnTo>
                <a:lnTo>
                  <a:pt x="265" y="1698"/>
                </a:lnTo>
                <a:lnTo>
                  <a:pt x="265" y="1677"/>
                </a:lnTo>
                <a:lnTo>
                  <a:pt x="267" y="1654"/>
                </a:lnTo>
                <a:lnTo>
                  <a:pt x="267" y="1631"/>
                </a:lnTo>
                <a:lnTo>
                  <a:pt x="269" y="1606"/>
                </a:lnTo>
                <a:lnTo>
                  <a:pt x="269" y="1581"/>
                </a:lnTo>
                <a:lnTo>
                  <a:pt x="271" y="1554"/>
                </a:lnTo>
                <a:lnTo>
                  <a:pt x="271" y="1527"/>
                </a:lnTo>
                <a:lnTo>
                  <a:pt x="273" y="1500"/>
                </a:lnTo>
                <a:lnTo>
                  <a:pt x="275" y="1393"/>
                </a:lnTo>
                <a:lnTo>
                  <a:pt x="277" y="1287"/>
                </a:lnTo>
                <a:lnTo>
                  <a:pt x="279" y="1182"/>
                </a:lnTo>
                <a:lnTo>
                  <a:pt x="280" y="1078"/>
                </a:lnTo>
                <a:lnTo>
                  <a:pt x="280" y="974"/>
                </a:lnTo>
                <a:lnTo>
                  <a:pt x="280" y="875"/>
                </a:lnTo>
                <a:lnTo>
                  <a:pt x="282" y="777"/>
                </a:lnTo>
                <a:lnTo>
                  <a:pt x="282" y="727"/>
                </a:lnTo>
                <a:lnTo>
                  <a:pt x="282" y="679"/>
                </a:lnTo>
                <a:lnTo>
                  <a:pt x="282" y="656"/>
                </a:lnTo>
                <a:lnTo>
                  <a:pt x="282" y="635"/>
                </a:lnTo>
                <a:lnTo>
                  <a:pt x="282" y="612"/>
                </a:lnTo>
                <a:lnTo>
                  <a:pt x="282" y="591"/>
                </a:lnTo>
                <a:lnTo>
                  <a:pt x="280" y="571"/>
                </a:lnTo>
                <a:lnTo>
                  <a:pt x="280" y="550"/>
                </a:lnTo>
                <a:lnTo>
                  <a:pt x="280" y="531"/>
                </a:lnTo>
                <a:lnTo>
                  <a:pt x="280" y="512"/>
                </a:lnTo>
                <a:lnTo>
                  <a:pt x="280" y="493"/>
                </a:lnTo>
                <a:lnTo>
                  <a:pt x="280" y="476"/>
                </a:lnTo>
                <a:lnTo>
                  <a:pt x="280" y="458"/>
                </a:lnTo>
                <a:lnTo>
                  <a:pt x="280" y="441"/>
                </a:lnTo>
                <a:lnTo>
                  <a:pt x="280" y="424"/>
                </a:lnTo>
                <a:lnTo>
                  <a:pt x="280" y="408"/>
                </a:lnTo>
                <a:lnTo>
                  <a:pt x="280" y="393"/>
                </a:lnTo>
                <a:lnTo>
                  <a:pt x="280" y="378"/>
                </a:lnTo>
                <a:lnTo>
                  <a:pt x="280" y="364"/>
                </a:lnTo>
                <a:lnTo>
                  <a:pt x="280" y="351"/>
                </a:lnTo>
                <a:lnTo>
                  <a:pt x="279" y="337"/>
                </a:lnTo>
                <a:lnTo>
                  <a:pt x="279" y="324"/>
                </a:lnTo>
                <a:lnTo>
                  <a:pt x="279" y="312"/>
                </a:lnTo>
                <a:lnTo>
                  <a:pt x="279" y="301"/>
                </a:lnTo>
                <a:lnTo>
                  <a:pt x="279" y="291"/>
                </a:lnTo>
                <a:lnTo>
                  <a:pt x="277" y="280"/>
                </a:lnTo>
                <a:lnTo>
                  <a:pt x="277" y="270"/>
                </a:lnTo>
                <a:lnTo>
                  <a:pt x="277" y="263"/>
                </a:lnTo>
                <a:lnTo>
                  <a:pt x="277" y="253"/>
                </a:lnTo>
                <a:lnTo>
                  <a:pt x="275" y="245"/>
                </a:lnTo>
                <a:lnTo>
                  <a:pt x="275" y="239"/>
                </a:lnTo>
                <a:lnTo>
                  <a:pt x="273" y="232"/>
                </a:lnTo>
                <a:lnTo>
                  <a:pt x="273" y="226"/>
                </a:lnTo>
                <a:lnTo>
                  <a:pt x="273" y="220"/>
                </a:lnTo>
                <a:lnTo>
                  <a:pt x="269" y="201"/>
                </a:lnTo>
                <a:lnTo>
                  <a:pt x="265" y="182"/>
                </a:lnTo>
                <a:lnTo>
                  <a:pt x="261" y="163"/>
                </a:lnTo>
                <a:lnTo>
                  <a:pt x="255" y="144"/>
                </a:lnTo>
                <a:lnTo>
                  <a:pt x="250" y="126"/>
                </a:lnTo>
                <a:lnTo>
                  <a:pt x="244" y="109"/>
                </a:lnTo>
                <a:lnTo>
                  <a:pt x="234" y="96"/>
                </a:lnTo>
                <a:lnTo>
                  <a:pt x="231" y="88"/>
                </a:lnTo>
                <a:lnTo>
                  <a:pt x="225" y="82"/>
                </a:lnTo>
                <a:lnTo>
                  <a:pt x="215" y="71"/>
                </a:lnTo>
                <a:lnTo>
                  <a:pt x="207" y="59"/>
                </a:lnTo>
                <a:lnTo>
                  <a:pt x="202" y="49"/>
                </a:lnTo>
                <a:lnTo>
                  <a:pt x="198" y="40"/>
                </a:lnTo>
                <a:lnTo>
                  <a:pt x="194" y="32"/>
                </a:lnTo>
                <a:lnTo>
                  <a:pt x="194" y="25"/>
                </a:lnTo>
                <a:lnTo>
                  <a:pt x="194" y="15"/>
                </a:lnTo>
                <a:lnTo>
                  <a:pt x="198" y="7"/>
                </a:lnTo>
                <a:lnTo>
                  <a:pt x="200" y="5"/>
                </a:lnTo>
                <a:lnTo>
                  <a:pt x="202" y="3"/>
                </a:lnTo>
                <a:lnTo>
                  <a:pt x="206" y="3"/>
                </a:lnTo>
                <a:lnTo>
                  <a:pt x="209" y="2"/>
                </a:lnTo>
                <a:lnTo>
                  <a:pt x="213" y="2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44" y="0"/>
                </a:lnTo>
                <a:lnTo>
                  <a:pt x="257" y="2"/>
                </a:lnTo>
                <a:lnTo>
                  <a:pt x="275" y="3"/>
                </a:lnTo>
                <a:lnTo>
                  <a:pt x="290" y="7"/>
                </a:lnTo>
                <a:lnTo>
                  <a:pt x="307" y="15"/>
                </a:lnTo>
                <a:lnTo>
                  <a:pt x="325" y="25"/>
                </a:lnTo>
                <a:lnTo>
                  <a:pt x="340" y="32"/>
                </a:lnTo>
                <a:lnTo>
                  <a:pt x="353" y="42"/>
                </a:lnTo>
                <a:lnTo>
                  <a:pt x="367" y="49"/>
                </a:lnTo>
                <a:lnTo>
                  <a:pt x="380" y="59"/>
                </a:lnTo>
                <a:lnTo>
                  <a:pt x="392" y="71"/>
                </a:lnTo>
                <a:lnTo>
                  <a:pt x="403" y="82"/>
                </a:lnTo>
                <a:lnTo>
                  <a:pt x="413" y="94"/>
                </a:lnTo>
                <a:lnTo>
                  <a:pt x="421" y="105"/>
                </a:lnTo>
                <a:lnTo>
                  <a:pt x="426" y="115"/>
                </a:lnTo>
                <a:lnTo>
                  <a:pt x="432" y="124"/>
                </a:lnTo>
                <a:lnTo>
                  <a:pt x="438" y="132"/>
                </a:lnTo>
                <a:lnTo>
                  <a:pt x="442" y="140"/>
                </a:lnTo>
                <a:lnTo>
                  <a:pt x="449" y="157"/>
                </a:lnTo>
                <a:lnTo>
                  <a:pt x="449" y="165"/>
                </a:lnTo>
                <a:lnTo>
                  <a:pt x="447" y="172"/>
                </a:lnTo>
                <a:lnTo>
                  <a:pt x="445" y="182"/>
                </a:lnTo>
                <a:lnTo>
                  <a:pt x="442" y="190"/>
                </a:lnTo>
                <a:lnTo>
                  <a:pt x="438" y="199"/>
                </a:lnTo>
                <a:lnTo>
                  <a:pt x="434" y="209"/>
                </a:lnTo>
                <a:lnTo>
                  <a:pt x="428" y="220"/>
                </a:lnTo>
                <a:lnTo>
                  <a:pt x="421" y="232"/>
                </a:lnTo>
                <a:lnTo>
                  <a:pt x="421" y="236"/>
                </a:lnTo>
                <a:lnTo>
                  <a:pt x="419" y="239"/>
                </a:lnTo>
                <a:lnTo>
                  <a:pt x="417" y="243"/>
                </a:lnTo>
                <a:lnTo>
                  <a:pt x="415" y="249"/>
                </a:lnTo>
                <a:lnTo>
                  <a:pt x="413" y="255"/>
                </a:lnTo>
                <a:lnTo>
                  <a:pt x="411" y="263"/>
                </a:lnTo>
                <a:lnTo>
                  <a:pt x="411" y="268"/>
                </a:lnTo>
                <a:lnTo>
                  <a:pt x="409" y="278"/>
                </a:lnTo>
                <a:lnTo>
                  <a:pt x="407" y="286"/>
                </a:lnTo>
                <a:lnTo>
                  <a:pt x="407" y="295"/>
                </a:lnTo>
                <a:lnTo>
                  <a:pt x="405" y="305"/>
                </a:lnTo>
                <a:lnTo>
                  <a:pt x="405" y="316"/>
                </a:lnTo>
                <a:lnTo>
                  <a:pt x="403" y="328"/>
                </a:lnTo>
                <a:lnTo>
                  <a:pt x="401" y="339"/>
                </a:lnTo>
                <a:lnTo>
                  <a:pt x="401" y="351"/>
                </a:lnTo>
                <a:lnTo>
                  <a:pt x="399" y="364"/>
                </a:lnTo>
                <a:lnTo>
                  <a:pt x="399" y="378"/>
                </a:lnTo>
                <a:lnTo>
                  <a:pt x="399" y="393"/>
                </a:lnTo>
                <a:lnTo>
                  <a:pt x="397" y="408"/>
                </a:lnTo>
                <a:lnTo>
                  <a:pt x="397" y="424"/>
                </a:lnTo>
                <a:lnTo>
                  <a:pt x="397" y="439"/>
                </a:lnTo>
                <a:lnTo>
                  <a:pt x="396" y="456"/>
                </a:lnTo>
                <a:lnTo>
                  <a:pt x="396" y="474"/>
                </a:lnTo>
                <a:lnTo>
                  <a:pt x="396" y="493"/>
                </a:lnTo>
                <a:lnTo>
                  <a:pt x="394" y="510"/>
                </a:lnTo>
                <a:lnTo>
                  <a:pt x="394" y="531"/>
                </a:lnTo>
                <a:lnTo>
                  <a:pt x="394" y="550"/>
                </a:lnTo>
                <a:lnTo>
                  <a:pt x="394" y="570"/>
                </a:lnTo>
                <a:lnTo>
                  <a:pt x="394" y="591"/>
                </a:lnTo>
                <a:lnTo>
                  <a:pt x="394" y="614"/>
                </a:lnTo>
                <a:lnTo>
                  <a:pt x="394" y="635"/>
                </a:lnTo>
                <a:lnTo>
                  <a:pt x="394" y="658"/>
                </a:lnTo>
                <a:lnTo>
                  <a:pt x="392" y="706"/>
                </a:lnTo>
                <a:lnTo>
                  <a:pt x="390" y="756"/>
                </a:lnTo>
                <a:lnTo>
                  <a:pt x="390" y="806"/>
                </a:lnTo>
                <a:lnTo>
                  <a:pt x="388" y="857"/>
                </a:lnTo>
                <a:lnTo>
                  <a:pt x="388" y="911"/>
                </a:lnTo>
                <a:lnTo>
                  <a:pt x="386" y="965"/>
                </a:lnTo>
                <a:lnTo>
                  <a:pt x="386" y="1019"/>
                </a:lnTo>
                <a:lnTo>
                  <a:pt x="386" y="1074"/>
                </a:lnTo>
                <a:lnTo>
                  <a:pt x="386" y="1132"/>
                </a:lnTo>
                <a:lnTo>
                  <a:pt x="386" y="1189"/>
                </a:lnTo>
                <a:lnTo>
                  <a:pt x="388" y="1249"/>
                </a:lnTo>
                <a:lnTo>
                  <a:pt x="388" y="1310"/>
                </a:lnTo>
                <a:lnTo>
                  <a:pt x="390" y="1372"/>
                </a:lnTo>
                <a:lnTo>
                  <a:pt x="390" y="1435"/>
                </a:lnTo>
                <a:lnTo>
                  <a:pt x="392" y="1498"/>
                </a:lnTo>
                <a:lnTo>
                  <a:pt x="394" y="1564"/>
                </a:lnTo>
                <a:lnTo>
                  <a:pt x="394" y="1596"/>
                </a:lnTo>
                <a:lnTo>
                  <a:pt x="394" y="1629"/>
                </a:lnTo>
                <a:lnTo>
                  <a:pt x="394" y="1660"/>
                </a:lnTo>
                <a:lnTo>
                  <a:pt x="392" y="1688"/>
                </a:lnTo>
                <a:lnTo>
                  <a:pt x="392" y="1719"/>
                </a:lnTo>
                <a:lnTo>
                  <a:pt x="392" y="1746"/>
                </a:lnTo>
                <a:lnTo>
                  <a:pt x="390" y="1773"/>
                </a:lnTo>
                <a:lnTo>
                  <a:pt x="390" y="1800"/>
                </a:lnTo>
                <a:lnTo>
                  <a:pt x="390" y="1827"/>
                </a:lnTo>
                <a:lnTo>
                  <a:pt x="388" y="1852"/>
                </a:lnTo>
                <a:lnTo>
                  <a:pt x="386" y="1875"/>
                </a:lnTo>
                <a:lnTo>
                  <a:pt x="386" y="1898"/>
                </a:lnTo>
                <a:lnTo>
                  <a:pt x="384" y="1921"/>
                </a:lnTo>
                <a:lnTo>
                  <a:pt x="384" y="1942"/>
                </a:lnTo>
                <a:lnTo>
                  <a:pt x="382" y="1963"/>
                </a:lnTo>
                <a:lnTo>
                  <a:pt x="380" y="1982"/>
                </a:lnTo>
                <a:lnTo>
                  <a:pt x="378" y="2001"/>
                </a:lnTo>
                <a:lnTo>
                  <a:pt x="376" y="2020"/>
                </a:lnTo>
                <a:lnTo>
                  <a:pt x="374" y="2038"/>
                </a:lnTo>
                <a:lnTo>
                  <a:pt x="373" y="2053"/>
                </a:lnTo>
                <a:lnTo>
                  <a:pt x="371" y="2070"/>
                </a:lnTo>
                <a:lnTo>
                  <a:pt x="369" y="2086"/>
                </a:lnTo>
                <a:lnTo>
                  <a:pt x="367" y="2099"/>
                </a:lnTo>
                <a:lnTo>
                  <a:pt x="365" y="2112"/>
                </a:lnTo>
                <a:lnTo>
                  <a:pt x="363" y="2126"/>
                </a:lnTo>
                <a:lnTo>
                  <a:pt x="361" y="2137"/>
                </a:lnTo>
                <a:lnTo>
                  <a:pt x="359" y="2149"/>
                </a:lnTo>
                <a:lnTo>
                  <a:pt x="357" y="2159"/>
                </a:lnTo>
                <a:lnTo>
                  <a:pt x="353" y="2168"/>
                </a:lnTo>
                <a:lnTo>
                  <a:pt x="351" y="2178"/>
                </a:lnTo>
                <a:lnTo>
                  <a:pt x="350" y="2185"/>
                </a:lnTo>
                <a:lnTo>
                  <a:pt x="348" y="219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Freeform 49"/>
          <p:cNvSpPr/>
          <p:nvPr/>
        </p:nvSpPr>
        <p:spPr>
          <a:xfrm>
            <a:off x="1990800" y="3154320"/>
            <a:ext cx="698400" cy="500040"/>
          </a:xfrm>
          <a:custGeom>
            <a:avLst/>
            <a:gdLst>
              <a:gd name="textAreaLeft" fmla="*/ 0 w 698400"/>
              <a:gd name="textAreaRight" fmla="*/ 698760 w 69840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880" h="629">
                <a:moveTo>
                  <a:pt x="543" y="192"/>
                </a:moveTo>
                <a:lnTo>
                  <a:pt x="564" y="180"/>
                </a:lnTo>
                <a:lnTo>
                  <a:pt x="581" y="167"/>
                </a:lnTo>
                <a:lnTo>
                  <a:pt x="600" y="155"/>
                </a:lnTo>
                <a:lnTo>
                  <a:pt x="617" y="144"/>
                </a:lnTo>
                <a:lnTo>
                  <a:pt x="635" y="132"/>
                </a:lnTo>
                <a:lnTo>
                  <a:pt x="652" y="121"/>
                </a:lnTo>
                <a:lnTo>
                  <a:pt x="669" y="111"/>
                </a:lnTo>
                <a:lnTo>
                  <a:pt x="685" y="102"/>
                </a:lnTo>
                <a:lnTo>
                  <a:pt x="700" y="92"/>
                </a:lnTo>
                <a:lnTo>
                  <a:pt x="713" y="82"/>
                </a:lnTo>
                <a:lnTo>
                  <a:pt x="727" y="75"/>
                </a:lnTo>
                <a:lnTo>
                  <a:pt x="740" y="67"/>
                </a:lnTo>
                <a:lnTo>
                  <a:pt x="754" y="59"/>
                </a:lnTo>
                <a:lnTo>
                  <a:pt x="765" y="52"/>
                </a:lnTo>
                <a:lnTo>
                  <a:pt x="777" y="46"/>
                </a:lnTo>
                <a:lnTo>
                  <a:pt x="788" y="40"/>
                </a:lnTo>
                <a:lnTo>
                  <a:pt x="798" y="34"/>
                </a:lnTo>
                <a:lnTo>
                  <a:pt x="807" y="29"/>
                </a:lnTo>
                <a:lnTo>
                  <a:pt x="817" y="23"/>
                </a:lnTo>
                <a:lnTo>
                  <a:pt x="825" y="19"/>
                </a:lnTo>
                <a:lnTo>
                  <a:pt x="832" y="15"/>
                </a:lnTo>
                <a:lnTo>
                  <a:pt x="840" y="11"/>
                </a:lnTo>
                <a:lnTo>
                  <a:pt x="846" y="9"/>
                </a:lnTo>
                <a:lnTo>
                  <a:pt x="852" y="6"/>
                </a:lnTo>
                <a:lnTo>
                  <a:pt x="857" y="4"/>
                </a:lnTo>
                <a:lnTo>
                  <a:pt x="863" y="2"/>
                </a:lnTo>
                <a:lnTo>
                  <a:pt x="867" y="0"/>
                </a:lnTo>
                <a:lnTo>
                  <a:pt x="871" y="0"/>
                </a:lnTo>
                <a:lnTo>
                  <a:pt x="873" y="0"/>
                </a:lnTo>
                <a:lnTo>
                  <a:pt x="877" y="0"/>
                </a:lnTo>
                <a:lnTo>
                  <a:pt x="878" y="0"/>
                </a:lnTo>
                <a:lnTo>
                  <a:pt x="880" y="6"/>
                </a:lnTo>
                <a:lnTo>
                  <a:pt x="878" y="9"/>
                </a:lnTo>
                <a:lnTo>
                  <a:pt x="877" y="17"/>
                </a:lnTo>
                <a:lnTo>
                  <a:pt x="873" y="25"/>
                </a:lnTo>
                <a:lnTo>
                  <a:pt x="869" y="32"/>
                </a:lnTo>
                <a:lnTo>
                  <a:pt x="861" y="42"/>
                </a:lnTo>
                <a:lnTo>
                  <a:pt x="854" y="52"/>
                </a:lnTo>
                <a:lnTo>
                  <a:pt x="844" y="63"/>
                </a:lnTo>
                <a:lnTo>
                  <a:pt x="834" y="75"/>
                </a:lnTo>
                <a:lnTo>
                  <a:pt x="821" y="88"/>
                </a:lnTo>
                <a:lnTo>
                  <a:pt x="807" y="102"/>
                </a:lnTo>
                <a:lnTo>
                  <a:pt x="792" y="115"/>
                </a:lnTo>
                <a:lnTo>
                  <a:pt x="777" y="130"/>
                </a:lnTo>
                <a:lnTo>
                  <a:pt x="759" y="148"/>
                </a:lnTo>
                <a:lnTo>
                  <a:pt x="740" y="163"/>
                </a:lnTo>
                <a:lnTo>
                  <a:pt x="721" y="182"/>
                </a:lnTo>
                <a:lnTo>
                  <a:pt x="679" y="217"/>
                </a:lnTo>
                <a:lnTo>
                  <a:pt x="640" y="251"/>
                </a:lnTo>
                <a:lnTo>
                  <a:pt x="602" y="284"/>
                </a:lnTo>
                <a:lnTo>
                  <a:pt x="585" y="299"/>
                </a:lnTo>
                <a:lnTo>
                  <a:pt x="566" y="315"/>
                </a:lnTo>
                <a:lnTo>
                  <a:pt x="548" y="330"/>
                </a:lnTo>
                <a:lnTo>
                  <a:pt x="533" y="343"/>
                </a:lnTo>
                <a:lnTo>
                  <a:pt x="516" y="357"/>
                </a:lnTo>
                <a:lnTo>
                  <a:pt x="500" y="370"/>
                </a:lnTo>
                <a:lnTo>
                  <a:pt x="485" y="384"/>
                </a:lnTo>
                <a:lnTo>
                  <a:pt x="470" y="395"/>
                </a:lnTo>
                <a:lnTo>
                  <a:pt x="454" y="405"/>
                </a:lnTo>
                <a:lnTo>
                  <a:pt x="441" y="416"/>
                </a:lnTo>
                <a:lnTo>
                  <a:pt x="414" y="439"/>
                </a:lnTo>
                <a:lnTo>
                  <a:pt x="387" y="462"/>
                </a:lnTo>
                <a:lnTo>
                  <a:pt x="360" y="483"/>
                </a:lnTo>
                <a:lnTo>
                  <a:pt x="335" y="503"/>
                </a:lnTo>
                <a:lnTo>
                  <a:pt x="312" y="522"/>
                </a:lnTo>
                <a:lnTo>
                  <a:pt x="289" y="537"/>
                </a:lnTo>
                <a:lnTo>
                  <a:pt x="266" y="553"/>
                </a:lnTo>
                <a:lnTo>
                  <a:pt x="245" y="566"/>
                </a:lnTo>
                <a:lnTo>
                  <a:pt x="234" y="574"/>
                </a:lnTo>
                <a:lnTo>
                  <a:pt x="224" y="581"/>
                </a:lnTo>
                <a:lnTo>
                  <a:pt x="214" y="587"/>
                </a:lnTo>
                <a:lnTo>
                  <a:pt x="207" y="593"/>
                </a:lnTo>
                <a:lnTo>
                  <a:pt x="197" y="599"/>
                </a:lnTo>
                <a:lnTo>
                  <a:pt x="190" y="604"/>
                </a:lnTo>
                <a:lnTo>
                  <a:pt x="182" y="610"/>
                </a:lnTo>
                <a:lnTo>
                  <a:pt x="174" y="614"/>
                </a:lnTo>
                <a:lnTo>
                  <a:pt x="168" y="618"/>
                </a:lnTo>
                <a:lnTo>
                  <a:pt x="163" y="620"/>
                </a:lnTo>
                <a:lnTo>
                  <a:pt x="155" y="624"/>
                </a:lnTo>
                <a:lnTo>
                  <a:pt x="151" y="625"/>
                </a:lnTo>
                <a:lnTo>
                  <a:pt x="145" y="627"/>
                </a:lnTo>
                <a:lnTo>
                  <a:pt x="142" y="629"/>
                </a:lnTo>
                <a:lnTo>
                  <a:pt x="136" y="629"/>
                </a:lnTo>
                <a:lnTo>
                  <a:pt x="132" y="629"/>
                </a:lnTo>
                <a:lnTo>
                  <a:pt x="130" y="629"/>
                </a:lnTo>
                <a:lnTo>
                  <a:pt x="126" y="627"/>
                </a:lnTo>
                <a:lnTo>
                  <a:pt x="120" y="627"/>
                </a:lnTo>
                <a:lnTo>
                  <a:pt x="117" y="625"/>
                </a:lnTo>
                <a:lnTo>
                  <a:pt x="113" y="624"/>
                </a:lnTo>
                <a:lnTo>
                  <a:pt x="107" y="620"/>
                </a:lnTo>
                <a:lnTo>
                  <a:pt x="103" y="616"/>
                </a:lnTo>
                <a:lnTo>
                  <a:pt x="97" y="612"/>
                </a:lnTo>
                <a:lnTo>
                  <a:pt x="92" y="608"/>
                </a:lnTo>
                <a:lnTo>
                  <a:pt x="86" y="602"/>
                </a:lnTo>
                <a:lnTo>
                  <a:pt x="80" y="597"/>
                </a:lnTo>
                <a:lnTo>
                  <a:pt x="74" y="589"/>
                </a:lnTo>
                <a:lnTo>
                  <a:pt x="69" y="581"/>
                </a:lnTo>
                <a:lnTo>
                  <a:pt x="63" y="574"/>
                </a:lnTo>
                <a:lnTo>
                  <a:pt x="55" y="564"/>
                </a:lnTo>
                <a:lnTo>
                  <a:pt x="49" y="554"/>
                </a:lnTo>
                <a:lnTo>
                  <a:pt x="42" y="545"/>
                </a:lnTo>
                <a:lnTo>
                  <a:pt x="36" y="535"/>
                </a:lnTo>
                <a:lnTo>
                  <a:pt x="30" y="528"/>
                </a:lnTo>
                <a:lnTo>
                  <a:pt x="24" y="518"/>
                </a:lnTo>
                <a:lnTo>
                  <a:pt x="21" y="510"/>
                </a:lnTo>
                <a:lnTo>
                  <a:pt x="15" y="503"/>
                </a:lnTo>
                <a:lnTo>
                  <a:pt x="11" y="495"/>
                </a:lnTo>
                <a:lnTo>
                  <a:pt x="9" y="487"/>
                </a:lnTo>
                <a:lnTo>
                  <a:pt x="5" y="482"/>
                </a:lnTo>
                <a:lnTo>
                  <a:pt x="3" y="474"/>
                </a:lnTo>
                <a:lnTo>
                  <a:pt x="1" y="468"/>
                </a:lnTo>
                <a:lnTo>
                  <a:pt x="0" y="462"/>
                </a:lnTo>
                <a:lnTo>
                  <a:pt x="0" y="455"/>
                </a:lnTo>
                <a:lnTo>
                  <a:pt x="0" y="449"/>
                </a:lnTo>
                <a:lnTo>
                  <a:pt x="1" y="443"/>
                </a:lnTo>
                <a:lnTo>
                  <a:pt x="1" y="437"/>
                </a:lnTo>
                <a:lnTo>
                  <a:pt x="7" y="430"/>
                </a:lnTo>
                <a:lnTo>
                  <a:pt x="13" y="424"/>
                </a:lnTo>
                <a:lnTo>
                  <a:pt x="21" y="418"/>
                </a:lnTo>
                <a:lnTo>
                  <a:pt x="30" y="414"/>
                </a:lnTo>
                <a:lnTo>
                  <a:pt x="42" y="411"/>
                </a:lnTo>
                <a:lnTo>
                  <a:pt x="55" y="407"/>
                </a:lnTo>
                <a:lnTo>
                  <a:pt x="71" y="407"/>
                </a:lnTo>
                <a:lnTo>
                  <a:pt x="86" y="405"/>
                </a:lnTo>
                <a:lnTo>
                  <a:pt x="103" y="405"/>
                </a:lnTo>
                <a:lnTo>
                  <a:pt x="118" y="405"/>
                </a:lnTo>
                <a:lnTo>
                  <a:pt x="132" y="405"/>
                </a:lnTo>
                <a:lnTo>
                  <a:pt x="145" y="405"/>
                </a:lnTo>
                <a:lnTo>
                  <a:pt x="157" y="403"/>
                </a:lnTo>
                <a:lnTo>
                  <a:pt x="168" y="401"/>
                </a:lnTo>
                <a:lnTo>
                  <a:pt x="178" y="399"/>
                </a:lnTo>
                <a:lnTo>
                  <a:pt x="190" y="395"/>
                </a:lnTo>
                <a:lnTo>
                  <a:pt x="191" y="395"/>
                </a:lnTo>
                <a:lnTo>
                  <a:pt x="193" y="393"/>
                </a:lnTo>
                <a:lnTo>
                  <a:pt x="197" y="393"/>
                </a:lnTo>
                <a:lnTo>
                  <a:pt x="201" y="391"/>
                </a:lnTo>
                <a:lnTo>
                  <a:pt x="205" y="389"/>
                </a:lnTo>
                <a:lnTo>
                  <a:pt x="211" y="388"/>
                </a:lnTo>
                <a:lnTo>
                  <a:pt x="216" y="386"/>
                </a:lnTo>
                <a:lnTo>
                  <a:pt x="222" y="384"/>
                </a:lnTo>
                <a:lnTo>
                  <a:pt x="228" y="380"/>
                </a:lnTo>
                <a:lnTo>
                  <a:pt x="236" y="376"/>
                </a:lnTo>
                <a:lnTo>
                  <a:pt x="245" y="372"/>
                </a:lnTo>
                <a:lnTo>
                  <a:pt x="253" y="368"/>
                </a:lnTo>
                <a:lnTo>
                  <a:pt x="262" y="363"/>
                </a:lnTo>
                <a:lnTo>
                  <a:pt x="272" y="359"/>
                </a:lnTo>
                <a:lnTo>
                  <a:pt x="282" y="353"/>
                </a:lnTo>
                <a:lnTo>
                  <a:pt x="293" y="345"/>
                </a:lnTo>
                <a:lnTo>
                  <a:pt x="305" y="340"/>
                </a:lnTo>
                <a:lnTo>
                  <a:pt x="316" y="334"/>
                </a:lnTo>
                <a:lnTo>
                  <a:pt x="330" y="326"/>
                </a:lnTo>
                <a:lnTo>
                  <a:pt x="343" y="318"/>
                </a:lnTo>
                <a:lnTo>
                  <a:pt x="356" y="311"/>
                </a:lnTo>
                <a:lnTo>
                  <a:pt x="370" y="301"/>
                </a:lnTo>
                <a:lnTo>
                  <a:pt x="385" y="293"/>
                </a:lnTo>
                <a:lnTo>
                  <a:pt x="401" y="284"/>
                </a:lnTo>
                <a:lnTo>
                  <a:pt x="416" y="274"/>
                </a:lnTo>
                <a:lnTo>
                  <a:pt x="433" y="263"/>
                </a:lnTo>
                <a:lnTo>
                  <a:pt x="450" y="253"/>
                </a:lnTo>
                <a:lnTo>
                  <a:pt x="468" y="242"/>
                </a:lnTo>
                <a:lnTo>
                  <a:pt x="485" y="230"/>
                </a:lnTo>
                <a:lnTo>
                  <a:pt x="504" y="219"/>
                </a:lnTo>
                <a:lnTo>
                  <a:pt x="523" y="205"/>
                </a:lnTo>
                <a:lnTo>
                  <a:pt x="543" y="19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Freeform 50"/>
          <p:cNvSpPr/>
          <p:nvPr/>
        </p:nvSpPr>
        <p:spPr>
          <a:xfrm>
            <a:off x="2533680" y="2946240"/>
            <a:ext cx="490680" cy="944640"/>
          </a:xfrm>
          <a:custGeom>
            <a:avLst/>
            <a:gdLst>
              <a:gd name="textAreaLeft" fmla="*/ 0 w 490680"/>
              <a:gd name="textAreaRight" fmla="*/ 491040 w 49068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618" h="1190">
                <a:moveTo>
                  <a:pt x="412" y="409"/>
                </a:moveTo>
                <a:lnTo>
                  <a:pt x="418" y="382"/>
                </a:lnTo>
                <a:lnTo>
                  <a:pt x="422" y="355"/>
                </a:lnTo>
                <a:lnTo>
                  <a:pt x="426" y="332"/>
                </a:lnTo>
                <a:lnTo>
                  <a:pt x="432" y="309"/>
                </a:lnTo>
                <a:lnTo>
                  <a:pt x="435" y="288"/>
                </a:lnTo>
                <a:lnTo>
                  <a:pt x="439" y="267"/>
                </a:lnTo>
                <a:lnTo>
                  <a:pt x="443" y="249"/>
                </a:lnTo>
                <a:lnTo>
                  <a:pt x="445" y="232"/>
                </a:lnTo>
                <a:lnTo>
                  <a:pt x="449" y="215"/>
                </a:lnTo>
                <a:lnTo>
                  <a:pt x="451" y="201"/>
                </a:lnTo>
                <a:lnTo>
                  <a:pt x="453" y="188"/>
                </a:lnTo>
                <a:lnTo>
                  <a:pt x="455" y="176"/>
                </a:lnTo>
                <a:lnTo>
                  <a:pt x="457" y="165"/>
                </a:lnTo>
                <a:lnTo>
                  <a:pt x="458" y="157"/>
                </a:lnTo>
                <a:lnTo>
                  <a:pt x="458" y="149"/>
                </a:lnTo>
                <a:lnTo>
                  <a:pt x="458" y="142"/>
                </a:lnTo>
                <a:lnTo>
                  <a:pt x="455" y="130"/>
                </a:lnTo>
                <a:lnTo>
                  <a:pt x="451" y="119"/>
                </a:lnTo>
                <a:lnTo>
                  <a:pt x="447" y="109"/>
                </a:lnTo>
                <a:lnTo>
                  <a:pt x="443" y="100"/>
                </a:lnTo>
                <a:lnTo>
                  <a:pt x="439" y="90"/>
                </a:lnTo>
                <a:lnTo>
                  <a:pt x="433" y="78"/>
                </a:lnTo>
                <a:lnTo>
                  <a:pt x="428" y="69"/>
                </a:lnTo>
                <a:lnTo>
                  <a:pt x="422" y="57"/>
                </a:lnTo>
                <a:lnTo>
                  <a:pt x="416" y="48"/>
                </a:lnTo>
                <a:lnTo>
                  <a:pt x="410" y="40"/>
                </a:lnTo>
                <a:lnTo>
                  <a:pt x="409" y="32"/>
                </a:lnTo>
                <a:lnTo>
                  <a:pt x="409" y="27"/>
                </a:lnTo>
                <a:lnTo>
                  <a:pt x="409" y="19"/>
                </a:lnTo>
                <a:lnTo>
                  <a:pt x="410" y="13"/>
                </a:lnTo>
                <a:lnTo>
                  <a:pt x="416" y="7"/>
                </a:lnTo>
                <a:lnTo>
                  <a:pt x="422" y="4"/>
                </a:lnTo>
                <a:lnTo>
                  <a:pt x="424" y="2"/>
                </a:lnTo>
                <a:lnTo>
                  <a:pt x="426" y="0"/>
                </a:lnTo>
                <a:lnTo>
                  <a:pt x="432" y="0"/>
                </a:lnTo>
                <a:lnTo>
                  <a:pt x="439" y="0"/>
                </a:lnTo>
                <a:lnTo>
                  <a:pt x="449" y="0"/>
                </a:lnTo>
                <a:lnTo>
                  <a:pt x="460" y="4"/>
                </a:lnTo>
                <a:lnTo>
                  <a:pt x="474" y="6"/>
                </a:lnTo>
                <a:lnTo>
                  <a:pt x="489" y="9"/>
                </a:lnTo>
                <a:lnTo>
                  <a:pt x="505" y="15"/>
                </a:lnTo>
                <a:lnTo>
                  <a:pt x="518" y="23"/>
                </a:lnTo>
                <a:lnTo>
                  <a:pt x="531" y="31"/>
                </a:lnTo>
                <a:lnTo>
                  <a:pt x="543" y="38"/>
                </a:lnTo>
                <a:lnTo>
                  <a:pt x="554" y="46"/>
                </a:lnTo>
                <a:lnTo>
                  <a:pt x="564" y="54"/>
                </a:lnTo>
                <a:lnTo>
                  <a:pt x="574" y="61"/>
                </a:lnTo>
                <a:lnTo>
                  <a:pt x="581" y="71"/>
                </a:lnTo>
                <a:lnTo>
                  <a:pt x="589" y="78"/>
                </a:lnTo>
                <a:lnTo>
                  <a:pt x="597" y="86"/>
                </a:lnTo>
                <a:lnTo>
                  <a:pt x="600" y="94"/>
                </a:lnTo>
                <a:lnTo>
                  <a:pt x="606" y="103"/>
                </a:lnTo>
                <a:lnTo>
                  <a:pt x="610" y="111"/>
                </a:lnTo>
                <a:lnTo>
                  <a:pt x="614" y="121"/>
                </a:lnTo>
                <a:lnTo>
                  <a:pt x="616" y="130"/>
                </a:lnTo>
                <a:lnTo>
                  <a:pt x="618" y="142"/>
                </a:lnTo>
                <a:lnTo>
                  <a:pt x="618" y="153"/>
                </a:lnTo>
                <a:lnTo>
                  <a:pt x="616" y="159"/>
                </a:lnTo>
                <a:lnTo>
                  <a:pt x="614" y="167"/>
                </a:lnTo>
                <a:lnTo>
                  <a:pt x="612" y="176"/>
                </a:lnTo>
                <a:lnTo>
                  <a:pt x="608" y="188"/>
                </a:lnTo>
                <a:lnTo>
                  <a:pt x="606" y="201"/>
                </a:lnTo>
                <a:lnTo>
                  <a:pt x="602" y="215"/>
                </a:lnTo>
                <a:lnTo>
                  <a:pt x="600" y="230"/>
                </a:lnTo>
                <a:lnTo>
                  <a:pt x="597" y="245"/>
                </a:lnTo>
                <a:lnTo>
                  <a:pt x="593" y="263"/>
                </a:lnTo>
                <a:lnTo>
                  <a:pt x="589" y="282"/>
                </a:lnTo>
                <a:lnTo>
                  <a:pt x="585" y="303"/>
                </a:lnTo>
                <a:lnTo>
                  <a:pt x="579" y="324"/>
                </a:lnTo>
                <a:lnTo>
                  <a:pt x="576" y="345"/>
                </a:lnTo>
                <a:lnTo>
                  <a:pt x="572" y="368"/>
                </a:lnTo>
                <a:lnTo>
                  <a:pt x="566" y="393"/>
                </a:lnTo>
                <a:lnTo>
                  <a:pt x="562" y="420"/>
                </a:lnTo>
                <a:lnTo>
                  <a:pt x="554" y="447"/>
                </a:lnTo>
                <a:lnTo>
                  <a:pt x="547" y="474"/>
                </a:lnTo>
                <a:lnTo>
                  <a:pt x="539" y="503"/>
                </a:lnTo>
                <a:lnTo>
                  <a:pt x="529" y="529"/>
                </a:lnTo>
                <a:lnTo>
                  <a:pt x="520" y="556"/>
                </a:lnTo>
                <a:lnTo>
                  <a:pt x="510" y="583"/>
                </a:lnTo>
                <a:lnTo>
                  <a:pt x="501" y="610"/>
                </a:lnTo>
                <a:lnTo>
                  <a:pt x="489" y="637"/>
                </a:lnTo>
                <a:lnTo>
                  <a:pt x="480" y="662"/>
                </a:lnTo>
                <a:lnTo>
                  <a:pt x="466" y="689"/>
                </a:lnTo>
                <a:lnTo>
                  <a:pt x="455" y="716"/>
                </a:lnTo>
                <a:lnTo>
                  <a:pt x="441" y="741"/>
                </a:lnTo>
                <a:lnTo>
                  <a:pt x="428" y="767"/>
                </a:lnTo>
                <a:lnTo>
                  <a:pt x="414" y="794"/>
                </a:lnTo>
                <a:lnTo>
                  <a:pt x="399" y="819"/>
                </a:lnTo>
                <a:lnTo>
                  <a:pt x="384" y="846"/>
                </a:lnTo>
                <a:lnTo>
                  <a:pt x="368" y="871"/>
                </a:lnTo>
                <a:lnTo>
                  <a:pt x="353" y="896"/>
                </a:lnTo>
                <a:lnTo>
                  <a:pt x="338" y="919"/>
                </a:lnTo>
                <a:lnTo>
                  <a:pt x="322" y="940"/>
                </a:lnTo>
                <a:lnTo>
                  <a:pt x="309" y="961"/>
                </a:lnTo>
                <a:lnTo>
                  <a:pt x="293" y="980"/>
                </a:lnTo>
                <a:lnTo>
                  <a:pt x="278" y="1000"/>
                </a:lnTo>
                <a:lnTo>
                  <a:pt x="263" y="1017"/>
                </a:lnTo>
                <a:lnTo>
                  <a:pt x="247" y="1032"/>
                </a:lnTo>
                <a:lnTo>
                  <a:pt x="234" y="1048"/>
                </a:lnTo>
                <a:lnTo>
                  <a:pt x="219" y="1063"/>
                </a:lnTo>
                <a:lnTo>
                  <a:pt x="203" y="1076"/>
                </a:lnTo>
                <a:lnTo>
                  <a:pt x="188" y="1090"/>
                </a:lnTo>
                <a:lnTo>
                  <a:pt x="173" y="1101"/>
                </a:lnTo>
                <a:lnTo>
                  <a:pt x="157" y="1113"/>
                </a:lnTo>
                <a:lnTo>
                  <a:pt x="142" y="1122"/>
                </a:lnTo>
                <a:lnTo>
                  <a:pt x="126" y="1132"/>
                </a:lnTo>
                <a:lnTo>
                  <a:pt x="113" y="1142"/>
                </a:lnTo>
                <a:lnTo>
                  <a:pt x="100" y="1149"/>
                </a:lnTo>
                <a:lnTo>
                  <a:pt x="86" y="1157"/>
                </a:lnTo>
                <a:lnTo>
                  <a:pt x="75" y="1165"/>
                </a:lnTo>
                <a:lnTo>
                  <a:pt x="63" y="1170"/>
                </a:lnTo>
                <a:lnTo>
                  <a:pt x="54" y="1174"/>
                </a:lnTo>
                <a:lnTo>
                  <a:pt x="44" y="1180"/>
                </a:lnTo>
                <a:lnTo>
                  <a:pt x="36" y="1182"/>
                </a:lnTo>
                <a:lnTo>
                  <a:pt x="29" y="1186"/>
                </a:lnTo>
                <a:lnTo>
                  <a:pt x="21" y="1188"/>
                </a:lnTo>
                <a:lnTo>
                  <a:pt x="15" y="1190"/>
                </a:lnTo>
                <a:lnTo>
                  <a:pt x="11" y="1190"/>
                </a:lnTo>
                <a:lnTo>
                  <a:pt x="7" y="1190"/>
                </a:lnTo>
                <a:lnTo>
                  <a:pt x="4" y="1188"/>
                </a:lnTo>
                <a:lnTo>
                  <a:pt x="2" y="1188"/>
                </a:lnTo>
                <a:lnTo>
                  <a:pt x="0" y="1184"/>
                </a:lnTo>
                <a:lnTo>
                  <a:pt x="0" y="1182"/>
                </a:lnTo>
                <a:lnTo>
                  <a:pt x="0" y="1178"/>
                </a:lnTo>
                <a:lnTo>
                  <a:pt x="2" y="1172"/>
                </a:lnTo>
                <a:lnTo>
                  <a:pt x="4" y="1169"/>
                </a:lnTo>
                <a:lnTo>
                  <a:pt x="7" y="1163"/>
                </a:lnTo>
                <a:lnTo>
                  <a:pt x="11" y="1155"/>
                </a:lnTo>
                <a:lnTo>
                  <a:pt x="17" y="1149"/>
                </a:lnTo>
                <a:lnTo>
                  <a:pt x="21" y="1140"/>
                </a:lnTo>
                <a:lnTo>
                  <a:pt x="29" y="1132"/>
                </a:lnTo>
                <a:lnTo>
                  <a:pt x="36" y="1122"/>
                </a:lnTo>
                <a:lnTo>
                  <a:pt x="44" y="1113"/>
                </a:lnTo>
                <a:lnTo>
                  <a:pt x="54" y="1103"/>
                </a:lnTo>
                <a:lnTo>
                  <a:pt x="63" y="1094"/>
                </a:lnTo>
                <a:lnTo>
                  <a:pt x="75" y="1082"/>
                </a:lnTo>
                <a:lnTo>
                  <a:pt x="86" y="1071"/>
                </a:lnTo>
                <a:lnTo>
                  <a:pt x="98" y="1059"/>
                </a:lnTo>
                <a:lnTo>
                  <a:pt x="109" y="1048"/>
                </a:lnTo>
                <a:lnTo>
                  <a:pt x="123" y="1036"/>
                </a:lnTo>
                <a:lnTo>
                  <a:pt x="134" y="1023"/>
                </a:lnTo>
                <a:lnTo>
                  <a:pt x="148" y="1007"/>
                </a:lnTo>
                <a:lnTo>
                  <a:pt x="159" y="992"/>
                </a:lnTo>
                <a:lnTo>
                  <a:pt x="173" y="977"/>
                </a:lnTo>
                <a:lnTo>
                  <a:pt x="184" y="961"/>
                </a:lnTo>
                <a:lnTo>
                  <a:pt x="196" y="944"/>
                </a:lnTo>
                <a:lnTo>
                  <a:pt x="209" y="925"/>
                </a:lnTo>
                <a:lnTo>
                  <a:pt x="220" y="906"/>
                </a:lnTo>
                <a:lnTo>
                  <a:pt x="234" y="886"/>
                </a:lnTo>
                <a:lnTo>
                  <a:pt x="245" y="867"/>
                </a:lnTo>
                <a:lnTo>
                  <a:pt x="257" y="846"/>
                </a:lnTo>
                <a:lnTo>
                  <a:pt x="270" y="825"/>
                </a:lnTo>
                <a:lnTo>
                  <a:pt x="282" y="804"/>
                </a:lnTo>
                <a:lnTo>
                  <a:pt x="293" y="781"/>
                </a:lnTo>
                <a:lnTo>
                  <a:pt x="305" y="758"/>
                </a:lnTo>
                <a:lnTo>
                  <a:pt x="315" y="735"/>
                </a:lnTo>
                <a:lnTo>
                  <a:pt x="326" y="712"/>
                </a:lnTo>
                <a:lnTo>
                  <a:pt x="336" y="687"/>
                </a:lnTo>
                <a:lnTo>
                  <a:pt x="343" y="664"/>
                </a:lnTo>
                <a:lnTo>
                  <a:pt x="361" y="614"/>
                </a:lnTo>
                <a:lnTo>
                  <a:pt x="376" y="564"/>
                </a:lnTo>
                <a:lnTo>
                  <a:pt x="389" y="512"/>
                </a:lnTo>
                <a:lnTo>
                  <a:pt x="401" y="460"/>
                </a:lnTo>
                <a:lnTo>
                  <a:pt x="412" y="40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Freeform 51"/>
          <p:cNvSpPr/>
          <p:nvPr/>
        </p:nvSpPr>
        <p:spPr>
          <a:xfrm>
            <a:off x="2925720" y="2463840"/>
            <a:ext cx="884160" cy="1344600"/>
          </a:xfrm>
          <a:custGeom>
            <a:avLst/>
            <a:gdLst>
              <a:gd name="textAreaLeft" fmla="*/ 0 w 884160"/>
              <a:gd name="textAreaRight" fmla="*/ 884520 w 88416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1113" h="1693">
                <a:moveTo>
                  <a:pt x="367" y="505"/>
                </a:moveTo>
                <a:lnTo>
                  <a:pt x="384" y="542"/>
                </a:lnTo>
                <a:lnTo>
                  <a:pt x="401" y="576"/>
                </a:lnTo>
                <a:lnTo>
                  <a:pt x="418" y="613"/>
                </a:lnTo>
                <a:lnTo>
                  <a:pt x="434" y="647"/>
                </a:lnTo>
                <a:lnTo>
                  <a:pt x="468" y="714"/>
                </a:lnTo>
                <a:lnTo>
                  <a:pt x="499" y="780"/>
                </a:lnTo>
                <a:lnTo>
                  <a:pt x="532" y="843"/>
                </a:lnTo>
                <a:lnTo>
                  <a:pt x="560" y="906"/>
                </a:lnTo>
                <a:lnTo>
                  <a:pt x="591" y="968"/>
                </a:lnTo>
                <a:lnTo>
                  <a:pt x="618" y="1029"/>
                </a:lnTo>
                <a:lnTo>
                  <a:pt x="631" y="1058"/>
                </a:lnTo>
                <a:lnTo>
                  <a:pt x="645" y="1087"/>
                </a:lnTo>
                <a:lnTo>
                  <a:pt x="658" y="1114"/>
                </a:lnTo>
                <a:lnTo>
                  <a:pt x="672" y="1138"/>
                </a:lnTo>
                <a:lnTo>
                  <a:pt x="685" y="1163"/>
                </a:lnTo>
                <a:lnTo>
                  <a:pt x="699" y="1186"/>
                </a:lnTo>
                <a:lnTo>
                  <a:pt x="712" y="1209"/>
                </a:lnTo>
                <a:lnTo>
                  <a:pt x="723" y="1231"/>
                </a:lnTo>
                <a:lnTo>
                  <a:pt x="737" y="1252"/>
                </a:lnTo>
                <a:lnTo>
                  <a:pt x="750" y="1271"/>
                </a:lnTo>
                <a:lnTo>
                  <a:pt x="762" y="1290"/>
                </a:lnTo>
                <a:lnTo>
                  <a:pt x="775" y="1307"/>
                </a:lnTo>
                <a:lnTo>
                  <a:pt x="787" y="1325"/>
                </a:lnTo>
                <a:lnTo>
                  <a:pt x="798" y="1340"/>
                </a:lnTo>
                <a:lnTo>
                  <a:pt x="812" y="1355"/>
                </a:lnTo>
                <a:lnTo>
                  <a:pt x="823" y="1369"/>
                </a:lnTo>
                <a:lnTo>
                  <a:pt x="835" y="1384"/>
                </a:lnTo>
                <a:lnTo>
                  <a:pt x="848" y="1398"/>
                </a:lnTo>
                <a:lnTo>
                  <a:pt x="871" y="1422"/>
                </a:lnTo>
                <a:lnTo>
                  <a:pt x="894" y="1446"/>
                </a:lnTo>
                <a:lnTo>
                  <a:pt x="917" y="1469"/>
                </a:lnTo>
                <a:lnTo>
                  <a:pt x="940" y="1490"/>
                </a:lnTo>
                <a:lnTo>
                  <a:pt x="963" y="1511"/>
                </a:lnTo>
                <a:lnTo>
                  <a:pt x="986" y="1530"/>
                </a:lnTo>
                <a:lnTo>
                  <a:pt x="1009" y="1551"/>
                </a:lnTo>
                <a:lnTo>
                  <a:pt x="1021" y="1561"/>
                </a:lnTo>
                <a:lnTo>
                  <a:pt x="1032" y="1570"/>
                </a:lnTo>
                <a:lnTo>
                  <a:pt x="1042" y="1580"/>
                </a:lnTo>
                <a:lnTo>
                  <a:pt x="1052" y="1589"/>
                </a:lnTo>
                <a:lnTo>
                  <a:pt x="1061" y="1597"/>
                </a:lnTo>
                <a:lnTo>
                  <a:pt x="1069" y="1607"/>
                </a:lnTo>
                <a:lnTo>
                  <a:pt x="1075" y="1614"/>
                </a:lnTo>
                <a:lnTo>
                  <a:pt x="1082" y="1622"/>
                </a:lnTo>
                <a:lnTo>
                  <a:pt x="1088" y="1628"/>
                </a:lnTo>
                <a:lnTo>
                  <a:pt x="1094" y="1636"/>
                </a:lnTo>
                <a:lnTo>
                  <a:pt x="1098" y="1641"/>
                </a:lnTo>
                <a:lnTo>
                  <a:pt x="1102" y="1649"/>
                </a:lnTo>
                <a:lnTo>
                  <a:pt x="1105" y="1655"/>
                </a:lnTo>
                <a:lnTo>
                  <a:pt x="1107" y="1659"/>
                </a:lnTo>
                <a:lnTo>
                  <a:pt x="1111" y="1664"/>
                </a:lnTo>
                <a:lnTo>
                  <a:pt x="1113" y="1668"/>
                </a:lnTo>
                <a:lnTo>
                  <a:pt x="1111" y="1672"/>
                </a:lnTo>
                <a:lnTo>
                  <a:pt x="1109" y="1676"/>
                </a:lnTo>
                <a:lnTo>
                  <a:pt x="1107" y="1680"/>
                </a:lnTo>
                <a:lnTo>
                  <a:pt x="1102" y="1682"/>
                </a:lnTo>
                <a:lnTo>
                  <a:pt x="1096" y="1685"/>
                </a:lnTo>
                <a:lnTo>
                  <a:pt x="1090" y="1687"/>
                </a:lnTo>
                <a:lnTo>
                  <a:pt x="1080" y="1689"/>
                </a:lnTo>
                <a:lnTo>
                  <a:pt x="1071" y="1691"/>
                </a:lnTo>
                <a:lnTo>
                  <a:pt x="1061" y="1691"/>
                </a:lnTo>
                <a:lnTo>
                  <a:pt x="1050" y="1693"/>
                </a:lnTo>
                <a:lnTo>
                  <a:pt x="1036" y="1693"/>
                </a:lnTo>
                <a:lnTo>
                  <a:pt x="1023" y="1693"/>
                </a:lnTo>
                <a:lnTo>
                  <a:pt x="1008" y="1693"/>
                </a:lnTo>
                <a:lnTo>
                  <a:pt x="990" y="1693"/>
                </a:lnTo>
                <a:lnTo>
                  <a:pt x="973" y="1691"/>
                </a:lnTo>
                <a:lnTo>
                  <a:pt x="954" y="1689"/>
                </a:lnTo>
                <a:lnTo>
                  <a:pt x="933" y="1687"/>
                </a:lnTo>
                <a:lnTo>
                  <a:pt x="913" y="1685"/>
                </a:lnTo>
                <a:lnTo>
                  <a:pt x="896" y="1683"/>
                </a:lnTo>
                <a:lnTo>
                  <a:pt x="879" y="1682"/>
                </a:lnTo>
                <a:lnTo>
                  <a:pt x="862" y="1680"/>
                </a:lnTo>
                <a:lnTo>
                  <a:pt x="848" y="1678"/>
                </a:lnTo>
                <a:lnTo>
                  <a:pt x="833" y="1676"/>
                </a:lnTo>
                <a:lnTo>
                  <a:pt x="819" y="1674"/>
                </a:lnTo>
                <a:lnTo>
                  <a:pt x="808" y="1672"/>
                </a:lnTo>
                <a:lnTo>
                  <a:pt x="796" y="1670"/>
                </a:lnTo>
                <a:lnTo>
                  <a:pt x="787" y="1668"/>
                </a:lnTo>
                <a:lnTo>
                  <a:pt x="777" y="1666"/>
                </a:lnTo>
                <a:lnTo>
                  <a:pt x="770" y="1664"/>
                </a:lnTo>
                <a:lnTo>
                  <a:pt x="762" y="1660"/>
                </a:lnTo>
                <a:lnTo>
                  <a:pt x="754" y="1659"/>
                </a:lnTo>
                <a:lnTo>
                  <a:pt x="748" y="1657"/>
                </a:lnTo>
                <a:lnTo>
                  <a:pt x="745" y="1655"/>
                </a:lnTo>
                <a:lnTo>
                  <a:pt x="739" y="1653"/>
                </a:lnTo>
                <a:lnTo>
                  <a:pt x="729" y="1645"/>
                </a:lnTo>
                <a:lnTo>
                  <a:pt x="722" y="1637"/>
                </a:lnTo>
                <a:lnTo>
                  <a:pt x="712" y="1626"/>
                </a:lnTo>
                <a:lnTo>
                  <a:pt x="704" y="1614"/>
                </a:lnTo>
                <a:lnTo>
                  <a:pt x="699" y="1601"/>
                </a:lnTo>
                <a:lnTo>
                  <a:pt x="691" y="1588"/>
                </a:lnTo>
                <a:lnTo>
                  <a:pt x="683" y="1572"/>
                </a:lnTo>
                <a:lnTo>
                  <a:pt x="681" y="1568"/>
                </a:lnTo>
                <a:lnTo>
                  <a:pt x="679" y="1563"/>
                </a:lnTo>
                <a:lnTo>
                  <a:pt x="677" y="1555"/>
                </a:lnTo>
                <a:lnTo>
                  <a:pt x="674" y="1547"/>
                </a:lnTo>
                <a:lnTo>
                  <a:pt x="670" y="1540"/>
                </a:lnTo>
                <a:lnTo>
                  <a:pt x="666" y="1530"/>
                </a:lnTo>
                <a:lnTo>
                  <a:pt x="662" y="1520"/>
                </a:lnTo>
                <a:lnTo>
                  <a:pt x="658" y="1509"/>
                </a:lnTo>
                <a:lnTo>
                  <a:pt x="652" y="1495"/>
                </a:lnTo>
                <a:lnTo>
                  <a:pt x="647" y="1482"/>
                </a:lnTo>
                <a:lnTo>
                  <a:pt x="641" y="1469"/>
                </a:lnTo>
                <a:lnTo>
                  <a:pt x="635" y="1453"/>
                </a:lnTo>
                <a:lnTo>
                  <a:pt x="629" y="1436"/>
                </a:lnTo>
                <a:lnTo>
                  <a:pt x="622" y="1419"/>
                </a:lnTo>
                <a:lnTo>
                  <a:pt x="614" y="1401"/>
                </a:lnTo>
                <a:lnTo>
                  <a:pt x="606" y="1382"/>
                </a:lnTo>
                <a:lnTo>
                  <a:pt x="599" y="1361"/>
                </a:lnTo>
                <a:lnTo>
                  <a:pt x="591" y="1340"/>
                </a:lnTo>
                <a:lnTo>
                  <a:pt x="581" y="1319"/>
                </a:lnTo>
                <a:lnTo>
                  <a:pt x="574" y="1296"/>
                </a:lnTo>
                <a:lnTo>
                  <a:pt x="564" y="1271"/>
                </a:lnTo>
                <a:lnTo>
                  <a:pt x="555" y="1246"/>
                </a:lnTo>
                <a:lnTo>
                  <a:pt x="545" y="1219"/>
                </a:lnTo>
                <a:lnTo>
                  <a:pt x="535" y="1192"/>
                </a:lnTo>
                <a:lnTo>
                  <a:pt x="524" y="1165"/>
                </a:lnTo>
                <a:lnTo>
                  <a:pt x="512" y="1137"/>
                </a:lnTo>
                <a:lnTo>
                  <a:pt x="501" y="1106"/>
                </a:lnTo>
                <a:lnTo>
                  <a:pt x="489" y="1075"/>
                </a:lnTo>
                <a:lnTo>
                  <a:pt x="478" y="1044"/>
                </a:lnTo>
                <a:lnTo>
                  <a:pt x="466" y="1012"/>
                </a:lnTo>
                <a:lnTo>
                  <a:pt x="455" y="977"/>
                </a:lnTo>
                <a:lnTo>
                  <a:pt x="441" y="943"/>
                </a:lnTo>
                <a:lnTo>
                  <a:pt x="428" y="908"/>
                </a:lnTo>
                <a:lnTo>
                  <a:pt x="415" y="876"/>
                </a:lnTo>
                <a:lnTo>
                  <a:pt x="401" y="841"/>
                </a:lnTo>
                <a:lnTo>
                  <a:pt x="388" y="810"/>
                </a:lnTo>
                <a:lnTo>
                  <a:pt x="376" y="778"/>
                </a:lnTo>
                <a:lnTo>
                  <a:pt x="365" y="749"/>
                </a:lnTo>
                <a:lnTo>
                  <a:pt x="353" y="718"/>
                </a:lnTo>
                <a:lnTo>
                  <a:pt x="342" y="691"/>
                </a:lnTo>
                <a:lnTo>
                  <a:pt x="330" y="663"/>
                </a:lnTo>
                <a:lnTo>
                  <a:pt x="319" y="636"/>
                </a:lnTo>
                <a:lnTo>
                  <a:pt x="309" y="611"/>
                </a:lnTo>
                <a:lnTo>
                  <a:pt x="297" y="584"/>
                </a:lnTo>
                <a:lnTo>
                  <a:pt x="288" y="561"/>
                </a:lnTo>
                <a:lnTo>
                  <a:pt x="278" y="536"/>
                </a:lnTo>
                <a:lnTo>
                  <a:pt x="269" y="515"/>
                </a:lnTo>
                <a:lnTo>
                  <a:pt x="261" y="492"/>
                </a:lnTo>
                <a:lnTo>
                  <a:pt x="251" y="471"/>
                </a:lnTo>
                <a:lnTo>
                  <a:pt x="244" y="451"/>
                </a:lnTo>
                <a:lnTo>
                  <a:pt x="236" y="432"/>
                </a:lnTo>
                <a:lnTo>
                  <a:pt x="228" y="413"/>
                </a:lnTo>
                <a:lnTo>
                  <a:pt x="221" y="396"/>
                </a:lnTo>
                <a:lnTo>
                  <a:pt x="213" y="379"/>
                </a:lnTo>
                <a:lnTo>
                  <a:pt x="207" y="361"/>
                </a:lnTo>
                <a:lnTo>
                  <a:pt x="200" y="346"/>
                </a:lnTo>
                <a:lnTo>
                  <a:pt x="194" y="332"/>
                </a:lnTo>
                <a:lnTo>
                  <a:pt x="188" y="317"/>
                </a:lnTo>
                <a:lnTo>
                  <a:pt x="182" y="304"/>
                </a:lnTo>
                <a:lnTo>
                  <a:pt x="178" y="292"/>
                </a:lnTo>
                <a:lnTo>
                  <a:pt x="173" y="281"/>
                </a:lnTo>
                <a:lnTo>
                  <a:pt x="169" y="269"/>
                </a:lnTo>
                <a:lnTo>
                  <a:pt x="165" y="260"/>
                </a:lnTo>
                <a:lnTo>
                  <a:pt x="161" y="250"/>
                </a:lnTo>
                <a:lnTo>
                  <a:pt x="155" y="233"/>
                </a:lnTo>
                <a:lnTo>
                  <a:pt x="148" y="215"/>
                </a:lnTo>
                <a:lnTo>
                  <a:pt x="140" y="200"/>
                </a:lnTo>
                <a:lnTo>
                  <a:pt x="134" y="187"/>
                </a:lnTo>
                <a:lnTo>
                  <a:pt x="127" y="171"/>
                </a:lnTo>
                <a:lnTo>
                  <a:pt x="121" y="160"/>
                </a:lnTo>
                <a:lnTo>
                  <a:pt x="113" y="148"/>
                </a:lnTo>
                <a:lnTo>
                  <a:pt x="107" y="137"/>
                </a:lnTo>
                <a:lnTo>
                  <a:pt x="100" y="127"/>
                </a:lnTo>
                <a:lnTo>
                  <a:pt x="94" y="118"/>
                </a:lnTo>
                <a:lnTo>
                  <a:pt x="88" y="110"/>
                </a:lnTo>
                <a:lnTo>
                  <a:pt x="81" y="102"/>
                </a:lnTo>
                <a:lnTo>
                  <a:pt x="75" y="94"/>
                </a:lnTo>
                <a:lnTo>
                  <a:pt x="69" y="89"/>
                </a:lnTo>
                <a:lnTo>
                  <a:pt x="65" y="83"/>
                </a:lnTo>
                <a:lnTo>
                  <a:pt x="59" y="79"/>
                </a:lnTo>
                <a:lnTo>
                  <a:pt x="50" y="75"/>
                </a:lnTo>
                <a:lnTo>
                  <a:pt x="40" y="70"/>
                </a:lnTo>
                <a:lnTo>
                  <a:pt x="31" y="64"/>
                </a:lnTo>
                <a:lnTo>
                  <a:pt x="23" y="58"/>
                </a:lnTo>
                <a:lnTo>
                  <a:pt x="17" y="52"/>
                </a:lnTo>
                <a:lnTo>
                  <a:pt x="12" y="47"/>
                </a:lnTo>
                <a:lnTo>
                  <a:pt x="8" y="41"/>
                </a:lnTo>
                <a:lnTo>
                  <a:pt x="4" y="37"/>
                </a:lnTo>
                <a:lnTo>
                  <a:pt x="2" y="35"/>
                </a:lnTo>
                <a:lnTo>
                  <a:pt x="0" y="33"/>
                </a:lnTo>
                <a:lnTo>
                  <a:pt x="0" y="31"/>
                </a:lnTo>
                <a:lnTo>
                  <a:pt x="2" y="29"/>
                </a:lnTo>
                <a:lnTo>
                  <a:pt x="2" y="27"/>
                </a:lnTo>
                <a:lnTo>
                  <a:pt x="4" y="25"/>
                </a:lnTo>
                <a:lnTo>
                  <a:pt x="6" y="23"/>
                </a:lnTo>
                <a:lnTo>
                  <a:pt x="8" y="22"/>
                </a:lnTo>
                <a:lnTo>
                  <a:pt x="13" y="18"/>
                </a:lnTo>
                <a:lnTo>
                  <a:pt x="21" y="12"/>
                </a:lnTo>
                <a:lnTo>
                  <a:pt x="31" y="8"/>
                </a:lnTo>
                <a:lnTo>
                  <a:pt x="40" y="4"/>
                </a:lnTo>
                <a:lnTo>
                  <a:pt x="46" y="2"/>
                </a:lnTo>
                <a:lnTo>
                  <a:pt x="50" y="2"/>
                </a:lnTo>
                <a:lnTo>
                  <a:pt x="61" y="0"/>
                </a:lnTo>
                <a:lnTo>
                  <a:pt x="73" y="0"/>
                </a:lnTo>
                <a:lnTo>
                  <a:pt x="83" y="2"/>
                </a:lnTo>
                <a:lnTo>
                  <a:pt x="96" y="4"/>
                </a:lnTo>
                <a:lnTo>
                  <a:pt x="107" y="8"/>
                </a:lnTo>
                <a:lnTo>
                  <a:pt x="121" y="12"/>
                </a:lnTo>
                <a:lnTo>
                  <a:pt x="134" y="16"/>
                </a:lnTo>
                <a:lnTo>
                  <a:pt x="138" y="18"/>
                </a:lnTo>
                <a:lnTo>
                  <a:pt x="144" y="22"/>
                </a:lnTo>
                <a:lnTo>
                  <a:pt x="150" y="25"/>
                </a:lnTo>
                <a:lnTo>
                  <a:pt x="154" y="29"/>
                </a:lnTo>
                <a:lnTo>
                  <a:pt x="159" y="35"/>
                </a:lnTo>
                <a:lnTo>
                  <a:pt x="165" y="39"/>
                </a:lnTo>
                <a:lnTo>
                  <a:pt x="169" y="47"/>
                </a:lnTo>
                <a:lnTo>
                  <a:pt x="175" y="52"/>
                </a:lnTo>
                <a:lnTo>
                  <a:pt x="178" y="60"/>
                </a:lnTo>
                <a:lnTo>
                  <a:pt x="184" y="68"/>
                </a:lnTo>
                <a:lnTo>
                  <a:pt x="192" y="85"/>
                </a:lnTo>
                <a:lnTo>
                  <a:pt x="201" y="102"/>
                </a:lnTo>
                <a:lnTo>
                  <a:pt x="207" y="121"/>
                </a:lnTo>
                <a:lnTo>
                  <a:pt x="211" y="135"/>
                </a:lnTo>
                <a:lnTo>
                  <a:pt x="217" y="148"/>
                </a:lnTo>
                <a:lnTo>
                  <a:pt x="223" y="165"/>
                </a:lnTo>
                <a:lnTo>
                  <a:pt x="228" y="183"/>
                </a:lnTo>
                <a:lnTo>
                  <a:pt x="236" y="200"/>
                </a:lnTo>
                <a:lnTo>
                  <a:pt x="244" y="221"/>
                </a:lnTo>
                <a:lnTo>
                  <a:pt x="253" y="242"/>
                </a:lnTo>
                <a:lnTo>
                  <a:pt x="263" y="265"/>
                </a:lnTo>
                <a:lnTo>
                  <a:pt x="274" y="290"/>
                </a:lnTo>
                <a:lnTo>
                  <a:pt x="286" y="317"/>
                </a:lnTo>
                <a:lnTo>
                  <a:pt x="297" y="344"/>
                </a:lnTo>
                <a:lnTo>
                  <a:pt x="309" y="373"/>
                </a:lnTo>
                <a:lnTo>
                  <a:pt x="322" y="405"/>
                </a:lnTo>
                <a:lnTo>
                  <a:pt x="338" y="436"/>
                </a:lnTo>
                <a:lnTo>
                  <a:pt x="351" y="471"/>
                </a:lnTo>
                <a:lnTo>
                  <a:pt x="367" y="50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Freeform 52"/>
          <p:cNvSpPr/>
          <p:nvPr/>
        </p:nvSpPr>
        <p:spPr>
          <a:xfrm>
            <a:off x="2098800" y="2824200"/>
            <a:ext cx="608040" cy="201600"/>
          </a:xfrm>
          <a:custGeom>
            <a:avLst/>
            <a:gdLst>
              <a:gd name="textAreaLeft" fmla="*/ 0 w 608040"/>
              <a:gd name="textAreaRight" fmla="*/ 608400 w 6080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66" h="256">
                <a:moveTo>
                  <a:pt x="309" y="96"/>
                </a:moveTo>
                <a:lnTo>
                  <a:pt x="328" y="89"/>
                </a:lnTo>
                <a:lnTo>
                  <a:pt x="345" y="83"/>
                </a:lnTo>
                <a:lnTo>
                  <a:pt x="365" y="77"/>
                </a:lnTo>
                <a:lnTo>
                  <a:pt x="382" y="73"/>
                </a:lnTo>
                <a:lnTo>
                  <a:pt x="397" y="68"/>
                </a:lnTo>
                <a:lnTo>
                  <a:pt x="414" y="62"/>
                </a:lnTo>
                <a:lnTo>
                  <a:pt x="430" y="58"/>
                </a:lnTo>
                <a:lnTo>
                  <a:pt x="445" y="52"/>
                </a:lnTo>
                <a:lnTo>
                  <a:pt x="459" y="48"/>
                </a:lnTo>
                <a:lnTo>
                  <a:pt x="474" y="44"/>
                </a:lnTo>
                <a:lnTo>
                  <a:pt x="487" y="41"/>
                </a:lnTo>
                <a:lnTo>
                  <a:pt x="501" y="37"/>
                </a:lnTo>
                <a:lnTo>
                  <a:pt x="512" y="33"/>
                </a:lnTo>
                <a:lnTo>
                  <a:pt x="524" y="29"/>
                </a:lnTo>
                <a:lnTo>
                  <a:pt x="535" y="25"/>
                </a:lnTo>
                <a:lnTo>
                  <a:pt x="547" y="23"/>
                </a:lnTo>
                <a:lnTo>
                  <a:pt x="558" y="20"/>
                </a:lnTo>
                <a:lnTo>
                  <a:pt x="568" y="18"/>
                </a:lnTo>
                <a:lnTo>
                  <a:pt x="578" y="16"/>
                </a:lnTo>
                <a:lnTo>
                  <a:pt x="585" y="12"/>
                </a:lnTo>
                <a:lnTo>
                  <a:pt x="595" y="10"/>
                </a:lnTo>
                <a:lnTo>
                  <a:pt x="603" y="8"/>
                </a:lnTo>
                <a:lnTo>
                  <a:pt x="610" y="6"/>
                </a:lnTo>
                <a:lnTo>
                  <a:pt x="616" y="6"/>
                </a:lnTo>
                <a:lnTo>
                  <a:pt x="624" y="4"/>
                </a:lnTo>
                <a:lnTo>
                  <a:pt x="629" y="2"/>
                </a:lnTo>
                <a:lnTo>
                  <a:pt x="633" y="2"/>
                </a:lnTo>
                <a:lnTo>
                  <a:pt x="639" y="0"/>
                </a:lnTo>
                <a:lnTo>
                  <a:pt x="643" y="0"/>
                </a:lnTo>
                <a:lnTo>
                  <a:pt x="647" y="0"/>
                </a:lnTo>
                <a:lnTo>
                  <a:pt x="650" y="0"/>
                </a:lnTo>
                <a:lnTo>
                  <a:pt x="654" y="0"/>
                </a:lnTo>
                <a:lnTo>
                  <a:pt x="664" y="0"/>
                </a:lnTo>
                <a:lnTo>
                  <a:pt x="674" y="0"/>
                </a:lnTo>
                <a:lnTo>
                  <a:pt x="681" y="0"/>
                </a:lnTo>
                <a:lnTo>
                  <a:pt x="691" y="0"/>
                </a:lnTo>
                <a:lnTo>
                  <a:pt x="700" y="2"/>
                </a:lnTo>
                <a:lnTo>
                  <a:pt x="708" y="4"/>
                </a:lnTo>
                <a:lnTo>
                  <a:pt x="718" y="6"/>
                </a:lnTo>
                <a:lnTo>
                  <a:pt x="727" y="10"/>
                </a:lnTo>
                <a:lnTo>
                  <a:pt x="737" y="14"/>
                </a:lnTo>
                <a:lnTo>
                  <a:pt x="746" y="20"/>
                </a:lnTo>
                <a:lnTo>
                  <a:pt x="752" y="25"/>
                </a:lnTo>
                <a:lnTo>
                  <a:pt x="758" y="31"/>
                </a:lnTo>
                <a:lnTo>
                  <a:pt x="760" y="37"/>
                </a:lnTo>
                <a:lnTo>
                  <a:pt x="764" y="43"/>
                </a:lnTo>
                <a:lnTo>
                  <a:pt x="766" y="48"/>
                </a:lnTo>
                <a:lnTo>
                  <a:pt x="766" y="52"/>
                </a:lnTo>
                <a:lnTo>
                  <a:pt x="766" y="56"/>
                </a:lnTo>
                <a:lnTo>
                  <a:pt x="764" y="62"/>
                </a:lnTo>
                <a:lnTo>
                  <a:pt x="762" y="66"/>
                </a:lnTo>
                <a:lnTo>
                  <a:pt x="760" y="69"/>
                </a:lnTo>
                <a:lnTo>
                  <a:pt x="756" y="73"/>
                </a:lnTo>
                <a:lnTo>
                  <a:pt x="754" y="77"/>
                </a:lnTo>
                <a:lnTo>
                  <a:pt x="748" y="81"/>
                </a:lnTo>
                <a:lnTo>
                  <a:pt x="745" y="87"/>
                </a:lnTo>
                <a:lnTo>
                  <a:pt x="739" y="91"/>
                </a:lnTo>
                <a:lnTo>
                  <a:pt x="733" y="94"/>
                </a:lnTo>
                <a:lnTo>
                  <a:pt x="725" y="100"/>
                </a:lnTo>
                <a:lnTo>
                  <a:pt x="718" y="106"/>
                </a:lnTo>
                <a:lnTo>
                  <a:pt x="710" y="110"/>
                </a:lnTo>
                <a:lnTo>
                  <a:pt x="700" y="115"/>
                </a:lnTo>
                <a:lnTo>
                  <a:pt x="691" y="121"/>
                </a:lnTo>
                <a:lnTo>
                  <a:pt x="681" y="127"/>
                </a:lnTo>
                <a:lnTo>
                  <a:pt x="670" y="133"/>
                </a:lnTo>
                <a:lnTo>
                  <a:pt x="656" y="139"/>
                </a:lnTo>
                <a:lnTo>
                  <a:pt x="641" y="144"/>
                </a:lnTo>
                <a:lnTo>
                  <a:pt x="627" y="150"/>
                </a:lnTo>
                <a:lnTo>
                  <a:pt x="612" y="156"/>
                </a:lnTo>
                <a:lnTo>
                  <a:pt x="595" y="160"/>
                </a:lnTo>
                <a:lnTo>
                  <a:pt x="579" y="165"/>
                </a:lnTo>
                <a:lnTo>
                  <a:pt x="562" y="169"/>
                </a:lnTo>
                <a:lnTo>
                  <a:pt x="543" y="175"/>
                </a:lnTo>
                <a:lnTo>
                  <a:pt x="524" y="181"/>
                </a:lnTo>
                <a:lnTo>
                  <a:pt x="505" y="185"/>
                </a:lnTo>
                <a:lnTo>
                  <a:pt x="484" y="190"/>
                </a:lnTo>
                <a:lnTo>
                  <a:pt x="462" y="196"/>
                </a:lnTo>
                <a:lnTo>
                  <a:pt x="439" y="202"/>
                </a:lnTo>
                <a:lnTo>
                  <a:pt x="416" y="208"/>
                </a:lnTo>
                <a:lnTo>
                  <a:pt x="393" y="213"/>
                </a:lnTo>
                <a:lnTo>
                  <a:pt x="366" y="219"/>
                </a:lnTo>
                <a:lnTo>
                  <a:pt x="343" y="223"/>
                </a:lnTo>
                <a:lnTo>
                  <a:pt x="320" y="229"/>
                </a:lnTo>
                <a:lnTo>
                  <a:pt x="297" y="233"/>
                </a:lnTo>
                <a:lnTo>
                  <a:pt x="278" y="236"/>
                </a:lnTo>
                <a:lnTo>
                  <a:pt x="259" y="240"/>
                </a:lnTo>
                <a:lnTo>
                  <a:pt x="242" y="244"/>
                </a:lnTo>
                <a:lnTo>
                  <a:pt x="224" y="246"/>
                </a:lnTo>
                <a:lnTo>
                  <a:pt x="209" y="248"/>
                </a:lnTo>
                <a:lnTo>
                  <a:pt x="196" y="250"/>
                </a:lnTo>
                <a:lnTo>
                  <a:pt x="184" y="252"/>
                </a:lnTo>
                <a:lnTo>
                  <a:pt x="173" y="254"/>
                </a:lnTo>
                <a:lnTo>
                  <a:pt x="163" y="254"/>
                </a:lnTo>
                <a:lnTo>
                  <a:pt x="153" y="256"/>
                </a:lnTo>
                <a:lnTo>
                  <a:pt x="146" y="256"/>
                </a:lnTo>
                <a:lnTo>
                  <a:pt x="140" y="256"/>
                </a:lnTo>
                <a:lnTo>
                  <a:pt x="130" y="256"/>
                </a:lnTo>
                <a:lnTo>
                  <a:pt x="119" y="256"/>
                </a:lnTo>
                <a:lnTo>
                  <a:pt x="105" y="256"/>
                </a:lnTo>
                <a:lnTo>
                  <a:pt x="94" y="254"/>
                </a:lnTo>
                <a:lnTo>
                  <a:pt x="82" y="254"/>
                </a:lnTo>
                <a:lnTo>
                  <a:pt x="69" y="252"/>
                </a:lnTo>
                <a:lnTo>
                  <a:pt x="58" y="248"/>
                </a:lnTo>
                <a:lnTo>
                  <a:pt x="48" y="244"/>
                </a:lnTo>
                <a:lnTo>
                  <a:pt x="38" y="240"/>
                </a:lnTo>
                <a:lnTo>
                  <a:pt x="29" y="236"/>
                </a:lnTo>
                <a:lnTo>
                  <a:pt x="21" y="233"/>
                </a:lnTo>
                <a:lnTo>
                  <a:pt x="13" y="227"/>
                </a:lnTo>
                <a:lnTo>
                  <a:pt x="8" y="223"/>
                </a:lnTo>
                <a:lnTo>
                  <a:pt x="4" y="217"/>
                </a:lnTo>
                <a:lnTo>
                  <a:pt x="2" y="210"/>
                </a:lnTo>
                <a:lnTo>
                  <a:pt x="0" y="202"/>
                </a:lnTo>
                <a:lnTo>
                  <a:pt x="2" y="202"/>
                </a:lnTo>
                <a:lnTo>
                  <a:pt x="2" y="200"/>
                </a:lnTo>
                <a:lnTo>
                  <a:pt x="4" y="198"/>
                </a:lnTo>
                <a:lnTo>
                  <a:pt x="6" y="196"/>
                </a:lnTo>
                <a:lnTo>
                  <a:pt x="8" y="194"/>
                </a:lnTo>
                <a:lnTo>
                  <a:pt x="11" y="192"/>
                </a:lnTo>
                <a:lnTo>
                  <a:pt x="15" y="190"/>
                </a:lnTo>
                <a:lnTo>
                  <a:pt x="19" y="188"/>
                </a:lnTo>
                <a:lnTo>
                  <a:pt x="25" y="187"/>
                </a:lnTo>
                <a:lnTo>
                  <a:pt x="31" y="183"/>
                </a:lnTo>
                <a:lnTo>
                  <a:pt x="36" y="181"/>
                </a:lnTo>
                <a:lnTo>
                  <a:pt x="44" y="179"/>
                </a:lnTo>
                <a:lnTo>
                  <a:pt x="52" y="175"/>
                </a:lnTo>
                <a:lnTo>
                  <a:pt x="59" y="171"/>
                </a:lnTo>
                <a:lnTo>
                  <a:pt x="69" y="169"/>
                </a:lnTo>
                <a:lnTo>
                  <a:pt x="79" y="165"/>
                </a:lnTo>
                <a:lnTo>
                  <a:pt x="88" y="162"/>
                </a:lnTo>
                <a:lnTo>
                  <a:pt x="98" y="158"/>
                </a:lnTo>
                <a:lnTo>
                  <a:pt x="109" y="154"/>
                </a:lnTo>
                <a:lnTo>
                  <a:pt x="121" y="150"/>
                </a:lnTo>
                <a:lnTo>
                  <a:pt x="134" y="146"/>
                </a:lnTo>
                <a:lnTo>
                  <a:pt x="146" y="142"/>
                </a:lnTo>
                <a:lnTo>
                  <a:pt x="159" y="139"/>
                </a:lnTo>
                <a:lnTo>
                  <a:pt x="175" y="133"/>
                </a:lnTo>
                <a:lnTo>
                  <a:pt x="188" y="129"/>
                </a:lnTo>
                <a:lnTo>
                  <a:pt x="203" y="125"/>
                </a:lnTo>
                <a:lnTo>
                  <a:pt x="221" y="119"/>
                </a:lnTo>
                <a:lnTo>
                  <a:pt x="236" y="115"/>
                </a:lnTo>
                <a:lnTo>
                  <a:pt x="253" y="110"/>
                </a:lnTo>
                <a:lnTo>
                  <a:pt x="271" y="106"/>
                </a:lnTo>
                <a:lnTo>
                  <a:pt x="290" y="100"/>
                </a:lnTo>
                <a:lnTo>
                  <a:pt x="309" y="9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Freeform 53"/>
          <p:cNvSpPr/>
          <p:nvPr/>
        </p:nvSpPr>
        <p:spPr>
          <a:xfrm>
            <a:off x="2187720" y="2292480"/>
            <a:ext cx="355320" cy="1817640"/>
          </a:xfrm>
          <a:custGeom>
            <a:avLst/>
            <a:gdLst>
              <a:gd name="textAreaLeft" fmla="*/ 0 w 355320"/>
              <a:gd name="textAreaRight" fmla="*/ 355680 w 355320"/>
              <a:gd name="textAreaTop" fmla="*/ 0 h 1817640"/>
              <a:gd name="textAreaBottom" fmla="*/ 1818000 h 1817640"/>
            </a:gdLst>
            <a:ahLst/>
            <a:rect l="textAreaLeft" t="textAreaTop" r="textAreaRight" b="textAreaBottom"/>
            <a:pathLst>
              <a:path w="449" h="2289">
                <a:moveTo>
                  <a:pt x="348" y="2193"/>
                </a:moveTo>
                <a:lnTo>
                  <a:pt x="342" y="2205"/>
                </a:lnTo>
                <a:lnTo>
                  <a:pt x="336" y="2216"/>
                </a:lnTo>
                <a:lnTo>
                  <a:pt x="330" y="2226"/>
                </a:lnTo>
                <a:lnTo>
                  <a:pt x="326" y="2235"/>
                </a:lnTo>
                <a:lnTo>
                  <a:pt x="321" y="2243"/>
                </a:lnTo>
                <a:lnTo>
                  <a:pt x="317" y="2253"/>
                </a:lnTo>
                <a:lnTo>
                  <a:pt x="311" y="2258"/>
                </a:lnTo>
                <a:lnTo>
                  <a:pt x="307" y="2266"/>
                </a:lnTo>
                <a:lnTo>
                  <a:pt x="303" y="2272"/>
                </a:lnTo>
                <a:lnTo>
                  <a:pt x="300" y="2276"/>
                </a:lnTo>
                <a:lnTo>
                  <a:pt x="296" y="2279"/>
                </a:lnTo>
                <a:lnTo>
                  <a:pt x="292" y="2283"/>
                </a:lnTo>
                <a:lnTo>
                  <a:pt x="288" y="2285"/>
                </a:lnTo>
                <a:lnTo>
                  <a:pt x="286" y="2287"/>
                </a:lnTo>
                <a:lnTo>
                  <a:pt x="284" y="2289"/>
                </a:lnTo>
                <a:lnTo>
                  <a:pt x="282" y="2289"/>
                </a:lnTo>
                <a:lnTo>
                  <a:pt x="279" y="2289"/>
                </a:lnTo>
                <a:lnTo>
                  <a:pt x="275" y="2287"/>
                </a:lnTo>
                <a:lnTo>
                  <a:pt x="271" y="2285"/>
                </a:lnTo>
                <a:lnTo>
                  <a:pt x="267" y="2283"/>
                </a:lnTo>
                <a:lnTo>
                  <a:pt x="263" y="2279"/>
                </a:lnTo>
                <a:lnTo>
                  <a:pt x="259" y="2276"/>
                </a:lnTo>
                <a:lnTo>
                  <a:pt x="255" y="2272"/>
                </a:lnTo>
                <a:lnTo>
                  <a:pt x="252" y="2266"/>
                </a:lnTo>
                <a:lnTo>
                  <a:pt x="248" y="2260"/>
                </a:lnTo>
                <a:lnTo>
                  <a:pt x="244" y="2255"/>
                </a:lnTo>
                <a:lnTo>
                  <a:pt x="240" y="2247"/>
                </a:lnTo>
                <a:lnTo>
                  <a:pt x="234" y="2239"/>
                </a:lnTo>
                <a:lnTo>
                  <a:pt x="231" y="2231"/>
                </a:lnTo>
                <a:lnTo>
                  <a:pt x="227" y="2222"/>
                </a:lnTo>
                <a:lnTo>
                  <a:pt x="221" y="2214"/>
                </a:lnTo>
                <a:lnTo>
                  <a:pt x="217" y="2205"/>
                </a:lnTo>
                <a:lnTo>
                  <a:pt x="206" y="2184"/>
                </a:lnTo>
                <a:lnTo>
                  <a:pt x="194" y="2164"/>
                </a:lnTo>
                <a:lnTo>
                  <a:pt x="181" y="2143"/>
                </a:lnTo>
                <a:lnTo>
                  <a:pt x="165" y="2124"/>
                </a:lnTo>
                <a:lnTo>
                  <a:pt x="148" y="2105"/>
                </a:lnTo>
                <a:lnTo>
                  <a:pt x="138" y="2093"/>
                </a:lnTo>
                <a:lnTo>
                  <a:pt x="129" y="2084"/>
                </a:lnTo>
                <a:lnTo>
                  <a:pt x="119" y="2074"/>
                </a:lnTo>
                <a:lnTo>
                  <a:pt x="110" y="2065"/>
                </a:lnTo>
                <a:lnTo>
                  <a:pt x="98" y="2055"/>
                </a:lnTo>
                <a:lnTo>
                  <a:pt x="87" y="2043"/>
                </a:lnTo>
                <a:lnTo>
                  <a:pt x="73" y="2036"/>
                </a:lnTo>
                <a:lnTo>
                  <a:pt x="64" y="2028"/>
                </a:lnTo>
                <a:lnTo>
                  <a:pt x="52" y="2020"/>
                </a:lnTo>
                <a:lnTo>
                  <a:pt x="44" y="2015"/>
                </a:lnTo>
                <a:lnTo>
                  <a:pt x="35" y="2007"/>
                </a:lnTo>
                <a:lnTo>
                  <a:pt x="29" y="2001"/>
                </a:lnTo>
                <a:lnTo>
                  <a:pt x="21" y="1995"/>
                </a:lnTo>
                <a:lnTo>
                  <a:pt x="16" y="1990"/>
                </a:lnTo>
                <a:lnTo>
                  <a:pt x="12" y="1984"/>
                </a:lnTo>
                <a:lnTo>
                  <a:pt x="8" y="1978"/>
                </a:lnTo>
                <a:lnTo>
                  <a:pt x="4" y="1974"/>
                </a:lnTo>
                <a:lnTo>
                  <a:pt x="2" y="1970"/>
                </a:lnTo>
                <a:lnTo>
                  <a:pt x="0" y="1967"/>
                </a:lnTo>
                <a:lnTo>
                  <a:pt x="0" y="1963"/>
                </a:lnTo>
                <a:lnTo>
                  <a:pt x="0" y="1961"/>
                </a:lnTo>
                <a:lnTo>
                  <a:pt x="2" y="1959"/>
                </a:lnTo>
                <a:lnTo>
                  <a:pt x="2" y="1957"/>
                </a:lnTo>
                <a:lnTo>
                  <a:pt x="4" y="1955"/>
                </a:lnTo>
                <a:lnTo>
                  <a:pt x="6" y="1953"/>
                </a:lnTo>
                <a:lnTo>
                  <a:pt x="8" y="1953"/>
                </a:lnTo>
                <a:lnTo>
                  <a:pt x="12" y="1951"/>
                </a:lnTo>
                <a:lnTo>
                  <a:pt x="18" y="1951"/>
                </a:lnTo>
                <a:lnTo>
                  <a:pt x="23" y="1951"/>
                </a:lnTo>
                <a:lnTo>
                  <a:pt x="29" y="1951"/>
                </a:lnTo>
                <a:lnTo>
                  <a:pt x="37" y="1951"/>
                </a:lnTo>
                <a:lnTo>
                  <a:pt x="46" y="1951"/>
                </a:lnTo>
                <a:lnTo>
                  <a:pt x="54" y="1951"/>
                </a:lnTo>
                <a:lnTo>
                  <a:pt x="65" y="1953"/>
                </a:lnTo>
                <a:lnTo>
                  <a:pt x="75" y="1953"/>
                </a:lnTo>
                <a:lnTo>
                  <a:pt x="87" y="1955"/>
                </a:lnTo>
                <a:lnTo>
                  <a:pt x="100" y="1957"/>
                </a:lnTo>
                <a:lnTo>
                  <a:pt x="113" y="1959"/>
                </a:lnTo>
                <a:lnTo>
                  <a:pt x="127" y="1963"/>
                </a:lnTo>
                <a:lnTo>
                  <a:pt x="140" y="1967"/>
                </a:lnTo>
                <a:lnTo>
                  <a:pt x="152" y="1969"/>
                </a:lnTo>
                <a:lnTo>
                  <a:pt x="163" y="1970"/>
                </a:lnTo>
                <a:lnTo>
                  <a:pt x="175" y="1972"/>
                </a:lnTo>
                <a:lnTo>
                  <a:pt x="184" y="1974"/>
                </a:lnTo>
                <a:lnTo>
                  <a:pt x="194" y="1976"/>
                </a:lnTo>
                <a:lnTo>
                  <a:pt x="204" y="1976"/>
                </a:lnTo>
                <a:lnTo>
                  <a:pt x="211" y="1976"/>
                </a:lnTo>
                <a:lnTo>
                  <a:pt x="219" y="1976"/>
                </a:lnTo>
                <a:lnTo>
                  <a:pt x="225" y="1976"/>
                </a:lnTo>
                <a:lnTo>
                  <a:pt x="231" y="1974"/>
                </a:lnTo>
                <a:lnTo>
                  <a:pt x="234" y="1974"/>
                </a:lnTo>
                <a:lnTo>
                  <a:pt x="238" y="1972"/>
                </a:lnTo>
                <a:lnTo>
                  <a:pt x="242" y="1970"/>
                </a:lnTo>
                <a:lnTo>
                  <a:pt x="244" y="1969"/>
                </a:lnTo>
                <a:lnTo>
                  <a:pt x="246" y="1965"/>
                </a:lnTo>
                <a:lnTo>
                  <a:pt x="246" y="1963"/>
                </a:lnTo>
                <a:lnTo>
                  <a:pt x="248" y="1959"/>
                </a:lnTo>
                <a:lnTo>
                  <a:pt x="248" y="1953"/>
                </a:lnTo>
                <a:lnTo>
                  <a:pt x="250" y="1947"/>
                </a:lnTo>
                <a:lnTo>
                  <a:pt x="250" y="1942"/>
                </a:lnTo>
                <a:lnTo>
                  <a:pt x="252" y="1934"/>
                </a:lnTo>
                <a:lnTo>
                  <a:pt x="252" y="1924"/>
                </a:lnTo>
                <a:lnTo>
                  <a:pt x="254" y="1917"/>
                </a:lnTo>
                <a:lnTo>
                  <a:pt x="254" y="1905"/>
                </a:lnTo>
                <a:lnTo>
                  <a:pt x="255" y="1896"/>
                </a:lnTo>
                <a:lnTo>
                  <a:pt x="255" y="1882"/>
                </a:lnTo>
                <a:lnTo>
                  <a:pt x="255" y="1871"/>
                </a:lnTo>
                <a:lnTo>
                  <a:pt x="257" y="1857"/>
                </a:lnTo>
                <a:lnTo>
                  <a:pt x="257" y="1842"/>
                </a:lnTo>
                <a:lnTo>
                  <a:pt x="259" y="1827"/>
                </a:lnTo>
                <a:lnTo>
                  <a:pt x="259" y="1811"/>
                </a:lnTo>
                <a:lnTo>
                  <a:pt x="261" y="1794"/>
                </a:lnTo>
                <a:lnTo>
                  <a:pt x="261" y="1777"/>
                </a:lnTo>
                <a:lnTo>
                  <a:pt x="263" y="1759"/>
                </a:lnTo>
                <a:lnTo>
                  <a:pt x="263" y="1738"/>
                </a:lnTo>
                <a:lnTo>
                  <a:pt x="265" y="1719"/>
                </a:lnTo>
                <a:lnTo>
                  <a:pt x="265" y="1698"/>
                </a:lnTo>
                <a:lnTo>
                  <a:pt x="265" y="1677"/>
                </a:lnTo>
                <a:lnTo>
                  <a:pt x="267" y="1654"/>
                </a:lnTo>
                <a:lnTo>
                  <a:pt x="267" y="1631"/>
                </a:lnTo>
                <a:lnTo>
                  <a:pt x="269" y="1606"/>
                </a:lnTo>
                <a:lnTo>
                  <a:pt x="269" y="1581"/>
                </a:lnTo>
                <a:lnTo>
                  <a:pt x="271" y="1554"/>
                </a:lnTo>
                <a:lnTo>
                  <a:pt x="271" y="1527"/>
                </a:lnTo>
                <a:lnTo>
                  <a:pt x="273" y="1500"/>
                </a:lnTo>
                <a:lnTo>
                  <a:pt x="275" y="1393"/>
                </a:lnTo>
                <a:lnTo>
                  <a:pt x="277" y="1287"/>
                </a:lnTo>
                <a:lnTo>
                  <a:pt x="279" y="1182"/>
                </a:lnTo>
                <a:lnTo>
                  <a:pt x="280" y="1078"/>
                </a:lnTo>
                <a:lnTo>
                  <a:pt x="280" y="974"/>
                </a:lnTo>
                <a:lnTo>
                  <a:pt x="280" y="875"/>
                </a:lnTo>
                <a:lnTo>
                  <a:pt x="282" y="777"/>
                </a:lnTo>
                <a:lnTo>
                  <a:pt x="282" y="727"/>
                </a:lnTo>
                <a:lnTo>
                  <a:pt x="282" y="679"/>
                </a:lnTo>
                <a:lnTo>
                  <a:pt x="282" y="656"/>
                </a:lnTo>
                <a:lnTo>
                  <a:pt x="282" y="635"/>
                </a:lnTo>
                <a:lnTo>
                  <a:pt x="282" y="612"/>
                </a:lnTo>
                <a:lnTo>
                  <a:pt x="282" y="591"/>
                </a:lnTo>
                <a:lnTo>
                  <a:pt x="280" y="571"/>
                </a:lnTo>
                <a:lnTo>
                  <a:pt x="280" y="550"/>
                </a:lnTo>
                <a:lnTo>
                  <a:pt x="280" y="531"/>
                </a:lnTo>
                <a:lnTo>
                  <a:pt x="280" y="512"/>
                </a:lnTo>
                <a:lnTo>
                  <a:pt x="280" y="493"/>
                </a:lnTo>
                <a:lnTo>
                  <a:pt x="280" y="476"/>
                </a:lnTo>
                <a:lnTo>
                  <a:pt x="280" y="458"/>
                </a:lnTo>
                <a:lnTo>
                  <a:pt x="280" y="441"/>
                </a:lnTo>
                <a:lnTo>
                  <a:pt x="280" y="424"/>
                </a:lnTo>
                <a:lnTo>
                  <a:pt x="280" y="408"/>
                </a:lnTo>
                <a:lnTo>
                  <a:pt x="280" y="393"/>
                </a:lnTo>
                <a:lnTo>
                  <a:pt x="280" y="378"/>
                </a:lnTo>
                <a:lnTo>
                  <a:pt x="280" y="364"/>
                </a:lnTo>
                <a:lnTo>
                  <a:pt x="280" y="351"/>
                </a:lnTo>
                <a:lnTo>
                  <a:pt x="279" y="337"/>
                </a:lnTo>
                <a:lnTo>
                  <a:pt x="279" y="324"/>
                </a:lnTo>
                <a:lnTo>
                  <a:pt x="279" y="312"/>
                </a:lnTo>
                <a:lnTo>
                  <a:pt x="279" y="301"/>
                </a:lnTo>
                <a:lnTo>
                  <a:pt x="279" y="291"/>
                </a:lnTo>
                <a:lnTo>
                  <a:pt x="277" y="280"/>
                </a:lnTo>
                <a:lnTo>
                  <a:pt x="277" y="270"/>
                </a:lnTo>
                <a:lnTo>
                  <a:pt x="277" y="263"/>
                </a:lnTo>
                <a:lnTo>
                  <a:pt x="277" y="253"/>
                </a:lnTo>
                <a:lnTo>
                  <a:pt x="275" y="245"/>
                </a:lnTo>
                <a:lnTo>
                  <a:pt x="275" y="239"/>
                </a:lnTo>
                <a:lnTo>
                  <a:pt x="273" y="232"/>
                </a:lnTo>
                <a:lnTo>
                  <a:pt x="273" y="226"/>
                </a:lnTo>
                <a:lnTo>
                  <a:pt x="273" y="220"/>
                </a:lnTo>
                <a:lnTo>
                  <a:pt x="269" y="201"/>
                </a:lnTo>
                <a:lnTo>
                  <a:pt x="265" y="182"/>
                </a:lnTo>
                <a:lnTo>
                  <a:pt x="261" y="163"/>
                </a:lnTo>
                <a:lnTo>
                  <a:pt x="255" y="144"/>
                </a:lnTo>
                <a:lnTo>
                  <a:pt x="250" y="126"/>
                </a:lnTo>
                <a:lnTo>
                  <a:pt x="244" y="109"/>
                </a:lnTo>
                <a:lnTo>
                  <a:pt x="234" y="96"/>
                </a:lnTo>
                <a:lnTo>
                  <a:pt x="231" y="88"/>
                </a:lnTo>
                <a:lnTo>
                  <a:pt x="225" y="82"/>
                </a:lnTo>
                <a:lnTo>
                  <a:pt x="215" y="71"/>
                </a:lnTo>
                <a:lnTo>
                  <a:pt x="207" y="59"/>
                </a:lnTo>
                <a:lnTo>
                  <a:pt x="202" y="49"/>
                </a:lnTo>
                <a:lnTo>
                  <a:pt x="198" y="40"/>
                </a:lnTo>
                <a:lnTo>
                  <a:pt x="194" y="32"/>
                </a:lnTo>
                <a:lnTo>
                  <a:pt x="194" y="25"/>
                </a:lnTo>
                <a:lnTo>
                  <a:pt x="194" y="15"/>
                </a:lnTo>
                <a:lnTo>
                  <a:pt x="198" y="7"/>
                </a:lnTo>
                <a:lnTo>
                  <a:pt x="200" y="5"/>
                </a:lnTo>
                <a:lnTo>
                  <a:pt x="202" y="3"/>
                </a:lnTo>
                <a:lnTo>
                  <a:pt x="206" y="3"/>
                </a:lnTo>
                <a:lnTo>
                  <a:pt x="209" y="2"/>
                </a:lnTo>
                <a:lnTo>
                  <a:pt x="213" y="2"/>
                </a:lnTo>
                <a:lnTo>
                  <a:pt x="219" y="0"/>
                </a:lnTo>
                <a:lnTo>
                  <a:pt x="225" y="0"/>
                </a:lnTo>
                <a:lnTo>
                  <a:pt x="231" y="0"/>
                </a:lnTo>
                <a:lnTo>
                  <a:pt x="244" y="0"/>
                </a:lnTo>
                <a:lnTo>
                  <a:pt x="257" y="2"/>
                </a:lnTo>
                <a:lnTo>
                  <a:pt x="275" y="3"/>
                </a:lnTo>
                <a:lnTo>
                  <a:pt x="290" y="7"/>
                </a:lnTo>
                <a:lnTo>
                  <a:pt x="307" y="15"/>
                </a:lnTo>
                <a:lnTo>
                  <a:pt x="325" y="25"/>
                </a:lnTo>
                <a:lnTo>
                  <a:pt x="340" y="32"/>
                </a:lnTo>
                <a:lnTo>
                  <a:pt x="353" y="42"/>
                </a:lnTo>
                <a:lnTo>
                  <a:pt x="367" y="49"/>
                </a:lnTo>
                <a:lnTo>
                  <a:pt x="380" y="59"/>
                </a:lnTo>
                <a:lnTo>
                  <a:pt x="392" y="71"/>
                </a:lnTo>
                <a:lnTo>
                  <a:pt x="403" y="82"/>
                </a:lnTo>
                <a:lnTo>
                  <a:pt x="413" y="94"/>
                </a:lnTo>
                <a:lnTo>
                  <a:pt x="421" y="105"/>
                </a:lnTo>
                <a:lnTo>
                  <a:pt x="426" y="115"/>
                </a:lnTo>
                <a:lnTo>
                  <a:pt x="432" y="124"/>
                </a:lnTo>
                <a:lnTo>
                  <a:pt x="438" y="132"/>
                </a:lnTo>
                <a:lnTo>
                  <a:pt x="442" y="140"/>
                </a:lnTo>
                <a:lnTo>
                  <a:pt x="449" y="157"/>
                </a:lnTo>
                <a:lnTo>
                  <a:pt x="449" y="165"/>
                </a:lnTo>
                <a:lnTo>
                  <a:pt x="447" y="172"/>
                </a:lnTo>
                <a:lnTo>
                  <a:pt x="445" y="182"/>
                </a:lnTo>
                <a:lnTo>
                  <a:pt x="442" y="190"/>
                </a:lnTo>
                <a:lnTo>
                  <a:pt x="438" y="199"/>
                </a:lnTo>
                <a:lnTo>
                  <a:pt x="434" y="209"/>
                </a:lnTo>
                <a:lnTo>
                  <a:pt x="428" y="220"/>
                </a:lnTo>
                <a:lnTo>
                  <a:pt x="421" y="232"/>
                </a:lnTo>
                <a:lnTo>
                  <a:pt x="421" y="236"/>
                </a:lnTo>
                <a:lnTo>
                  <a:pt x="419" y="239"/>
                </a:lnTo>
                <a:lnTo>
                  <a:pt x="417" y="243"/>
                </a:lnTo>
                <a:lnTo>
                  <a:pt x="415" y="249"/>
                </a:lnTo>
                <a:lnTo>
                  <a:pt x="413" y="255"/>
                </a:lnTo>
                <a:lnTo>
                  <a:pt x="411" y="263"/>
                </a:lnTo>
                <a:lnTo>
                  <a:pt x="411" y="268"/>
                </a:lnTo>
                <a:lnTo>
                  <a:pt x="409" y="278"/>
                </a:lnTo>
                <a:lnTo>
                  <a:pt x="407" y="286"/>
                </a:lnTo>
                <a:lnTo>
                  <a:pt x="407" y="295"/>
                </a:lnTo>
                <a:lnTo>
                  <a:pt x="405" y="305"/>
                </a:lnTo>
                <a:lnTo>
                  <a:pt x="405" y="316"/>
                </a:lnTo>
                <a:lnTo>
                  <a:pt x="403" y="328"/>
                </a:lnTo>
                <a:lnTo>
                  <a:pt x="401" y="339"/>
                </a:lnTo>
                <a:lnTo>
                  <a:pt x="401" y="351"/>
                </a:lnTo>
                <a:lnTo>
                  <a:pt x="399" y="364"/>
                </a:lnTo>
                <a:lnTo>
                  <a:pt x="399" y="378"/>
                </a:lnTo>
                <a:lnTo>
                  <a:pt x="399" y="393"/>
                </a:lnTo>
                <a:lnTo>
                  <a:pt x="397" y="408"/>
                </a:lnTo>
                <a:lnTo>
                  <a:pt x="397" y="424"/>
                </a:lnTo>
                <a:lnTo>
                  <a:pt x="397" y="439"/>
                </a:lnTo>
                <a:lnTo>
                  <a:pt x="396" y="456"/>
                </a:lnTo>
                <a:lnTo>
                  <a:pt x="396" y="474"/>
                </a:lnTo>
                <a:lnTo>
                  <a:pt x="396" y="493"/>
                </a:lnTo>
                <a:lnTo>
                  <a:pt x="394" y="510"/>
                </a:lnTo>
                <a:lnTo>
                  <a:pt x="394" y="531"/>
                </a:lnTo>
                <a:lnTo>
                  <a:pt x="394" y="550"/>
                </a:lnTo>
                <a:lnTo>
                  <a:pt x="394" y="570"/>
                </a:lnTo>
                <a:lnTo>
                  <a:pt x="394" y="591"/>
                </a:lnTo>
                <a:lnTo>
                  <a:pt x="394" y="614"/>
                </a:lnTo>
                <a:lnTo>
                  <a:pt x="394" y="635"/>
                </a:lnTo>
                <a:lnTo>
                  <a:pt x="394" y="658"/>
                </a:lnTo>
                <a:lnTo>
                  <a:pt x="392" y="706"/>
                </a:lnTo>
                <a:lnTo>
                  <a:pt x="390" y="756"/>
                </a:lnTo>
                <a:lnTo>
                  <a:pt x="390" y="806"/>
                </a:lnTo>
                <a:lnTo>
                  <a:pt x="388" y="857"/>
                </a:lnTo>
                <a:lnTo>
                  <a:pt x="388" y="911"/>
                </a:lnTo>
                <a:lnTo>
                  <a:pt x="386" y="965"/>
                </a:lnTo>
                <a:lnTo>
                  <a:pt x="386" y="1019"/>
                </a:lnTo>
                <a:lnTo>
                  <a:pt x="386" y="1074"/>
                </a:lnTo>
                <a:lnTo>
                  <a:pt x="386" y="1132"/>
                </a:lnTo>
                <a:lnTo>
                  <a:pt x="386" y="1189"/>
                </a:lnTo>
                <a:lnTo>
                  <a:pt x="388" y="1249"/>
                </a:lnTo>
                <a:lnTo>
                  <a:pt x="388" y="1310"/>
                </a:lnTo>
                <a:lnTo>
                  <a:pt x="390" y="1372"/>
                </a:lnTo>
                <a:lnTo>
                  <a:pt x="390" y="1435"/>
                </a:lnTo>
                <a:lnTo>
                  <a:pt x="392" y="1498"/>
                </a:lnTo>
                <a:lnTo>
                  <a:pt x="394" y="1564"/>
                </a:lnTo>
                <a:lnTo>
                  <a:pt x="394" y="1596"/>
                </a:lnTo>
                <a:lnTo>
                  <a:pt x="394" y="1629"/>
                </a:lnTo>
                <a:lnTo>
                  <a:pt x="394" y="1660"/>
                </a:lnTo>
                <a:lnTo>
                  <a:pt x="392" y="1688"/>
                </a:lnTo>
                <a:lnTo>
                  <a:pt x="392" y="1719"/>
                </a:lnTo>
                <a:lnTo>
                  <a:pt x="392" y="1746"/>
                </a:lnTo>
                <a:lnTo>
                  <a:pt x="390" y="1773"/>
                </a:lnTo>
                <a:lnTo>
                  <a:pt x="390" y="1800"/>
                </a:lnTo>
                <a:lnTo>
                  <a:pt x="390" y="1827"/>
                </a:lnTo>
                <a:lnTo>
                  <a:pt x="388" y="1852"/>
                </a:lnTo>
                <a:lnTo>
                  <a:pt x="386" y="1875"/>
                </a:lnTo>
                <a:lnTo>
                  <a:pt x="386" y="1898"/>
                </a:lnTo>
                <a:lnTo>
                  <a:pt x="384" y="1921"/>
                </a:lnTo>
                <a:lnTo>
                  <a:pt x="384" y="1942"/>
                </a:lnTo>
                <a:lnTo>
                  <a:pt x="382" y="1963"/>
                </a:lnTo>
                <a:lnTo>
                  <a:pt x="380" y="1982"/>
                </a:lnTo>
                <a:lnTo>
                  <a:pt x="378" y="2001"/>
                </a:lnTo>
                <a:lnTo>
                  <a:pt x="376" y="2020"/>
                </a:lnTo>
                <a:lnTo>
                  <a:pt x="374" y="2038"/>
                </a:lnTo>
                <a:lnTo>
                  <a:pt x="373" y="2053"/>
                </a:lnTo>
                <a:lnTo>
                  <a:pt x="371" y="2070"/>
                </a:lnTo>
                <a:lnTo>
                  <a:pt x="369" y="2086"/>
                </a:lnTo>
                <a:lnTo>
                  <a:pt x="367" y="2099"/>
                </a:lnTo>
                <a:lnTo>
                  <a:pt x="365" y="2112"/>
                </a:lnTo>
                <a:lnTo>
                  <a:pt x="363" y="2126"/>
                </a:lnTo>
                <a:lnTo>
                  <a:pt x="361" y="2137"/>
                </a:lnTo>
                <a:lnTo>
                  <a:pt x="359" y="2149"/>
                </a:lnTo>
                <a:lnTo>
                  <a:pt x="357" y="2159"/>
                </a:lnTo>
                <a:lnTo>
                  <a:pt x="353" y="2168"/>
                </a:lnTo>
                <a:lnTo>
                  <a:pt x="351" y="2178"/>
                </a:lnTo>
                <a:lnTo>
                  <a:pt x="350" y="2185"/>
                </a:lnTo>
                <a:lnTo>
                  <a:pt x="348" y="219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Freeform 54"/>
          <p:cNvSpPr/>
          <p:nvPr/>
        </p:nvSpPr>
        <p:spPr>
          <a:xfrm>
            <a:off x="1994040" y="3152880"/>
            <a:ext cx="698400" cy="500040"/>
          </a:xfrm>
          <a:custGeom>
            <a:avLst/>
            <a:gdLst>
              <a:gd name="textAreaLeft" fmla="*/ 0 w 698400"/>
              <a:gd name="textAreaRight" fmla="*/ 698760 w 69840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880" h="629">
                <a:moveTo>
                  <a:pt x="543" y="192"/>
                </a:moveTo>
                <a:lnTo>
                  <a:pt x="564" y="180"/>
                </a:lnTo>
                <a:lnTo>
                  <a:pt x="581" y="167"/>
                </a:lnTo>
                <a:lnTo>
                  <a:pt x="600" y="155"/>
                </a:lnTo>
                <a:lnTo>
                  <a:pt x="617" y="144"/>
                </a:lnTo>
                <a:lnTo>
                  <a:pt x="635" y="132"/>
                </a:lnTo>
                <a:lnTo>
                  <a:pt x="652" y="121"/>
                </a:lnTo>
                <a:lnTo>
                  <a:pt x="669" y="111"/>
                </a:lnTo>
                <a:lnTo>
                  <a:pt x="685" y="102"/>
                </a:lnTo>
                <a:lnTo>
                  <a:pt x="700" y="92"/>
                </a:lnTo>
                <a:lnTo>
                  <a:pt x="713" y="82"/>
                </a:lnTo>
                <a:lnTo>
                  <a:pt x="727" y="75"/>
                </a:lnTo>
                <a:lnTo>
                  <a:pt x="740" y="67"/>
                </a:lnTo>
                <a:lnTo>
                  <a:pt x="754" y="59"/>
                </a:lnTo>
                <a:lnTo>
                  <a:pt x="765" y="52"/>
                </a:lnTo>
                <a:lnTo>
                  <a:pt x="777" y="46"/>
                </a:lnTo>
                <a:lnTo>
                  <a:pt x="788" y="40"/>
                </a:lnTo>
                <a:lnTo>
                  <a:pt x="798" y="34"/>
                </a:lnTo>
                <a:lnTo>
                  <a:pt x="807" y="29"/>
                </a:lnTo>
                <a:lnTo>
                  <a:pt x="817" y="23"/>
                </a:lnTo>
                <a:lnTo>
                  <a:pt x="825" y="19"/>
                </a:lnTo>
                <a:lnTo>
                  <a:pt x="832" y="15"/>
                </a:lnTo>
                <a:lnTo>
                  <a:pt x="840" y="11"/>
                </a:lnTo>
                <a:lnTo>
                  <a:pt x="846" y="9"/>
                </a:lnTo>
                <a:lnTo>
                  <a:pt x="852" y="6"/>
                </a:lnTo>
                <a:lnTo>
                  <a:pt x="857" y="4"/>
                </a:lnTo>
                <a:lnTo>
                  <a:pt x="863" y="2"/>
                </a:lnTo>
                <a:lnTo>
                  <a:pt x="867" y="0"/>
                </a:lnTo>
                <a:lnTo>
                  <a:pt x="871" y="0"/>
                </a:lnTo>
                <a:lnTo>
                  <a:pt x="873" y="0"/>
                </a:lnTo>
                <a:lnTo>
                  <a:pt x="877" y="0"/>
                </a:lnTo>
                <a:lnTo>
                  <a:pt x="878" y="0"/>
                </a:lnTo>
                <a:lnTo>
                  <a:pt x="880" y="6"/>
                </a:lnTo>
                <a:lnTo>
                  <a:pt x="878" y="9"/>
                </a:lnTo>
                <a:lnTo>
                  <a:pt x="877" y="17"/>
                </a:lnTo>
                <a:lnTo>
                  <a:pt x="873" y="25"/>
                </a:lnTo>
                <a:lnTo>
                  <a:pt x="869" y="32"/>
                </a:lnTo>
                <a:lnTo>
                  <a:pt x="861" y="42"/>
                </a:lnTo>
                <a:lnTo>
                  <a:pt x="854" y="52"/>
                </a:lnTo>
                <a:lnTo>
                  <a:pt x="844" y="63"/>
                </a:lnTo>
                <a:lnTo>
                  <a:pt x="834" y="75"/>
                </a:lnTo>
                <a:lnTo>
                  <a:pt x="821" y="88"/>
                </a:lnTo>
                <a:lnTo>
                  <a:pt x="807" y="102"/>
                </a:lnTo>
                <a:lnTo>
                  <a:pt x="792" y="115"/>
                </a:lnTo>
                <a:lnTo>
                  <a:pt x="777" y="130"/>
                </a:lnTo>
                <a:lnTo>
                  <a:pt x="759" y="148"/>
                </a:lnTo>
                <a:lnTo>
                  <a:pt x="740" y="163"/>
                </a:lnTo>
                <a:lnTo>
                  <a:pt x="721" y="182"/>
                </a:lnTo>
                <a:lnTo>
                  <a:pt x="679" y="217"/>
                </a:lnTo>
                <a:lnTo>
                  <a:pt x="640" y="251"/>
                </a:lnTo>
                <a:lnTo>
                  <a:pt x="602" y="284"/>
                </a:lnTo>
                <a:lnTo>
                  <a:pt x="585" y="299"/>
                </a:lnTo>
                <a:lnTo>
                  <a:pt x="566" y="315"/>
                </a:lnTo>
                <a:lnTo>
                  <a:pt x="548" y="330"/>
                </a:lnTo>
                <a:lnTo>
                  <a:pt x="533" y="343"/>
                </a:lnTo>
                <a:lnTo>
                  <a:pt x="516" y="357"/>
                </a:lnTo>
                <a:lnTo>
                  <a:pt x="500" y="370"/>
                </a:lnTo>
                <a:lnTo>
                  <a:pt x="485" y="384"/>
                </a:lnTo>
                <a:lnTo>
                  <a:pt x="470" y="395"/>
                </a:lnTo>
                <a:lnTo>
                  <a:pt x="454" y="405"/>
                </a:lnTo>
                <a:lnTo>
                  <a:pt x="441" y="416"/>
                </a:lnTo>
                <a:lnTo>
                  <a:pt x="414" y="439"/>
                </a:lnTo>
                <a:lnTo>
                  <a:pt x="387" y="462"/>
                </a:lnTo>
                <a:lnTo>
                  <a:pt x="360" y="483"/>
                </a:lnTo>
                <a:lnTo>
                  <a:pt x="335" y="503"/>
                </a:lnTo>
                <a:lnTo>
                  <a:pt x="312" y="522"/>
                </a:lnTo>
                <a:lnTo>
                  <a:pt x="289" y="537"/>
                </a:lnTo>
                <a:lnTo>
                  <a:pt x="266" y="553"/>
                </a:lnTo>
                <a:lnTo>
                  <a:pt x="245" y="566"/>
                </a:lnTo>
                <a:lnTo>
                  <a:pt x="234" y="574"/>
                </a:lnTo>
                <a:lnTo>
                  <a:pt x="224" y="581"/>
                </a:lnTo>
                <a:lnTo>
                  <a:pt x="214" y="587"/>
                </a:lnTo>
                <a:lnTo>
                  <a:pt x="207" y="593"/>
                </a:lnTo>
                <a:lnTo>
                  <a:pt x="197" y="599"/>
                </a:lnTo>
                <a:lnTo>
                  <a:pt x="190" y="604"/>
                </a:lnTo>
                <a:lnTo>
                  <a:pt x="182" y="610"/>
                </a:lnTo>
                <a:lnTo>
                  <a:pt x="174" y="614"/>
                </a:lnTo>
                <a:lnTo>
                  <a:pt x="168" y="618"/>
                </a:lnTo>
                <a:lnTo>
                  <a:pt x="163" y="620"/>
                </a:lnTo>
                <a:lnTo>
                  <a:pt x="155" y="624"/>
                </a:lnTo>
                <a:lnTo>
                  <a:pt x="151" y="625"/>
                </a:lnTo>
                <a:lnTo>
                  <a:pt x="145" y="627"/>
                </a:lnTo>
                <a:lnTo>
                  <a:pt x="142" y="629"/>
                </a:lnTo>
                <a:lnTo>
                  <a:pt x="136" y="629"/>
                </a:lnTo>
                <a:lnTo>
                  <a:pt x="132" y="629"/>
                </a:lnTo>
                <a:lnTo>
                  <a:pt x="130" y="629"/>
                </a:lnTo>
                <a:lnTo>
                  <a:pt x="126" y="627"/>
                </a:lnTo>
                <a:lnTo>
                  <a:pt x="120" y="627"/>
                </a:lnTo>
                <a:lnTo>
                  <a:pt x="117" y="625"/>
                </a:lnTo>
                <a:lnTo>
                  <a:pt x="113" y="624"/>
                </a:lnTo>
                <a:lnTo>
                  <a:pt x="107" y="620"/>
                </a:lnTo>
                <a:lnTo>
                  <a:pt x="103" y="616"/>
                </a:lnTo>
                <a:lnTo>
                  <a:pt x="97" y="612"/>
                </a:lnTo>
                <a:lnTo>
                  <a:pt x="92" y="608"/>
                </a:lnTo>
                <a:lnTo>
                  <a:pt x="86" y="602"/>
                </a:lnTo>
                <a:lnTo>
                  <a:pt x="80" y="597"/>
                </a:lnTo>
                <a:lnTo>
                  <a:pt x="74" y="589"/>
                </a:lnTo>
                <a:lnTo>
                  <a:pt x="69" y="581"/>
                </a:lnTo>
                <a:lnTo>
                  <a:pt x="63" y="574"/>
                </a:lnTo>
                <a:lnTo>
                  <a:pt x="55" y="564"/>
                </a:lnTo>
                <a:lnTo>
                  <a:pt x="49" y="554"/>
                </a:lnTo>
                <a:lnTo>
                  <a:pt x="42" y="545"/>
                </a:lnTo>
                <a:lnTo>
                  <a:pt x="36" y="535"/>
                </a:lnTo>
                <a:lnTo>
                  <a:pt x="30" y="528"/>
                </a:lnTo>
                <a:lnTo>
                  <a:pt x="24" y="518"/>
                </a:lnTo>
                <a:lnTo>
                  <a:pt x="21" y="510"/>
                </a:lnTo>
                <a:lnTo>
                  <a:pt x="15" y="503"/>
                </a:lnTo>
                <a:lnTo>
                  <a:pt x="11" y="495"/>
                </a:lnTo>
                <a:lnTo>
                  <a:pt x="9" y="487"/>
                </a:lnTo>
                <a:lnTo>
                  <a:pt x="5" y="482"/>
                </a:lnTo>
                <a:lnTo>
                  <a:pt x="3" y="474"/>
                </a:lnTo>
                <a:lnTo>
                  <a:pt x="1" y="468"/>
                </a:lnTo>
                <a:lnTo>
                  <a:pt x="0" y="462"/>
                </a:lnTo>
                <a:lnTo>
                  <a:pt x="0" y="455"/>
                </a:lnTo>
                <a:lnTo>
                  <a:pt x="0" y="449"/>
                </a:lnTo>
                <a:lnTo>
                  <a:pt x="1" y="443"/>
                </a:lnTo>
                <a:lnTo>
                  <a:pt x="1" y="437"/>
                </a:lnTo>
                <a:lnTo>
                  <a:pt x="7" y="430"/>
                </a:lnTo>
                <a:lnTo>
                  <a:pt x="13" y="424"/>
                </a:lnTo>
                <a:lnTo>
                  <a:pt x="21" y="418"/>
                </a:lnTo>
                <a:lnTo>
                  <a:pt x="30" y="414"/>
                </a:lnTo>
                <a:lnTo>
                  <a:pt x="42" y="411"/>
                </a:lnTo>
                <a:lnTo>
                  <a:pt x="55" y="407"/>
                </a:lnTo>
                <a:lnTo>
                  <a:pt x="71" y="407"/>
                </a:lnTo>
                <a:lnTo>
                  <a:pt x="86" y="405"/>
                </a:lnTo>
                <a:lnTo>
                  <a:pt x="103" y="405"/>
                </a:lnTo>
                <a:lnTo>
                  <a:pt x="118" y="405"/>
                </a:lnTo>
                <a:lnTo>
                  <a:pt x="132" y="405"/>
                </a:lnTo>
                <a:lnTo>
                  <a:pt x="145" y="405"/>
                </a:lnTo>
                <a:lnTo>
                  <a:pt x="157" y="403"/>
                </a:lnTo>
                <a:lnTo>
                  <a:pt x="168" y="401"/>
                </a:lnTo>
                <a:lnTo>
                  <a:pt x="178" y="399"/>
                </a:lnTo>
                <a:lnTo>
                  <a:pt x="190" y="395"/>
                </a:lnTo>
                <a:lnTo>
                  <a:pt x="191" y="395"/>
                </a:lnTo>
                <a:lnTo>
                  <a:pt x="193" y="393"/>
                </a:lnTo>
                <a:lnTo>
                  <a:pt x="197" y="393"/>
                </a:lnTo>
                <a:lnTo>
                  <a:pt x="201" y="391"/>
                </a:lnTo>
                <a:lnTo>
                  <a:pt x="205" y="389"/>
                </a:lnTo>
                <a:lnTo>
                  <a:pt x="211" y="388"/>
                </a:lnTo>
                <a:lnTo>
                  <a:pt x="216" y="386"/>
                </a:lnTo>
                <a:lnTo>
                  <a:pt x="222" y="384"/>
                </a:lnTo>
                <a:lnTo>
                  <a:pt x="228" y="380"/>
                </a:lnTo>
                <a:lnTo>
                  <a:pt x="236" y="376"/>
                </a:lnTo>
                <a:lnTo>
                  <a:pt x="245" y="372"/>
                </a:lnTo>
                <a:lnTo>
                  <a:pt x="253" y="368"/>
                </a:lnTo>
                <a:lnTo>
                  <a:pt x="262" y="363"/>
                </a:lnTo>
                <a:lnTo>
                  <a:pt x="272" y="359"/>
                </a:lnTo>
                <a:lnTo>
                  <a:pt x="282" y="353"/>
                </a:lnTo>
                <a:lnTo>
                  <a:pt x="293" y="345"/>
                </a:lnTo>
                <a:lnTo>
                  <a:pt x="305" y="340"/>
                </a:lnTo>
                <a:lnTo>
                  <a:pt x="316" y="334"/>
                </a:lnTo>
                <a:lnTo>
                  <a:pt x="330" y="326"/>
                </a:lnTo>
                <a:lnTo>
                  <a:pt x="343" y="318"/>
                </a:lnTo>
                <a:lnTo>
                  <a:pt x="356" y="311"/>
                </a:lnTo>
                <a:lnTo>
                  <a:pt x="370" y="301"/>
                </a:lnTo>
                <a:lnTo>
                  <a:pt x="385" y="293"/>
                </a:lnTo>
                <a:lnTo>
                  <a:pt x="401" y="284"/>
                </a:lnTo>
                <a:lnTo>
                  <a:pt x="416" y="274"/>
                </a:lnTo>
                <a:lnTo>
                  <a:pt x="433" y="263"/>
                </a:lnTo>
                <a:lnTo>
                  <a:pt x="450" y="253"/>
                </a:lnTo>
                <a:lnTo>
                  <a:pt x="468" y="242"/>
                </a:lnTo>
                <a:lnTo>
                  <a:pt x="485" y="230"/>
                </a:lnTo>
                <a:lnTo>
                  <a:pt x="504" y="219"/>
                </a:lnTo>
                <a:lnTo>
                  <a:pt x="523" y="205"/>
                </a:lnTo>
                <a:lnTo>
                  <a:pt x="543" y="19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3" name="Picture 9" descr="圣诞树6"/>
          <p:cNvPicPr/>
          <p:nvPr/>
        </p:nvPicPr>
        <p:blipFill>
          <a:blip r:embed="rId7"/>
          <a:stretch/>
        </p:blipFill>
        <p:spPr>
          <a:xfrm>
            <a:off x="8244000" y="5013360"/>
            <a:ext cx="1143000" cy="156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4174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417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17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417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4173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4173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176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4176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1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41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0" dur="10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1000"/>
                                        <p:tgtEl>
                                          <p:spTgt spid="4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00"/>
                            </p:stCondLst>
                            <p:childTnLst>
                              <p:par>
                                <p:cTn id="376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1000"/>
                                        <p:tgtEl>
                                          <p:spTgt spid="4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9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4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200"/>
                            </p:stCondLst>
                            <p:childTnLst>
                              <p:par>
                                <p:cTn id="384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1000"/>
                                        <p:tgtEl>
                                          <p:spTgt spid="4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18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18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住，把着：～车。～墙头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刨开，挖：～坑。～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剥，脱：～皮。～掉伪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拔：勿剪勿～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拨动：～拉。～开草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á 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或耙子一类的工具使东西聚扰或散开。：～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搔，抓：～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炖烂，煨烂：～羊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筷子把饭拨到嘴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扒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TextBox 1"/>
          <p:cNvSpPr/>
          <p:nvPr/>
        </p:nvSpPr>
        <p:spPr>
          <a:xfrm>
            <a:off x="474120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左大括号 2"/>
          <p:cNvSpPr/>
          <p:nvPr/>
        </p:nvSpPr>
        <p:spPr>
          <a:xfrm>
            <a:off x="5532480" y="171288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584360"/>
              <a:gd name="textAreaBottom" fmla="*/ 15789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7" name="Picture 5" descr=""/>
          <p:cNvPicPr/>
          <p:nvPr/>
        </p:nvPicPr>
        <p:blipFill>
          <a:blip r:embed="rId1"/>
          <a:stretch/>
        </p:blipFill>
        <p:spPr>
          <a:xfrm>
            <a:off x="5761080" y="1378080"/>
            <a:ext cx="598320" cy="744480"/>
          </a:xfrm>
          <a:prstGeom prst="rect">
            <a:avLst/>
          </a:prstGeom>
          <a:ln w="0">
            <a:noFill/>
          </a:ln>
        </p:spPr>
      </p:pic>
      <p:pic>
        <p:nvPicPr>
          <p:cNvPr id="4208" name="Picture 6" descr=""/>
          <p:cNvPicPr/>
          <p:nvPr/>
        </p:nvPicPr>
        <p:blipFill>
          <a:blip r:embed="rId2"/>
          <a:stretch/>
        </p:blipFill>
        <p:spPr>
          <a:xfrm>
            <a:off x="5869080" y="1341360"/>
            <a:ext cx="3627360" cy="744480"/>
          </a:xfrm>
          <a:prstGeom prst="rect">
            <a:avLst/>
          </a:prstGeom>
          <a:ln w="0">
            <a:noFill/>
          </a:ln>
        </p:spPr>
      </p:pic>
      <p:pic>
        <p:nvPicPr>
          <p:cNvPr id="4209" name="Picture 7" descr=""/>
          <p:cNvPicPr/>
          <p:nvPr/>
        </p:nvPicPr>
        <p:blipFill>
          <a:blip r:embed="rId3"/>
          <a:stretch/>
        </p:blipFill>
        <p:spPr>
          <a:xfrm>
            <a:off x="5599080" y="2828880"/>
            <a:ext cx="1122480" cy="744480"/>
          </a:xfrm>
          <a:prstGeom prst="rect">
            <a:avLst/>
          </a:prstGeom>
          <a:ln w="0">
            <a:noFill/>
          </a:ln>
        </p:spPr>
      </p:pic>
      <p:pic>
        <p:nvPicPr>
          <p:cNvPr id="4210" name="Picture 8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3627720" cy="744480"/>
          </a:xfrm>
          <a:prstGeom prst="rect">
            <a:avLst/>
          </a:prstGeom>
          <a:ln w="0">
            <a:noFill/>
          </a:ln>
        </p:spPr>
      </p:pic>
      <p:pic>
        <p:nvPicPr>
          <p:cNvPr id="4211" name="Picture 9" descr="圣诞树6"/>
          <p:cNvPicPr/>
          <p:nvPr/>
        </p:nvPicPr>
        <p:blipFill>
          <a:blip r:embed="rId5"/>
          <a:stretch/>
        </p:blipFill>
        <p:spPr>
          <a:xfrm>
            <a:off x="7740720" y="5288040"/>
            <a:ext cx="1143000" cy="156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2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13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14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15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16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17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218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Text Box 12"/>
          <p:cNvSpPr/>
          <p:nvPr/>
        </p:nvSpPr>
        <p:spPr>
          <a:xfrm>
            <a:off x="1676520" y="990720"/>
            <a:ext cx="375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f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Text Box 13"/>
          <p:cNvSpPr/>
          <p:nvPr/>
        </p:nvSpPr>
        <p:spPr>
          <a:xfrm>
            <a:off x="4648320" y="2514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Text Box 14"/>
          <p:cNvSpPr/>
          <p:nvPr/>
        </p:nvSpPr>
        <p:spPr>
          <a:xfrm>
            <a:off x="4648320" y="327672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吃饭 饭店 饭量 饭碗 饭桌 稀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Text Box 15"/>
          <p:cNvSpPr/>
          <p:nvPr/>
        </p:nvSpPr>
        <p:spPr>
          <a:xfrm>
            <a:off x="533520" y="4876920"/>
            <a:ext cx="822960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饭不要吃得太饱，否则会加重肠胃负担，不利于身体健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6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227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30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231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Freeform 42"/>
          <p:cNvSpPr/>
          <p:nvPr/>
        </p:nvSpPr>
        <p:spPr>
          <a:xfrm>
            <a:off x="2525760" y="2658960"/>
            <a:ext cx="458640" cy="1443240"/>
          </a:xfrm>
          <a:custGeom>
            <a:avLst/>
            <a:gdLst/>
            <a:ahLst/>
            <a:rect l="l" t="t" r="r" b="b"/>
            <a:pathLst>
              <a:path w="580" h="1817">
                <a:moveTo>
                  <a:pt x="273" y="1505"/>
                </a:moveTo>
                <a:lnTo>
                  <a:pt x="261" y="1524"/>
                </a:lnTo>
                <a:lnTo>
                  <a:pt x="250" y="1541"/>
                </a:lnTo>
                <a:lnTo>
                  <a:pt x="238" y="1560"/>
                </a:lnTo>
                <a:lnTo>
                  <a:pt x="227" y="1578"/>
                </a:lnTo>
                <a:lnTo>
                  <a:pt x="215" y="1595"/>
                </a:lnTo>
                <a:lnTo>
                  <a:pt x="204" y="1610"/>
                </a:lnTo>
                <a:lnTo>
                  <a:pt x="192" y="1627"/>
                </a:lnTo>
                <a:lnTo>
                  <a:pt x="181" y="1643"/>
                </a:lnTo>
                <a:lnTo>
                  <a:pt x="171" y="1656"/>
                </a:lnTo>
                <a:lnTo>
                  <a:pt x="159" y="1672"/>
                </a:lnTo>
                <a:lnTo>
                  <a:pt x="148" y="1685"/>
                </a:lnTo>
                <a:lnTo>
                  <a:pt x="136" y="1698"/>
                </a:lnTo>
                <a:lnTo>
                  <a:pt x="125" y="1710"/>
                </a:lnTo>
                <a:lnTo>
                  <a:pt x="113" y="1723"/>
                </a:lnTo>
                <a:lnTo>
                  <a:pt x="102" y="1735"/>
                </a:lnTo>
                <a:lnTo>
                  <a:pt x="90" y="1746"/>
                </a:lnTo>
                <a:lnTo>
                  <a:pt x="79" y="1756"/>
                </a:lnTo>
                <a:lnTo>
                  <a:pt x="69" y="1766"/>
                </a:lnTo>
                <a:lnTo>
                  <a:pt x="60" y="1775"/>
                </a:lnTo>
                <a:lnTo>
                  <a:pt x="50" y="1783"/>
                </a:lnTo>
                <a:lnTo>
                  <a:pt x="42" y="1791"/>
                </a:lnTo>
                <a:lnTo>
                  <a:pt x="35" y="1796"/>
                </a:lnTo>
                <a:lnTo>
                  <a:pt x="27" y="1802"/>
                </a:lnTo>
                <a:lnTo>
                  <a:pt x="21" y="1806"/>
                </a:lnTo>
                <a:lnTo>
                  <a:pt x="17" y="1810"/>
                </a:lnTo>
                <a:lnTo>
                  <a:pt x="12" y="1814"/>
                </a:lnTo>
                <a:lnTo>
                  <a:pt x="8" y="1816"/>
                </a:lnTo>
                <a:lnTo>
                  <a:pt x="6" y="1817"/>
                </a:lnTo>
                <a:lnTo>
                  <a:pt x="2" y="1817"/>
                </a:lnTo>
                <a:lnTo>
                  <a:pt x="0" y="1816"/>
                </a:lnTo>
                <a:lnTo>
                  <a:pt x="0" y="1810"/>
                </a:lnTo>
                <a:lnTo>
                  <a:pt x="2" y="1804"/>
                </a:lnTo>
                <a:lnTo>
                  <a:pt x="4" y="1796"/>
                </a:lnTo>
                <a:lnTo>
                  <a:pt x="8" y="1789"/>
                </a:lnTo>
                <a:lnTo>
                  <a:pt x="12" y="1779"/>
                </a:lnTo>
                <a:lnTo>
                  <a:pt x="15" y="1769"/>
                </a:lnTo>
                <a:lnTo>
                  <a:pt x="21" y="1758"/>
                </a:lnTo>
                <a:lnTo>
                  <a:pt x="29" y="1746"/>
                </a:lnTo>
                <a:lnTo>
                  <a:pt x="37" y="1733"/>
                </a:lnTo>
                <a:lnTo>
                  <a:pt x="44" y="1718"/>
                </a:lnTo>
                <a:lnTo>
                  <a:pt x="54" y="1702"/>
                </a:lnTo>
                <a:lnTo>
                  <a:pt x="65" y="1685"/>
                </a:lnTo>
                <a:lnTo>
                  <a:pt x="77" y="1668"/>
                </a:lnTo>
                <a:lnTo>
                  <a:pt x="90" y="1649"/>
                </a:lnTo>
                <a:lnTo>
                  <a:pt x="104" y="1629"/>
                </a:lnTo>
                <a:lnTo>
                  <a:pt x="117" y="1608"/>
                </a:lnTo>
                <a:lnTo>
                  <a:pt x="131" y="1587"/>
                </a:lnTo>
                <a:lnTo>
                  <a:pt x="144" y="1566"/>
                </a:lnTo>
                <a:lnTo>
                  <a:pt x="157" y="1543"/>
                </a:lnTo>
                <a:lnTo>
                  <a:pt x="171" y="1520"/>
                </a:lnTo>
                <a:lnTo>
                  <a:pt x="182" y="1497"/>
                </a:lnTo>
                <a:lnTo>
                  <a:pt x="196" y="1472"/>
                </a:lnTo>
                <a:lnTo>
                  <a:pt x="209" y="1445"/>
                </a:lnTo>
                <a:lnTo>
                  <a:pt x="221" y="1416"/>
                </a:lnTo>
                <a:lnTo>
                  <a:pt x="234" y="1390"/>
                </a:lnTo>
                <a:lnTo>
                  <a:pt x="246" y="1359"/>
                </a:lnTo>
                <a:lnTo>
                  <a:pt x="257" y="1328"/>
                </a:lnTo>
                <a:lnTo>
                  <a:pt x="271" y="1297"/>
                </a:lnTo>
                <a:lnTo>
                  <a:pt x="282" y="1263"/>
                </a:lnTo>
                <a:lnTo>
                  <a:pt x="294" y="1230"/>
                </a:lnTo>
                <a:lnTo>
                  <a:pt x="305" y="1194"/>
                </a:lnTo>
                <a:lnTo>
                  <a:pt x="317" y="1159"/>
                </a:lnTo>
                <a:lnTo>
                  <a:pt x="328" y="1123"/>
                </a:lnTo>
                <a:lnTo>
                  <a:pt x="340" y="1088"/>
                </a:lnTo>
                <a:lnTo>
                  <a:pt x="349" y="1052"/>
                </a:lnTo>
                <a:lnTo>
                  <a:pt x="359" y="1015"/>
                </a:lnTo>
                <a:lnTo>
                  <a:pt x="369" y="979"/>
                </a:lnTo>
                <a:lnTo>
                  <a:pt x="378" y="940"/>
                </a:lnTo>
                <a:lnTo>
                  <a:pt x="386" y="902"/>
                </a:lnTo>
                <a:lnTo>
                  <a:pt x="394" y="864"/>
                </a:lnTo>
                <a:lnTo>
                  <a:pt x="399" y="823"/>
                </a:lnTo>
                <a:lnTo>
                  <a:pt x="407" y="783"/>
                </a:lnTo>
                <a:lnTo>
                  <a:pt x="413" y="743"/>
                </a:lnTo>
                <a:lnTo>
                  <a:pt x="418" y="701"/>
                </a:lnTo>
                <a:lnTo>
                  <a:pt x="422" y="658"/>
                </a:lnTo>
                <a:lnTo>
                  <a:pt x="428" y="614"/>
                </a:lnTo>
                <a:lnTo>
                  <a:pt x="432" y="570"/>
                </a:lnTo>
                <a:lnTo>
                  <a:pt x="436" y="526"/>
                </a:lnTo>
                <a:lnTo>
                  <a:pt x="436" y="503"/>
                </a:lnTo>
                <a:lnTo>
                  <a:pt x="438" y="484"/>
                </a:lnTo>
                <a:lnTo>
                  <a:pt x="440" y="463"/>
                </a:lnTo>
                <a:lnTo>
                  <a:pt x="441" y="443"/>
                </a:lnTo>
                <a:lnTo>
                  <a:pt x="441" y="424"/>
                </a:lnTo>
                <a:lnTo>
                  <a:pt x="443" y="405"/>
                </a:lnTo>
                <a:lnTo>
                  <a:pt x="443" y="388"/>
                </a:lnTo>
                <a:lnTo>
                  <a:pt x="445" y="369"/>
                </a:lnTo>
                <a:lnTo>
                  <a:pt x="445" y="353"/>
                </a:lnTo>
                <a:lnTo>
                  <a:pt x="447" y="336"/>
                </a:lnTo>
                <a:lnTo>
                  <a:pt x="447" y="321"/>
                </a:lnTo>
                <a:lnTo>
                  <a:pt x="447" y="303"/>
                </a:lnTo>
                <a:lnTo>
                  <a:pt x="447" y="290"/>
                </a:lnTo>
                <a:lnTo>
                  <a:pt x="447" y="275"/>
                </a:lnTo>
                <a:lnTo>
                  <a:pt x="449" y="261"/>
                </a:lnTo>
                <a:lnTo>
                  <a:pt x="449" y="248"/>
                </a:lnTo>
                <a:lnTo>
                  <a:pt x="449" y="234"/>
                </a:lnTo>
                <a:lnTo>
                  <a:pt x="447" y="223"/>
                </a:lnTo>
                <a:lnTo>
                  <a:pt x="447" y="209"/>
                </a:lnTo>
                <a:lnTo>
                  <a:pt x="447" y="198"/>
                </a:lnTo>
                <a:lnTo>
                  <a:pt x="447" y="188"/>
                </a:lnTo>
                <a:lnTo>
                  <a:pt x="447" y="177"/>
                </a:lnTo>
                <a:lnTo>
                  <a:pt x="445" y="167"/>
                </a:lnTo>
                <a:lnTo>
                  <a:pt x="445" y="158"/>
                </a:lnTo>
                <a:lnTo>
                  <a:pt x="443" y="148"/>
                </a:lnTo>
                <a:lnTo>
                  <a:pt x="443" y="140"/>
                </a:lnTo>
                <a:lnTo>
                  <a:pt x="441" y="133"/>
                </a:lnTo>
                <a:lnTo>
                  <a:pt x="441" y="125"/>
                </a:lnTo>
                <a:lnTo>
                  <a:pt x="438" y="111"/>
                </a:lnTo>
                <a:lnTo>
                  <a:pt x="436" y="100"/>
                </a:lnTo>
                <a:lnTo>
                  <a:pt x="430" y="83"/>
                </a:lnTo>
                <a:lnTo>
                  <a:pt x="424" y="67"/>
                </a:lnTo>
                <a:lnTo>
                  <a:pt x="424" y="60"/>
                </a:lnTo>
                <a:lnTo>
                  <a:pt x="422" y="52"/>
                </a:lnTo>
                <a:lnTo>
                  <a:pt x="422" y="46"/>
                </a:lnTo>
                <a:lnTo>
                  <a:pt x="422" y="40"/>
                </a:lnTo>
                <a:lnTo>
                  <a:pt x="424" y="35"/>
                </a:lnTo>
                <a:lnTo>
                  <a:pt x="424" y="29"/>
                </a:lnTo>
                <a:lnTo>
                  <a:pt x="426" y="25"/>
                </a:lnTo>
                <a:lnTo>
                  <a:pt x="428" y="19"/>
                </a:lnTo>
                <a:lnTo>
                  <a:pt x="432" y="16"/>
                </a:lnTo>
                <a:lnTo>
                  <a:pt x="436" y="12"/>
                </a:lnTo>
                <a:lnTo>
                  <a:pt x="440" y="10"/>
                </a:lnTo>
                <a:lnTo>
                  <a:pt x="443" y="8"/>
                </a:lnTo>
                <a:lnTo>
                  <a:pt x="447" y="4"/>
                </a:lnTo>
                <a:lnTo>
                  <a:pt x="453" y="4"/>
                </a:lnTo>
                <a:lnTo>
                  <a:pt x="457" y="2"/>
                </a:lnTo>
                <a:lnTo>
                  <a:pt x="463" y="0"/>
                </a:lnTo>
                <a:lnTo>
                  <a:pt x="468" y="0"/>
                </a:lnTo>
                <a:lnTo>
                  <a:pt x="476" y="0"/>
                </a:lnTo>
                <a:lnTo>
                  <a:pt x="484" y="0"/>
                </a:lnTo>
                <a:lnTo>
                  <a:pt x="491" y="0"/>
                </a:lnTo>
                <a:lnTo>
                  <a:pt x="501" y="2"/>
                </a:lnTo>
                <a:lnTo>
                  <a:pt x="511" y="4"/>
                </a:lnTo>
                <a:lnTo>
                  <a:pt x="520" y="6"/>
                </a:lnTo>
                <a:lnTo>
                  <a:pt x="532" y="10"/>
                </a:lnTo>
                <a:lnTo>
                  <a:pt x="543" y="14"/>
                </a:lnTo>
                <a:lnTo>
                  <a:pt x="555" y="19"/>
                </a:lnTo>
                <a:lnTo>
                  <a:pt x="566" y="23"/>
                </a:lnTo>
                <a:lnTo>
                  <a:pt x="580" y="31"/>
                </a:lnTo>
                <a:lnTo>
                  <a:pt x="580" y="100"/>
                </a:lnTo>
                <a:lnTo>
                  <a:pt x="578" y="171"/>
                </a:lnTo>
                <a:lnTo>
                  <a:pt x="576" y="242"/>
                </a:lnTo>
                <a:lnTo>
                  <a:pt x="574" y="313"/>
                </a:lnTo>
                <a:lnTo>
                  <a:pt x="570" y="386"/>
                </a:lnTo>
                <a:lnTo>
                  <a:pt x="564" y="459"/>
                </a:lnTo>
                <a:lnTo>
                  <a:pt x="559" y="532"/>
                </a:lnTo>
                <a:lnTo>
                  <a:pt x="553" y="607"/>
                </a:lnTo>
                <a:lnTo>
                  <a:pt x="547" y="643"/>
                </a:lnTo>
                <a:lnTo>
                  <a:pt x="543" y="678"/>
                </a:lnTo>
                <a:lnTo>
                  <a:pt x="537" y="714"/>
                </a:lnTo>
                <a:lnTo>
                  <a:pt x="532" y="749"/>
                </a:lnTo>
                <a:lnTo>
                  <a:pt x="524" y="783"/>
                </a:lnTo>
                <a:lnTo>
                  <a:pt x="518" y="816"/>
                </a:lnTo>
                <a:lnTo>
                  <a:pt x="513" y="850"/>
                </a:lnTo>
                <a:lnTo>
                  <a:pt x="505" y="883"/>
                </a:lnTo>
                <a:lnTo>
                  <a:pt x="499" y="914"/>
                </a:lnTo>
                <a:lnTo>
                  <a:pt x="491" y="946"/>
                </a:lnTo>
                <a:lnTo>
                  <a:pt x="484" y="977"/>
                </a:lnTo>
                <a:lnTo>
                  <a:pt x="476" y="1008"/>
                </a:lnTo>
                <a:lnTo>
                  <a:pt x="468" y="1036"/>
                </a:lnTo>
                <a:lnTo>
                  <a:pt x="461" y="1067"/>
                </a:lnTo>
                <a:lnTo>
                  <a:pt x="453" y="1096"/>
                </a:lnTo>
                <a:lnTo>
                  <a:pt x="443" y="1125"/>
                </a:lnTo>
                <a:lnTo>
                  <a:pt x="436" y="1152"/>
                </a:lnTo>
                <a:lnTo>
                  <a:pt x="426" y="1178"/>
                </a:lnTo>
                <a:lnTo>
                  <a:pt x="417" y="1205"/>
                </a:lnTo>
                <a:lnTo>
                  <a:pt x="407" y="1232"/>
                </a:lnTo>
                <a:lnTo>
                  <a:pt x="397" y="1257"/>
                </a:lnTo>
                <a:lnTo>
                  <a:pt x="386" y="1282"/>
                </a:lnTo>
                <a:lnTo>
                  <a:pt x="376" y="1307"/>
                </a:lnTo>
                <a:lnTo>
                  <a:pt x="365" y="1330"/>
                </a:lnTo>
                <a:lnTo>
                  <a:pt x="353" y="1355"/>
                </a:lnTo>
                <a:lnTo>
                  <a:pt x="342" y="1378"/>
                </a:lnTo>
                <a:lnTo>
                  <a:pt x="330" y="1399"/>
                </a:lnTo>
                <a:lnTo>
                  <a:pt x="319" y="1422"/>
                </a:lnTo>
                <a:lnTo>
                  <a:pt x="307" y="1443"/>
                </a:lnTo>
                <a:lnTo>
                  <a:pt x="296" y="1464"/>
                </a:lnTo>
                <a:lnTo>
                  <a:pt x="284" y="1484"/>
                </a:lnTo>
                <a:lnTo>
                  <a:pt x="273" y="150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Freeform 43"/>
          <p:cNvSpPr/>
          <p:nvPr/>
        </p:nvSpPr>
        <p:spPr>
          <a:xfrm>
            <a:off x="2928960" y="2400480"/>
            <a:ext cx="512640" cy="347400"/>
          </a:xfrm>
          <a:custGeom>
            <a:avLst/>
            <a:gdLst>
              <a:gd name="textAreaLeft" fmla="*/ 0 w 512640"/>
              <a:gd name="textAreaRight" fmla="*/ 513000 w 51264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646" h="437">
                <a:moveTo>
                  <a:pt x="17" y="437"/>
                </a:moveTo>
                <a:lnTo>
                  <a:pt x="7" y="414"/>
                </a:lnTo>
                <a:lnTo>
                  <a:pt x="0" y="391"/>
                </a:lnTo>
                <a:lnTo>
                  <a:pt x="19" y="380"/>
                </a:lnTo>
                <a:lnTo>
                  <a:pt x="38" y="368"/>
                </a:lnTo>
                <a:lnTo>
                  <a:pt x="57" y="359"/>
                </a:lnTo>
                <a:lnTo>
                  <a:pt x="76" y="349"/>
                </a:lnTo>
                <a:lnTo>
                  <a:pt x="94" y="338"/>
                </a:lnTo>
                <a:lnTo>
                  <a:pt x="111" y="328"/>
                </a:lnTo>
                <a:lnTo>
                  <a:pt x="128" y="318"/>
                </a:lnTo>
                <a:lnTo>
                  <a:pt x="146" y="311"/>
                </a:lnTo>
                <a:lnTo>
                  <a:pt x="161" y="301"/>
                </a:lnTo>
                <a:lnTo>
                  <a:pt x="176" y="292"/>
                </a:lnTo>
                <a:lnTo>
                  <a:pt x="192" y="284"/>
                </a:lnTo>
                <a:lnTo>
                  <a:pt x="205" y="276"/>
                </a:lnTo>
                <a:lnTo>
                  <a:pt x="218" y="267"/>
                </a:lnTo>
                <a:lnTo>
                  <a:pt x="232" y="259"/>
                </a:lnTo>
                <a:lnTo>
                  <a:pt x="245" y="251"/>
                </a:lnTo>
                <a:lnTo>
                  <a:pt x="259" y="246"/>
                </a:lnTo>
                <a:lnTo>
                  <a:pt x="270" y="238"/>
                </a:lnTo>
                <a:lnTo>
                  <a:pt x="282" y="230"/>
                </a:lnTo>
                <a:lnTo>
                  <a:pt x="291" y="224"/>
                </a:lnTo>
                <a:lnTo>
                  <a:pt x="303" y="217"/>
                </a:lnTo>
                <a:lnTo>
                  <a:pt x="312" y="211"/>
                </a:lnTo>
                <a:lnTo>
                  <a:pt x="322" y="205"/>
                </a:lnTo>
                <a:lnTo>
                  <a:pt x="330" y="200"/>
                </a:lnTo>
                <a:lnTo>
                  <a:pt x="339" y="194"/>
                </a:lnTo>
                <a:lnTo>
                  <a:pt x="347" y="190"/>
                </a:lnTo>
                <a:lnTo>
                  <a:pt x="355" y="184"/>
                </a:lnTo>
                <a:lnTo>
                  <a:pt x="360" y="180"/>
                </a:lnTo>
                <a:lnTo>
                  <a:pt x="368" y="175"/>
                </a:lnTo>
                <a:lnTo>
                  <a:pt x="374" y="171"/>
                </a:lnTo>
                <a:lnTo>
                  <a:pt x="380" y="167"/>
                </a:lnTo>
                <a:lnTo>
                  <a:pt x="383" y="163"/>
                </a:lnTo>
                <a:lnTo>
                  <a:pt x="389" y="161"/>
                </a:lnTo>
                <a:lnTo>
                  <a:pt x="397" y="153"/>
                </a:lnTo>
                <a:lnTo>
                  <a:pt x="405" y="146"/>
                </a:lnTo>
                <a:lnTo>
                  <a:pt x="410" y="140"/>
                </a:lnTo>
                <a:lnTo>
                  <a:pt x="418" y="132"/>
                </a:lnTo>
                <a:lnTo>
                  <a:pt x="424" y="125"/>
                </a:lnTo>
                <a:lnTo>
                  <a:pt x="428" y="117"/>
                </a:lnTo>
                <a:lnTo>
                  <a:pt x="433" y="109"/>
                </a:lnTo>
                <a:lnTo>
                  <a:pt x="437" y="102"/>
                </a:lnTo>
                <a:lnTo>
                  <a:pt x="441" y="96"/>
                </a:lnTo>
                <a:lnTo>
                  <a:pt x="443" y="88"/>
                </a:lnTo>
                <a:lnTo>
                  <a:pt x="447" y="81"/>
                </a:lnTo>
                <a:lnTo>
                  <a:pt x="449" y="73"/>
                </a:lnTo>
                <a:lnTo>
                  <a:pt x="451" y="59"/>
                </a:lnTo>
                <a:lnTo>
                  <a:pt x="453" y="46"/>
                </a:lnTo>
                <a:lnTo>
                  <a:pt x="451" y="38"/>
                </a:lnTo>
                <a:lnTo>
                  <a:pt x="449" y="33"/>
                </a:lnTo>
                <a:lnTo>
                  <a:pt x="449" y="29"/>
                </a:lnTo>
                <a:lnTo>
                  <a:pt x="449" y="23"/>
                </a:lnTo>
                <a:lnTo>
                  <a:pt x="449" y="15"/>
                </a:lnTo>
                <a:lnTo>
                  <a:pt x="451" y="10"/>
                </a:lnTo>
                <a:lnTo>
                  <a:pt x="454" y="4"/>
                </a:lnTo>
                <a:lnTo>
                  <a:pt x="458" y="2"/>
                </a:lnTo>
                <a:lnTo>
                  <a:pt x="464" y="0"/>
                </a:lnTo>
                <a:lnTo>
                  <a:pt x="470" y="0"/>
                </a:lnTo>
                <a:lnTo>
                  <a:pt x="478" y="0"/>
                </a:lnTo>
                <a:lnTo>
                  <a:pt x="485" y="2"/>
                </a:lnTo>
                <a:lnTo>
                  <a:pt x="495" y="4"/>
                </a:lnTo>
                <a:lnTo>
                  <a:pt x="504" y="10"/>
                </a:lnTo>
                <a:lnTo>
                  <a:pt x="518" y="15"/>
                </a:lnTo>
                <a:lnTo>
                  <a:pt x="529" y="23"/>
                </a:lnTo>
                <a:lnTo>
                  <a:pt x="537" y="29"/>
                </a:lnTo>
                <a:lnTo>
                  <a:pt x="545" y="33"/>
                </a:lnTo>
                <a:lnTo>
                  <a:pt x="552" y="38"/>
                </a:lnTo>
                <a:lnTo>
                  <a:pt x="560" y="46"/>
                </a:lnTo>
                <a:lnTo>
                  <a:pt x="577" y="57"/>
                </a:lnTo>
                <a:lnTo>
                  <a:pt x="591" y="71"/>
                </a:lnTo>
                <a:lnTo>
                  <a:pt x="604" y="84"/>
                </a:lnTo>
                <a:lnTo>
                  <a:pt x="616" y="96"/>
                </a:lnTo>
                <a:lnTo>
                  <a:pt x="625" y="107"/>
                </a:lnTo>
                <a:lnTo>
                  <a:pt x="633" y="119"/>
                </a:lnTo>
                <a:lnTo>
                  <a:pt x="639" y="128"/>
                </a:lnTo>
                <a:lnTo>
                  <a:pt x="643" y="138"/>
                </a:lnTo>
                <a:lnTo>
                  <a:pt x="644" y="150"/>
                </a:lnTo>
                <a:lnTo>
                  <a:pt x="646" y="161"/>
                </a:lnTo>
                <a:lnTo>
                  <a:pt x="646" y="171"/>
                </a:lnTo>
                <a:lnTo>
                  <a:pt x="644" y="180"/>
                </a:lnTo>
                <a:lnTo>
                  <a:pt x="643" y="188"/>
                </a:lnTo>
                <a:lnTo>
                  <a:pt x="641" y="196"/>
                </a:lnTo>
                <a:lnTo>
                  <a:pt x="637" y="201"/>
                </a:lnTo>
                <a:lnTo>
                  <a:pt x="633" y="207"/>
                </a:lnTo>
                <a:lnTo>
                  <a:pt x="629" y="209"/>
                </a:lnTo>
                <a:lnTo>
                  <a:pt x="623" y="211"/>
                </a:lnTo>
                <a:lnTo>
                  <a:pt x="618" y="215"/>
                </a:lnTo>
                <a:lnTo>
                  <a:pt x="610" y="219"/>
                </a:lnTo>
                <a:lnTo>
                  <a:pt x="600" y="223"/>
                </a:lnTo>
                <a:lnTo>
                  <a:pt x="591" y="228"/>
                </a:lnTo>
                <a:lnTo>
                  <a:pt x="577" y="234"/>
                </a:lnTo>
                <a:lnTo>
                  <a:pt x="566" y="240"/>
                </a:lnTo>
                <a:lnTo>
                  <a:pt x="550" y="246"/>
                </a:lnTo>
                <a:lnTo>
                  <a:pt x="535" y="251"/>
                </a:lnTo>
                <a:lnTo>
                  <a:pt x="518" y="259"/>
                </a:lnTo>
                <a:lnTo>
                  <a:pt x="501" y="267"/>
                </a:lnTo>
                <a:lnTo>
                  <a:pt x="481" y="274"/>
                </a:lnTo>
                <a:lnTo>
                  <a:pt x="460" y="282"/>
                </a:lnTo>
                <a:lnTo>
                  <a:pt x="439" y="290"/>
                </a:lnTo>
                <a:lnTo>
                  <a:pt x="416" y="299"/>
                </a:lnTo>
                <a:lnTo>
                  <a:pt x="364" y="320"/>
                </a:lnTo>
                <a:lnTo>
                  <a:pt x="314" y="340"/>
                </a:lnTo>
                <a:lnTo>
                  <a:pt x="266" y="359"/>
                </a:lnTo>
                <a:lnTo>
                  <a:pt x="217" y="376"/>
                </a:lnTo>
                <a:lnTo>
                  <a:pt x="167" y="393"/>
                </a:lnTo>
                <a:lnTo>
                  <a:pt x="117" y="409"/>
                </a:lnTo>
                <a:lnTo>
                  <a:pt x="67" y="422"/>
                </a:lnTo>
                <a:lnTo>
                  <a:pt x="17" y="43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Freeform 44"/>
          <p:cNvSpPr/>
          <p:nvPr/>
        </p:nvSpPr>
        <p:spPr>
          <a:xfrm>
            <a:off x="2784600" y="2952720"/>
            <a:ext cx="676080" cy="1066680"/>
          </a:xfrm>
          <a:custGeom>
            <a:avLst/>
            <a:gdLst>
              <a:gd name="textAreaLeft" fmla="*/ 0 w 676080"/>
              <a:gd name="textAreaRight" fmla="*/ 676440 w 6760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52" h="1343">
                <a:moveTo>
                  <a:pt x="517" y="662"/>
                </a:moveTo>
                <a:lnTo>
                  <a:pt x="528" y="623"/>
                </a:lnTo>
                <a:lnTo>
                  <a:pt x="534" y="604"/>
                </a:lnTo>
                <a:lnTo>
                  <a:pt x="540" y="587"/>
                </a:lnTo>
                <a:lnTo>
                  <a:pt x="545" y="569"/>
                </a:lnTo>
                <a:lnTo>
                  <a:pt x="549" y="552"/>
                </a:lnTo>
                <a:lnTo>
                  <a:pt x="555" y="537"/>
                </a:lnTo>
                <a:lnTo>
                  <a:pt x="559" y="520"/>
                </a:lnTo>
                <a:lnTo>
                  <a:pt x="563" y="504"/>
                </a:lnTo>
                <a:lnTo>
                  <a:pt x="568" y="491"/>
                </a:lnTo>
                <a:lnTo>
                  <a:pt x="572" y="475"/>
                </a:lnTo>
                <a:lnTo>
                  <a:pt x="576" y="462"/>
                </a:lnTo>
                <a:lnTo>
                  <a:pt x="580" y="449"/>
                </a:lnTo>
                <a:lnTo>
                  <a:pt x="584" y="435"/>
                </a:lnTo>
                <a:lnTo>
                  <a:pt x="588" y="424"/>
                </a:lnTo>
                <a:lnTo>
                  <a:pt x="590" y="412"/>
                </a:lnTo>
                <a:lnTo>
                  <a:pt x="593" y="401"/>
                </a:lnTo>
                <a:lnTo>
                  <a:pt x="597" y="389"/>
                </a:lnTo>
                <a:lnTo>
                  <a:pt x="599" y="379"/>
                </a:lnTo>
                <a:lnTo>
                  <a:pt x="601" y="370"/>
                </a:lnTo>
                <a:lnTo>
                  <a:pt x="605" y="360"/>
                </a:lnTo>
                <a:lnTo>
                  <a:pt x="607" y="351"/>
                </a:lnTo>
                <a:lnTo>
                  <a:pt x="609" y="343"/>
                </a:lnTo>
                <a:lnTo>
                  <a:pt x="611" y="335"/>
                </a:lnTo>
                <a:lnTo>
                  <a:pt x="613" y="328"/>
                </a:lnTo>
                <a:lnTo>
                  <a:pt x="613" y="322"/>
                </a:lnTo>
                <a:lnTo>
                  <a:pt x="614" y="314"/>
                </a:lnTo>
                <a:lnTo>
                  <a:pt x="614" y="308"/>
                </a:lnTo>
                <a:lnTo>
                  <a:pt x="616" y="305"/>
                </a:lnTo>
                <a:lnTo>
                  <a:pt x="616" y="299"/>
                </a:lnTo>
                <a:lnTo>
                  <a:pt x="616" y="295"/>
                </a:lnTo>
                <a:lnTo>
                  <a:pt x="616" y="293"/>
                </a:lnTo>
                <a:lnTo>
                  <a:pt x="616" y="280"/>
                </a:lnTo>
                <a:lnTo>
                  <a:pt x="616" y="266"/>
                </a:lnTo>
                <a:lnTo>
                  <a:pt x="616" y="255"/>
                </a:lnTo>
                <a:lnTo>
                  <a:pt x="616" y="243"/>
                </a:lnTo>
                <a:lnTo>
                  <a:pt x="614" y="234"/>
                </a:lnTo>
                <a:lnTo>
                  <a:pt x="613" y="224"/>
                </a:lnTo>
                <a:lnTo>
                  <a:pt x="611" y="216"/>
                </a:lnTo>
                <a:lnTo>
                  <a:pt x="609" y="214"/>
                </a:lnTo>
                <a:lnTo>
                  <a:pt x="609" y="213"/>
                </a:lnTo>
                <a:lnTo>
                  <a:pt x="605" y="209"/>
                </a:lnTo>
                <a:lnTo>
                  <a:pt x="603" y="209"/>
                </a:lnTo>
                <a:lnTo>
                  <a:pt x="599" y="207"/>
                </a:lnTo>
                <a:lnTo>
                  <a:pt x="595" y="205"/>
                </a:lnTo>
                <a:lnTo>
                  <a:pt x="590" y="205"/>
                </a:lnTo>
                <a:lnTo>
                  <a:pt x="584" y="203"/>
                </a:lnTo>
                <a:lnTo>
                  <a:pt x="576" y="203"/>
                </a:lnTo>
                <a:lnTo>
                  <a:pt x="568" y="203"/>
                </a:lnTo>
                <a:lnTo>
                  <a:pt x="561" y="203"/>
                </a:lnTo>
                <a:lnTo>
                  <a:pt x="553" y="203"/>
                </a:lnTo>
                <a:lnTo>
                  <a:pt x="543" y="205"/>
                </a:lnTo>
                <a:lnTo>
                  <a:pt x="534" y="205"/>
                </a:lnTo>
                <a:lnTo>
                  <a:pt x="524" y="207"/>
                </a:lnTo>
                <a:lnTo>
                  <a:pt x="513" y="209"/>
                </a:lnTo>
                <a:lnTo>
                  <a:pt x="490" y="213"/>
                </a:lnTo>
                <a:lnTo>
                  <a:pt x="478" y="214"/>
                </a:lnTo>
                <a:lnTo>
                  <a:pt x="465" y="216"/>
                </a:lnTo>
                <a:lnTo>
                  <a:pt x="449" y="218"/>
                </a:lnTo>
                <a:lnTo>
                  <a:pt x="434" y="220"/>
                </a:lnTo>
                <a:lnTo>
                  <a:pt x="417" y="222"/>
                </a:lnTo>
                <a:lnTo>
                  <a:pt x="400" y="224"/>
                </a:lnTo>
                <a:lnTo>
                  <a:pt x="382" y="226"/>
                </a:lnTo>
                <a:lnTo>
                  <a:pt x="361" y="228"/>
                </a:lnTo>
                <a:lnTo>
                  <a:pt x="342" y="230"/>
                </a:lnTo>
                <a:lnTo>
                  <a:pt x="321" y="230"/>
                </a:lnTo>
                <a:lnTo>
                  <a:pt x="298" y="232"/>
                </a:lnTo>
                <a:lnTo>
                  <a:pt x="275" y="234"/>
                </a:lnTo>
                <a:lnTo>
                  <a:pt x="250" y="234"/>
                </a:lnTo>
                <a:lnTo>
                  <a:pt x="225" y="234"/>
                </a:lnTo>
                <a:lnTo>
                  <a:pt x="200" y="234"/>
                </a:lnTo>
                <a:lnTo>
                  <a:pt x="173" y="236"/>
                </a:lnTo>
                <a:lnTo>
                  <a:pt x="173" y="155"/>
                </a:lnTo>
                <a:lnTo>
                  <a:pt x="181" y="153"/>
                </a:lnTo>
                <a:lnTo>
                  <a:pt x="188" y="153"/>
                </a:lnTo>
                <a:lnTo>
                  <a:pt x="198" y="153"/>
                </a:lnTo>
                <a:lnTo>
                  <a:pt x="208" y="151"/>
                </a:lnTo>
                <a:lnTo>
                  <a:pt x="219" y="151"/>
                </a:lnTo>
                <a:lnTo>
                  <a:pt x="233" y="149"/>
                </a:lnTo>
                <a:lnTo>
                  <a:pt x="246" y="147"/>
                </a:lnTo>
                <a:lnTo>
                  <a:pt x="259" y="145"/>
                </a:lnTo>
                <a:lnTo>
                  <a:pt x="275" y="143"/>
                </a:lnTo>
                <a:lnTo>
                  <a:pt x="292" y="142"/>
                </a:lnTo>
                <a:lnTo>
                  <a:pt x="309" y="138"/>
                </a:lnTo>
                <a:lnTo>
                  <a:pt x="327" y="136"/>
                </a:lnTo>
                <a:lnTo>
                  <a:pt x="346" y="132"/>
                </a:lnTo>
                <a:lnTo>
                  <a:pt x="365" y="128"/>
                </a:lnTo>
                <a:lnTo>
                  <a:pt x="386" y="124"/>
                </a:lnTo>
                <a:lnTo>
                  <a:pt x="409" y="120"/>
                </a:lnTo>
                <a:lnTo>
                  <a:pt x="430" y="117"/>
                </a:lnTo>
                <a:lnTo>
                  <a:pt x="449" y="115"/>
                </a:lnTo>
                <a:lnTo>
                  <a:pt x="471" y="111"/>
                </a:lnTo>
                <a:lnTo>
                  <a:pt x="488" y="107"/>
                </a:lnTo>
                <a:lnTo>
                  <a:pt x="505" y="103"/>
                </a:lnTo>
                <a:lnTo>
                  <a:pt x="522" y="97"/>
                </a:lnTo>
                <a:lnTo>
                  <a:pt x="538" y="94"/>
                </a:lnTo>
                <a:lnTo>
                  <a:pt x="551" y="88"/>
                </a:lnTo>
                <a:lnTo>
                  <a:pt x="565" y="82"/>
                </a:lnTo>
                <a:lnTo>
                  <a:pt x="576" y="76"/>
                </a:lnTo>
                <a:lnTo>
                  <a:pt x="588" y="71"/>
                </a:lnTo>
                <a:lnTo>
                  <a:pt x="597" y="65"/>
                </a:lnTo>
                <a:lnTo>
                  <a:pt x="607" y="59"/>
                </a:lnTo>
                <a:lnTo>
                  <a:pt x="614" y="51"/>
                </a:lnTo>
                <a:lnTo>
                  <a:pt x="620" y="46"/>
                </a:lnTo>
                <a:lnTo>
                  <a:pt x="626" y="40"/>
                </a:lnTo>
                <a:lnTo>
                  <a:pt x="630" y="32"/>
                </a:lnTo>
                <a:lnTo>
                  <a:pt x="636" y="26"/>
                </a:lnTo>
                <a:lnTo>
                  <a:pt x="639" y="23"/>
                </a:lnTo>
                <a:lnTo>
                  <a:pt x="645" y="17"/>
                </a:lnTo>
                <a:lnTo>
                  <a:pt x="649" y="13"/>
                </a:lnTo>
                <a:lnTo>
                  <a:pt x="653" y="9"/>
                </a:lnTo>
                <a:lnTo>
                  <a:pt x="659" y="7"/>
                </a:lnTo>
                <a:lnTo>
                  <a:pt x="662" y="3"/>
                </a:lnTo>
                <a:lnTo>
                  <a:pt x="666" y="1"/>
                </a:lnTo>
                <a:lnTo>
                  <a:pt x="670" y="1"/>
                </a:lnTo>
                <a:lnTo>
                  <a:pt x="676" y="0"/>
                </a:lnTo>
                <a:lnTo>
                  <a:pt x="680" y="0"/>
                </a:lnTo>
                <a:lnTo>
                  <a:pt x="684" y="0"/>
                </a:lnTo>
                <a:lnTo>
                  <a:pt x="689" y="1"/>
                </a:lnTo>
                <a:lnTo>
                  <a:pt x="693" y="3"/>
                </a:lnTo>
                <a:lnTo>
                  <a:pt x="699" y="5"/>
                </a:lnTo>
                <a:lnTo>
                  <a:pt x="707" y="9"/>
                </a:lnTo>
                <a:lnTo>
                  <a:pt x="714" y="13"/>
                </a:lnTo>
                <a:lnTo>
                  <a:pt x="724" y="19"/>
                </a:lnTo>
                <a:lnTo>
                  <a:pt x="733" y="24"/>
                </a:lnTo>
                <a:lnTo>
                  <a:pt x="745" y="32"/>
                </a:lnTo>
                <a:lnTo>
                  <a:pt x="758" y="40"/>
                </a:lnTo>
                <a:lnTo>
                  <a:pt x="766" y="46"/>
                </a:lnTo>
                <a:lnTo>
                  <a:pt x="774" y="49"/>
                </a:lnTo>
                <a:lnTo>
                  <a:pt x="781" y="55"/>
                </a:lnTo>
                <a:lnTo>
                  <a:pt x="789" y="63"/>
                </a:lnTo>
                <a:lnTo>
                  <a:pt x="797" y="69"/>
                </a:lnTo>
                <a:lnTo>
                  <a:pt x="804" y="74"/>
                </a:lnTo>
                <a:lnTo>
                  <a:pt x="812" y="82"/>
                </a:lnTo>
                <a:lnTo>
                  <a:pt x="818" y="88"/>
                </a:lnTo>
                <a:lnTo>
                  <a:pt x="824" y="94"/>
                </a:lnTo>
                <a:lnTo>
                  <a:pt x="829" y="99"/>
                </a:lnTo>
                <a:lnTo>
                  <a:pt x="833" y="105"/>
                </a:lnTo>
                <a:lnTo>
                  <a:pt x="837" y="111"/>
                </a:lnTo>
                <a:lnTo>
                  <a:pt x="841" y="117"/>
                </a:lnTo>
                <a:lnTo>
                  <a:pt x="845" y="120"/>
                </a:lnTo>
                <a:lnTo>
                  <a:pt x="847" y="126"/>
                </a:lnTo>
                <a:lnTo>
                  <a:pt x="849" y="130"/>
                </a:lnTo>
                <a:lnTo>
                  <a:pt x="852" y="138"/>
                </a:lnTo>
                <a:lnTo>
                  <a:pt x="852" y="140"/>
                </a:lnTo>
                <a:lnTo>
                  <a:pt x="852" y="143"/>
                </a:lnTo>
                <a:lnTo>
                  <a:pt x="852" y="147"/>
                </a:lnTo>
                <a:lnTo>
                  <a:pt x="851" y="153"/>
                </a:lnTo>
                <a:lnTo>
                  <a:pt x="849" y="159"/>
                </a:lnTo>
                <a:lnTo>
                  <a:pt x="845" y="166"/>
                </a:lnTo>
                <a:lnTo>
                  <a:pt x="839" y="174"/>
                </a:lnTo>
                <a:lnTo>
                  <a:pt x="833" y="184"/>
                </a:lnTo>
                <a:lnTo>
                  <a:pt x="826" y="191"/>
                </a:lnTo>
                <a:lnTo>
                  <a:pt x="816" y="201"/>
                </a:lnTo>
                <a:lnTo>
                  <a:pt x="812" y="205"/>
                </a:lnTo>
                <a:lnTo>
                  <a:pt x="806" y="211"/>
                </a:lnTo>
                <a:lnTo>
                  <a:pt x="803" y="218"/>
                </a:lnTo>
                <a:lnTo>
                  <a:pt x="797" y="226"/>
                </a:lnTo>
                <a:lnTo>
                  <a:pt x="793" y="236"/>
                </a:lnTo>
                <a:lnTo>
                  <a:pt x="789" y="245"/>
                </a:lnTo>
                <a:lnTo>
                  <a:pt x="783" y="257"/>
                </a:lnTo>
                <a:lnTo>
                  <a:pt x="779" y="268"/>
                </a:lnTo>
                <a:lnTo>
                  <a:pt x="776" y="282"/>
                </a:lnTo>
                <a:lnTo>
                  <a:pt x="772" y="295"/>
                </a:lnTo>
                <a:lnTo>
                  <a:pt x="766" y="308"/>
                </a:lnTo>
                <a:lnTo>
                  <a:pt x="762" y="326"/>
                </a:lnTo>
                <a:lnTo>
                  <a:pt x="758" y="341"/>
                </a:lnTo>
                <a:lnTo>
                  <a:pt x="753" y="358"/>
                </a:lnTo>
                <a:lnTo>
                  <a:pt x="749" y="378"/>
                </a:lnTo>
                <a:lnTo>
                  <a:pt x="743" y="397"/>
                </a:lnTo>
                <a:lnTo>
                  <a:pt x="733" y="435"/>
                </a:lnTo>
                <a:lnTo>
                  <a:pt x="724" y="475"/>
                </a:lnTo>
                <a:lnTo>
                  <a:pt x="712" y="518"/>
                </a:lnTo>
                <a:lnTo>
                  <a:pt x="701" y="558"/>
                </a:lnTo>
                <a:lnTo>
                  <a:pt x="687" y="600"/>
                </a:lnTo>
                <a:lnTo>
                  <a:pt x="674" y="644"/>
                </a:lnTo>
                <a:lnTo>
                  <a:pt x="661" y="687"/>
                </a:lnTo>
                <a:lnTo>
                  <a:pt x="643" y="731"/>
                </a:lnTo>
                <a:lnTo>
                  <a:pt x="636" y="754"/>
                </a:lnTo>
                <a:lnTo>
                  <a:pt x="626" y="777"/>
                </a:lnTo>
                <a:lnTo>
                  <a:pt x="616" y="798"/>
                </a:lnTo>
                <a:lnTo>
                  <a:pt x="605" y="821"/>
                </a:lnTo>
                <a:lnTo>
                  <a:pt x="593" y="842"/>
                </a:lnTo>
                <a:lnTo>
                  <a:pt x="582" y="863"/>
                </a:lnTo>
                <a:lnTo>
                  <a:pt x="570" y="884"/>
                </a:lnTo>
                <a:lnTo>
                  <a:pt x="557" y="903"/>
                </a:lnTo>
                <a:lnTo>
                  <a:pt x="532" y="944"/>
                </a:lnTo>
                <a:lnTo>
                  <a:pt x="503" y="980"/>
                </a:lnTo>
                <a:lnTo>
                  <a:pt x="474" y="1017"/>
                </a:lnTo>
                <a:lnTo>
                  <a:pt x="446" y="1053"/>
                </a:lnTo>
                <a:lnTo>
                  <a:pt x="430" y="1068"/>
                </a:lnTo>
                <a:lnTo>
                  <a:pt x="413" y="1086"/>
                </a:lnTo>
                <a:lnTo>
                  <a:pt x="398" y="1101"/>
                </a:lnTo>
                <a:lnTo>
                  <a:pt x="380" y="1118"/>
                </a:lnTo>
                <a:lnTo>
                  <a:pt x="363" y="1132"/>
                </a:lnTo>
                <a:lnTo>
                  <a:pt x="346" y="1147"/>
                </a:lnTo>
                <a:lnTo>
                  <a:pt x="311" y="1174"/>
                </a:lnTo>
                <a:lnTo>
                  <a:pt x="275" y="1201"/>
                </a:lnTo>
                <a:lnTo>
                  <a:pt x="238" y="1226"/>
                </a:lnTo>
                <a:lnTo>
                  <a:pt x="200" y="1249"/>
                </a:lnTo>
                <a:lnTo>
                  <a:pt x="163" y="1272"/>
                </a:lnTo>
                <a:lnTo>
                  <a:pt x="146" y="1281"/>
                </a:lnTo>
                <a:lnTo>
                  <a:pt x="129" y="1291"/>
                </a:lnTo>
                <a:lnTo>
                  <a:pt x="112" y="1301"/>
                </a:lnTo>
                <a:lnTo>
                  <a:pt x="98" y="1308"/>
                </a:lnTo>
                <a:lnTo>
                  <a:pt x="83" y="1316"/>
                </a:lnTo>
                <a:lnTo>
                  <a:pt x="71" y="1322"/>
                </a:lnTo>
                <a:lnTo>
                  <a:pt x="58" y="1327"/>
                </a:lnTo>
                <a:lnTo>
                  <a:pt x="48" y="1331"/>
                </a:lnTo>
                <a:lnTo>
                  <a:pt x="39" y="1335"/>
                </a:lnTo>
                <a:lnTo>
                  <a:pt x="29" y="1339"/>
                </a:lnTo>
                <a:lnTo>
                  <a:pt x="21" y="1341"/>
                </a:lnTo>
                <a:lnTo>
                  <a:pt x="16" y="1343"/>
                </a:lnTo>
                <a:lnTo>
                  <a:pt x="10" y="1343"/>
                </a:lnTo>
                <a:lnTo>
                  <a:pt x="6" y="1343"/>
                </a:lnTo>
                <a:lnTo>
                  <a:pt x="2" y="1341"/>
                </a:lnTo>
                <a:lnTo>
                  <a:pt x="0" y="1341"/>
                </a:lnTo>
                <a:lnTo>
                  <a:pt x="0" y="1337"/>
                </a:lnTo>
                <a:lnTo>
                  <a:pt x="0" y="1333"/>
                </a:lnTo>
                <a:lnTo>
                  <a:pt x="2" y="1327"/>
                </a:lnTo>
                <a:lnTo>
                  <a:pt x="8" y="1322"/>
                </a:lnTo>
                <a:lnTo>
                  <a:pt x="14" y="1312"/>
                </a:lnTo>
                <a:lnTo>
                  <a:pt x="21" y="1304"/>
                </a:lnTo>
                <a:lnTo>
                  <a:pt x="31" y="1293"/>
                </a:lnTo>
                <a:lnTo>
                  <a:pt x="43" y="1281"/>
                </a:lnTo>
                <a:lnTo>
                  <a:pt x="56" y="1268"/>
                </a:lnTo>
                <a:lnTo>
                  <a:pt x="71" y="1255"/>
                </a:lnTo>
                <a:lnTo>
                  <a:pt x="89" y="1239"/>
                </a:lnTo>
                <a:lnTo>
                  <a:pt x="106" y="1222"/>
                </a:lnTo>
                <a:lnTo>
                  <a:pt x="127" y="1205"/>
                </a:lnTo>
                <a:lnTo>
                  <a:pt x="150" y="1185"/>
                </a:lnTo>
                <a:lnTo>
                  <a:pt x="173" y="1166"/>
                </a:lnTo>
                <a:lnTo>
                  <a:pt x="200" y="1145"/>
                </a:lnTo>
                <a:lnTo>
                  <a:pt x="227" y="1122"/>
                </a:lnTo>
                <a:lnTo>
                  <a:pt x="252" y="1099"/>
                </a:lnTo>
                <a:lnTo>
                  <a:pt x="277" y="1074"/>
                </a:lnTo>
                <a:lnTo>
                  <a:pt x="302" y="1049"/>
                </a:lnTo>
                <a:lnTo>
                  <a:pt x="325" y="1022"/>
                </a:lnTo>
                <a:lnTo>
                  <a:pt x="348" y="995"/>
                </a:lnTo>
                <a:lnTo>
                  <a:pt x="369" y="967"/>
                </a:lnTo>
                <a:lnTo>
                  <a:pt x="390" y="936"/>
                </a:lnTo>
                <a:lnTo>
                  <a:pt x="409" y="905"/>
                </a:lnTo>
                <a:lnTo>
                  <a:pt x="426" y="875"/>
                </a:lnTo>
                <a:lnTo>
                  <a:pt x="446" y="842"/>
                </a:lnTo>
                <a:lnTo>
                  <a:pt x="461" y="807"/>
                </a:lnTo>
                <a:lnTo>
                  <a:pt x="476" y="773"/>
                </a:lnTo>
                <a:lnTo>
                  <a:pt x="492" y="736"/>
                </a:lnTo>
                <a:lnTo>
                  <a:pt x="505" y="700"/>
                </a:lnTo>
                <a:lnTo>
                  <a:pt x="517" y="66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Freeform 45"/>
          <p:cNvSpPr/>
          <p:nvPr/>
        </p:nvSpPr>
        <p:spPr>
          <a:xfrm>
            <a:off x="2905200" y="3286080"/>
            <a:ext cx="901800" cy="804960"/>
          </a:xfrm>
          <a:custGeom>
            <a:avLst/>
            <a:gdLst>
              <a:gd name="textAreaLeft" fmla="*/ 0 w 901800"/>
              <a:gd name="textAreaRight" fmla="*/ 902160 w 90180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1134" h="1013">
                <a:moveTo>
                  <a:pt x="961" y="990"/>
                </a:moveTo>
                <a:lnTo>
                  <a:pt x="942" y="992"/>
                </a:lnTo>
                <a:lnTo>
                  <a:pt x="923" y="994"/>
                </a:lnTo>
                <a:lnTo>
                  <a:pt x="904" y="996"/>
                </a:lnTo>
                <a:lnTo>
                  <a:pt x="886" y="998"/>
                </a:lnTo>
                <a:lnTo>
                  <a:pt x="871" y="1000"/>
                </a:lnTo>
                <a:lnTo>
                  <a:pt x="856" y="1002"/>
                </a:lnTo>
                <a:lnTo>
                  <a:pt x="840" y="1003"/>
                </a:lnTo>
                <a:lnTo>
                  <a:pt x="827" y="1005"/>
                </a:lnTo>
                <a:lnTo>
                  <a:pt x="814" y="1007"/>
                </a:lnTo>
                <a:lnTo>
                  <a:pt x="802" y="1007"/>
                </a:lnTo>
                <a:lnTo>
                  <a:pt x="791" y="1009"/>
                </a:lnTo>
                <a:lnTo>
                  <a:pt x="781" y="1011"/>
                </a:lnTo>
                <a:lnTo>
                  <a:pt x="773" y="1011"/>
                </a:lnTo>
                <a:lnTo>
                  <a:pt x="766" y="1011"/>
                </a:lnTo>
                <a:lnTo>
                  <a:pt x="758" y="1011"/>
                </a:lnTo>
                <a:lnTo>
                  <a:pt x="752" y="1013"/>
                </a:lnTo>
                <a:lnTo>
                  <a:pt x="741" y="1011"/>
                </a:lnTo>
                <a:lnTo>
                  <a:pt x="727" y="1009"/>
                </a:lnTo>
                <a:lnTo>
                  <a:pt x="716" y="1007"/>
                </a:lnTo>
                <a:lnTo>
                  <a:pt x="704" y="1002"/>
                </a:lnTo>
                <a:lnTo>
                  <a:pt x="693" y="996"/>
                </a:lnTo>
                <a:lnTo>
                  <a:pt x="683" y="988"/>
                </a:lnTo>
                <a:lnTo>
                  <a:pt x="677" y="982"/>
                </a:lnTo>
                <a:lnTo>
                  <a:pt x="672" y="978"/>
                </a:lnTo>
                <a:lnTo>
                  <a:pt x="668" y="973"/>
                </a:lnTo>
                <a:lnTo>
                  <a:pt x="662" y="967"/>
                </a:lnTo>
                <a:lnTo>
                  <a:pt x="656" y="961"/>
                </a:lnTo>
                <a:lnTo>
                  <a:pt x="650" y="955"/>
                </a:lnTo>
                <a:lnTo>
                  <a:pt x="645" y="948"/>
                </a:lnTo>
                <a:lnTo>
                  <a:pt x="637" y="940"/>
                </a:lnTo>
                <a:lnTo>
                  <a:pt x="629" y="931"/>
                </a:lnTo>
                <a:lnTo>
                  <a:pt x="620" y="921"/>
                </a:lnTo>
                <a:lnTo>
                  <a:pt x="612" y="909"/>
                </a:lnTo>
                <a:lnTo>
                  <a:pt x="602" y="898"/>
                </a:lnTo>
                <a:lnTo>
                  <a:pt x="591" y="884"/>
                </a:lnTo>
                <a:lnTo>
                  <a:pt x="581" y="869"/>
                </a:lnTo>
                <a:lnTo>
                  <a:pt x="570" y="854"/>
                </a:lnTo>
                <a:lnTo>
                  <a:pt x="558" y="836"/>
                </a:lnTo>
                <a:lnTo>
                  <a:pt x="547" y="819"/>
                </a:lnTo>
                <a:lnTo>
                  <a:pt x="533" y="800"/>
                </a:lnTo>
                <a:lnTo>
                  <a:pt x="522" y="781"/>
                </a:lnTo>
                <a:lnTo>
                  <a:pt x="508" y="760"/>
                </a:lnTo>
                <a:lnTo>
                  <a:pt x="482" y="716"/>
                </a:lnTo>
                <a:lnTo>
                  <a:pt x="453" y="670"/>
                </a:lnTo>
                <a:lnTo>
                  <a:pt x="424" y="623"/>
                </a:lnTo>
                <a:lnTo>
                  <a:pt x="393" y="577"/>
                </a:lnTo>
                <a:lnTo>
                  <a:pt x="363" y="529"/>
                </a:lnTo>
                <a:lnTo>
                  <a:pt x="334" y="481"/>
                </a:lnTo>
                <a:lnTo>
                  <a:pt x="303" y="430"/>
                </a:lnTo>
                <a:lnTo>
                  <a:pt x="272" y="380"/>
                </a:lnTo>
                <a:lnTo>
                  <a:pt x="238" y="328"/>
                </a:lnTo>
                <a:lnTo>
                  <a:pt x="205" y="278"/>
                </a:lnTo>
                <a:lnTo>
                  <a:pt x="171" y="228"/>
                </a:lnTo>
                <a:lnTo>
                  <a:pt x="136" y="180"/>
                </a:lnTo>
                <a:lnTo>
                  <a:pt x="102" y="134"/>
                </a:lnTo>
                <a:lnTo>
                  <a:pt x="69" y="88"/>
                </a:lnTo>
                <a:lnTo>
                  <a:pt x="34" y="42"/>
                </a:lnTo>
                <a:lnTo>
                  <a:pt x="0" y="0"/>
                </a:lnTo>
                <a:lnTo>
                  <a:pt x="13" y="0"/>
                </a:lnTo>
                <a:lnTo>
                  <a:pt x="25" y="2"/>
                </a:lnTo>
                <a:lnTo>
                  <a:pt x="38" y="4"/>
                </a:lnTo>
                <a:lnTo>
                  <a:pt x="52" y="7"/>
                </a:lnTo>
                <a:lnTo>
                  <a:pt x="65" y="13"/>
                </a:lnTo>
                <a:lnTo>
                  <a:pt x="79" y="19"/>
                </a:lnTo>
                <a:lnTo>
                  <a:pt x="94" y="27"/>
                </a:lnTo>
                <a:lnTo>
                  <a:pt x="107" y="34"/>
                </a:lnTo>
                <a:lnTo>
                  <a:pt x="123" y="44"/>
                </a:lnTo>
                <a:lnTo>
                  <a:pt x="136" y="55"/>
                </a:lnTo>
                <a:lnTo>
                  <a:pt x="151" y="67"/>
                </a:lnTo>
                <a:lnTo>
                  <a:pt x="167" y="80"/>
                </a:lnTo>
                <a:lnTo>
                  <a:pt x="182" y="96"/>
                </a:lnTo>
                <a:lnTo>
                  <a:pt x="198" y="113"/>
                </a:lnTo>
                <a:lnTo>
                  <a:pt x="213" y="130"/>
                </a:lnTo>
                <a:lnTo>
                  <a:pt x="226" y="149"/>
                </a:lnTo>
                <a:lnTo>
                  <a:pt x="257" y="188"/>
                </a:lnTo>
                <a:lnTo>
                  <a:pt x="290" y="228"/>
                </a:lnTo>
                <a:lnTo>
                  <a:pt x="322" y="270"/>
                </a:lnTo>
                <a:lnTo>
                  <a:pt x="357" y="313"/>
                </a:lnTo>
                <a:lnTo>
                  <a:pt x="391" y="357"/>
                </a:lnTo>
                <a:lnTo>
                  <a:pt x="426" y="401"/>
                </a:lnTo>
                <a:lnTo>
                  <a:pt x="462" y="447"/>
                </a:lnTo>
                <a:lnTo>
                  <a:pt x="499" y="495"/>
                </a:lnTo>
                <a:lnTo>
                  <a:pt x="518" y="518"/>
                </a:lnTo>
                <a:lnTo>
                  <a:pt x="537" y="541"/>
                </a:lnTo>
                <a:lnTo>
                  <a:pt x="558" y="562"/>
                </a:lnTo>
                <a:lnTo>
                  <a:pt x="579" y="583"/>
                </a:lnTo>
                <a:lnTo>
                  <a:pt x="602" y="604"/>
                </a:lnTo>
                <a:lnTo>
                  <a:pt x="625" y="623"/>
                </a:lnTo>
                <a:lnTo>
                  <a:pt x="650" y="643"/>
                </a:lnTo>
                <a:lnTo>
                  <a:pt x="675" y="660"/>
                </a:lnTo>
                <a:lnTo>
                  <a:pt x="700" y="679"/>
                </a:lnTo>
                <a:lnTo>
                  <a:pt x="727" y="696"/>
                </a:lnTo>
                <a:lnTo>
                  <a:pt x="754" y="714"/>
                </a:lnTo>
                <a:lnTo>
                  <a:pt x="781" y="731"/>
                </a:lnTo>
                <a:lnTo>
                  <a:pt x="810" y="746"/>
                </a:lnTo>
                <a:lnTo>
                  <a:pt x="839" y="762"/>
                </a:lnTo>
                <a:lnTo>
                  <a:pt x="867" y="777"/>
                </a:lnTo>
                <a:lnTo>
                  <a:pt x="898" y="794"/>
                </a:lnTo>
                <a:lnTo>
                  <a:pt x="927" y="808"/>
                </a:lnTo>
                <a:lnTo>
                  <a:pt x="952" y="823"/>
                </a:lnTo>
                <a:lnTo>
                  <a:pt x="977" y="836"/>
                </a:lnTo>
                <a:lnTo>
                  <a:pt x="1000" y="850"/>
                </a:lnTo>
                <a:lnTo>
                  <a:pt x="1021" y="861"/>
                </a:lnTo>
                <a:lnTo>
                  <a:pt x="1040" y="873"/>
                </a:lnTo>
                <a:lnTo>
                  <a:pt x="1057" y="884"/>
                </a:lnTo>
                <a:lnTo>
                  <a:pt x="1073" y="894"/>
                </a:lnTo>
                <a:lnTo>
                  <a:pt x="1088" y="904"/>
                </a:lnTo>
                <a:lnTo>
                  <a:pt x="1100" y="911"/>
                </a:lnTo>
                <a:lnTo>
                  <a:pt x="1111" y="919"/>
                </a:lnTo>
                <a:lnTo>
                  <a:pt x="1119" y="927"/>
                </a:lnTo>
                <a:lnTo>
                  <a:pt x="1124" y="932"/>
                </a:lnTo>
                <a:lnTo>
                  <a:pt x="1130" y="936"/>
                </a:lnTo>
                <a:lnTo>
                  <a:pt x="1132" y="940"/>
                </a:lnTo>
                <a:lnTo>
                  <a:pt x="1134" y="942"/>
                </a:lnTo>
                <a:lnTo>
                  <a:pt x="1134" y="944"/>
                </a:lnTo>
                <a:lnTo>
                  <a:pt x="1134" y="946"/>
                </a:lnTo>
                <a:lnTo>
                  <a:pt x="1132" y="948"/>
                </a:lnTo>
                <a:lnTo>
                  <a:pt x="1128" y="950"/>
                </a:lnTo>
                <a:lnTo>
                  <a:pt x="1124" y="954"/>
                </a:lnTo>
                <a:lnTo>
                  <a:pt x="1117" y="957"/>
                </a:lnTo>
                <a:lnTo>
                  <a:pt x="1111" y="959"/>
                </a:lnTo>
                <a:lnTo>
                  <a:pt x="1101" y="963"/>
                </a:lnTo>
                <a:lnTo>
                  <a:pt x="1092" y="965"/>
                </a:lnTo>
                <a:lnTo>
                  <a:pt x="1080" y="969"/>
                </a:lnTo>
                <a:lnTo>
                  <a:pt x="1067" y="973"/>
                </a:lnTo>
                <a:lnTo>
                  <a:pt x="1053" y="975"/>
                </a:lnTo>
                <a:lnTo>
                  <a:pt x="1038" y="978"/>
                </a:lnTo>
                <a:lnTo>
                  <a:pt x="1021" y="982"/>
                </a:lnTo>
                <a:lnTo>
                  <a:pt x="1004" y="984"/>
                </a:lnTo>
                <a:lnTo>
                  <a:pt x="982" y="986"/>
                </a:lnTo>
                <a:lnTo>
                  <a:pt x="961" y="99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Freeform 46"/>
          <p:cNvSpPr/>
          <p:nvPr/>
        </p:nvSpPr>
        <p:spPr>
          <a:xfrm>
            <a:off x="2270160" y="3098880"/>
            <a:ext cx="392040" cy="992160"/>
          </a:xfrm>
          <a:custGeom>
            <a:avLst/>
            <a:gdLst>
              <a:gd name="textAreaLeft" fmla="*/ 0 w 392040"/>
              <a:gd name="textAreaRight" fmla="*/ 392400 w 3920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493" h="1249">
                <a:moveTo>
                  <a:pt x="94" y="98"/>
                </a:moveTo>
                <a:lnTo>
                  <a:pt x="88" y="84"/>
                </a:lnTo>
                <a:lnTo>
                  <a:pt x="82" y="73"/>
                </a:lnTo>
                <a:lnTo>
                  <a:pt x="76" y="63"/>
                </a:lnTo>
                <a:lnTo>
                  <a:pt x="74" y="52"/>
                </a:lnTo>
                <a:lnTo>
                  <a:pt x="73" y="42"/>
                </a:lnTo>
                <a:lnTo>
                  <a:pt x="73" y="34"/>
                </a:lnTo>
                <a:lnTo>
                  <a:pt x="73" y="25"/>
                </a:lnTo>
                <a:lnTo>
                  <a:pt x="74" y="17"/>
                </a:lnTo>
                <a:lnTo>
                  <a:pt x="76" y="11"/>
                </a:lnTo>
                <a:lnTo>
                  <a:pt x="78" y="7"/>
                </a:lnTo>
                <a:lnTo>
                  <a:pt x="80" y="6"/>
                </a:lnTo>
                <a:lnTo>
                  <a:pt x="84" y="4"/>
                </a:lnTo>
                <a:lnTo>
                  <a:pt x="86" y="4"/>
                </a:lnTo>
                <a:lnTo>
                  <a:pt x="90" y="2"/>
                </a:lnTo>
                <a:lnTo>
                  <a:pt x="94" y="0"/>
                </a:lnTo>
                <a:lnTo>
                  <a:pt x="99" y="0"/>
                </a:lnTo>
                <a:lnTo>
                  <a:pt x="103" y="0"/>
                </a:lnTo>
                <a:lnTo>
                  <a:pt x="109" y="0"/>
                </a:lnTo>
                <a:lnTo>
                  <a:pt x="117" y="0"/>
                </a:lnTo>
                <a:lnTo>
                  <a:pt x="122" y="2"/>
                </a:lnTo>
                <a:lnTo>
                  <a:pt x="130" y="4"/>
                </a:lnTo>
                <a:lnTo>
                  <a:pt x="138" y="6"/>
                </a:lnTo>
                <a:lnTo>
                  <a:pt x="151" y="9"/>
                </a:lnTo>
                <a:lnTo>
                  <a:pt x="165" y="15"/>
                </a:lnTo>
                <a:lnTo>
                  <a:pt x="176" y="21"/>
                </a:lnTo>
                <a:lnTo>
                  <a:pt x="186" y="29"/>
                </a:lnTo>
                <a:lnTo>
                  <a:pt x="195" y="34"/>
                </a:lnTo>
                <a:lnTo>
                  <a:pt x="205" y="40"/>
                </a:lnTo>
                <a:lnTo>
                  <a:pt x="213" y="46"/>
                </a:lnTo>
                <a:lnTo>
                  <a:pt x="220" y="52"/>
                </a:lnTo>
                <a:lnTo>
                  <a:pt x="224" y="55"/>
                </a:lnTo>
                <a:lnTo>
                  <a:pt x="226" y="61"/>
                </a:lnTo>
                <a:lnTo>
                  <a:pt x="230" y="67"/>
                </a:lnTo>
                <a:lnTo>
                  <a:pt x="232" y="73"/>
                </a:lnTo>
                <a:lnTo>
                  <a:pt x="234" y="78"/>
                </a:lnTo>
                <a:lnTo>
                  <a:pt x="236" y="86"/>
                </a:lnTo>
                <a:lnTo>
                  <a:pt x="238" y="94"/>
                </a:lnTo>
                <a:lnTo>
                  <a:pt x="240" y="103"/>
                </a:lnTo>
                <a:lnTo>
                  <a:pt x="240" y="111"/>
                </a:lnTo>
                <a:lnTo>
                  <a:pt x="241" y="121"/>
                </a:lnTo>
                <a:lnTo>
                  <a:pt x="241" y="130"/>
                </a:lnTo>
                <a:lnTo>
                  <a:pt x="241" y="142"/>
                </a:lnTo>
                <a:lnTo>
                  <a:pt x="241" y="153"/>
                </a:lnTo>
                <a:lnTo>
                  <a:pt x="241" y="165"/>
                </a:lnTo>
                <a:lnTo>
                  <a:pt x="240" y="176"/>
                </a:lnTo>
                <a:lnTo>
                  <a:pt x="238" y="190"/>
                </a:lnTo>
                <a:lnTo>
                  <a:pt x="236" y="205"/>
                </a:lnTo>
                <a:lnTo>
                  <a:pt x="234" y="220"/>
                </a:lnTo>
                <a:lnTo>
                  <a:pt x="232" y="240"/>
                </a:lnTo>
                <a:lnTo>
                  <a:pt x="230" y="259"/>
                </a:lnTo>
                <a:lnTo>
                  <a:pt x="228" y="278"/>
                </a:lnTo>
                <a:lnTo>
                  <a:pt x="226" y="299"/>
                </a:lnTo>
                <a:lnTo>
                  <a:pt x="222" y="322"/>
                </a:lnTo>
                <a:lnTo>
                  <a:pt x="220" y="345"/>
                </a:lnTo>
                <a:lnTo>
                  <a:pt x="218" y="370"/>
                </a:lnTo>
                <a:lnTo>
                  <a:pt x="215" y="397"/>
                </a:lnTo>
                <a:lnTo>
                  <a:pt x="213" y="424"/>
                </a:lnTo>
                <a:lnTo>
                  <a:pt x="211" y="453"/>
                </a:lnTo>
                <a:lnTo>
                  <a:pt x="209" y="483"/>
                </a:lnTo>
                <a:lnTo>
                  <a:pt x="205" y="514"/>
                </a:lnTo>
                <a:lnTo>
                  <a:pt x="203" y="547"/>
                </a:lnTo>
                <a:lnTo>
                  <a:pt x="203" y="581"/>
                </a:lnTo>
                <a:lnTo>
                  <a:pt x="201" y="597"/>
                </a:lnTo>
                <a:lnTo>
                  <a:pt x="199" y="614"/>
                </a:lnTo>
                <a:lnTo>
                  <a:pt x="197" y="629"/>
                </a:lnTo>
                <a:lnTo>
                  <a:pt x="195" y="645"/>
                </a:lnTo>
                <a:lnTo>
                  <a:pt x="195" y="660"/>
                </a:lnTo>
                <a:lnTo>
                  <a:pt x="193" y="675"/>
                </a:lnTo>
                <a:lnTo>
                  <a:pt x="192" y="689"/>
                </a:lnTo>
                <a:lnTo>
                  <a:pt x="190" y="702"/>
                </a:lnTo>
                <a:lnTo>
                  <a:pt x="190" y="714"/>
                </a:lnTo>
                <a:lnTo>
                  <a:pt x="188" y="727"/>
                </a:lnTo>
                <a:lnTo>
                  <a:pt x="188" y="739"/>
                </a:lnTo>
                <a:lnTo>
                  <a:pt x="186" y="750"/>
                </a:lnTo>
                <a:lnTo>
                  <a:pt x="186" y="760"/>
                </a:lnTo>
                <a:lnTo>
                  <a:pt x="184" y="771"/>
                </a:lnTo>
                <a:lnTo>
                  <a:pt x="184" y="781"/>
                </a:lnTo>
                <a:lnTo>
                  <a:pt x="184" y="788"/>
                </a:lnTo>
                <a:lnTo>
                  <a:pt x="182" y="798"/>
                </a:lnTo>
                <a:lnTo>
                  <a:pt x="182" y="806"/>
                </a:lnTo>
                <a:lnTo>
                  <a:pt x="182" y="813"/>
                </a:lnTo>
                <a:lnTo>
                  <a:pt x="182" y="821"/>
                </a:lnTo>
                <a:lnTo>
                  <a:pt x="180" y="827"/>
                </a:lnTo>
                <a:lnTo>
                  <a:pt x="180" y="833"/>
                </a:lnTo>
                <a:lnTo>
                  <a:pt x="180" y="838"/>
                </a:lnTo>
                <a:lnTo>
                  <a:pt x="180" y="844"/>
                </a:lnTo>
                <a:lnTo>
                  <a:pt x="180" y="848"/>
                </a:lnTo>
                <a:lnTo>
                  <a:pt x="180" y="854"/>
                </a:lnTo>
                <a:lnTo>
                  <a:pt x="182" y="858"/>
                </a:lnTo>
                <a:lnTo>
                  <a:pt x="182" y="859"/>
                </a:lnTo>
                <a:lnTo>
                  <a:pt x="182" y="863"/>
                </a:lnTo>
                <a:lnTo>
                  <a:pt x="182" y="865"/>
                </a:lnTo>
                <a:lnTo>
                  <a:pt x="184" y="869"/>
                </a:lnTo>
                <a:lnTo>
                  <a:pt x="186" y="869"/>
                </a:lnTo>
                <a:lnTo>
                  <a:pt x="190" y="869"/>
                </a:lnTo>
                <a:lnTo>
                  <a:pt x="193" y="869"/>
                </a:lnTo>
                <a:lnTo>
                  <a:pt x="197" y="867"/>
                </a:lnTo>
                <a:lnTo>
                  <a:pt x="203" y="863"/>
                </a:lnTo>
                <a:lnTo>
                  <a:pt x="211" y="858"/>
                </a:lnTo>
                <a:lnTo>
                  <a:pt x="218" y="850"/>
                </a:lnTo>
                <a:lnTo>
                  <a:pt x="228" y="842"/>
                </a:lnTo>
                <a:lnTo>
                  <a:pt x="238" y="833"/>
                </a:lnTo>
                <a:lnTo>
                  <a:pt x="249" y="823"/>
                </a:lnTo>
                <a:lnTo>
                  <a:pt x="261" y="811"/>
                </a:lnTo>
                <a:lnTo>
                  <a:pt x="274" y="798"/>
                </a:lnTo>
                <a:lnTo>
                  <a:pt x="287" y="783"/>
                </a:lnTo>
                <a:lnTo>
                  <a:pt x="303" y="767"/>
                </a:lnTo>
                <a:lnTo>
                  <a:pt x="320" y="748"/>
                </a:lnTo>
                <a:lnTo>
                  <a:pt x="337" y="731"/>
                </a:lnTo>
                <a:lnTo>
                  <a:pt x="355" y="712"/>
                </a:lnTo>
                <a:lnTo>
                  <a:pt x="370" y="694"/>
                </a:lnTo>
                <a:lnTo>
                  <a:pt x="385" y="679"/>
                </a:lnTo>
                <a:lnTo>
                  <a:pt x="399" y="664"/>
                </a:lnTo>
                <a:lnTo>
                  <a:pt x="412" y="652"/>
                </a:lnTo>
                <a:lnTo>
                  <a:pt x="424" y="641"/>
                </a:lnTo>
                <a:lnTo>
                  <a:pt x="435" y="631"/>
                </a:lnTo>
                <a:lnTo>
                  <a:pt x="445" y="623"/>
                </a:lnTo>
                <a:lnTo>
                  <a:pt x="454" y="616"/>
                </a:lnTo>
                <a:lnTo>
                  <a:pt x="464" y="610"/>
                </a:lnTo>
                <a:lnTo>
                  <a:pt x="470" y="606"/>
                </a:lnTo>
                <a:lnTo>
                  <a:pt x="477" y="604"/>
                </a:lnTo>
                <a:lnTo>
                  <a:pt x="483" y="602"/>
                </a:lnTo>
                <a:lnTo>
                  <a:pt x="487" y="600"/>
                </a:lnTo>
                <a:lnTo>
                  <a:pt x="489" y="602"/>
                </a:lnTo>
                <a:lnTo>
                  <a:pt x="493" y="604"/>
                </a:lnTo>
                <a:lnTo>
                  <a:pt x="493" y="606"/>
                </a:lnTo>
                <a:lnTo>
                  <a:pt x="493" y="612"/>
                </a:lnTo>
                <a:lnTo>
                  <a:pt x="491" y="618"/>
                </a:lnTo>
                <a:lnTo>
                  <a:pt x="489" y="627"/>
                </a:lnTo>
                <a:lnTo>
                  <a:pt x="483" y="637"/>
                </a:lnTo>
                <a:lnTo>
                  <a:pt x="477" y="650"/>
                </a:lnTo>
                <a:lnTo>
                  <a:pt x="472" y="664"/>
                </a:lnTo>
                <a:lnTo>
                  <a:pt x="462" y="679"/>
                </a:lnTo>
                <a:lnTo>
                  <a:pt x="453" y="696"/>
                </a:lnTo>
                <a:lnTo>
                  <a:pt x="441" y="716"/>
                </a:lnTo>
                <a:lnTo>
                  <a:pt x="428" y="737"/>
                </a:lnTo>
                <a:lnTo>
                  <a:pt x="412" y="760"/>
                </a:lnTo>
                <a:lnTo>
                  <a:pt x="397" y="785"/>
                </a:lnTo>
                <a:lnTo>
                  <a:pt x="378" y="811"/>
                </a:lnTo>
                <a:lnTo>
                  <a:pt x="358" y="838"/>
                </a:lnTo>
                <a:lnTo>
                  <a:pt x="337" y="869"/>
                </a:lnTo>
                <a:lnTo>
                  <a:pt x="316" y="900"/>
                </a:lnTo>
                <a:lnTo>
                  <a:pt x="297" y="930"/>
                </a:lnTo>
                <a:lnTo>
                  <a:pt x="278" y="959"/>
                </a:lnTo>
                <a:lnTo>
                  <a:pt x="259" y="986"/>
                </a:lnTo>
                <a:lnTo>
                  <a:pt x="241" y="1011"/>
                </a:lnTo>
                <a:lnTo>
                  <a:pt x="226" y="1034"/>
                </a:lnTo>
                <a:lnTo>
                  <a:pt x="211" y="1055"/>
                </a:lnTo>
                <a:lnTo>
                  <a:pt x="197" y="1076"/>
                </a:lnTo>
                <a:lnTo>
                  <a:pt x="184" y="1094"/>
                </a:lnTo>
                <a:lnTo>
                  <a:pt x="172" y="1111"/>
                </a:lnTo>
                <a:lnTo>
                  <a:pt x="163" y="1126"/>
                </a:lnTo>
                <a:lnTo>
                  <a:pt x="153" y="1140"/>
                </a:lnTo>
                <a:lnTo>
                  <a:pt x="145" y="1153"/>
                </a:lnTo>
                <a:lnTo>
                  <a:pt x="140" y="1163"/>
                </a:lnTo>
                <a:lnTo>
                  <a:pt x="134" y="1172"/>
                </a:lnTo>
                <a:lnTo>
                  <a:pt x="130" y="1180"/>
                </a:lnTo>
                <a:lnTo>
                  <a:pt x="124" y="1188"/>
                </a:lnTo>
                <a:lnTo>
                  <a:pt x="121" y="1195"/>
                </a:lnTo>
                <a:lnTo>
                  <a:pt x="115" y="1203"/>
                </a:lnTo>
                <a:lnTo>
                  <a:pt x="111" y="1209"/>
                </a:lnTo>
                <a:lnTo>
                  <a:pt x="107" y="1216"/>
                </a:lnTo>
                <a:lnTo>
                  <a:pt x="103" y="1222"/>
                </a:lnTo>
                <a:lnTo>
                  <a:pt x="97" y="1226"/>
                </a:lnTo>
                <a:lnTo>
                  <a:pt x="94" y="1232"/>
                </a:lnTo>
                <a:lnTo>
                  <a:pt x="90" y="1236"/>
                </a:lnTo>
                <a:lnTo>
                  <a:pt x="88" y="1238"/>
                </a:lnTo>
                <a:lnTo>
                  <a:pt x="84" y="1241"/>
                </a:lnTo>
                <a:lnTo>
                  <a:pt x="80" y="1243"/>
                </a:lnTo>
                <a:lnTo>
                  <a:pt x="76" y="1245"/>
                </a:lnTo>
                <a:lnTo>
                  <a:pt x="73" y="1247"/>
                </a:lnTo>
                <a:lnTo>
                  <a:pt x="69" y="1247"/>
                </a:lnTo>
                <a:lnTo>
                  <a:pt x="67" y="1249"/>
                </a:lnTo>
                <a:lnTo>
                  <a:pt x="57" y="1247"/>
                </a:lnTo>
                <a:lnTo>
                  <a:pt x="50" y="1245"/>
                </a:lnTo>
                <a:lnTo>
                  <a:pt x="42" y="1243"/>
                </a:lnTo>
                <a:lnTo>
                  <a:pt x="36" y="1238"/>
                </a:lnTo>
                <a:lnTo>
                  <a:pt x="32" y="1232"/>
                </a:lnTo>
                <a:lnTo>
                  <a:pt x="28" y="1224"/>
                </a:lnTo>
                <a:lnTo>
                  <a:pt x="26" y="1218"/>
                </a:lnTo>
                <a:lnTo>
                  <a:pt x="25" y="1214"/>
                </a:lnTo>
                <a:lnTo>
                  <a:pt x="23" y="1209"/>
                </a:lnTo>
                <a:lnTo>
                  <a:pt x="21" y="1203"/>
                </a:lnTo>
                <a:lnTo>
                  <a:pt x="17" y="1190"/>
                </a:lnTo>
                <a:lnTo>
                  <a:pt x="15" y="1176"/>
                </a:lnTo>
                <a:lnTo>
                  <a:pt x="11" y="1163"/>
                </a:lnTo>
                <a:lnTo>
                  <a:pt x="9" y="1147"/>
                </a:lnTo>
                <a:lnTo>
                  <a:pt x="5" y="1132"/>
                </a:lnTo>
                <a:lnTo>
                  <a:pt x="3" y="1115"/>
                </a:lnTo>
                <a:lnTo>
                  <a:pt x="3" y="1096"/>
                </a:lnTo>
                <a:lnTo>
                  <a:pt x="3" y="1086"/>
                </a:lnTo>
                <a:lnTo>
                  <a:pt x="3" y="1076"/>
                </a:lnTo>
                <a:lnTo>
                  <a:pt x="0" y="1059"/>
                </a:lnTo>
                <a:lnTo>
                  <a:pt x="0" y="1044"/>
                </a:lnTo>
                <a:lnTo>
                  <a:pt x="0" y="1028"/>
                </a:lnTo>
                <a:lnTo>
                  <a:pt x="3" y="1013"/>
                </a:lnTo>
                <a:lnTo>
                  <a:pt x="7" y="1000"/>
                </a:lnTo>
                <a:lnTo>
                  <a:pt x="13" y="986"/>
                </a:lnTo>
                <a:lnTo>
                  <a:pt x="21" y="973"/>
                </a:lnTo>
                <a:lnTo>
                  <a:pt x="30" y="961"/>
                </a:lnTo>
                <a:lnTo>
                  <a:pt x="34" y="953"/>
                </a:lnTo>
                <a:lnTo>
                  <a:pt x="40" y="946"/>
                </a:lnTo>
                <a:lnTo>
                  <a:pt x="44" y="936"/>
                </a:lnTo>
                <a:lnTo>
                  <a:pt x="50" y="925"/>
                </a:lnTo>
                <a:lnTo>
                  <a:pt x="53" y="913"/>
                </a:lnTo>
                <a:lnTo>
                  <a:pt x="57" y="900"/>
                </a:lnTo>
                <a:lnTo>
                  <a:pt x="61" y="886"/>
                </a:lnTo>
                <a:lnTo>
                  <a:pt x="65" y="871"/>
                </a:lnTo>
                <a:lnTo>
                  <a:pt x="69" y="854"/>
                </a:lnTo>
                <a:lnTo>
                  <a:pt x="73" y="836"/>
                </a:lnTo>
                <a:lnTo>
                  <a:pt x="76" y="815"/>
                </a:lnTo>
                <a:lnTo>
                  <a:pt x="80" y="794"/>
                </a:lnTo>
                <a:lnTo>
                  <a:pt x="82" y="773"/>
                </a:lnTo>
                <a:lnTo>
                  <a:pt x="86" y="748"/>
                </a:lnTo>
                <a:lnTo>
                  <a:pt x="90" y="723"/>
                </a:lnTo>
                <a:lnTo>
                  <a:pt x="94" y="696"/>
                </a:lnTo>
                <a:lnTo>
                  <a:pt x="99" y="645"/>
                </a:lnTo>
                <a:lnTo>
                  <a:pt x="105" y="595"/>
                </a:lnTo>
                <a:lnTo>
                  <a:pt x="109" y="545"/>
                </a:lnTo>
                <a:lnTo>
                  <a:pt x="113" y="497"/>
                </a:lnTo>
                <a:lnTo>
                  <a:pt x="117" y="451"/>
                </a:lnTo>
                <a:lnTo>
                  <a:pt x="119" y="405"/>
                </a:lnTo>
                <a:lnTo>
                  <a:pt x="121" y="359"/>
                </a:lnTo>
                <a:lnTo>
                  <a:pt x="121" y="316"/>
                </a:lnTo>
                <a:lnTo>
                  <a:pt x="121" y="295"/>
                </a:lnTo>
                <a:lnTo>
                  <a:pt x="121" y="274"/>
                </a:lnTo>
                <a:lnTo>
                  <a:pt x="119" y="255"/>
                </a:lnTo>
                <a:lnTo>
                  <a:pt x="119" y="238"/>
                </a:lnTo>
                <a:lnTo>
                  <a:pt x="119" y="220"/>
                </a:lnTo>
                <a:lnTo>
                  <a:pt x="117" y="205"/>
                </a:lnTo>
                <a:lnTo>
                  <a:pt x="115" y="190"/>
                </a:lnTo>
                <a:lnTo>
                  <a:pt x="113" y="176"/>
                </a:lnTo>
                <a:lnTo>
                  <a:pt x="111" y="163"/>
                </a:lnTo>
                <a:lnTo>
                  <a:pt x="109" y="151"/>
                </a:lnTo>
                <a:lnTo>
                  <a:pt x="107" y="140"/>
                </a:lnTo>
                <a:lnTo>
                  <a:pt x="105" y="130"/>
                </a:lnTo>
                <a:lnTo>
                  <a:pt x="103" y="121"/>
                </a:lnTo>
                <a:lnTo>
                  <a:pt x="99" y="111"/>
                </a:lnTo>
                <a:lnTo>
                  <a:pt x="96" y="103"/>
                </a:lnTo>
                <a:lnTo>
                  <a:pt x="94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Freeform 47"/>
          <p:cNvSpPr/>
          <p:nvPr/>
        </p:nvSpPr>
        <p:spPr>
          <a:xfrm>
            <a:off x="1992240" y="2290680"/>
            <a:ext cx="546120" cy="1135080"/>
          </a:xfrm>
          <a:custGeom>
            <a:avLst/>
            <a:gdLst>
              <a:gd name="textAreaLeft" fmla="*/ 0 w 546120"/>
              <a:gd name="textAreaRight" fmla="*/ 546480 w 54612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689" h="1429">
                <a:moveTo>
                  <a:pt x="555" y="518"/>
                </a:moveTo>
                <a:lnTo>
                  <a:pt x="540" y="556"/>
                </a:lnTo>
                <a:lnTo>
                  <a:pt x="524" y="593"/>
                </a:lnTo>
                <a:lnTo>
                  <a:pt x="509" y="629"/>
                </a:lnTo>
                <a:lnTo>
                  <a:pt x="494" y="666"/>
                </a:lnTo>
                <a:lnTo>
                  <a:pt x="478" y="700"/>
                </a:lnTo>
                <a:lnTo>
                  <a:pt x="463" y="735"/>
                </a:lnTo>
                <a:lnTo>
                  <a:pt x="448" y="769"/>
                </a:lnTo>
                <a:lnTo>
                  <a:pt x="432" y="800"/>
                </a:lnTo>
                <a:lnTo>
                  <a:pt x="419" y="833"/>
                </a:lnTo>
                <a:lnTo>
                  <a:pt x="403" y="861"/>
                </a:lnTo>
                <a:lnTo>
                  <a:pt x="388" y="892"/>
                </a:lnTo>
                <a:lnTo>
                  <a:pt x="375" y="921"/>
                </a:lnTo>
                <a:lnTo>
                  <a:pt x="359" y="948"/>
                </a:lnTo>
                <a:lnTo>
                  <a:pt x="346" y="975"/>
                </a:lnTo>
                <a:lnTo>
                  <a:pt x="332" y="1000"/>
                </a:lnTo>
                <a:lnTo>
                  <a:pt x="319" y="1025"/>
                </a:lnTo>
                <a:lnTo>
                  <a:pt x="306" y="1049"/>
                </a:lnTo>
                <a:lnTo>
                  <a:pt x="292" y="1074"/>
                </a:lnTo>
                <a:lnTo>
                  <a:pt x="279" y="1097"/>
                </a:lnTo>
                <a:lnTo>
                  <a:pt x="265" y="1120"/>
                </a:lnTo>
                <a:lnTo>
                  <a:pt x="252" y="1143"/>
                </a:lnTo>
                <a:lnTo>
                  <a:pt x="238" y="1165"/>
                </a:lnTo>
                <a:lnTo>
                  <a:pt x="225" y="1186"/>
                </a:lnTo>
                <a:lnTo>
                  <a:pt x="212" y="1205"/>
                </a:lnTo>
                <a:lnTo>
                  <a:pt x="198" y="1224"/>
                </a:lnTo>
                <a:lnTo>
                  <a:pt x="185" y="1241"/>
                </a:lnTo>
                <a:lnTo>
                  <a:pt x="171" y="1259"/>
                </a:lnTo>
                <a:lnTo>
                  <a:pt x="160" y="1276"/>
                </a:lnTo>
                <a:lnTo>
                  <a:pt x="146" y="1291"/>
                </a:lnTo>
                <a:lnTo>
                  <a:pt x="135" y="1307"/>
                </a:lnTo>
                <a:lnTo>
                  <a:pt x="121" y="1322"/>
                </a:lnTo>
                <a:lnTo>
                  <a:pt x="110" y="1335"/>
                </a:lnTo>
                <a:lnTo>
                  <a:pt x="98" y="1347"/>
                </a:lnTo>
                <a:lnTo>
                  <a:pt x="87" y="1358"/>
                </a:lnTo>
                <a:lnTo>
                  <a:pt x="77" y="1370"/>
                </a:lnTo>
                <a:lnTo>
                  <a:pt x="68" y="1380"/>
                </a:lnTo>
                <a:lnTo>
                  <a:pt x="58" y="1389"/>
                </a:lnTo>
                <a:lnTo>
                  <a:pt x="50" y="1397"/>
                </a:lnTo>
                <a:lnTo>
                  <a:pt x="43" y="1404"/>
                </a:lnTo>
                <a:lnTo>
                  <a:pt x="35" y="1410"/>
                </a:lnTo>
                <a:lnTo>
                  <a:pt x="29" y="1416"/>
                </a:lnTo>
                <a:lnTo>
                  <a:pt x="23" y="1422"/>
                </a:lnTo>
                <a:lnTo>
                  <a:pt x="18" y="1424"/>
                </a:lnTo>
                <a:lnTo>
                  <a:pt x="12" y="1427"/>
                </a:lnTo>
                <a:lnTo>
                  <a:pt x="8" y="1427"/>
                </a:lnTo>
                <a:lnTo>
                  <a:pt x="6" y="1429"/>
                </a:lnTo>
                <a:lnTo>
                  <a:pt x="2" y="1427"/>
                </a:lnTo>
                <a:lnTo>
                  <a:pt x="0" y="1427"/>
                </a:lnTo>
                <a:lnTo>
                  <a:pt x="0" y="1424"/>
                </a:lnTo>
                <a:lnTo>
                  <a:pt x="0" y="1420"/>
                </a:lnTo>
                <a:lnTo>
                  <a:pt x="2" y="1412"/>
                </a:lnTo>
                <a:lnTo>
                  <a:pt x="4" y="1404"/>
                </a:lnTo>
                <a:lnTo>
                  <a:pt x="8" y="1395"/>
                </a:lnTo>
                <a:lnTo>
                  <a:pt x="14" y="1383"/>
                </a:lnTo>
                <a:lnTo>
                  <a:pt x="22" y="1370"/>
                </a:lnTo>
                <a:lnTo>
                  <a:pt x="29" y="1355"/>
                </a:lnTo>
                <a:lnTo>
                  <a:pt x="33" y="1347"/>
                </a:lnTo>
                <a:lnTo>
                  <a:pt x="39" y="1337"/>
                </a:lnTo>
                <a:lnTo>
                  <a:pt x="43" y="1328"/>
                </a:lnTo>
                <a:lnTo>
                  <a:pt x="48" y="1318"/>
                </a:lnTo>
                <a:lnTo>
                  <a:pt x="54" y="1309"/>
                </a:lnTo>
                <a:lnTo>
                  <a:pt x="60" y="1297"/>
                </a:lnTo>
                <a:lnTo>
                  <a:pt x="66" y="1287"/>
                </a:lnTo>
                <a:lnTo>
                  <a:pt x="73" y="1274"/>
                </a:lnTo>
                <a:lnTo>
                  <a:pt x="79" y="1262"/>
                </a:lnTo>
                <a:lnTo>
                  <a:pt x="87" y="1249"/>
                </a:lnTo>
                <a:lnTo>
                  <a:pt x="94" y="1236"/>
                </a:lnTo>
                <a:lnTo>
                  <a:pt x="102" y="1222"/>
                </a:lnTo>
                <a:lnTo>
                  <a:pt x="110" y="1209"/>
                </a:lnTo>
                <a:lnTo>
                  <a:pt x="119" y="1193"/>
                </a:lnTo>
                <a:lnTo>
                  <a:pt x="127" y="1178"/>
                </a:lnTo>
                <a:lnTo>
                  <a:pt x="137" y="1163"/>
                </a:lnTo>
                <a:lnTo>
                  <a:pt x="156" y="1132"/>
                </a:lnTo>
                <a:lnTo>
                  <a:pt x="173" y="1099"/>
                </a:lnTo>
                <a:lnTo>
                  <a:pt x="208" y="1036"/>
                </a:lnTo>
                <a:lnTo>
                  <a:pt x="240" y="971"/>
                </a:lnTo>
                <a:lnTo>
                  <a:pt x="273" y="904"/>
                </a:lnTo>
                <a:lnTo>
                  <a:pt x="304" y="835"/>
                </a:lnTo>
                <a:lnTo>
                  <a:pt x="331" y="765"/>
                </a:lnTo>
                <a:lnTo>
                  <a:pt x="344" y="729"/>
                </a:lnTo>
                <a:lnTo>
                  <a:pt x="357" y="694"/>
                </a:lnTo>
                <a:lnTo>
                  <a:pt x="371" y="658"/>
                </a:lnTo>
                <a:lnTo>
                  <a:pt x="382" y="622"/>
                </a:lnTo>
                <a:lnTo>
                  <a:pt x="394" y="585"/>
                </a:lnTo>
                <a:lnTo>
                  <a:pt x="405" y="551"/>
                </a:lnTo>
                <a:lnTo>
                  <a:pt x="415" y="516"/>
                </a:lnTo>
                <a:lnTo>
                  <a:pt x="425" y="485"/>
                </a:lnTo>
                <a:lnTo>
                  <a:pt x="434" y="455"/>
                </a:lnTo>
                <a:lnTo>
                  <a:pt x="444" y="424"/>
                </a:lnTo>
                <a:lnTo>
                  <a:pt x="453" y="397"/>
                </a:lnTo>
                <a:lnTo>
                  <a:pt x="461" y="370"/>
                </a:lnTo>
                <a:lnTo>
                  <a:pt x="469" y="345"/>
                </a:lnTo>
                <a:lnTo>
                  <a:pt x="474" y="320"/>
                </a:lnTo>
                <a:lnTo>
                  <a:pt x="480" y="299"/>
                </a:lnTo>
                <a:lnTo>
                  <a:pt x="486" y="278"/>
                </a:lnTo>
                <a:lnTo>
                  <a:pt x="492" y="257"/>
                </a:lnTo>
                <a:lnTo>
                  <a:pt x="496" y="240"/>
                </a:lnTo>
                <a:lnTo>
                  <a:pt x="497" y="222"/>
                </a:lnTo>
                <a:lnTo>
                  <a:pt x="499" y="207"/>
                </a:lnTo>
                <a:lnTo>
                  <a:pt x="501" y="194"/>
                </a:lnTo>
                <a:lnTo>
                  <a:pt x="503" y="182"/>
                </a:lnTo>
                <a:lnTo>
                  <a:pt x="503" y="171"/>
                </a:lnTo>
                <a:lnTo>
                  <a:pt x="505" y="159"/>
                </a:lnTo>
                <a:lnTo>
                  <a:pt x="505" y="138"/>
                </a:lnTo>
                <a:lnTo>
                  <a:pt x="507" y="119"/>
                </a:lnTo>
                <a:lnTo>
                  <a:pt x="505" y="101"/>
                </a:lnTo>
                <a:lnTo>
                  <a:pt x="505" y="84"/>
                </a:lnTo>
                <a:lnTo>
                  <a:pt x="503" y="71"/>
                </a:lnTo>
                <a:lnTo>
                  <a:pt x="499" y="57"/>
                </a:lnTo>
                <a:lnTo>
                  <a:pt x="497" y="50"/>
                </a:lnTo>
                <a:lnTo>
                  <a:pt x="497" y="44"/>
                </a:lnTo>
                <a:lnTo>
                  <a:pt x="496" y="34"/>
                </a:lnTo>
                <a:lnTo>
                  <a:pt x="494" y="27"/>
                </a:lnTo>
                <a:lnTo>
                  <a:pt x="496" y="19"/>
                </a:lnTo>
                <a:lnTo>
                  <a:pt x="497" y="13"/>
                </a:lnTo>
                <a:lnTo>
                  <a:pt x="499" y="11"/>
                </a:lnTo>
                <a:lnTo>
                  <a:pt x="501" y="7"/>
                </a:lnTo>
                <a:lnTo>
                  <a:pt x="505" y="6"/>
                </a:lnTo>
                <a:lnTo>
                  <a:pt x="509" y="4"/>
                </a:lnTo>
                <a:lnTo>
                  <a:pt x="513" y="2"/>
                </a:lnTo>
                <a:lnTo>
                  <a:pt x="519" y="0"/>
                </a:lnTo>
                <a:lnTo>
                  <a:pt x="521" y="0"/>
                </a:lnTo>
                <a:lnTo>
                  <a:pt x="526" y="0"/>
                </a:lnTo>
                <a:lnTo>
                  <a:pt x="530" y="2"/>
                </a:lnTo>
                <a:lnTo>
                  <a:pt x="534" y="4"/>
                </a:lnTo>
                <a:lnTo>
                  <a:pt x="545" y="7"/>
                </a:lnTo>
                <a:lnTo>
                  <a:pt x="557" y="15"/>
                </a:lnTo>
                <a:lnTo>
                  <a:pt x="570" y="23"/>
                </a:lnTo>
                <a:lnTo>
                  <a:pt x="586" y="32"/>
                </a:lnTo>
                <a:lnTo>
                  <a:pt x="601" y="44"/>
                </a:lnTo>
                <a:lnTo>
                  <a:pt x="618" y="57"/>
                </a:lnTo>
                <a:lnTo>
                  <a:pt x="626" y="63"/>
                </a:lnTo>
                <a:lnTo>
                  <a:pt x="634" y="69"/>
                </a:lnTo>
                <a:lnTo>
                  <a:pt x="639" y="77"/>
                </a:lnTo>
                <a:lnTo>
                  <a:pt x="647" y="82"/>
                </a:lnTo>
                <a:lnTo>
                  <a:pt x="653" y="88"/>
                </a:lnTo>
                <a:lnTo>
                  <a:pt x="659" y="96"/>
                </a:lnTo>
                <a:lnTo>
                  <a:pt x="666" y="107"/>
                </a:lnTo>
                <a:lnTo>
                  <a:pt x="676" y="119"/>
                </a:lnTo>
                <a:lnTo>
                  <a:pt x="682" y="130"/>
                </a:lnTo>
                <a:lnTo>
                  <a:pt x="686" y="140"/>
                </a:lnTo>
                <a:lnTo>
                  <a:pt x="689" y="149"/>
                </a:lnTo>
                <a:lnTo>
                  <a:pt x="689" y="155"/>
                </a:lnTo>
                <a:lnTo>
                  <a:pt x="689" y="161"/>
                </a:lnTo>
                <a:lnTo>
                  <a:pt x="687" y="165"/>
                </a:lnTo>
                <a:lnTo>
                  <a:pt x="687" y="171"/>
                </a:lnTo>
                <a:lnTo>
                  <a:pt x="686" y="176"/>
                </a:lnTo>
                <a:lnTo>
                  <a:pt x="684" y="182"/>
                </a:lnTo>
                <a:lnTo>
                  <a:pt x="682" y="190"/>
                </a:lnTo>
                <a:lnTo>
                  <a:pt x="680" y="197"/>
                </a:lnTo>
                <a:lnTo>
                  <a:pt x="676" y="205"/>
                </a:lnTo>
                <a:lnTo>
                  <a:pt x="674" y="213"/>
                </a:lnTo>
                <a:lnTo>
                  <a:pt x="670" y="222"/>
                </a:lnTo>
                <a:lnTo>
                  <a:pt x="666" y="232"/>
                </a:lnTo>
                <a:lnTo>
                  <a:pt x="664" y="242"/>
                </a:lnTo>
                <a:lnTo>
                  <a:pt x="661" y="253"/>
                </a:lnTo>
                <a:lnTo>
                  <a:pt x="655" y="263"/>
                </a:lnTo>
                <a:lnTo>
                  <a:pt x="651" y="274"/>
                </a:lnTo>
                <a:lnTo>
                  <a:pt x="647" y="288"/>
                </a:lnTo>
                <a:lnTo>
                  <a:pt x="641" y="299"/>
                </a:lnTo>
                <a:lnTo>
                  <a:pt x="636" y="313"/>
                </a:lnTo>
                <a:lnTo>
                  <a:pt x="630" y="328"/>
                </a:lnTo>
                <a:lnTo>
                  <a:pt x="626" y="341"/>
                </a:lnTo>
                <a:lnTo>
                  <a:pt x="618" y="357"/>
                </a:lnTo>
                <a:lnTo>
                  <a:pt x="613" y="372"/>
                </a:lnTo>
                <a:lnTo>
                  <a:pt x="607" y="387"/>
                </a:lnTo>
                <a:lnTo>
                  <a:pt x="599" y="405"/>
                </a:lnTo>
                <a:lnTo>
                  <a:pt x="593" y="422"/>
                </a:lnTo>
                <a:lnTo>
                  <a:pt x="586" y="439"/>
                </a:lnTo>
                <a:lnTo>
                  <a:pt x="578" y="458"/>
                </a:lnTo>
                <a:lnTo>
                  <a:pt x="570" y="478"/>
                </a:lnTo>
                <a:lnTo>
                  <a:pt x="563" y="497"/>
                </a:lnTo>
                <a:lnTo>
                  <a:pt x="555" y="51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Freeform 48"/>
          <p:cNvSpPr/>
          <p:nvPr/>
        </p:nvSpPr>
        <p:spPr>
          <a:xfrm>
            <a:off x="2308320" y="2728800"/>
            <a:ext cx="461880" cy="403200"/>
          </a:xfrm>
          <a:custGeom>
            <a:avLst/>
            <a:gdLst>
              <a:gd name="textAreaLeft" fmla="*/ 0 w 461880"/>
              <a:gd name="textAreaRight" fmla="*/ 462240 w 46188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581" h="507">
                <a:moveTo>
                  <a:pt x="418" y="369"/>
                </a:moveTo>
                <a:lnTo>
                  <a:pt x="408" y="386"/>
                </a:lnTo>
                <a:lnTo>
                  <a:pt x="401" y="403"/>
                </a:lnTo>
                <a:lnTo>
                  <a:pt x="393" y="421"/>
                </a:lnTo>
                <a:lnTo>
                  <a:pt x="385" y="436"/>
                </a:lnTo>
                <a:lnTo>
                  <a:pt x="378" y="448"/>
                </a:lnTo>
                <a:lnTo>
                  <a:pt x="372" y="461"/>
                </a:lnTo>
                <a:lnTo>
                  <a:pt x="364" y="471"/>
                </a:lnTo>
                <a:lnTo>
                  <a:pt x="358" y="480"/>
                </a:lnTo>
                <a:lnTo>
                  <a:pt x="353" y="488"/>
                </a:lnTo>
                <a:lnTo>
                  <a:pt x="347" y="496"/>
                </a:lnTo>
                <a:lnTo>
                  <a:pt x="343" y="499"/>
                </a:lnTo>
                <a:lnTo>
                  <a:pt x="337" y="503"/>
                </a:lnTo>
                <a:lnTo>
                  <a:pt x="334" y="507"/>
                </a:lnTo>
                <a:lnTo>
                  <a:pt x="332" y="507"/>
                </a:lnTo>
                <a:lnTo>
                  <a:pt x="328" y="507"/>
                </a:lnTo>
                <a:lnTo>
                  <a:pt x="326" y="507"/>
                </a:lnTo>
                <a:lnTo>
                  <a:pt x="324" y="503"/>
                </a:lnTo>
                <a:lnTo>
                  <a:pt x="320" y="499"/>
                </a:lnTo>
                <a:lnTo>
                  <a:pt x="318" y="496"/>
                </a:lnTo>
                <a:lnTo>
                  <a:pt x="318" y="490"/>
                </a:lnTo>
                <a:lnTo>
                  <a:pt x="316" y="482"/>
                </a:lnTo>
                <a:lnTo>
                  <a:pt x="316" y="474"/>
                </a:lnTo>
                <a:lnTo>
                  <a:pt x="318" y="465"/>
                </a:lnTo>
                <a:lnTo>
                  <a:pt x="318" y="455"/>
                </a:lnTo>
                <a:lnTo>
                  <a:pt x="320" y="444"/>
                </a:lnTo>
                <a:lnTo>
                  <a:pt x="322" y="430"/>
                </a:lnTo>
                <a:lnTo>
                  <a:pt x="324" y="417"/>
                </a:lnTo>
                <a:lnTo>
                  <a:pt x="328" y="403"/>
                </a:lnTo>
                <a:lnTo>
                  <a:pt x="332" y="386"/>
                </a:lnTo>
                <a:lnTo>
                  <a:pt x="335" y="371"/>
                </a:lnTo>
                <a:lnTo>
                  <a:pt x="339" y="352"/>
                </a:lnTo>
                <a:lnTo>
                  <a:pt x="345" y="334"/>
                </a:lnTo>
                <a:lnTo>
                  <a:pt x="349" y="315"/>
                </a:lnTo>
                <a:lnTo>
                  <a:pt x="355" y="296"/>
                </a:lnTo>
                <a:lnTo>
                  <a:pt x="358" y="281"/>
                </a:lnTo>
                <a:lnTo>
                  <a:pt x="362" y="265"/>
                </a:lnTo>
                <a:lnTo>
                  <a:pt x="366" y="250"/>
                </a:lnTo>
                <a:lnTo>
                  <a:pt x="370" y="236"/>
                </a:lnTo>
                <a:lnTo>
                  <a:pt x="374" y="223"/>
                </a:lnTo>
                <a:lnTo>
                  <a:pt x="376" y="213"/>
                </a:lnTo>
                <a:lnTo>
                  <a:pt x="378" y="202"/>
                </a:lnTo>
                <a:lnTo>
                  <a:pt x="380" y="192"/>
                </a:lnTo>
                <a:lnTo>
                  <a:pt x="381" y="185"/>
                </a:lnTo>
                <a:lnTo>
                  <a:pt x="383" y="179"/>
                </a:lnTo>
                <a:lnTo>
                  <a:pt x="383" y="171"/>
                </a:lnTo>
                <a:lnTo>
                  <a:pt x="383" y="167"/>
                </a:lnTo>
                <a:lnTo>
                  <a:pt x="381" y="164"/>
                </a:lnTo>
                <a:lnTo>
                  <a:pt x="381" y="162"/>
                </a:lnTo>
                <a:lnTo>
                  <a:pt x="380" y="160"/>
                </a:lnTo>
                <a:lnTo>
                  <a:pt x="376" y="158"/>
                </a:lnTo>
                <a:lnTo>
                  <a:pt x="374" y="156"/>
                </a:lnTo>
                <a:lnTo>
                  <a:pt x="370" y="156"/>
                </a:lnTo>
                <a:lnTo>
                  <a:pt x="364" y="156"/>
                </a:lnTo>
                <a:lnTo>
                  <a:pt x="360" y="156"/>
                </a:lnTo>
                <a:lnTo>
                  <a:pt x="349" y="160"/>
                </a:lnTo>
                <a:lnTo>
                  <a:pt x="335" y="164"/>
                </a:lnTo>
                <a:lnTo>
                  <a:pt x="322" y="169"/>
                </a:lnTo>
                <a:lnTo>
                  <a:pt x="307" y="175"/>
                </a:lnTo>
                <a:lnTo>
                  <a:pt x="289" y="185"/>
                </a:lnTo>
                <a:lnTo>
                  <a:pt x="282" y="188"/>
                </a:lnTo>
                <a:lnTo>
                  <a:pt x="270" y="192"/>
                </a:lnTo>
                <a:lnTo>
                  <a:pt x="259" y="196"/>
                </a:lnTo>
                <a:lnTo>
                  <a:pt x="245" y="200"/>
                </a:lnTo>
                <a:lnTo>
                  <a:pt x="232" y="202"/>
                </a:lnTo>
                <a:lnTo>
                  <a:pt x="216" y="206"/>
                </a:lnTo>
                <a:lnTo>
                  <a:pt x="199" y="208"/>
                </a:lnTo>
                <a:lnTo>
                  <a:pt x="182" y="210"/>
                </a:lnTo>
                <a:lnTo>
                  <a:pt x="163" y="212"/>
                </a:lnTo>
                <a:lnTo>
                  <a:pt x="144" y="213"/>
                </a:lnTo>
                <a:lnTo>
                  <a:pt x="122" y="215"/>
                </a:lnTo>
                <a:lnTo>
                  <a:pt x="99" y="215"/>
                </a:lnTo>
                <a:lnTo>
                  <a:pt x="76" y="217"/>
                </a:lnTo>
                <a:lnTo>
                  <a:pt x="51" y="217"/>
                </a:lnTo>
                <a:lnTo>
                  <a:pt x="26" y="217"/>
                </a:lnTo>
                <a:lnTo>
                  <a:pt x="0" y="219"/>
                </a:lnTo>
                <a:lnTo>
                  <a:pt x="0" y="150"/>
                </a:lnTo>
                <a:lnTo>
                  <a:pt x="19" y="148"/>
                </a:lnTo>
                <a:lnTo>
                  <a:pt x="36" y="148"/>
                </a:lnTo>
                <a:lnTo>
                  <a:pt x="53" y="148"/>
                </a:lnTo>
                <a:lnTo>
                  <a:pt x="71" y="146"/>
                </a:lnTo>
                <a:lnTo>
                  <a:pt x="86" y="146"/>
                </a:lnTo>
                <a:lnTo>
                  <a:pt x="101" y="144"/>
                </a:lnTo>
                <a:lnTo>
                  <a:pt x="117" y="142"/>
                </a:lnTo>
                <a:lnTo>
                  <a:pt x="132" y="139"/>
                </a:lnTo>
                <a:lnTo>
                  <a:pt x="159" y="133"/>
                </a:lnTo>
                <a:lnTo>
                  <a:pt x="172" y="129"/>
                </a:lnTo>
                <a:lnTo>
                  <a:pt x="186" y="125"/>
                </a:lnTo>
                <a:lnTo>
                  <a:pt x="199" y="121"/>
                </a:lnTo>
                <a:lnTo>
                  <a:pt x="211" y="116"/>
                </a:lnTo>
                <a:lnTo>
                  <a:pt x="224" y="110"/>
                </a:lnTo>
                <a:lnTo>
                  <a:pt x="236" y="104"/>
                </a:lnTo>
                <a:lnTo>
                  <a:pt x="255" y="94"/>
                </a:lnTo>
                <a:lnTo>
                  <a:pt x="274" y="85"/>
                </a:lnTo>
                <a:lnTo>
                  <a:pt x="289" y="77"/>
                </a:lnTo>
                <a:lnTo>
                  <a:pt x="305" y="70"/>
                </a:lnTo>
                <a:lnTo>
                  <a:pt x="318" y="60"/>
                </a:lnTo>
                <a:lnTo>
                  <a:pt x="332" y="52"/>
                </a:lnTo>
                <a:lnTo>
                  <a:pt x="343" y="43"/>
                </a:lnTo>
                <a:lnTo>
                  <a:pt x="353" y="35"/>
                </a:lnTo>
                <a:lnTo>
                  <a:pt x="362" y="25"/>
                </a:lnTo>
                <a:lnTo>
                  <a:pt x="372" y="20"/>
                </a:lnTo>
                <a:lnTo>
                  <a:pt x="381" y="12"/>
                </a:lnTo>
                <a:lnTo>
                  <a:pt x="389" y="8"/>
                </a:lnTo>
                <a:lnTo>
                  <a:pt x="397" y="4"/>
                </a:lnTo>
                <a:lnTo>
                  <a:pt x="403" y="2"/>
                </a:lnTo>
                <a:lnTo>
                  <a:pt x="410" y="0"/>
                </a:lnTo>
                <a:lnTo>
                  <a:pt x="418" y="0"/>
                </a:lnTo>
                <a:lnTo>
                  <a:pt x="420" y="0"/>
                </a:lnTo>
                <a:lnTo>
                  <a:pt x="422" y="0"/>
                </a:lnTo>
                <a:lnTo>
                  <a:pt x="426" y="2"/>
                </a:lnTo>
                <a:lnTo>
                  <a:pt x="429" y="4"/>
                </a:lnTo>
                <a:lnTo>
                  <a:pt x="433" y="6"/>
                </a:lnTo>
                <a:lnTo>
                  <a:pt x="437" y="8"/>
                </a:lnTo>
                <a:lnTo>
                  <a:pt x="449" y="16"/>
                </a:lnTo>
                <a:lnTo>
                  <a:pt x="462" y="23"/>
                </a:lnTo>
                <a:lnTo>
                  <a:pt x="476" y="33"/>
                </a:lnTo>
                <a:lnTo>
                  <a:pt x="491" y="45"/>
                </a:lnTo>
                <a:lnTo>
                  <a:pt x="508" y="58"/>
                </a:lnTo>
                <a:lnTo>
                  <a:pt x="524" y="73"/>
                </a:lnTo>
                <a:lnTo>
                  <a:pt x="539" y="89"/>
                </a:lnTo>
                <a:lnTo>
                  <a:pt x="545" y="96"/>
                </a:lnTo>
                <a:lnTo>
                  <a:pt x="550" y="104"/>
                </a:lnTo>
                <a:lnTo>
                  <a:pt x="556" y="110"/>
                </a:lnTo>
                <a:lnTo>
                  <a:pt x="560" y="116"/>
                </a:lnTo>
                <a:lnTo>
                  <a:pt x="566" y="121"/>
                </a:lnTo>
                <a:lnTo>
                  <a:pt x="570" y="127"/>
                </a:lnTo>
                <a:lnTo>
                  <a:pt x="571" y="133"/>
                </a:lnTo>
                <a:lnTo>
                  <a:pt x="575" y="137"/>
                </a:lnTo>
                <a:lnTo>
                  <a:pt x="577" y="141"/>
                </a:lnTo>
                <a:lnTo>
                  <a:pt x="579" y="144"/>
                </a:lnTo>
                <a:lnTo>
                  <a:pt x="579" y="146"/>
                </a:lnTo>
                <a:lnTo>
                  <a:pt x="581" y="150"/>
                </a:lnTo>
                <a:lnTo>
                  <a:pt x="579" y="154"/>
                </a:lnTo>
                <a:lnTo>
                  <a:pt x="579" y="160"/>
                </a:lnTo>
                <a:lnTo>
                  <a:pt x="575" y="165"/>
                </a:lnTo>
                <a:lnTo>
                  <a:pt x="571" y="173"/>
                </a:lnTo>
                <a:lnTo>
                  <a:pt x="568" y="179"/>
                </a:lnTo>
                <a:lnTo>
                  <a:pt x="562" y="185"/>
                </a:lnTo>
                <a:lnTo>
                  <a:pt x="554" y="190"/>
                </a:lnTo>
                <a:lnTo>
                  <a:pt x="545" y="196"/>
                </a:lnTo>
                <a:lnTo>
                  <a:pt x="539" y="198"/>
                </a:lnTo>
                <a:lnTo>
                  <a:pt x="533" y="202"/>
                </a:lnTo>
                <a:lnTo>
                  <a:pt x="527" y="206"/>
                </a:lnTo>
                <a:lnTo>
                  <a:pt x="520" y="213"/>
                </a:lnTo>
                <a:lnTo>
                  <a:pt x="514" y="219"/>
                </a:lnTo>
                <a:lnTo>
                  <a:pt x="506" y="227"/>
                </a:lnTo>
                <a:lnTo>
                  <a:pt x="499" y="236"/>
                </a:lnTo>
                <a:lnTo>
                  <a:pt x="491" y="248"/>
                </a:lnTo>
                <a:lnTo>
                  <a:pt x="481" y="258"/>
                </a:lnTo>
                <a:lnTo>
                  <a:pt x="474" y="271"/>
                </a:lnTo>
                <a:lnTo>
                  <a:pt x="464" y="284"/>
                </a:lnTo>
                <a:lnTo>
                  <a:pt x="456" y="298"/>
                </a:lnTo>
                <a:lnTo>
                  <a:pt x="447" y="315"/>
                </a:lnTo>
                <a:lnTo>
                  <a:pt x="437" y="331"/>
                </a:lnTo>
                <a:lnTo>
                  <a:pt x="428" y="350"/>
                </a:lnTo>
                <a:lnTo>
                  <a:pt x="418" y="3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0" name="Group 30"/>
          <p:cNvGrpSpPr/>
          <p:nvPr/>
        </p:nvGrpSpPr>
        <p:grpSpPr>
          <a:xfrm>
            <a:off x="4648320" y="1219320"/>
            <a:ext cx="2523600" cy="1258560"/>
            <a:chOff x="4648320" y="1219320"/>
            <a:chExt cx="2523600" cy="1258560"/>
          </a:xfrm>
        </p:grpSpPr>
        <p:sp>
          <p:nvSpPr>
            <p:cNvPr id="4241" name="Text Box 32"/>
            <p:cNvSpPr/>
            <p:nvPr/>
          </p:nvSpPr>
          <p:spPr>
            <a:xfrm>
              <a:off x="4648320" y="175284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食字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2" name="Group 32"/>
            <p:cNvGrpSpPr/>
            <p:nvPr/>
          </p:nvGrpSpPr>
          <p:grpSpPr>
            <a:xfrm>
              <a:off x="6629400" y="1219320"/>
              <a:ext cx="542520" cy="1258560"/>
              <a:chOff x="6629400" y="1219320"/>
              <a:chExt cx="542520" cy="1258560"/>
            </a:xfrm>
          </p:grpSpPr>
          <p:sp>
            <p:nvSpPr>
              <p:cNvPr id="4243" name="Freeform 58"/>
              <p:cNvSpPr/>
              <p:nvPr/>
            </p:nvSpPr>
            <p:spPr>
              <a:xfrm>
                <a:off x="6823080" y="1784160"/>
                <a:ext cx="273600" cy="693720"/>
              </a:xfrm>
              <a:custGeom>
                <a:avLst/>
                <a:gdLst>
                  <a:gd name="textAreaLeft" fmla="*/ 0 w 273600"/>
                  <a:gd name="textAreaRight" fmla="*/ 273960 w 27360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493" h="1249">
                    <a:moveTo>
                      <a:pt x="94" y="98"/>
                    </a:moveTo>
                    <a:lnTo>
                      <a:pt x="88" y="84"/>
                    </a:lnTo>
                    <a:lnTo>
                      <a:pt x="82" y="73"/>
                    </a:lnTo>
                    <a:lnTo>
                      <a:pt x="76" y="63"/>
                    </a:lnTo>
                    <a:lnTo>
                      <a:pt x="74" y="52"/>
                    </a:lnTo>
                    <a:lnTo>
                      <a:pt x="73" y="42"/>
                    </a:lnTo>
                    <a:lnTo>
                      <a:pt x="73" y="34"/>
                    </a:lnTo>
                    <a:lnTo>
                      <a:pt x="73" y="25"/>
                    </a:lnTo>
                    <a:lnTo>
                      <a:pt x="74" y="17"/>
                    </a:lnTo>
                    <a:lnTo>
                      <a:pt x="76" y="11"/>
                    </a:lnTo>
                    <a:lnTo>
                      <a:pt x="78" y="7"/>
                    </a:lnTo>
                    <a:lnTo>
                      <a:pt x="80" y="6"/>
                    </a:lnTo>
                    <a:lnTo>
                      <a:pt x="84" y="4"/>
                    </a:lnTo>
                    <a:lnTo>
                      <a:pt x="86" y="4"/>
                    </a:lnTo>
                    <a:lnTo>
                      <a:pt x="90" y="2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2" y="2"/>
                    </a:lnTo>
                    <a:lnTo>
                      <a:pt x="130" y="4"/>
                    </a:lnTo>
                    <a:lnTo>
                      <a:pt x="138" y="6"/>
                    </a:lnTo>
                    <a:lnTo>
                      <a:pt x="151" y="9"/>
                    </a:lnTo>
                    <a:lnTo>
                      <a:pt x="165" y="15"/>
                    </a:lnTo>
                    <a:lnTo>
                      <a:pt x="176" y="21"/>
                    </a:lnTo>
                    <a:lnTo>
                      <a:pt x="186" y="29"/>
                    </a:lnTo>
                    <a:lnTo>
                      <a:pt x="195" y="34"/>
                    </a:lnTo>
                    <a:lnTo>
                      <a:pt x="205" y="40"/>
                    </a:lnTo>
                    <a:lnTo>
                      <a:pt x="213" y="46"/>
                    </a:lnTo>
                    <a:lnTo>
                      <a:pt x="220" y="52"/>
                    </a:lnTo>
                    <a:lnTo>
                      <a:pt x="224" y="55"/>
                    </a:lnTo>
                    <a:lnTo>
                      <a:pt x="226" y="61"/>
                    </a:lnTo>
                    <a:lnTo>
                      <a:pt x="230" y="67"/>
                    </a:lnTo>
                    <a:lnTo>
                      <a:pt x="232" y="73"/>
                    </a:lnTo>
                    <a:lnTo>
                      <a:pt x="234" y="78"/>
                    </a:lnTo>
                    <a:lnTo>
                      <a:pt x="236" y="86"/>
                    </a:lnTo>
                    <a:lnTo>
                      <a:pt x="238" y="94"/>
                    </a:lnTo>
                    <a:lnTo>
                      <a:pt x="240" y="103"/>
                    </a:lnTo>
                    <a:lnTo>
                      <a:pt x="240" y="111"/>
                    </a:lnTo>
                    <a:lnTo>
                      <a:pt x="241" y="121"/>
                    </a:lnTo>
                    <a:lnTo>
                      <a:pt x="241" y="130"/>
                    </a:lnTo>
                    <a:lnTo>
                      <a:pt x="241" y="142"/>
                    </a:lnTo>
                    <a:lnTo>
                      <a:pt x="241" y="153"/>
                    </a:lnTo>
                    <a:lnTo>
                      <a:pt x="241" y="165"/>
                    </a:lnTo>
                    <a:lnTo>
                      <a:pt x="240" y="176"/>
                    </a:lnTo>
                    <a:lnTo>
                      <a:pt x="238" y="190"/>
                    </a:lnTo>
                    <a:lnTo>
                      <a:pt x="236" y="205"/>
                    </a:lnTo>
                    <a:lnTo>
                      <a:pt x="234" y="220"/>
                    </a:lnTo>
                    <a:lnTo>
                      <a:pt x="232" y="240"/>
                    </a:lnTo>
                    <a:lnTo>
                      <a:pt x="230" y="259"/>
                    </a:lnTo>
                    <a:lnTo>
                      <a:pt x="228" y="278"/>
                    </a:lnTo>
                    <a:lnTo>
                      <a:pt x="226" y="299"/>
                    </a:lnTo>
                    <a:lnTo>
                      <a:pt x="222" y="322"/>
                    </a:lnTo>
                    <a:lnTo>
                      <a:pt x="220" y="345"/>
                    </a:lnTo>
                    <a:lnTo>
                      <a:pt x="218" y="370"/>
                    </a:lnTo>
                    <a:lnTo>
                      <a:pt x="215" y="397"/>
                    </a:lnTo>
                    <a:lnTo>
                      <a:pt x="213" y="424"/>
                    </a:lnTo>
                    <a:lnTo>
                      <a:pt x="211" y="453"/>
                    </a:lnTo>
                    <a:lnTo>
                      <a:pt x="209" y="483"/>
                    </a:lnTo>
                    <a:lnTo>
                      <a:pt x="205" y="514"/>
                    </a:lnTo>
                    <a:lnTo>
                      <a:pt x="203" y="547"/>
                    </a:lnTo>
                    <a:lnTo>
                      <a:pt x="203" y="581"/>
                    </a:lnTo>
                    <a:lnTo>
                      <a:pt x="201" y="597"/>
                    </a:lnTo>
                    <a:lnTo>
                      <a:pt x="199" y="614"/>
                    </a:lnTo>
                    <a:lnTo>
                      <a:pt x="197" y="629"/>
                    </a:lnTo>
                    <a:lnTo>
                      <a:pt x="195" y="645"/>
                    </a:lnTo>
                    <a:lnTo>
                      <a:pt x="195" y="660"/>
                    </a:lnTo>
                    <a:lnTo>
                      <a:pt x="193" y="675"/>
                    </a:lnTo>
                    <a:lnTo>
                      <a:pt x="192" y="689"/>
                    </a:lnTo>
                    <a:lnTo>
                      <a:pt x="190" y="702"/>
                    </a:lnTo>
                    <a:lnTo>
                      <a:pt x="190" y="714"/>
                    </a:lnTo>
                    <a:lnTo>
                      <a:pt x="188" y="727"/>
                    </a:lnTo>
                    <a:lnTo>
                      <a:pt x="188" y="739"/>
                    </a:lnTo>
                    <a:lnTo>
                      <a:pt x="186" y="750"/>
                    </a:lnTo>
                    <a:lnTo>
                      <a:pt x="186" y="760"/>
                    </a:lnTo>
                    <a:lnTo>
                      <a:pt x="184" y="771"/>
                    </a:lnTo>
                    <a:lnTo>
                      <a:pt x="184" y="781"/>
                    </a:lnTo>
                    <a:lnTo>
                      <a:pt x="184" y="788"/>
                    </a:lnTo>
                    <a:lnTo>
                      <a:pt x="182" y="798"/>
                    </a:lnTo>
                    <a:lnTo>
                      <a:pt x="182" y="806"/>
                    </a:lnTo>
                    <a:lnTo>
                      <a:pt x="182" y="813"/>
                    </a:lnTo>
                    <a:lnTo>
                      <a:pt x="182" y="821"/>
                    </a:lnTo>
                    <a:lnTo>
                      <a:pt x="180" y="827"/>
                    </a:lnTo>
                    <a:lnTo>
                      <a:pt x="180" y="833"/>
                    </a:lnTo>
                    <a:lnTo>
                      <a:pt x="180" y="838"/>
                    </a:lnTo>
                    <a:lnTo>
                      <a:pt x="180" y="844"/>
                    </a:lnTo>
                    <a:lnTo>
                      <a:pt x="180" y="848"/>
                    </a:lnTo>
                    <a:lnTo>
                      <a:pt x="180" y="854"/>
                    </a:lnTo>
                    <a:lnTo>
                      <a:pt x="182" y="858"/>
                    </a:lnTo>
                    <a:lnTo>
                      <a:pt x="182" y="859"/>
                    </a:lnTo>
                    <a:lnTo>
                      <a:pt x="182" y="863"/>
                    </a:lnTo>
                    <a:lnTo>
                      <a:pt x="182" y="865"/>
                    </a:lnTo>
                    <a:lnTo>
                      <a:pt x="184" y="869"/>
                    </a:lnTo>
                    <a:lnTo>
                      <a:pt x="186" y="869"/>
                    </a:lnTo>
                    <a:lnTo>
                      <a:pt x="190" y="869"/>
                    </a:lnTo>
                    <a:lnTo>
                      <a:pt x="193" y="869"/>
                    </a:lnTo>
                    <a:lnTo>
                      <a:pt x="197" y="867"/>
                    </a:lnTo>
                    <a:lnTo>
                      <a:pt x="203" y="863"/>
                    </a:lnTo>
                    <a:lnTo>
                      <a:pt x="211" y="858"/>
                    </a:lnTo>
                    <a:lnTo>
                      <a:pt x="218" y="850"/>
                    </a:lnTo>
                    <a:lnTo>
                      <a:pt x="228" y="842"/>
                    </a:lnTo>
                    <a:lnTo>
                      <a:pt x="238" y="833"/>
                    </a:lnTo>
                    <a:lnTo>
                      <a:pt x="249" y="823"/>
                    </a:lnTo>
                    <a:lnTo>
                      <a:pt x="261" y="811"/>
                    </a:lnTo>
                    <a:lnTo>
                      <a:pt x="274" y="798"/>
                    </a:lnTo>
                    <a:lnTo>
                      <a:pt x="287" y="783"/>
                    </a:lnTo>
                    <a:lnTo>
                      <a:pt x="303" y="767"/>
                    </a:lnTo>
                    <a:lnTo>
                      <a:pt x="320" y="748"/>
                    </a:lnTo>
                    <a:lnTo>
                      <a:pt x="337" y="731"/>
                    </a:lnTo>
                    <a:lnTo>
                      <a:pt x="355" y="712"/>
                    </a:lnTo>
                    <a:lnTo>
                      <a:pt x="370" y="694"/>
                    </a:lnTo>
                    <a:lnTo>
                      <a:pt x="385" y="679"/>
                    </a:lnTo>
                    <a:lnTo>
                      <a:pt x="399" y="664"/>
                    </a:lnTo>
                    <a:lnTo>
                      <a:pt x="412" y="652"/>
                    </a:lnTo>
                    <a:lnTo>
                      <a:pt x="424" y="641"/>
                    </a:lnTo>
                    <a:lnTo>
                      <a:pt x="435" y="631"/>
                    </a:lnTo>
                    <a:lnTo>
                      <a:pt x="445" y="623"/>
                    </a:lnTo>
                    <a:lnTo>
                      <a:pt x="454" y="616"/>
                    </a:lnTo>
                    <a:lnTo>
                      <a:pt x="464" y="610"/>
                    </a:lnTo>
                    <a:lnTo>
                      <a:pt x="470" y="606"/>
                    </a:lnTo>
                    <a:lnTo>
                      <a:pt x="477" y="604"/>
                    </a:lnTo>
                    <a:lnTo>
                      <a:pt x="483" y="602"/>
                    </a:lnTo>
                    <a:lnTo>
                      <a:pt x="487" y="600"/>
                    </a:lnTo>
                    <a:lnTo>
                      <a:pt x="489" y="602"/>
                    </a:lnTo>
                    <a:lnTo>
                      <a:pt x="493" y="604"/>
                    </a:lnTo>
                    <a:lnTo>
                      <a:pt x="493" y="606"/>
                    </a:lnTo>
                    <a:lnTo>
                      <a:pt x="493" y="612"/>
                    </a:lnTo>
                    <a:lnTo>
                      <a:pt x="491" y="618"/>
                    </a:lnTo>
                    <a:lnTo>
                      <a:pt x="489" y="627"/>
                    </a:lnTo>
                    <a:lnTo>
                      <a:pt x="483" y="637"/>
                    </a:lnTo>
                    <a:lnTo>
                      <a:pt x="477" y="650"/>
                    </a:lnTo>
                    <a:lnTo>
                      <a:pt x="472" y="664"/>
                    </a:lnTo>
                    <a:lnTo>
                      <a:pt x="462" y="679"/>
                    </a:lnTo>
                    <a:lnTo>
                      <a:pt x="453" y="696"/>
                    </a:lnTo>
                    <a:lnTo>
                      <a:pt x="441" y="716"/>
                    </a:lnTo>
                    <a:lnTo>
                      <a:pt x="428" y="737"/>
                    </a:lnTo>
                    <a:lnTo>
                      <a:pt x="412" y="760"/>
                    </a:lnTo>
                    <a:lnTo>
                      <a:pt x="397" y="785"/>
                    </a:lnTo>
                    <a:lnTo>
                      <a:pt x="378" y="811"/>
                    </a:lnTo>
                    <a:lnTo>
                      <a:pt x="358" y="838"/>
                    </a:lnTo>
                    <a:lnTo>
                      <a:pt x="337" y="869"/>
                    </a:lnTo>
                    <a:lnTo>
                      <a:pt x="316" y="900"/>
                    </a:lnTo>
                    <a:lnTo>
                      <a:pt x="297" y="930"/>
                    </a:lnTo>
                    <a:lnTo>
                      <a:pt x="278" y="959"/>
                    </a:lnTo>
                    <a:lnTo>
                      <a:pt x="259" y="986"/>
                    </a:lnTo>
                    <a:lnTo>
                      <a:pt x="241" y="1011"/>
                    </a:lnTo>
                    <a:lnTo>
                      <a:pt x="226" y="1034"/>
                    </a:lnTo>
                    <a:lnTo>
                      <a:pt x="211" y="1055"/>
                    </a:lnTo>
                    <a:lnTo>
                      <a:pt x="197" y="1076"/>
                    </a:lnTo>
                    <a:lnTo>
                      <a:pt x="184" y="1094"/>
                    </a:lnTo>
                    <a:lnTo>
                      <a:pt x="172" y="1111"/>
                    </a:lnTo>
                    <a:lnTo>
                      <a:pt x="163" y="1126"/>
                    </a:lnTo>
                    <a:lnTo>
                      <a:pt x="153" y="1140"/>
                    </a:lnTo>
                    <a:lnTo>
                      <a:pt x="145" y="1153"/>
                    </a:lnTo>
                    <a:lnTo>
                      <a:pt x="140" y="1163"/>
                    </a:lnTo>
                    <a:lnTo>
                      <a:pt x="134" y="1172"/>
                    </a:lnTo>
                    <a:lnTo>
                      <a:pt x="130" y="1180"/>
                    </a:lnTo>
                    <a:lnTo>
                      <a:pt x="124" y="1188"/>
                    </a:lnTo>
                    <a:lnTo>
                      <a:pt x="121" y="1195"/>
                    </a:lnTo>
                    <a:lnTo>
                      <a:pt x="115" y="1203"/>
                    </a:lnTo>
                    <a:lnTo>
                      <a:pt x="111" y="1209"/>
                    </a:lnTo>
                    <a:lnTo>
                      <a:pt x="107" y="1216"/>
                    </a:lnTo>
                    <a:lnTo>
                      <a:pt x="103" y="1222"/>
                    </a:lnTo>
                    <a:lnTo>
                      <a:pt x="97" y="1226"/>
                    </a:lnTo>
                    <a:lnTo>
                      <a:pt x="94" y="1232"/>
                    </a:lnTo>
                    <a:lnTo>
                      <a:pt x="90" y="1236"/>
                    </a:lnTo>
                    <a:lnTo>
                      <a:pt x="88" y="1238"/>
                    </a:lnTo>
                    <a:lnTo>
                      <a:pt x="84" y="1241"/>
                    </a:lnTo>
                    <a:lnTo>
                      <a:pt x="80" y="1243"/>
                    </a:lnTo>
                    <a:lnTo>
                      <a:pt x="76" y="1245"/>
                    </a:lnTo>
                    <a:lnTo>
                      <a:pt x="73" y="1247"/>
                    </a:lnTo>
                    <a:lnTo>
                      <a:pt x="69" y="1247"/>
                    </a:lnTo>
                    <a:lnTo>
                      <a:pt x="67" y="1249"/>
                    </a:lnTo>
                    <a:lnTo>
                      <a:pt x="57" y="1247"/>
                    </a:lnTo>
                    <a:lnTo>
                      <a:pt x="50" y="1245"/>
                    </a:lnTo>
                    <a:lnTo>
                      <a:pt x="42" y="1243"/>
                    </a:lnTo>
                    <a:lnTo>
                      <a:pt x="36" y="1238"/>
                    </a:lnTo>
                    <a:lnTo>
                      <a:pt x="32" y="1232"/>
                    </a:lnTo>
                    <a:lnTo>
                      <a:pt x="28" y="1224"/>
                    </a:lnTo>
                    <a:lnTo>
                      <a:pt x="26" y="1218"/>
                    </a:lnTo>
                    <a:lnTo>
                      <a:pt x="25" y="1214"/>
                    </a:lnTo>
                    <a:lnTo>
                      <a:pt x="23" y="1209"/>
                    </a:lnTo>
                    <a:lnTo>
                      <a:pt x="21" y="1203"/>
                    </a:lnTo>
                    <a:lnTo>
                      <a:pt x="17" y="1190"/>
                    </a:lnTo>
                    <a:lnTo>
                      <a:pt x="15" y="1176"/>
                    </a:lnTo>
                    <a:lnTo>
                      <a:pt x="11" y="1163"/>
                    </a:lnTo>
                    <a:lnTo>
                      <a:pt x="9" y="1147"/>
                    </a:lnTo>
                    <a:lnTo>
                      <a:pt x="5" y="1132"/>
                    </a:lnTo>
                    <a:lnTo>
                      <a:pt x="3" y="1115"/>
                    </a:lnTo>
                    <a:lnTo>
                      <a:pt x="3" y="1096"/>
                    </a:lnTo>
                    <a:lnTo>
                      <a:pt x="3" y="1086"/>
                    </a:lnTo>
                    <a:lnTo>
                      <a:pt x="3" y="1076"/>
                    </a:lnTo>
                    <a:lnTo>
                      <a:pt x="0" y="1059"/>
                    </a:lnTo>
                    <a:lnTo>
                      <a:pt x="0" y="1044"/>
                    </a:lnTo>
                    <a:lnTo>
                      <a:pt x="0" y="1028"/>
                    </a:lnTo>
                    <a:lnTo>
                      <a:pt x="3" y="1013"/>
                    </a:lnTo>
                    <a:lnTo>
                      <a:pt x="7" y="1000"/>
                    </a:lnTo>
                    <a:lnTo>
                      <a:pt x="13" y="986"/>
                    </a:lnTo>
                    <a:lnTo>
                      <a:pt x="21" y="973"/>
                    </a:lnTo>
                    <a:lnTo>
                      <a:pt x="30" y="961"/>
                    </a:lnTo>
                    <a:lnTo>
                      <a:pt x="34" y="953"/>
                    </a:lnTo>
                    <a:lnTo>
                      <a:pt x="40" y="946"/>
                    </a:lnTo>
                    <a:lnTo>
                      <a:pt x="44" y="936"/>
                    </a:lnTo>
                    <a:lnTo>
                      <a:pt x="50" y="925"/>
                    </a:lnTo>
                    <a:lnTo>
                      <a:pt x="53" y="913"/>
                    </a:lnTo>
                    <a:lnTo>
                      <a:pt x="57" y="900"/>
                    </a:lnTo>
                    <a:lnTo>
                      <a:pt x="61" y="886"/>
                    </a:lnTo>
                    <a:lnTo>
                      <a:pt x="65" y="871"/>
                    </a:lnTo>
                    <a:lnTo>
                      <a:pt x="69" y="854"/>
                    </a:lnTo>
                    <a:lnTo>
                      <a:pt x="73" y="836"/>
                    </a:lnTo>
                    <a:lnTo>
                      <a:pt x="76" y="815"/>
                    </a:lnTo>
                    <a:lnTo>
                      <a:pt x="80" y="794"/>
                    </a:lnTo>
                    <a:lnTo>
                      <a:pt x="82" y="773"/>
                    </a:lnTo>
                    <a:lnTo>
                      <a:pt x="86" y="748"/>
                    </a:lnTo>
                    <a:lnTo>
                      <a:pt x="90" y="723"/>
                    </a:lnTo>
                    <a:lnTo>
                      <a:pt x="94" y="696"/>
                    </a:lnTo>
                    <a:lnTo>
                      <a:pt x="99" y="645"/>
                    </a:lnTo>
                    <a:lnTo>
                      <a:pt x="105" y="595"/>
                    </a:lnTo>
                    <a:lnTo>
                      <a:pt x="109" y="545"/>
                    </a:lnTo>
                    <a:lnTo>
                      <a:pt x="113" y="497"/>
                    </a:lnTo>
                    <a:lnTo>
                      <a:pt x="117" y="451"/>
                    </a:lnTo>
                    <a:lnTo>
                      <a:pt x="119" y="405"/>
                    </a:lnTo>
                    <a:lnTo>
                      <a:pt x="121" y="359"/>
                    </a:lnTo>
                    <a:lnTo>
                      <a:pt x="121" y="316"/>
                    </a:lnTo>
                    <a:lnTo>
                      <a:pt x="121" y="295"/>
                    </a:lnTo>
                    <a:lnTo>
                      <a:pt x="121" y="274"/>
                    </a:lnTo>
                    <a:lnTo>
                      <a:pt x="119" y="255"/>
                    </a:lnTo>
                    <a:lnTo>
                      <a:pt x="119" y="238"/>
                    </a:lnTo>
                    <a:lnTo>
                      <a:pt x="119" y="220"/>
                    </a:lnTo>
                    <a:lnTo>
                      <a:pt x="117" y="205"/>
                    </a:lnTo>
                    <a:lnTo>
                      <a:pt x="115" y="190"/>
                    </a:lnTo>
                    <a:lnTo>
                      <a:pt x="113" y="176"/>
                    </a:lnTo>
                    <a:lnTo>
                      <a:pt x="111" y="163"/>
                    </a:lnTo>
                    <a:lnTo>
                      <a:pt x="109" y="151"/>
                    </a:lnTo>
                    <a:lnTo>
                      <a:pt x="107" y="140"/>
                    </a:lnTo>
                    <a:lnTo>
                      <a:pt x="105" y="130"/>
                    </a:lnTo>
                    <a:lnTo>
                      <a:pt x="103" y="121"/>
                    </a:lnTo>
                    <a:lnTo>
                      <a:pt x="99" y="111"/>
                    </a:lnTo>
                    <a:lnTo>
                      <a:pt x="96" y="103"/>
                    </a:lnTo>
                    <a:lnTo>
                      <a:pt x="94" y="9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Freeform 59"/>
              <p:cNvSpPr/>
              <p:nvPr/>
            </p:nvSpPr>
            <p:spPr>
              <a:xfrm>
                <a:off x="6629400" y="1219320"/>
                <a:ext cx="380880" cy="7934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793440"/>
                  <a:gd name="textAreaBottom" fmla="*/ 793800 h 793440"/>
                </a:gdLst>
                <a:ahLst/>
                <a:rect l="textAreaLeft" t="textAreaTop" r="textAreaRight" b="textAreaBottom"/>
                <a:pathLst>
                  <a:path w="689" h="1429">
                    <a:moveTo>
                      <a:pt x="555" y="518"/>
                    </a:moveTo>
                    <a:lnTo>
                      <a:pt x="540" y="556"/>
                    </a:lnTo>
                    <a:lnTo>
                      <a:pt x="524" y="593"/>
                    </a:lnTo>
                    <a:lnTo>
                      <a:pt x="509" y="629"/>
                    </a:lnTo>
                    <a:lnTo>
                      <a:pt x="494" y="666"/>
                    </a:lnTo>
                    <a:lnTo>
                      <a:pt x="478" y="700"/>
                    </a:lnTo>
                    <a:lnTo>
                      <a:pt x="463" y="735"/>
                    </a:lnTo>
                    <a:lnTo>
                      <a:pt x="448" y="769"/>
                    </a:lnTo>
                    <a:lnTo>
                      <a:pt x="432" y="800"/>
                    </a:lnTo>
                    <a:lnTo>
                      <a:pt x="419" y="833"/>
                    </a:lnTo>
                    <a:lnTo>
                      <a:pt x="403" y="861"/>
                    </a:lnTo>
                    <a:lnTo>
                      <a:pt x="388" y="892"/>
                    </a:lnTo>
                    <a:lnTo>
                      <a:pt x="375" y="921"/>
                    </a:lnTo>
                    <a:lnTo>
                      <a:pt x="359" y="948"/>
                    </a:lnTo>
                    <a:lnTo>
                      <a:pt x="346" y="975"/>
                    </a:lnTo>
                    <a:lnTo>
                      <a:pt x="332" y="1000"/>
                    </a:lnTo>
                    <a:lnTo>
                      <a:pt x="319" y="1025"/>
                    </a:lnTo>
                    <a:lnTo>
                      <a:pt x="306" y="1049"/>
                    </a:lnTo>
                    <a:lnTo>
                      <a:pt x="292" y="1074"/>
                    </a:lnTo>
                    <a:lnTo>
                      <a:pt x="279" y="1097"/>
                    </a:lnTo>
                    <a:lnTo>
                      <a:pt x="265" y="1120"/>
                    </a:lnTo>
                    <a:lnTo>
                      <a:pt x="252" y="1143"/>
                    </a:lnTo>
                    <a:lnTo>
                      <a:pt x="238" y="1165"/>
                    </a:lnTo>
                    <a:lnTo>
                      <a:pt x="225" y="1186"/>
                    </a:lnTo>
                    <a:lnTo>
                      <a:pt x="212" y="1205"/>
                    </a:lnTo>
                    <a:lnTo>
                      <a:pt x="198" y="1224"/>
                    </a:lnTo>
                    <a:lnTo>
                      <a:pt x="185" y="1241"/>
                    </a:lnTo>
                    <a:lnTo>
                      <a:pt x="171" y="1259"/>
                    </a:lnTo>
                    <a:lnTo>
                      <a:pt x="160" y="1276"/>
                    </a:lnTo>
                    <a:lnTo>
                      <a:pt x="146" y="1291"/>
                    </a:lnTo>
                    <a:lnTo>
                      <a:pt x="135" y="1307"/>
                    </a:lnTo>
                    <a:lnTo>
                      <a:pt x="121" y="1322"/>
                    </a:lnTo>
                    <a:lnTo>
                      <a:pt x="110" y="1335"/>
                    </a:lnTo>
                    <a:lnTo>
                      <a:pt x="98" y="1347"/>
                    </a:lnTo>
                    <a:lnTo>
                      <a:pt x="87" y="1358"/>
                    </a:lnTo>
                    <a:lnTo>
                      <a:pt x="77" y="1370"/>
                    </a:lnTo>
                    <a:lnTo>
                      <a:pt x="68" y="1380"/>
                    </a:lnTo>
                    <a:lnTo>
                      <a:pt x="58" y="1389"/>
                    </a:lnTo>
                    <a:lnTo>
                      <a:pt x="50" y="1397"/>
                    </a:lnTo>
                    <a:lnTo>
                      <a:pt x="43" y="1404"/>
                    </a:lnTo>
                    <a:lnTo>
                      <a:pt x="35" y="1410"/>
                    </a:lnTo>
                    <a:lnTo>
                      <a:pt x="29" y="1416"/>
                    </a:lnTo>
                    <a:lnTo>
                      <a:pt x="23" y="1422"/>
                    </a:lnTo>
                    <a:lnTo>
                      <a:pt x="18" y="1424"/>
                    </a:lnTo>
                    <a:lnTo>
                      <a:pt x="12" y="1427"/>
                    </a:lnTo>
                    <a:lnTo>
                      <a:pt x="8" y="1427"/>
                    </a:lnTo>
                    <a:lnTo>
                      <a:pt x="6" y="1429"/>
                    </a:lnTo>
                    <a:lnTo>
                      <a:pt x="2" y="1427"/>
                    </a:lnTo>
                    <a:lnTo>
                      <a:pt x="0" y="1427"/>
                    </a:lnTo>
                    <a:lnTo>
                      <a:pt x="0" y="1424"/>
                    </a:lnTo>
                    <a:lnTo>
                      <a:pt x="0" y="1420"/>
                    </a:lnTo>
                    <a:lnTo>
                      <a:pt x="2" y="1412"/>
                    </a:lnTo>
                    <a:lnTo>
                      <a:pt x="4" y="1404"/>
                    </a:lnTo>
                    <a:lnTo>
                      <a:pt x="8" y="1395"/>
                    </a:lnTo>
                    <a:lnTo>
                      <a:pt x="14" y="1383"/>
                    </a:lnTo>
                    <a:lnTo>
                      <a:pt x="22" y="1370"/>
                    </a:lnTo>
                    <a:lnTo>
                      <a:pt x="29" y="1355"/>
                    </a:lnTo>
                    <a:lnTo>
                      <a:pt x="33" y="1347"/>
                    </a:lnTo>
                    <a:lnTo>
                      <a:pt x="39" y="1337"/>
                    </a:lnTo>
                    <a:lnTo>
                      <a:pt x="43" y="1328"/>
                    </a:lnTo>
                    <a:lnTo>
                      <a:pt x="48" y="1318"/>
                    </a:lnTo>
                    <a:lnTo>
                      <a:pt x="54" y="1309"/>
                    </a:lnTo>
                    <a:lnTo>
                      <a:pt x="60" y="1297"/>
                    </a:lnTo>
                    <a:lnTo>
                      <a:pt x="66" y="1287"/>
                    </a:lnTo>
                    <a:lnTo>
                      <a:pt x="73" y="1274"/>
                    </a:lnTo>
                    <a:lnTo>
                      <a:pt x="79" y="1262"/>
                    </a:lnTo>
                    <a:lnTo>
                      <a:pt x="87" y="1249"/>
                    </a:lnTo>
                    <a:lnTo>
                      <a:pt x="94" y="1236"/>
                    </a:lnTo>
                    <a:lnTo>
                      <a:pt x="102" y="1222"/>
                    </a:lnTo>
                    <a:lnTo>
                      <a:pt x="110" y="1209"/>
                    </a:lnTo>
                    <a:lnTo>
                      <a:pt x="119" y="1193"/>
                    </a:lnTo>
                    <a:lnTo>
                      <a:pt x="127" y="1178"/>
                    </a:lnTo>
                    <a:lnTo>
                      <a:pt x="137" y="1163"/>
                    </a:lnTo>
                    <a:lnTo>
                      <a:pt x="156" y="1132"/>
                    </a:lnTo>
                    <a:lnTo>
                      <a:pt x="173" y="1099"/>
                    </a:lnTo>
                    <a:lnTo>
                      <a:pt x="208" y="1036"/>
                    </a:lnTo>
                    <a:lnTo>
                      <a:pt x="240" y="971"/>
                    </a:lnTo>
                    <a:lnTo>
                      <a:pt x="273" y="904"/>
                    </a:lnTo>
                    <a:lnTo>
                      <a:pt x="304" y="835"/>
                    </a:lnTo>
                    <a:lnTo>
                      <a:pt x="331" y="765"/>
                    </a:lnTo>
                    <a:lnTo>
                      <a:pt x="344" y="729"/>
                    </a:lnTo>
                    <a:lnTo>
                      <a:pt x="357" y="694"/>
                    </a:lnTo>
                    <a:lnTo>
                      <a:pt x="371" y="658"/>
                    </a:lnTo>
                    <a:lnTo>
                      <a:pt x="382" y="622"/>
                    </a:lnTo>
                    <a:lnTo>
                      <a:pt x="394" y="585"/>
                    </a:lnTo>
                    <a:lnTo>
                      <a:pt x="405" y="551"/>
                    </a:lnTo>
                    <a:lnTo>
                      <a:pt x="415" y="516"/>
                    </a:lnTo>
                    <a:lnTo>
                      <a:pt x="425" y="485"/>
                    </a:lnTo>
                    <a:lnTo>
                      <a:pt x="434" y="455"/>
                    </a:lnTo>
                    <a:lnTo>
                      <a:pt x="444" y="424"/>
                    </a:lnTo>
                    <a:lnTo>
                      <a:pt x="453" y="397"/>
                    </a:lnTo>
                    <a:lnTo>
                      <a:pt x="461" y="370"/>
                    </a:lnTo>
                    <a:lnTo>
                      <a:pt x="469" y="345"/>
                    </a:lnTo>
                    <a:lnTo>
                      <a:pt x="474" y="320"/>
                    </a:lnTo>
                    <a:lnTo>
                      <a:pt x="480" y="299"/>
                    </a:lnTo>
                    <a:lnTo>
                      <a:pt x="486" y="278"/>
                    </a:lnTo>
                    <a:lnTo>
                      <a:pt x="492" y="257"/>
                    </a:lnTo>
                    <a:lnTo>
                      <a:pt x="496" y="240"/>
                    </a:lnTo>
                    <a:lnTo>
                      <a:pt x="497" y="222"/>
                    </a:lnTo>
                    <a:lnTo>
                      <a:pt x="499" y="207"/>
                    </a:lnTo>
                    <a:lnTo>
                      <a:pt x="501" y="194"/>
                    </a:lnTo>
                    <a:lnTo>
                      <a:pt x="503" y="182"/>
                    </a:lnTo>
                    <a:lnTo>
                      <a:pt x="503" y="171"/>
                    </a:lnTo>
                    <a:lnTo>
                      <a:pt x="505" y="159"/>
                    </a:lnTo>
                    <a:lnTo>
                      <a:pt x="505" y="138"/>
                    </a:lnTo>
                    <a:lnTo>
                      <a:pt x="507" y="119"/>
                    </a:lnTo>
                    <a:lnTo>
                      <a:pt x="505" y="101"/>
                    </a:lnTo>
                    <a:lnTo>
                      <a:pt x="505" y="84"/>
                    </a:lnTo>
                    <a:lnTo>
                      <a:pt x="503" y="71"/>
                    </a:lnTo>
                    <a:lnTo>
                      <a:pt x="499" y="57"/>
                    </a:lnTo>
                    <a:lnTo>
                      <a:pt x="497" y="50"/>
                    </a:lnTo>
                    <a:lnTo>
                      <a:pt x="497" y="44"/>
                    </a:lnTo>
                    <a:lnTo>
                      <a:pt x="496" y="34"/>
                    </a:lnTo>
                    <a:lnTo>
                      <a:pt x="494" y="27"/>
                    </a:lnTo>
                    <a:lnTo>
                      <a:pt x="496" y="19"/>
                    </a:lnTo>
                    <a:lnTo>
                      <a:pt x="497" y="13"/>
                    </a:lnTo>
                    <a:lnTo>
                      <a:pt x="499" y="11"/>
                    </a:lnTo>
                    <a:lnTo>
                      <a:pt x="501" y="7"/>
                    </a:lnTo>
                    <a:lnTo>
                      <a:pt x="505" y="6"/>
                    </a:lnTo>
                    <a:lnTo>
                      <a:pt x="509" y="4"/>
                    </a:lnTo>
                    <a:lnTo>
                      <a:pt x="513" y="2"/>
                    </a:lnTo>
                    <a:lnTo>
                      <a:pt x="519" y="0"/>
                    </a:lnTo>
                    <a:lnTo>
                      <a:pt x="521" y="0"/>
                    </a:lnTo>
                    <a:lnTo>
                      <a:pt x="526" y="0"/>
                    </a:lnTo>
                    <a:lnTo>
                      <a:pt x="530" y="2"/>
                    </a:lnTo>
                    <a:lnTo>
                      <a:pt x="534" y="4"/>
                    </a:lnTo>
                    <a:lnTo>
                      <a:pt x="545" y="7"/>
                    </a:lnTo>
                    <a:lnTo>
                      <a:pt x="557" y="15"/>
                    </a:lnTo>
                    <a:lnTo>
                      <a:pt x="570" y="23"/>
                    </a:lnTo>
                    <a:lnTo>
                      <a:pt x="586" y="32"/>
                    </a:lnTo>
                    <a:lnTo>
                      <a:pt x="601" y="44"/>
                    </a:lnTo>
                    <a:lnTo>
                      <a:pt x="618" y="57"/>
                    </a:lnTo>
                    <a:lnTo>
                      <a:pt x="626" y="63"/>
                    </a:lnTo>
                    <a:lnTo>
                      <a:pt x="634" y="69"/>
                    </a:lnTo>
                    <a:lnTo>
                      <a:pt x="639" y="77"/>
                    </a:lnTo>
                    <a:lnTo>
                      <a:pt x="647" y="82"/>
                    </a:lnTo>
                    <a:lnTo>
                      <a:pt x="653" y="88"/>
                    </a:lnTo>
                    <a:lnTo>
                      <a:pt x="659" y="96"/>
                    </a:lnTo>
                    <a:lnTo>
                      <a:pt x="666" y="107"/>
                    </a:lnTo>
                    <a:lnTo>
                      <a:pt x="676" y="119"/>
                    </a:lnTo>
                    <a:lnTo>
                      <a:pt x="682" y="130"/>
                    </a:lnTo>
                    <a:lnTo>
                      <a:pt x="686" y="140"/>
                    </a:lnTo>
                    <a:lnTo>
                      <a:pt x="689" y="149"/>
                    </a:lnTo>
                    <a:lnTo>
                      <a:pt x="689" y="155"/>
                    </a:lnTo>
                    <a:lnTo>
                      <a:pt x="689" y="161"/>
                    </a:lnTo>
                    <a:lnTo>
                      <a:pt x="687" y="165"/>
                    </a:lnTo>
                    <a:lnTo>
                      <a:pt x="687" y="171"/>
                    </a:lnTo>
                    <a:lnTo>
                      <a:pt x="686" y="176"/>
                    </a:lnTo>
                    <a:lnTo>
                      <a:pt x="684" y="182"/>
                    </a:lnTo>
                    <a:lnTo>
                      <a:pt x="682" y="190"/>
                    </a:lnTo>
                    <a:lnTo>
                      <a:pt x="680" y="197"/>
                    </a:lnTo>
                    <a:lnTo>
                      <a:pt x="676" y="205"/>
                    </a:lnTo>
                    <a:lnTo>
                      <a:pt x="674" y="213"/>
                    </a:lnTo>
                    <a:lnTo>
                      <a:pt x="670" y="222"/>
                    </a:lnTo>
                    <a:lnTo>
                      <a:pt x="666" y="232"/>
                    </a:lnTo>
                    <a:lnTo>
                      <a:pt x="664" y="242"/>
                    </a:lnTo>
                    <a:lnTo>
                      <a:pt x="661" y="253"/>
                    </a:lnTo>
                    <a:lnTo>
                      <a:pt x="655" y="263"/>
                    </a:lnTo>
                    <a:lnTo>
                      <a:pt x="651" y="274"/>
                    </a:lnTo>
                    <a:lnTo>
                      <a:pt x="647" y="288"/>
                    </a:lnTo>
                    <a:lnTo>
                      <a:pt x="641" y="299"/>
                    </a:lnTo>
                    <a:lnTo>
                      <a:pt x="636" y="313"/>
                    </a:lnTo>
                    <a:lnTo>
                      <a:pt x="630" y="328"/>
                    </a:lnTo>
                    <a:lnTo>
                      <a:pt x="626" y="341"/>
                    </a:lnTo>
                    <a:lnTo>
                      <a:pt x="618" y="357"/>
                    </a:lnTo>
                    <a:lnTo>
                      <a:pt x="613" y="372"/>
                    </a:lnTo>
                    <a:lnTo>
                      <a:pt x="607" y="387"/>
                    </a:lnTo>
                    <a:lnTo>
                      <a:pt x="599" y="405"/>
                    </a:lnTo>
                    <a:lnTo>
                      <a:pt x="593" y="422"/>
                    </a:lnTo>
                    <a:lnTo>
                      <a:pt x="586" y="439"/>
                    </a:lnTo>
                    <a:lnTo>
                      <a:pt x="578" y="458"/>
                    </a:lnTo>
                    <a:lnTo>
                      <a:pt x="570" y="478"/>
                    </a:lnTo>
                    <a:lnTo>
                      <a:pt x="563" y="497"/>
                    </a:lnTo>
                    <a:lnTo>
                      <a:pt x="555" y="51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Freeform 60"/>
              <p:cNvSpPr/>
              <p:nvPr/>
            </p:nvSpPr>
            <p:spPr>
              <a:xfrm>
                <a:off x="6849720" y="1525680"/>
                <a:ext cx="322200" cy="2818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581" h="507">
                    <a:moveTo>
                      <a:pt x="418" y="369"/>
                    </a:moveTo>
                    <a:lnTo>
                      <a:pt x="408" y="386"/>
                    </a:lnTo>
                    <a:lnTo>
                      <a:pt x="401" y="403"/>
                    </a:lnTo>
                    <a:lnTo>
                      <a:pt x="393" y="421"/>
                    </a:lnTo>
                    <a:lnTo>
                      <a:pt x="385" y="436"/>
                    </a:lnTo>
                    <a:lnTo>
                      <a:pt x="378" y="448"/>
                    </a:lnTo>
                    <a:lnTo>
                      <a:pt x="372" y="461"/>
                    </a:lnTo>
                    <a:lnTo>
                      <a:pt x="364" y="471"/>
                    </a:lnTo>
                    <a:lnTo>
                      <a:pt x="358" y="480"/>
                    </a:lnTo>
                    <a:lnTo>
                      <a:pt x="353" y="488"/>
                    </a:lnTo>
                    <a:lnTo>
                      <a:pt x="347" y="496"/>
                    </a:lnTo>
                    <a:lnTo>
                      <a:pt x="343" y="499"/>
                    </a:lnTo>
                    <a:lnTo>
                      <a:pt x="337" y="503"/>
                    </a:lnTo>
                    <a:lnTo>
                      <a:pt x="334" y="507"/>
                    </a:lnTo>
                    <a:lnTo>
                      <a:pt x="332" y="507"/>
                    </a:lnTo>
                    <a:lnTo>
                      <a:pt x="328" y="507"/>
                    </a:lnTo>
                    <a:lnTo>
                      <a:pt x="326" y="507"/>
                    </a:lnTo>
                    <a:lnTo>
                      <a:pt x="324" y="503"/>
                    </a:lnTo>
                    <a:lnTo>
                      <a:pt x="320" y="499"/>
                    </a:lnTo>
                    <a:lnTo>
                      <a:pt x="318" y="496"/>
                    </a:lnTo>
                    <a:lnTo>
                      <a:pt x="318" y="490"/>
                    </a:lnTo>
                    <a:lnTo>
                      <a:pt x="316" y="482"/>
                    </a:lnTo>
                    <a:lnTo>
                      <a:pt x="316" y="474"/>
                    </a:lnTo>
                    <a:lnTo>
                      <a:pt x="318" y="465"/>
                    </a:lnTo>
                    <a:lnTo>
                      <a:pt x="318" y="455"/>
                    </a:lnTo>
                    <a:lnTo>
                      <a:pt x="320" y="444"/>
                    </a:lnTo>
                    <a:lnTo>
                      <a:pt x="322" y="430"/>
                    </a:lnTo>
                    <a:lnTo>
                      <a:pt x="324" y="417"/>
                    </a:lnTo>
                    <a:lnTo>
                      <a:pt x="328" y="403"/>
                    </a:lnTo>
                    <a:lnTo>
                      <a:pt x="332" y="386"/>
                    </a:lnTo>
                    <a:lnTo>
                      <a:pt x="335" y="371"/>
                    </a:lnTo>
                    <a:lnTo>
                      <a:pt x="339" y="352"/>
                    </a:lnTo>
                    <a:lnTo>
                      <a:pt x="345" y="334"/>
                    </a:lnTo>
                    <a:lnTo>
                      <a:pt x="349" y="315"/>
                    </a:lnTo>
                    <a:lnTo>
                      <a:pt x="355" y="296"/>
                    </a:lnTo>
                    <a:lnTo>
                      <a:pt x="358" y="281"/>
                    </a:lnTo>
                    <a:lnTo>
                      <a:pt x="362" y="265"/>
                    </a:lnTo>
                    <a:lnTo>
                      <a:pt x="366" y="250"/>
                    </a:lnTo>
                    <a:lnTo>
                      <a:pt x="370" y="236"/>
                    </a:lnTo>
                    <a:lnTo>
                      <a:pt x="374" y="223"/>
                    </a:lnTo>
                    <a:lnTo>
                      <a:pt x="376" y="213"/>
                    </a:lnTo>
                    <a:lnTo>
                      <a:pt x="378" y="202"/>
                    </a:lnTo>
                    <a:lnTo>
                      <a:pt x="380" y="192"/>
                    </a:lnTo>
                    <a:lnTo>
                      <a:pt x="381" y="185"/>
                    </a:lnTo>
                    <a:lnTo>
                      <a:pt x="383" y="179"/>
                    </a:lnTo>
                    <a:lnTo>
                      <a:pt x="383" y="171"/>
                    </a:lnTo>
                    <a:lnTo>
                      <a:pt x="383" y="167"/>
                    </a:lnTo>
                    <a:lnTo>
                      <a:pt x="381" y="164"/>
                    </a:lnTo>
                    <a:lnTo>
                      <a:pt x="381" y="162"/>
                    </a:lnTo>
                    <a:lnTo>
                      <a:pt x="380" y="160"/>
                    </a:lnTo>
                    <a:lnTo>
                      <a:pt x="376" y="158"/>
                    </a:lnTo>
                    <a:lnTo>
                      <a:pt x="374" y="156"/>
                    </a:lnTo>
                    <a:lnTo>
                      <a:pt x="370" y="156"/>
                    </a:lnTo>
                    <a:lnTo>
                      <a:pt x="364" y="156"/>
                    </a:lnTo>
                    <a:lnTo>
                      <a:pt x="360" y="156"/>
                    </a:lnTo>
                    <a:lnTo>
                      <a:pt x="349" y="160"/>
                    </a:lnTo>
                    <a:lnTo>
                      <a:pt x="335" y="164"/>
                    </a:lnTo>
                    <a:lnTo>
                      <a:pt x="322" y="169"/>
                    </a:lnTo>
                    <a:lnTo>
                      <a:pt x="307" y="175"/>
                    </a:lnTo>
                    <a:lnTo>
                      <a:pt x="289" y="185"/>
                    </a:lnTo>
                    <a:lnTo>
                      <a:pt x="282" y="188"/>
                    </a:lnTo>
                    <a:lnTo>
                      <a:pt x="270" y="192"/>
                    </a:lnTo>
                    <a:lnTo>
                      <a:pt x="259" y="196"/>
                    </a:lnTo>
                    <a:lnTo>
                      <a:pt x="245" y="200"/>
                    </a:lnTo>
                    <a:lnTo>
                      <a:pt x="232" y="202"/>
                    </a:lnTo>
                    <a:lnTo>
                      <a:pt x="216" y="206"/>
                    </a:lnTo>
                    <a:lnTo>
                      <a:pt x="199" y="208"/>
                    </a:lnTo>
                    <a:lnTo>
                      <a:pt x="182" y="210"/>
                    </a:lnTo>
                    <a:lnTo>
                      <a:pt x="163" y="212"/>
                    </a:lnTo>
                    <a:lnTo>
                      <a:pt x="144" y="213"/>
                    </a:lnTo>
                    <a:lnTo>
                      <a:pt x="122" y="215"/>
                    </a:lnTo>
                    <a:lnTo>
                      <a:pt x="99" y="215"/>
                    </a:lnTo>
                    <a:lnTo>
                      <a:pt x="76" y="217"/>
                    </a:lnTo>
                    <a:lnTo>
                      <a:pt x="51" y="217"/>
                    </a:lnTo>
                    <a:lnTo>
                      <a:pt x="26" y="217"/>
                    </a:lnTo>
                    <a:lnTo>
                      <a:pt x="0" y="219"/>
                    </a:lnTo>
                    <a:lnTo>
                      <a:pt x="0" y="150"/>
                    </a:lnTo>
                    <a:lnTo>
                      <a:pt x="19" y="148"/>
                    </a:lnTo>
                    <a:lnTo>
                      <a:pt x="36" y="148"/>
                    </a:lnTo>
                    <a:lnTo>
                      <a:pt x="53" y="148"/>
                    </a:lnTo>
                    <a:lnTo>
                      <a:pt x="71" y="146"/>
                    </a:lnTo>
                    <a:lnTo>
                      <a:pt x="86" y="146"/>
                    </a:lnTo>
                    <a:lnTo>
                      <a:pt x="101" y="144"/>
                    </a:lnTo>
                    <a:lnTo>
                      <a:pt x="117" y="142"/>
                    </a:lnTo>
                    <a:lnTo>
                      <a:pt x="132" y="139"/>
                    </a:lnTo>
                    <a:lnTo>
                      <a:pt x="159" y="133"/>
                    </a:lnTo>
                    <a:lnTo>
                      <a:pt x="172" y="129"/>
                    </a:lnTo>
                    <a:lnTo>
                      <a:pt x="186" y="125"/>
                    </a:lnTo>
                    <a:lnTo>
                      <a:pt x="199" y="121"/>
                    </a:lnTo>
                    <a:lnTo>
                      <a:pt x="211" y="116"/>
                    </a:lnTo>
                    <a:lnTo>
                      <a:pt x="224" y="110"/>
                    </a:lnTo>
                    <a:lnTo>
                      <a:pt x="236" y="104"/>
                    </a:lnTo>
                    <a:lnTo>
                      <a:pt x="255" y="94"/>
                    </a:lnTo>
                    <a:lnTo>
                      <a:pt x="274" y="85"/>
                    </a:lnTo>
                    <a:lnTo>
                      <a:pt x="289" y="77"/>
                    </a:lnTo>
                    <a:lnTo>
                      <a:pt x="305" y="70"/>
                    </a:lnTo>
                    <a:lnTo>
                      <a:pt x="318" y="60"/>
                    </a:lnTo>
                    <a:lnTo>
                      <a:pt x="332" y="52"/>
                    </a:lnTo>
                    <a:lnTo>
                      <a:pt x="343" y="43"/>
                    </a:lnTo>
                    <a:lnTo>
                      <a:pt x="353" y="35"/>
                    </a:lnTo>
                    <a:lnTo>
                      <a:pt x="362" y="25"/>
                    </a:lnTo>
                    <a:lnTo>
                      <a:pt x="372" y="20"/>
                    </a:lnTo>
                    <a:lnTo>
                      <a:pt x="381" y="12"/>
                    </a:lnTo>
                    <a:lnTo>
                      <a:pt x="389" y="8"/>
                    </a:lnTo>
                    <a:lnTo>
                      <a:pt x="397" y="4"/>
                    </a:lnTo>
                    <a:lnTo>
                      <a:pt x="403" y="2"/>
                    </a:lnTo>
                    <a:lnTo>
                      <a:pt x="410" y="0"/>
                    </a:lnTo>
                    <a:lnTo>
                      <a:pt x="418" y="0"/>
                    </a:lnTo>
                    <a:lnTo>
                      <a:pt x="420" y="0"/>
                    </a:lnTo>
                    <a:lnTo>
                      <a:pt x="422" y="0"/>
                    </a:lnTo>
                    <a:lnTo>
                      <a:pt x="426" y="2"/>
                    </a:lnTo>
                    <a:lnTo>
                      <a:pt x="429" y="4"/>
                    </a:lnTo>
                    <a:lnTo>
                      <a:pt x="433" y="6"/>
                    </a:lnTo>
                    <a:lnTo>
                      <a:pt x="437" y="8"/>
                    </a:lnTo>
                    <a:lnTo>
                      <a:pt x="449" y="16"/>
                    </a:lnTo>
                    <a:lnTo>
                      <a:pt x="462" y="23"/>
                    </a:lnTo>
                    <a:lnTo>
                      <a:pt x="476" y="33"/>
                    </a:lnTo>
                    <a:lnTo>
                      <a:pt x="491" y="45"/>
                    </a:lnTo>
                    <a:lnTo>
                      <a:pt x="508" y="58"/>
                    </a:lnTo>
                    <a:lnTo>
                      <a:pt x="524" y="73"/>
                    </a:lnTo>
                    <a:lnTo>
                      <a:pt x="539" y="89"/>
                    </a:lnTo>
                    <a:lnTo>
                      <a:pt x="545" y="96"/>
                    </a:lnTo>
                    <a:lnTo>
                      <a:pt x="550" y="104"/>
                    </a:lnTo>
                    <a:lnTo>
                      <a:pt x="556" y="110"/>
                    </a:lnTo>
                    <a:lnTo>
                      <a:pt x="560" y="116"/>
                    </a:lnTo>
                    <a:lnTo>
                      <a:pt x="566" y="121"/>
                    </a:lnTo>
                    <a:lnTo>
                      <a:pt x="570" y="127"/>
                    </a:lnTo>
                    <a:lnTo>
                      <a:pt x="571" y="133"/>
                    </a:lnTo>
                    <a:lnTo>
                      <a:pt x="575" y="137"/>
                    </a:lnTo>
                    <a:lnTo>
                      <a:pt x="577" y="141"/>
                    </a:lnTo>
                    <a:lnTo>
                      <a:pt x="579" y="144"/>
                    </a:lnTo>
                    <a:lnTo>
                      <a:pt x="579" y="146"/>
                    </a:lnTo>
                    <a:lnTo>
                      <a:pt x="581" y="150"/>
                    </a:lnTo>
                    <a:lnTo>
                      <a:pt x="579" y="154"/>
                    </a:lnTo>
                    <a:lnTo>
                      <a:pt x="579" y="160"/>
                    </a:lnTo>
                    <a:lnTo>
                      <a:pt x="575" y="165"/>
                    </a:lnTo>
                    <a:lnTo>
                      <a:pt x="571" y="173"/>
                    </a:lnTo>
                    <a:lnTo>
                      <a:pt x="568" y="179"/>
                    </a:lnTo>
                    <a:lnTo>
                      <a:pt x="562" y="185"/>
                    </a:lnTo>
                    <a:lnTo>
                      <a:pt x="554" y="190"/>
                    </a:lnTo>
                    <a:lnTo>
                      <a:pt x="545" y="196"/>
                    </a:lnTo>
                    <a:lnTo>
                      <a:pt x="539" y="198"/>
                    </a:lnTo>
                    <a:lnTo>
                      <a:pt x="533" y="202"/>
                    </a:lnTo>
                    <a:lnTo>
                      <a:pt x="527" y="206"/>
                    </a:lnTo>
                    <a:lnTo>
                      <a:pt x="520" y="213"/>
                    </a:lnTo>
                    <a:lnTo>
                      <a:pt x="514" y="219"/>
                    </a:lnTo>
                    <a:lnTo>
                      <a:pt x="506" y="227"/>
                    </a:lnTo>
                    <a:lnTo>
                      <a:pt x="499" y="236"/>
                    </a:lnTo>
                    <a:lnTo>
                      <a:pt x="491" y="248"/>
                    </a:lnTo>
                    <a:lnTo>
                      <a:pt x="481" y="258"/>
                    </a:lnTo>
                    <a:lnTo>
                      <a:pt x="474" y="271"/>
                    </a:lnTo>
                    <a:lnTo>
                      <a:pt x="464" y="284"/>
                    </a:lnTo>
                    <a:lnTo>
                      <a:pt x="456" y="298"/>
                    </a:lnTo>
                    <a:lnTo>
                      <a:pt x="447" y="315"/>
                    </a:lnTo>
                    <a:lnTo>
                      <a:pt x="437" y="331"/>
                    </a:lnTo>
                    <a:lnTo>
                      <a:pt x="428" y="350"/>
                    </a:lnTo>
                    <a:lnTo>
                      <a:pt x="418" y="36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6" name="Freeform 63"/>
          <p:cNvSpPr/>
          <p:nvPr/>
        </p:nvSpPr>
        <p:spPr>
          <a:xfrm>
            <a:off x="2527200" y="2660760"/>
            <a:ext cx="459000" cy="1442880"/>
          </a:xfrm>
          <a:custGeom>
            <a:avLst/>
            <a:gdLst>
              <a:gd name="textAreaLeft" fmla="*/ 0 w 459000"/>
              <a:gd name="textAreaRight" fmla="*/ 459360 w 459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80" h="1817">
                <a:moveTo>
                  <a:pt x="273" y="1505"/>
                </a:moveTo>
                <a:lnTo>
                  <a:pt x="261" y="1524"/>
                </a:lnTo>
                <a:lnTo>
                  <a:pt x="250" y="1541"/>
                </a:lnTo>
                <a:lnTo>
                  <a:pt x="238" y="1560"/>
                </a:lnTo>
                <a:lnTo>
                  <a:pt x="227" y="1578"/>
                </a:lnTo>
                <a:lnTo>
                  <a:pt x="215" y="1595"/>
                </a:lnTo>
                <a:lnTo>
                  <a:pt x="204" y="1610"/>
                </a:lnTo>
                <a:lnTo>
                  <a:pt x="192" y="1627"/>
                </a:lnTo>
                <a:lnTo>
                  <a:pt x="181" y="1643"/>
                </a:lnTo>
                <a:lnTo>
                  <a:pt x="171" y="1656"/>
                </a:lnTo>
                <a:lnTo>
                  <a:pt x="159" y="1672"/>
                </a:lnTo>
                <a:lnTo>
                  <a:pt x="148" y="1685"/>
                </a:lnTo>
                <a:lnTo>
                  <a:pt x="136" y="1698"/>
                </a:lnTo>
                <a:lnTo>
                  <a:pt x="125" y="1710"/>
                </a:lnTo>
                <a:lnTo>
                  <a:pt x="113" y="1723"/>
                </a:lnTo>
                <a:lnTo>
                  <a:pt x="102" y="1735"/>
                </a:lnTo>
                <a:lnTo>
                  <a:pt x="90" y="1746"/>
                </a:lnTo>
                <a:lnTo>
                  <a:pt x="79" y="1756"/>
                </a:lnTo>
                <a:lnTo>
                  <a:pt x="69" y="1766"/>
                </a:lnTo>
                <a:lnTo>
                  <a:pt x="60" y="1775"/>
                </a:lnTo>
                <a:lnTo>
                  <a:pt x="50" y="1783"/>
                </a:lnTo>
                <a:lnTo>
                  <a:pt x="42" y="1791"/>
                </a:lnTo>
                <a:lnTo>
                  <a:pt x="35" y="1796"/>
                </a:lnTo>
                <a:lnTo>
                  <a:pt x="27" y="1802"/>
                </a:lnTo>
                <a:lnTo>
                  <a:pt x="21" y="1806"/>
                </a:lnTo>
                <a:lnTo>
                  <a:pt x="17" y="1810"/>
                </a:lnTo>
                <a:lnTo>
                  <a:pt x="12" y="1814"/>
                </a:lnTo>
                <a:lnTo>
                  <a:pt x="8" y="1816"/>
                </a:lnTo>
                <a:lnTo>
                  <a:pt x="6" y="1817"/>
                </a:lnTo>
                <a:lnTo>
                  <a:pt x="2" y="1817"/>
                </a:lnTo>
                <a:lnTo>
                  <a:pt x="0" y="1816"/>
                </a:lnTo>
                <a:lnTo>
                  <a:pt x="0" y="1810"/>
                </a:lnTo>
                <a:lnTo>
                  <a:pt x="2" y="1804"/>
                </a:lnTo>
                <a:lnTo>
                  <a:pt x="4" y="1796"/>
                </a:lnTo>
                <a:lnTo>
                  <a:pt x="8" y="1789"/>
                </a:lnTo>
                <a:lnTo>
                  <a:pt x="12" y="1779"/>
                </a:lnTo>
                <a:lnTo>
                  <a:pt x="15" y="1769"/>
                </a:lnTo>
                <a:lnTo>
                  <a:pt x="21" y="1758"/>
                </a:lnTo>
                <a:lnTo>
                  <a:pt x="29" y="1746"/>
                </a:lnTo>
                <a:lnTo>
                  <a:pt x="37" y="1733"/>
                </a:lnTo>
                <a:lnTo>
                  <a:pt x="44" y="1718"/>
                </a:lnTo>
                <a:lnTo>
                  <a:pt x="54" y="1702"/>
                </a:lnTo>
                <a:lnTo>
                  <a:pt x="65" y="1685"/>
                </a:lnTo>
                <a:lnTo>
                  <a:pt x="77" y="1668"/>
                </a:lnTo>
                <a:lnTo>
                  <a:pt x="90" y="1649"/>
                </a:lnTo>
                <a:lnTo>
                  <a:pt x="104" y="1629"/>
                </a:lnTo>
                <a:lnTo>
                  <a:pt x="117" y="1608"/>
                </a:lnTo>
                <a:lnTo>
                  <a:pt x="131" y="1587"/>
                </a:lnTo>
                <a:lnTo>
                  <a:pt x="144" y="1566"/>
                </a:lnTo>
                <a:lnTo>
                  <a:pt x="157" y="1543"/>
                </a:lnTo>
                <a:lnTo>
                  <a:pt x="171" y="1520"/>
                </a:lnTo>
                <a:lnTo>
                  <a:pt x="182" y="1497"/>
                </a:lnTo>
                <a:lnTo>
                  <a:pt x="196" y="1472"/>
                </a:lnTo>
                <a:lnTo>
                  <a:pt x="209" y="1445"/>
                </a:lnTo>
                <a:lnTo>
                  <a:pt x="221" y="1416"/>
                </a:lnTo>
                <a:lnTo>
                  <a:pt x="234" y="1390"/>
                </a:lnTo>
                <a:lnTo>
                  <a:pt x="246" y="1359"/>
                </a:lnTo>
                <a:lnTo>
                  <a:pt x="257" y="1328"/>
                </a:lnTo>
                <a:lnTo>
                  <a:pt x="271" y="1297"/>
                </a:lnTo>
                <a:lnTo>
                  <a:pt x="282" y="1263"/>
                </a:lnTo>
                <a:lnTo>
                  <a:pt x="294" y="1230"/>
                </a:lnTo>
                <a:lnTo>
                  <a:pt x="305" y="1194"/>
                </a:lnTo>
                <a:lnTo>
                  <a:pt x="317" y="1159"/>
                </a:lnTo>
                <a:lnTo>
                  <a:pt x="328" y="1123"/>
                </a:lnTo>
                <a:lnTo>
                  <a:pt x="340" y="1088"/>
                </a:lnTo>
                <a:lnTo>
                  <a:pt x="349" y="1052"/>
                </a:lnTo>
                <a:lnTo>
                  <a:pt x="359" y="1015"/>
                </a:lnTo>
                <a:lnTo>
                  <a:pt x="369" y="979"/>
                </a:lnTo>
                <a:lnTo>
                  <a:pt x="378" y="940"/>
                </a:lnTo>
                <a:lnTo>
                  <a:pt x="386" y="902"/>
                </a:lnTo>
                <a:lnTo>
                  <a:pt x="394" y="864"/>
                </a:lnTo>
                <a:lnTo>
                  <a:pt x="399" y="823"/>
                </a:lnTo>
                <a:lnTo>
                  <a:pt x="407" y="783"/>
                </a:lnTo>
                <a:lnTo>
                  <a:pt x="413" y="743"/>
                </a:lnTo>
                <a:lnTo>
                  <a:pt x="418" y="701"/>
                </a:lnTo>
                <a:lnTo>
                  <a:pt x="422" y="658"/>
                </a:lnTo>
                <a:lnTo>
                  <a:pt x="428" y="614"/>
                </a:lnTo>
                <a:lnTo>
                  <a:pt x="432" y="570"/>
                </a:lnTo>
                <a:lnTo>
                  <a:pt x="436" y="526"/>
                </a:lnTo>
                <a:lnTo>
                  <a:pt x="436" y="503"/>
                </a:lnTo>
                <a:lnTo>
                  <a:pt x="438" y="484"/>
                </a:lnTo>
                <a:lnTo>
                  <a:pt x="440" y="463"/>
                </a:lnTo>
                <a:lnTo>
                  <a:pt x="441" y="443"/>
                </a:lnTo>
                <a:lnTo>
                  <a:pt x="441" y="424"/>
                </a:lnTo>
                <a:lnTo>
                  <a:pt x="443" y="405"/>
                </a:lnTo>
                <a:lnTo>
                  <a:pt x="443" y="388"/>
                </a:lnTo>
                <a:lnTo>
                  <a:pt x="445" y="369"/>
                </a:lnTo>
                <a:lnTo>
                  <a:pt x="445" y="353"/>
                </a:lnTo>
                <a:lnTo>
                  <a:pt x="447" y="336"/>
                </a:lnTo>
                <a:lnTo>
                  <a:pt x="447" y="321"/>
                </a:lnTo>
                <a:lnTo>
                  <a:pt x="447" y="303"/>
                </a:lnTo>
                <a:lnTo>
                  <a:pt x="447" y="290"/>
                </a:lnTo>
                <a:lnTo>
                  <a:pt x="447" y="275"/>
                </a:lnTo>
                <a:lnTo>
                  <a:pt x="449" y="261"/>
                </a:lnTo>
                <a:lnTo>
                  <a:pt x="449" y="248"/>
                </a:lnTo>
                <a:lnTo>
                  <a:pt x="449" y="234"/>
                </a:lnTo>
                <a:lnTo>
                  <a:pt x="447" y="223"/>
                </a:lnTo>
                <a:lnTo>
                  <a:pt x="447" y="209"/>
                </a:lnTo>
                <a:lnTo>
                  <a:pt x="447" y="198"/>
                </a:lnTo>
                <a:lnTo>
                  <a:pt x="447" y="188"/>
                </a:lnTo>
                <a:lnTo>
                  <a:pt x="447" y="177"/>
                </a:lnTo>
                <a:lnTo>
                  <a:pt x="445" y="167"/>
                </a:lnTo>
                <a:lnTo>
                  <a:pt x="445" y="158"/>
                </a:lnTo>
                <a:lnTo>
                  <a:pt x="443" y="148"/>
                </a:lnTo>
                <a:lnTo>
                  <a:pt x="443" y="140"/>
                </a:lnTo>
                <a:lnTo>
                  <a:pt x="441" y="133"/>
                </a:lnTo>
                <a:lnTo>
                  <a:pt x="441" y="125"/>
                </a:lnTo>
                <a:lnTo>
                  <a:pt x="438" y="111"/>
                </a:lnTo>
                <a:lnTo>
                  <a:pt x="436" y="100"/>
                </a:lnTo>
                <a:lnTo>
                  <a:pt x="430" y="83"/>
                </a:lnTo>
                <a:lnTo>
                  <a:pt x="424" y="67"/>
                </a:lnTo>
                <a:lnTo>
                  <a:pt x="424" y="60"/>
                </a:lnTo>
                <a:lnTo>
                  <a:pt x="422" y="52"/>
                </a:lnTo>
                <a:lnTo>
                  <a:pt x="422" y="46"/>
                </a:lnTo>
                <a:lnTo>
                  <a:pt x="422" y="40"/>
                </a:lnTo>
                <a:lnTo>
                  <a:pt x="424" y="35"/>
                </a:lnTo>
                <a:lnTo>
                  <a:pt x="424" y="29"/>
                </a:lnTo>
                <a:lnTo>
                  <a:pt x="426" y="25"/>
                </a:lnTo>
                <a:lnTo>
                  <a:pt x="428" y="19"/>
                </a:lnTo>
                <a:lnTo>
                  <a:pt x="432" y="16"/>
                </a:lnTo>
                <a:lnTo>
                  <a:pt x="436" y="12"/>
                </a:lnTo>
                <a:lnTo>
                  <a:pt x="440" y="10"/>
                </a:lnTo>
                <a:lnTo>
                  <a:pt x="443" y="8"/>
                </a:lnTo>
                <a:lnTo>
                  <a:pt x="447" y="4"/>
                </a:lnTo>
                <a:lnTo>
                  <a:pt x="453" y="4"/>
                </a:lnTo>
                <a:lnTo>
                  <a:pt x="457" y="2"/>
                </a:lnTo>
                <a:lnTo>
                  <a:pt x="463" y="0"/>
                </a:lnTo>
                <a:lnTo>
                  <a:pt x="468" y="0"/>
                </a:lnTo>
                <a:lnTo>
                  <a:pt x="476" y="0"/>
                </a:lnTo>
                <a:lnTo>
                  <a:pt x="484" y="0"/>
                </a:lnTo>
                <a:lnTo>
                  <a:pt x="491" y="0"/>
                </a:lnTo>
                <a:lnTo>
                  <a:pt x="501" y="2"/>
                </a:lnTo>
                <a:lnTo>
                  <a:pt x="511" y="4"/>
                </a:lnTo>
                <a:lnTo>
                  <a:pt x="520" y="6"/>
                </a:lnTo>
                <a:lnTo>
                  <a:pt x="532" y="10"/>
                </a:lnTo>
                <a:lnTo>
                  <a:pt x="543" y="14"/>
                </a:lnTo>
                <a:lnTo>
                  <a:pt x="555" y="19"/>
                </a:lnTo>
                <a:lnTo>
                  <a:pt x="566" y="23"/>
                </a:lnTo>
                <a:lnTo>
                  <a:pt x="580" y="31"/>
                </a:lnTo>
                <a:lnTo>
                  <a:pt x="580" y="100"/>
                </a:lnTo>
                <a:lnTo>
                  <a:pt x="578" y="171"/>
                </a:lnTo>
                <a:lnTo>
                  <a:pt x="576" y="242"/>
                </a:lnTo>
                <a:lnTo>
                  <a:pt x="574" y="313"/>
                </a:lnTo>
                <a:lnTo>
                  <a:pt x="570" y="386"/>
                </a:lnTo>
                <a:lnTo>
                  <a:pt x="564" y="459"/>
                </a:lnTo>
                <a:lnTo>
                  <a:pt x="559" y="532"/>
                </a:lnTo>
                <a:lnTo>
                  <a:pt x="553" y="607"/>
                </a:lnTo>
                <a:lnTo>
                  <a:pt x="547" y="643"/>
                </a:lnTo>
                <a:lnTo>
                  <a:pt x="543" y="678"/>
                </a:lnTo>
                <a:lnTo>
                  <a:pt x="537" y="714"/>
                </a:lnTo>
                <a:lnTo>
                  <a:pt x="532" y="749"/>
                </a:lnTo>
                <a:lnTo>
                  <a:pt x="524" y="783"/>
                </a:lnTo>
                <a:lnTo>
                  <a:pt x="518" y="816"/>
                </a:lnTo>
                <a:lnTo>
                  <a:pt x="513" y="850"/>
                </a:lnTo>
                <a:lnTo>
                  <a:pt x="505" y="883"/>
                </a:lnTo>
                <a:lnTo>
                  <a:pt x="499" y="914"/>
                </a:lnTo>
                <a:lnTo>
                  <a:pt x="491" y="946"/>
                </a:lnTo>
                <a:lnTo>
                  <a:pt x="484" y="977"/>
                </a:lnTo>
                <a:lnTo>
                  <a:pt x="476" y="1008"/>
                </a:lnTo>
                <a:lnTo>
                  <a:pt x="468" y="1036"/>
                </a:lnTo>
                <a:lnTo>
                  <a:pt x="461" y="1067"/>
                </a:lnTo>
                <a:lnTo>
                  <a:pt x="453" y="1096"/>
                </a:lnTo>
                <a:lnTo>
                  <a:pt x="443" y="1125"/>
                </a:lnTo>
                <a:lnTo>
                  <a:pt x="436" y="1152"/>
                </a:lnTo>
                <a:lnTo>
                  <a:pt x="426" y="1178"/>
                </a:lnTo>
                <a:lnTo>
                  <a:pt x="417" y="1205"/>
                </a:lnTo>
                <a:lnTo>
                  <a:pt x="407" y="1232"/>
                </a:lnTo>
                <a:lnTo>
                  <a:pt x="397" y="1257"/>
                </a:lnTo>
                <a:lnTo>
                  <a:pt x="386" y="1282"/>
                </a:lnTo>
                <a:lnTo>
                  <a:pt x="376" y="1307"/>
                </a:lnTo>
                <a:lnTo>
                  <a:pt x="365" y="1330"/>
                </a:lnTo>
                <a:lnTo>
                  <a:pt x="353" y="1355"/>
                </a:lnTo>
                <a:lnTo>
                  <a:pt x="342" y="1378"/>
                </a:lnTo>
                <a:lnTo>
                  <a:pt x="330" y="1399"/>
                </a:lnTo>
                <a:lnTo>
                  <a:pt x="319" y="1422"/>
                </a:lnTo>
                <a:lnTo>
                  <a:pt x="307" y="1443"/>
                </a:lnTo>
                <a:lnTo>
                  <a:pt x="296" y="1464"/>
                </a:lnTo>
                <a:lnTo>
                  <a:pt x="284" y="1484"/>
                </a:lnTo>
                <a:lnTo>
                  <a:pt x="273" y="150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Freeform 64"/>
          <p:cNvSpPr/>
          <p:nvPr/>
        </p:nvSpPr>
        <p:spPr>
          <a:xfrm>
            <a:off x="2930400" y="2401920"/>
            <a:ext cx="513000" cy="347760"/>
          </a:xfrm>
          <a:custGeom>
            <a:avLst/>
            <a:gdLst>
              <a:gd name="textAreaLeft" fmla="*/ 0 w 513000"/>
              <a:gd name="textAreaRight" fmla="*/ 513360 w 51300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646" h="437">
                <a:moveTo>
                  <a:pt x="17" y="437"/>
                </a:moveTo>
                <a:lnTo>
                  <a:pt x="7" y="414"/>
                </a:lnTo>
                <a:lnTo>
                  <a:pt x="0" y="391"/>
                </a:lnTo>
                <a:lnTo>
                  <a:pt x="19" y="380"/>
                </a:lnTo>
                <a:lnTo>
                  <a:pt x="38" y="368"/>
                </a:lnTo>
                <a:lnTo>
                  <a:pt x="57" y="359"/>
                </a:lnTo>
                <a:lnTo>
                  <a:pt x="76" y="349"/>
                </a:lnTo>
                <a:lnTo>
                  <a:pt x="94" y="338"/>
                </a:lnTo>
                <a:lnTo>
                  <a:pt x="111" y="328"/>
                </a:lnTo>
                <a:lnTo>
                  <a:pt x="128" y="318"/>
                </a:lnTo>
                <a:lnTo>
                  <a:pt x="146" y="311"/>
                </a:lnTo>
                <a:lnTo>
                  <a:pt x="161" y="301"/>
                </a:lnTo>
                <a:lnTo>
                  <a:pt x="176" y="292"/>
                </a:lnTo>
                <a:lnTo>
                  <a:pt x="192" y="284"/>
                </a:lnTo>
                <a:lnTo>
                  <a:pt x="205" y="276"/>
                </a:lnTo>
                <a:lnTo>
                  <a:pt x="218" y="267"/>
                </a:lnTo>
                <a:lnTo>
                  <a:pt x="232" y="259"/>
                </a:lnTo>
                <a:lnTo>
                  <a:pt x="245" y="251"/>
                </a:lnTo>
                <a:lnTo>
                  <a:pt x="259" y="246"/>
                </a:lnTo>
                <a:lnTo>
                  <a:pt x="270" y="238"/>
                </a:lnTo>
                <a:lnTo>
                  <a:pt x="282" y="230"/>
                </a:lnTo>
                <a:lnTo>
                  <a:pt x="291" y="224"/>
                </a:lnTo>
                <a:lnTo>
                  <a:pt x="303" y="217"/>
                </a:lnTo>
                <a:lnTo>
                  <a:pt x="312" y="211"/>
                </a:lnTo>
                <a:lnTo>
                  <a:pt x="322" y="205"/>
                </a:lnTo>
                <a:lnTo>
                  <a:pt x="330" y="200"/>
                </a:lnTo>
                <a:lnTo>
                  <a:pt x="339" y="194"/>
                </a:lnTo>
                <a:lnTo>
                  <a:pt x="347" y="190"/>
                </a:lnTo>
                <a:lnTo>
                  <a:pt x="355" y="184"/>
                </a:lnTo>
                <a:lnTo>
                  <a:pt x="360" y="180"/>
                </a:lnTo>
                <a:lnTo>
                  <a:pt x="368" y="175"/>
                </a:lnTo>
                <a:lnTo>
                  <a:pt x="374" y="171"/>
                </a:lnTo>
                <a:lnTo>
                  <a:pt x="380" y="167"/>
                </a:lnTo>
                <a:lnTo>
                  <a:pt x="383" y="163"/>
                </a:lnTo>
                <a:lnTo>
                  <a:pt x="389" y="161"/>
                </a:lnTo>
                <a:lnTo>
                  <a:pt x="397" y="153"/>
                </a:lnTo>
                <a:lnTo>
                  <a:pt x="405" y="146"/>
                </a:lnTo>
                <a:lnTo>
                  <a:pt x="410" y="140"/>
                </a:lnTo>
                <a:lnTo>
                  <a:pt x="418" y="132"/>
                </a:lnTo>
                <a:lnTo>
                  <a:pt x="424" y="125"/>
                </a:lnTo>
                <a:lnTo>
                  <a:pt x="428" y="117"/>
                </a:lnTo>
                <a:lnTo>
                  <a:pt x="433" y="109"/>
                </a:lnTo>
                <a:lnTo>
                  <a:pt x="437" y="102"/>
                </a:lnTo>
                <a:lnTo>
                  <a:pt x="441" y="96"/>
                </a:lnTo>
                <a:lnTo>
                  <a:pt x="443" y="88"/>
                </a:lnTo>
                <a:lnTo>
                  <a:pt x="447" y="81"/>
                </a:lnTo>
                <a:lnTo>
                  <a:pt x="449" y="73"/>
                </a:lnTo>
                <a:lnTo>
                  <a:pt x="451" y="59"/>
                </a:lnTo>
                <a:lnTo>
                  <a:pt x="453" y="46"/>
                </a:lnTo>
                <a:lnTo>
                  <a:pt x="451" y="38"/>
                </a:lnTo>
                <a:lnTo>
                  <a:pt x="449" y="33"/>
                </a:lnTo>
                <a:lnTo>
                  <a:pt x="449" y="29"/>
                </a:lnTo>
                <a:lnTo>
                  <a:pt x="449" y="23"/>
                </a:lnTo>
                <a:lnTo>
                  <a:pt x="449" y="15"/>
                </a:lnTo>
                <a:lnTo>
                  <a:pt x="451" y="10"/>
                </a:lnTo>
                <a:lnTo>
                  <a:pt x="454" y="4"/>
                </a:lnTo>
                <a:lnTo>
                  <a:pt x="458" y="2"/>
                </a:lnTo>
                <a:lnTo>
                  <a:pt x="464" y="0"/>
                </a:lnTo>
                <a:lnTo>
                  <a:pt x="470" y="0"/>
                </a:lnTo>
                <a:lnTo>
                  <a:pt x="478" y="0"/>
                </a:lnTo>
                <a:lnTo>
                  <a:pt x="485" y="2"/>
                </a:lnTo>
                <a:lnTo>
                  <a:pt x="495" y="4"/>
                </a:lnTo>
                <a:lnTo>
                  <a:pt x="504" y="10"/>
                </a:lnTo>
                <a:lnTo>
                  <a:pt x="518" y="15"/>
                </a:lnTo>
                <a:lnTo>
                  <a:pt x="529" y="23"/>
                </a:lnTo>
                <a:lnTo>
                  <a:pt x="537" y="29"/>
                </a:lnTo>
                <a:lnTo>
                  <a:pt x="545" y="33"/>
                </a:lnTo>
                <a:lnTo>
                  <a:pt x="552" y="38"/>
                </a:lnTo>
                <a:lnTo>
                  <a:pt x="560" y="46"/>
                </a:lnTo>
                <a:lnTo>
                  <a:pt x="577" y="57"/>
                </a:lnTo>
                <a:lnTo>
                  <a:pt x="591" y="71"/>
                </a:lnTo>
                <a:lnTo>
                  <a:pt x="604" y="84"/>
                </a:lnTo>
                <a:lnTo>
                  <a:pt x="616" y="96"/>
                </a:lnTo>
                <a:lnTo>
                  <a:pt x="625" y="107"/>
                </a:lnTo>
                <a:lnTo>
                  <a:pt x="633" y="119"/>
                </a:lnTo>
                <a:lnTo>
                  <a:pt x="639" y="128"/>
                </a:lnTo>
                <a:lnTo>
                  <a:pt x="643" y="138"/>
                </a:lnTo>
                <a:lnTo>
                  <a:pt x="644" y="150"/>
                </a:lnTo>
                <a:lnTo>
                  <a:pt x="646" y="161"/>
                </a:lnTo>
                <a:lnTo>
                  <a:pt x="646" y="171"/>
                </a:lnTo>
                <a:lnTo>
                  <a:pt x="644" y="180"/>
                </a:lnTo>
                <a:lnTo>
                  <a:pt x="643" y="188"/>
                </a:lnTo>
                <a:lnTo>
                  <a:pt x="641" y="196"/>
                </a:lnTo>
                <a:lnTo>
                  <a:pt x="637" y="201"/>
                </a:lnTo>
                <a:lnTo>
                  <a:pt x="633" y="207"/>
                </a:lnTo>
                <a:lnTo>
                  <a:pt x="629" y="209"/>
                </a:lnTo>
                <a:lnTo>
                  <a:pt x="623" y="211"/>
                </a:lnTo>
                <a:lnTo>
                  <a:pt x="618" y="215"/>
                </a:lnTo>
                <a:lnTo>
                  <a:pt x="610" y="219"/>
                </a:lnTo>
                <a:lnTo>
                  <a:pt x="600" y="223"/>
                </a:lnTo>
                <a:lnTo>
                  <a:pt x="591" y="228"/>
                </a:lnTo>
                <a:lnTo>
                  <a:pt x="577" y="234"/>
                </a:lnTo>
                <a:lnTo>
                  <a:pt x="566" y="240"/>
                </a:lnTo>
                <a:lnTo>
                  <a:pt x="550" y="246"/>
                </a:lnTo>
                <a:lnTo>
                  <a:pt x="535" y="251"/>
                </a:lnTo>
                <a:lnTo>
                  <a:pt x="518" y="259"/>
                </a:lnTo>
                <a:lnTo>
                  <a:pt x="501" y="267"/>
                </a:lnTo>
                <a:lnTo>
                  <a:pt x="481" y="274"/>
                </a:lnTo>
                <a:lnTo>
                  <a:pt x="460" y="282"/>
                </a:lnTo>
                <a:lnTo>
                  <a:pt x="439" y="290"/>
                </a:lnTo>
                <a:lnTo>
                  <a:pt x="416" y="299"/>
                </a:lnTo>
                <a:lnTo>
                  <a:pt x="364" y="320"/>
                </a:lnTo>
                <a:lnTo>
                  <a:pt x="314" y="340"/>
                </a:lnTo>
                <a:lnTo>
                  <a:pt x="266" y="359"/>
                </a:lnTo>
                <a:lnTo>
                  <a:pt x="217" y="376"/>
                </a:lnTo>
                <a:lnTo>
                  <a:pt x="167" y="393"/>
                </a:lnTo>
                <a:lnTo>
                  <a:pt x="117" y="409"/>
                </a:lnTo>
                <a:lnTo>
                  <a:pt x="67" y="422"/>
                </a:lnTo>
                <a:lnTo>
                  <a:pt x="17" y="43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Freeform 67"/>
          <p:cNvSpPr/>
          <p:nvPr/>
        </p:nvSpPr>
        <p:spPr>
          <a:xfrm>
            <a:off x="2271600" y="3100320"/>
            <a:ext cx="392400" cy="992160"/>
          </a:xfrm>
          <a:custGeom>
            <a:avLst/>
            <a:gdLst>
              <a:gd name="textAreaLeft" fmla="*/ 0 w 392400"/>
              <a:gd name="textAreaRight" fmla="*/ 392760 w 39240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493" h="1249">
                <a:moveTo>
                  <a:pt x="94" y="98"/>
                </a:moveTo>
                <a:lnTo>
                  <a:pt x="88" y="84"/>
                </a:lnTo>
                <a:lnTo>
                  <a:pt x="82" y="73"/>
                </a:lnTo>
                <a:lnTo>
                  <a:pt x="76" y="63"/>
                </a:lnTo>
                <a:lnTo>
                  <a:pt x="74" y="52"/>
                </a:lnTo>
                <a:lnTo>
                  <a:pt x="73" y="42"/>
                </a:lnTo>
                <a:lnTo>
                  <a:pt x="73" y="34"/>
                </a:lnTo>
                <a:lnTo>
                  <a:pt x="73" y="25"/>
                </a:lnTo>
                <a:lnTo>
                  <a:pt x="74" y="17"/>
                </a:lnTo>
                <a:lnTo>
                  <a:pt x="76" y="11"/>
                </a:lnTo>
                <a:lnTo>
                  <a:pt x="78" y="7"/>
                </a:lnTo>
                <a:lnTo>
                  <a:pt x="80" y="6"/>
                </a:lnTo>
                <a:lnTo>
                  <a:pt x="84" y="4"/>
                </a:lnTo>
                <a:lnTo>
                  <a:pt x="86" y="4"/>
                </a:lnTo>
                <a:lnTo>
                  <a:pt x="90" y="2"/>
                </a:lnTo>
                <a:lnTo>
                  <a:pt x="94" y="0"/>
                </a:lnTo>
                <a:lnTo>
                  <a:pt x="99" y="0"/>
                </a:lnTo>
                <a:lnTo>
                  <a:pt x="103" y="0"/>
                </a:lnTo>
                <a:lnTo>
                  <a:pt x="109" y="0"/>
                </a:lnTo>
                <a:lnTo>
                  <a:pt x="117" y="0"/>
                </a:lnTo>
                <a:lnTo>
                  <a:pt x="122" y="2"/>
                </a:lnTo>
                <a:lnTo>
                  <a:pt x="130" y="4"/>
                </a:lnTo>
                <a:lnTo>
                  <a:pt x="138" y="6"/>
                </a:lnTo>
                <a:lnTo>
                  <a:pt x="151" y="9"/>
                </a:lnTo>
                <a:lnTo>
                  <a:pt x="165" y="15"/>
                </a:lnTo>
                <a:lnTo>
                  <a:pt x="176" y="21"/>
                </a:lnTo>
                <a:lnTo>
                  <a:pt x="186" y="29"/>
                </a:lnTo>
                <a:lnTo>
                  <a:pt x="195" y="34"/>
                </a:lnTo>
                <a:lnTo>
                  <a:pt x="205" y="40"/>
                </a:lnTo>
                <a:lnTo>
                  <a:pt x="213" y="46"/>
                </a:lnTo>
                <a:lnTo>
                  <a:pt x="220" y="52"/>
                </a:lnTo>
                <a:lnTo>
                  <a:pt x="224" y="55"/>
                </a:lnTo>
                <a:lnTo>
                  <a:pt x="226" y="61"/>
                </a:lnTo>
                <a:lnTo>
                  <a:pt x="230" y="67"/>
                </a:lnTo>
                <a:lnTo>
                  <a:pt x="232" y="73"/>
                </a:lnTo>
                <a:lnTo>
                  <a:pt x="234" y="78"/>
                </a:lnTo>
                <a:lnTo>
                  <a:pt x="236" y="86"/>
                </a:lnTo>
                <a:lnTo>
                  <a:pt x="238" y="94"/>
                </a:lnTo>
                <a:lnTo>
                  <a:pt x="240" y="103"/>
                </a:lnTo>
                <a:lnTo>
                  <a:pt x="240" y="111"/>
                </a:lnTo>
                <a:lnTo>
                  <a:pt x="241" y="121"/>
                </a:lnTo>
                <a:lnTo>
                  <a:pt x="241" y="130"/>
                </a:lnTo>
                <a:lnTo>
                  <a:pt x="241" y="142"/>
                </a:lnTo>
                <a:lnTo>
                  <a:pt x="241" y="153"/>
                </a:lnTo>
                <a:lnTo>
                  <a:pt x="241" y="165"/>
                </a:lnTo>
                <a:lnTo>
                  <a:pt x="240" y="176"/>
                </a:lnTo>
                <a:lnTo>
                  <a:pt x="238" y="190"/>
                </a:lnTo>
                <a:lnTo>
                  <a:pt x="236" y="205"/>
                </a:lnTo>
                <a:lnTo>
                  <a:pt x="234" y="220"/>
                </a:lnTo>
                <a:lnTo>
                  <a:pt x="232" y="240"/>
                </a:lnTo>
                <a:lnTo>
                  <a:pt x="230" y="259"/>
                </a:lnTo>
                <a:lnTo>
                  <a:pt x="228" y="278"/>
                </a:lnTo>
                <a:lnTo>
                  <a:pt x="226" y="299"/>
                </a:lnTo>
                <a:lnTo>
                  <a:pt x="222" y="322"/>
                </a:lnTo>
                <a:lnTo>
                  <a:pt x="220" y="345"/>
                </a:lnTo>
                <a:lnTo>
                  <a:pt x="218" y="370"/>
                </a:lnTo>
                <a:lnTo>
                  <a:pt x="215" y="397"/>
                </a:lnTo>
                <a:lnTo>
                  <a:pt x="213" y="424"/>
                </a:lnTo>
                <a:lnTo>
                  <a:pt x="211" y="453"/>
                </a:lnTo>
                <a:lnTo>
                  <a:pt x="209" y="483"/>
                </a:lnTo>
                <a:lnTo>
                  <a:pt x="205" y="514"/>
                </a:lnTo>
                <a:lnTo>
                  <a:pt x="203" y="547"/>
                </a:lnTo>
                <a:lnTo>
                  <a:pt x="203" y="581"/>
                </a:lnTo>
                <a:lnTo>
                  <a:pt x="201" y="597"/>
                </a:lnTo>
                <a:lnTo>
                  <a:pt x="199" y="614"/>
                </a:lnTo>
                <a:lnTo>
                  <a:pt x="197" y="629"/>
                </a:lnTo>
                <a:lnTo>
                  <a:pt x="195" y="645"/>
                </a:lnTo>
                <a:lnTo>
                  <a:pt x="195" y="660"/>
                </a:lnTo>
                <a:lnTo>
                  <a:pt x="193" y="675"/>
                </a:lnTo>
                <a:lnTo>
                  <a:pt x="192" y="689"/>
                </a:lnTo>
                <a:lnTo>
                  <a:pt x="190" y="702"/>
                </a:lnTo>
                <a:lnTo>
                  <a:pt x="190" y="714"/>
                </a:lnTo>
                <a:lnTo>
                  <a:pt x="188" y="727"/>
                </a:lnTo>
                <a:lnTo>
                  <a:pt x="188" y="739"/>
                </a:lnTo>
                <a:lnTo>
                  <a:pt x="186" y="750"/>
                </a:lnTo>
                <a:lnTo>
                  <a:pt x="186" y="760"/>
                </a:lnTo>
                <a:lnTo>
                  <a:pt x="184" y="771"/>
                </a:lnTo>
                <a:lnTo>
                  <a:pt x="184" y="781"/>
                </a:lnTo>
                <a:lnTo>
                  <a:pt x="184" y="788"/>
                </a:lnTo>
                <a:lnTo>
                  <a:pt x="182" y="798"/>
                </a:lnTo>
                <a:lnTo>
                  <a:pt x="182" y="806"/>
                </a:lnTo>
                <a:lnTo>
                  <a:pt x="182" y="813"/>
                </a:lnTo>
                <a:lnTo>
                  <a:pt x="182" y="821"/>
                </a:lnTo>
                <a:lnTo>
                  <a:pt x="180" y="827"/>
                </a:lnTo>
                <a:lnTo>
                  <a:pt x="180" y="833"/>
                </a:lnTo>
                <a:lnTo>
                  <a:pt x="180" y="838"/>
                </a:lnTo>
                <a:lnTo>
                  <a:pt x="180" y="844"/>
                </a:lnTo>
                <a:lnTo>
                  <a:pt x="180" y="848"/>
                </a:lnTo>
                <a:lnTo>
                  <a:pt x="180" y="854"/>
                </a:lnTo>
                <a:lnTo>
                  <a:pt x="182" y="858"/>
                </a:lnTo>
                <a:lnTo>
                  <a:pt x="182" y="859"/>
                </a:lnTo>
                <a:lnTo>
                  <a:pt x="182" y="863"/>
                </a:lnTo>
                <a:lnTo>
                  <a:pt x="182" y="865"/>
                </a:lnTo>
                <a:lnTo>
                  <a:pt x="184" y="869"/>
                </a:lnTo>
                <a:lnTo>
                  <a:pt x="186" y="869"/>
                </a:lnTo>
                <a:lnTo>
                  <a:pt x="190" y="869"/>
                </a:lnTo>
                <a:lnTo>
                  <a:pt x="193" y="869"/>
                </a:lnTo>
                <a:lnTo>
                  <a:pt x="197" y="867"/>
                </a:lnTo>
                <a:lnTo>
                  <a:pt x="203" y="863"/>
                </a:lnTo>
                <a:lnTo>
                  <a:pt x="211" y="858"/>
                </a:lnTo>
                <a:lnTo>
                  <a:pt x="218" y="850"/>
                </a:lnTo>
                <a:lnTo>
                  <a:pt x="228" y="842"/>
                </a:lnTo>
                <a:lnTo>
                  <a:pt x="238" y="833"/>
                </a:lnTo>
                <a:lnTo>
                  <a:pt x="249" y="823"/>
                </a:lnTo>
                <a:lnTo>
                  <a:pt x="261" y="811"/>
                </a:lnTo>
                <a:lnTo>
                  <a:pt x="274" y="798"/>
                </a:lnTo>
                <a:lnTo>
                  <a:pt x="287" y="783"/>
                </a:lnTo>
                <a:lnTo>
                  <a:pt x="303" y="767"/>
                </a:lnTo>
                <a:lnTo>
                  <a:pt x="320" y="748"/>
                </a:lnTo>
                <a:lnTo>
                  <a:pt x="337" y="731"/>
                </a:lnTo>
                <a:lnTo>
                  <a:pt x="355" y="712"/>
                </a:lnTo>
                <a:lnTo>
                  <a:pt x="370" y="694"/>
                </a:lnTo>
                <a:lnTo>
                  <a:pt x="385" y="679"/>
                </a:lnTo>
                <a:lnTo>
                  <a:pt x="399" y="664"/>
                </a:lnTo>
                <a:lnTo>
                  <a:pt x="412" y="652"/>
                </a:lnTo>
                <a:lnTo>
                  <a:pt x="424" y="641"/>
                </a:lnTo>
                <a:lnTo>
                  <a:pt x="435" y="631"/>
                </a:lnTo>
                <a:lnTo>
                  <a:pt x="445" y="623"/>
                </a:lnTo>
                <a:lnTo>
                  <a:pt x="454" y="616"/>
                </a:lnTo>
                <a:lnTo>
                  <a:pt x="464" y="610"/>
                </a:lnTo>
                <a:lnTo>
                  <a:pt x="470" y="606"/>
                </a:lnTo>
                <a:lnTo>
                  <a:pt x="477" y="604"/>
                </a:lnTo>
                <a:lnTo>
                  <a:pt x="483" y="602"/>
                </a:lnTo>
                <a:lnTo>
                  <a:pt x="487" y="600"/>
                </a:lnTo>
                <a:lnTo>
                  <a:pt x="489" y="602"/>
                </a:lnTo>
                <a:lnTo>
                  <a:pt x="493" y="604"/>
                </a:lnTo>
                <a:lnTo>
                  <a:pt x="493" y="606"/>
                </a:lnTo>
                <a:lnTo>
                  <a:pt x="493" y="612"/>
                </a:lnTo>
                <a:lnTo>
                  <a:pt x="491" y="618"/>
                </a:lnTo>
                <a:lnTo>
                  <a:pt x="489" y="627"/>
                </a:lnTo>
                <a:lnTo>
                  <a:pt x="483" y="637"/>
                </a:lnTo>
                <a:lnTo>
                  <a:pt x="477" y="650"/>
                </a:lnTo>
                <a:lnTo>
                  <a:pt x="472" y="664"/>
                </a:lnTo>
                <a:lnTo>
                  <a:pt x="462" y="679"/>
                </a:lnTo>
                <a:lnTo>
                  <a:pt x="453" y="696"/>
                </a:lnTo>
                <a:lnTo>
                  <a:pt x="441" y="716"/>
                </a:lnTo>
                <a:lnTo>
                  <a:pt x="428" y="737"/>
                </a:lnTo>
                <a:lnTo>
                  <a:pt x="412" y="760"/>
                </a:lnTo>
                <a:lnTo>
                  <a:pt x="397" y="785"/>
                </a:lnTo>
                <a:lnTo>
                  <a:pt x="378" y="811"/>
                </a:lnTo>
                <a:lnTo>
                  <a:pt x="358" y="838"/>
                </a:lnTo>
                <a:lnTo>
                  <a:pt x="337" y="869"/>
                </a:lnTo>
                <a:lnTo>
                  <a:pt x="316" y="900"/>
                </a:lnTo>
                <a:lnTo>
                  <a:pt x="297" y="930"/>
                </a:lnTo>
                <a:lnTo>
                  <a:pt x="278" y="959"/>
                </a:lnTo>
                <a:lnTo>
                  <a:pt x="259" y="986"/>
                </a:lnTo>
                <a:lnTo>
                  <a:pt x="241" y="1011"/>
                </a:lnTo>
                <a:lnTo>
                  <a:pt x="226" y="1034"/>
                </a:lnTo>
                <a:lnTo>
                  <a:pt x="211" y="1055"/>
                </a:lnTo>
                <a:lnTo>
                  <a:pt x="197" y="1076"/>
                </a:lnTo>
                <a:lnTo>
                  <a:pt x="184" y="1094"/>
                </a:lnTo>
                <a:lnTo>
                  <a:pt x="172" y="1111"/>
                </a:lnTo>
                <a:lnTo>
                  <a:pt x="163" y="1126"/>
                </a:lnTo>
                <a:lnTo>
                  <a:pt x="153" y="1140"/>
                </a:lnTo>
                <a:lnTo>
                  <a:pt x="145" y="1153"/>
                </a:lnTo>
                <a:lnTo>
                  <a:pt x="140" y="1163"/>
                </a:lnTo>
                <a:lnTo>
                  <a:pt x="134" y="1172"/>
                </a:lnTo>
                <a:lnTo>
                  <a:pt x="130" y="1180"/>
                </a:lnTo>
                <a:lnTo>
                  <a:pt x="124" y="1188"/>
                </a:lnTo>
                <a:lnTo>
                  <a:pt x="121" y="1195"/>
                </a:lnTo>
                <a:lnTo>
                  <a:pt x="115" y="1203"/>
                </a:lnTo>
                <a:lnTo>
                  <a:pt x="111" y="1209"/>
                </a:lnTo>
                <a:lnTo>
                  <a:pt x="107" y="1216"/>
                </a:lnTo>
                <a:lnTo>
                  <a:pt x="103" y="1222"/>
                </a:lnTo>
                <a:lnTo>
                  <a:pt x="97" y="1226"/>
                </a:lnTo>
                <a:lnTo>
                  <a:pt x="94" y="1232"/>
                </a:lnTo>
                <a:lnTo>
                  <a:pt x="90" y="1236"/>
                </a:lnTo>
                <a:lnTo>
                  <a:pt x="88" y="1238"/>
                </a:lnTo>
                <a:lnTo>
                  <a:pt x="84" y="1241"/>
                </a:lnTo>
                <a:lnTo>
                  <a:pt x="80" y="1243"/>
                </a:lnTo>
                <a:lnTo>
                  <a:pt x="76" y="1245"/>
                </a:lnTo>
                <a:lnTo>
                  <a:pt x="73" y="1247"/>
                </a:lnTo>
                <a:lnTo>
                  <a:pt x="69" y="1247"/>
                </a:lnTo>
                <a:lnTo>
                  <a:pt x="67" y="1249"/>
                </a:lnTo>
                <a:lnTo>
                  <a:pt x="57" y="1247"/>
                </a:lnTo>
                <a:lnTo>
                  <a:pt x="50" y="1245"/>
                </a:lnTo>
                <a:lnTo>
                  <a:pt x="42" y="1243"/>
                </a:lnTo>
                <a:lnTo>
                  <a:pt x="36" y="1238"/>
                </a:lnTo>
                <a:lnTo>
                  <a:pt x="32" y="1232"/>
                </a:lnTo>
                <a:lnTo>
                  <a:pt x="28" y="1224"/>
                </a:lnTo>
                <a:lnTo>
                  <a:pt x="26" y="1218"/>
                </a:lnTo>
                <a:lnTo>
                  <a:pt x="25" y="1214"/>
                </a:lnTo>
                <a:lnTo>
                  <a:pt x="23" y="1209"/>
                </a:lnTo>
                <a:lnTo>
                  <a:pt x="21" y="1203"/>
                </a:lnTo>
                <a:lnTo>
                  <a:pt x="17" y="1190"/>
                </a:lnTo>
                <a:lnTo>
                  <a:pt x="15" y="1176"/>
                </a:lnTo>
                <a:lnTo>
                  <a:pt x="11" y="1163"/>
                </a:lnTo>
                <a:lnTo>
                  <a:pt x="9" y="1147"/>
                </a:lnTo>
                <a:lnTo>
                  <a:pt x="5" y="1132"/>
                </a:lnTo>
                <a:lnTo>
                  <a:pt x="3" y="1115"/>
                </a:lnTo>
                <a:lnTo>
                  <a:pt x="3" y="1096"/>
                </a:lnTo>
                <a:lnTo>
                  <a:pt x="3" y="1086"/>
                </a:lnTo>
                <a:lnTo>
                  <a:pt x="3" y="1076"/>
                </a:lnTo>
                <a:lnTo>
                  <a:pt x="0" y="1059"/>
                </a:lnTo>
                <a:lnTo>
                  <a:pt x="0" y="1044"/>
                </a:lnTo>
                <a:lnTo>
                  <a:pt x="0" y="1028"/>
                </a:lnTo>
                <a:lnTo>
                  <a:pt x="3" y="1013"/>
                </a:lnTo>
                <a:lnTo>
                  <a:pt x="7" y="1000"/>
                </a:lnTo>
                <a:lnTo>
                  <a:pt x="13" y="986"/>
                </a:lnTo>
                <a:lnTo>
                  <a:pt x="21" y="973"/>
                </a:lnTo>
                <a:lnTo>
                  <a:pt x="30" y="961"/>
                </a:lnTo>
                <a:lnTo>
                  <a:pt x="34" y="953"/>
                </a:lnTo>
                <a:lnTo>
                  <a:pt x="40" y="946"/>
                </a:lnTo>
                <a:lnTo>
                  <a:pt x="44" y="936"/>
                </a:lnTo>
                <a:lnTo>
                  <a:pt x="50" y="925"/>
                </a:lnTo>
                <a:lnTo>
                  <a:pt x="53" y="913"/>
                </a:lnTo>
                <a:lnTo>
                  <a:pt x="57" y="900"/>
                </a:lnTo>
                <a:lnTo>
                  <a:pt x="61" y="886"/>
                </a:lnTo>
                <a:lnTo>
                  <a:pt x="65" y="871"/>
                </a:lnTo>
                <a:lnTo>
                  <a:pt x="69" y="854"/>
                </a:lnTo>
                <a:lnTo>
                  <a:pt x="73" y="836"/>
                </a:lnTo>
                <a:lnTo>
                  <a:pt x="76" y="815"/>
                </a:lnTo>
                <a:lnTo>
                  <a:pt x="80" y="794"/>
                </a:lnTo>
                <a:lnTo>
                  <a:pt x="82" y="773"/>
                </a:lnTo>
                <a:lnTo>
                  <a:pt x="86" y="748"/>
                </a:lnTo>
                <a:lnTo>
                  <a:pt x="90" y="723"/>
                </a:lnTo>
                <a:lnTo>
                  <a:pt x="94" y="696"/>
                </a:lnTo>
                <a:lnTo>
                  <a:pt x="99" y="645"/>
                </a:lnTo>
                <a:lnTo>
                  <a:pt x="105" y="595"/>
                </a:lnTo>
                <a:lnTo>
                  <a:pt x="109" y="545"/>
                </a:lnTo>
                <a:lnTo>
                  <a:pt x="113" y="497"/>
                </a:lnTo>
                <a:lnTo>
                  <a:pt x="117" y="451"/>
                </a:lnTo>
                <a:lnTo>
                  <a:pt x="119" y="405"/>
                </a:lnTo>
                <a:lnTo>
                  <a:pt x="121" y="359"/>
                </a:lnTo>
                <a:lnTo>
                  <a:pt x="121" y="316"/>
                </a:lnTo>
                <a:lnTo>
                  <a:pt x="121" y="295"/>
                </a:lnTo>
                <a:lnTo>
                  <a:pt x="121" y="274"/>
                </a:lnTo>
                <a:lnTo>
                  <a:pt x="119" y="255"/>
                </a:lnTo>
                <a:lnTo>
                  <a:pt x="119" y="238"/>
                </a:lnTo>
                <a:lnTo>
                  <a:pt x="119" y="220"/>
                </a:lnTo>
                <a:lnTo>
                  <a:pt x="117" y="205"/>
                </a:lnTo>
                <a:lnTo>
                  <a:pt x="115" y="190"/>
                </a:lnTo>
                <a:lnTo>
                  <a:pt x="113" y="176"/>
                </a:lnTo>
                <a:lnTo>
                  <a:pt x="111" y="163"/>
                </a:lnTo>
                <a:lnTo>
                  <a:pt x="109" y="151"/>
                </a:lnTo>
                <a:lnTo>
                  <a:pt x="107" y="140"/>
                </a:lnTo>
                <a:lnTo>
                  <a:pt x="105" y="130"/>
                </a:lnTo>
                <a:lnTo>
                  <a:pt x="103" y="121"/>
                </a:lnTo>
                <a:lnTo>
                  <a:pt x="99" y="111"/>
                </a:lnTo>
                <a:lnTo>
                  <a:pt x="96" y="103"/>
                </a:lnTo>
                <a:lnTo>
                  <a:pt x="94" y="9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Freeform 68"/>
          <p:cNvSpPr/>
          <p:nvPr/>
        </p:nvSpPr>
        <p:spPr>
          <a:xfrm>
            <a:off x="1994040" y="2292480"/>
            <a:ext cx="546120" cy="1135080"/>
          </a:xfrm>
          <a:custGeom>
            <a:avLst/>
            <a:gdLst>
              <a:gd name="textAreaLeft" fmla="*/ 0 w 546120"/>
              <a:gd name="textAreaRight" fmla="*/ 546480 w 54612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689" h="1429">
                <a:moveTo>
                  <a:pt x="555" y="518"/>
                </a:moveTo>
                <a:lnTo>
                  <a:pt x="540" y="556"/>
                </a:lnTo>
                <a:lnTo>
                  <a:pt x="524" y="593"/>
                </a:lnTo>
                <a:lnTo>
                  <a:pt x="509" y="629"/>
                </a:lnTo>
                <a:lnTo>
                  <a:pt x="494" y="666"/>
                </a:lnTo>
                <a:lnTo>
                  <a:pt x="478" y="700"/>
                </a:lnTo>
                <a:lnTo>
                  <a:pt x="463" y="735"/>
                </a:lnTo>
                <a:lnTo>
                  <a:pt x="448" y="769"/>
                </a:lnTo>
                <a:lnTo>
                  <a:pt x="432" y="800"/>
                </a:lnTo>
                <a:lnTo>
                  <a:pt x="419" y="833"/>
                </a:lnTo>
                <a:lnTo>
                  <a:pt x="403" y="861"/>
                </a:lnTo>
                <a:lnTo>
                  <a:pt x="388" y="892"/>
                </a:lnTo>
                <a:lnTo>
                  <a:pt x="375" y="921"/>
                </a:lnTo>
                <a:lnTo>
                  <a:pt x="359" y="948"/>
                </a:lnTo>
                <a:lnTo>
                  <a:pt x="346" y="975"/>
                </a:lnTo>
                <a:lnTo>
                  <a:pt x="332" y="1000"/>
                </a:lnTo>
                <a:lnTo>
                  <a:pt x="319" y="1025"/>
                </a:lnTo>
                <a:lnTo>
                  <a:pt x="306" y="1049"/>
                </a:lnTo>
                <a:lnTo>
                  <a:pt x="292" y="1074"/>
                </a:lnTo>
                <a:lnTo>
                  <a:pt x="279" y="1097"/>
                </a:lnTo>
                <a:lnTo>
                  <a:pt x="265" y="1120"/>
                </a:lnTo>
                <a:lnTo>
                  <a:pt x="252" y="1143"/>
                </a:lnTo>
                <a:lnTo>
                  <a:pt x="238" y="1165"/>
                </a:lnTo>
                <a:lnTo>
                  <a:pt x="225" y="1186"/>
                </a:lnTo>
                <a:lnTo>
                  <a:pt x="212" y="1205"/>
                </a:lnTo>
                <a:lnTo>
                  <a:pt x="198" y="1224"/>
                </a:lnTo>
                <a:lnTo>
                  <a:pt x="185" y="1241"/>
                </a:lnTo>
                <a:lnTo>
                  <a:pt x="171" y="1259"/>
                </a:lnTo>
                <a:lnTo>
                  <a:pt x="160" y="1276"/>
                </a:lnTo>
                <a:lnTo>
                  <a:pt x="146" y="1291"/>
                </a:lnTo>
                <a:lnTo>
                  <a:pt x="135" y="1307"/>
                </a:lnTo>
                <a:lnTo>
                  <a:pt x="121" y="1322"/>
                </a:lnTo>
                <a:lnTo>
                  <a:pt x="110" y="1335"/>
                </a:lnTo>
                <a:lnTo>
                  <a:pt x="98" y="1347"/>
                </a:lnTo>
                <a:lnTo>
                  <a:pt x="87" y="1358"/>
                </a:lnTo>
                <a:lnTo>
                  <a:pt x="77" y="1370"/>
                </a:lnTo>
                <a:lnTo>
                  <a:pt x="68" y="1380"/>
                </a:lnTo>
                <a:lnTo>
                  <a:pt x="58" y="1389"/>
                </a:lnTo>
                <a:lnTo>
                  <a:pt x="50" y="1397"/>
                </a:lnTo>
                <a:lnTo>
                  <a:pt x="43" y="1404"/>
                </a:lnTo>
                <a:lnTo>
                  <a:pt x="35" y="1410"/>
                </a:lnTo>
                <a:lnTo>
                  <a:pt x="29" y="1416"/>
                </a:lnTo>
                <a:lnTo>
                  <a:pt x="23" y="1422"/>
                </a:lnTo>
                <a:lnTo>
                  <a:pt x="18" y="1424"/>
                </a:lnTo>
                <a:lnTo>
                  <a:pt x="12" y="1427"/>
                </a:lnTo>
                <a:lnTo>
                  <a:pt x="8" y="1427"/>
                </a:lnTo>
                <a:lnTo>
                  <a:pt x="6" y="1429"/>
                </a:lnTo>
                <a:lnTo>
                  <a:pt x="2" y="1427"/>
                </a:lnTo>
                <a:lnTo>
                  <a:pt x="0" y="1427"/>
                </a:lnTo>
                <a:lnTo>
                  <a:pt x="0" y="1424"/>
                </a:lnTo>
                <a:lnTo>
                  <a:pt x="0" y="1420"/>
                </a:lnTo>
                <a:lnTo>
                  <a:pt x="2" y="1412"/>
                </a:lnTo>
                <a:lnTo>
                  <a:pt x="4" y="1404"/>
                </a:lnTo>
                <a:lnTo>
                  <a:pt x="8" y="1395"/>
                </a:lnTo>
                <a:lnTo>
                  <a:pt x="14" y="1383"/>
                </a:lnTo>
                <a:lnTo>
                  <a:pt x="22" y="1370"/>
                </a:lnTo>
                <a:lnTo>
                  <a:pt x="29" y="1355"/>
                </a:lnTo>
                <a:lnTo>
                  <a:pt x="33" y="1347"/>
                </a:lnTo>
                <a:lnTo>
                  <a:pt x="39" y="1337"/>
                </a:lnTo>
                <a:lnTo>
                  <a:pt x="43" y="1328"/>
                </a:lnTo>
                <a:lnTo>
                  <a:pt x="48" y="1318"/>
                </a:lnTo>
                <a:lnTo>
                  <a:pt x="54" y="1309"/>
                </a:lnTo>
                <a:lnTo>
                  <a:pt x="60" y="1297"/>
                </a:lnTo>
                <a:lnTo>
                  <a:pt x="66" y="1287"/>
                </a:lnTo>
                <a:lnTo>
                  <a:pt x="73" y="1274"/>
                </a:lnTo>
                <a:lnTo>
                  <a:pt x="79" y="1262"/>
                </a:lnTo>
                <a:lnTo>
                  <a:pt x="87" y="1249"/>
                </a:lnTo>
                <a:lnTo>
                  <a:pt x="94" y="1236"/>
                </a:lnTo>
                <a:lnTo>
                  <a:pt x="102" y="1222"/>
                </a:lnTo>
                <a:lnTo>
                  <a:pt x="110" y="1209"/>
                </a:lnTo>
                <a:lnTo>
                  <a:pt x="119" y="1193"/>
                </a:lnTo>
                <a:lnTo>
                  <a:pt x="127" y="1178"/>
                </a:lnTo>
                <a:lnTo>
                  <a:pt x="137" y="1163"/>
                </a:lnTo>
                <a:lnTo>
                  <a:pt x="156" y="1132"/>
                </a:lnTo>
                <a:lnTo>
                  <a:pt x="173" y="1099"/>
                </a:lnTo>
                <a:lnTo>
                  <a:pt x="208" y="1036"/>
                </a:lnTo>
                <a:lnTo>
                  <a:pt x="240" y="971"/>
                </a:lnTo>
                <a:lnTo>
                  <a:pt x="273" y="904"/>
                </a:lnTo>
                <a:lnTo>
                  <a:pt x="304" y="835"/>
                </a:lnTo>
                <a:lnTo>
                  <a:pt x="331" y="765"/>
                </a:lnTo>
                <a:lnTo>
                  <a:pt x="344" y="729"/>
                </a:lnTo>
                <a:lnTo>
                  <a:pt x="357" y="694"/>
                </a:lnTo>
                <a:lnTo>
                  <a:pt x="371" y="658"/>
                </a:lnTo>
                <a:lnTo>
                  <a:pt x="382" y="622"/>
                </a:lnTo>
                <a:lnTo>
                  <a:pt x="394" y="585"/>
                </a:lnTo>
                <a:lnTo>
                  <a:pt x="405" y="551"/>
                </a:lnTo>
                <a:lnTo>
                  <a:pt x="415" y="516"/>
                </a:lnTo>
                <a:lnTo>
                  <a:pt x="425" y="485"/>
                </a:lnTo>
                <a:lnTo>
                  <a:pt x="434" y="455"/>
                </a:lnTo>
                <a:lnTo>
                  <a:pt x="444" y="424"/>
                </a:lnTo>
                <a:lnTo>
                  <a:pt x="453" y="397"/>
                </a:lnTo>
                <a:lnTo>
                  <a:pt x="461" y="370"/>
                </a:lnTo>
                <a:lnTo>
                  <a:pt x="469" y="345"/>
                </a:lnTo>
                <a:lnTo>
                  <a:pt x="474" y="320"/>
                </a:lnTo>
                <a:lnTo>
                  <a:pt x="480" y="299"/>
                </a:lnTo>
                <a:lnTo>
                  <a:pt x="486" y="278"/>
                </a:lnTo>
                <a:lnTo>
                  <a:pt x="492" y="257"/>
                </a:lnTo>
                <a:lnTo>
                  <a:pt x="496" y="240"/>
                </a:lnTo>
                <a:lnTo>
                  <a:pt x="497" y="222"/>
                </a:lnTo>
                <a:lnTo>
                  <a:pt x="499" y="207"/>
                </a:lnTo>
                <a:lnTo>
                  <a:pt x="501" y="194"/>
                </a:lnTo>
                <a:lnTo>
                  <a:pt x="503" y="182"/>
                </a:lnTo>
                <a:lnTo>
                  <a:pt x="503" y="171"/>
                </a:lnTo>
                <a:lnTo>
                  <a:pt x="505" y="159"/>
                </a:lnTo>
                <a:lnTo>
                  <a:pt x="505" y="138"/>
                </a:lnTo>
                <a:lnTo>
                  <a:pt x="507" y="119"/>
                </a:lnTo>
                <a:lnTo>
                  <a:pt x="505" y="101"/>
                </a:lnTo>
                <a:lnTo>
                  <a:pt x="505" y="84"/>
                </a:lnTo>
                <a:lnTo>
                  <a:pt x="503" y="71"/>
                </a:lnTo>
                <a:lnTo>
                  <a:pt x="499" y="57"/>
                </a:lnTo>
                <a:lnTo>
                  <a:pt x="497" y="50"/>
                </a:lnTo>
                <a:lnTo>
                  <a:pt x="497" y="44"/>
                </a:lnTo>
                <a:lnTo>
                  <a:pt x="496" y="34"/>
                </a:lnTo>
                <a:lnTo>
                  <a:pt x="494" y="27"/>
                </a:lnTo>
                <a:lnTo>
                  <a:pt x="496" y="19"/>
                </a:lnTo>
                <a:lnTo>
                  <a:pt x="497" y="13"/>
                </a:lnTo>
                <a:lnTo>
                  <a:pt x="499" y="11"/>
                </a:lnTo>
                <a:lnTo>
                  <a:pt x="501" y="7"/>
                </a:lnTo>
                <a:lnTo>
                  <a:pt x="505" y="6"/>
                </a:lnTo>
                <a:lnTo>
                  <a:pt x="509" y="4"/>
                </a:lnTo>
                <a:lnTo>
                  <a:pt x="513" y="2"/>
                </a:lnTo>
                <a:lnTo>
                  <a:pt x="519" y="0"/>
                </a:lnTo>
                <a:lnTo>
                  <a:pt x="521" y="0"/>
                </a:lnTo>
                <a:lnTo>
                  <a:pt x="526" y="0"/>
                </a:lnTo>
                <a:lnTo>
                  <a:pt x="530" y="2"/>
                </a:lnTo>
                <a:lnTo>
                  <a:pt x="534" y="4"/>
                </a:lnTo>
                <a:lnTo>
                  <a:pt x="545" y="7"/>
                </a:lnTo>
                <a:lnTo>
                  <a:pt x="557" y="15"/>
                </a:lnTo>
                <a:lnTo>
                  <a:pt x="570" y="23"/>
                </a:lnTo>
                <a:lnTo>
                  <a:pt x="586" y="32"/>
                </a:lnTo>
                <a:lnTo>
                  <a:pt x="601" y="44"/>
                </a:lnTo>
                <a:lnTo>
                  <a:pt x="618" y="57"/>
                </a:lnTo>
                <a:lnTo>
                  <a:pt x="626" y="63"/>
                </a:lnTo>
                <a:lnTo>
                  <a:pt x="634" y="69"/>
                </a:lnTo>
                <a:lnTo>
                  <a:pt x="639" y="77"/>
                </a:lnTo>
                <a:lnTo>
                  <a:pt x="647" y="82"/>
                </a:lnTo>
                <a:lnTo>
                  <a:pt x="653" y="88"/>
                </a:lnTo>
                <a:lnTo>
                  <a:pt x="659" y="96"/>
                </a:lnTo>
                <a:lnTo>
                  <a:pt x="666" y="107"/>
                </a:lnTo>
                <a:lnTo>
                  <a:pt x="676" y="119"/>
                </a:lnTo>
                <a:lnTo>
                  <a:pt x="682" y="130"/>
                </a:lnTo>
                <a:lnTo>
                  <a:pt x="686" y="140"/>
                </a:lnTo>
                <a:lnTo>
                  <a:pt x="689" y="149"/>
                </a:lnTo>
                <a:lnTo>
                  <a:pt x="689" y="155"/>
                </a:lnTo>
                <a:lnTo>
                  <a:pt x="689" y="161"/>
                </a:lnTo>
                <a:lnTo>
                  <a:pt x="687" y="165"/>
                </a:lnTo>
                <a:lnTo>
                  <a:pt x="687" y="171"/>
                </a:lnTo>
                <a:lnTo>
                  <a:pt x="686" y="176"/>
                </a:lnTo>
                <a:lnTo>
                  <a:pt x="684" y="182"/>
                </a:lnTo>
                <a:lnTo>
                  <a:pt x="682" y="190"/>
                </a:lnTo>
                <a:lnTo>
                  <a:pt x="680" y="197"/>
                </a:lnTo>
                <a:lnTo>
                  <a:pt x="676" y="205"/>
                </a:lnTo>
                <a:lnTo>
                  <a:pt x="674" y="213"/>
                </a:lnTo>
                <a:lnTo>
                  <a:pt x="670" y="222"/>
                </a:lnTo>
                <a:lnTo>
                  <a:pt x="666" y="232"/>
                </a:lnTo>
                <a:lnTo>
                  <a:pt x="664" y="242"/>
                </a:lnTo>
                <a:lnTo>
                  <a:pt x="661" y="253"/>
                </a:lnTo>
                <a:lnTo>
                  <a:pt x="655" y="263"/>
                </a:lnTo>
                <a:lnTo>
                  <a:pt x="651" y="274"/>
                </a:lnTo>
                <a:lnTo>
                  <a:pt x="647" y="288"/>
                </a:lnTo>
                <a:lnTo>
                  <a:pt x="641" y="299"/>
                </a:lnTo>
                <a:lnTo>
                  <a:pt x="636" y="313"/>
                </a:lnTo>
                <a:lnTo>
                  <a:pt x="630" y="328"/>
                </a:lnTo>
                <a:lnTo>
                  <a:pt x="626" y="341"/>
                </a:lnTo>
                <a:lnTo>
                  <a:pt x="618" y="357"/>
                </a:lnTo>
                <a:lnTo>
                  <a:pt x="613" y="372"/>
                </a:lnTo>
                <a:lnTo>
                  <a:pt x="607" y="387"/>
                </a:lnTo>
                <a:lnTo>
                  <a:pt x="599" y="405"/>
                </a:lnTo>
                <a:lnTo>
                  <a:pt x="593" y="422"/>
                </a:lnTo>
                <a:lnTo>
                  <a:pt x="586" y="439"/>
                </a:lnTo>
                <a:lnTo>
                  <a:pt x="578" y="458"/>
                </a:lnTo>
                <a:lnTo>
                  <a:pt x="570" y="478"/>
                </a:lnTo>
                <a:lnTo>
                  <a:pt x="563" y="497"/>
                </a:lnTo>
                <a:lnTo>
                  <a:pt x="555" y="51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Freeform 69"/>
          <p:cNvSpPr/>
          <p:nvPr/>
        </p:nvSpPr>
        <p:spPr>
          <a:xfrm>
            <a:off x="2309760" y="2730600"/>
            <a:ext cx="461880" cy="403200"/>
          </a:xfrm>
          <a:custGeom>
            <a:avLst/>
            <a:gdLst>
              <a:gd name="textAreaLeft" fmla="*/ 0 w 461880"/>
              <a:gd name="textAreaRight" fmla="*/ 462240 w 46188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581" h="507">
                <a:moveTo>
                  <a:pt x="418" y="369"/>
                </a:moveTo>
                <a:lnTo>
                  <a:pt x="408" y="386"/>
                </a:lnTo>
                <a:lnTo>
                  <a:pt x="401" y="403"/>
                </a:lnTo>
                <a:lnTo>
                  <a:pt x="393" y="421"/>
                </a:lnTo>
                <a:lnTo>
                  <a:pt x="385" y="436"/>
                </a:lnTo>
                <a:lnTo>
                  <a:pt x="378" y="448"/>
                </a:lnTo>
                <a:lnTo>
                  <a:pt x="372" y="461"/>
                </a:lnTo>
                <a:lnTo>
                  <a:pt x="364" y="471"/>
                </a:lnTo>
                <a:lnTo>
                  <a:pt x="358" y="480"/>
                </a:lnTo>
                <a:lnTo>
                  <a:pt x="353" y="488"/>
                </a:lnTo>
                <a:lnTo>
                  <a:pt x="347" y="496"/>
                </a:lnTo>
                <a:lnTo>
                  <a:pt x="343" y="499"/>
                </a:lnTo>
                <a:lnTo>
                  <a:pt x="337" y="503"/>
                </a:lnTo>
                <a:lnTo>
                  <a:pt x="334" y="507"/>
                </a:lnTo>
                <a:lnTo>
                  <a:pt x="332" y="507"/>
                </a:lnTo>
                <a:lnTo>
                  <a:pt x="328" y="507"/>
                </a:lnTo>
                <a:lnTo>
                  <a:pt x="326" y="507"/>
                </a:lnTo>
                <a:lnTo>
                  <a:pt x="324" y="503"/>
                </a:lnTo>
                <a:lnTo>
                  <a:pt x="320" y="499"/>
                </a:lnTo>
                <a:lnTo>
                  <a:pt x="318" y="496"/>
                </a:lnTo>
                <a:lnTo>
                  <a:pt x="318" y="490"/>
                </a:lnTo>
                <a:lnTo>
                  <a:pt x="316" y="482"/>
                </a:lnTo>
                <a:lnTo>
                  <a:pt x="316" y="474"/>
                </a:lnTo>
                <a:lnTo>
                  <a:pt x="318" y="465"/>
                </a:lnTo>
                <a:lnTo>
                  <a:pt x="318" y="455"/>
                </a:lnTo>
                <a:lnTo>
                  <a:pt x="320" y="444"/>
                </a:lnTo>
                <a:lnTo>
                  <a:pt x="322" y="430"/>
                </a:lnTo>
                <a:lnTo>
                  <a:pt x="324" y="417"/>
                </a:lnTo>
                <a:lnTo>
                  <a:pt x="328" y="403"/>
                </a:lnTo>
                <a:lnTo>
                  <a:pt x="332" y="386"/>
                </a:lnTo>
                <a:lnTo>
                  <a:pt x="335" y="371"/>
                </a:lnTo>
                <a:lnTo>
                  <a:pt x="339" y="352"/>
                </a:lnTo>
                <a:lnTo>
                  <a:pt x="345" y="334"/>
                </a:lnTo>
                <a:lnTo>
                  <a:pt x="349" y="315"/>
                </a:lnTo>
                <a:lnTo>
                  <a:pt x="355" y="296"/>
                </a:lnTo>
                <a:lnTo>
                  <a:pt x="358" y="281"/>
                </a:lnTo>
                <a:lnTo>
                  <a:pt x="362" y="265"/>
                </a:lnTo>
                <a:lnTo>
                  <a:pt x="366" y="250"/>
                </a:lnTo>
                <a:lnTo>
                  <a:pt x="370" y="236"/>
                </a:lnTo>
                <a:lnTo>
                  <a:pt x="374" y="223"/>
                </a:lnTo>
                <a:lnTo>
                  <a:pt x="376" y="213"/>
                </a:lnTo>
                <a:lnTo>
                  <a:pt x="378" y="202"/>
                </a:lnTo>
                <a:lnTo>
                  <a:pt x="380" y="192"/>
                </a:lnTo>
                <a:lnTo>
                  <a:pt x="381" y="185"/>
                </a:lnTo>
                <a:lnTo>
                  <a:pt x="383" y="179"/>
                </a:lnTo>
                <a:lnTo>
                  <a:pt x="383" y="171"/>
                </a:lnTo>
                <a:lnTo>
                  <a:pt x="383" y="167"/>
                </a:lnTo>
                <a:lnTo>
                  <a:pt x="381" y="164"/>
                </a:lnTo>
                <a:lnTo>
                  <a:pt x="381" y="162"/>
                </a:lnTo>
                <a:lnTo>
                  <a:pt x="380" y="160"/>
                </a:lnTo>
                <a:lnTo>
                  <a:pt x="376" y="158"/>
                </a:lnTo>
                <a:lnTo>
                  <a:pt x="374" y="156"/>
                </a:lnTo>
                <a:lnTo>
                  <a:pt x="370" y="156"/>
                </a:lnTo>
                <a:lnTo>
                  <a:pt x="364" y="156"/>
                </a:lnTo>
                <a:lnTo>
                  <a:pt x="360" y="156"/>
                </a:lnTo>
                <a:lnTo>
                  <a:pt x="349" y="160"/>
                </a:lnTo>
                <a:lnTo>
                  <a:pt x="335" y="164"/>
                </a:lnTo>
                <a:lnTo>
                  <a:pt x="322" y="169"/>
                </a:lnTo>
                <a:lnTo>
                  <a:pt x="307" y="175"/>
                </a:lnTo>
                <a:lnTo>
                  <a:pt x="289" y="185"/>
                </a:lnTo>
                <a:lnTo>
                  <a:pt x="282" y="188"/>
                </a:lnTo>
                <a:lnTo>
                  <a:pt x="270" y="192"/>
                </a:lnTo>
                <a:lnTo>
                  <a:pt x="259" y="196"/>
                </a:lnTo>
                <a:lnTo>
                  <a:pt x="245" y="200"/>
                </a:lnTo>
                <a:lnTo>
                  <a:pt x="232" y="202"/>
                </a:lnTo>
                <a:lnTo>
                  <a:pt x="216" y="206"/>
                </a:lnTo>
                <a:lnTo>
                  <a:pt x="199" y="208"/>
                </a:lnTo>
                <a:lnTo>
                  <a:pt x="182" y="210"/>
                </a:lnTo>
                <a:lnTo>
                  <a:pt x="163" y="212"/>
                </a:lnTo>
                <a:lnTo>
                  <a:pt x="144" y="213"/>
                </a:lnTo>
                <a:lnTo>
                  <a:pt x="122" y="215"/>
                </a:lnTo>
                <a:lnTo>
                  <a:pt x="99" y="215"/>
                </a:lnTo>
                <a:lnTo>
                  <a:pt x="76" y="217"/>
                </a:lnTo>
                <a:lnTo>
                  <a:pt x="51" y="217"/>
                </a:lnTo>
                <a:lnTo>
                  <a:pt x="26" y="217"/>
                </a:lnTo>
                <a:lnTo>
                  <a:pt x="0" y="219"/>
                </a:lnTo>
                <a:lnTo>
                  <a:pt x="0" y="150"/>
                </a:lnTo>
                <a:lnTo>
                  <a:pt x="19" y="148"/>
                </a:lnTo>
                <a:lnTo>
                  <a:pt x="36" y="148"/>
                </a:lnTo>
                <a:lnTo>
                  <a:pt x="53" y="148"/>
                </a:lnTo>
                <a:lnTo>
                  <a:pt x="71" y="146"/>
                </a:lnTo>
                <a:lnTo>
                  <a:pt x="86" y="146"/>
                </a:lnTo>
                <a:lnTo>
                  <a:pt x="101" y="144"/>
                </a:lnTo>
                <a:lnTo>
                  <a:pt x="117" y="142"/>
                </a:lnTo>
                <a:lnTo>
                  <a:pt x="132" y="139"/>
                </a:lnTo>
                <a:lnTo>
                  <a:pt x="159" y="133"/>
                </a:lnTo>
                <a:lnTo>
                  <a:pt x="172" y="129"/>
                </a:lnTo>
                <a:lnTo>
                  <a:pt x="186" y="125"/>
                </a:lnTo>
                <a:lnTo>
                  <a:pt x="199" y="121"/>
                </a:lnTo>
                <a:lnTo>
                  <a:pt x="211" y="116"/>
                </a:lnTo>
                <a:lnTo>
                  <a:pt x="224" y="110"/>
                </a:lnTo>
                <a:lnTo>
                  <a:pt x="236" y="104"/>
                </a:lnTo>
                <a:lnTo>
                  <a:pt x="255" y="94"/>
                </a:lnTo>
                <a:lnTo>
                  <a:pt x="274" y="85"/>
                </a:lnTo>
                <a:lnTo>
                  <a:pt x="289" y="77"/>
                </a:lnTo>
                <a:lnTo>
                  <a:pt x="305" y="70"/>
                </a:lnTo>
                <a:lnTo>
                  <a:pt x="318" y="60"/>
                </a:lnTo>
                <a:lnTo>
                  <a:pt x="332" y="52"/>
                </a:lnTo>
                <a:lnTo>
                  <a:pt x="343" y="43"/>
                </a:lnTo>
                <a:lnTo>
                  <a:pt x="353" y="35"/>
                </a:lnTo>
                <a:lnTo>
                  <a:pt x="362" y="25"/>
                </a:lnTo>
                <a:lnTo>
                  <a:pt x="372" y="20"/>
                </a:lnTo>
                <a:lnTo>
                  <a:pt x="381" y="12"/>
                </a:lnTo>
                <a:lnTo>
                  <a:pt x="389" y="8"/>
                </a:lnTo>
                <a:lnTo>
                  <a:pt x="397" y="4"/>
                </a:lnTo>
                <a:lnTo>
                  <a:pt x="403" y="2"/>
                </a:lnTo>
                <a:lnTo>
                  <a:pt x="410" y="0"/>
                </a:lnTo>
                <a:lnTo>
                  <a:pt x="418" y="0"/>
                </a:lnTo>
                <a:lnTo>
                  <a:pt x="420" y="0"/>
                </a:lnTo>
                <a:lnTo>
                  <a:pt x="422" y="0"/>
                </a:lnTo>
                <a:lnTo>
                  <a:pt x="426" y="2"/>
                </a:lnTo>
                <a:lnTo>
                  <a:pt x="429" y="4"/>
                </a:lnTo>
                <a:lnTo>
                  <a:pt x="433" y="6"/>
                </a:lnTo>
                <a:lnTo>
                  <a:pt x="437" y="8"/>
                </a:lnTo>
                <a:lnTo>
                  <a:pt x="449" y="16"/>
                </a:lnTo>
                <a:lnTo>
                  <a:pt x="462" y="23"/>
                </a:lnTo>
                <a:lnTo>
                  <a:pt x="476" y="33"/>
                </a:lnTo>
                <a:lnTo>
                  <a:pt x="491" y="45"/>
                </a:lnTo>
                <a:lnTo>
                  <a:pt x="508" y="58"/>
                </a:lnTo>
                <a:lnTo>
                  <a:pt x="524" y="73"/>
                </a:lnTo>
                <a:lnTo>
                  <a:pt x="539" y="89"/>
                </a:lnTo>
                <a:lnTo>
                  <a:pt x="545" y="96"/>
                </a:lnTo>
                <a:lnTo>
                  <a:pt x="550" y="104"/>
                </a:lnTo>
                <a:lnTo>
                  <a:pt x="556" y="110"/>
                </a:lnTo>
                <a:lnTo>
                  <a:pt x="560" y="116"/>
                </a:lnTo>
                <a:lnTo>
                  <a:pt x="566" y="121"/>
                </a:lnTo>
                <a:lnTo>
                  <a:pt x="570" y="127"/>
                </a:lnTo>
                <a:lnTo>
                  <a:pt x="571" y="133"/>
                </a:lnTo>
                <a:lnTo>
                  <a:pt x="575" y="137"/>
                </a:lnTo>
                <a:lnTo>
                  <a:pt x="577" y="141"/>
                </a:lnTo>
                <a:lnTo>
                  <a:pt x="579" y="144"/>
                </a:lnTo>
                <a:lnTo>
                  <a:pt x="579" y="146"/>
                </a:lnTo>
                <a:lnTo>
                  <a:pt x="581" y="150"/>
                </a:lnTo>
                <a:lnTo>
                  <a:pt x="579" y="154"/>
                </a:lnTo>
                <a:lnTo>
                  <a:pt x="579" y="160"/>
                </a:lnTo>
                <a:lnTo>
                  <a:pt x="575" y="165"/>
                </a:lnTo>
                <a:lnTo>
                  <a:pt x="571" y="173"/>
                </a:lnTo>
                <a:lnTo>
                  <a:pt x="568" y="179"/>
                </a:lnTo>
                <a:lnTo>
                  <a:pt x="562" y="185"/>
                </a:lnTo>
                <a:lnTo>
                  <a:pt x="554" y="190"/>
                </a:lnTo>
                <a:lnTo>
                  <a:pt x="545" y="196"/>
                </a:lnTo>
                <a:lnTo>
                  <a:pt x="539" y="198"/>
                </a:lnTo>
                <a:lnTo>
                  <a:pt x="533" y="202"/>
                </a:lnTo>
                <a:lnTo>
                  <a:pt x="527" y="206"/>
                </a:lnTo>
                <a:lnTo>
                  <a:pt x="520" y="213"/>
                </a:lnTo>
                <a:lnTo>
                  <a:pt x="514" y="219"/>
                </a:lnTo>
                <a:lnTo>
                  <a:pt x="506" y="227"/>
                </a:lnTo>
                <a:lnTo>
                  <a:pt x="499" y="236"/>
                </a:lnTo>
                <a:lnTo>
                  <a:pt x="491" y="248"/>
                </a:lnTo>
                <a:lnTo>
                  <a:pt x="481" y="258"/>
                </a:lnTo>
                <a:lnTo>
                  <a:pt x="474" y="271"/>
                </a:lnTo>
                <a:lnTo>
                  <a:pt x="464" y="284"/>
                </a:lnTo>
                <a:lnTo>
                  <a:pt x="456" y="298"/>
                </a:lnTo>
                <a:lnTo>
                  <a:pt x="447" y="315"/>
                </a:lnTo>
                <a:lnTo>
                  <a:pt x="437" y="331"/>
                </a:lnTo>
                <a:lnTo>
                  <a:pt x="428" y="350"/>
                </a:lnTo>
                <a:lnTo>
                  <a:pt x="418" y="36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1" name="Picture 70" descr=""/>
          <p:cNvPicPr/>
          <p:nvPr/>
        </p:nvPicPr>
        <p:blipFill>
          <a:blip r:embed="rId8"/>
          <a:srcRect l="0" t="0" r="-27731" b="76053"/>
          <a:stretch/>
        </p:blipFill>
        <p:spPr>
          <a:xfrm>
            <a:off x="2781360" y="2940120"/>
            <a:ext cx="876240" cy="26028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71" descr=""/>
          <p:cNvPicPr/>
          <p:nvPr/>
        </p:nvPicPr>
        <p:blipFill>
          <a:blip r:embed="rId9"/>
          <a:srcRect l="-5515" t="23980" r="5567" b="-1128"/>
          <a:stretch/>
        </p:blipFill>
        <p:spPr>
          <a:xfrm>
            <a:off x="2743200" y="32004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4253" name="Freeform 66"/>
          <p:cNvSpPr/>
          <p:nvPr/>
        </p:nvSpPr>
        <p:spPr>
          <a:xfrm>
            <a:off x="2906640" y="3281400"/>
            <a:ext cx="901800" cy="804960"/>
          </a:xfrm>
          <a:custGeom>
            <a:avLst/>
            <a:gdLst>
              <a:gd name="textAreaLeft" fmla="*/ 0 w 901800"/>
              <a:gd name="textAreaRight" fmla="*/ 902160 w 90180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1134" h="1013">
                <a:moveTo>
                  <a:pt x="961" y="990"/>
                </a:moveTo>
                <a:lnTo>
                  <a:pt x="942" y="992"/>
                </a:lnTo>
                <a:lnTo>
                  <a:pt x="923" y="994"/>
                </a:lnTo>
                <a:lnTo>
                  <a:pt x="904" y="996"/>
                </a:lnTo>
                <a:lnTo>
                  <a:pt x="886" y="998"/>
                </a:lnTo>
                <a:lnTo>
                  <a:pt x="871" y="1000"/>
                </a:lnTo>
                <a:lnTo>
                  <a:pt x="856" y="1002"/>
                </a:lnTo>
                <a:lnTo>
                  <a:pt x="840" y="1003"/>
                </a:lnTo>
                <a:lnTo>
                  <a:pt x="827" y="1005"/>
                </a:lnTo>
                <a:lnTo>
                  <a:pt x="814" y="1007"/>
                </a:lnTo>
                <a:lnTo>
                  <a:pt x="802" y="1007"/>
                </a:lnTo>
                <a:lnTo>
                  <a:pt x="791" y="1009"/>
                </a:lnTo>
                <a:lnTo>
                  <a:pt x="781" y="1011"/>
                </a:lnTo>
                <a:lnTo>
                  <a:pt x="773" y="1011"/>
                </a:lnTo>
                <a:lnTo>
                  <a:pt x="766" y="1011"/>
                </a:lnTo>
                <a:lnTo>
                  <a:pt x="758" y="1011"/>
                </a:lnTo>
                <a:lnTo>
                  <a:pt x="752" y="1013"/>
                </a:lnTo>
                <a:lnTo>
                  <a:pt x="741" y="1011"/>
                </a:lnTo>
                <a:lnTo>
                  <a:pt x="727" y="1009"/>
                </a:lnTo>
                <a:lnTo>
                  <a:pt x="716" y="1007"/>
                </a:lnTo>
                <a:lnTo>
                  <a:pt x="704" y="1002"/>
                </a:lnTo>
                <a:lnTo>
                  <a:pt x="693" y="996"/>
                </a:lnTo>
                <a:lnTo>
                  <a:pt x="683" y="988"/>
                </a:lnTo>
                <a:lnTo>
                  <a:pt x="677" y="982"/>
                </a:lnTo>
                <a:lnTo>
                  <a:pt x="672" y="978"/>
                </a:lnTo>
                <a:lnTo>
                  <a:pt x="668" y="973"/>
                </a:lnTo>
                <a:lnTo>
                  <a:pt x="662" y="967"/>
                </a:lnTo>
                <a:lnTo>
                  <a:pt x="656" y="961"/>
                </a:lnTo>
                <a:lnTo>
                  <a:pt x="650" y="955"/>
                </a:lnTo>
                <a:lnTo>
                  <a:pt x="645" y="948"/>
                </a:lnTo>
                <a:lnTo>
                  <a:pt x="637" y="940"/>
                </a:lnTo>
                <a:lnTo>
                  <a:pt x="629" y="931"/>
                </a:lnTo>
                <a:lnTo>
                  <a:pt x="620" y="921"/>
                </a:lnTo>
                <a:lnTo>
                  <a:pt x="612" y="909"/>
                </a:lnTo>
                <a:lnTo>
                  <a:pt x="602" y="898"/>
                </a:lnTo>
                <a:lnTo>
                  <a:pt x="591" y="884"/>
                </a:lnTo>
                <a:lnTo>
                  <a:pt x="581" y="869"/>
                </a:lnTo>
                <a:lnTo>
                  <a:pt x="570" y="854"/>
                </a:lnTo>
                <a:lnTo>
                  <a:pt x="558" y="836"/>
                </a:lnTo>
                <a:lnTo>
                  <a:pt x="547" y="819"/>
                </a:lnTo>
                <a:lnTo>
                  <a:pt x="533" y="800"/>
                </a:lnTo>
                <a:lnTo>
                  <a:pt x="522" y="781"/>
                </a:lnTo>
                <a:lnTo>
                  <a:pt x="508" y="760"/>
                </a:lnTo>
                <a:lnTo>
                  <a:pt x="482" y="716"/>
                </a:lnTo>
                <a:lnTo>
                  <a:pt x="453" y="670"/>
                </a:lnTo>
                <a:lnTo>
                  <a:pt x="424" y="623"/>
                </a:lnTo>
                <a:lnTo>
                  <a:pt x="393" y="577"/>
                </a:lnTo>
                <a:lnTo>
                  <a:pt x="363" y="529"/>
                </a:lnTo>
                <a:lnTo>
                  <a:pt x="334" y="481"/>
                </a:lnTo>
                <a:lnTo>
                  <a:pt x="303" y="430"/>
                </a:lnTo>
                <a:lnTo>
                  <a:pt x="272" y="380"/>
                </a:lnTo>
                <a:lnTo>
                  <a:pt x="238" y="328"/>
                </a:lnTo>
                <a:lnTo>
                  <a:pt x="205" y="278"/>
                </a:lnTo>
                <a:lnTo>
                  <a:pt x="171" y="228"/>
                </a:lnTo>
                <a:lnTo>
                  <a:pt x="136" y="180"/>
                </a:lnTo>
                <a:lnTo>
                  <a:pt x="102" y="134"/>
                </a:lnTo>
                <a:lnTo>
                  <a:pt x="69" y="88"/>
                </a:lnTo>
                <a:lnTo>
                  <a:pt x="34" y="42"/>
                </a:lnTo>
                <a:lnTo>
                  <a:pt x="0" y="0"/>
                </a:lnTo>
                <a:lnTo>
                  <a:pt x="13" y="0"/>
                </a:lnTo>
                <a:lnTo>
                  <a:pt x="25" y="2"/>
                </a:lnTo>
                <a:lnTo>
                  <a:pt x="38" y="4"/>
                </a:lnTo>
                <a:lnTo>
                  <a:pt x="52" y="7"/>
                </a:lnTo>
                <a:lnTo>
                  <a:pt x="65" y="13"/>
                </a:lnTo>
                <a:lnTo>
                  <a:pt x="79" y="19"/>
                </a:lnTo>
                <a:lnTo>
                  <a:pt x="94" y="27"/>
                </a:lnTo>
                <a:lnTo>
                  <a:pt x="107" y="34"/>
                </a:lnTo>
                <a:lnTo>
                  <a:pt x="123" y="44"/>
                </a:lnTo>
                <a:lnTo>
                  <a:pt x="136" y="55"/>
                </a:lnTo>
                <a:lnTo>
                  <a:pt x="151" y="67"/>
                </a:lnTo>
                <a:lnTo>
                  <a:pt x="167" y="80"/>
                </a:lnTo>
                <a:lnTo>
                  <a:pt x="182" y="96"/>
                </a:lnTo>
                <a:lnTo>
                  <a:pt x="198" y="113"/>
                </a:lnTo>
                <a:lnTo>
                  <a:pt x="213" y="130"/>
                </a:lnTo>
                <a:lnTo>
                  <a:pt x="226" y="149"/>
                </a:lnTo>
                <a:lnTo>
                  <a:pt x="257" y="188"/>
                </a:lnTo>
                <a:lnTo>
                  <a:pt x="290" y="228"/>
                </a:lnTo>
                <a:lnTo>
                  <a:pt x="322" y="270"/>
                </a:lnTo>
                <a:lnTo>
                  <a:pt x="357" y="313"/>
                </a:lnTo>
                <a:lnTo>
                  <a:pt x="391" y="357"/>
                </a:lnTo>
                <a:lnTo>
                  <a:pt x="426" y="401"/>
                </a:lnTo>
                <a:lnTo>
                  <a:pt x="462" y="447"/>
                </a:lnTo>
                <a:lnTo>
                  <a:pt x="499" y="495"/>
                </a:lnTo>
                <a:lnTo>
                  <a:pt x="518" y="518"/>
                </a:lnTo>
                <a:lnTo>
                  <a:pt x="537" y="541"/>
                </a:lnTo>
                <a:lnTo>
                  <a:pt x="558" y="562"/>
                </a:lnTo>
                <a:lnTo>
                  <a:pt x="579" y="583"/>
                </a:lnTo>
                <a:lnTo>
                  <a:pt x="602" y="604"/>
                </a:lnTo>
                <a:lnTo>
                  <a:pt x="625" y="623"/>
                </a:lnTo>
                <a:lnTo>
                  <a:pt x="650" y="643"/>
                </a:lnTo>
                <a:lnTo>
                  <a:pt x="675" y="660"/>
                </a:lnTo>
                <a:lnTo>
                  <a:pt x="700" y="679"/>
                </a:lnTo>
                <a:lnTo>
                  <a:pt x="727" y="696"/>
                </a:lnTo>
                <a:lnTo>
                  <a:pt x="754" y="714"/>
                </a:lnTo>
                <a:lnTo>
                  <a:pt x="781" y="731"/>
                </a:lnTo>
                <a:lnTo>
                  <a:pt x="810" y="746"/>
                </a:lnTo>
                <a:lnTo>
                  <a:pt x="839" y="762"/>
                </a:lnTo>
                <a:lnTo>
                  <a:pt x="867" y="777"/>
                </a:lnTo>
                <a:lnTo>
                  <a:pt x="898" y="794"/>
                </a:lnTo>
                <a:lnTo>
                  <a:pt x="927" y="808"/>
                </a:lnTo>
                <a:lnTo>
                  <a:pt x="952" y="823"/>
                </a:lnTo>
                <a:lnTo>
                  <a:pt x="977" y="836"/>
                </a:lnTo>
                <a:lnTo>
                  <a:pt x="1000" y="850"/>
                </a:lnTo>
                <a:lnTo>
                  <a:pt x="1021" y="861"/>
                </a:lnTo>
                <a:lnTo>
                  <a:pt x="1040" y="873"/>
                </a:lnTo>
                <a:lnTo>
                  <a:pt x="1057" y="884"/>
                </a:lnTo>
                <a:lnTo>
                  <a:pt x="1073" y="894"/>
                </a:lnTo>
                <a:lnTo>
                  <a:pt x="1088" y="904"/>
                </a:lnTo>
                <a:lnTo>
                  <a:pt x="1100" y="911"/>
                </a:lnTo>
                <a:lnTo>
                  <a:pt x="1111" y="919"/>
                </a:lnTo>
                <a:lnTo>
                  <a:pt x="1119" y="927"/>
                </a:lnTo>
                <a:lnTo>
                  <a:pt x="1124" y="932"/>
                </a:lnTo>
                <a:lnTo>
                  <a:pt x="1130" y="936"/>
                </a:lnTo>
                <a:lnTo>
                  <a:pt x="1132" y="940"/>
                </a:lnTo>
                <a:lnTo>
                  <a:pt x="1134" y="942"/>
                </a:lnTo>
                <a:lnTo>
                  <a:pt x="1134" y="944"/>
                </a:lnTo>
                <a:lnTo>
                  <a:pt x="1134" y="946"/>
                </a:lnTo>
                <a:lnTo>
                  <a:pt x="1132" y="948"/>
                </a:lnTo>
                <a:lnTo>
                  <a:pt x="1128" y="950"/>
                </a:lnTo>
                <a:lnTo>
                  <a:pt x="1124" y="954"/>
                </a:lnTo>
                <a:lnTo>
                  <a:pt x="1117" y="957"/>
                </a:lnTo>
                <a:lnTo>
                  <a:pt x="1111" y="959"/>
                </a:lnTo>
                <a:lnTo>
                  <a:pt x="1101" y="963"/>
                </a:lnTo>
                <a:lnTo>
                  <a:pt x="1092" y="965"/>
                </a:lnTo>
                <a:lnTo>
                  <a:pt x="1080" y="969"/>
                </a:lnTo>
                <a:lnTo>
                  <a:pt x="1067" y="973"/>
                </a:lnTo>
                <a:lnTo>
                  <a:pt x="1053" y="975"/>
                </a:lnTo>
                <a:lnTo>
                  <a:pt x="1038" y="978"/>
                </a:lnTo>
                <a:lnTo>
                  <a:pt x="1021" y="982"/>
                </a:lnTo>
                <a:lnTo>
                  <a:pt x="1004" y="984"/>
                </a:lnTo>
                <a:lnTo>
                  <a:pt x="982" y="986"/>
                </a:lnTo>
                <a:lnTo>
                  <a:pt x="961" y="99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4" name="Picture 9" descr="圣诞树6"/>
          <p:cNvPicPr/>
          <p:nvPr/>
        </p:nvPicPr>
        <p:blipFill>
          <a:blip r:embed="rId10"/>
          <a:stretch/>
        </p:blipFill>
        <p:spPr>
          <a:xfrm>
            <a:off x="7740720" y="5288040"/>
            <a:ext cx="1143000" cy="156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421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421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422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422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21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21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221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4221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423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423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423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423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1000"/>
                                        <p:tgtEl>
                                          <p:spTgt spid="4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00"/>
                            </p:stCondLst>
                            <p:childTnLst>
                              <p:par>
                                <p:cTn id="425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1000"/>
                                        <p:tgtEl>
                                          <p:spTgt spid="4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6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1000"/>
                                        <p:tgtEl>
                                          <p:spTgt spid="4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9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1000"/>
                                        <p:tgtEl>
                                          <p:spTgt spid="4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2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1000"/>
                                        <p:tgtEl>
                                          <p:spTgt spid="4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1000"/>
                                        <p:tgtEl>
                                          <p:spTgt spid="4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1000"/>
                                        <p:tgtEl>
                                          <p:spTgt spid="4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48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5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56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57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58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59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60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26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Text Box 12"/>
          <p:cNvSpPr/>
          <p:nvPr/>
        </p:nvSpPr>
        <p:spPr>
          <a:xfrm>
            <a:off x="1676520" y="9907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m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Text Box 13"/>
          <p:cNvSpPr/>
          <p:nvPr/>
        </p:nvSpPr>
        <p:spPr>
          <a:xfrm>
            <a:off x="4648320" y="2514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Text Box 14"/>
          <p:cNvSpPr/>
          <p:nvPr/>
        </p:nvSpPr>
        <p:spPr>
          <a:xfrm>
            <a:off x="4648320" y="34290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吞吞 快慢    缓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Text Box 15"/>
          <p:cNvSpPr/>
          <p:nvPr/>
        </p:nvSpPr>
        <p:spPr>
          <a:xfrm>
            <a:off x="533520" y="4952880"/>
            <a:ext cx="830556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加慢吞吞地吃着饭，看上去有点反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9" name="Group 16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270" name="Rectangle 17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Line 18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Line 19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73" name="Picture 20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274" name="Text Box 21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Text Box 22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Freeform 45"/>
          <p:cNvSpPr/>
          <p:nvPr/>
        </p:nvSpPr>
        <p:spPr>
          <a:xfrm>
            <a:off x="2244600" y="2308320"/>
            <a:ext cx="174600" cy="1801800"/>
          </a:xfrm>
          <a:custGeom>
            <a:avLst/>
            <a:gdLst>
              <a:gd name="textAreaLeft" fmla="*/ 0 w 174600"/>
              <a:gd name="textAreaRight" fmla="*/ 174960 w 174600"/>
              <a:gd name="textAreaTop" fmla="*/ 0 h 1801800"/>
              <a:gd name="textAreaBottom" fmla="*/ 1802160 h 1801800"/>
            </a:gdLst>
            <a:ahLst/>
            <a:rect l="textAreaLeft" t="textAreaTop" r="textAreaRight" b="textAreaBottom"/>
            <a:pathLst>
              <a:path w="221" h="2268">
                <a:moveTo>
                  <a:pt x="27" y="17"/>
                </a:moveTo>
                <a:lnTo>
                  <a:pt x="29" y="13"/>
                </a:lnTo>
                <a:lnTo>
                  <a:pt x="33" y="11"/>
                </a:lnTo>
                <a:lnTo>
                  <a:pt x="35" y="7"/>
                </a:lnTo>
                <a:lnTo>
                  <a:pt x="38" y="6"/>
                </a:lnTo>
                <a:lnTo>
                  <a:pt x="44" y="4"/>
                </a:lnTo>
                <a:lnTo>
                  <a:pt x="48" y="2"/>
                </a:lnTo>
                <a:lnTo>
                  <a:pt x="54" y="2"/>
                </a:lnTo>
                <a:lnTo>
                  <a:pt x="59" y="2"/>
                </a:lnTo>
                <a:lnTo>
                  <a:pt x="73" y="0"/>
                </a:lnTo>
                <a:lnTo>
                  <a:pt x="88" y="2"/>
                </a:lnTo>
                <a:lnTo>
                  <a:pt x="104" y="4"/>
                </a:lnTo>
                <a:lnTo>
                  <a:pt x="121" y="7"/>
                </a:lnTo>
                <a:lnTo>
                  <a:pt x="138" y="15"/>
                </a:lnTo>
                <a:lnTo>
                  <a:pt x="154" y="23"/>
                </a:lnTo>
                <a:lnTo>
                  <a:pt x="169" y="30"/>
                </a:lnTo>
                <a:lnTo>
                  <a:pt x="180" y="38"/>
                </a:lnTo>
                <a:lnTo>
                  <a:pt x="186" y="40"/>
                </a:lnTo>
                <a:lnTo>
                  <a:pt x="192" y="44"/>
                </a:lnTo>
                <a:lnTo>
                  <a:pt x="198" y="48"/>
                </a:lnTo>
                <a:lnTo>
                  <a:pt x="202" y="50"/>
                </a:lnTo>
                <a:lnTo>
                  <a:pt x="205" y="54"/>
                </a:lnTo>
                <a:lnTo>
                  <a:pt x="209" y="55"/>
                </a:lnTo>
                <a:lnTo>
                  <a:pt x="211" y="57"/>
                </a:lnTo>
                <a:lnTo>
                  <a:pt x="213" y="59"/>
                </a:lnTo>
                <a:lnTo>
                  <a:pt x="217" y="67"/>
                </a:lnTo>
                <a:lnTo>
                  <a:pt x="219" y="77"/>
                </a:lnTo>
                <a:lnTo>
                  <a:pt x="221" y="86"/>
                </a:lnTo>
                <a:lnTo>
                  <a:pt x="221" y="98"/>
                </a:lnTo>
                <a:lnTo>
                  <a:pt x="221" y="109"/>
                </a:lnTo>
                <a:lnTo>
                  <a:pt x="219" y="119"/>
                </a:lnTo>
                <a:lnTo>
                  <a:pt x="217" y="130"/>
                </a:lnTo>
                <a:lnTo>
                  <a:pt x="213" y="144"/>
                </a:lnTo>
                <a:lnTo>
                  <a:pt x="211" y="149"/>
                </a:lnTo>
                <a:lnTo>
                  <a:pt x="211" y="155"/>
                </a:lnTo>
                <a:lnTo>
                  <a:pt x="207" y="171"/>
                </a:lnTo>
                <a:lnTo>
                  <a:pt x="203" y="186"/>
                </a:lnTo>
                <a:lnTo>
                  <a:pt x="200" y="203"/>
                </a:lnTo>
                <a:lnTo>
                  <a:pt x="196" y="220"/>
                </a:lnTo>
                <a:lnTo>
                  <a:pt x="192" y="240"/>
                </a:lnTo>
                <a:lnTo>
                  <a:pt x="190" y="259"/>
                </a:lnTo>
                <a:lnTo>
                  <a:pt x="186" y="278"/>
                </a:lnTo>
                <a:lnTo>
                  <a:pt x="184" y="284"/>
                </a:lnTo>
                <a:lnTo>
                  <a:pt x="184" y="291"/>
                </a:lnTo>
                <a:lnTo>
                  <a:pt x="184" y="299"/>
                </a:lnTo>
                <a:lnTo>
                  <a:pt x="182" y="307"/>
                </a:lnTo>
                <a:lnTo>
                  <a:pt x="182" y="315"/>
                </a:lnTo>
                <a:lnTo>
                  <a:pt x="182" y="324"/>
                </a:lnTo>
                <a:lnTo>
                  <a:pt x="180" y="334"/>
                </a:lnTo>
                <a:lnTo>
                  <a:pt x="180" y="345"/>
                </a:lnTo>
                <a:lnTo>
                  <a:pt x="180" y="355"/>
                </a:lnTo>
                <a:lnTo>
                  <a:pt x="180" y="366"/>
                </a:lnTo>
                <a:lnTo>
                  <a:pt x="178" y="380"/>
                </a:lnTo>
                <a:lnTo>
                  <a:pt x="178" y="391"/>
                </a:lnTo>
                <a:lnTo>
                  <a:pt x="178" y="405"/>
                </a:lnTo>
                <a:lnTo>
                  <a:pt x="178" y="420"/>
                </a:lnTo>
                <a:lnTo>
                  <a:pt x="178" y="433"/>
                </a:lnTo>
                <a:lnTo>
                  <a:pt x="178" y="449"/>
                </a:lnTo>
                <a:lnTo>
                  <a:pt x="177" y="464"/>
                </a:lnTo>
                <a:lnTo>
                  <a:pt x="177" y="481"/>
                </a:lnTo>
                <a:lnTo>
                  <a:pt x="177" y="497"/>
                </a:lnTo>
                <a:lnTo>
                  <a:pt x="177" y="514"/>
                </a:lnTo>
                <a:lnTo>
                  <a:pt x="177" y="533"/>
                </a:lnTo>
                <a:lnTo>
                  <a:pt x="177" y="551"/>
                </a:lnTo>
                <a:lnTo>
                  <a:pt x="177" y="570"/>
                </a:lnTo>
                <a:lnTo>
                  <a:pt x="177" y="591"/>
                </a:lnTo>
                <a:lnTo>
                  <a:pt x="177" y="610"/>
                </a:lnTo>
                <a:lnTo>
                  <a:pt x="177" y="631"/>
                </a:lnTo>
                <a:lnTo>
                  <a:pt x="177" y="652"/>
                </a:lnTo>
                <a:lnTo>
                  <a:pt x="177" y="675"/>
                </a:lnTo>
                <a:lnTo>
                  <a:pt x="177" y="696"/>
                </a:lnTo>
                <a:lnTo>
                  <a:pt x="177" y="719"/>
                </a:lnTo>
                <a:lnTo>
                  <a:pt x="177" y="744"/>
                </a:lnTo>
                <a:lnTo>
                  <a:pt x="177" y="767"/>
                </a:lnTo>
                <a:lnTo>
                  <a:pt x="177" y="819"/>
                </a:lnTo>
                <a:lnTo>
                  <a:pt x="177" y="871"/>
                </a:lnTo>
                <a:lnTo>
                  <a:pt x="175" y="923"/>
                </a:lnTo>
                <a:lnTo>
                  <a:pt x="175" y="977"/>
                </a:lnTo>
                <a:lnTo>
                  <a:pt x="175" y="1032"/>
                </a:lnTo>
                <a:lnTo>
                  <a:pt x="173" y="1086"/>
                </a:lnTo>
                <a:lnTo>
                  <a:pt x="173" y="1142"/>
                </a:lnTo>
                <a:lnTo>
                  <a:pt x="171" y="1199"/>
                </a:lnTo>
                <a:lnTo>
                  <a:pt x="169" y="1257"/>
                </a:lnTo>
                <a:lnTo>
                  <a:pt x="167" y="1314"/>
                </a:lnTo>
                <a:lnTo>
                  <a:pt x="167" y="1374"/>
                </a:lnTo>
                <a:lnTo>
                  <a:pt x="165" y="1435"/>
                </a:lnTo>
                <a:lnTo>
                  <a:pt x="163" y="1497"/>
                </a:lnTo>
                <a:lnTo>
                  <a:pt x="161" y="1558"/>
                </a:lnTo>
                <a:lnTo>
                  <a:pt x="159" y="1621"/>
                </a:lnTo>
                <a:lnTo>
                  <a:pt x="157" y="1685"/>
                </a:lnTo>
                <a:lnTo>
                  <a:pt x="155" y="1717"/>
                </a:lnTo>
                <a:lnTo>
                  <a:pt x="154" y="1748"/>
                </a:lnTo>
                <a:lnTo>
                  <a:pt x="154" y="1777"/>
                </a:lnTo>
                <a:lnTo>
                  <a:pt x="152" y="1806"/>
                </a:lnTo>
                <a:lnTo>
                  <a:pt x="150" y="1834"/>
                </a:lnTo>
                <a:lnTo>
                  <a:pt x="148" y="1861"/>
                </a:lnTo>
                <a:lnTo>
                  <a:pt x="146" y="1886"/>
                </a:lnTo>
                <a:lnTo>
                  <a:pt x="144" y="1911"/>
                </a:lnTo>
                <a:lnTo>
                  <a:pt x="142" y="1936"/>
                </a:lnTo>
                <a:lnTo>
                  <a:pt x="140" y="1959"/>
                </a:lnTo>
                <a:lnTo>
                  <a:pt x="138" y="1982"/>
                </a:lnTo>
                <a:lnTo>
                  <a:pt x="138" y="2003"/>
                </a:lnTo>
                <a:lnTo>
                  <a:pt x="136" y="2022"/>
                </a:lnTo>
                <a:lnTo>
                  <a:pt x="134" y="2042"/>
                </a:lnTo>
                <a:lnTo>
                  <a:pt x="132" y="2061"/>
                </a:lnTo>
                <a:lnTo>
                  <a:pt x="130" y="2078"/>
                </a:lnTo>
                <a:lnTo>
                  <a:pt x="129" y="2095"/>
                </a:lnTo>
                <a:lnTo>
                  <a:pt x="129" y="2111"/>
                </a:lnTo>
                <a:lnTo>
                  <a:pt x="127" y="2126"/>
                </a:lnTo>
                <a:lnTo>
                  <a:pt x="125" y="2139"/>
                </a:lnTo>
                <a:lnTo>
                  <a:pt x="123" y="2153"/>
                </a:lnTo>
                <a:lnTo>
                  <a:pt x="123" y="2164"/>
                </a:lnTo>
                <a:lnTo>
                  <a:pt x="121" y="2176"/>
                </a:lnTo>
                <a:lnTo>
                  <a:pt x="119" y="2186"/>
                </a:lnTo>
                <a:lnTo>
                  <a:pt x="119" y="2195"/>
                </a:lnTo>
                <a:lnTo>
                  <a:pt x="117" y="2205"/>
                </a:lnTo>
                <a:lnTo>
                  <a:pt x="115" y="2212"/>
                </a:lnTo>
                <a:lnTo>
                  <a:pt x="115" y="2218"/>
                </a:lnTo>
                <a:lnTo>
                  <a:pt x="113" y="2224"/>
                </a:lnTo>
                <a:lnTo>
                  <a:pt x="113" y="2230"/>
                </a:lnTo>
                <a:lnTo>
                  <a:pt x="111" y="2234"/>
                </a:lnTo>
                <a:lnTo>
                  <a:pt x="111" y="2237"/>
                </a:lnTo>
                <a:lnTo>
                  <a:pt x="107" y="2245"/>
                </a:lnTo>
                <a:lnTo>
                  <a:pt x="104" y="2251"/>
                </a:lnTo>
                <a:lnTo>
                  <a:pt x="100" y="2257"/>
                </a:lnTo>
                <a:lnTo>
                  <a:pt x="98" y="2260"/>
                </a:lnTo>
                <a:lnTo>
                  <a:pt x="94" y="2264"/>
                </a:lnTo>
                <a:lnTo>
                  <a:pt x="90" y="2266"/>
                </a:lnTo>
                <a:lnTo>
                  <a:pt x="86" y="2268"/>
                </a:lnTo>
                <a:lnTo>
                  <a:pt x="83" y="2268"/>
                </a:lnTo>
                <a:lnTo>
                  <a:pt x="81" y="2266"/>
                </a:lnTo>
                <a:lnTo>
                  <a:pt x="79" y="2264"/>
                </a:lnTo>
                <a:lnTo>
                  <a:pt x="77" y="2260"/>
                </a:lnTo>
                <a:lnTo>
                  <a:pt x="75" y="2257"/>
                </a:lnTo>
                <a:lnTo>
                  <a:pt x="71" y="2253"/>
                </a:lnTo>
                <a:lnTo>
                  <a:pt x="69" y="2247"/>
                </a:lnTo>
                <a:lnTo>
                  <a:pt x="67" y="2241"/>
                </a:lnTo>
                <a:lnTo>
                  <a:pt x="63" y="2235"/>
                </a:lnTo>
                <a:lnTo>
                  <a:pt x="59" y="2230"/>
                </a:lnTo>
                <a:lnTo>
                  <a:pt x="58" y="2222"/>
                </a:lnTo>
                <a:lnTo>
                  <a:pt x="54" y="2214"/>
                </a:lnTo>
                <a:lnTo>
                  <a:pt x="50" y="2205"/>
                </a:lnTo>
                <a:lnTo>
                  <a:pt x="46" y="2197"/>
                </a:lnTo>
                <a:lnTo>
                  <a:pt x="44" y="2186"/>
                </a:lnTo>
                <a:lnTo>
                  <a:pt x="40" y="2176"/>
                </a:lnTo>
                <a:lnTo>
                  <a:pt x="36" y="2164"/>
                </a:lnTo>
                <a:lnTo>
                  <a:pt x="31" y="2151"/>
                </a:lnTo>
                <a:lnTo>
                  <a:pt x="27" y="2138"/>
                </a:lnTo>
                <a:lnTo>
                  <a:pt x="23" y="2126"/>
                </a:lnTo>
                <a:lnTo>
                  <a:pt x="19" y="2115"/>
                </a:lnTo>
                <a:lnTo>
                  <a:pt x="15" y="2105"/>
                </a:lnTo>
                <a:lnTo>
                  <a:pt x="13" y="2095"/>
                </a:lnTo>
                <a:lnTo>
                  <a:pt x="10" y="2086"/>
                </a:lnTo>
                <a:lnTo>
                  <a:pt x="8" y="2076"/>
                </a:lnTo>
                <a:lnTo>
                  <a:pt x="6" y="2068"/>
                </a:lnTo>
                <a:lnTo>
                  <a:pt x="4" y="2061"/>
                </a:lnTo>
                <a:lnTo>
                  <a:pt x="2" y="2055"/>
                </a:lnTo>
                <a:lnTo>
                  <a:pt x="2" y="2049"/>
                </a:lnTo>
                <a:lnTo>
                  <a:pt x="0" y="2044"/>
                </a:lnTo>
                <a:lnTo>
                  <a:pt x="0" y="2038"/>
                </a:lnTo>
                <a:lnTo>
                  <a:pt x="0" y="2032"/>
                </a:lnTo>
                <a:lnTo>
                  <a:pt x="0" y="2028"/>
                </a:lnTo>
                <a:lnTo>
                  <a:pt x="0" y="2026"/>
                </a:lnTo>
                <a:lnTo>
                  <a:pt x="0" y="2022"/>
                </a:lnTo>
                <a:lnTo>
                  <a:pt x="0" y="2017"/>
                </a:lnTo>
                <a:lnTo>
                  <a:pt x="2" y="2011"/>
                </a:lnTo>
                <a:lnTo>
                  <a:pt x="2" y="2003"/>
                </a:lnTo>
                <a:lnTo>
                  <a:pt x="4" y="1996"/>
                </a:lnTo>
                <a:lnTo>
                  <a:pt x="4" y="1986"/>
                </a:lnTo>
                <a:lnTo>
                  <a:pt x="6" y="1974"/>
                </a:lnTo>
                <a:lnTo>
                  <a:pt x="8" y="1961"/>
                </a:lnTo>
                <a:lnTo>
                  <a:pt x="10" y="1948"/>
                </a:lnTo>
                <a:lnTo>
                  <a:pt x="13" y="1934"/>
                </a:lnTo>
                <a:lnTo>
                  <a:pt x="15" y="1917"/>
                </a:lnTo>
                <a:lnTo>
                  <a:pt x="17" y="1900"/>
                </a:lnTo>
                <a:lnTo>
                  <a:pt x="21" y="1882"/>
                </a:lnTo>
                <a:lnTo>
                  <a:pt x="23" y="1863"/>
                </a:lnTo>
                <a:lnTo>
                  <a:pt x="27" y="1842"/>
                </a:lnTo>
                <a:lnTo>
                  <a:pt x="29" y="1819"/>
                </a:lnTo>
                <a:lnTo>
                  <a:pt x="31" y="1794"/>
                </a:lnTo>
                <a:lnTo>
                  <a:pt x="33" y="1769"/>
                </a:lnTo>
                <a:lnTo>
                  <a:pt x="36" y="1742"/>
                </a:lnTo>
                <a:lnTo>
                  <a:pt x="38" y="1712"/>
                </a:lnTo>
                <a:lnTo>
                  <a:pt x="40" y="1681"/>
                </a:lnTo>
                <a:lnTo>
                  <a:pt x="42" y="1664"/>
                </a:lnTo>
                <a:lnTo>
                  <a:pt x="44" y="1646"/>
                </a:lnTo>
                <a:lnTo>
                  <a:pt x="44" y="1629"/>
                </a:lnTo>
                <a:lnTo>
                  <a:pt x="46" y="1612"/>
                </a:lnTo>
                <a:lnTo>
                  <a:pt x="48" y="1594"/>
                </a:lnTo>
                <a:lnTo>
                  <a:pt x="48" y="1575"/>
                </a:lnTo>
                <a:lnTo>
                  <a:pt x="50" y="1556"/>
                </a:lnTo>
                <a:lnTo>
                  <a:pt x="52" y="1535"/>
                </a:lnTo>
                <a:lnTo>
                  <a:pt x="52" y="1516"/>
                </a:lnTo>
                <a:lnTo>
                  <a:pt x="54" y="1495"/>
                </a:lnTo>
                <a:lnTo>
                  <a:pt x="56" y="1474"/>
                </a:lnTo>
                <a:lnTo>
                  <a:pt x="56" y="1451"/>
                </a:lnTo>
                <a:lnTo>
                  <a:pt x="58" y="1429"/>
                </a:lnTo>
                <a:lnTo>
                  <a:pt x="58" y="1406"/>
                </a:lnTo>
                <a:lnTo>
                  <a:pt x="59" y="1383"/>
                </a:lnTo>
                <a:lnTo>
                  <a:pt x="61" y="1358"/>
                </a:lnTo>
                <a:lnTo>
                  <a:pt x="61" y="1333"/>
                </a:lnTo>
                <a:lnTo>
                  <a:pt x="63" y="1309"/>
                </a:lnTo>
                <a:lnTo>
                  <a:pt x="63" y="1284"/>
                </a:lnTo>
                <a:lnTo>
                  <a:pt x="65" y="1259"/>
                </a:lnTo>
                <a:lnTo>
                  <a:pt x="67" y="1205"/>
                </a:lnTo>
                <a:lnTo>
                  <a:pt x="67" y="1153"/>
                </a:lnTo>
                <a:lnTo>
                  <a:pt x="71" y="1051"/>
                </a:lnTo>
                <a:lnTo>
                  <a:pt x="75" y="950"/>
                </a:lnTo>
                <a:lnTo>
                  <a:pt x="77" y="850"/>
                </a:lnTo>
                <a:lnTo>
                  <a:pt x="81" y="752"/>
                </a:lnTo>
                <a:lnTo>
                  <a:pt x="83" y="656"/>
                </a:lnTo>
                <a:lnTo>
                  <a:pt x="83" y="560"/>
                </a:lnTo>
                <a:lnTo>
                  <a:pt x="83" y="466"/>
                </a:lnTo>
                <a:lnTo>
                  <a:pt x="83" y="443"/>
                </a:lnTo>
                <a:lnTo>
                  <a:pt x="83" y="420"/>
                </a:lnTo>
                <a:lnTo>
                  <a:pt x="83" y="399"/>
                </a:lnTo>
                <a:lnTo>
                  <a:pt x="83" y="378"/>
                </a:lnTo>
                <a:lnTo>
                  <a:pt x="83" y="357"/>
                </a:lnTo>
                <a:lnTo>
                  <a:pt x="83" y="338"/>
                </a:lnTo>
                <a:lnTo>
                  <a:pt x="83" y="318"/>
                </a:lnTo>
                <a:lnTo>
                  <a:pt x="81" y="299"/>
                </a:lnTo>
                <a:lnTo>
                  <a:pt x="81" y="282"/>
                </a:lnTo>
                <a:lnTo>
                  <a:pt x="81" y="265"/>
                </a:lnTo>
                <a:lnTo>
                  <a:pt x="79" y="249"/>
                </a:lnTo>
                <a:lnTo>
                  <a:pt x="79" y="234"/>
                </a:lnTo>
                <a:lnTo>
                  <a:pt x="79" y="219"/>
                </a:lnTo>
                <a:lnTo>
                  <a:pt x="77" y="203"/>
                </a:lnTo>
                <a:lnTo>
                  <a:pt x="77" y="190"/>
                </a:lnTo>
                <a:lnTo>
                  <a:pt x="75" y="176"/>
                </a:lnTo>
                <a:lnTo>
                  <a:pt x="73" y="165"/>
                </a:lnTo>
                <a:lnTo>
                  <a:pt x="73" y="153"/>
                </a:lnTo>
                <a:lnTo>
                  <a:pt x="71" y="142"/>
                </a:lnTo>
                <a:lnTo>
                  <a:pt x="69" y="132"/>
                </a:lnTo>
                <a:lnTo>
                  <a:pt x="69" y="123"/>
                </a:lnTo>
                <a:lnTo>
                  <a:pt x="67" y="113"/>
                </a:lnTo>
                <a:lnTo>
                  <a:pt x="65" y="105"/>
                </a:lnTo>
                <a:lnTo>
                  <a:pt x="63" y="98"/>
                </a:lnTo>
                <a:lnTo>
                  <a:pt x="61" y="90"/>
                </a:lnTo>
                <a:lnTo>
                  <a:pt x="59" y="84"/>
                </a:lnTo>
                <a:lnTo>
                  <a:pt x="58" y="78"/>
                </a:lnTo>
                <a:lnTo>
                  <a:pt x="56" y="73"/>
                </a:lnTo>
                <a:lnTo>
                  <a:pt x="54" y="69"/>
                </a:lnTo>
                <a:lnTo>
                  <a:pt x="52" y="65"/>
                </a:lnTo>
                <a:lnTo>
                  <a:pt x="48" y="61"/>
                </a:lnTo>
                <a:lnTo>
                  <a:pt x="46" y="59"/>
                </a:lnTo>
                <a:lnTo>
                  <a:pt x="40" y="57"/>
                </a:lnTo>
                <a:lnTo>
                  <a:pt x="36" y="55"/>
                </a:lnTo>
                <a:lnTo>
                  <a:pt x="33" y="54"/>
                </a:lnTo>
                <a:lnTo>
                  <a:pt x="31" y="50"/>
                </a:lnTo>
                <a:lnTo>
                  <a:pt x="27" y="48"/>
                </a:lnTo>
                <a:lnTo>
                  <a:pt x="25" y="44"/>
                </a:lnTo>
                <a:lnTo>
                  <a:pt x="23" y="42"/>
                </a:lnTo>
                <a:lnTo>
                  <a:pt x="23" y="38"/>
                </a:lnTo>
                <a:lnTo>
                  <a:pt x="21" y="32"/>
                </a:lnTo>
                <a:lnTo>
                  <a:pt x="23" y="27"/>
                </a:lnTo>
                <a:lnTo>
                  <a:pt x="25" y="23"/>
                </a:lnTo>
                <a:lnTo>
                  <a:pt x="27" y="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Freeform 46"/>
          <p:cNvSpPr/>
          <p:nvPr/>
        </p:nvSpPr>
        <p:spPr>
          <a:xfrm>
            <a:off x="2376360" y="2727360"/>
            <a:ext cx="227160" cy="166680"/>
          </a:xfrm>
          <a:custGeom>
            <a:avLst/>
            <a:gdLst>
              <a:gd name="textAreaLeft" fmla="*/ 0 w 227160"/>
              <a:gd name="textAreaRight" fmla="*/ 227160 w 227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6" h="209">
                <a:moveTo>
                  <a:pt x="205" y="32"/>
                </a:moveTo>
                <a:lnTo>
                  <a:pt x="219" y="40"/>
                </a:lnTo>
                <a:lnTo>
                  <a:pt x="230" y="49"/>
                </a:lnTo>
                <a:lnTo>
                  <a:pt x="242" y="59"/>
                </a:lnTo>
                <a:lnTo>
                  <a:pt x="253" y="69"/>
                </a:lnTo>
                <a:lnTo>
                  <a:pt x="261" y="80"/>
                </a:lnTo>
                <a:lnTo>
                  <a:pt x="269" y="92"/>
                </a:lnTo>
                <a:lnTo>
                  <a:pt x="276" y="103"/>
                </a:lnTo>
                <a:lnTo>
                  <a:pt x="280" y="115"/>
                </a:lnTo>
                <a:lnTo>
                  <a:pt x="282" y="130"/>
                </a:lnTo>
                <a:lnTo>
                  <a:pt x="284" y="143"/>
                </a:lnTo>
                <a:lnTo>
                  <a:pt x="286" y="157"/>
                </a:lnTo>
                <a:lnTo>
                  <a:pt x="286" y="168"/>
                </a:lnTo>
                <a:lnTo>
                  <a:pt x="286" y="178"/>
                </a:lnTo>
                <a:lnTo>
                  <a:pt x="284" y="188"/>
                </a:lnTo>
                <a:lnTo>
                  <a:pt x="282" y="193"/>
                </a:lnTo>
                <a:lnTo>
                  <a:pt x="282" y="195"/>
                </a:lnTo>
                <a:lnTo>
                  <a:pt x="280" y="199"/>
                </a:lnTo>
                <a:lnTo>
                  <a:pt x="278" y="201"/>
                </a:lnTo>
                <a:lnTo>
                  <a:pt x="274" y="205"/>
                </a:lnTo>
                <a:lnTo>
                  <a:pt x="271" y="207"/>
                </a:lnTo>
                <a:lnTo>
                  <a:pt x="267" y="209"/>
                </a:lnTo>
                <a:lnTo>
                  <a:pt x="261" y="209"/>
                </a:lnTo>
                <a:lnTo>
                  <a:pt x="253" y="209"/>
                </a:lnTo>
                <a:lnTo>
                  <a:pt x="248" y="207"/>
                </a:lnTo>
                <a:lnTo>
                  <a:pt x="238" y="205"/>
                </a:lnTo>
                <a:lnTo>
                  <a:pt x="230" y="203"/>
                </a:lnTo>
                <a:lnTo>
                  <a:pt x="221" y="199"/>
                </a:lnTo>
                <a:lnTo>
                  <a:pt x="211" y="193"/>
                </a:lnTo>
                <a:lnTo>
                  <a:pt x="200" y="188"/>
                </a:lnTo>
                <a:lnTo>
                  <a:pt x="188" y="182"/>
                </a:lnTo>
                <a:lnTo>
                  <a:pt x="177" y="174"/>
                </a:lnTo>
                <a:lnTo>
                  <a:pt x="163" y="166"/>
                </a:lnTo>
                <a:lnTo>
                  <a:pt x="150" y="157"/>
                </a:lnTo>
                <a:lnTo>
                  <a:pt x="136" y="147"/>
                </a:lnTo>
                <a:lnTo>
                  <a:pt x="123" y="138"/>
                </a:lnTo>
                <a:lnTo>
                  <a:pt x="109" y="128"/>
                </a:lnTo>
                <a:lnTo>
                  <a:pt x="98" y="117"/>
                </a:lnTo>
                <a:lnTo>
                  <a:pt x="88" y="107"/>
                </a:lnTo>
                <a:lnTo>
                  <a:pt x="77" y="97"/>
                </a:lnTo>
                <a:lnTo>
                  <a:pt x="67" y="88"/>
                </a:lnTo>
                <a:lnTo>
                  <a:pt x="58" y="78"/>
                </a:lnTo>
                <a:lnTo>
                  <a:pt x="48" y="69"/>
                </a:lnTo>
                <a:lnTo>
                  <a:pt x="40" y="59"/>
                </a:lnTo>
                <a:lnTo>
                  <a:pt x="33" y="49"/>
                </a:lnTo>
                <a:lnTo>
                  <a:pt x="25" y="40"/>
                </a:lnTo>
                <a:lnTo>
                  <a:pt x="17" y="30"/>
                </a:lnTo>
                <a:lnTo>
                  <a:pt x="11" y="21"/>
                </a:lnTo>
                <a:lnTo>
                  <a:pt x="6" y="11"/>
                </a:lnTo>
                <a:lnTo>
                  <a:pt x="0" y="0"/>
                </a:lnTo>
                <a:lnTo>
                  <a:pt x="19" y="0"/>
                </a:lnTo>
                <a:lnTo>
                  <a:pt x="36" y="1"/>
                </a:lnTo>
                <a:lnTo>
                  <a:pt x="56" y="1"/>
                </a:lnTo>
                <a:lnTo>
                  <a:pt x="71" y="1"/>
                </a:lnTo>
                <a:lnTo>
                  <a:pt x="88" y="3"/>
                </a:lnTo>
                <a:lnTo>
                  <a:pt x="104" y="5"/>
                </a:lnTo>
                <a:lnTo>
                  <a:pt x="117" y="7"/>
                </a:lnTo>
                <a:lnTo>
                  <a:pt x="130" y="7"/>
                </a:lnTo>
                <a:lnTo>
                  <a:pt x="144" y="11"/>
                </a:lnTo>
                <a:lnTo>
                  <a:pt x="155" y="13"/>
                </a:lnTo>
                <a:lnTo>
                  <a:pt x="167" y="15"/>
                </a:lnTo>
                <a:lnTo>
                  <a:pt x="177" y="19"/>
                </a:lnTo>
                <a:lnTo>
                  <a:pt x="184" y="21"/>
                </a:lnTo>
                <a:lnTo>
                  <a:pt x="192" y="24"/>
                </a:lnTo>
                <a:lnTo>
                  <a:pt x="200" y="28"/>
                </a:lnTo>
                <a:lnTo>
                  <a:pt x="205" y="3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Freeform 47"/>
          <p:cNvSpPr/>
          <p:nvPr/>
        </p:nvSpPr>
        <p:spPr>
          <a:xfrm>
            <a:off x="1986120" y="2868480"/>
            <a:ext cx="164880" cy="457200"/>
          </a:xfrm>
          <a:custGeom>
            <a:avLst/>
            <a:gdLst>
              <a:gd name="textAreaLeft" fmla="*/ 0 w 164880"/>
              <a:gd name="textAreaRight" fmla="*/ 165240 w 164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7" h="576">
                <a:moveTo>
                  <a:pt x="65" y="572"/>
                </a:moveTo>
                <a:lnTo>
                  <a:pt x="59" y="574"/>
                </a:lnTo>
                <a:lnTo>
                  <a:pt x="55" y="576"/>
                </a:lnTo>
                <a:lnTo>
                  <a:pt x="50" y="576"/>
                </a:lnTo>
                <a:lnTo>
                  <a:pt x="46" y="574"/>
                </a:lnTo>
                <a:lnTo>
                  <a:pt x="42" y="574"/>
                </a:lnTo>
                <a:lnTo>
                  <a:pt x="40" y="572"/>
                </a:lnTo>
                <a:lnTo>
                  <a:pt x="36" y="568"/>
                </a:lnTo>
                <a:lnTo>
                  <a:pt x="34" y="564"/>
                </a:lnTo>
                <a:lnTo>
                  <a:pt x="30" y="560"/>
                </a:lnTo>
                <a:lnTo>
                  <a:pt x="29" y="556"/>
                </a:lnTo>
                <a:lnTo>
                  <a:pt x="27" y="551"/>
                </a:lnTo>
                <a:lnTo>
                  <a:pt x="25" y="543"/>
                </a:lnTo>
                <a:lnTo>
                  <a:pt x="23" y="535"/>
                </a:lnTo>
                <a:lnTo>
                  <a:pt x="21" y="528"/>
                </a:lnTo>
                <a:lnTo>
                  <a:pt x="19" y="520"/>
                </a:lnTo>
                <a:lnTo>
                  <a:pt x="17" y="510"/>
                </a:lnTo>
                <a:lnTo>
                  <a:pt x="13" y="495"/>
                </a:lnTo>
                <a:lnTo>
                  <a:pt x="11" y="482"/>
                </a:lnTo>
                <a:lnTo>
                  <a:pt x="7" y="468"/>
                </a:lnTo>
                <a:lnTo>
                  <a:pt x="6" y="457"/>
                </a:lnTo>
                <a:lnTo>
                  <a:pt x="2" y="447"/>
                </a:lnTo>
                <a:lnTo>
                  <a:pt x="0" y="438"/>
                </a:lnTo>
                <a:lnTo>
                  <a:pt x="0" y="432"/>
                </a:lnTo>
                <a:lnTo>
                  <a:pt x="0" y="430"/>
                </a:lnTo>
                <a:lnTo>
                  <a:pt x="0" y="426"/>
                </a:lnTo>
                <a:lnTo>
                  <a:pt x="0" y="424"/>
                </a:lnTo>
                <a:lnTo>
                  <a:pt x="0" y="422"/>
                </a:lnTo>
                <a:lnTo>
                  <a:pt x="2" y="418"/>
                </a:lnTo>
                <a:lnTo>
                  <a:pt x="2" y="414"/>
                </a:lnTo>
                <a:lnTo>
                  <a:pt x="4" y="411"/>
                </a:lnTo>
                <a:lnTo>
                  <a:pt x="6" y="407"/>
                </a:lnTo>
                <a:lnTo>
                  <a:pt x="9" y="401"/>
                </a:lnTo>
                <a:lnTo>
                  <a:pt x="11" y="395"/>
                </a:lnTo>
                <a:lnTo>
                  <a:pt x="15" y="390"/>
                </a:lnTo>
                <a:lnTo>
                  <a:pt x="19" y="384"/>
                </a:lnTo>
                <a:lnTo>
                  <a:pt x="23" y="376"/>
                </a:lnTo>
                <a:lnTo>
                  <a:pt x="27" y="368"/>
                </a:lnTo>
                <a:lnTo>
                  <a:pt x="30" y="361"/>
                </a:lnTo>
                <a:lnTo>
                  <a:pt x="36" y="351"/>
                </a:lnTo>
                <a:lnTo>
                  <a:pt x="40" y="342"/>
                </a:lnTo>
                <a:lnTo>
                  <a:pt x="46" y="334"/>
                </a:lnTo>
                <a:lnTo>
                  <a:pt x="52" y="324"/>
                </a:lnTo>
                <a:lnTo>
                  <a:pt x="55" y="315"/>
                </a:lnTo>
                <a:lnTo>
                  <a:pt x="61" y="301"/>
                </a:lnTo>
                <a:lnTo>
                  <a:pt x="65" y="288"/>
                </a:lnTo>
                <a:lnTo>
                  <a:pt x="69" y="272"/>
                </a:lnTo>
                <a:lnTo>
                  <a:pt x="75" y="255"/>
                </a:lnTo>
                <a:lnTo>
                  <a:pt x="78" y="238"/>
                </a:lnTo>
                <a:lnTo>
                  <a:pt x="82" y="217"/>
                </a:lnTo>
                <a:lnTo>
                  <a:pt x="88" y="196"/>
                </a:lnTo>
                <a:lnTo>
                  <a:pt x="92" y="173"/>
                </a:lnTo>
                <a:lnTo>
                  <a:pt x="96" y="148"/>
                </a:lnTo>
                <a:lnTo>
                  <a:pt x="101" y="121"/>
                </a:lnTo>
                <a:lnTo>
                  <a:pt x="105" y="92"/>
                </a:lnTo>
                <a:lnTo>
                  <a:pt x="111" y="63"/>
                </a:lnTo>
                <a:lnTo>
                  <a:pt x="115" y="33"/>
                </a:lnTo>
                <a:lnTo>
                  <a:pt x="121" y="0"/>
                </a:lnTo>
                <a:lnTo>
                  <a:pt x="136" y="19"/>
                </a:lnTo>
                <a:lnTo>
                  <a:pt x="151" y="40"/>
                </a:lnTo>
                <a:lnTo>
                  <a:pt x="165" y="61"/>
                </a:lnTo>
                <a:lnTo>
                  <a:pt x="176" y="84"/>
                </a:lnTo>
                <a:lnTo>
                  <a:pt x="186" y="107"/>
                </a:lnTo>
                <a:lnTo>
                  <a:pt x="194" y="130"/>
                </a:lnTo>
                <a:lnTo>
                  <a:pt x="199" y="154"/>
                </a:lnTo>
                <a:lnTo>
                  <a:pt x="203" y="177"/>
                </a:lnTo>
                <a:lnTo>
                  <a:pt x="205" y="188"/>
                </a:lnTo>
                <a:lnTo>
                  <a:pt x="207" y="201"/>
                </a:lnTo>
                <a:lnTo>
                  <a:pt x="207" y="213"/>
                </a:lnTo>
                <a:lnTo>
                  <a:pt x="205" y="226"/>
                </a:lnTo>
                <a:lnTo>
                  <a:pt x="205" y="238"/>
                </a:lnTo>
                <a:lnTo>
                  <a:pt x="203" y="251"/>
                </a:lnTo>
                <a:lnTo>
                  <a:pt x="201" y="265"/>
                </a:lnTo>
                <a:lnTo>
                  <a:pt x="197" y="280"/>
                </a:lnTo>
                <a:lnTo>
                  <a:pt x="196" y="294"/>
                </a:lnTo>
                <a:lnTo>
                  <a:pt x="192" y="309"/>
                </a:lnTo>
                <a:lnTo>
                  <a:pt x="186" y="324"/>
                </a:lnTo>
                <a:lnTo>
                  <a:pt x="182" y="340"/>
                </a:lnTo>
                <a:lnTo>
                  <a:pt x="171" y="372"/>
                </a:lnTo>
                <a:lnTo>
                  <a:pt x="165" y="388"/>
                </a:lnTo>
                <a:lnTo>
                  <a:pt x="157" y="407"/>
                </a:lnTo>
                <a:lnTo>
                  <a:pt x="151" y="424"/>
                </a:lnTo>
                <a:lnTo>
                  <a:pt x="144" y="439"/>
                </a:lnTo>
                <a:lnTo>
                  <a:pt x="138" y="455"/>
                </a:lnTo>
                <a:lnTo>
                  <a:pt x="132" y="470"/>
                </a:lnTo>
                <a:lnTo>
                  <a:pt x="124" y="484"/>
                </a:lnTo>
                <a:lnTo>
                  <a:pt x="119" y="497"/>
                </a:lnTo>
                <a:lnTo>
                  <a:pt x="113" y="509"/>
                </a:lnTo>
                <a:lnTo>
                  <a:pt x="107" y="520"/>
                </a:lnTo>
                <a:lnTo>
                  <a:pt x="101" y="532"/>
                </a:lnTo>
                <a:lnTo>
                  <a:pt x="96" y="539"/>
                </a:lnTo>
                <a:lnTo>
                  <a:pt x="90" y="549"/>
                </a:lnTo>
                <a:lnTo>
                  <a:pt x="86" y="555"/>
                </a:lnTo>
                <a:lnTo>
                  <a:pt x="80" y="562"/>
                </a:lnTo>
                <a:lnTo>
                  <a:pt x="75" y="566"/>
                </a:lnTo>
                <a:lnTo>
                  <a:pt x="69" y="570"/>
                </a:lnTo>
                <a:lnTo>
                  <a:pt x="65" y="57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Freeform 48"/>
          <p:cNvSpPr/>
          <p:nvPr/>
        </p:nvSpPr>
        <p:spPr>
          <a:xfrm>
            <a:off x="2581200" y="2979720"/>
            <a:ext cx="136440" cy="35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73" h="445">
                <a:moveTo>
                  <a:pt x="14" y="8"/>
                </a:moveTo>
                <a:lnTo>
                  <a:pt x="21" y="4"/>
                </a:lnTo>
                <a:lnTo>
                  <a:pt x="31" y="2"/>
                </a:lnTo>
                <a:lnTo>
                  <a:pt x="42" y="0"/>
                </a:lnTo>
                <a:lnTo>
                  <a:pt x="48" y="2"/>
                </a:lnTo>
                <a:lnTo>
                  <a:pt x="54" y="2"/>
                </a:lnTo>
                <a:lnTo>
                  <a:pt x="62" y="4"/>
                </a:lnTo>
                <a:lnTo>
                  <a:pt x="67" y="6"/>
                </a:lnTo>
                <a:lnTo>
                  <a:pt x="75" y="8"/>
                </a:lnTo>
                <a:lnTo>
                  <a:pt x="83" y="10"/>
                </a:lnTo>
                <a:lnTo>
                  <a:pt x="90" y="14"/>
                </a:lnTo>
                <a:lnTo>
                  <a:pt x="100" y="17"/>
                </a:lnTo>
                <a:lnTo>
                  <a:pt x="108" y="23"/>
                </a:lnTo>
                <a:lnTo>
                  <a:pt x="115" y="29"/>
                </a:lnTo>
                <a:lnTo>
                  <a:pt x="123" y="65"/>
                </a:lnTo>
                <a:lnTo>
                  <a:pt x="129" y="100"/>
                </a:lnTo>
                <a:lnTo>
                  <a:pt x="134" y="133"/>
                </a:lnTo>
                <a:lnTo>
                  <a:pt x="140" y="163"/>
                </a:lnTo>
                <a:lnTo>
                  <a:pt x="146" y="192"/>
                </a:lnTo>
                <a:lnTo>
                  <a:pt x="150" y="219"/>
                </a:lnTo>
                <a:lnTo>
                  <a:pt x="152" y="232"/>
                </a:lnTo>
                <a:lnTo>
                  <a:pt x="154" y="244"/>
                </a:lnTo>
                <a:lnTo>
                  <a:pt x="156" y="257"/>
                </a:lnTo>
                <a:lnTo>
                  <a:pt x="157" y="269"/>
                </a:lnTo>
                <a:lnTo>
                  <a:pt x="159" y="278"/>
                </a:lnTo>
                <a:lnTo>
                  <a:pt x="161" y="290"/>
                </a:lnTo>
                <a:lnTo>
                  <a:pt x="163" y="300"/>
                </a:lnTo>
                <a:lnTo>
                  <a:pt x="163" y="309"/>
                </a:lnTo>
                <a:lnTo>
                  <a:pt x="165" y="319"/>
                </a:lnTo>
                <a:lnTo>
                  <a:pt x="167" y="326"/>
                </a:lnTo>
                <a:lnTo>
                  <a:pt x="167" y="334"/>
                </a:lnTo>
                <a:lnTo>
                  <a:pt x="169" y="342"/>
                </a:lnTo>
                <a:lnTo>
                  <a:pt x="169" y="349"/>
                </a:lnTo>
                <a:lnTo>
                  <a:pt x="169" y="355"/>
                </a:lnTo>
                <a:lnTo>
                  <a:pt x="171" y="361"/>
                </a:lnTo>
                <a:lnTo>
                  <a:pt x="171" y="367"/>
                </a:lnTo>
                <a:lnTo>
                  <a:pt x="171" y="371"/>
                </a:lnTo>
                <a:lnTo>
                  <a:pt x="171" y="376"/>
                </a:lnTo>
                <a:lnTo>
                  <a:pt x="171" y="380"/>
                </a:lnTo>
                <a:lnTo>
                  <a:pt x="173" y="382"/>
                </a:lnTo>
                <a:lnTo>
                  <a:pt x="171" y="390"/>
                </a:lnTo>
                <a:lnTo>
                  <a:pt x="171" y="397"/>
                </a:lnTo>
                <a:lnTo>
                  <a:pt x="171" y="403"/>
                </a:lnTo>
                <a:lnTo>
                  <a:pt x="171" y="411"/>
                </a:lnTo>
                <a:lnTo>
                  <a:pt x="169" y="415"/>
                </a:lnTo>
                <a:lnTo>
                  <a:pt x="167" y="420"/>
                </a:lnTo>
                <a:lnTo>
                  <a:pt x="167" y="426"/>
                </a:lnTo>
                <a:lnTo>
                  <a:pt x="165" y="430"/>
                </a:lnTo>
                <a:lnTo>
                  <a:pt x="163" y="434"/>
                </a:lnTo>
                <a:lnTo>
                  <a:pt x="161" y="436"/>
                </a:lnTo>
                <a:lnTo>
                  <a:pt x="159" y="440"/>
                </a:lnTo>
                <a:lnTo>
                  <a:pt x="156" y="442"/>
                </a:lnTo>
                <a:lnTo>
                  <a:pt x="154" y="443"/>
                </a:lnTo>
                <a:lnTo>
                  <a:pt x="150" y="443"/>
                </a:lnTo>
                <a:lnTo>
                  <a:pt x="148" y="445"/>
                </a:lnTo>
                <a:lnTo>
                  <a:pt x="144" y="445"/>
                </a:lnTo>
                <a:lnTo>
                  <a:pt x="140" y="443"/>
                </a:lnTo>
                <a:lnTo>
                  <a:pt x="136" y="442"/>
                </a:lnTo>
                <a:lnTo>
                  <a:pt x="134" y="440"/>
                </a:lnTo>
                <a:lnTo>
                  <a:pt x="131" y="436"/>
                </a:lnTo>
                <a:lnTo>
                  <a:pt x="127" y="430"/>
                </a:lnTo>
                <a:lnTo>
                  <a:pt x="123" y="422"/>
                </a:lnTo>
                <a:lnTo>
                  <a:pt x="119" y="415"/>
                </a:lnTo>
                <a:lnTo>
                  <a:pt x="115" y="405"/>
                </a:lnTo>
                <a:lnTo>
                  <a:pt x="113" y="395"/>
                </a:lnTo>
                <a:lnTo>
                  <a:pt x="110" y="384"/>
                </a:lnTo>
                <a:lnTo>
                  <a:pt x="106" y="371"/>
                </a:lnTo>
                <a:lnTo>
                  <a:pt x="102" y="357"/>
                </a:lnTo>
                <a:lnTo>
                  <a:pt x="98" y="342"/>
                </a:lnTo>
                <a:lnTo>
                  <a:pt x="94" y="324"/>
                </a:lnTo>
                <a:lnTo>
                  <a:pt x="92" y="307"/>
                </a:lnTo>
                <a:lnTo>
                  <a:pt x="88" y="288"/>
                </a:lnTo>
                <a:lnTo>
                  <a:pt x="83" y="271"/>
                </a:lnTo>
                <a:lnTo>
                  <a:pt x="79" y="255"/>
                </a:lnTo>
                <a:lnTo>
                  <a:pt x="73" y="238"/>
                </a:lnTo>
                <a:lnTo>
                  <a:pt x="69" y="223"/>
                </a:lnTo>
                <a:lnTo>
                  <a:pt x="65" y="207"/>
                </a:lnTo>
                <a:lnTo>
                  <a:pt x="60" y="192"/>
                </a:lnTo>
                <a:lnTo>
                  <a:pt x="56" y="179"/>
                </a:lnTo>
                <a:lnTo>
                  <a:pt x="52" y="165"/>
                </a:lnTo>
                <a:lnTo>
                  <a:pt x="48" y="152"/>
                </a:lnTo>
                <a:lnTo>
                  <a:pt x="44" y="140"/>
                </a:lnTo>
                <a:lnTo>
                  <a:pt x="40" y="129"/>
                </a:lnTo>
                <a:lnTo>
                  <a:pt x="37" y="117"/>
                </a:lnTo>
                <a:lnTo>
                  <a:pt x="33" y="108"/>
                </a:lnTo>
                <a:lnTo>
                  <a:pt x="29" y="98"/>
                </a:lnTo>
                <a:lnTo>
                  <a:pt x="27" y="88"/>
                </a:lnTo>
                <a:lnTo>
                  <a:pt x="23" y="81"/>
                </a:lnTo>
                <a:lnTo>
                  <a:pt x="17" y="75"/>
                </a:lnTo>
                <a:lnTo>
                  <a:pt x="14" y="69"/>
                </a:lnTo>
                <a:lnTo>
                  <a:pt x="10" y="63"/>
                </a:lnTo>
                <a:lnTo>
                  <a:pt x="8" y="58"/>
                </a:lnTo>
                <a:lnTo>
                  <a:pt x="4" y="52"/>
                </a:lnTo>
                <a:lnTo>
                  <a:pt x="2" y="46"/>
                </a:lnTo>
                <a:lnTo>
                  <a:pt x="2" y="40"/>
                </a:lnTo>
                <a:lnTo>
                  <a:pt x="0" y="37"/>
                </a:lnTo>
                <a:lnTo>
                  <a:pt x="0" y="31"/>
                </a:lnTo>
                <a:lnTo>
                  <a:pt x="0" y="27"/>
                </a:lnTo>
                <a:lnTo>
                  <a:pt x="2" y="23"/>
                </a:lnTo>
                <a:lnTo>
                  <a:pt x="4" y="19"/>
                </a:lnTo>
                <a:lnTo>
                  <a:pt x="6" y="16"/>
                </a:lnTo>
                <a:lnTo>
                  <a:pt x="8" y="12"/>
                </a:lnTo>
                <a:lnTo>
                  <a:pt x="14" y="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Freeform 49"/>
          <p:cNvSpPr/>
          <p:nvPr/>
        </p:nvSpPr>
        <p:spPr>
          <a:xfrm>
            <a:off x="2637000" y="2849400"/>
            <a:ext cx="923760" cy="376560"/>
          </a:xfrm>
          <a:custGeom>
            <a:avLst/>
            <a:gdLst>
              <a:gd name="textAreaLeft" fmla="*/ 0 w 923760"/>
              <a:gd name="textAreaRight" fmla="*/ 924120 w 92376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165" h="474">
                <a:moveTo>
                  <a:pt x="0" y="265"/>
                </a:moveTo>
                <a:lnTo>
                  <a:pt x="0" y="192"/>
                </a:lnTo>
                <a:lnTo>
                  <a:pt x="56" y="182"/>
                </a:lnTo>
                <a:lnTo>
                  <a:pt x="110" y="173"/>
                </a:lnTo>
                <a:lnTo>
                  <a:pt x="161" y="163"/>
                </a:lnTo>
                <a:lnTo>
                  <a:pt x="211" y="154"/>
                </a:lnTo>
                <a:lnTo>
                  <a:pt x="259" y="144"/>
                </a:lnTo>
                <a:lnTo>
                  <a:pt x="305" y="136"/>
                </a:lnTo>
                <a:lnTo>
                  <a:pt x="349" y="129"/>
                </a:lnTo>
                <a:lnTo>
                  <a:pt x="394" y="121"/>
                </a:lnTo>
                <a:lnTo>
                  <a:pt x="436" y="113"/>
                </a:lnTo>
                <a:lnTo>
                  <a:pt x="474" y="106"/>
                </a:lnTo>
                <a:lnTo>
                  <a:pt x="513" y="98"/>
                </a:lnTo>
                <a:lnTo>
                  <a:pt x="549" y="92"/>
                </a:lnTo>
                <a:lnTo>
                  <a:pt x="584" y="84"/>
                </a:lnTo>
                <a:lnTo>
                  <a:pt x="618" y="79"/>
                </a:lnTo>
                <a:lnTo>
                  <a:pt x="649" y="73"/>
                </a:lnTo>
                <a:lnTo>
                  <a:pt x="680" y="67"/>
                </a:lnTo>
                <a:lnTo>
                  <a:pt x="706" y="61"/>
                </a:lnTo>
                <a:lnTo>
                  <a:pt x="733" y="56"/>
                </a:lnTo>
                <a:lnTo>
                  <a:pt x="758" y="52"/>
                </a:lnTo>
                <a:lnTo>
                  <a:pt x="781" y="46"/>
                </a:lnTo>
                <a:lnTo>
                  <a:pt x="802" y="42"/>
                </a:lnTo>
                <a:lnTo>
                  <a:pt x="822" y="38"/>
                </a:lnTo>
                <a:lnTo>
                  <a:pt x="839" y="35"/>
                </a:lnTo>
                <a:lnTo>
                  <a:pt x="856" y="31"/>
                </a:lnTo>
                <a:lnTo>
                  <a:pt x="870" y="29"/>
                </a:lnTo>
                <a:lnTo>
                  <a:pt x="883" y="25"/>
                </a:lnTo>
                <a:lnTo>
                  <a:pt x="893" y="23"/>
                </a:lnTo>
                <a:lnTo>
                  <a:pt x="902" y="21"/>
                </a:lnTo>
                <a:lnTo>
                  <a:pt x="910" y="17"/>
                </a:lnTo>
                <a:lnTo>
                  <a:pt x="916" y="17"/>
                </a:lnTo>
                <a:lnTo>
                  <a:pt x="921" y="15"/>
                </a:lnTo>
                <a:lnTo>
                  <a:pt x="923" y="13"/>
                </a:lnTo>
                <a:lnTo>
                  <a:pt x="931" y="10"/>
                </a:lnTo>
                <a:lnTo>
                  <a:pt x="937" y="6"/>
                </a:lnTo>
                <a:lnTo>
                  <a:pt x="944" y="4"/>
                </a:lnTo>
                <a:lnTo>
                  <a:pt x="952" y="0"/>
                </a:lnTo>
                <a:lnTo>
                  <a:pt x="958" y="0"/>
                </a:lnTo>
                <a:lnTo>
                  <a:pt x="965" y="0"/>
                </a:lnTo>
                <a:lnTo>
                  <a:pt x="973" y="0"/>
                </a:lnTo>
                <a:lnTo>
                  <a:pt x="975" y="2"/>
                </a:lnTo>
                <a:lnTo>
                  <a:pt x="979" y="4"/>
                </a:lnTo>
                <a:lnTo>
                  <a:pt x="987" y="8"/>
                </a:lnTo>
                <a:lnTo>
                  <a:pt x="996" y="13"/>
                </a:lnTo>
                <a:lnTo>
                  <a:pt x="1008" y="21"/>
                </a:lnTo>
                <a:lnTo>
                  <a:pt x="1021" y="29"/>
                </a:lnTo>
                <a:lnTo>
                  <a:pt x="1037" y="38"/>
                </a:lnTo>
                <a:lnTo>
                  <a:pt x="1054" y="48"/>
                </a:lnTo>
                <a:lnTo>
                  <a:pt x="1061" y="56"/>
                </a:lnTo>
                <a:lnTo>
                  <a:pt x="1071" y="61"/>
                </a:lnTo>
                <a:lnTo>
                  <a:pt x="1081" y="69"/>
                </a:lnTo>
                <a:lnTo>
                  <a:pt x="1092" y="77"/>
                </a:lnTo>
                <a:lnTo>
                  <a:pt x="1100" y="86"/>
                </a:lnTo>
                <a:lnTo>
                  <a:pt x="1108" y="96"/>
                </a:lnTo>
                <a:lnTo>
                  <a:pt x="1115" y="104"/>
                </a:lnTo>
                <a:lnTo>
                  <a:pt x="1123" y="111"/>
                </a:lnTo>
                <a:lnTo>
                  <a:pt x="1129" y="119"/>
                </a:lnTo>
                <a:lnTo>
                  <a:pt x="1134" y="127"/>
                </a:lnTo>
                <a:lnTo>
                  <a:pt x="1140" y="132"/>
                </a:lnTo>
                <a:lnTo>
                  <a:pt x="1146" y="140"/>
                </a:lnTo>
                <a:lnTo>
                  <a:pt x="1150" y="146"/>
                </a:lnTo>
                <a:lnTo>
                  <a:pt x="1154" y="150"/>
                </a:lnTo>
                <a:lnTo>
                  <a:pt x="1157" y="155"/>
                </a:lnTo>
                <a:lnTo>
                  <a:pt x="1161" y="159"/>
                </a:lnTo>
                <a:lnTo>
                  <a:pt x="1163" y="163"/>
                </a:lnTo>
                <a:lnTo>
                  <a:pt x="1165" y="165"/>
                </a:lnTo>
                <a:lnTo>
                  <a:pt x="1165" y="169"/>
                </a:lnTo>
                <a:lnTo>
                  <a:pt x="1165" y="171"/>
                </a:lnTo>
                <a:lnTo>
                  <a:pt x="1161" y="175"/>
                </a:lnTo>
                <a:lnTo>
                  <a:pt x="1157" y="179"/>
                </a:lnTo>
                <a:lnTo>
                  <a:pt x="1152" y="182"/>
                </a:lnTo>
                <a:lnTo>
                  <a:pt x="1144" y="186"/>
                </a:lnTo>
                <a:lnTo>
                  <a:pt x="1138" y="190"/>
                </a:lnTo>
                <a:lnTo>
                  <a:pt x="1129" y="194"/>
                </a:lnTo>
                <a:lnTo>
                  <a:pt x="1119" y="198"/>
                </a:lnTo>
                <a:lnTo>
                  <a:pt x="1109" y="202"/>
                </a:lnTo>
                <a:lnTo>
                  <a:pt x="1104" y="203"/>
                </a:lnTo>
                <a:lnTo>
                  <a:pt x="1098" y="207"/>
                </a:lnTo>
                <a:lnTo>
                  <a:pt x="1092" y="211"/>
                </a:lnTo>
                <a:lnTo>
                  <a:pt x="1086" y="215"/>
                </a:lnTo>
                <a:lnTo>
                  <a:pt x="1079" y="221"/>
                </a:lnTo>
                <a:lnTo>
                  <a:pt x="1071" y="228"/>
                </a:lnTo>
                <a:lnTo>
                  <a:pt x="1063" y="234"/>
                </a:lnTo>
                <a:lnTo>
                  <a:pt x="1056" y="244"/>
                </a:lnTo>
                <a:lnTo>
                  <a:pt x="1048" y="253"/>
                </a:lnTo>
                <a:lnTo>
                  <a:pt x="1040" y="263"/>
                </a:lnTo>
                <a:lnTo>
                  <a:pt x="1031" y="274"/>
                </a:lnTo>
                <a:lnTo>
                  <a:pt x="1023" y="286"/>
                </a:lnTo>
                <a:lnTo>
                  <a:pt x="1015" y="299"/>
                </a:lnTo>
                <a:lnTo>
                  <a:pt x="1006" y="315"/>
                </a:lnTo>
                <a:lnTo>
                  <a:pt x="998" y="330"/>
                </a:lnTo>
                <a:lnTo>
                  <a:pt x="989" y="347"/>
                </a:lnTo>
                <a:lnTo>
                  <a:pt x="979" y="365"/>
                </a:lnTo>
                <a:lnTo>
                  <a:pt x="971" y="380"/>
                </a:lnTo>
                <a:lnTo>
                  <a:pt x="962" y="395"/>
                </a:lnTo>
                <a:lnTo>
                  <a:pt x="952" y="409"/>
                </a:lnTo>
                <a:lnTo>
                  <a:pt x="942" y="420"/>
                </a:lnTo>
                <a:lnTo>
                  <a:pt x="933" y="432"/>
                </a:lnTo>
                <a:lnTo>
                  <a:pt x="923" y="441"/>
                </a:lnTo>
                <a:lnTo>
                  <a:pt x="914" y="449"/>
                </a:lnTo>
                <a:lnTo>
                  <a:pt x="904" y="457"/>
                </a:lnTo>
                <a:lnTo>
                  <a:pt x="894" y="463"/>
                </a:lnTo>
                <a:lnTo>
                  <a:pt x="885" y="466"/>
                </a:lnTo>
                <a:lnTo>
                  <a:pt x="875" y="470"/>
                </a:lnTo>
                <a:lnTo>
                  <a:pt x="868" y="474"/>
                </a:lnTo>
                <a:lnTo>
                  <a:pt x="858" y="474"/>
                </a:lnTo>
                <a:lnTo>
                  <a:pt x="848" y="474"/>
                </a:lnTo>
                <a:lnTo>
                  <a:pt x="839" y="472"/>
                </a:lnTo>
                <a:lnTo>
                  <a:pt x="848" y="453"/>
                </a:lnTo>
                <a:lnTo>
                  <a:pt x="856" y="434"/>
                </a:lnTo>
                <a:lnTo>
                  <a:pt x="864" y="416"/>
                </a:lnTo>
                <a:lnTo>
                  <a:pt x="871" y="399"/>
                </a:lnTo>
                <a:lnTo>
                  <a:pt x="879" y="382"/>
                </a:lnTo>
                <a:lnTo>
                  <a:pt x="885" y="365"/>
                </a:lnTo>
                <a:lnTo>
                  <a:pt x="893" y="349"/>
                </a:lnTo>
                <a:lnTo>
                  <a:pt x="898" y="334"/>
                </a:lnTo>
                <a:lnTo>
                  <a:pt x="904" y="319"/>
                </a:lnTo>
                <a:lnTo>
                  <a:pt x="910" y="305"/>
                </a:lnTo>
                <a:lnTo>
                  <a:pt x="916" y="292"/>
                </a:lnTo>
                <a:lnTo>
                  <a:pt x="921" y="278"/>
                </a:lnTo>
                <a:lnTo>
                  <a:pt x="925" y="265"/>
                </a:lnTo>
                <a:lnTo>
                  <a:pt x="929" y="253"/>
                </a:lnTo>
                <a:lnTo>
                  <a:pt x="935" y="242"/>
                </a:lnTo>
                <a:lnTo>
                  <a:pt x="939" y="232"/>
                </a:lnTo>
                <a:lnTo>
                  <a:pt x="942" y="221"/>
                </a:lnTo>
                <a:lnTo>
                  <a:pt x="944" y="211"/>
                </a:lnTo>
                <a:lnTo>
                  <a:pt x="948" y="203"/>
                </a:lnTo>
                <a:lnTo>
                  <a:pt x="950" y="194"/>
                </a:lnTo>
                <a:lnTo>
                  <a:pt x="952" y="186"/>
                </a:lnTo>
                <a:lnTo>
                  <a:pt x="956" y="179"/>
                </a:lnTo>
                <a:lnTo>
                  <a:pt x="958" y="173"/>
                </a:lnTo>
                <a:lnTo>
                  <a:pt x="958" y="167"/>
                </a:lnTo>
                <a:lnTo>
                  <a:pt x="960" y="161"/>
                </a:lnTo>
                <a:lnTo>
                  <a:pt x="962" y="155"/>
                </a:lnTo>
                <a:lnTo>
                  <a:pt x="962" y="152"/>
                </a:lnTo>
                <a:lnTo>
                  <a:pt x="962" y="148"/>
                </a:lnTo>
                <a:lnTo>
                  <a:pt x="962" y="144"/>
                </a:lnTo>
                <a:lnTo>
                  <a:pt x="962" y="142"/>
                </a:lnTo>
                <a:lnTo>
                  <a:pt x="962" y="140"/>
                </a:lnTo>
                <a:lnTo>
                  <a:pt x="946" y="131"/>
                </a:lnTo>
                <a:lnTo>
                  <a:pt x="939" y="129"/>
                </a:lnTo>
                <a:lnTo>
                  <a:pt x="931" y="125"/>
                </a:lnTo>
                <a:lnTo>
                  <a:pt x="923" y="123"/>
                </a:lnTo>
                <a:lnTo>
                  <a:pt x="916" y="121"/>
                </a:lnTo>
                <a:lnTo>
                  <a:pt x="906" y="119"/>
                </a:lnTo>
                <a:lnTo>
                  <a:pt x="896" y="119"/>
                </a:lnTo>
                <a:lnTo>
                  <a:pt x="893" y="119"/>
                </a:lnTo>
                <a:lnTo>
                  <a:pt x="889" y="119"/>
                </a:lnTo>
                <a:lnTo>
                  <a:pt x="885" y="119"/>
                </a:lnTo>
                <a:lnTo>
                  <a:pt x="881" y="119"/>
                </a:lnTo>
                <a:lnTo>
                  <a:pt x="875" y="119"/>
                </a:lnTo>
                <a:lnTo>
                  <a:pt x="870" y="121"/>
                </a:lnTo>
                <a:lnTo>
                  <a:pt x="864" y="121"/>
                </a:lnTo>
                <a:lnTo>
                  <a:pt x="856" y="123"/>
                </a:lnTo>
                <a:lnTo>
                  <a:pt x="848" y="123"/>
                </a:lnTo>
                <a:lnTo>
                  <a:pt x="841" y="125"/>
                </a:lnTo>
                <a:lnTo>
                  <a:pt x="833" y="125"/>
                </a:lnTo>
                <a:lnTo>
                  <a:pt x="823" y="127"/>
                </a:lnTo>
                <a:lnTo>
                  <a:pt x="814" y="129"/>
                </a:lnTo>
                <a:lnTo>
                  <a:pt x="804" y="129"/>
                </a:lnTo>
                <a:lnTo>
                  <a:pt x="793" y="131"/>
                </a:lnTo>
                <a:lnTo>
                  <a:pt x="781" y="132"/>
                </a:lnTo>
                <a:lnTo>
                  <a:pt x="770" y="134"/>
                </a:lnTo>
                <a:lnTo>
                  <a:pt x="756" y="136"/>
                </a:lnTo>
                <a:lnTo>
                  <a:pt x="743" y="138"/>
                </a:lnTo>
                <a:lnTo>
                  <a:pt x="729" y="140"/>
                </a:lnTo>
                <a:lnTo>
                  <a:pt x="714" y="142"/>
                </a:lnTo>
                <a:lnTo>
                  <a:pt x="699" y="144"/>
                </a:lnTo>
                <a:lnTo>
                  <a:pt x="683" y="146"/>
                </a:lnTo>
                <a:lnTo>
                  <a:pt x="668" y="150"/>
                </a:lnTo>
                <a:lnTo>
                  <a:pt x="651" y="152"/>
                </a:lnTo>
                <a:lnTo>
                  <a:pt x="633" y="154"/>
                </a:lnTo>
                <a:lnTo>
                  <a:pt x="614" y="155"/>
                </a:lnTo>
                <a:lnTo>
                  <a:pt x="595" y="159"/>
                </a:lnTo>
                <a:lnTo>
                  <a:pt x="576" y="161"/>
                </a:lnTo>
                <a:lnTo>
                  <a:pt x="555" y="165"/>
                </a:lnTo>
                <a:lnTo>
                  <a:pt x="534" y="167"/>
                </a:lnTo>
                <a:lnTo>
                  <a:pt x="513" y="171"/>
                </a:lnTo>
                <a:lnTo>
                  <a:pt x="470" y="179"/>
                </a:lnTo>
                <a:lnTo>
                  <a:pt x="428" y="186"/>
                </a:lnTo>
                <a:lnTo>
                  <a:pt x="388" y="194"/>
                </a:lnTo>
                <a:lnTo>
                  <a:pt x="349" y="200"/>
                </a:lnTo>
                <a:lnTo>
                  <a:pt x="311" y="207"/>
                </a:lnTo>
                <a:lnTo>
                  <a:pt x="275" y="213"/>
                </a:lnTo>
                <a:lnTo>
                  <a:pt x="240" y="219"/>
                </a:lnTo>
                <a:lnTo>
                  <a:pt x="207" y="225"/>
                </a:lnTo>
                <a:lnTo>
                  <a:pt x="177" y="230"/>
                </a:lnTo>
                <a:lnTo>
                  <a:pt x="146" y="236"/>
                </a:lnTo>
                <a:lnTo>
                  <a:pt x="117" y="242"/>
                </a:lnTo>
                <a:lnTo>
                  <a:pt x="90" y="246"/>
                </a:lnTo>
                <a:lnTo>
                  <a:pt x="65" y="251"/>
                </a:lnTo>
                <a:lnTo>
                  <a:pt x="42" y="255"/>
                </a:lnTo>
                <a:lnTo>
                  <a:pt x="21" y="261"/>
                </a:lnTo>
                <a:lnTo>
                  <a:pt x="0" y="26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Freeform 50"/>
          <p:cNvSpPr/>
          <p:nvPr/>
        </p:nvSpPr>
        <p:spPr>
          <a:xfrm>
            <a:off x="2835360" y="2976480"/>
            <a:ext cx="82440" cy="265320"/>
          </a:xfrm>
          <a:custGeom>
            <a:avLst/>
            <a:gdLst>
              <a:gd name="textAreaLeft" fmla="*/ 0 w 82440"/>
              <a:gd name="textAreaRight" fmla="*/ 82800 w 824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03" h="334">
                <a:moveTo>
                  <a:pt x="74" y="73"/>
                </a:moveTo>
                <a:lnTo>
                  <a:pt x="78" y="83"/>
                </a:lnTo>
                <a:lnTo>
                  <a:pt x="82" y="92"/>
                </a:lnTo>
                <a:lnTo>
                  <a:pt x="84" y="102"/>
                </a:lnTo>
                <a:lnTo>
                  <a:pt x="86" y="114"/>
                </a:lnTo>
                <a:lnTo>
                  <a:pt x="90" y="125"/>
                </a:lnTo>
                <a:lnTo>
                  <a:pt x="92" y="138"/>
                </a:lnTo>
                <a:lnTo>
                  <a:pt x="94" y="154"/>
                </a:lnTo>
                <a:lnTo>
                  <a:pt x="96" y="169"/>
                </a:lnTo>
                <a:lnTo>
                  <a:pt x="97" y="186"/>
                </a:lnTo>
                <a:lnTo>
                  <a:pt x="99" y="204"/>
                </a:lnTo>
                <a:lnTo>
                  <a:pt x="99" y="223"/>
                </a:lnTo>
                <a:lnTo>
                  <a:pt x="101" y="242"/>
                </a:lnTo>
                <a:lnTo>
                  <a:pt x="101" y="263"/>
                </a:lnTo>
                <a:lnTo>
                  <a:pt x="103" y="286"/>
                </a:lnTo>
                <a:lnTo>
                  <a:pt x="103" y="309"/>
                </a:lnTo>
                <a:lnTo>
                  <a:pt x="103" y="334"/>
                </a:lnTo>
                <a:lnTo>
                  <a:pt x="48" y="334"/>
                </a:lnTo>
                <a:lnTo>
                  <a:pt x="42" y="304"/>
                </a:lnTo>
                <a:lnTo>
                  <a:pt x="36" y="275"/>
                </a:lnTo>
                <a:lnTo>
                  <a:pt x="32" y="246"/>
                </a:lnTo>
                <a:lnTo>
                  <a:pt x="28" y="219"/>
                </a:lnTo>
                <a:lnTo>
                  <a:pt x="25" y="194"/>
                </a:lnTo>
                <a:lnTo>
                  <a:pt x="21" y="169"/>
                </a:lnTo>
                <a:lnTo>
                  <a:pt x="17" y="146"/>
                </a:lnTo>
                <a:lnTo>
                  <a:pt x="13" y="125"/>
                </a:lnTo>
                <a:lnTo>
                  <a:pt x="11" y="104"/>
                </a:lnTo>
                <a:lnTo>
                  <a:pt x="7" y="85"/>
                </a:lnTo>
                <a:lnTo>
                  <a:pt x="5" y="67"/>
                </a:lnTo>
                <a:lnTo>
                  <a:pt x="3" y="52"/>
                </a:lnTo>
                <a:lnTo>
                  <a:pt x="2" y="37"/>
                </a:lnTo>
                <a:lnTo>
                  <a:pt x="2" y="23"/>
                </a:lnTo>
                <a:lnTo>
                  <a:pt x="0" y="12"/>
                </a:lnTo>
                <a:lnTo>
                  <a:pt x="0" y="0"/>
                </a:lnTo>
                <a:lnTo>
                  <a:pt x="7" y="2"/>
                </a:lnTo>
                <a:lnTo>
                  <a:pt x="13" y="2"/>
                </a:lnTo>
                <a:lnTo>
                  <a:pt x="21" y="4"/>
                </a:lnTo>
                <a:lnTo>
                  <a:pt x="26" y="6"/>
                </a:lnTo>
                <a:lnTo>
                  <a:pt x="32" y="8"/>
                </a:lnTo>
                <a:lnTo>
                  <a:pt x="38" y="10"/>
                </a:lnTo>
                <a:lnTo>
                  <a:pt x="44" y="14"/>
                </a:lnTo>
                <a:lnTo>
                  <a:pt x="48" y="18"/>
                </a:lnTo>
                <a:lnTo>
                  <a:pt x="53" y="23"/>
                </a:lnTo>
                <a:lnTo>
                  <a:pt x="57" y="27"/>
                </a:lnTo>
                <a:lnTo>
                  <a:pt x="61" y="35"/>
                </a:lnTo>
                <a:lnTo>
                  <a:pt x="65" y="41"/>
                </a:lnTo>
                <a:lnTo>
                  <a:pt x="67" y="48"/>
                </a:lnTo>
                <a:lnTo>
                  <a:pt x="71" y="56"/>
                </a:lnTo>
                <a:lnTo>
                  <a:pt x="73" y="64"/>
                </a:lnTo>
                <a:lnTo>
                  <a:pt x="74" y="7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Freeform 51"/>
          <p:cNvSpPr/>
          <p:nvPr/>
        </p:nvSpPr>
        <p:spPr>
          <a:xfrm>
            <a:off x="3051000" y="2960640"/>
            <a:ext cx="95400" cy="255600"/>
          </a:xfrm>
          <a:custGeom>
            <a:avLst/>
            <a:gdLst>
              <a:gd name="textAreaLeft" fmla="*/ 0 w 95400"/>
              <a:gd name="textAreaRight" fmla="*/ 95760 w 954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1" h="323">
                <a:moveTo>
                  <a:pt x="75" y="323"/>
                </a:moveTo>
                <a:lnTo>
                  <a:pt x="0" y="323"/>
                </a:lnTo>
                <a:lnTo>
                  <a:pt x="8" y="282"/>
                </a:lnTo>
                <a:lnTo>
                  <a:pt x="12" y="244"/>
                </a:lnTo>
                <a:lnTo>
                  <a:pt x="17" y="204"/>
                </a:lnTo>
                <a:lnTo>
                  <a:pt x="21" y="165"/>
                </a:lnTo>
                <a:lnTo>
                  <a:pt x="25" y="125"/>
                </a:lnTo>
                <a:lnTo>
                  <a:pt x="27" y="83"/>
                </a:lnTo>
                <a:lnTo>
                  <a:pt x="29" y="42"/>
                </a:lnTo>
                <a:lnTo>
                  <a:pt x="29" y="0"/>
                </a:lnTo>
                <a:lnTo>
                  <a:pt x="40" y="6"/>
                </a:lnTo>
                <a:lnTo>
                  <a:pt x="52" y="12"/>
                </a:lnTo>
                <a:lnTo>
                  <a:pt x="62" y="17"/>
                </a:lnTo>
                <a:lnTo>
                  <a:pt x="71" y="23"/>
                </a:lnTo>
                <a:lnTo>
                  <a:pt x="79" y="29"/>
                </a:lnTo>
                <a:lnTo>
                  <a:pt x="87" y="33"/>
                </a:lnTo>
                <a:lnTo>
                  <a:pt x="94" y="39"/>
                </a:lnTo>
                <a:lnTo>
                  <a:pt x="100" y="44"/>
                </a:lnTo>
                <a:lnTo>
                  <a:pt x="104" y="48"/>
                </a:lnTo>
                <a:lnTo>
                  <a:pt x="110" y="52"/>
                </a:lnTo>
                <a:lnTo>
                  <a:pt x="113" y="58"/>
                </a:lnTo>
                <a:lnTo>
                  <a:pt x="115" y="62"/>
                </a:lnTo>
                <a:lnTo>
                  <a:pt x="119" y="63"/>
                </a:lnTo>
                <a:lnTo>
                  <a:pt x="121" y="67"/>
                </a:lnTo>
                <a:lnTo>
                  <a:pt x="121" y="69"/>
                </a:lnTo>
                <a:lnTo>
                  <a:pt x="121" y="73"/>
                </a:lnTo>
                <a:lnTo>
                  <a:pt x="121" y="77"/>
                </a:lnTo>
                <a:lnTo>
                  <a:pt x="121" y="83"/>
                </a:lnTo>
                <a:lnTo>
                  <a:pt x="119" y="90"/>
                </a:lnTo>
                <a:lnTo>
                  <a:pt x="117" y="100"/>
                </a:lnTo>
                <a:lnTo>
                  <a:pt x="117" y="110"/>
                </a:lnTo>
                <a:lnTo>
                  <a:pt x="113" y="121"/>
                </a:lnTo>
                <a:lnTo>
                  <a:pt x="111" y="134"/>
                </a:lnTo>
                <a:lnTo>
                  <a:pt x="108" y="150"/>
                </a:lnTo>
                <a:lnTo>
                  <a:pt x="106" y="167"/>
                </a:lnTo>
                <a:lnTo>
                  <a:pt x="102" y="184"/>
                </a:lnTo>
                <a:lnTo>
                  <a:pt x="98" y="204"/>
                </a:lnTo>
                <a:lnTo>
                  <a:pt x="94" y="225"/>
                </a:lnTo>
                <a:lnTo>
                  <a:pt x="90" y="246"/>
                </a:lnTo>
                <a:lnTo>
                  <a:pt x="85" y="271"/>
                </a:lnTo>
                <a:lnTo>
                  <a:pt x="81" y="296"/>
                </a:lnTo>
                <a:lnTo>
                  <a:pt x="75" y="32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Freeform 52"/>
          <p:cNvSpPr/>
          <p:nvPr/>
        </p:nvSpPr>
        <p:spPr>
          <a:xfrm>
            <a:off x="2695680" y="2379600"/>
            <a:ext cx="199800" cy="463680"/>
          </a:xfrm>
          <a:custGeom>
            <a:avLst/>
            <a:gdLst>
              <a:gd name="textAreaLeft" fmla="*/ 0 w 199800"/>
              <a:gd name="textAreaRight" fmla="*/ 200160 w 1998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51" h="583">
                <a:moveTo>
                  <a:pt x="29" y="63"/>
                </a:moveTo>
                <a:lnTo>
                  <a:pt x="23" y="56"/>
                </a:lnTo>
                <a:lnTo>
                  <a:pt x="19" y="48"/>
                </a:lnTo>
                <a:lnTo>
                  <a:pt x="13" y="42"/>
                </a:lnTo>
                <a:lnTo>
                  <a:pt x="12" y="36"/>
                </a:lnTo>
                <a:lnTo>
                  <a:pt x="8" y="31"/>
                </a:lnTo>
                <a:lnTo>
                  <a:pt x="6" y="25"/>
                </a:lnTo>
                <a:lnTo>
                  <a:pt x="2" y="21"/>
                </a:lnTo>
                <a:lnTo>
                  <a:pt x="2" y="17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4"/>
                </a:lnTo>
                <a:lnTo>
                  <a:pt x="4" y="2"/>
                </a:lnTo>
                <a:lnTo>
                  <a:pt x="6" y="2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23" y="2"/>
                </a:lnTo>
                <a:lnTo>
                  <a:pt x="31" y="2"/>
                </a:lnTo>
                <a:lnTo>
                  <a:pt x="38" y="4"/>
                </a:lnTo>
                <a:lnTo>
                  <a:pt x="46" y="6"/>
                </a:lnTo>
                <a:lnTo>
                  <a:pt x="56" y="6"/>
                </a:lnTo>
                <a:lnTo>
                  <a:pt x="65" y="8"/>
                </a:lnTo>
                <a:lnTo>
                  <a:pt x="77" y="10"/>
                </a:lnTo>
                <a:lnTo>
                  <a:pt x="88" y="13"/>
                </a:lnTo>
                <a:lnTo>
                  <a:pt x="100" y="15"/>
                </a:lnTo>
                <a:lnTo>
                  <a:pt x="115" y="17"/>
                </a:lnTo>
                <a:lnTo>
                  <a:pt x="129" y="21"/>
                </a:lnTo>
                <a:lnTo>
                  <a:pt x="144" y="25"/>
                </a:lnTo>
                <a:lnTo>
                  <a:pt x="159" y="29"/>
                </a:lnTo>
                <a:lnTo>
                  <a:pt x="177" y="33"/>
                </a:lnTo>
                <a:lnTo>
                  <a:pt x="177" y="42"/>
                </a:lnTo>
                <a:lnTo>
                  <a:pt x="179" y="54"/>
                </a:lnTo>
                <a:lnTo>
                  <a:pt x="179" y="65"/>
                </a:lnTo>
                <a:lnTo>
                  <a:pt x="179" y="77"/>
                </a:lnTo>
                <a:lnTo>
                  <a:pt x="180" y="90"/>
                </a:lnTo>
                <a:lnTo>
                  <a:pt x="182" y="104"/>
                </a:lnTo>
                <a:lnTo>
                  <a:pt x="184" y="119"/>
                </a:lnTo>
                <a:lnTo>
                  <a:pt x="186" y="134"/>
                </a:lnTo>
                <a:lnTo>
                  <a:pt x="188" y="150"/>
                </a:lnTo>
                <a:lnTo>
                  <a:pt x="190" y="167"/>
                </a:lnTo>
                <a:lnTo>
                  <a:pt x="194" y="184"/>
                </a:lnTo>
                <a:lnTo>
                  <a:pt x="198" y="201"/>
                </a:lnTo>
                <a:lnTo>
                  <a:pt x="202" y="221"/>
                </a:lnTo>
                <a:lnTo>
                  <a:pt x="205" y="240"/>
                </a:lnTo>
                <a:lnTo>
                  <a:pt x="209" y="261"/>
                </a:lnTo>
                <a:lnTo>
                  <a:pt x="215" y="282"/>
                </a:lnTo>
                <a:lnTo>
                  <a:pt x="219" y="303"/>
                </a:lnTo>
                <a:lnTo>
                  <a:pt x="225" y="322"/>
                </a:lnTo>
                <a:lnTo>
                  <a:pt x="228" y="342"/>
                </a:lnTo>
                <a:lnTo>
                  <a:pt x="232" y="361"/>
                </a:lnTo>
                <a:lnTo>
                  <a:pt x="236" y="378"/>
                </a:lnTo>
                <a:lnTo>
                  <a:pt x="238" y="393"/>
                </a:lnTo>
                <a:lnTo>
                  <a:pt x="242" y="409"/>
                </a:lnTo>
                <a:lnTo>
                  <a:pt x="244" y="424"/>
                </a:lnTo>
                <a:lnTo>
                  <a:pt x="246" y="438"/>
                </a:lnTo>
                <a:lnTo>
                  <a:pt x="248" y="451"/>
                </a:lnTo>
                <a:lnTo>
                  <a:pt x="250" y="462"/>
                </a:lnTo>
                <a:lnTo>
                  <a:pt x="250" y="474"/>
                </a:lnTo>
                <a:lnTo>
                  <a:pt x="251" y="484"/>
                </a:lnTo>
                <a:lnTo>
                  <a:pt x="251" y="495"/>
                </a:lnTo>
                <a:lnTo>
                  <a:pt x="251" y="503"/>
                </a:lnTo>
                <a:lnTo>
                  <a:pt x="251" y="510"/>
                </a:lnTo>
                <a:lnTo>
                  <a:pt x="251" y="520"/>
                </a:lnTo>
                <a:lnTo>
                  <a:pt x="251" y="530"/>
                </a:lnTo>
                <a:lnTo>
                  <a:pt x="251" y="537"/>
                </a:lnTo>
                <a:lnTo>
                  <a:pt x="250" y="545"/>
                </a:lnTo>
                <a:lnTo>
                  <a:pt x="250" y="551"/>
                </a:lnTo>
                <a:lnTo>
                  <a:pt x="248" y="556"/>
                </a:lnTo>
                <a:lnTo>
                  <a:pt x="248" y="562"/>
                </a:lnTo>
                <a:lnTo>
                  <a:pt x="246" y="568"/>
                </a:lnTo>
                <a:lnTo>
                  <a:pt x="244" y="572"/>
                </a:lnTo>
                <a:lnTo>
                  <a:pt x="244" y="576"/>
                </a:lnTo>
                <a:lnTo>
                  <a:pt x="242" y="578"/>
                </a:lnTo>
                <a:lnTo>
                  <a:pt x="240" y="580"/>
                </a:lnTo>
                <a:lnTo>
                  <a:pt x="238" y="581"/>
                </a:lnTo>
                <a:lnTo>
                  <a:pt x="236" y="583"/>
                </a:lnTo>
                <a:lnTo>
                  <a:pt x="234" y="583"/>
                </a:lnTo>
                <a:lnTo>
                  <a:pt x="232" y="583"/>
                </a:lnTo>
                <a:lnTo>
                  <a:pt x="230" y="583"/>
                </a:lnTo>
                <a:lnTo>
                  <a:pt x="226" y="581"/>
                </a:lnTo>
                <a:lnTo>
                  <a:pt x="221" y="576"/>
                </a:lnTo>
                <a:lnTo>
                  <a:pt x="217" y="570"/>
                </a:lnTo>
                <a:lnTo>
                  <a:pt x="213" y="562"/>
                </a:lnTo>
                <a:lnTo>
                  <a:pt x="207" y="553"/>
                </a:lnTo>
                <a:lnTo>
                  <a:pt x="202" y="541"/>
                </a:lnTo>
                <a:lnTo>
                  <a:pt x="196" y="528"/>
                </a:lnTo>
                <a:lnTo>
                  <a:pt x="190" y="512"/>
                </a:lnTo>
                <a:lnTo>
                  <a:pt x="184" y="497"/>
                </a:lnTo>
                <a:lnTo>
                  <a:pt x="179" y="478"/>
                </a:lnTo>
                <a:lnTo>
                  <a:pt x="171" y="457"/>
                </a:lnTo>
                <a:lnTo>
                  <a:pt x="163" y="434"/>
                </a:lnTo>
                <a:lnTo>
                  <a:pt x="159" y="422"/>
                </a:lnTo>
                <a:lnTo>
                  <a:pt x="155" y="411"/>
                </a:lnTo>
                <a:lnTo>
                  <a:pt x="152" y="397"/>
                </a:lnTo>
                <a:lnTo>
                  <a:pt x="148" y="384"/>
                </a:lnTo>
                <a:lnTo>
                  <a:pt x="144" y="370"/>
                </a:lnTo>
                <a:lnTo>
                  <a:pt x="140" y="355"/>
                </a:lnTo>
                <a:lnTo>
                  <a:pt x="131" y="326"/>
                </a:lnTo>
                <a:lnTo>
                  <a:pt x="123" y="299"/>
                </a:lnTo>
                <a:lnTo>
                  <a:pt x="115" y="274"/>
                </a:lnTo>
                <a:lnTo>
                  <a:pt x="108" y="249"/>
                </a:lnTo>
                <a:lnTo>
                  <a:pt x="100" y="226"/>
                </a:lnTo>
                <a:lnTo>
                  <a:pt x="92" y="205"/>
                </a:lnTo>
                <a:lnTo>
                  <a:pt x="84" y="184"/>
                </a:lnTo>
                <a:lnTo>
                  <a:pt x="77" y="167"/>
                </a:lnTo>
                <a:lnTo>
                  <a:pt x="71" y="150"/>
                </a:lnTo>
                <a:lnTo>
                  <a:pt x="63" y="132"/>
                </a:lnTo>
                <a:lnTo>
                  <a:pt x="58" y="117"/>
                </a:lnTo>
                <a:lnTo>
                  <a:pt x="50" y="104"/>
                </a:lnTo>
                <a:lnTo>
                  <a:pt x="44" y="92"/>
                </a:lnTo>
                <a:lnTo>
                  <a:pt x="38" y="81"/>
                </a:lnTo>
                <a:lnTo>
                  <a:pt x="33" y="71"/>
                </a:lnTo>
                <a:lnTo>
                  <a:pt x="29" y="6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Freeform 53"/>
          <p:cNvSpPr/>
          <p:nvPr/>
        </p:nvSpPr>
        <p:spPr>
          <a:xfrm>
            <a:off x="2776680" y="2290680"/>
            <a:ext cx="674640" cy="495360"/>
          </a:xfrm>
          <a:custGeom>
            <a:avLst/>
            <a:gdLst>
              <a:gd name="textAreaLeft" fmla="*/ 0 w 674640"/>
              <a:gd name="textAreaRight" fmla="*/ 675000 w 674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850" h="623">
                <a:moveTo>
                  <a:pt x="0" y="146"/>
                </a:moveTo>
                <a:lnTo>
                  <a:pt x="40" y="140"/>
                </a:lnTo>
                <a:lnTo>
                  <a:pt x="80" y="136"/>
                </a:lnTo>
                <a:lnTo>
                  <a:pt x="121" y="128"/>
                </a:lnTo>
                <a:lnTo>
                  <a:pt x="163" y="123"/>
                </a:lnTo>
                <a:lnTo>
                  <a:pt x="207" y="113"/>
                </a:lnTo>
                <a:lnTo>
                  <a:pt x="251" y="103"/>
                </a:lnTo>
                <a:lnTo>
                  <a:pt x="297" y="94"/>
                </a:lnTo>
                <a:lnTo>
                  <a:pt x="345" y="82"/>
                </a:lnTo>
                <a:lnTo>
                  <a:pt x="370" y="77"/>
                </a:lnTo>
                <a:lnTo>
                  <a:pt x="391" y="71"/>
                </a:lnTo>
                <a:lnTo>
                  <a:pt x="412" y="65"/>
                </a:lnTo>
                <a:lnTo>
                  <a:pt x="433" y="61"/>
                </a:lnTo>
                <a:lnTo>
                  <a:pt x="451" y="55"/>
                </a:lnTo>
                <a:lnTo>
                  <a:pt x="468" y="52"/>
                </a:lnTo>
                <a:lnTo>
                  <a:pt x="485" y="48"/>
                </a:lnTo>
                <a:lnTo>
                  <a:pt x="499" y="44"/>
                </a:lnTo>
                <a:lnTo>
                  <a:pt x="512" y="40"/>
                </a:lnTo>
                <a:lnTo>
                  <a:pt x="526" y="36"/>
                </a:lnTo>
                <a:lnTo>
                  <a:pt x="535" y="32"/>
                </a:lnTo>
                <a:lnTo>
                  <a:pt x="545" y="30"/>
                </a:lnTo>
                <a:lnTo>
                  <a:pt x="552" y="27"/>
                </a:lnTo>
                <a:lnTo>
                  <a:pt x="560" y="25"/>
                </a:lnTo>
                <a:lnTo>
                  <a:pt x="566" y="23"/>
                </a:lnTo>
                <a:lnTo>
                  <a:pt x="570" y="21"/>
                </a:lnTo>
                <a:lnTo>
                  <a:pt x="574" y="15"/>
                </a:lnTo>
                <a:lnTo>
                  <a:pt x="577" y="13"/>
                </a:lnTo>
                <a:lnTo>
                  <a:pt x="583" y="9"/>
                </a:lnTo>
                <a:lnTo>
                  <a:pt x="589" y="6"/>
                </a:lnTo>
                <a:lnTo>
                  <a:pt x="595" y="4"/>
                </a:lnTo>
                <a:lnTo>
                  <a:pt x="602" y="2"/>
                </a:lnTo>
                <a:lnTo>
                  <a:pt x="608" y="0"/>
                </a:lnTo>
                <a:lnTo>
                  <a:pt x="616" y="0"/>
                </a:lnTo>
                <a:lnTo>
                  <a:pt x="620" y="2"/>
                </a:lnTo>
                <a:lnTo>
                  <a:pt x="623" y="4"/>
                </a:lnTo>
                <a:lnTo>
                  <a:pt x="629" y="6"/>
                </a:lnTo>
                <a:lnTo>
                  <a:pt x="635" y="9"/>
                </a:lnTo>
                <a:lnTo>
                  <a:pt x="641" y="11"/>
                </a:lnTo>
                <a:lnTo>
                  <a:pt x="648" y="15"/>
                </a:lnTo>
                <a:lnTo>
                  <a:pt x="656" y="19"/>
                </a:lnTo>
                <a:lnTo>
                  <a:pt x="664" y="23"/>
                </a:lnTo>
                <a:lnTo>
                  <a:pt x="671" y="29"/>
                </a:lnTo>
                <a:lnTo>
                  <a:pt x="681" y="32"/>
                </a:lnTo>
                <a:lnTo>
                  <a:pt x="691" y="38"/>
                </a:lnTo>
                <a:lnTo>
                  <a:pt x="702" y="44"/>
                </a:lnTo>
                <a:lnTo>
                  <a:pt x="712" y="50"/>
                </a:lnTo>
                <a:lnTo>
                  <a:pt x="723" y="57"/>
                </a:lnTo>
                <a:lnTo>
                  <a:pt x="735" y="65"/>
                </a:lnTo>
                <a:lnTo>
                  <a:pt x="746" y="73"/>
                </a:lnTo>
                <a:lnTo>
                  <a:pt x="758" y="82"/>
                </a:lnTo>
                <a:lnTo>
                  <a:pt x="769" y="90"/>
                </a:lnTo>
                <a:lnTo>
                  <a:pt x="779" y="100"/>
                </a:lnTo>
                <a:lnTo>
                  <a:pt x="790" y="107"/>
                </a:lnTo>
                <a:lnTo>
                  <a:pt x="798" y="115"/>
                </a:lnTo>
                <a:lnTo>
                  <a:pt x="808" y="123"/>
                </a:lnTo>
                <a:lnTo>
                  <a:pt x="815" y="130"/>
                </a:lnTo>
                <a:lnTo>
                  <a:pt x="821" y="136"/>
                </a:lnTo>
                <a:lnTo>
                  <a:pt x="829" y="142"/>
                </a:lnTo>
                <a:lnTo>
                  <a:pt x="833" y="148"/>
                </a:lnTo>
                <a:lnTo>
                  <a:pt x="838" y="153"/>
                </a:lnTo>
                <a:lnTo>
                  <a:pt x="842" y="159"/>
                </a:lnTo>
                <a:lnTo>
                  <a:pt x="844" y="163"/>
                </a:lnTo>
                <a:lnTo>
                  <a:pt x="848" y="169"/>
                </a:lnTo>
                <a:lnTo>
                  <a:pt x="848" y="172"/>
                </a:lnTo>
                <a:lnTo>
                  <a:pt x="850" y="176"/>
                </a:lnTo>
                <a:lnTo>
                  <a:pt x="848" y="184"/>
                </a:lnTo>
                <a:lnTo>
                  <a:pt x="846" y="190"/>
                </a:lnTo>
                <a:lnTo>
                  <a:pt x="842" y="195"/>
                </a:lnTo>
                <a:lnTo>
                  <a:pt x="836" y="201"/>
                </a:lnTo>
                <a:lnTo>
                  <a:pt x="829" y="205"/>
                </a:lnTo>
                <a:lnTo>
                  <a:pt x="821" y="209"/>
                </a:lnTo>
                <a:lnTo>
                  <a:pt x="812" y="215"/>
                </a:lnTo>
                <a:lnTo>
                  <a:pt x="802" y="219"/>
                </a:lnTo>
                <a:lnTo>
                  <a:pt x="796" y="220"/>
                </a:lnTo>
                <a:lnTo>
                  <a:pt x="792" y="224"/>
                </a:lnTo>
                <a:lnTo>
                  <a:pt x="785" y="230"/>
                </a:lnTo>
                <a:lnTo>
                  <a:pt x="779" y="238"/>
                </a:lnTo>
                <a:lnTo>
                  <a:pt x="773" y="245"/>
                </a:lnTo>
                <a:lnTo>
                  <a:pt x="767" y="255"/>
                </a:lnTo>
                <a:lnTo>
                  <a:pt x="760" y="266"/>
                </a:lnTo>
                <a:lnTo>
                  <a:pt x="754" y="278"/>
                </a:lnTo>
                <a:lnTo>
                  <a:pt x="746" y="291"/>
                </a:lnTo>
                <a:lnTo>
                  <a:pt x="739" y="305"/>
                </a:lnTo>
                <a:lnTo>
                  <a:pt x="731" y="320"/>
                </a:lnTo>
                <a:lnTo>
                  <a:pt x="723" y="338"/>
                </a:lnTo>
                <a:lnTo>
                  <a:pt x="716" y="357"/>
                </a:lnTo>
                <a:lnTo>
                  <a:pt x="708" y="374"/>
                </a:lnTo>
                <a:lnTo>
                  <a:pt x="698" y="395"/>
                </a:lnTo>
                <a:lnTo>
                  <a:pt x="691" y="416"/>
                </a:lnTo>
                <a:lnTo>
                  <a:pt x="681" y="437"/>
                </a:lnTo>
                <a:lnTo>
                  <a:pt x="673" y="456"/>
                </a:lnTo>
                <a:lnTo>
                  <a:pt x="666" y="476"/>
                </a:lnTo>
                <a:lnTo>
                  <a:pt x="658" y="495"/>
                </a:lnTo>
                <a:lnTo>
                  <a:pt x="650" y="510"/>
                </a:lnTo>
                <a:lnTo>
                  <a:pt x="643" y="527"/>
                </a:lnTo>
                <a:lnTo>
                  <a:pt x="635" y="541"/>
                </a:lnTo>
                <a:lnTo>
                  <a:pt x="627" y="554"/>
                </a:lnTo>
                <a:lnTo>
                  <a:pt x="620" y="568"/>
                </a:lnTo>
                <a:lnTo>
                  <a:pt x="612" y="579"/>
                </a:lnTo>
                <a:lnTo>
                  <a:pt x="604" y="589"/>
                </a:lnTo>
                <a:lnTo>
                  <a:pt x="597" y="598"/>
                </a:lnTo>
                <a:lnTo>
                  <a:pt x="591" y="606"/>
                </a:lnTo>
                <a:lnTo>
                  <a:pt x="583" y="614"/>
                </a:lnTo>
                <a:lnTo>
                  <a:pt x="575" y="620"/>
                </a:lnTo>
                <a:lnTo>
                  <a:pt x="570" y="623"/>
                </a:lnTo>
                <a:lnTo>
                  <a:pt x="562" y="608"/>
                </a:lnTo>
                <a:lnTo>
                  <a:pt x="556" y="593"/>
                </a:lnTo>
                <a:lnTo>
                  <a:pt x="554" y="585"/>
                </a:lnTo>
                <a:lnTo>
                  <a:pt x="552" y="577"/>
                </a:lnTo>
                <a:lnTo>
                  <a:pt x="551" y="570"/>
                </a:lnTo>
                <a:lnTo>
                  <a:pt x="551" y="562"/>
                </a:lnTo>
                <a:lnTo>
                  <a:pt x="551" y="558"/>
                </a:lnTo>
                <a:lnTo>
                  <a:pt x="551" y="554"/>
                </a:lnTo>
                <a:lnTo>
                  <a:pt x="552" y="549"/>
                </a:lnTo>
                <a:lnTo>
                  <a:pt x="552" y="543"/>
                </a:lnTo>
                <a:lnTo>
                  <a:pt x="554" y="533"/>
                </a:lnTo>
                <a:lnTo>
                  <a:pt x="554" y="524"/>
                </a:lnTo>
                <a:lnTo>
                  <a:pt x="556" y="512"/>
                </a:lnTo>
                <a:lnTo>
                  <a:pt x="558" y="499"/>
                </a:lnTo>
                <a:lnTo>
                  <a:pt x="562" y="485"/>
                </a:lnTo>
                <a:lnTo>
                  <a:pt x="564" y="470"/>
                </a:lnTo>
                <a:lnTo>
                  <a:pt x="568" y="451"/>
                </a:lnTo>
                <a:lnTo>
                  <a:pt x="570" y="433"/>
                </a:lnTo>
                <a:lnTo>
                  <a:pt x="574" y="412"/>
                </a:lnTo>
                <a:lnTo>
                  <a:pt x="579" y="391"/>
                </a:lnTo>
                <a:lnTo>
                  <a:pt x="583" y="368"/>
                </a:lnTo>
                <a:lnTo>
                  <a:pt x="589" y="343"/>
                </a:lnTo>
                <a:lnTo>
                  <a:pt x="593" y="320"/>
                </a:lnTo>
                <a:lnTo>
                  <a:pt x="597" y="299"/>
                </a:lnTo>
                <a:lnTo>
                  <a:pt x="600" y="278"/>
                </a:lnTo>
                <a:lnTo>
                  <a:pt x="604" y="259"/>
                </a:lnTo>
                <a:lnTo>
                  <a:pt x="606" y="242"/>
                </a:lnTo>
                <a:lnTo>
                  <a:pt x="608" y="224"/>
                </a:lnTo>
                <a:lnTo>
                  <a:pt x="610" y="209"/>
                </a:lnTo>
                <a:lnTo>
                  <a:pt x="610" y="195"/>
                </a:lnTo>
                <a:lnTo>
                  <a:pt x="610" y="184"/>
                </a:lnTo>
                <a:lnTo>
                  <a:pt x="610" y="172"/>
                </a:lnTo>
                <a:lnTo>
                  <a:pt x="608" y="163"/>
                </a:lnTo>
                <a:lnTo>
                  <a:pt x="608" y="153"/>
                </a:lnTo>
                <a:lnTo>
                  <a:pt x="606" y="148"/>
                </a:lnTo>
                <a:lnTo>
                  <a:pt x="604" y="142"/>
                </a:lnTo>
                <a:lnTo>
                  <a:pt x="600" y="138"/>
                </a:lnTo>
                <a:lnTo>
                  <a:pt x="597" y="134"/>
                </a:lnTo>
                <a:lnTo>
                  <a:pt x="595" y="134"/>
                </a:lnTo>
                <a:lnTo>
                  <a:pt x="591" y="132"/>
                </a:lnTo>
                <a:lnTo>
                  <a:pt x="587" y="132"/>
                </a:lnTo>
                <a:lnTo>
                  <a:pt x="581" y="132"/>
                </a:lnTo>
                <a:lnTo>
                  <a:pt x="575" y="132"/>
                </a:lnTo>
                <a:lnTo>
                  <a:pt x="568" y="132"/>
                </a:lnTo>
                <a:lnTo>
                  <a:pt x="560" y="134"/>
                </a:lnTo>
                <a:lnTo>
                  <a:pt x="551" y="134"/>
                </a:lnTo>
                <a:lnTo>
                  <a:pt x="539" y="136"/>
                </a:lnTo>
                <a:lnTo>
                  <a:pt x="528" y="136"/>
                </a:lnTo>
                <a:lnTo>
                  <a:pt x="514" y="138"/>
                </a:lnTo>
                <a:lnTo>
                  <a:pt x="501" y="140"/>
                </a:lnTo>
                <a:lnTo>
                  <a:pt x="485" y="142"/>
                </a:lnTo>
                <a:lnTo>
                  <a:pt x="470" y="144"/>
                </a:lnTo>
                <a:lnTo>
                  <a:pt x="453" y="148"/>
                </a:lnTo>
                <a:lnTo>
                  <a:pt x="435" y="149"/>
                </a:lnTo>
                <a:lnTo>
                  <a:pt x="416" y="153"/>
                </a:lnTo>
                <a:lnTo>
                  <a:pt x="395" y="155"/>
                </a:lnTo>
                <a:lnTo>
                  <a:pt x="374" y="159"/>
                </a:lnTo>
                <a:lnTo>
                  <a:pt x="353" y="163"/>
                </a:lnTo>
                <a:lnTo>
                  <a:pt x="328" y="167"/>
                </a:lnTo>
                <a:lnTo>
                  <a:pt x="305" y="172"/>
                </a:lnTo>
                <a:lnTo>
                  <a:pt x="278" y="176"/>
                </a:lnTo>
                <a:lnTo>
                  <a:pt x="253" y="180"/>
                </a:lnTo>
                <a:lnTo>
                  <a:pt x="224" y="186"/>
                </a:lnTo>
                <a:lnTo>
                  <a:pt x="196" y="192"/>
                </a:lnTo>
                <a:lnTo>
                  <a:pt x="167" y="197"/>
                </a:lnTo>
                <a:lnTo>
                  <a:pt x="134" y="203"/>
                </a:lnTo>
                <a:lnTo>
                  <a:pt x="103" y="209"/>
                </a:lnTo>
                <a:lnTo>
                  <a:pt x="71" y="215"/>
                </a:lnTo>
                <a:lnTo>
                  <a:pt x="36" y="222"/>
                </a:lnTo>
                <a:lnTo>
                  <a:pt x="0" y="228"/>
                </a:lnTo>
                <a:lnTo>
                  <a:pt x="0" y="14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Freeform 54"/>
          <p:cNvSpPr/>
          <p:nvPr/>
        </p:nvSpPr>
        <p:spPr>
          <a:xfrm>
            <a:off x="2814480" y="2513160"/>
            <a:ext cx="354240" cy="125280"/>
          </a:xfrm>
          <a:custGeom>
            <a:avLst/>
            <a:gdLst>
              <a:gd name="textAreaLeft" fmla="*/ 0 w 354240"/>
              <a:gd name="textAreaRight" fmla="*/ 354600 w 3542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447" h="157">
                <a:moveTo>
                  <a:pt x="0" y="84"/>
                </a:moveTo>
                <a:lnTo>
                  <a:pt x="30" y="79"/>
                </a:lnTo>
                <a:lnTo>
                  <a:pt x="61" y="75"/>
                </a:lnTo>
                <a:lnTo>
                  <a:pt x="90" y="69"/>
                </a:lnTo>
                <a:lnTo>
                  <a:pt x="119" y="61"/>
                </a:lnTo>
                <a:lnTo>
                  <a:pt x="146" y="56"/>
                </a:lnTo>
                <a:lnTo>
                  <a:pt x="172" y="48"/>
                </a:lnTo>
                <a:lnTo>
                  <a:pt x="197" y="40"/>
                </a:lnTo>
                <a:lnTo>
                  <a:pt x="222" y="33"/>
                </a:lnTo>
                <a:lnTo>
                  <a:pt x="247" y="25"/>
                </a:lnTo>
                <a:lnTo>
                  <a:pt x="270" y="17"/>
                </a:lnTo>
                <a:lnTo>
                  <a:pt x="291" y="13"/>
                </a:lnTo>
                <a:lnTo>
                  <a:pt x="314" y="8"/>
                </a:lnTo>
                <a:lnTo>
                  <a:pt x="334" y="6"/>
                </a:lnTo>
                <a:lnTo>
                  <a:pt x="355" y="2"/>
                </a:lnTo>
                <a:lnTo>
                  <a:pt x="372" y="2"/>
                </a:lnTo>
                <a:lnTo>
                  <a:pt x="391" y="0"/>
                </a:lnTo>
                <a:lnTo>
                  <a:pt x="405" y="4"/>
                </a:lnTo>
                <a:lnTo>
                  <a:pt x="414" y="8"/>
                </a:lnTo>
                <a:lnTo>
                  <a:pt x="426" y="13"/>
                </a:lnTo>
                <a:lnTo>
                  <a:pt x="433" y="17"/>
                </a:lnTo>
                <a:lnTo>
                  <a:pt x="439" y="23"/>
                </a:lnTo>
                <a:lnTo>
                  <a:pt x="443" y="29"/>
                </a:lnTo>
                <a:lnTo>
                  <a:pt x="445" y="34"/>
                </a:lnTo>
                <a:lnTo>
                  <a:pt x="447" y="42"/>
                </a:lnTo>
                <a:lnTo>
                  <a:pt x="447" y="44"/>
                </a:lnTo>
                <a:lnTo>
                  <a:pt x="445" y="46"/>
                </a:lnTo>
                <a:lnTo>
                  <a:pt x="443" y="48"/>
                </a:lnTo>
                <a:lnTo>
                  <a:pt x="439" y="52"/>
                </a:lnTo>
                <a:lnTo>
                  <a:pt x="435" y="54"/>
                </a:lnTo>
                <a:lnTo>
                  <a:pt x="432" y="56"/>
                </a:lnTo>
                <a:lnTo>
                  <a:pt x="426" y="59"/>
                </a:lnTo>
                <a:lnTo>
                  <a:pt x="418" y="61"/>
                </a:lnTo>
                <a:lnTo>
                  <a:pt x="410" y="63"/>
                </a:lnTo>
                <a:lnTo>
                  <a:pt x="403" y="67"/>
                </a:lnTo>
                <a:lnTo>
                  <a:pt x="393" y="71"/>
                </a:lnTo>
                <a:lnTo>
                  <a:pt x="384" y="73"/>
                </a:lnTo>
                <a:lnTo>
                  <a:pt x="372" y="77"/>
                </a:lnTo>
                <a:lnTo>
                  <a:pt x="361" y="81"/>
                </a:lnTo>
                <a:lnTo>
                  <a:pt x="349" y="84"/>
                </a:lnTo>
                <a:lnTo>
                  <a:pt x="336" y="88"/>
                </a:lnTo>
                <a:lnTo>
                  <a:pt x="320" y="90"/>
                </a:lnTo>
                <a:lnTo>
                  <a:pt x="305" y="94"/>
                </a:lnTo>
                <a:lnTo>
                  <a:pt x="290" y="98"/>
                </a:lnTo>
                <a:lnTo>
                  <a:pt x="272" y="102"/>
                </a:lnTo>
                <a:lnTo>
                  <a:pt x="253" y="107"/>
                </a:lnTo>
                <a:lnTo>
                  <a:pt x="236" y="111"/>
                </a:lnTo>
                <a:lnTo>
                  <a:pt x="215" y="115"/>
                </a:lnTo>
                <a:lnTo>
                  <a:pt x="195" y="119"/>
                </a:lnTo>
                <a:lnTo>
                  <a:pt x="172" y="123"/>
                </a:lnTo>
                <a:lnTo>
                  <a:pt x="151" y="129"/>
                </a:lnTo>
                <a:lnTo>
                  <a:pt x="128" y="132"/>
                </a:lnTo>
                <a:lnTo>
                  <a:pt x="103" y="138"/>
                </a:lnTo>
                <a:lnTo>
                  <a:pt x="78" y="142"/>
                </a:lnTo>
                <a:lnTo>
                  <a:pt x="53" y="148"/>
                </a:lnTo>
                <a:lnTo>
                  <a:pt x="27" y="152"/>
                </a:lnTo>
                <a:lnTo>
                  <a:pt x="0" y="157"/>
                </a:lnTo>
                <a:lnTo>
                  <a:pt x="0" y="8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Freeform 55"/>
          <p:cNvSpPr/>
          <p:nvPr/>
        </p:nvSpPr>
        <p:spPr>
          <a:xfrm>
            <a:off x="2873520" y="2695680"/>
            <a:ext cx="376200" cy="115920"/>
          </a:xfrm>
          <a:custGeom>
            <a:avLst/>
            <a:gdLst>
              <a:gd name="textAreaLeft" fmla="*/ 0 w 376200"/>
              <a:gd name="textAreaRight" fmla="*/ 376560 w 376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74" h="146">
                <a:moveTo>
                  <a:pt x="474" y="73"/>
                </a:moveTo>
                <a:lnTo>
                  <a:pt x="451" y="75"/>
                </a:lnTo>
                <a:lnTo>
                  <a:pt x="428" y="77"/>
                </a:lnTo>
                <a:lnTo>
                  <a:pt x="403" y="79"/>
                </a:lnTo>
                <a:lnTo>
                  <a:pt x="376" y="83"/>
                </a:lnTo>
                <a:lnTo>
                  <a:pt x="349" y="87"/>
                </a:lnTo>
                <a:lnTo>
                  <a:pt x="322" y="88"/>
                </a:lnTo>
                <a:lnTo>
                  <a:pt x="293" y="92"/>
                </a:lnTo>
                <a:lnTo>
                  <a:pt x="264" y="98"/>
                </a:lnTo>
                <a:lnTo>
                  <a:pt x="234" y="102"/>
                </a:lnTo>
                <a:lnTo>
                  <a:pt x="203" y="106"/>
                </a:lnTo>
                <a:lnTo>
                  <a:pt x="170" y="112"/>
                </a:lnTo>
                <a:lnTo>
                  <a:pt x="138" y="117"/>
                </a:lnTo>
                <a:lnTo>
                  <a:pt x="105" y="125"/>
                </a:lnTo>
                <a:lnTo>
                  <a:pt x="71" y="131"/>
                </a:lnTo>
                <a:lnTo>
                  <a:pt x="34" y="138"/>
                </a:lnTo>
                <a:lnTo>
                  <a:pt x="0" y="146"/>
                </a:lnTo>
                <a:lnTo>
                  <a:pt x="0" y="62"/>
                </a:lnTo>
                <a:lnTo>
                  <a:pt x="3" y="62"/>
                </a:lnTo>
                <a:lnTo>
                  <a:pt x="11" y="62"/>
                </a:lnTo>
                <a:lnTo>
                  <a:pt x="17" y="62"/>
                </a:lnTo>
                <a:lnTo>
                  <a:pt x="25" y="60"/>
                </a:lnTo>
                <a:lnTo>
                  <a:pt x="32" y="60"/>
                </a:lnTo>
                <a:lnTo>
                  <a:pt x="42" y="58"/>
                </a:lnTo>
                <a:lnTo>
                  <a:pt x="49" y="56"/>
                </a:lnTo>
                <a:lnTo>
                  <a:pt x="59" y="54"/>
                </a:lnTo>
                <a:lnTo>
                  <a:pt x="80" y="50"/>
                </a:lnTo>
                <a:lnTo>
                  <a:pt x="101" y="44"/>
                </a:lnTo>
                <a:lnTo>
                  <a:pt x="124" y="39"/>
                </a:lnTo>
                <a:lnTo>
                  <a:pt x="147" y="31"/>
                </a:lnTo>
                <a:lnTo>
                  <a:pt x="161" y="29"/>
                </a:lnTo>
                <a:lnTo>
                  <a:pt x="174" y="27"/>
                </a:lnTo>
                <a:lnTo>
                  <a:pt x="190" y="25"/>
                </a:lnTo>
                <a:lnTo>
                  <a:pt x="205" y="23"/>
                </a:lnTo>
                <a:lnTo>
                  <a:pt x="222" y="21"/>
                </a:lnTo>
                <a:lnTo>
                  <a:pt x="241" y="19"/>
                </a:lnTo>
                <a:lnTo>
                  <a:pt x="259" y="17"/>
                </a:lnTo>
                <a:lnTo>
                  <a:pt x="280" y="16"/>
                </a:lnTo>
                <a:lnTo>
                  <a:pt x="301" y="14"/>
                </a:lnTo>
                <a:lnTo>
                  <a:pt x="322" y="12"/>
                </a:lnTo>
                <a:lnTo>
                  <a:pt x="345" y="10"/>
                </a:lnTo>
                <a:lnTo>
                  <a:pt x="370" y="8"/>
                </a:lnTo>
                <a:lnTo>
                  <a:pt x="395" y="6"/>
                </a:lnTo>
                <a:lnTo>
                  <a:pt x="420" y="4"/>
                </a:lnTo>
                <a:lnTo>
                  <a:pt x="447" y="2"/>
                </a:lnTo>
                <a:lnTo>
                  <a:pt x="474" y="0"/>
                </a:lnTo>
                <a:lnTo>
                  <a:pt x="474" y="7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Freeform 56"/>
          <p:cNvSpPr/>
          <p:nvPr/>
        </p:nvSpPr>
        <p:spPr>
          <a:xfrm>
            <a:off x="2695680" y="3159000"/>
            <a:ext cx="644400" cy="149400"/>
          </a:xfrm>
          <a:custGeom>
            <a:avLst/>
            <a:gdLst>
              <a:gd name="textAreaLeft" fmla="*/ 0 w 644400"/>
              <a:gd name="textAreaRight" fmla="*/ 644760 w 644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812" h="188">
                <a:moveTo>
                  <a:pt x="0" y="115"/>
                </a:moveTo>
                <a:lnTo>
                  <a:pt x="42" y="107"/>
                </a:lnTo>
                <a:lnTo>
                  <a:pt x="84" y="99"/>
                </a:lnTo>
                <a:lnTo>
                  <a:pt x="127" y="94"/>
                </a:lnTo>
                <a:lnTo>
                  <a:pt x="165" y="88"/>
                </a:lnTo>
                <a:lnTo>
                  <a:pt x="203" y="82"/>
                </a:lnTo>
                <a:lnTo>
                  <a:pt x="242" y="76"/>
                </a:lnTo>
                <a:lnTo>
                  <a:pt x="278" y="71"/>
                </a:lnTo>
                <a:lnTo>
                  <a:pt x="313" y="65"/>
                </a:lnTo>
                <a:lnTo>
                  <a:pt x="347" y="59"/>
                </a:lnTo>
                <a:lnTo>
                  <a:pt x="380" y="53"/>
                </a:lnTo>
                <a:lnTo>
                  <a:pt x="411" y="49"/>
                </a:lnTo>
                <a:lnTo>
                  <a:pt x="441" y="46"/>
                </a:lnTo>
                <a:lnTo>
                  <a:pt x="470" y="40"/>
                </a:lnTo>
                <a:lnTo>
                  <a:pt x="499" y="36"/>
                </a:lnTo>
                <a:lnTo>
                  <a:pt x="526" y="32"/>
                </a:lnTo>
                <a:lnTo>
                  <a:pt x="553" y="28"/>
                </a:lnTo>
                <a:lnTo>
                  <a:pt x="578" y="25"/>
                </a:lnTo>
                <a:lnTo>
                  <a:pt x="601" y="23"/>
                </a:lnTo>
                <a:lnTo>
                  <a:pt x="624" y="19"/>
                </a:lnTo>
                <a:lnTo>
                  <a:pt x="645" y="15"/>
                </a:lnTo>
                <a:lnTo>
                  <a:pt x="664" y="13"/>
                </a:lnTo>
                <a:lnTo>
                  <a:pt x="683" y="11"/>
                </a:lnTo>
                <a:lnTo>
                  <a:pt x="702" y="9"/>
                </a:lnTo>
                <a:lnTo>
                  <a:pt x="718" y="7"/>
                </a:lnTo>
                <a:lnTo>
                  <a:pt x="733" y="5"/>
                </a:lnTo>
                <a:lnTo>
                  <a:pt x="748" y="3"/>
                </a:lnTo>
                <a:lnTo>
                  <a:pt x="762" y="2"/>
                </a:lnTo>
                <a:lnTo>
                  <a:pt x="773" y="2"/>
                </a:lnTo>
                <a:lnTo>
                  <a:pt x="785" y="0"/>
                </a:lnTo>
                <a:lnTo>
                  <a:pt x="795" y="0"/>
                </a:lnTo>
                <a:lnTo>
                  <a:pt x="804" y="0"/>
                </a:lnTo>
                <a:lnTo>
                  <a:pt x="812" y="0"/>
                </a:lnTo>
                <a:lnTo>
                  <a:pt x="812" y="61"/>
                </a:lnTo>
                <a:lnTo>
                  <a:pt x="783" y="65"/>
                </a:lnTo>
                <a:lnTo>
                  <a:pt x="754" y="69"/>
                </a:lnTo>
                <a:lnTo>
                  <a:pt x="724" y="74"/>
                </a:lnTo>
                <a:lnTo>
                  <a:pt x="693" y="78"/>
                </a:lnTo>
                <a:lnTo>
                  <a:pt x="660" y="82"/>
                </a:lnTo>
                <a:lnTo>
                  <a:pt x="628" y="86"/>
                </a:lnTo>
                <a:lnTo>
                  <a:pt x="593" y="90"/>
                </a:lnTo>
                <a:lnTo>
                  <a:pt x="560" y="94"/>
                </a:lnTo>
                <a:lnTo>
                  <a:pt x="551" y="96"/>
                </a:lnTo>
                <a:lnTo>
                  <a:pt x="541" y="97"/>
                </a:lnTo>
                <a:lnTo>
                  <a:pt x="532" y="99"/>
                </a:lnTo>
                <a:lnTo>
                  <a:pt x="520" y="101"/>
                </a:lnTo>
                <a:lnTo>
                  <a:pt x="509" y="103"/>
                </a:lnTo>
                <a:lnTo>
                  <a:pt x="497" y="105"/>
                </a:lnTo>
                <a:lnTo>
                  <a:pt x="486" y="109"/>
                </a:lnTo>
                <a:lnTo>
                  <a:pt x="472" y="111"/>
                </a:lnTo>
                <a:lnTo>
                  <a:pt x="459" y="113"/>
                </a:lnTo>
                <a:lnTo>
                  <a:pt x="445" y="115"/>
                </a:lnTo>
                <a:lnTo>
                  <a:pt x="430" y="119"/>
                </a:lnTo>
                <a:lnTo>
                  <a:pt x="416" y="120"/>
                </a:lnTo>
                <a:lnTo>
                  <a:pt x="401" y="124"/>
                </a:lnTo>
                <a:lnTo>
                  <a:pt x="384" y="126"/>
                </a:lnTo>
                <a:lnTo>
                  <a:pt x="369" y="128"/>
                </a:lnTo>
                <a:lnTo>
                  <a:pt x="351" y="132"/>
                </a:lnTo>
                <a:lnTo>
                  <a:pt x="334" y="134"/>
                </a:lnTo>
                <a:lnTo>
                  <a:pt x="315" y="138"/>
                </a:lnTo>
                <a:lnTo>
                  <a:pt x="298" y="142"/>
                </a:lnTo>
                <a:lnTo>
                  <a:pt x="278" y="144"/>
                </a:lnTo>
                <a:lnTo>
                  <a:pt x="257" y="147"/>
                </a:lnTo>
                <a:lnTo>
                  <a:pt x="238" y="151"/>
                </a:lnTo>
                <a:lnTo>
                  <a:pt x="217" y="153"/>
                </a:lnTo>
                <a:lnTo>
                  <a:pt x="196" y="157"/>
                </a:lnTo>
                <a:lnTo>
                  <a:pt x="175" y="161"/>
                </a:lnTo>
                <a:lnTo>
                  <a:pt x="152" y="165"/>
                </a:lnTo>
                <a:lnTo>
                  <a:pt x="131" y="168"/>
                </a:lnTo>
                <a:lnTo>
                  <a:pt x="108" y="172"/>
                </a:lnTo>
                <a:lnTo>
                  <a:pt x="83" y="174"/>
                </a:lnTo>
                <a:lnTo>
                  <a:pt x="60" y="178"/>
                </a:lnTo>
                <a:lnTo>
                  <a:pt x="35" y="182"/>
                </a:lnTo>
                <a:lnTo>
                  <a:pt x="10" y="188"/>
                </a:lnTo>
                <a:lnTo>
                  <a:pt x="4" y="151"/>
                </a:lnTo>
                <a:lnTo>
                  <a:pt x="0" y="11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Freeform 57"/>
          <p:cNvSpPr/>
          <p:nvPr/>
        </p:nvSpPr>
        <p:spPr>
          <a:xfrm>
            <a:off x="2790720" y="3554280"/>
            <a:ext cx="1016280" cy="51444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514440"/>
              <a:gd name="textAreaBottom" fmla="*/ 514440 h 514440"/>
            </a:gdLst>
            <a:ahLst/>
            <a:rect l="textAreaLeft" t="textAreaTop" r="textAreaRight" b="textAreaBottom"/>
            <a:pathLst>
              <a:path w="1278" h="646">
                <a:moveTo>
                  <a:pt x="952" y="637"/>
                </a:moveTo>
                <a:lnTo>
                  <a:pt x="931" y="639"/>
                </a:lnTo>
                <a:lnTo>
                  <a:pt x="913" y="642"/>
                </a:lnTo>
                <a:lnTo>
                  <a:pt x="896" y="644"/>
                </a:lnTo>
                <a:lnTo>
                  <a:pt x="881" y="644"/>
                </a:lnTo>
                <a:lnTo>
                  <a:pt x="867" y="646"/>
                </a:lnTo>
                <a:lnTo>
                  <a:pt x="856" y="646"/>
                </a:lnTo>
                <a:lnTo>
                  <a:pt x="846" y="646"/>
                </a:lnTo>
                <a:lnTo>
                  <a:pt x="839" y="646"/>
                </a:lnTo>
                <a:lnTo>
                  <a:pt x="829" y="642"/>
                </a:lnTo>
                <a:lnTo>
                  <a:pt x="816" y="637"/>
                </a:lnTo>
                <a:lnTo>
                  <a:pt x="804" y="631"/>
                </a:lnTo>
                <a:lnTo>
                  <a:pt x="789" y="623"/>
                </a:lnTo>
                <a:lnTo>
                  <a:pt x="773" y="616"/>
                </a:lnTo>
                <a:lnTo>
                  <a:pt x="756" y="606"/>
                </a:lnTo>
                <a:lnTo>
                  <a:pt x="739" y="594"/>
                </a:lnTo>
                <a:lnTo>
                  <a:pt x="718" y="585"/>
                </a:lnTo>
                <a:lnTo>
                  <a:pt x="697" y="568"/>
                </a:lnTo>
                <a:lnTo>
                  <a:pt x="674" y="548"/>
                </a:lnTo>
                <a:lnTo>
                  <a:pt x="651" y="529"/>
                </a:lnTo>
                <a:lnTo>
                  <a:pt x="626" y="508"/>
                </a:lnTo>
                <a:lnTo>
                  <a:pt x="601" y="483"/>
                </a:lnTo>
                <a:lnTo>
                  <a:pt x="572" y="460"/>
                </a:lnTo>
                <a:lnTo>
                  <a:pt x="543" y="433"/>
                </a:lnTo>
                <a:lnTo>
                  <a:pt x="512" y="406"/>
                </a:lnTo>
                <a:lnTo>
                  <a:pt x="505" y="399"/>
                </a:lnTo>
                <a:lnTo>
                  <a:pt x="497" y="393"/>
                </a:lnTo>
                <a:lnTo>
                  <a:pt x="487" y="385"/>
                </a:lnTo>
                <a:lnTo>
                  <a:pt x="478" y="378"/>
                </a:lnTo>
                <a:lnTo>
                  <a:pt x="466" y="368"/>
                </a:lnTo>
                <a:lnTo>
                  <a:pt x="457" y="360"/>
                </a:lnTo>
                <a:lnTo>
                  <a:pt x="445" y="351"/>
                </a:lnTo>
                <a:lnTo>
                  <a:pt x="434" y="343"/>
                </a:lnTo>
                <a:lnTo>
                  <a:pt x="420" y="333"/>
                </a:lnTo>
                <a:lnTo>
                  <a:pt x="407" y="324"/>
                </a:lnTo>
                <a:lnTo>
                  <a:pt x="393" y="312"/>
                </a:lnTo>
                <a:lnTo>
                  <a:pt x="380" y="303"/>
                </a:lnTo>
                <a:lnTo>
                  <a:pt x="366" y="293"/>
                </a:lnTo>
                <a:lnTo>
                  <a:pt x="351" y="282"/>
                </a:lnTo>
                <a:lnTo>
                  <a:pt x="336" y="270"/>
                </a:lnTo>
                <a:lnTo>
                  <a:pt x="319" y="259"/>
                </a:lnTo>
                <a:lnTo>
                  <a:pt x="303" y="247"/>
                </a:lnTo>
                <a:lnTo>
                  <a:pt x="286" y="236"/>
                </a:lnTo>
                <a:lnTo>
                  <a:pt x="251" y="211"/>
                </a:lnTo>
                <a:lnTo>
                  <a:pt x="213" y="184"/>
                </a:lnTo>
                <a:lnTo>
                  <a:pt x="175" y="155"/>
                </a:lnTo>
                <a:lnTo>
                  <a:pt x="132" y="126"/>
                </a:lnTo>
                <a:lnTo>
                  <a:pt x="90" y="95"/>
                </a:lnTo>
                <a:lnTo>
                  <a:pt x="46" y="65"/>
                </a:lnTo>
                <a:lnTo>
                  <a:pt x="0" y="32"/>
                </a:lnTo>
                <a:lnTo>
                  <a:pt x="8" y="24"/>
                </a:lnTo>
                <a:lnTo>
                  <a:pt x="13" y="19"/>
                </a:lnTo>
                <a:lnTo>
                  <a:pt x="21" y="13"/>
                </a:lnTo>
                <a:lnTo>
                  <a:pt x="29" y="7"/>
                </a:lnTo>
                <a:lnTo>
                  <a:pt x="36" y="5"/>
                </a:lnTo>
                <a:lnTo>
                  <a:pt x="46" y="1"/>
                </a:lnTo>
                <a:lnTo>
                  <a:pt x="56" y="1"/>
                </a:lnTo>
                <a:lnTo>
                  <a:pt x="65" y="0"/>
                </a:lnTo>
                <a:lnTo>
                  <a:pt x="71" y="1"/>
                </a:lnTo>
                <a:lnTo>
                  <a:pt x="79" y="1"/>
                </a:lnTo>
                <a:lnTo>
                  <a:pt x="86" y="5"/>
                </a:lnTo>
                <a:lnTo>
                  <a:pt x="96" y="7"/>
                </a:lnTo>
                <a:lnTo>
                  <a:pt x="105" y="13"/>
                </a:lnTo>
                <a:lnTo>
                  <a:pt x="117" y="17"/>
                </a:lnTo>
                <a:lnTo>
                  <a:pt x="130" y="24"/>
                </a:lnTo>
                <a:lnTo>
                  <a:pt x="144" y="30"/>
                </a:lnTo>
                <a:lnTo>
                  <a:pt x="159" y="40"/>
                </a:lnTo>
                <a:lnTo>
                  <a:pt x="175" y="49"/>
                </a:lnTo>
                <a:lnTo>
                  <a:pt x="192" y="59"/>
                </a:lnTo>
                <a:lnTo>
                  <a:pt x="211" y="71"/>
                </a:lnTo>
                <a:lnTo>
                  <a:pt x="232" y="82"/>
                </a:lnTo>
                <a:lnTo>
                  <a:pt x="253" y="95"/>
                </a:lnTo>
                <a:lnTo>
                  <a:pt x="274" y="111"/>
                </a:lnTo>
                <a:lnTo>
                  <a:pt x="299" y="126"/>
                </a:lnTo>
                <a:lnTo>
                  <a:pt x="343" y="157"/>
                </a:lnTo>
                <a:lnTo>
                  <a:pt x="391" y="186"/>
                </a:lnTo>
                <a:lnTo>
                  <a:pt x="437" y="214"/>
                </a:lnTo>
                <a:lnTo>
                  <a:pt x="485" y="241"/>
                </a:lnTo>
                <a:lnTo>
                  <a:pt x="532" y="266"/>
                </a:lnTo>
                <a:lnTo>
                  <a:pt x="580" y="291"/>
                </a:lnTo>
                <a:lnTo>
                  <a:pt x="626" y="312"/>
                </a:lnTo>
                <a:lnTo>
                  <a:pt x="672" y="333"/>
                </a:lnTo>
                <a:lnTo>
                  <a:pt x="718" y="353"/>
                </a:lnTo>
                <a:lnTo>
                  <a:pt x="766" y="372"/>
                </a:lnTo>
                <a:lnTo>
                  <a:pt x="814" y="391"/>
                </a:lnTo>
                <a:lnTo>
                  <a:pt x="865" y="410"/>
                </a:lnTo>
                <a:lnTo>
                  <a:pt x="915" y="426"/>
                </a:lnTo>
                <a:lnTo>
                  <a:pt x="967" y="443"/>
                </a:lnTo>
                <a:lnTo>
                  <a:pt x="1019" y="456"/>
                </a:lnTo>
                <a:lnTo>
                  <a:pt x="1073" y="470"/>
                </a:lnTo>
                <a:lnTo>
                  <a:pt x="1098" y="475"/>
                </a:lnTo>
                <a:lnTo>
                  <a:pt x="1121" y="481"/>
                </a:lnTo>
                <a:lnTo>
                  <a:pt x="1144" y="487"/>
                </a:lnTo>
                <a:lnTo>
                  <a:pt x="1163" y="493"/>
                </a:lnTo>
                <a:lnTo>
                  <a:pt x="1182" y="498"/>
                </a:lnTo>
                <a:lnTo>
                  <a:pt x="1199" y="504"/>
                </a:lnTo>
                <a:lnTo>
                  <a:pt x="1215" y="508"/>
                </a:lnTo>
                <a:lnTo>
                  <a:pt x="1228" y="514"/>
                </a:lnTo>
                <a:lnTo>
                  <a:pt x="1240" y="518"/>
                </a:lnTo>
                <a:lnTo>
                  <a:pt x="1249" y="523"/>
                </a:lnTo>
                <a:lnTo>
                  <a:pt x="1259" y="527"/>
                </a:lnTo>
                <a:lnTo>
                  <a:pt x="1265" y="531"/>
                </a:lnTo>
                <a:lnTo>
                  <a:pt x="1270" y="535"/>
                </a:lnTo>
                <a:lnTo>
                  <a:pt x="1274" y="537"/>
                </a:lnTo>
                <a:lnTo>
                  <a:pt x="1276" y="541"/>
                </a:lnTo>
                <a:lnTo>
                  <a:pt x="1278" y="543"/>
                </a:lnTo>
                <a:lnTo>
                  <a:pt x="1278" y="545"/>
                </a:lnTo>
                <a:lnTo>
                  <a:pt x="1276" y="546"/>
                </a:lnTo>
                <a:lnTo>
                  <a:pt x="1274" y="548"/>
                </a:lnTo>
                <a:lnTo>
                  <a:pt x="1270" y="552"/>
                </a:lnTo>
                <a:lnTo>
                  <a:pt x="1267" y="554"/>
                </a:lnTo>
                <a:lnTo>
                  <a:pt x="1261" y="558"/>
                </a:lnTo>
                <a:lnTo>
                  <a:pt x="1255" y="560"/>
                </a:lnTo>
                <a:lnTo>
                  <a:pt x="1249" y="564"/>
                </a:lnTo>
                <a:lnTo>
                  <a:pt x="1240" y="568"/>
                </a:lnTo>
                <a:lnTo>
                  <a:pt x="1232" y="571"/>
                </a:lnTo>
                <a:lnTo>
                  <a:pt x="1222" y="575"/>
                </a:lnTo>
                <a:lnTo>
                  <a:pt x="1211" y="579"/>
                </a:lnTo>
                <a:lnTo>
                  <a:pt x="1199" y="583"/>
                </a:lnTo>
                <a:lnTo>
                  <a:pt x="1186" y="587"/>
                </a:lnTo>
                <a:lnTo>
                  <a:pt x="1171" y="591"/>
                </a:lnTo>
                <a:lnTo>
                  <a:pt x="1157" y="594"/>
                </a:lnTo>
                <a:lnTo>
                  <a:pt x="1126" y="602"/>
                </a:lnTo>
                <a:lnTo>
                  <a:pt x="1098" y="608"/>
                </a:lnTo>
                <a:lnTo>
                  <a:pt x="1069" y="614"/>
                </a:lnTo>
                <a:lnTo>
                  <a:pt x="1044" y="619"/>
                </a:lnTo>
                <a:lnTo>
                  <a:pt x="1019" y="623"/>
                </a:lnTo>
                <a:lnTo>
                  <a:pt x="994" y="627"/>
                </a:lnTo>
                <a:lnTo>
                  <a:pt x="973" y="633"/>
                </a:lnTo>
                <a:lnTo>
                  <a:pt x="952" y="63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Freeform 58"/>
          <p:cNvSpPr/>
          <p:nvPr/>
        </p:nvSpPr>
        <p:spPr>
          <a:xfrm>
            <a:off x="2546280" y="3322800"/>
            <a:ext cx="763560" cy="652320"/>
          </a:xfrm>
          <a:custGeom>
            <a:avLst/>
            <a:gdLst>
              <a:gd name="textAreaLeft" fmla="*/ 0 w 763560"/>
              <a:gd name="textAreaRight" fmla="*/ 763920 w 763560"/>
              <a:gd name="textAreaTop" fmla="*/ 0 h 652320"/>
              <a:gd name="textAreaBottom" fmla="*/ 652320 h 652320"/>
            </a:gdLst>
            <a:ahLst/>
            <a:rect l="textAreaLeft" t="textAreaTop" r="textAreaRight" b="textAreaBottom"/>
            <a:pathLst>
              <a:path w="961" h="821">
                <a:moveTo>
                  <a:pt x="654" y="574"/>
                </a:moveTo>
                <a:lnTo>
                  <a:pt x="639" y="587"/>
                </a:lnTo>
                <a:lnTo>
                  <a:pt x="624" y="600"/>
                </a:lnTo>
                <a:lnTo>
                  <a:pt x="606" y="612"/>
                </a:lnTo>
                <a:lnTo>
                  <a:pt x="591" y="625"/>
                </a:lnTo>
                <a:lnTo>
                  <a:pt x="576" y="637"/>
                </a:lnTo>
                <a:lnTo>
                  <a:pt x="558" y="647"/>
                </a:lnTo>
                <a:lnTo>
                  <a:pt x="543" y="658"/>
                </a:lnTo>
                <a:lnTo>
                  <a:pt x="526" y="668"/>
                </a:lnTo>
                <a:lnTo>
                  <a:pt x="509" y="677"/>
                </a:lnTo>
                <a:lnTo>
                  <a:pt x="493" y="687"/>
                </a:lnTo>
                <a:lnTo>
                  <a:pt x="457" y="702"/>
                </a:lnTo>
                <a:lnTo>
                  <a:pt x="422" y="718"/>
                </a:lnTo>
                <a:lnTo>
                  <a:pt x="384" y="731"/>
                </a:lnTo>
                <a:lnTo>
                  <a:pt x="365" y="739"/>
                </a:lnTo>
                <a:lnTo>
                  <a:pt x="345" y="744"/>
                </a:lnTo>
                <a:lnTo>
                  <a:pt x="309" y="758"/>
                </a:lnTo>
                <a:lnTo>
                  <a:pt x="274" y="769"/>
                </a:lnTo>
                <a:lnTo>
                  <a:pt x="240" y="779"/>
                </a:lnTo>
                <a:lnTo>
                  <a:pt x="223" y="785"/>
                </a:lnTo>
                <a:lnTo>
                  <a:pt x="207" y="789"/>
                </a:lnTo>
                <a:lnTo>
                  <a:pt x="192" y="792"/>
                </a:lnTo>
                <a:lnTo>
                  <a:pt x="177" y="798"/>
                </a:lnTo>
                <a:lnTo>
                  <a:pt x="163" y="802"/>
                </a:lnTo>
                <a:lnTo>
                  <a:pt x="148" y="806"/>
                </a:lnTo>
                <a:lnTo>
                  <a:pt x="136" y="810"/>
                </a:lnTo>
                <a:lnTo>
                  <a:pt x="123" y="814"/>
                </a:lnTo>
                <a:lnTo>
                  <a:pt x="109" y="815"/>
                </a:lnTo>
                <a:lnTo>
                  <a:pt x="96" y="817"/>
                </a:lnTo>
                <a:lnTo>
                  <a:pt x="84" y="817"/>
                </a:lnTo>
                <a:lnTo>
                  <a:pt x="73" y="819"/>
                </a:lnTo>
                <a:lnTo>
                  <a:pt x="63" y="819"/>
                </a:lnTo>
                <a:lnTo>
                  <a:pt x="54" y="821"/>
                </a:lnTo>
                <a:lnTo>
                  <a:pt x="46" y="821"/>
                </a:lnTo>
                <a:lnTo>
                  <a:pt x="38" y="821"/>
                </a:lnTo>
                <a:lnTo>
                  <a:pt x="31" y="821"/>
                </a:lnTo>
                <a:lnTo>
                  <a:pt x="25" y="821"/>
                </a:lnTo>
                <a:lnTo>
                  <a:pt x="19" y="819"/>
                </a:lnTo>
                <a:lnTo>
                  <a:pt x="13" y="819"/>
                </a:lnTo>
                <a:lnTo>
                  <a:pt x="10" y="817"/>
                </a:lnTo>
                <a:lnTo>
                  <a:pt x="6" y="817"/>
                </a:lnTo>
                <a:lnTo>
                  <a:pt x="4" y="815"/>
                </a:lnTo>
                <a:lnTo>
                  <a:pt x="2" y="814"/>
                </a:lnTo>
                <a:lnTo>
                  <a:pt x="0" y="810"/>
                </a:lnTo>
                <a:lnTo>
                  <a:pt x="0" y="806"/>
                </a:lnTo>
                <a:lnTo>
                  <a:pt x="2" y="802"/>
                </a:lnTo>
                <a:lnTo>
                  <a:pt x="4" y="800"/>
                </a:lnTo>
                <a:lnTo>
                  <a:pt x="6" y="796"/>
                </a:lnTo>
                <a:lnTo>
                  <a:pt x="10" y="792"/>
                </a:lnTo>
                <a:lnTo>
                  <a:pt x="15" y="789"/>
                </a:lnTo>
                <a:lnTo>
                  <a:pt x="21" y="787"/>
                </a:lnTo>
                <a:lnTo>
                  <a:pt x="29" y="783"/>
                </a:lnTo>
                <a:lnTo>
                  <a:pt x="36" y="779"/>
                </a:lnTo>
                <a:lnTo>
                  <a:pt x="46" y="775"/>
                </a:lnTo>
                <a:lnTo>
                  <a:pt x="56" y="771"/>
                </a:lnTo>
                <a:lnTo>
                  <a:pt x="67" y="767"/>
                </a:lnTo>
                <a:lnTo>
                  <a:pt x="79" y="762"/>
                </a:lnTo>
                <a:lnTo>
                  <a:pt x="90" y="756"/>
                </a:lnTo>
                <a:lnTo>
                  <a:pt x="104" y="750"/>
                </a:lnTo>
                <a:lnTo>
                  <a:pt x="119" y="746"/>
                </a:lnTo>
                <a:lnTo>
                  <a:pt x="132" y="741"/>
                </a:lnTo>
                <a:lnTo>
                  <a:pt x="150" y="735"/>
                </a:lnTo>
                <a:lnTo>
                  <a:pt x="165" y="729"/>
                </a:lnTo>
                <a:lnTo>
                  <a:pt x="182" y="723"/>
                </a:lnTo>
                <a:lnTo>
                  <a:pt x="200" y="716"/>
                </a:lnTo>
                <a:lnTo>
                  <a:pt x="217" y="706"/>
                </a:lnTo>
                <a:lnTo>
                  <a:pt x="236" y="698"/>
                </a:lnTo>
                <a:lnTo>
                  <a:pt x="255" y="689"/>
                </a:lnTo>
                <a:lnTo>
                  <a:pt x="274" y="677"/>
                </a:lnTo>
                <a:lnTo>
                  <a:pt x="296" y="668"/>
                </a:lnTo>
                <a:lnTo>
                  <a:pt x="315" y="656"/>
                </a:lnTo>
                <a:lnTo>
                  <a:pt x="336" y="645"/>
                </a:lnTo>
                <a:lnTo>
                  <a:pt x="359" y="631"/>
                </a:lnTo>
                <a:lnTo>
                  <a:pt x="380" y="618"/>
                </a:lnTo>
                <a:lnTo>
                  <a:pt x="403" y="604"/>
                </a:lnTo>
                <a:lnTo>
                  <a:pt x="424" y="591"/>
                </a:lnTo>
                <a:lnTo>
                  <a:pt x="445" y="577"/>
                </a:lnTo>
                <a:lnTo>
                  <a:pt x="466" y="564"/>
                </a:lnTo>
                <a:lnTo>
                  <a:pt x="486" y="553"/>
                </a:lnTo>
                <a:lnTo>
                  <a:pt x="505" y="539"/>
                </a:lnTo>
                <a:lnTo>
                  <a:pt x="524" y="526"/>
                </a:lnTo>
                <a:lnTo>
                  <a:pt x="539" y="514"/>
                </a:lnTo>
                <a:lnTo>
                  <a:pt x="557" y="503"/>
                </a:lnTo>
                <a:lnTo>
                  <a:pt x="572" y="489"/>
                </a:lnTo>
                <a:lnTo>
                  <a:pt x="585" y="478"/>
                </a:lnTo>
                <a:lnTo>
                  <a:pt x="599" y="466"/>
                </a:lnTo>
                <a:lnTo>
                  <a:pt x="612" y="455"/>
                </a:lnTo>
                <a:lnTo>
                  <a:pt x="624" y="443"/>
                </a:lnTo>
                <a:lnTo>
                  <a:pt x="635" y="430"/>
                </a:lnTo>
                <a:lnTo>
                  <a:pt x="645" y="418"/>
                </a:lnTo>
                <a:lnTo>
                  <a:pt x="654" y="407"/>
                </a:lnTo>
                <a:lnTo>
                  <a:pt x="670" y="384"/>
                </a:lnTo>
                <a:lnTo>
                  <a:pt x="685" y="363"/>
                </a:lnTo>
                <a:lnTo>
                  <a:pt x="699" y="340"/>
                </a:lnTo>
                <a:lnTo>
                  <a:pt x="712" y="320"/>
                </a:lnTo>
                <a:lnTo>
                  <a:pt x="722" y="299"/>
                </a:lnTo>
                <a:lnTo>
                  <a:pt x="731" y="280"/>
                </a:lnTo>
                <a:lnTo>
                  <a:pt x="741" y="259"/>
                </a:lnTo>
                <a:lnTo>
                  <a:pt x="748" y="240"/>
                </a:lnTo>
                <a:lnTo>
                  <a:pt x="754" y="224"/>
                </a:lnTo>
                <a:lnTo>
                  <a:pt x="760" y="211"/>
                </a:lnTo>
                <a:lnTo>
                  <a:pt x="764" y="198"/>
                </a:lnTo>
                <a:lnTo>
                  <a:pt x="768" y="186"/>
                </a:lnTo>
                <a:lnTo>
                  <a:pt x="770" y="174"/>
                </a:lnTo>
                <a:lnTo>
                  <a:pt x="770" y="165"/>
                </a:lnTo>
                <a:lnTo>
                  <a:pt x="768" y="155"/>
                </a:lnTo>
                <a:lnTo>
                  <a:pt x="766" y="146"/>
                </a:lnTo>
                <a:lnTo>
                  <a:pt x="764" y="144"/>
                </a:lnTo>
                <a:lnTo>
                  <a:pt x="760" y="144"/>
                </a:lnTo>
                <a:lnTo>
                  <a:pt x="754" y="142"/>
                </a:lnTo>
                <a:lnTo>
                  <a:pt x="748" y="142"/>
                </a:lnTo>
                <a:lnTo>
                  <a:pt x="741" y="142"/>
                </a:lnTo>
                <a:lnTo>
                  <a:pt x="733" y="144"/>
                </a:lnTo>
                <a:lnTo>
                  <a:pt x="722" y="144"/>
                </a:lnTo>
                <a:lnTo>
                  <a:pt x="712" y="146"/>
                </a:lnTo>
                <a:lnTo>
                  <a:pt x="699" y="148"/>
                </a:lnTo>
                <a:lnTo>
                  <a:pt x="685" y="151"/>
                </a:lnTo>
                <a:lnTo>
                  <a:pt x="670" y="153"/>
                </a:lnTo>
                <a:lnTo>
                  <a:pt x="654" y="157"/>
                </a:lnTo>
                <a:lnTo>
                  <a:pt x="637" y="163"/>
                </a:lnTo>
                <a:lnTo>
                  <a:pt x="620" y="167"/>
                </a:lnTo>
                <a:lnTo>
                  <a:pt x="601" y="173"/>
                </a:lnTo>
                <a:lnTo>
                  <a:pt x="580" y="178"/>
                </a:lnTo>
                <a:lnTo>
                  <a:pt x="558" y="184"/>
                </a:lnTo>
                <a:lnTo>
                  <a:pt x="539" y="190"/>
                </a:lnTo>
                <a:lnTo>
                  <a:pt x="522" y="194"/>
                </a:lnTo>
                <a:lnTo>
                  <a:pt x="505" y="199"/>
                </a:lnTo>
                <a:lnTo>
                  <a:pt x="489" y="203"/>
                </a:lnTo>
                <a:lnTo>
                  <a:pt x="474" y="209"/>
                </a:lnTo>
                <a:lnTo>
                  <a:pt x="459" y="213"/>
                </a:lnTo>
                <a:lnTo>
                  <a:pt x="447" y="217"/>
                </a:lnTo>
                <a:lnTo>
                  <a:pt x="436" y="219"/>
                </a:lnTo>
                <a:lnTo>
                  <a:pt x="424" y="222"/>
                </a:lnTo>
                <a:lnTo>
                  <a:pt x="414" y="224"/>
                </a:lnTo>
                <a:lnTo>
                  <a:pt x="407" y="226"/>
                </a:lnTo>
                <a:lnTo>
                  <a:pt x="399" y="228"/>
                </a:lnTo>
                <a:lnTo>
                  <a:pt x="393" y="228"/>
                </a:lnTo>
                <a:lnTo>
                  <a:pt x="388" y="230"/>
                </a:lnTo>
                <a:lnTo>
                  <a:pt x="384" y="230"/>
                </a:lnTo>
                <a:lnTo>
                  <a:pt x="374" y="230"/>
                </a:lnTo>
                <a:lnTo>
                  <a:pt x="365" y="228"/>
                </a:lnTo>
                <a:lnTo>
                  <a:pt x="355" y="226"/>
                </a:lnTo>
                <a:lnTo>
                  <a:pt x="347" y="222"/>
                </a:lnTo>
                <a:lnTo>
                  <a:pt x="338" y="219"/>
                </a:lnTo>
                <a:lnTo>
                  <a:pt x="328" y="213"/>
                </a:lnTo>
                <a:lnTo>
                  <a:pt x="319" y="205"/>
                </a:lnTo>
                <a:lnTo>
                  <a:pt x="309" y="199"/>
                </a:lnTo>
                <a:lnTo>
                  <a:pt x="299" y="194"/>
                </a:lnTo>
                <a:lnTo>
                  <a:pt x="290" y="188"/>
                </a:lnTo>
                <a:lnTo>
                  <a:pt x="282" y="182"/>
                </a:lnTo>
                <a:lnTo>
                  <a:pt x="276" y="176"/>
                </a:lnTo>
                <a:lnTo>
                  <a:pt x="271" y="169"/>
                </a:lnTo>
                <a:lnTo>
                  <a:pt x="267" y="161"/>
                </a:lnTo>
                <a:lnTo>
                  <a:pt x="263" y="153"/>
                </a:lnTo>
                <a:lnTo>
                  <a:pt x="263" y="146"/>
                </a:lnTo>
                <a:lnTo>
                  <a:pt x="274" y="146"/>
                </a:lnTo>
                <a:lnTo>
                  <a:pt x="290" y="146"/>
                </a:lnTo>
                <a:lnTo>
                  <a:pt x="303" y="144"/>
                </a:lnTo>
                <a:lnTo>
                  <a:pt x="319" y="142"/>
                </a:lnTo>
                <a:lnTo>
                  <a:pt x="334" y="140"/>
                </a:lnTo>
                <a:lnTo>
                  <a:pt x="351" y="138"/>
                </a:lnTo>
                <a:lnTo>
                  <a:pt x="368" y="136"/>
                </a:lnTo>
                <a:lnTo>
                  <a:pt x="386" y="132"/>
                </a:lnTo>
                <a:lnTo>
                  <a:pt x="405" y="128"/>
                </a:lnTo>
                <a:lnTo>
                  <a:pt x="424" y="125"/>
                </a:lnTo>
                <a:lnTo>
                  <a:pt x="443" y="121"/>
                </a:lnTo>
                <a:lnTo>
                  <a:pt x="464" y="117"/>
                </a:lnTo>
                <a:lnTo>
                  <a:pt x="486" y="111"/>
                </a:lnTo>
                <a:lnTo>
                  <a:pt x="507" y="105"/>
                </a:lnTo>
                <a:lnTo>
                  <a:pt x="530" y="100"/>
                </a:lnTo>
                <a:lnTo>
                  <a:pt x="551" y="94"/>
                </a:lnTo>
                <a:lnTo>
                  <a:pt x="574" y="88"/>
                </a:lnTo>
                <a:lnTo>
                  <a:pt x="595" y="82"/>
                </a:lnTo>
                <a:lnTo>
                  <a:pt x="614" y="77"/>
                </a:lnTo>
                <a:lnTo>
                  <a:pt x="633" y="71"/>
                </a:lnTo>
                <a:lnTo>
                  <a:pt x="651" y="65"/>
                </a:lnTo>
                <a:lnTo>
                  <a:pt x="668" y="59"/>
                </a:lnTo>
                <a:lnTo>
                  <a:pt x="683" y="55"/>
                </a:lnTo>
                <a:lnTo>
                  <a:pt x="699" y="50"/>
                </a:lnTo>
                <a:lnTo>
                  <a:pt x="712" y="46"/>
                </a:lnTo>
                <a:lnTo>
                  <a:pt x="723" y="40"/>
                </a:lnTo>
                <a:lnTo>
                  <a:pt x="735" y="36"/>
                </a:lnTo>
                <a:lnTo>
                  <a:pt x="746" y="32"/>
                </a:lnTo>
                <a:lnTo>
                  <a:pt x="754" y="29"/>
                </a:lnTo>
                <a:lnTo>
                  <a:pt x="762" y="27"/>
                </a:lnTo>
                <a:lnTo>
                  <a:pt x="770" y="23"/>
                </a:lnTo>
                <a:lnTo>
                  <a:pt x="775" y="21"/>
                </a:lnTo>
                <a:lnTo>
                  <a:pt x="785" y="17"/>
                </a:lnTo>
                <a:lnTo>
                  <a:pt x="794" y="13"/>
                </a:lnTo>
                <a:lnTo>
                  <a:pt x="804" y="9"/>
                </a:lnTo>
                <a:lnTo>
                  <a:pt x="812" y="8"/>
                </a:lnTo>
                <a:lnTo>
                  <a:pt x="819" y="4"/>
                </a:lnTo>
                <a:lnTo>
                  <a:pt x="827" y="2"/>
                </a:lnTo>
                <a:lnTo>
                  <a:pt x="833" y="2"/>
                </a:lnTo>
                <a:lnTo>
                  <a:pt x="841" y="0"/>
                </a:lnTo>
                <a:lnTo>
                  <a:pt x="844" y="4"/>
                </a:lnTo>
                <a:lnTo>
                  <a:pt x="850" y="9"/>
                </a:lnTo>
                <a:lnTo>
                  <a:pt x="858" y="13"/>
                </a:lnTo>
                <a:lnTo>
                  <a:pt x="867" y="19"/>
                </a:lnTo>
                <a:lnTo>
                  <a:pt x="877" y="25"/>
                </a:lnTo>
                <a:lnTo>
                  <a:pt x="889" y="32"/>
                </a:lnTo>
                <a:lnTo>
                  <a:pt x="902" y="42"/>
                </a:lnTo>
                <a:lnTo>
                  <a:pt x="908" y="48"/>
                </a:lnTo>
                <a:lnTo>
                  <a:pt x="915" y="54"/>
                </a:lnTo>
                <a:lnTo>
                  <a:pt x="925" y="63"/>
                </a:lnTo>
                <a:lnTo>
                  <a:pt x="935" y="75"/>
                </a:lnTo>
                <a:lnTo>
                  <a:pt x="942" y="84"/>
                </a:lnTo>
                <a:lnTo>
                  <a:pt x="948" y="92"/>
                </a:lnTo>
                <a:lnTo>
                  <a:pt x="954" y="100"/>
                </a:lnTo>
                <a:lnTo>
                  <a:pt x="958" y="105"/>
                </a:lnTo>
                <a:lnTo>
                  <a:pt x="961" y="111"/>
                </a:lnTo>
                <a:lnTo>
                  <a:pt x="961" y="115"/>
                </a:lnTo>
                <a:lnTo>
                  <a:pt x="961" y="123"/>
                </a:lnTo>
                <a:lnTo>
                  <a:pt x="960" y="130"/>
                </a:lnTo>
                <a:lnTo>
                  <a:pt x="958" y="138"/>
                </a:lnTo>
                <a:lnTo>
                  <a:pt x="956" y="146"/>
                </a:lnTo>
                <a:lnTo>
                  <a:pt x="954" y="151"/>
                </a:lnTo>
                <a:lnTo>
                  <a:pt x="950" y="157"/>
                </a:lnTo>
                <a:lnTo>
                  <a:pt x="946" y="163"/>
                </a:lnTo>
                <a:lnTo>
                  <a:pt x="944" y="167"/>
                </a:lnTo>
                <a:lnTo>
                  <a:pt x="940" y="173"/>
                </a:lnTo>
                <a:lnTo>
                  <a:pt x="936" y="176"/>
                </a:lnTo>
                <a:lnTo>
                  <a:pt x="933" y="182"/>
                </a:lnTo>
                <a:lnTo>
                  <a:pt x="927" y="188"/>
                </a:lnTo>
                <a:lnTo>
                  <a:pt x="923" y="196"/>
                </a:lnTo>
                <a:lnTo>
                  <a:pt x="917" y="203"/>
                </a:lnTo>
                <a:lnTo>
                  <a:pt x="912" y="213"/>
                </a:lnTo>
                <a:lnTo>
                  <a:pt x="908" y="222"/>
                </a:lnTo>
                <a:lnTo>
                  <a:pt x="902" y="232"/>
                </a:lnTo>
                <a:lnTo>
                  <a:pt x="894" y="244"/>
                </a:lnTo>
                <a:lnTo>
                  <a:pt x="889" y="255"/>
                </a:lnTo>
                <a:lnTo>
                  <a:pt x="881" y="267"/>
                </a:lnTo>
                <a:lnTo>
                  <a:pt x="873" y="280"/>
                </a:lnTo>
                <a:lnTo>
                  <a:pt x="865" y="293"/>
                </a:lnTo>
                <a:lnTo>
                  <a:pt x="858" y="309"/>
                </a:lnTo>
                <a:lnTo>
                  <a:pt x="850" y="324"/>
                </a:lnTo>
                <a:lnTo>
                  <a:pt x="841" y="341"/>
                </a:lnTo>
                <a:lnTo>
                  <a:pt x="831" y="359"/>
                </a:lnTo>
                <a:lnTo>
                  <a:pt x="812" y="391"/>
                </a:lnTo>
                <a:lnTo>
                  <a:pt x="791" y="424"/>
                </a:lnTo>
                <a:lnTo>
                  <a:pt x="766" y="457"/>
                </a:lnTo>
                <a:lnTo>
                  <a:pt x="741" y="487"/>
                </a:lnTo>
                <a:lnTo>
                  <a:pt x="714" y="516"/>
                </a:lnTo>
                <a:lnTo>
                  <a:pt x="685" y="545"/>
                </a:lnTo>
                <a:lnTo>
                  <a:pt x="654" y="57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0" name="Group 37"/>
          <p:cNvGrpSpPr/>
          <p:nvPr/>
        </p:nvGrpSpPr>
        <p:grpSpPr>
          <a:xfrm>
            <a:off x="4724280" y="1295280"/>
            <a:ext cx="2488680" cy="1263600"/>
            <a:chOff x="4724280" y="1295280"/>
            <a:chExt cx="2488680" cy="1263600"/>
          </a:xfrm>
        </p:grpSpPr>
        <p:sp>
          <p:nvSpPr>
            <p:cNvPr id="4291" name="Text Box 24"/>
            <p:cNvSpPr/>
            <p:nvPr/>
          </p:nvSpPr>
          <p:spPr>
            <a:xfrm>
              <a:off x="4724280" y="175248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竖心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2" name="Group 39"/>
            <p:cNvGrpSpPr/>
            <p:nvPr/>
          </p:nvGrpSpPr>
          <p:grpSpPr>
            <a:xfrm>
              <a:off x="6781680" y="1295280"/>
              <a:ext cx="431280" cy="1263600"/>
              <a:chOff x="6781680" y="1295280"/>
              <a:chExt cx="431280" cy="1263600"/>
            </a:xfrm>
          </p:grpSpPr>
          <p:sp>
            <p:nvSpPr>
              <p:cNvPr id="4293" name="Freeform 59"/>
              <p:cNvSpPr/>
              <p:nvPr/>
            </p:nvSpPr>
            <p:spPr>
              <a:xfrm>
                <a:off x="6962400" y="1295280"/>
                <a:ext cx="122040" cy="12636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221" h="2268">
                    <a:moveTo>
                      <a:pt x="27" y="17"/>
                    </a:moveTo>
                    <a:lnTo>
                      <a:pt x="29" y="13"/>
                    </a:lnTo>
                    <a:lnTo>
                      <a:pt x="33" y="11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44" y="4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73" y="0"/>
                    </a:lnTo>
                    <a:lnTo>
                      <a:pt x="88" y="2"/>
                    </a:lnTo>
                    <a:lnTo>
                      <a:pt x="104" y="4"/>
                    </a:lnTo>
                    <a:lnTo>
                      <a:pt x="121" y="7"/>
                    </a:lnTo>
                    <a:lnTo>
                      <a:pt x="138" y="15"/>
                    </a:lnTo>
                    <a:lnTo>
                      <a:pt x="154" y="23"/>
                    </a:lnTo>
                    <a:lnTo>
                      <a:pt x="169" y="30"/>
                    </a:lnTo>
                    <a:lnTo>
                      <a:pt x="180" y="38"/>
                    </a:lnTo>
                    <a:lnTo>
                      <a:pt x="186" y="40"/>
                    </a:lnTo>
                    <a:lnTo>
                      <a:pt x="192" y="44"/>
                    </a:lnTo>
                    <a:lnTo>
                      <a:pt x="198" y="48"/>
                    </a:lnTo>
                    <a:lnTo>
                      <a:pt x="202" y="50"/>
                    </a:lnTo>
                    <a:lnTo>
                      <a:pt x="205" y="54"/>
                    </a:lnTo>
                    <a:lnTo>
                      <a:pt x="209" y="55"/>
                    </a:lnTo>
                    <a:lnTo>
                      <a:pt x="211" y="57"/>
                    </a:lnTo>
                    <a:lnTo>
                      <a:pt x="213" y="59"/>
                    </a:lnTo>
                    <a:lnTo>
                      <a:pt x="217" y="67"/>
                    </a:lnTo>
                    <a:lnTo>
                      <a:pt x="219" y="77"/>
                    </a:lnTo>
                    <a:lnTo>
                      <a:pt x="221" y="86"/>
                    </a:lnTo>
                    <a:lnTo>
                      <a:pt x="221" y="98"/>
                    </a:lnTo>
                    <a:lnTo>
                      <a:pt x="221" y="109"/>
                    </a:lnTo>
                    <a:lnTo>
                      <a:pt x="219" y="119"/>
                    </a:lnTo>
                    <a:lnTo>
                      <a:pt x="217" y="130"/>
                    </a:lnTo>
                    <a:lnTo>
                      <a:pt x="213" y="144"/>
                    </a:lnTo>
                    <a:lnTo>
                      <a:pt x="211" y="149"/>
                    </a:lnTo>
                    <a:lnTo>
                      <a:pt x="211" y="155"/>
                    </a:lnTo>
                    <a:lnTo>
                      <a:pt x="207" y="171"/>
                    </a:lnTo>
                    <a:lnTo>
                      <a:pt x="203" y="186"/>
                    </a:lnTo>
                    <a:lnTo>
                      <a:pt x="200" y="203"/>
                    </a:lnTo>
                    <a:lnTo>
                      <a:pt x="196" y="220"/>
                    </a:lnTo>
                    <a:lnTo>
                      <a:pt x="192" y="240"/>
                    </a:lnTo>
                    <a:lnTo>
                      <a:pt x="190" y="259"/>
                    </a:lnTo>
                    <a:lnTo>
                      <a:pt x="186" y="278"/>
                    </a:lnTo>
                    <a:lnTo>
                      <a:pt x="184" y="284"/>
                    </a:lnTo>
                    <a:lnTo>
                      <a:pt x="184" y="291"/>
                    </a:lnTo>
                    <a:lnTo>
                      <a:pt x="184" y="299"/>
                    </a:lnTo>
                    <a:lnTo>
                      <a:pt x="182" y="307"/>
                    </a:lnTo>
                    <a:lnTo>
                      <a:pt x="182" y="315"/>
                    </a:lnTo>
                    <a:lnTo>
                      <a:pt x="182" y="324"/>
                    </a:lnTo>
                    <a:lnTo>
                      <a:pt x="180" y="334"/>
                    </a:lnTo>
                    <a:lnTo>
                      <a:pt x="180" y="345"/>
                    </a:lnTo>
                    <a:lnTo>
                      <a:pt x="180" y="355"/>
                    </a:lnTo>
                    <a:lnTo>
                      <a:pt x="180" y="366"/>
                    </a:lnTo>
                    <a:lnTo>
                      <a:pt x="178" y="380"/>
                    </a:lnTo>
                    <a:lnTo>
                      <a:pt x="178" y="391"/>
                    </a:lnTo>
                    <a:lnTo>
                      <a:pt x="178" y="405"/>
                    </a:lnTo>
                    <a:lnTo>
                      <a:pt x="178" y="420"/>
                    </a:lnTo>
                    <a:lnTo>
                      <a:pt x="178" y="433"/>
                    </a:lnTo>
                    <a:lnTo>
                      <a:pt x="178" y="449"/>
                    </a:lnTo>
                    <a:lnTo>
                      <a:pt x="177" y="464"/>
                    </a:lnTo>
                    <a:lnTo>
                      <a:pt x="177" y="481"/>
                    </a:lnTo>
                    <a:lnTo>
                      <a:pt x="177" y="497"/>
                    </a:lnTo>
                    <a:lnTo>
                      <a:pt x="177" y="514"/>
                    </a:lnTo>
                    <a:lnTo>
                      <a:pt x="177" y="533"/>
                    </a:lnTo>
                    <a:lnTo>
                      <a:pt x="177" y="551"/>
                    </a:lnTo>
                    <a:lnTo>
                      <a:pt x="177" y="570"/>
                    </a:lnTo>
                    <a:lnTo>
                      <a:pt x="177" y="591"/>
                    </a:lnTo>
                    <a:lnTo>
                      <a:pt x="177" y="610"/>
                    </a:lnTo>
                    <a:lnTo>
                      <a:pt x="177" y="631"/>
                    </a:lnTo>
                    <a:lnTo>
                      <a:pt x="177" y="652"/>
                    </a:lnTo>
                    <a:lnTo>
                      <a:pt x="177" y="675"/>
                    </a:lnTo>
                    <a:lnTo>
                      <a:pt x="177" y="696"/>
                    </a:lnTo>
                    <a:lnTo>
                      <a:pt x="177" y="719"/>
                    </a:lnTo>
                    <a:lnTo>
                      <a:pt x="177" y="744"/>
                    </a:lnTo>
                    <a:lnTo>
                      <a:pt x="177" y="767"/>
                    </a:lnTo>
                    <a:lnTo>
                      <a:pt x="177" y="819"/>
                    </a:lnTo>
                    <a:lnTo>
                      <a:pt x="177" y="871"/>
                    </a:lnTo>
                    <a:lnTo>
                      <a:pt x="175" y="923"/>
                    </a:lnTo>
                    <a:lnTo>
                      <a:pt x="175" y="977"/>
                    </a:lnTo>
                    <a:lnTo>
                      <a:pt x="175" y="1032"/>
                    </a:lnTo>
                    <a:lnTo>
                      <a:pt x="173" y="1086"/>
                    </a:lnTo>
                    <a:lnTo>
                      <a:pt x="173" y="1142"/>
                    </a:lnTo>
                    <a:lnTo>
                      <a:pt x="171" y="1199"/>
                    </a:lnTo>
                    <a:lnTo>
                      <a:pt x="169" y="1257"/>
                    </a:lnTo>
                    <a:lnTo>
                      <a:pt x="167" y="1314"/>
                    </a:lnTo>
                    <a:lnTo>
                      <a:pt x="167" y="1374"/>
                    </a:lnTo>
                    <a:lnTo>
                      <a:pt x="165" y="1435"/>
                    </a:lnTo>
                    <a:lnTo>
                      <a:pt x="163" y="1497"/>
                    </a:lnTo>
                    <a:lnTo>
                      <a:pt x="161" y="1558"/>
                    </a:lnTo>
                    <a:lnTo>
                      <a:pt x="159" y="1621"/>
                    </a:lnTo>
                    <a:lnTo>
                      <a:pt x="157" y="1685"/>
                    </a:lnTo>
                    <a:lnTo>
                      <a:pt x="155" y="1717"/>
                    </a:lnTo>
                    <a:lnTo>
                      <a:pt x="154" y="1748"/>
                    </a:lnTo>
                    <a:lnTo>
                      <a:pt x="154" y="1777"/>
                    </a:lnTo>
                    <a:lnTo>
                      <a:pt x="152" y="1806"/>
                    </a:lnTo>
                    <a:lnTo>
                      <a:pt x="150" y="1834"/>
                    </a:lnTo>
                    <a:lnTo>
                      <a:pt x="148" y="1861"/>
                    </a:lnTo>
                    <a:lnTo>
                      <a:pt x="146" y="1886"/>
                    </a:lnTo>
                    <a:lnTo>
                      <a:pt x="144" y="1911"/>
                    </a:lnTo>
                    <a:lnTo>
                      <a:pt x="142" y="1936"/>
                    </a:lnTo>
                    <a:lnTo>
                      <a:pt x="140" y="1959"/>
                    </a:lnTo>
                    <a:lnTo>
                      <a:pt x="138" y="1982"/>
                    </a:lnTo>
                    <a:lnTo>
                      <a:pt x="138" y="2003"/>
                    </a:lnTo>
                    <a:lnTo>
                      <a:pt x="136" y="2022"/>
                    </a:lnTo>
                    <a:lnTo>
                      <a:pt x="134" y="2042"/>
                    </a:lnTo>
                    <a:lnTo>
                      <a:pt x="132" y="2061"/>
                    </a:lnTo>
                    <a:lnTo>
                      <a:pt x="130" y="2078"/>
                    </a:lnTo>
                    <a:lnTo>
                      <a:pt x="129" y="2095"/>
                    </a:lnTo>
                    <a:lnTo>
                      <a:pt x="129" y="2111"/>
                    </a:lnTo>
                    <a:lnTo>
                      <a:pt x="127" y="2126"/>
                    </a:lnTo>
                    <a:lnTo>
                      <a:pt x="125" y="2139"/>
                    </a:lnTo>
                    <a:lnTo>
                      <a:pt x="123" y="2153"/>
                    </a:lnTo>
                    <a:lnTo>
                      <a:pt x="123" y="2164"/>
                    </a:lnTo>
                    <a:lnTo>
                      <a:pt x="121" y="2176"/>
                    </a:lnTo>
                    <a:lnTo>
                      <a:pt x="119" y="2186"/>
                    </a:lnTo>
                    <a:lnTo>
                      <a:pt x="119" y="2195"/>
                    </a:lnTo>
                    <a:lnTo>
                      <a:pt x="117" y="2205"/>
                    </a:lnTo>
                    <a:lnTo>
                      <a:pt x="115" y="2212"/>
                    </a:lnTo>
                    <a:lnTo>
                      <a:pt x="115" y="2218"/>
                    </a:lnTo>
                    <a:lnTo>
                      <a:pt x="113" y="2224"/>
                    </a:lnTo>
                    <a:lnTo>
                      <a:pt x="113" y="2230"/>
                    </a:lnTo>
                    <a:lnTo>
                      <a:pt x="111" y="2234"/>
                    </a:lnTo>
                    <a:lnTo>
                      <a:pt x="111" y="2237"/>
                    </a:lnTo>
                    <a:lnTo>
                      <a:pt x="107" y="2245"/>
                    </a:lnTo>
                    <a:lnTo>
                      <a:pt x="104" y="2251"/>
                    </a:lnTo>
                    <a:lnTo>
                      <a:pt x="100" y="2257"/>
                    </a:lnTo>
                    <a:lnTo>
                      <a:pt x="98" y="2260"/>
                    </a:lnTo>
                    <a:lnTo>
                      <a:pt x="94" y="2264"/>
                    </a:lnTo>
                    <a:lnTo>
                      <a:pt x="90" y="2266"/>
                    </a:lnTo>
                    <a:lnTo>
                      <a:pt x="86" y="2268"/>
                    </a:lnTo>
                    <a:lnTo>
                      <a:pt x="83" y="2268"/>
                    </a:lnTo>
                    <a:lnTo>
                      <a:pt x="81" y="2266"/>
                    </a:lnTo>
                    <a:lnTo>
                      <a:pt x="79" y="2264"/>
                    </a:lnTo>
                    <a:lnTo>
                      <a:pt x="77" y="2260"/>
                    </a:lnTo>
                    <a:lnTo>
                      <a:pt x="75" y="2257"/>
                    </a:lnTo>
                    <a:lnTo>
                      <a:pt x="71" y="2253"/>
                    </a:lnTo>
                    <a:lnTo>
                      <a:pt x="69" y="2247"/>
                    </a:lnTo>
                    <a:lnTo>
                      <a:pt x="67" y="2241"/>
                    </a:lnTo>
                    <a:lnTo>
                      <a:pt x="63" y="2235"/>
                    </a:lnTo>
                    <a:lnTo>
                      <a:pt x="59" y="2230"/>
                    </a:lnTo>
                    <a:lnTo>
                      <a:pt x="58" y="2222"/>
                    </a:lnTo>
                    <a:lnTo>
                      <a:pt x="54" y="2214"/>
                    </a:lnTo>
                    <a:lnTo>
                      <a:pt x="50" y="2205"/>
                    </a:lnTo>
                    <a:lnTo>
                      <a:pt x="46" y="2197"/>
                    </a:lnTo>
                    <a:lnTo>
                      <a:pt x="44" y="2186"/>
                    </a:lnTo>
                    <a:lnTo>
                      <a:pt x="40" y="2176"/>
                    </a:lnTo>
                    <a:lnTo>
                      <a:pt x="36" y="2164"/>
                    </a:lnTo>
                    <a:lnTo>
                      <a:pt x="31" y="2151"/>
                    </a:lnTo>
                    <a:lnTo>
                      <a:pt x="27" y="2138"/>
                    </a:lnTo>
                    <a:lnTo>
                      <a:pt x="23" y="2126"/>
                    </a:lnTo>
                    <a:lnTo>
                      <a:pt x="19" y="2115"/>
                    </a:lnTo>
                    <a:lnTo>
                      <a:pt x="15" y="2105"/>
                    </a:lnTo>
                    <a:lnTo>
                      <a:pt x="13" y="2095"/>
                    </a:lnTo>
                    <a:lnTo>
                      <a:pt x="10" y="2086"/>
                    </a:lnTo>
                    <a:lnTo>
                      <a:pt x="8" y="2076"/>
                    </a:lnTo>
                    <a:lnTo>
                      <a:pt x="6" y="2068"/>
                    </a:lnTo>
                    <a:lnTo>
                      <a:pt x="4" y="2061"/>
                    </a:lnTo>
                    <a:lnTo>
                      <a:pt x="2" y="2055"/>
                    </a:lnTo>
                    <a:lnTo>
                      <a:pt x="2" y="2049"/>
                    </a:lnTo>
                    <a:lnTo>
                      <a:pt x="0" y="2044"/>
                    </a:lnTo>
                    <a:lnTo>
                      <a:pt x="0" y="2038"/>
                    </a:lnTo>
                    <a:lnTo>
                      <a:pt x="0" y="2032"/>
                    </a:lnTo>
                    <a:lnTo>
                      <a:pt x="0" y="2028"/>
                    </a:lnTo>
                    <a:lnTo>
                      <a:pt x="0" y="2026"/>
                    </a:lnTo>
                    <a:lnTo>
                      <a:pt x="0" y="2022"/>
                    </a:lnTo>
                    <a:lnTo>
                      <a:pt x="0" y="2017"/>
                    </a:lnTo>
                    <a:lnTo>
                      <a:pt x="2" y="2011"/>
                    </a:lnTo>
                    <a:lnTo>
                      <a:pt x="2" y="2003"/>
                    </a:lnTo>
                    <a:lnTo>
                      <a:pt x="4" y="1996"/>
                    </a:lnTo>
                    <a:lnTo>
                      <a:pt x="4" y="1986"/>
                    </a:lnTo>
                    <a:lnTo>
                      <a:pt x="6" y="1974"/>
                    </a:lnTo>
                    <a:lnTo>
                      <a:pt x="8" y="1961"/>
                    </a:lnTo>
                    <a:lnTo>
                      <a:pt x="10" y="1948"/>
                    </a:lnTo>
                    <a:lnTo>
                      <a:pt x="13" y="1934"/>
                    </a:lnTo>
                    <a:lnTo>
                      <a:pt x="15" y="1917"/>
                    </a:lnTo>
                    <a:lnTo>
                      <a:pt x="17" y="1900"/>
                    </a:lnTo>
                    <a:lnTo>
                      <a:pt x="21" y="1882"/>
                    </a:lnTo>
                    <a:lnTo>
                      <a:pt x="23" y="1863"/>
                    </a:lnTo>
                    <a:lnTo>
                      <a:pt x="27" y="1842"/>
                    </a:lnTo>
                    <a:lnTo>
                      <a:pt x="29" y="1819"/>
                    </a:lnTo>
                    <a:lnTo>
                      <a:pt x="31" y="1794"/>
                    </a:lnTo>
                    <a:lnTo>
                      <a:pt x="33" y="1769"/>
                    </a:lnTo>
                    <a:lnTo>
                      <a:pt x="36" y="1742"/>
                    </a:lnTo>
                    <a:lnTo>
                      <a:pt x="38" y="1712"/>
                    </a:lnTo>
                    <a:lnTo>
                      <a:pt x="40" y="1681"/>
                    </a:lnTo>
                    <a:lnTo>
                      <a:pt x="42" y="1664"/>
                    </a:lnTo>
                    <a:lnTo>
                      <a:pt x="44" y="1646"/>
                    </a:lnTo>
                    <a:lnTo>
                      <a:pt x="44" y="1629"/>
                    </a:lnTo>
                    <a:lnTo>
                      <a:pt x="46" y="1612"/>
                    </a:lnTo>
                    <a:lnTo>
                      <a:pt x="48" y="1594"/>
                    </a:lnTo>
                    <a:lnTo>
                      <a:pt x="48" y="1575"/>
                    </a:lnTo>
                    <a:lnTo>
                      <a:pt x="50" y="1556"/>
                    </a:lnTo>
                    <a:lnTo>
                      <a:pt x="52" y="1535"/>
                    </a:lnTo>
                    <a:lnTo>
                      <a:pt x="52" y="1516"/>
                    </a:lnTo>
                    <a:lnTo>
                      <a:pt x="54" y="1495"/>
                    </a:lnTo>
                    <a:lnTo>
                      <a:pt x="56" y="1474"/>
                    </a:lnTo>
                    <a:lnTo>
                      <a:pt x="56" y="1451"/>
                    </a:lnTo>
                    <a:lnTo>
                      <a:pt x="58" y="1429"/>
                    </a:lnTo>
                    <a:lnTo>
                      <a:pt x="58" y="1406"/>
                    </a:lnTo>
                    <a:lnTo>
                      <a:pt x="59" y="1383"/>
                    </a:lnTo>
                    <a:lnTo>
                      <a:pt x="61" y="1358"/>
                    </a:lnTo>
                    <a:lnTo>
                      <a:pt x="61" y="1333"/>
                    </a:lnTo>
                    <a:lnTo>
                      <a:pt x="63" y="1309"/>
                    </a:lnTo>
                    <a:lnTo>
                      <a:pt x="63" y="1284"/>
                    </a:lnTo>
                    <a:lnTo>
                      <a:pt x="65" y="1259"/>
                    </a:lnTo>
                    <a:lnTo>
                      <a:pt x="67" y="1205"/>
                    </a:lnTo>
                    <a:lnTo>
                      <a:pt x="67" y="1153"/>
                    </a:lnTo>
                    <a:lnTo>
                      <a:pt x="71" y="1051"/>
                    </a:lnTo>
                    <a:lnTo>
                      <a:pt x="75" y="950"/>
                    </a:lnTo>
                    <a:lnTo>
                      <a:pt x="77" y="850"/>
                    </a:lnTo>
                    <a:lnTo>
                      <a:pt x="81" y="752"/>
                    </a:lnTo>
                    <a:lnTo>
                      <a:pt x="83" y="656"/>
                    </a:lnTo>
                    <a:lnTo>
                      <a:pt x="83" y="560"/>
                    </a:lnTo>
                    <a:lnTo>
                      <a:pt x="83" y="466"/>
                    </a:lnTo>
                    <a:lnTo>
                      <a:pt x="83" y="443"/>
                    </a:lnTo>
                    <a:lnTo>
                      <a:pt x="83" y="420"/>
                    </a:lnTo>
                    <a:lnTo>
                      <a:pt x="83" y="399"/>
                    </a:lnTo>
                    <a:lnTo>
                      <a:pt x="83" y="378"/>
                    </a:lnTo>
                    <a:lnTo>
                      <a:pt x="83" y="357"/>
                    </a:lnTo>
                    <a:lnTo>
                      <a:pt x="83" y="338"/>
                    </a:lnTo>
                    <a:lnTo>
                      <a:pt x="83" y="318"/>
                    </a:lnTo>
                    <a:lnTo>
                      <a:pt x="81" y="299"/>
                    </a:lnTo>
                    <a:lnTo>
                      <a:pt x="81" y="282"/>
                    </a:lnTo>
                    <a:lnTo>
                      <a:pt x="81" y="265"/>
                    </a:lnTo>
                    <a:lnTo>
                      <a:pt x="79" y="249"/>
                    </a:lnTo>
                    <a:lnTo>
                      <a:pt x="79" y="234"/>
                    </a:lnTo>
                    <a:lnTo>
                      <a:pt x="79" y="219"/>
                    </a:lnTo>
                    <a:lnTo>
                      <a:pt x="77" y="203"/>
                    </a:lnTo>
                    <a:lnTo>
                      <a:pt x="77" y="190"/>
                    </a:lnTo>
                    <a:lnTo>
                      <a:pt x="75" y="176"/>
                    </a:lnTo>
                    <a:lnTo>
                      <a:pt x="73" y="165"/>
                    </a:lnTo>
                    <a:lnTo>
                      <a:pt x="73" y="153"/>
                    </a:lnTo>
                    <a:lnTo>
                      <a:pt x="71" y="142"/>
                    </a:lnTo>
                    <a:lnTo>
                      <a:pt x="69" y="132"/>
                    </a:lnTo>
                    <a:lnTo>
                      <a:pt x="69" y="123"/>
                    </a:lnTo>
                    <a:lnTo>
                      <a:pt x="67" y="113"/>
                    </a:lnTo>
                    <a:lnTo>
                      <a:pt x="65" y="105"/>
                    </a:lnTo>
                    <a:lnTo>
                      <a:pt x="63" y="98"/>
                    </a:lnTo>
                    <a:lnTo>
                      <a:pt x="61" y="90"/>
                    </a:lnTo>
                    <a:lnTo>
                      <a:pt x="59" y="84"/>
                    </a:lnTo>
                    <a:lnTo>
                      <a:pt x="58" y="78"/>
                    </a:lnTo>
                    <a:lnTo>
                      <a:pt x="56" y="73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48" y="61"/>
                    </a:lnTo>
                    <a:lnTo>
                      <a:pt x="46" y="59"/>
                    </a:lnTo>
                    <a:lnTo>
                      <a:pt x="40" y="57"/>
                    </a:lnTo>
                    <a:lnTo>
                      <a:pt x="36" y="55"/>
                    </a:lnTo>
                    <a:lnTo>
                      <a:pt x="33" y="54"/>
                    </a:lnTo>
                    <a:lnTo>
                      <a:pt x="31" y="50"/>
                    </a:lnTo>
                    <a:lnTo>
                      <a:pt x="27" y="48"/>
                    </a:lnTo>
                    <a:lnTo>
                      <a:pt x="25" y="44"/>
                    </a:lnTo>
                    <a:lnTo>
                      <a:pt x="23" y="42"/>
                    </a:lnTo>
                    <a:lnTo>
                      <a:pt x="23" y="38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5" y="23"/>
                    </a:lnTo>
                    <a:lnTo>
                      <a:pt x="27" y="17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Freeform 60"/>
              <p:cNvSpPr/>
              <p:nvPr/>
            </p:nvSpPr>
            <p:spPr>
              <a:xfrm>
                <a:off x="7054560" y="1589040"/>
                <a:ext cx="158400" cy="1166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286" h="209">
                    <a:moveTo>
                      <a:pt x="205" y="32"/>
                    </a:moveTo>
                    <a:lnTo>
                      <a:pt x="219" y="40"/>
                    </a:lnTo>
                    <a:lnTo>
                      <a:pt x="230" y="49"/>
                    </a:lnTo>
                    <a:lnTo>
                      <a:pt x="242" y="59"/>
                    </a:lnTo>
                    <a:lnTo>
                      <a:pt x="253" y="69"/>
                    </a:lnTo>
                    <a:lnTo>
                      <a:pt x="261" y="80"/>
                    </a:lnTo>
                    <a:lnTo>
                      <a:pt x="269" y="92"/>
                    </a:lnTo>
                    <a:lnTo>
                      <a:pt x="276" y="103"/>
                    </a:lnTo>
                    <a:lnTo>
                      <a:pt x="280" y="115"/>
                    </a:lnTo>
                    <a:lnTo>
                      <a:pt x="282" y="130"/>
                    </a:lnTo>
                    <a:lnTo>
                      <a:pt x="284" y="143"/>
                    </a:lnTo>
                    <a:lnTo>
                      <a:pt x="286" y="157"/>
                    </a:lnTo>
                    <a:lnTo>
                      <a:pt x="286" y="168"/>
                    </a:lnTo>
                    <a:lnTo>
                      <a:pt x="286" y="178"/>
                    </a:lnTo>
                    <a:lnTo>
                      <a:pt x="284" y="188"/>
                    </a:lnTo>
                    <a:lnTo>
                      <a:pt x="282" y="193"/>
                    </a:lnTo>
                    <a:lnTo>
                      <a:pt x="282" y="195"/>
                    </a:lnTo>
                    <a:lnTo>
                      <a:pt x="280" y="199"/>
                    </a:lnTo>
                    <a:lnTo>
                      <a:pt x="278" y="201"/>
                    </a:lnTo>
                    <a:lnTo>
                      <a:pt x="274" y="205"/>
                    </a:lnTo>
                    <a:lnTo>
                      <a:pt x="271" y="207"/>
                    </a:lnTo>
                    <a:lnTo>
                      <a:pt x="267" y="209"/>
                    </a:lnTo>
                    <a:lnTo>
                      <a:pt x="261" y="209"/>
                    </a:lnTo>
                    <a:lnTo>
                      <a:pt x="253" y="209"/>
                    </a:lnTo>
                    <a:lnTo>
                      <a:pt x="248" y="207"/>
                    </a:lnTo>
                    <a:lnTo>
                      <a:pt x="238" y="205"/>
                    </a:lnTo>
                    <a:lnTo>
                      <a:pt x="230" y="203"/>
                    </a:lnTo>
                    <a:lnTo>
                      <a:pt x="221" y="199"/>
                    </a:lnTo>
                    <a:lnTo>
                      <a:pt x="211" y="193"/>
                    </a:lnTo>
                    <a:lnTo>
                      <a:pt x="200" y="188"/>
                    </a:lnTo>
                    <a:lnTo>
                      <a:pt x="188" y="182"/>
                    </a:lnTo>
                    <a:lnTo>
                      <a:pt x="177" y="174"/>
                    </a:lnTo>
                    <a:lnTo>
                      <a:pt x="163" y="166"/>
                    </a:lnTo>
                    <a:lnTo>
                      <a:pt x="150" y="157"/>
                    </a:lnTo>
                    <a:lnTo>
                      <a:pt x="136" y="147"/>
                    </a:lnTo>
                    <a:lnTo>
                      <a:pt x="123" y="138"/>
                    </a:lnTo>
                    <a:lnTo>
                      <a:pt x="109" y="128"/>
                    </a:lnTo>
                    <a:lnTo>
                      <a:pt x="98" y="117"/>
                    </a:lnTo>
                    <a:lnTo>
                      <a:pt x="88" y="107"/>
                    </a:lnTo>
                    <a:lnTo>
                      <a:pt x="77" y="97"/>
                    </a:lnTo>
                    <a:lnTo>
                      <a:pt x="67" y="88"/>
                    </a:lnTo>
                    <a:lnTo>
                      <a:pt x="58" y="78"/>
                    </a:lnTo>
                    <a:lnTo>
                      <a:pt x="48" y="69"/>
                    </a:lnTo>
                    <a:lnTo>
                      <a:pt x="40" y="59"/>
                    </a:lnTo>
                    <a:lnTo>
                      <a:pt x="33" y="49"/>
                    </a:lnTo>
                    <a:lnTo>
                      <a:pt x="25" y="40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36" y="1"/>
                    </a:lnTo>
                    <a:lnTo>
                      <a:pt x="56" y="1"/>
                    </a:lnTo>
                    <a:lnTo>
                      <a:pt x="71" y="1"/>
                    </a:lnTo>
                    <a:lnTo>
                      <a:pt x="88" y="3"/>
                    </a:lnTo>
                    <a:lnTo>
                      <a:pt x="104" y="5"/>
                    </a:lnTo>
                    <a:lnTo>
                      <a:pt x="117" y="7"/>
                    </a:lnTo>
                    <a:lnTo>
                      <a:pt x="130" y="7"/>
                    </a:lnTo>
                    <a:lnTo>
                      <a:pt x="144" y="11"/>
                    </a:lnTo>
                    <a:lnTo>
                      <a:pt x="155" y="13"/>
                    </a:lnTo>
                    <a:lnTo>
                      <a:pt x="167" y="15"/>
                    </a:lnTo>
                    <a:lnTo>
                      <a:pt x="177" y="19"/>
                    </a:lnTo>
                    <a:lnTo>
                      <a:pt x="184" y="21"/>
                    </a:lnTo>
                    <a:lnTo>
                      <a:pt x="192" y="24"/>
                    </a:lnTo>
                    <a:lnTo>
                      <a:pt x="200" y="28"/>
                    </a:lnTo>
                    <a:lnTo>
                      <a:pt x="205" y="3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Freeform 61"/>
              <p:cNvSpPr/>
              <p:nvPr/>
            </p:nvSpPr>
            <p:spPr>
              <a:xfrm>
                <a:off x="6781680" y="1688400"/>
                <a:ext cx="115200" cy="3204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5" y="572"/>
                    </a:moveTo>
                    <a:lnTo>
                      <a:pt x="59" y="574"/>
                    </a:lnTo>
                    <a:lnTo>
                      <a:pt x="55" y="576"/>
                    </a:lnTo>
                    <a:lnTo>
                      <a:pt x="50" y="576"/>
                    </a:lnTo>
                    <a:lnTo>
                      <a:pt x="46" y="574"/>
                    </a:lnTo>
                    <a:lnTo>
                      <a:pt x="42" y="574"/>
                    </a:lnTo>
                    <a:lnTo>
                      <a:pt x="40" y="572"/>
                    </a:lnTo>
                    <a:lnTo>
                      <a:pt x="36" y="568"/>
                    </a:lnTo>
                    <a:lnTo>
                      <a:pt x="34" y="564"/>
                    </a:lnTo>
                    <a:lnTo>
                      <a:pt x="30" y="560"/>
                    </a:lnTo>
                    <a:lnTo>
                      <a:pt x="29" y="556"/>
                    </a:lnTo>
                    <a:lnTo>
                      <a:pt x="27" y="551"/>
                    </a:lnTo>
                    <a:lnTo>
                      <a:pt x="25" y="543"/>
                    </a:lnTo>
                    <a:lnTo>
                      <a:pt x="23" y="535"/>
                    </a:lnTo>
                    <a:lnTo>
                      <a:pt x="21" y="528"/>
                    </a:lnTo>
                    <a:lnTo>
                      <a:pt x="19" y="520"/>
                    </a:lnTo>
                    <a:lnTo>
                      <a:pt x="17" y="510"/>
                    </a:lnTo>
                    <a:lnTo>
                      <a:pt x="13" y="495"/>
                    </a:lnTo>
                    <a:lnTo>
                      <a:pt x="11" y="482"/>
                    </a:lnTo>
                    <a:lnTo>
                      <a:pt x="7" y="468"/>
                    </a:lnTo>
                    <a:lnTo>
                      <a:pt x="6" y="457"/>
                    </a:lnTo>
                    <a:lnTo>
                      <a:pt x="2" y="447"/>
                    </a:lnTo>
                    <a:lnTo>
                      <a:pt x="0" y="438"/>
                    </a:lnTo>
                    <a:lnTo>
                      <a:pt x="0" y="432"/>
                    </a:lnTo>
                    <a:lnTo>
                      <a:pt x="0" y="430"/>
                    </a:lnTo>
                    <a:lnTo>
                      <a:pt x="0" y="426"/>
                    </a:lnTo>
                    <a:lnTo>
                      <a:pt x="0" y="424"/>
                    </a:lnTo>
                    <a:lnTo>
                      <a:pt x="0" y="422"/>
                    </a:lnTo>
                    <a:lnTo>
                      <a:pt x="2" y="418"/>
                    </a:lnTo>
                    <a:lnTo>
                      <a:pt x="2" y="414"/>
                    </a:lnTo>
                    <a:lnTo>
                      <a:pt x="4" y="411"/>
                    </a:lnTo>
                    <a:lnTo>
                      <a:pt x="6" y="407"/>
                    </a:lnTo>
                    <a:lnTo>
                      <a:pt x="9" y="401"/>
                    </a:lnTo>
                    <a:lnTo>
                      <a:pt x="11" y="395"/>
                    </a:lnTo>
                    <a:lnTo>
                      <a:pt x="15" y="390"/>
                    </a:lnTo>
                    <a:lnTo>
                      <a:pt x="19" y="384"/>
                    </a:lnTo>
                    <a:lnTo>
                      <a:pt x="23" y="376"/>
                    </a:lnTo>
                    <a:lnTo>
                      <a:pt x="27" y="368"/>
                    </a:lnTo>
                    <a:lnTo>
                      <a:pt x="30" y="361"/>
                    </a:lnTo>
                    <a:lnTo>
                      <a:pt x="36" y="351"/>
                    </a:lnTo>
                    <a:lnTo>
                      <a:pt x="40" y="342"/>
                    </a:lnTo>
                    <a:lnTo>
                      <a:pt x="46" y="334"/>
                    </a:lnTo>
                    <a:lnTo>
                      <a:pt x="52" y="324"/>
                    </a:lnTo>
                    <a:lnTo>
                      <a:pt x="55" y="315"/>
                    </a:lnTo>
                    <a:lnTo>
                      <a:pt x="61" y="301"/>
                    </a:lnTo>
                    <a:lnTo>
                      <a:pt x="65" y="288"/>
                    </a:lnTo>
                    <a:lnTo>
                      <a:pt x="69" y="272"/>
                    </a:lnTo>
                    <a:lnTo>
                      <a:pt x="75" y="255"/>
                    </a:lnTo>
                    <a:lnTo>
                      <a:pt x="78" y="238"/>
                    </a:lnTo>
                    <a:lnTo>
                      <a:pt x="82" y="217"/>
                    </a:lnTo>
                    <a:lnTo>
                      <a:pt x="88" y="196"/>
                    </a:lnTo>
                    <a:lnTo>
                      <a:pt x="92" y="173"/>
                    </a:lnTo>
                    <a:lnTo>
                      <a:pt x="96" y="148"/>
                    </a:lnTo>
                    <a:lnTo>
                      <a:pt x="101" y="121"/>
                    </a:lnTo>
                    <a:lnTo>
                      <a:pt x="105" y="92"/>
                    </a:lnTo>
                    <a:lnTo>
                      <a:pt x="111" y="63"/>
                    </a:lnTo>
                    <a:lnTo>
                      <a:pt x="115" y="33"/>
                    </a:lnTo>
                    <a:lnTo>
                      <a:pt x="121" y="0"/>
                    </a:lnTo>
                    <a:lnTo>
                      <a:pt x="136" y="19"/>
                    </a:lnTo>
                    <a:lnTo>
                      <a:pt x="151" y="40"/>
                    </a:lnTo>
                    <a:lnTo>
                      <a:pt x="165" y="61"/>
                    </a:lnTo>
                    <a:lnTo>
                      <a:pt x="176" y="84"/>
                    </a:lnTo>
                    <a:lnTo>
                      <a:pt x="186" y="107"/>
                    </a:lnTo>
                    <a:lnTo>
                      <a:pt x="194" y="130"/>
                    </a:lnTo>
                    <a:lnTo>
                      <a:pt x="199" y="154"/>
                    </a:lnTo>
                    <a:lnTo>
                      <a:pt x="203" y="177"/>
                    </a:lnTo>
                    <a:lnTo>
                      <a:pt x="205" y="188"/>
                    </a:lnTo>
                    <a:lnTo>
                      <a:pt x="207" y="201"/>
                    </a:lnTo>
                    <a:lnTo>
                      <a:pt x="207" y="213"/>
                    </a:lnTo>
                    <a:lnTo>
                      <a:pt x="205" y="226"/>
                    </a:lnTo>
                    <a:lnTo>
                      <a:pt x="205" y="238"/>
                    </a:lnTo>
                    <a:lnTo>
                      <a:pt x="203" y="251"/>
                    </a:lnTo>
                    <a:lnTo>
                      <a:pt x="201" y="265"/>
                    </a:lnTo>
                    <a:lnTo>
                      <a:pt x="197" y="280"/>
                    </a:lnTo>
                    <a:lnTo>
                      <a:pt x="196" y="294"/>
                    </a:lnTo>
                    <a:lnTo>
                      <a:pt x="192" y="309"/>
                    </a:lnTo>
                    <a:lnTo>
                      <a:pt x="186" y="324"/>
                    </a:lnTo>
                    <a:lnTo>
                      <a:pt x="182" y="340"/>
                    </a:lnTo>
                    <a:lnTo>
                      <a:pt x="171" y="372"/>
                    </a:lnTo>
                    <a:lnTo>
                      <a:pt x="165" y="388"/>
                    </a:lnTo>
                    <a:lnTo>
                      <a:pt x="157" y="407"/>
                    </a:lnTo>
                    <a:lnTo>
                      <a:pt x="151" y="424"/>
                    </a:lnTo>
                    <a:lnTo>
                      <a:pt x="144" y="439"/>
                    </a:lnTo>
                    <a:lnTo>
                      <a:pt x="138" y="455"/>
                    </a:lnTo>
                    <a:lnTo>
                      <a:pt x="132" y="470"/>
                    </a:lnTo>
                    <a:lnTo>
                      <a:pt x="124" y="484"/>
                    </a:lnTo>
                    <a:lnTo>
                      <a:pt x="119" y="497"/>
                    </a:lnTo>
                    <a:lnTo>
                      <a:pt x="113" y="509"/>
                    </a:lnTo>
                    <a:lnTo>
                      <a:pt x="107" y="520"/>
                    </a:lnTo>
                    <a:lnTo>
                      <a:pt x="101" y="532"/>
                    </a:lnTo>
                    <a:lnTo>
                      <a:pt x="96" y="539"/>
                    </a:lnTo>
                    <a:lnTo>
                      <a:pt x="90" y="549"/>
                    </a:lnTo>
                    <a:lnTo>
                      <a:pt x="86" y="555"/>
                    </a:lnTo>
                    <a:lnTo>
                      <a:pt x="80" y="562"/>
                    </a:lnTo>
                    <a:lnTo>
                      <a:pt x="75" y="566"/>
                    </a:lnTo>
                    <a:lnTo>
                      <a:pt x="69" y="570"/>
                    </a:lnTo>
                    <a:lnTo>
                      <a:pt x="65" y="57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6" name="Freeform 64"/>
          <p:cNvSpPr/>
          <p:nvPr/>
        </p:nvSpPr>
        <p:spPr>
          <a:xfrm>
            <a:off x="2246400" y="2303640"/>
            <a:ext cx="174600" cy="1801800"/>
          </a:xfrm>
          <a:custGeom>
            <a:avLst/>
            <a:gdLst>
              <a:gd name="textAreaLeft" fmla="*/ 0 w 174600"/>
              <a:gd name="textAreaRight" fmla="*/ 174960 w 174600"/>
              <a:gd name="textAreaTop" fmla="*/ 0 h 1801800"/>
              <a:gd name="textAreaBottom" fmla="*/ 1802160 h 1801800"/>
            </a:gdLst>
            <a:ahLst/>
            <a:rect l="textAreaLeft" t="textAreaTop" r="textAreaRight" b="textAreaBottom"/>
            <a:pathLst>
              <a:path w="221" h="2268">
                <a:moveTo>
                  <a:pt x="27" y="17"/>
                </a:moveTo>
                <a:lnTo>
                  <a:pt x="29" y="13"/>
                </a:lnTo>
                <a:lnTo>
                  <a:pt x="33" y="11"/>
                </a:lnTo>
                <a:lnTo>
                  <a:pt x="35" y="7"/>
                </a:lnTo>
                <a:lnTo>
                  <a:pt x="38" y="6"/>
                </a:lnTo>
                <a:lnTo>
                  <a:pt x="44" y="4"/>
                </a:lnTo>
                <a:lnTo>
                  <a:pt x="48" y="2"/>
                </a:lnTo>
                <a:lnTo>
                  <a:pt x="54" y="2"/>
                </a:lnTo>
                <a:lnTo>
                  <a:pt x="59" y="2"/>
                </a:lnTo>
                <a:lnTo>
                  <a:pt x="73" y="0"/>
                </a:lnTo>
                <a:lnTo>
                  <a:pt x="88" y="2"/>
                </a:lnTo>
                <a:lnTo>
                  <a:pt x="104" y="4"/>
                </a:lnTo>
                <a:lnTo>
                  <a:pt x="121" y="7"/>
                </a:lnTo>
                <a:lnTo>
                  <a:pt x="138" y="15"/>
                </a:lnTo>
                <a:lnTo>
                  <a:pt x="154" y="23"/>
                </a:lnTo>
                <a:lnTo>
                  <a:pt x="169" y="30"/>
                </a:lnTo>
                <a:lnTo>
                  <a:pt x="180" y="38"/>
                </a:lnTo>
                <a:lnTo>
                  <a:pt x="186" y="40"/>
                </a:lnTo>
                <a:lnTo>
                  <a:pt x="192" y="44"/>
                </a:lnTo>
                <a:lnTo>
                  <a:pt x="198" y="48"/>
                </a:lnTo>
                <a:lnTo>
                  <a:pt x="202" y="50"/>
                </a:lnTo>
                <a:lnTo>
                  <a:pt x="205" y="54"/>
                </a:lnTo>
                <a:lnTo>
                  <a:pt x="209" y="55"/>
                </a:lnTo>
                <a:lnTo>
                  <a:pt x="211" y="57"/>
                </a:lnTo>
                <a:lnTo>
                  <a:pt x="213" y="59"/>
                </a:lnTo>
                <a:lnTo>
                  <a:pt x="217" y="67"/>
                </a:lnTo>
                <a:lnTo>
                  <a:pt x="219" y="77"/>
                </a:lnTo>
                <a:lnTo>
                  <a:pt x="221" y="86"/>
                </a:lnTo>
                <a:lnTo>
                  <a:pt x="221" y="98"/>
                </a:lnTo>
                <a:lnTo>
                  <a:pt x="221" y="109"/>
                </a:lnTo>
                <a:lnTo>
                  <a:pt x="219" y="119"/>
                </a:lnTo>
                <a:lnTo>
                  <a:pt x="217" y="130"/>
                </a:lnTo>
                <a:lnTo>
                  <a:pt x="213" y="144"/>
                </a:lnTo>
                <a:lnTo>
                  <a:pt x="211" y="149"/>
                </a:lnTo>
                <a:lnTo>
                  <a:pt x="211" y="155"/>
                </a:lnTo>
                <a:lnTo>
                  <a:pt x="207" y="171"/>
                </a:lnTo>
                <a:lnTo>
                  <a:pt x="203" y="186"/>
                </a:lnTo>
                <a:lnTo>
                  <a:pt x="200" y="203"/>
                </a:lnTo>
                <a:lnTo>
                  <a:pt x="196" y="220"/>
                </a:lnTo>
                <a:lnTo>
                  <a:pt x="192" y="240"/>
                </a:lnTo>
                <a:lnTo>
                  <a:pt x="190" y="259"/>
                </a:lnTo>
                <a:lnTo>
                  <a:pt x="186" y="278"/>
                </a:lnTo>
                <a:lnTo>
                  <a:pt x="184" y="284"/>
                </a:lnTo>
                <a:lnTo>
                  <a:pt x="184" y="291"/>
                </a:lnTo>
                <a:lnTo>
                  <a:pt x="184" y="299"/>
                </a:lnTo>
                <a:lnTo>
                  <a:pt x="182" y="307"/>
                </a:lnTo>
                <a:lnTo>
                  <a:pt x="182" y="315"/>
                </a:lnTo>
                <a:lnTo>
                  <a:pt x="182" y="324"/>
                </a:lnTo>
                <a:lnTo>
                  <a:pt x="180" y="334"/>
                </a:lnTo>
                <a:lnTo>
                  <a:pt x="180" y="345"/>
                </a:lnTo>
                <a:lnTo>
                  <a:pt x="180" y="355"/>
                </a:lnTo>
                <a:lnTo>
                  <a:pt x="180" y="366"/>
                </a:lnTo>
                <a:lnTo>
                  <a:pt x="178" y="380"/>
                </a:lnTo>
                <a:lnTo>
                  <a:pt x="178" y="391"/>
                </a:lnTo>
                <a:lnTo>
                  <a:pt x="178" y="405"/>
                </a:lnTo>
                <a:lnTo>
                  <a:pt x="178" y="420"/>
                </a:lnTo>
                <a:lnTo>
                  <a:pt x="178" y="433"/>
                </a:lnTo>
                <a:lnTo>
                  <a:pt x="178" y="449"/>
                </a:lnTo>
                <a:lnTo>
                  <a:pt x="177" y="464"/>
                </a:lnTo>
                <a:lnTo>
                  <a:pt x="177" y="481"/>
                </a:lnTo>
                <a:lnTo>
                  <a:pt x="177" y="497"/>
                </a:lnTo>
                <a:lnTo>
                  <a:pt x="177" y="514"/>
                </a:lnTo>
                <a:lnTo>
                  <a:pt x="177" y="533"/>
                </a:lnTo>
                <a:lnTo>
                  <a:pt x="177" y="551"/>
                </a:lnTo>
                <a:lnTo>
                  <a:pt x="177" y="570"/>
                </a:lnTo>
                <a:lnTo>
                  <a:pt x="177" y="591"/>
                </a:lnTo>
                <a:lnTo>
                  <a:pt x="177" y="610"/>
                </a:lnTo>
                <a:lnTo>
                  <a:pt x="177" y="631"/>
                </a:lnTo>
                <a:lnTo>
                  <a:pt x="177" y="652"/>
                </a:lnTo>
                <a:lnTo>
                  <a:pt x="177" y="675"/>
                </a:lnTo>
                <a:lnTo>
                  <a:pt x="177" y="696"/>
                </a:lnTo>
                <a:lnTo>
                  <a:pt x="177" y="719"/>
                </a:lnTo>
                <a:lnTo>
                  <a:pt x="177" y="744"/>
                </a:lnTo>
                <a:lnTo>
                  <a:pt x="177" y="767"/>
                </a:lnTo>
                <a:lnTo>
                  <a:pt x="177" y="819"/>
                </a:lnTo>
                <a:lnTo>
                  <a:pt x="177" y="871"/>
                </a:lnTo>
                <a:lnTo>
                  <a:pt x="175" y="923"/>
                </a:lnTo>
                <a:lnTo>
                  <a:pt x="175" y="977"/>
                </a:lnTo>
                <a:lnTo>
                  <a:pt x="175" y="1032"/>
                </a:lnTo>
                <a:lnTo>
                  <a:pt x="173" y="1086"/>
                </a:lnTo>
                <a:lnTo>
                  <a:pt x="173" y="1142"/>
                </a:lnTo>
                <a:lnTo>
                  <a:pt x="171" y="1199"/>
                </a:lnTo>
                <a:lnTo>
                  <a:pt x="169" y="1257"/>
                </a:lnTo>
                <a:lnTo>
                  <a:pt x="167" y="1314"/>
                </a:lnTo>
                <a:lnTo>
                  <a:pt x="167" y="1374"/>
                </a:lnTo>
                <a:lnTo>
                  <a:pt x="165" y="1435"/>
                </a:lnTo>
                <a:lnTo>
                  <a:pt x="163" y="1497"/>
                </a:lnTo>
                <a:lnTo>
                  <a:pt x="161" y="1558"/>
                </a:lnTo>
                <a:lnTo>
                  <a:pt x="159" y="1621"/>
                </a:lnTo>
                <a:lnTo>
                  <a:pt x="157" y="1685"/>
                </a:lnTo>
                <a:lnTo>
                  <a:pt x="155" y="1717"/>
                </a:lnTo>
                <a:lnTo>
                  <a:pt x="154" y="1748"/>
                </a:lnTo>
                <a:lnTo>
                  <a:pt x="154" y="1777"/>
                </a:lnTo>
                <a:lnTo>
                  <a:pt x="152" y="1806"/>
                </a:lnTo>
                <a:lnTo>
                  <a:pt x="150" y="1834"/>
                </a:lnTo>
                <a:lnTo>
                  <a:pt x="148" y="1861"/>
                </a:lnTo>
                <a:lnTo>
                  <a:pt x="146" y="1886"/>
                </a:lnTo>
                <a:lnTo>
                  <a:pt x="144" y="1911"/>
                </a:lnTo>
                <a:lnTo>
                  <a:pt x="142" y="1936"/>
                </a:lnTo>
                <a:lnTo>
                  <a:pt x="140" y="1959"/>
                </a:lnTo>
                <a:lnTo>
                  <a:pt x="138" y="1982"/>
                </a:lnTo>
                <a:lnTo>
                  <a:pt x="138" y="2003"/>
                </a:lnTo>
                <a:lnTo>
                  <a:pt x="136" y="2022"/>
                </a:lnTo>
                <a:lnTo>
                  <a:pt x="134" y="2042"/>
                </a:lnTo>
                <a:lnTo>
                  <a:pt x="132" y="2061"/>
                </a:lnTo>
                <a:lnTo>
                  <a:pt x="130" y="2078"/>
                </a:lnTo>
                <a:lnTo>
                  <a:pt x="129" y="2095"/>
                </a:lnTo>
                <a:lnTo>
                  <a:pt x="129" y="2111"/>
                </a:lnTo>
                <a:lnTo>
                  <a:pt x="127" y="2126"/>
                </a:lnTo>
                <a:lnTo>
                  <a:pt x="125" y="2139"/>
                </a:lnTo>
                <a:lnTo>
                  <a:pt x="123" y="2153"/>
                </a:lnTo>
                <a:lnTo>
                  <a:pt x="123" y="2164"/>
                </a:lnTo>
                <a:lnTo>
                  <a:pt x="121" y="2176"/>
                </a:lnTo>
                <a:lnTo>
                  <a:pt x="119" y="2186"/>
                </a:lnTo>
                <a:lnTo>
                  <a:pt x="119" y="2195"/>
                </a:lnTo>
                <a:lnTo>
                  <a:pt x="117" y="2205"/>
                </a:lnTo>
                <a:lnTo>
                  <a:pt x="115" y="2212"/>
                </a:lnTo>
                <a:lnTo>
                  <a:pt x="115" y="2218"/>
                </a:lnTo>
                <a:lnTo>
                  <a:pt x="113" y="2224"/>
                </a:lnTo>
                <a:lnTo>
                  <a:pt x="113" y="2230"/>
                </a:lnTo>
                <a:lnTo>
                  <a:pt x="111" y="2234"/>
                </a:lnTo>
                <a:lnTo>
                  <a:pt x="111" y="2237"/>
                </a:lnTo>
                <a:lnTo>
                  <a:pt x="107" y="2245"/>
                </a:lnTo>
                <a:lnTo>
                  <a:pt x="104" y="2251"/>
                </a:lnTo>
                <a:lnTo>
                  <a:pt x="100" y="2257"/>
                </a:lnTo>
                <a:lnTo>
                  <a:pt x="98" y="2260"/>
                </a:lnTo>
                <a:lnTo>
                  <a:pt x="94" y="2264"/>
                </a:lnTo>
                <a:lnTo>
                  <a:pt x="90" y="2266"/>
                </a:lnTo>
                <a:lnTo>
                  <a:pt x="86" y="2268"/>
                </a:lnTo>
                <a:lnTo>
                  <a:pt x="83" y="2268"/>
                </a:lnTo>
                <a:lnTo>
                  <a:pt x="81" y="2266"/>
                </a:lnTo>
                <a:lnTo>
                  <a:pt x="79" y="2264"/>
                </a:lnTo>
                <a:lnTo>
                  <a:pt x="77" y="2260"/>
                </a:lnTo>
                <a:lnTo>
                  <a:pt x="75" y="2257"/>
                </a:lnTo>
                <a:lnTo>
                  <a:pt x="71" y="2253"/>
                </a:lnTo>
                <a:lnTo>
                  <a:pt x="69" y="2247"/>
                </a:lnTo>
                <a:lnTo>
                  <a:pt x="67" y="2241"/>
                </a:lnTo>
                <a:lnTo>
                  <a:pt x="63" y="2235"/>
                </a:lnTo>
                <a:lnTo>
                  <a:pt x="59" y="2230"/>
                </a:lnTo>
                <a:lnTo>
                  <a:pt x="58" y="2222"/>
                </a:lnTo>
                <a:lnTo>
                  <a:pt x="54" y="2214"/>
                </a:lnTo>
                <a:lnTo>
                  <a:pt x="50" y="2205"/>
                </a:lnTo>
                <a:lnTo>
                  <a:pt x="46" y="2197"/>
                </a:lnTo>
                <a:lnTo>
                  <a:pt x="44" y="2186"/>
                </a:lnTo>
                <a:lnTo>
                  <a:pt x="40" y="2176"/>
                </a:lnTo>
                <a:lnTo>
                  <a:pt x="36" y="2164"/>
                </a:lnTo>
                <a:lnTo>
                  <a:pt x="31" y="2151"/>
                </a:lnTo>
                <a:lnTo>
                  <a:pt x="27" y="2138"/>
                </a:lnTo>
                <a:lnTo>
                  <a:pt x="23" y="2126"/>
                </a:lnTo>
                <a:lnTo>
                  <a:pt x="19" y="2115"/>
                </a:lnTo>
                <a:lnTo>
                  <a:pt x="15" y="2105"/>
                </a:lnTo>
                <a:lnTo>
                  <a:pt x="13" y="2095"/>
                </a:lnTo>
                <a:lnTo>
                  <a:pt x="10" y="2086"/>
                </a:lnTo>
                <a:lnTo>
                  <a:pt x="8" y="2076"/>
                </a:lnTo>
                <a:lnTo>
                  <a:pt x="6" y="2068"/>
                </a:lnTo>
                <a:lnTo>
                  <a:pt x="4" y="2061"/>
                </a:lnTo>
                <a:lnTo>
                  <a:pt x="2" y="2055"/>
                </a:lnTo>
                <a:lnTo>
                  <a:pt x="2" y="2049"/>
                </a:lnTo>
                <a:lnTo>
                  <a:pt x="0" y="2044"/>
                </a:lnTo>
                <a:lnTo>
                  <a:pt x="0" y="2038"/>
                </a:lnTo>
                <a:lnTo>
                  <a:pt x="0" y="2032"/>
                </a:lnTo>
                <a:lnTo>
                  <a:pt x="0" y="2028"/>
                </a:lnTo>
                <a:lnTo>
                  <a:pt x="0" y="2026"/>
                </a:lnTo>
                <a:lnTo>
                  <a:pt x="0" y="2022"/>
                </a:lnTo>
                <a:lnTo>
                  <a:pt x="0" y="2017"/>
                </a:lnTo>
                <a:lnTo>
                  <a:pt x="2" y="2011"/>
                </a:lnTo>
                <a:lnTo>
                  <a:pt x="2" y="2003"/>
                </a:lnTo>
                <a:lnTo>
                  <a:pt x="4" y="1996"/>
                </a:lnTo>
                <a:lnTo>
                  <a:pt x="4" y="1986"/>
                </a:lnTo>
                <a:lnTo>
                  <a:pt x="6" y="1974"/>
                </a:lnTo>
                <a:lnTo>
                  <a:pt x="8" y="1961"/>
                </a:lnTo>
                <a:lnTo>
                  <a:pt x="10" y="1948"/>
                </a:lnTo>
                <a:lnTo>
                  <a:pt x="13" y="1934"/>
                </a:lnTo>
                <a:lnTo>
                  <a:pt x="15" y="1917"/>
                </a:lnTo>
                <a:lnTo>
                  <a:pt x="17" y="1900"/>
                </a:lnTo>
                <a:lnTo>
                  <a:pt x="21" y="1882"/>
                </a:lnTo>
                <a:lnTo>
                  <a:pt x="23" y="1863"/>
                </a:lnTo>
                <a:lnTo>
                  <a:pt x="27" y="1842"/>
                </a:lnTo>
                <a:lnTo>
                  <a:pt x="29" y="1819"/>
                </a:lnTo>
                <a:lnTo>
                  <a:pt x="31" y="1794"/>
                </a:lnTo>
                <a:lnTo>
                  <a:pt x="33" y="1769"/>
                </a:lnTo>
                <a:lnTo>
                  <a:pt x="36" y="1742"/>
                </a:lnTo>
                <a:lnTo>
                  <a:pt x="38" y="1712"/>
                </a:lnTo>
                <a:lnTo>
                  <a:pt x="40" y="1681"/>
                </a:lnTo>
                <a:lnTo>
                  <a:pt x="42" y="1664"/>
                </a:lnTo>
                <a:lnTo>
                  <a:pt x="44" y="1646"/>
                </a:lnTo>
                <a:lnTo>
                  <a:pt x="44" y="1629"/>
                </a:lnTo>
                <a:lnTo>
                  <a:pt x="46" y="1612"/>
                </a:lnTo>
                <a:lnTo>
                  <a:pt x="48" y="1594"/>
                </a:lnTo>
                <a:lnTo>
                  <a:pt x="48" y="1575"/>
                </a:lnTo>
                <a:lnTo>
                  <a:pt x="50" y="1556"/>
                </a:lnTo>
                <a:lnTo>
                  <a:pt x="52" y="1535"/>
                </a:lnTo>
                <a:lnTo>
                  <a:pt x="52" y="1516"/>
                </a:lnTo>
                <a:lnTo>
                  <a:pt x="54" y="1495"/>
                </a:lnTo>
                <a:lnTo>
                  <a:pt x="56" y="1474"/>
                </a:lnTo>
                <a:lnTo>
                  <a:pt x="56" y="1451"/>
                </a:lnTo>
                <a:lnTo>
                  <a:pt x="58" y="1429"/>
                </a:lnTo>
                <a:lnTo>
                  <a:pt x="58" y="1406"/>
                </a:lnTo>
                <a:lnTo>
                  <a:pt x="59" y="1383"/>
                </a:lnTo>
                <a:lnTo>
                  <a:pt x="61" y="1358"/>
                </a:lnTo>
                <a:lnTo>
                  <a:pt x="61" y="1333"/>
                </a:lnTo>
                <a:lnTo>
                  <a:pt x="63" y="1309"/>
                </a:lnTo>
                <a:lnTo>
                  <a:pt x="63" y="1284"/>
                </a:lnTo>
                <a:lnTo>
                  <a:pt x="65" y="1259"/>
                </a:lnTo>
                <a:lnTo>
                  <a:pt x="67" y="1205"/>
                </a:lnTo>
                <a:lnTo>
                  <a:pt x="67" y="1153"/>
                </a:lnTo>
                <a:lnTo>
                  <a:pt x="71" y="1051"/>
                </a:lnTo>
                <a:lnTo>
                  <a:pt x="75" y="950"/>
                </a:lnTo>
                <a:lnTo>
                  <a:pt x="77" y="850"/>
                </a:lnTo>
                <a:lnTo>
                  <a:pt x="81" y="752"/>
                </a:lnTo>
                <a:lnTo>
                  <a:pt x="83" y="656"/>
                </a:lnTo>
                <a:lnTo>
                  <a:pt x="83" y="560"/>
                </a:lnTo>
                <a:lnTo>
                  <a:pt x="83" y="466"/>
                </a:lnTo>
                <a:lnTo>
                  <a:pt x="83" y="443"/>
                </a:lnTo>
                <a:lnTo>
                  <a:pt x="83" y="420"/>
                </a:lnTo>
                <a:lnTo>
                  <a:pt x="83" y="399"/>
                </a:lnTo>
                <a:lnTo>
                  <a:pt x="83" y="378"/>
                </a:lnTo>
                <a:lnTo>
                  <a:pt x="83" y="357"/>
                </a:lnTo>
                <a:lnTo>
                  <a:pt x="83" y="338"/>
                </a:lnTo>
                <a:lnTo>
                  <a:pt x="83" y="318"/>
                </a:lnTo>
                <a:lnTo>
                  <a:pt x="81" y="299"/>
                </a:lnTo>
                <a:lnTo>
                  <a:pt x="81" y="282"/>
                </a:lnTo>
                <a:lnTo>
                  <a:pt x="81" y="265"/>
                </a:lnTo>
                <a:lnTo>
                  <a:pt x="79" y="249"/>
                </a:lnTo>
                <a:lnTo>
                  <a:pt x="79" y="234"/>
                </a:lnTo>
                <a:lnTo>
                  <a:pt x="79" y="219"/>
                </a:lnTo>
                <a:lnTo>
                  <a:pt x="77" y="203"/>
                </a:lnTo>
                <a:lnTo>
                  <a:pt x="77" y="190"/>
                </a:lnTo>
                <a:lnTo>
                  <a:pt x="75" y="176"/>
                </a:lnTo>
                <a:lnTo>
                  <a:pt x="73" y="165"/>
                </a:lnTo>
                <a:lnTo>
                  <a:pt x="73" y="153"/>
                </a:lnTo>
                <a:lnTo>
                  <a:pt x="71" y="142"/>
                </a:lnTo>
                <a:lnTo>
                  <a:pt x="69" y="132"/>
                </a:lnTo>
                <a:lnTo>
                  <a:pt x="69" y="123"/>
                </a:lnTo>
                <a:lnTo>
                  <a:pt x="67" y="113"/>
                </a:lnTo>
                <a:lnTo>
                  <a:pt x="65" y="105"/>
                </a:lnTo>
                <a:lnTo>
                  <a:pt x="63" y="98"/>
                </a:lnTo>
                <a:lnTo>
                  <a:pt x="61" y="90"/>
                </a:lnTo>
                <a:lnTo>
                  <a:pt x="59" y="84"/>
                </a:lnTo>
                <a:lnTo>
                  <a:pt x="58" y="78"/>
                </a:lnTo>
                <a:lnTo>
                  <a:pt x="56" y="73"/>
                </a:lnTo>
                <a:lnTo>
                  <a:pt x="54" y="69"/>
                </a:lnTo>
                <a:lnTo>
                  <a:pt x="52" y="65"/>
                </a:lnTo>
                <a:lnTo>
                  <a:pt x="48" y="61"/>
                </a:lnTo>
                <a:lnTo>
                  <a:pt x="46" y="59"/>
                </a:lnTo>
                <a:lnTo>
                  <a:pt x="40" y="57"/>
                </a:lnTo>
                <a:lnTo>
                  <a:pt x="36" y="55"/>
                </a:lnTo>
                <a:lnTo>
                  <a:pt x="33" y="54"/>
                </a:lnTo>
                <a:lnTo>
                  <a:pt x="31" y="50"/>
                </a:lnTo>
                <a:lnTo>
                  <a:pt x="27" y="48"/>
                </a:lnTo>
                <a:lnTo>
                  <a:pt x="25" y="44"/>
                </a:lnTo>
                <a:lnTo>
                  <a:pt x="23" y="42"/>
                </a:lnTo>
                <a:lnTo>
                  <a:pt x="23" y="38"/>
                </a:lnTo>
                <a:lnTo>
                  <a:pt x="21" y="32"/>
                </a:lnTo>
                <a:lnTo>
                  <a:pt x="23" y="27"/>
                </a:lnTo>
                <a:lnTo>
                  <a:pt x="25" y="23"/>
                </a:lnTo>
                <a:lnTo>
                  <a:pt x="27" y="1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Freeform 65"/>
          <p:cNvSpPr/>
          <p:nvPr/>
        </p:nvSpPr>
        <p:spPr>
          <a:xfrm>
            <a:off x="2378160" y="2722680"/>
            <a:ext cx="226800" cy="16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86" h="209">
                <a:moveTo>
                  <a:pt x="205" y="32"/>
                </a:moveTo>
                <a:lnTo>
                  <a:pt x="219" y="40"/>
                </a:lnTo>
                <a:lnTo>
                  <a:pt x="230" y="49"/>
                </a:lnTo>
                <a:lnTo>
                  <a:pt x="242" y="59"/>
                </a:lnTo>
                <a:lnTo>
                  <a:pt x="253" y="69"/>
                </a:lnTo>
                <a:lnTo>
                  <a:pt x="261" y="80"/>
                </a:lnTo>
                <a:lnTo>
                  <a:pt x="269" y="92"/>
                </a:lnTo>
                <a:lnTo>
                  <a:pt x="276" y="103"/>
                </a:lnTo>
                <a:lnTo>
                  <a:pt x="280" y="115"/>
                </a:lnTo>
                <a:lnTo>
                  <a:pt x="282" y="130"/>
                </a:lnTo>
                <a:lnTo>
                  <a:pt x="284" y="143"/>
                </a:lnTo>
                <a:lnTo>
                  <a:pt x="286" y="157"/>
                </a:lnTo>
                <a:lnTo>
                  <a:pt x="286" y="168"/>
                </a:lnTo>
                <a:lnTo>
                  <a:pt x="286" y="178"/>
                </a:lnTo>
                <a:lnTo>
                  <a:pt x="284" y="188"/>
                </a:lnTo>
                <a:lnTo>
                  <a:pt x="282" y="193"/>
                </a:lnTo>
                <a:lnTo>
                  <a:pt x="282" y="195"/>
                </a:lnTo>
                <a:lnTo>
                  <a:pt x="280" y="199"/>
                </a:lnTo>
                <a:lnTo>
                  <a:pt x="278" y="201"/>
                </a:lnTo>
                <a:lnTo>
                  <a:pt x="274" y="205"/>
                </a:lnTo>
                <a:lnTo>
                  <a:pt x="271" y="207"/>
                </a:lnTo>
                <a:lnTo>
                  <a:pt x="267" y="209"/>
                </a:lnTo>
                <a:lnTo>
                  <a:pt x="261" y="209"/>
                </a:lnTo>
                <a:lnTo>
                  <a:pt x="253" y="209"/>
                </a:lnTo>
                <a:lnTo>
                  <a:pt x="248" y="207"/>
                </a:lnTo>
                <a:lnTo>
                  <a:pt x="238" y="205"/>
                </a:lnTo>
                <a:lnTo>
                  <a:pt x="230" y="203"/>
                </a:lnTo>
                <a:lnTo>
                  <a:pt x="221" y="199"/>
                </a:lnTo>
                <a:lnTo>
                  <a:pt x="211" y="193"/>
                </a:lnTo>
                <a:lnTo>
                  <a:pt x="200" y="188"/>
                </a:lnTo>
                <a:lnTo>
                  <a:pt x="188" y="182"/>
                </a:lnTo>
                <a:lnTo>
                  <a:pt x="177" y="174"/>
                </a:lnTo>
                <a:lnTo>
                  <a:pt x="163" y="166"/>
                </a:lnTo>
                <a:lnTo>
                  <a:pt x="150" y="157"/>
                </a:lnTo>
                <a:lnTo>
                  <a:pt x="136" y="147"/>
                </a:lnTo>
                <a:lnTo>
                  <a:pt x="123" y="138"/>
                </a:lnTo>
                <a:lnTo>
                  <a:pt x="109" y="128"/>
                </a:lnTo>
                <a:lnTo>
                  <a:pt x="98" y="117"/>
                </a:lnTo>
                <a:lnTo>
                  <a:pt x="88" y="107"/>
                </a:lnTo>
                <a:lnTo>
                  <a:pt x="77" y="97"/>
                </a:lnTo>
                <a:lnTo>
                  <a:pt x="67" y="88"/>
                </a:lnTo>
                <a:lnTo>
                  <a:pt x="58" y="78"/>
                </a:lnTo>
                <a:lnTo>
                  <a:pt x="48" y="69"/>
                </a:lnTo>
                <a:lnTo>
                  <a:pt x="40" y="59"/>
                </a:lnTo>
                <a:lnTo>
                  <a:pt x="33" y="49"/>
                </a:lnTo>
                <a:lnTo>
                  <a:pt x="25" y="40"/>
                </a:lnTo>
                <a:lnTo>
                  <a:pt x="17" y="30"/>
                </a:lnTo>
                <a:lnTo>
                  <a:pt x="11" y="21"/>
                </a:lnTo>
                <a:lnTo>
                  <a:pt x="6" y="11"/>
                </a:lnTo>
                <a:lnTo>
                  <a:pt x="0" y="0"/>
                </a:lnTo>
                <a:lnTo>
                  <a:pt x="19" y="0"/>
                </a:lnTo>
                <a:lnTo>
                  <a:pt x="36" y="1"/>
                </a:lnTo>
                <a:lnTo>
                  <a:pt x="56" y="1"/>
                </a:lnTo>
                <a:lnTo>
                  <a:pt x="71" y="1"/>
                </a:lnTo>
                <a:lnTo>
                  <a:pt x="88" y="3"/>
                </a:lnTo>
                <a:lnTo>
                  <a:pt x="104" y="5"/>
                </a:lnTo>
                <a:lnTo>
                  <a:pt x="117" y="7"/>
                </a:lnTo>
                <a:lnTo>
                  <a:pt x="130" y="7"/>
                </a:lnTo>
                <a:lnTo>
                  <a:pt x="144" y="11"/>
                </a:lnTo>
                <a:lnTo>
                  <a:pt x="155" y="13"/>
                </a:lnTo>
                <a:lnTo>
                  <a:pt x="167" y="15"/>
                </a:lnTo>
                <a:lnTo>
                  <a:pt x="177" y="19"/>
                </a:lnTo>
                <a:lnTo>
                  <a:pt x="184" y="21"/>
                </a:lnTo>
                <a:lnTo>
                  <a:pt x="192" y="24"/>
                </a:lnTo>
                <a:lnTo>
                  <a:pt x="200" y="28"/>
                </a:lnTo>
                <a:lnTo>
                  <a:pt x="205" y="3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Freeform 66"/>
          <p:cNvSpPr/>
          <p:nvPr/>
        </p:nvSpPr>
        <p:spPr>
          <a:xfrm>
            <a:off x="1987560" y="286380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7" h="576">
                <a:moveTo>
                  <a:pt x="65" y="572"/>
                </a:moveTo>
                <a:lnTo>
                  <a:pt x="59" y="574"/>
                </a:lnTo>
                <a:lnTo>
                  <a:pt x="55" y="576"/>
                </a:lnTo>
                <a:lnTo>
                  <a:pt x="50" y="576"/>
                </a:lnTo>
                <a:lnTo>
                  <a:pt x="46" y="574"/>
                </a:lnTo>
                <a:lnTo>
                  <a:pt x="42" y="574"/>
                </a:lnTo>
                <a:lnTo>
                  <a:pt x="40" y="572"/>
                </a:lnTo>
                <a:lnTo>
                  <a:pt x="36" y="568"/>
                </a:lnTo>
                <a:lnTo>
                  <a:pt x="34" y="564"/>
                </a:lnTo>
                <a:lnTo>
                  <a:pt x="30" y="560"/>
                </a:lnTo>
                <a:lnTo>
                  <a:pt x="29" y="556"/>
                </a:lnTo>
                <a:lnTo>
                  <a:pt x="27" y="551"/>
                </a:lnTo>
                <a:lnTo>
                  <a:pt x="25" y="543"/>
                </a:lnTo>
                <a:lnTo>
                  <a:pt x="23" y="535"/>
                </a:lnTo>
                <a:lnTo>
                  <a:pt x="21" y="528"/>
                </a:lnTo>
                <a:lnTo>
                  <a:pt x="19" y="520"/>
                </a:lnTo>
                <a:lnTo>
                  <a:pt x="17" y="510"/>
                </a:lnTo>
                <a:lnTo>
                  <a:pt x="13" y="495"/>
                </a:lnTo>
                <a:lnTo>
                  <a:pt x="11" y="482"/>
                </a:lnTo>
                <a:lnTo>
                  <a:pt x="7" y="468"/>
                </a:lnTo>
                <a:lnTo>
                  <a:pt x="6" y="457"/>
                </a:lnTo>
                <a:lnTo>
                  <a:pt x="2" y="447"/>
                </a:lnTo>
                <a:lnTo>
                  <a:pt x="0" y="438"/>
                </a:lnTo>
                <a:lnTo>
                  <a:pt x="0" y="432"/>
                </a:lnTo>
                <a:lnTo>
                  <a:pt x="0" y="430"/>
                </a:lnTo>
                <a:lnTo>
                  <a:pt x="0" y="426"/>
                </a:lnTo>
                <a:lnTo>
                  <a:pt x="0" y="424"/>
                </a:lnTo>
                <a:lnTo>
                  <a:pt x="0" y="422"/>
                </a:lnTo>
                <a:lnTo>
                  <a:pt x="2" y="418"/>
                </a:lnTo>
                <a:lnTo>
                  <a:pt x="2" y="414"/>
                </a:lnTo>
                <a:lnTo>
                  <a:pt x="4" y="411"/>
                </a:lnTo>
                <a:lnTo>
                  <a:pt x="6" y="407"/>
                </a:lnTo>
                <a:lnTo>
                  <a:pt x="9" y="401"/>
                </a:lnTo>
                <a:lnTo>
                  <a:pt x="11" y="395"/>
                </a:lnTo>
                <a:lnTo>
                  <a:pt x="15" y="390"/>
                </a:lnTo>
                <a:lnTo>
                  <a:pt x="19" y="384"/>
                </a:lnTo>
                <a:lnTo>
                  <a:pt x="23" y="376"/>
                </a:lnTo>
                <a:lnTo>
                  <a:pt x="27" y="368"/>
                </a:lnTo>
                <a:lnTo>
                  <a:pt x="30" y="361"/>
                </a:lnTo>
                <a:lnTo>
                  <a:pt x="36" y="351"/>
                </a:lnTo>
                <a:lnTo>
                  <a:pt x="40" y="342"/>
                </a:lnTo>
                <a:lnTo>
                  <a:pt x="46" y="334"/>
                </a:lnTo>
                <a:lnTo>
                  <a:pt x="52" y="324"/>
                </a:lnTo>
                <a:lnTo>
                  <a:pt x="55" y="315"/>
                </a:lnTo>
                <a:lnTo>
                  <a:pt x="61" y="301"/>
                </a:lnTo>
                <a:lnTo>
                  <a:pt x="65" y="288"/>
                </a:lnTo>
                <a:lnTo>
                  <a:pt x="69" y="272"/>
                </a:lnTo>
                <a:lnTo>
                  <a:pt x="75" y="255"/>
                </a:lnTo>
                <a:lnTo>
                  <a:pt x="78" y="238"/>
                </a:lnTo>
                <a:lnTo>
                  <a:pt x="82" y="217"/>
                </a:lnTo>
                <a:lnTo>
                  <a:pt x="88" y="196"/>
                </a:lnTo>
                <a:lnTo>
                  <a:pt x="92" y="173"/>
                </a:lnTo>
                <a:lnTo>
                  <a:pt x="96" y="148"/>
                </a:lnTo>
                <a:lnTo>
                  <a:pt x="101" y="121"/>
                </a:lnTo>
                <a:lnTo>
                  <a:pt x="105" y="92"/>
                </a:lnTo>
                <a:lnTo>
                  <a:pt x="111" y="63"/>
                </a:lnTo>
                <a:lnTo>
                  <a:pt x="115" y="33"/>
                </a:lnTo>
                <a:lnTo>
                  <a:pt x="121" y="0"/>
                </a:lnTo>
                <a:lnTo>
                  <a:pt x="136" y="19"/>
                </a:lnTo>
                <a:lnTo>
                  <a:pt x="151" y="40"/>
                </a:lnTo>
                <a:lnTo>
                  <a:pt x="165" y="61"/>
                </a:lnTo>
                <a:lnTo>
                  <a:pt x="176" y="84"/>
                </a:lnTo>
                <a:lnTo>
                  <a:pt x="186" y="107"/>
                </a:lnTo>
                <a:lnTo>
                  <a:pt x="194" y="130"/>
                </a:lnTo>
                <a:lnTo>
                  <a:pt x="199" y="154"/>
                </a:lnTo>
                <a:lnTo>
                  <a:pt x="203" y="177"/>
                </a:lnTo>
                <a:lnTo>
                  <a:pt x="205" y="188"/>
                </a:lnTo>
                <a:lnTo>
                  <a:pt x="207" y="201"/>
                </a:lnTo>
                <a:lnTo>
                  <a:pt x="207" y="213"/>
                </a:lnTo>
                <a:lnTo>
                  <a:pt x="205" y="226"/>
                </a:lnTo>
                <a:lnTo>
                  <a:pt x="205" y="238"/>
                </a:lnTo>
                <a:lnTo>
                  <a:pt x="203" y="251"/>
                </a:lnTo>
                <a:lnTo>
                  <a:pt x="201" y="265"/>
                </a:lnTo>
                <a:lnTo>
                  <a:pt x="197" y="280"/>
                </a:lnTo>
                <a:lnTo>
                  <a:pt x="196" y="294"/>
                </a:lnTo>
                <a:lnTo>
                  <a:pt x="192" y="309"/>
                </a:lnTo>
                <a:lnTo>
                  <a:pt x="186" y="324"/>
                </a:lnTo>
                <a:lnTo>
                  <a:pt x="182" y="340"/>
                </a:lnTo>
                <a:lnTo>
                  <a:pt x="171" y="372"/>
                </a:lnTo>
                <a:lnTo>
                  <a:pt x="165" y="388"/>
                </a:lnTo>
                <a:lnTo>
                  <a:pt x="157" y="407"/>
                </a:lnTo>
                <a:lnTo>
                  <a:pt x="151" y="424"/>
                </a:lnTo>
                <a:lnTo>
                  <a:pt x="144" y="439"/>
                </a:lnTo>
                <a:lnTo>
                  <a:pt x="138" y="455"/>
                </a:lnTo>
                <a:lnTo>
                  <a:pt x="132" y="470"/>
                </a:lnTo>
                <a:lnTo>
                  <a:pt x="124" y="484"/>
                </a:lnTo>
                <a:lnTo>
                  <a:pt x="119" y="497"/>
                </a:lnTo>
                <a:lnTo>
                  <a:pt x="113" y="509"/>
                </a:lnTo>
                <a:lnTo>
                  <a:pt x="107" y="520"/>
                </a:lnTo>
                <a:lnTo>
                  <a:pt x="101" y="532"/>
                </a:lnTo>
                <a:lnTo>
                  <a:pt x="96" y="539"/>
                </a:lnTo>
                <a:lnTo>
                  <a:pt x="90" y="549"/>
                </a:lnTo>
                <a:lnTo>
                  <a:pt x="86" y="555"/>
                </a:lnTo>
                <a:lnTo>
                  <a:pt x="80" y="562"/>
                </a:lnTo>
                <a:lnTo>
                  <a:pt x="75" y="566"/>
                </a:lnTo>
                <a:lnTo>
                  <a:pt x="69" y="570"/>
                </a:lnTo>
                <a:lnTo>
                  <a:pt x="65" y="57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Freeform 67"/>
          <p:cNvSpPr/>
          <p:nvPr/>
        </p:nvSpPr>
        <p:spPr>
          <a:xfrm>
            <a:off x="2583000" y="2975040"/>
            <a:ext cx="136440" cy="35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73" h="445">
                <a:moveTo>
                  <a:pt x="14" y="8"/>
                </a:moveTo>
                <a:lnTo>
                  <a:pt x="21" y="4"/>
                </a:lnTo>
                <a:lnTo>
                  <a:pt x="31" y="2"/>
                </a:lnTo>
                <a:lnTo>
                  <a:pt x="42" y="0"/>
                </a:lnTo>
                <a:lnTo>
                  <a:pt x="48" y="2"/>
                </a:lnTo>
                <a:lnTo>
                  <a:pt x="54" y="2"/>
                </a:lnTo>
                <a:lnTo>
                  <a:pt x="62" y="4"/>
                </a:lnTo>
                <a:lnTo>
                  <a:pt x="67" y="6"/>
                </a:lnTo>
                <a:lnTo>
                  <a:pt x="75" y="8"/>
                </a:lnTo>
                <a:lnTo>
                  <a:pt x="83" y="10"/>
                </a:lnTo>
                <a:lnTo>
                  <a:pt x="90" y="14"/>
                </a:lnTo>
                <a:lnTo>
                  <a:pt x="100" y="17"/>
                </a:lnTo>
                <a:lnTo>
                  <a:pt x="108" y="23"/>
                </a:lnTo>
                <a:lnTo>
                  <a:pt x="115" y="29"/>
                </a:lnTo>
                <a:lnTo>
                  <a:pt x="123" y="65"/>
                </a:lnTo>
                <a:lnTo>
                  <a:pt x="129" y="100"/>
                </a:lnTo>
                <a:lnTo>
                  <a:pt x="134" y="133"/>
                </a:lnTo>
                <a:lnTo>
                  <a:pt x="140" y="163"/>
                </a:lnTo>
                <a:lnTo>
                  <a:pt x="146" y="192"/>
                </a:lnTo>
                <a:lnTo>
                  <a:pt x="150" y="219"/>
                </a:lnTo>
                <a:lnTo>
                  <a:pt x="152" y="232"/>
                </a:lnTo>
                <a:lnTo>
                  <a:pt x="154" y="244"/>
                </a:lnTo>
                <a:lnTo>
                  <a:pt x="156" y="257"/>
                </a:lnTo>
                <a:lnTo>
                  <a:pt x="157" y="269"/>
                </a:lnTo>
                <a:lnTo>
                  <a:pt x="159" y="278"/>
                </a:lnTo>
                <a:lnTo>
                  <a:pt x="161" y="290"/>
                </a:lnTo>
                <a:lnTo>
                  <a:pt x="163" y="300"/>
                </a:lnTo>
                <a:lnTo>
                  <a:pt x="163" y="309"/>
                </a:lnTo>
                <a:lnTo>
                  <a:pt x="165" y="319"/>
                </a:lnTo>
                <a:lnTo>
                  <a:pt x="167" y="326"/>
                </a:lnTo>
                <a:lnTo>
                  <a:pt x="167" y="334"/>
                </a:lnTo>
                <a:lnTo>
                  <a:pt x="169" y="342"/>
                </a:lnTo>
                <a:lnTo>
                  <a:pt x="169" y="349"/>
                </a:lnTo>
                <a:lnTo>
                  <a:pt x="169" y="355"/>
                </a:lnTo>
                <a:lnTo>
                  <a:pt x="171" y="361"/>
                </a:lnTo>
                <a:lnTo>
                  <a:pt x="171" y="367"/>
                </a:lnTo>
                <a:lnTo>
                  <a:pt x="171" y="371"/>
                </a:lnTo>
                <a:lnTo>
                  <a:pt x="171" y="376"/>
                </a:lnTo>
                <a:lnTo>
                  <a:pt x="171" y="380"/>
                </a:lnTo>
                <a:lnTo>
                  <a:pt x="173" y="382"/>
                </a:lnTo>
                <a:lnTo>
                  <a:pt x="171" y="390"/>
                </a:lnTo>
                <a:lnTo>
                  <a:pt x="171" y="397"/>
                </a:lnTo>
                <a:lnTo>
                  <a:pt x="171" y="403"/>
                </a:lnTo>
                <a:lnTo>
                  <a:pt x="171" y="411"/>
                </a:lnTo>
                <a:lnTo>
                  <a:pt x="169" y="415"/>
                </a:lnTo>
                <a:lnTo>
                  <a:pt x="167" y="420"/>
                </a:lnTo>
                <a:lnTo>
                  <a:pt x="167" y="426"/>
                </a:lnTo>
                <a:lnTo>
                  <a:pt x="165" y="430"/>
                </a:lnTo>
                <a:lnTo>
                  <a:pt x="163" y="434"/>
                </a:lnTo>
                <a:lnTo>
                  <a:pt x="161" y="436"/>
                </a:lnTo>
                <a:lnTo>
                  <a:pt x="159" y="440"/>
                </a:lnTo>
                <a:lnTo>
                  <a:pt x="156" y="442"/>
                </a:lnTo>
                <a:lnTo>
                  <a:pt x="154" y="443"/>
                </a:lnTo>
                <a:lnTo>
                  <a:pt x="150" y="443"/>
                </a:lnTo>
                <a:lnTo>
                  <a:pt x="148" y="445"/>
                </a:lnTo>
                <a:lnTo>
                  <a:pt x="144" y="445"/>
                </a:lnTo>
                <a:lnTo>
                  <a:pt x="140" y="443"/>
                </a:lnTo>
                <a:lnTo>
                  <a:pt x="136" y="442"/>
                </a:lnTo>
                <a:lnTo>
                  <a:pt x="134" y="440"/>
                </a:lnTo>
                <a:lnTo>
                  <a:pt x="131" y="436"/>
                </a:lnTo>
                <a:lnTo>
                  <a:pt x="127" y="430"/>
                </a:lnTo>
                <a:lnTo>
                  <a:pt x="123" y="422"/>
                </a:lnTo>
                <a:lnTo>
                  <a:pt x="119" y="415"/>
                </a:lnTo>
                <a:lnTo>
                  <a:pt x="115" y="405"/>
                </a:lnTo>
                <a:lnTo>
                  <a:pt x="113" y="395"/>
                </a:lnTo>
                <a:lnTo>
                  <a:pt x="110" y="384"/>
                </a:lnTo>
                <a:lnTo>
                  <a:pt x="106" y="371"/>
                </a:lnTo>
                <a:lnTo>
                  <a:pt x="102" y="357"/>
                </a:lnTo>
                <a:lnTo>
                  <a:pt x="98" y="342"/>
                </a:lnTo>
                <a:lnTo>
                  <a:pt x="94" y="324"/>
                </a:lnTo>
                <a:lnTo>
                  <a:pt x="92" y="307"/>
                </a:lnTo>
                <a:lnTo>
                  <a:pt x="88" y="288"/>
                </a:lnTo>
                <a:lnTo>
                  <a:pt x="83" y="271"/>
                </a:lnTo>
                <a:lnTo>
                  <a:pt x="79" y="255"/>
                </a:lnTo>
                <a:lnTo>
                  <a:pt x="73" y="238"/>
                </a:lnTo>
                <a:lnTo>
                  <a:pt x="69" y="223"/>
                </a:lnTo>
                <a:lnTo>
                  <a:pt x="65" y="207"/>
                </a:lnTo>
                <a:lnTo>
                  <a:pt x="60" y="192"/>
                </a:lnTo>
                <a:lnTo>
                  <a:pt x="56" y="179"/>
                </a:lnTo>
                <a:lnTo>
                  <a:pt x="52" y="165"/>
                </a:lnTo>
                <a:lnTo>
                  <a:pt x="48" y="152"/>
                </a:lnTo>
                <a:lnTo>
                  <a:pt x="44" y="140"/>
                </a:lnTo>
                <a:lnTo>
                  <a:pt x="40" y="129"/>
                </a:lnTo>
                <a:lnTo>
                  <a:pt x="37" y="117"/>
                </a:lnTo>
                <a:lnTo>
                  <a:pt x="33" y="108"/>
                </a:lnTo>
                <a:lnTo>
                  <a:pt x="29" y="98"/>
                </a:lnTo>
                <a:lnTo>
                  <a:pt x="27" y="88"/>
                </a:lnTo>
                <a:lnTo>
                  <a:pt x="23" y="81"/>
                </a:lnTo>
                <a:lnTo>
                  <a:pt x="17" y="75"/>
                </a:lnTo>
                <a:lnTo>
                  <a:pt x="14" y="69"/>
                </a:lnTo>
                <a:lnTo>
                  <a:pt x="10" y="63"/>
                </a:lnTo>
                <a:lnTo>
                  <a:pt x="8" y="58"/>
                </a:lnTo>
                <a:lnTo>
                  <a:pt x="4" y="52"/>
                </a:lnTo>
                <a:lnTo>
                  <a:pt x="2" y="46"/>
                </a:lnTo>
                <a:lnTo>
                  <a:pt x="2" y="40"/>
                </a:lnTo>
                <a:lnTo>
                  <a:pt x="0" y="37"/>
                </a:lnTo>
                <a:lnTo>
                  <a:pt x="0" y="31"/>
                </a:lnTo>
                <a:lnTo>
                  <a:pt x="0" y="27"/>
                </a:lnTo>
                <a:lnTo>
                  <a:pt x="2" y="23"/>
                </a:lnTo>
                <a:lnTo>
                  <a:pt x="4" y="19"/>
                </a:lnTo>
                <a:lnTo>
                  <a:pt x="6" y="16"/>
                </a:lnTo>
                <a:lnTo>
                  <a:pt x="8" y="12"/>
                </a:lnTo>
                <a:lnTo>
                  <a:pt x="14" y="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Freeform 68"/>
          <p:cNvSpPr/>
          <p:nvPr/>
        </p:nvSpPr>
        <p:spPr>
          <a:xfrm>
            <a:off x="2638440" y="2844720"/>
            <a:ext cx="923760" cy="376200"/>
          </a:xfrm>
          <a:custGeom>
            <a:avLst/>
            <a:gdLst>
              <a:gd name="textAreaLeft" fmla="*/ 0 w 923760"/>
              <a:gd name="textAreaRight" fmla="*/ 924120 w 9237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165" h="474">
                <a:moveTo>
                  <a:pt x="0" y="265"/>
                </a:moveTo>
                <a:lnTo>
                  <a:pt x="0" y="192"/>
                </a:lnTo>
                <a:lnTo>
                  <a:pt x="56" y="182"/>
                </a:lnTo>
                <a:lnTo>
                  <a:pt x="110" y="173"/>
                </a:lnTo>
                <a:lnTo>
                  <a:pt x="161" y="163"/>
                </a:lnTo>
                <a:lnTo>
                  <a:pt x="211" y="154"/>
                </a:lnTo>
                <a:lnTo>
                  <a:pt x="259" y="144"/>
                </a:lnTo>
                <a:lnTo>
                  <a:pt x="305" y="136"/>
                </a:lnTo>
                <a:lnTo>
                  <a:pt x="349" y="129"/>
                </a:lnTo>
                <a:lnTo>
                  <a:pt x="394" y="121"/>
                </a:lnTo>
                <a:lnTo>
                  <a:pt x="436" y="113"/>
                </a:lnTo>
                <a:lnTo>
                  <a:pt x="474" y="106"/>
                </a:lnTo>
                <a:lnTo>
                  <a:pt x="513" y="98"/>
                </a:lnTo>
                <a:lnTo>
                  <a:pt x="549" y="92"/>
                </a:lnTo>
                <a:lnTo>
                  <a:pt x="584" y="84"/>
                </a:lnTo>
                <a:lnTo>
                  <a:pt x="618" y="79"/>
                </a:lnTo>
                <a:lnTo>
                  <a:pt x="649" y="73"/>
                </a:lnTo>
                <a:lnTo>
                  <a:pt x="680" y="67"/>
                </a:lnTo>
                <a:lnTo>
                  <a:pt x="706" y="61"/>
                </a:lnTo>
                <a:lnTo>
                  <a:pt x="733" y="56"/>
                </a:lnTo>
                <a:lnTo>
                  <a:pt x="758" y="52"/>
                </a:lnTo>
                <a:lnTo>
                  <a:pt x="781" y="46"/>
                </a:lnTo>
                <a:lnTo>
                  <a:pt x="802" y="42"/>
                </a:lnTo>
                <a:lnTo>
                  <a:pt x="822" y="38"/>
                </a:lnTo>
                <a:lnTo>
                  <a:pt x="839" y="35"/>
                </a:lnTo>
                <a:lnTo>
                  <a:pt x="856" y="31"/>
                </a:lnTo>
                <a:lnTo>
                  <a:pt x="870" y="29"/>
                </a:lnTo>
                <a:lnTo>
                  <a:pt x="883" y="25"/>
                </a:lnTo>
                <a:lnTo>
                  <a:pt x="893" y="23"/>
                </a:lnTo>
                <a:lnTo>
                  <a:pt x="902" y="21"/>
                </a:lnTo>
                <a:lnTo>
                  <a:pt x="910" y="17"/>
                </a:lnTo>
                <a:lnTo>
                  <a:pt x="916" y="17"/>
                </a:lnTo>
                <a:lnTo>
                  <a:pt x="921" y="15"/>
                </a:lnTo>
                <a:lnTo>
                  <a:pt x="923" y="13"/>
                </a:lnTo>
                <a:lnTo>
                  <a:pt x="931" y="10"/>
                </a:lnTo>
                <a:lnTo>
                  <a:pt x="937" y="6"/>
                </a:lnTo>
                <a:lnTo>
                  <a:pt x="944" y="4"/>
                </a:lnTo>
                <a:lnTo>
                  <a:pt x="952" y="0"/>
                </a:lnTo>
                <a:lnTo>
                  <a:pt x="958" y="0"/>
                </a:lnTo>
                <a:lnTo>
                  <a:pt x="965" y="0"/>
                </a:lnTo>
                <a:lnTo>
                  <a:pt x="973" y="0"/>
                </a:lnTo>
                <a:lnTo>
                  <a:pt x="975" y="2"/>
                </a:lnTo>
                <a:lnTo>
                  <a:pt x="979" y="4"/>
                </a:lnTo>
                <a:lnTo>
                  <a:pt x="987" y="8"/>
                </a:lnTo>
                <a:lnTo>
                  <a:pt x="996" y="13"/>
                </a:lnTo>
                <a:lnTo>
                  <a:pt x="1008" y="21"/>
                </a:lnTo>
                <a:lnTo>
                  <a:pt x="1021" y="29"/>
                </a:lnTo>
                <a:lnTo>
                  <a:pt x="1037" y="38"/>
                </a:lnTo>
                <a:lnTo>
                  <a:pt x="1054" y="48"/>
                </a:lnTo>
                <a:lnTo>
                  <a:pt x="1061" y="56"/>
                </a:lnTo>
                <a:lnTo>
                  <a:pt x="1071" y="61"/>
                </a:lnTo>
                <a:lnTo>
                  <a:pt x="1081" y="69"/>
                </a:lnTo>
                <a:lnTo>
                  <a:pt x="1092" y="77"/>
                </a:lnTo>
                <a:lnTo>
                  <a:pt x="1100" y="86"/>
                </a:lnTo>
                <a:lnTo>
                  <a:pt x="1108" y="96"/>
                </a:lnTo>
                <a:lnTo>
                  <a:pt x="1115" y="104"/>
                </a:lnTo>
                <a:lnTo>
                  <a:pt x="1123" y="111"/>
                </a:lnTo>
                <a:lnTo>
                  <a:pt x="1129" y="119"/>
                </a:lnTo>
                <a:lnTo>
                  <a:pt x="1134" y="127"/>
                </a:lnTo>
                <a:lnTo>
                  <a:pt x="1140" y="132"/>
                </a:lnTo>
                <a:lnTo>
                  <a:pt x="1146" y="140"/>
                </a:lnTo>
                <a:lnTo>
                  <a:pt x="1150" y="146"/>
                </a:lnTo>
                <a:lnTo>
                  <a:pt x="1154" y="150"/>
                </a:lnTo>
                <a:lnTo>
                  <a:pt x="1157" y="155"/>
                </a:lnTo>
                <a:lnTo>
                  <a:pt x="1161" y="159"/>
                </a:lnTo>
                <a:lnTo>
                  <a:pt x="1163" y="163"/>
                </a:lnTo>
                <a:lnTo>
                  <a:pt x="1165" y="165"/>
                </a:lnTo>
                <a:lnTo>
                  <a:pt x="1165" y="169"/>
                </a:lnTo>
                <a:lnTo>
                  <a:pt x="1165" y="171"/>
                </a:lnTo>
                <a:lnTo>
                  <a:pt x="1161" y="175"/>
                </a:lnTo>
                <a:lnTo>
                  <a:pt x="1157" y="179"/>
                </a:lnTo>
                <a:lnTo>
                  <a:pt x="1152" y="182"/>
                </a:lnTo>
                <a:lnTo>
                  <a:pt x="1144" y="186"/>
                </a:lnTo>
                <a:lnTo>
                  <a:pt x="1138" y="190"/>
                </a:lnTo>
                <a:lnTo>
                  <a:pt x="1129" y="194"/>
                </a:lnTo>
                <a:lnTo>
                  <a:pt x="1119" y="198"/>
                </a:lnTo>
                <a:lnTo>
                  <a:pt x="1109" y="202"/>
                </a:lnTo>
                <a:lnTo>
                  <a:pt x="1104" y="203"/>
                </a:lnTo>
                <a:lnTo>
                  <a:pt x="1098" y="207"/>
                </a:lnTo>
                <a:lnTo>
                  <a:pt x="1092" y="211"/>
                </a:lnTo>
                <a:lnTo>
                  <a:pt x="1086" y="215"/>
                </a:lnTo>
                <a:lnTo>
                  <a:pt x="1079" y="221"/>
                </a:lnTo>
                <a:lnTo>
                  <a:pt x="1071" y="228"/>
                </a:lnTo>
                <a:lnTo>
                  <a:pt x="1063" y="234"/>
                </a:lnTo>
                <a:lnTo>
                  <a:pt x="1056" y="244"/>
                </a:lnTo>
                <a:lnTo>
                  <a:pt x="1048" y="253"/>
                </a:lnTo>
                <a:lnTo>
                  <a:pt x="1040" y="263"/>
                </a:lnTo>
                <a:lnTo>
                  <a:pt x="1031" y="274"/>
                </a:lnTo>
                <a:lnTo>
                  <a:pt x="1023" y="286"/>
                </a:lnTo>
                <a:lnTo>
                  <a:pt x="1015" y="299"/>
                </a:lnTo>
                <a:lnTo>
                  <a:pt x="1006" y="315"/>
                </a:lnTo>
                <a:lnTo>
                  <a:pt x="998" y="330"/>
                </a:lnTo>
                <a:lnTo>
                  <a:pt x="989" y="347"/>
                </a:lnTo>
                <a:lnTo>
                  <a:pt x="979" y="365"/>
                </a:lnTo>
                <a:lnTo>
                  <a:pt x="971" y="380"/>
                </a:lnTo>
                <a:lnTo>
                  <a:pt x="962" y="395"/>
                </a:lnTo>
                <a:lnTo>
                  <a:pt x="952" y="409"/>
                </a:lnTo>
                <a:lnTo>
                  <a:pt x="942" y="420"/>
                </a:lnTo>
                <a:lnTo>
                  <a:pt x="933" y="432"/>
                </a:lnTo>
                <a:lnTo>
                  <a:pt x="923" y="441"/>
                </a:lnTo>
                <a:lnTo>
                  <a:pt x="914" y="449"/>
                </a:lnTo>
                <a:lnTo>
                  <a:pt x="904" y="457"/>
                </a:lnTo>
                <a:lnTo>
                  <a:pt x="894" y="463"/>
                </a:lnTo>
                <a:lnTo>
                  <a:pt x="885" y="466"/>
                </a:lnTo>
                <a:lnTo>
                  <a:pt x="875" y="470"/>
                </a:lnTo>
                <a:lnTo>
                  <a:pt x="868" y="474"/>
                </a:lnTo>
                <a:lnTo>
                  <a:pt x="858" y="474"/>
                </a:lnTo>
                <a:lnTo>
                  <a:pt x="848" y="474"/>
                </a:lnTo>
                <a:lnTo>
                  <a:pt x="839" y="472"/>
                </a:lnTo>
                <a:lnTo>
                  <a:pt x="848" y="453"/>
                </a:lnTo>
                <a:lnTo>
                  <a:pt x="856" y="434"/>
                </a:lnTo>
                <a:lnTo>
                  <a:pt x="864" y="416"/>
                </a:lnTo>
                <a:lnTo>
                  <a:pt x="871" y="399"/>
                </a:lnTo>
                <a:lnTo>
                  <a:pt x="879" y="382"/>
                </a:lnTo>
                <a:lnTo>
                  <a:pt x="885" y="365"/>
                </a:lnTo>
                <a:lnTo>
                  <a:pt x="893" y="349"/>
                </a:lnTo>
                <a:lnTo>
                  <a:pt x="898" y="334"/>
                </a:lnTo>
                <a:lnTo>
                  <a:pt x="904" y="319"/>
                </a:lnTo>
                <a:lnTo>
                  <a:pt x="910" y="305"/>
                </a:lnTo>
                <a:lnTo>
                  <a:pt x="916" y="292"/>
                </a:lnTo>
                <a:lnTo>
                  <a:pt x="921" y="278"/>
                </a:lnTo>
                <a:lnTo>
                  <a:pt x="925" y="265"/>
                </a:lnTo>
                <a:lnTo>
                  <a:pt x="929" y="253"/>
                </a:lnTo>
                <a:lnTo>
                  <a:pt x="935" y="242"/>
                </a:lnTo>
                <a:lnTo>
                  <a:pt x="939" y="232"/>
                </a:lnTo>
                <a:lnTo>
                  <a:pt x="942" y="221"/>
                </a:lnTo>
                <a:lnTo>
                  <a:pt x="944" y="211"/>
                </a:lnTo>
                <a:lnTo>
                  <a:pt x="948" y="203"/>
                </a:lnTo>
                <a:lnTo>
                  <a:pt x="950" y="194"/>
                </a:lnTo>
                <a:lnTo>
                  <a:pt x="952" y="186"/>
                </a:lnTo>
                <a:lnTo>
                  <a:pt x="956" y="179"/>
                </a:lnTo>
                <a:lnTo>
                  <a:pt x="958" y="173"/>
                </a:lnTo>
                <a:lnTo>
                  <a:pt x="958" y="167"/>
                </a:lnTo>
                <a:lnTo>
                  <a:pt x="960" y="161"/>
                </a:lnTo>
                <a:lnTo>
                  <a:pt x="962" y="155"/>
                </a:lnTo>
                <a:lnTo>
                  <a:pt x="962" y="152"/>
                </a:lnTo>
                <a:lnTo>
                  <a:pt x="962" y="148"/>
                </a:lnTo>
                <a:lnTo>
                  <a:pt x="962" y="144"/>
                </a:lnTo>
                <a:lnTo>
                  <a:pt x="962" y="142"/>
                </a:lnTo>
                <a:lnTo>
                  <a:pt x="962" y="140"/>
                </a:lnTo>
                <a:lnTo>
                  <a:pt x="946" y="131"/>
                </a:lnTo>
                <a:lnTo>
                  <a:pt x="939" y="129"/>
                </a:lnTo>
                <a:lnTo>
                  <a:pt x="931" y="125"/>
                </a:lnTo>
                <a:lnTo>
                  <a:pt x="923" y="123"/>
                </a:lnTo>
                <a:lnTo>
                  <a:pt x="916" y="121"/>
                </a:lnTo>
                <a:lnTo>
                  <a:pt x="906" y="119"/>
                </a:lnTo>
                <a:lnTo>
                  <a:pt x="896" y="119"/>
                </a:lnTo>
                <a:lnTo>
                  <a:pt x="893" y="119"/>
                </a:lnTo>
                <a:lnTo>
                  <a:pt x="889" y="119"/>
                </a:lnTo>
                <a:lnTo>
                  <a:pt x="885" y="119"/>
                </a:lnTo>
                <a:lnTo>
                  <a:pt x="881" y="119"/>
                </a:lnTo>
                <a:lnTo>
                  <a:pt x="875" y="119"/>
                </a:lnTo>
                <a:lnTo>
                  <a:pt x="870" y="121"/>
                </a:lnTo>
                <a:lnTo>
                  <a:pt x="864" y="121"/>
                </a:lnTo>
                <a:lnTo>
                  <a:pt x="856" y="123"/>
                </a:lnTo>
                <a:lnTo>
                  <a:pt x="848" y="123"/>
                </a:lnTo>
                <a:lnTo>
                  <a:pt x="841" y="125"/>
                </a:lnTo>
                <a:lnTo>
                  <a:pt x="833" y="125"/>
                </a:lnTo>
                <a:lnTo>
                  <a:pt x="823" y="127"/>
                </a:lnTo>
                <a:lnTo>
                  <a:pt x="814" y="129"/>
                </a:lnTo>
                <a:lnTo>
                  <a:pt x="804" y="129"/>
                </a:lnTo>
                <a:lnTo>
                  <a:pt x="793" y="131"/>
                </a:lnTo>
                <a:lnTo>
                  <a:pt x="781" y="132"/>
                </a:lnTo>
                <a:lnTo>
                  <a:pt x="770" y="134"/>
                </a:lnTo>
                <a:lnTo>
                  <a:pt x="756" y="136"/>
                </a:lnTo>
                <a:lnTo>
                  <a:pt x="743" y="138"/>
                </a:lnTo>
                <a:lnTo>
                  <a:pt x="729" y="140"/>
                </a:lnTo>
                <a:lnTo>
                  <a:pt x="714" y="142"/>
                </a:lnTo>
                <a:lnTo>
                  <a:pt x="699" y="144"/>
                </a:lnTo>
                <a:lnTo>
                  <a:pt x="683" y="146"/>
                </a:lnTo>
                <a:lnTo>
                  <a:pt x="668" y="150"/>
                </a:lnTo>
                <a:lnTo>
                  <a:pt x="651" y="152"/>
                </a:lnTo>
                <a:lnTo>
                  <a:pt x="633" y="154"/>
                </a:lnTo>
                <a:lnTo>
                  <a:pt x="614" y="155"/>
                </a:lnTo>
                <a:lnTo>
                  <a:pt x="595" y="159"/>
                </a:lnTo>
                <a:lnTo>
                  <a:pt x="576" y="161"/>
                </a:lnTo>
                <a:lnTo>
                  <a:pt x="555" y="165"/>
                </a:lnTo>
                <a:lnTo>
                  <a:pt x="534" y="167"/>
                </a:lnTo>
                <a:lnTo>
                  <a:pt x="513" y="171"/>
                </a:lnTo>
                <a:lnTo>
                  <a:pt x="470" y="179"/>
                </a:lnTo>
                <a:lnTo>
                  <a:pt x="428" y="186"/>
                </a:lnTo>
                <a:lnTo>
                  <a:pt x="388" y="194"/>
                </a:lnTo>
                <a:lnTo>
                  <a:pt x="349" y="200"/>
                </a:lnTo>
                <a:lnTo>
                  <a:pt x="311" y="207"/>
                </a:lnTo>
                <a:lnTo>
                  <a:pt x="275" y="213"/>
                </a:lnTo>
                <a:lnTo>
                  <a:pt x="240" y="219"/>
                </a:lnTo>
                <a:lnTo>
                  <a:pt x="207" y="225"/>
                </a:lnTo>
                <a:lnTo>
                  <a:pt x="177" y="230"/>
                </a:lnTo>
                <a:lnTo>
                  <a:pt x="146" y="236"/>
                </a:lnTo>
                <a:lnTo>
                  <a:pt x="117" y="242"/>
                </a:lnTo>
                <a:lnTo>
                  <a:pt x="90" y="246"/>
                </a:lnTo>
                <a:lnTo>
                  <a:pt x="65" y="251"/>
                </a:lnTo>
                <a:lnTo>
                  <a:pt x="42" y="255"/>
                </a:lnTo>
                <a:lnTo>
                  <a:pt x="21" y="261"/>
                </a:lnTo>
                <a:lnTo>
                  <a:pt x="0" y="26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Freeform 69"/>
          <p:cNvSpPr/>
          <p:nvPr/>
        </p:nvSpPr>
        <p:spPr>
          <a:xfrm>
            <a:off x="2836800" y="2971800"/>
            <a:ext cx="82440" cy="264960"/>
          </a:xfrm>
          <a:custGeom>
            <a:avLst/>
            <a:gdLst>
              <a:gd name="textAreaLeft" fmla="*/ 0 w 82440"/>
              <a:gd name="textAreaRight" fmla="*/ 82800 w 82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03" h="334">
                <a:moveTo>
                  <a:pt x="74" y="73"/>
                </a:moveTo>
                <a:lnTo>
                  <a:pt x="78" y="83"/>
                </a:lnTo>
                <a:lnTo>
                  <a:pt x="82" y="92"/>
                </a:lnTo>
                <a:lnTo>
                  <a:pt x="84" y="102"/>
                </a:lnTo>
                <a:lnTo>
                  <a:pt x="86" y="114"/>
                </a:lnTo>
                <a:lnTo>
                  <a:pt x="90" y="125"/>
                </a:lnTo>
                <a:lnTo>
                  <a:pt x="92" y="138"/>
                </a:lnTo>
                <a:lnTo>
                  <a:pt x="94" y="154"/>
                </a:lnTo>
                <a:lnTo>
                  <a:pt x="96" y="169"/>
                </a:lnTo>
                <a:lnTo>
                  <a:pt x="97" y="186"/>
                </a:lnTo>
                <a:lnTo>
                  <a:pt x="99" y="204"/>
                </a:lnTo>
                <a:lnTo>
                  <a:pt x="99" y="223"/>
                </a:lnTo>
                <a:lnTo>
                  <a:pt x="101" y="242"/>
                </a:lnTo>
                <a:lnTo>
                  <a:pt x="101" y="263"/>
                </a:lnTo>
                <a:lnTo>
                  <a:pt x="103" y="286"/>
                </a:lnTo>
                <a:lnTo>
                  <a:pt x="103" y="309"/>
                </a:lnTo>
                <a:lnTo>
                  <a:pt x="103" y="334"/>
                </a:lnTo>
                <a:lnTo>
                  <a:pt x="48" y="334"/>
                </a:lnTo>
                <a:lnTo>
                  <a:pt x="42" y="304"/>
                </a:lnTo>
                <a:lnTo>
                  <a:pt x="36" y="275"/>
                </a:lnTo>
                <a:lnTo>
                  <a:pt x="32" y="246"/>
                </a:lnTo>
                <a:lnTo>
                  <a:pt x="28" y="219"/>
                </a:lnTo>
                <a:lnTo>
                  <a:pt x="25" y="194"/>
                </a:lnTo>
                <a:lnTo>
                  <a:pt x="21" y="169"/>
                </a:lnTo>
                <a:lnTo>
                  <a:pt x="17" y="146"/>
                </a:lnTo>
                <a:lnTo>
                  <a:pt x="13" y="125"/>
                </a:lnTo>
                <a:lnTo>
                  <a:pt x="11" y="104"/>
                </a:lnTo>
                <a:lnTo>
                  <a:pt x="7" y="85"/>
                </a:lnTo>
                <a:lnTo>
                  <a:pt x="5" y="67"/>
                </a:lnTo>
                <a:lnTo>
                  <a:pt x="3" y="52"/>
                </a:lnTo>
                <a:lnTo>
                  <a:pt x="2" y="37"/>
                </a:lnTo>
                <a:lnTo>
                  <a:pt x="2" y="23"/>
                </a:lnTo>
                <a:lnTo>
                  <a:pt x="0" y="12"/>
                </a:lnTo>
                <a:lnTo>
                  <a:pt x="0" y="0"/>
                </a:lnTo>
                <a:lnTo>
                  <a:pt x="7" y="2"/>
                </a:lnTo>
                <a:lnTo>
                  <a:pt x="13" y="2"/>
                </a:lnTo>
                <a:lnTo>
                  <a:pt x="21" y="4"/>
                </a:lnTo>
                <a:lnTo>
                  <a:pt x="26" y="6"/>
                </a:lnTo>
                <a:lnTo>
                  <a:pt x="32" y="8"/>
                </a:lnTo>
                <a:lnTo>
                  <a:pt x="38" y="10"/>
                </a:lnTo>
                <a:lnTo>
                  <a:pt x="44" y="14"/>
                </a:lnTo>
                <a:lnTo>
                  <a:pt x="48" y="18"/>
                </a:lnTo>
                <a:lnTo>
                  <a:pt x="53" y="23"/>
                </a:lnTo>
                <a:lnTo>
                  <a:pt x="57" y="27"/>
                </a:lnTo>
                <a:lnTo>
                  <a:pt x="61" y="35"/>
                </a:lnTo>
                <a:lnTo>
                  <a:pt x="65" y="41"/>
                </a:lnTo>
                <a:lnTo>
                  <a:pt x="67" y="48"/>
                </a:lnTo>
                <a:lnTo>
                  <a:pt x="71" y="56"/>
                </a:lnTo>
                <a:lnTo>
                  <a:pt x="73" y="64"/>
                </a:lnTo>
                <a:lnTo>
                  <a:pt x="74" y="7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Freeform 70"/>
          <p:cNvSpPr/>
          <p:nvPr/>
        </p:nvSpPr>
        <p:spPr>
          <a:xfrm>
            <a:off x="3052800" y="2955960"/>
            <a:ext cx="95040" cy="255600"/>
          </a:xfrm>
          <a:custGeom>
            <a:avLst/>
            <a:gdLst>
              <a:gd name="textAreaLeft" fmla="*/ 0 w 95040"/>
              <a:gd name="textAreaRight" fmla="*/ 95400 w 95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1" h="323">
                <a:moveTo>
                  <a:pt x="75" y="323"/>
                </a:moveTo>
                <a:lnTo>
                  <a:pt x="0" y="323"/>
                </a:lnTo>
                <a:lnTo>
                  <a:pt x="8" y="282"/>
                </a:lnTo>
                <a:lnTo>
                  <a:pt x="12" y="244"/>
                </a:lnTo>
                <a:lnTo>
                  <a:pt x="17" y="204"/>
                </a:lnTo>
                <a:lnTo>
                  <a:pt x="21" y="165"/>
                </a:lnTo>
                <a:lnTo>
                  <a:pt x="25" y="125"/>
                </a:lnTo>
                <a:lnTo>
                  <a:pt x="27" y="83"/>
                </a:lnTo>
                <a:lnTo>
                  <a:pt x="29" y="42"/>
                </a:lnTo>
                <a:lnTo>
                  <a:pt x="29" y="0"/>
                </a:lnTo>
                <a:lnTo>
                  <a:pt x="40" y="6"/>
                </a:lnTo>
                <a:lnTo>
                  <a:pt x="52" y="12"/>
                </a:lnTo>
                <a:lnTo>
                  <a:pt x="62" y="17"/>
                </a:lnTo>
                <a:lnTo>
                  <a:pt x="71" y="23"/>
                </a:lnTo>
                <a:lnTo>
                  <a:pt x="79" y="29"/>
                </a:lnTo>
                <a:lnTo>
                  <a:pt x="87" y="33"/>
                </a:lnTo>
                <a:lnTo>
                  <a:pt x="94" y="39"/>
                </a:lnTo>
                <a:lnTo>
                  <a:pt x="100" y="44"/>
                </a:lnTo>
                <a:lnTo>
                  <a:pt x="104" y="48"/>
                </a:lnTo>
                <a:lnTo>
                  <a:pt x="110" y="52"/>
                </a:lnTo>
                <a:lnTo>
                  <a:pt x="113" y="58"/>
                </a:lnTo>
                <a:lnTo>
                  <a:pt x="115" y="62"/>
                </a:lnTo>
                <a:lnTo>
                  <a:pt x="119" y="63"/>
                </a:lnTo>
                <a:lnTo>
                  <a:pt x="121" y="67"/>
                </a:lnTo>
                <a:lnTo>
                  <a:pt x="121" y="69"/>
                </a:lnTo>
                <a:lnTo>
                  <a:pt x="121" y="73"/>
                </a:lnTo>
                <a:lnTo>
                  <a:pt x="121" y="77"/>
                </a:lnTo>
                <a:lnTo>
                  <a:pt x="121" y="83"/>
                </a:lnTo>
                <a:lnTo>
                  <a:pt x="119" y="90"/>
                </a:lnTo>
                <a:lnTo>
                  <a:pt x="117" y="100"/>
                </a:lnTo>
                <a:lnTo>
                  <a:pt x="117" y="110"/>
                </a:lnTo>
                <a:lnTo>
                  <a:pt x="113" y="121"/>
                </a:lnTo>
                <a:lnTo>
                  <a:pt x="111" y="134"/>
                </a:lnTo>
                <a:lnTo>
                  <a:pt x="108" y="150"/>
                </a:lnTo>
                <a:lnTo>
                  <a:pt x="106" y="167"/>
                </a:lnTo>
                <a:lnTo>
                  <a:pt x="102" y="184"/>
                </a:lnTo>
                <a:lnTo>
                  <a:pt x="98" y="204"/>
                </a:lnTo>
                <a:lnTo>
                  <a:pt x="94" y="225"/>
                </a:lnTo>
                <a:lnTo>
                  <a:pt x="90" y="246"/>
                </a:lnTo>
                <a:lnTo>
                  <a:pt x="85" y="271"/>
                </a:lnTo>
                <a:lnTo>
                  <a:pt x="81" y="296"/>
                </a:lnTo>
                <a:lnTo>
                  <a:pt x="75" y="32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Freeform 71"/>
          <p:cNvSpPr/>
          <p:nvPr/>
        </p:nvSpPr>
        <p:spPr>
          <a:xfrm>
            <a:off x="2697120" y="2374920"/>
            <a:ext cx="200160" cy="463680"/>
          </a:xfrm>
          <a:custGeom>
            <a:avLst/>
            <a:gdLst>
              <a:gd name="textAreaLeft" fmla="*/ 0 w 200160"/>
              <a:gd name="textAreaRight" fmla="*/ 200520 w 20016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51" h="583">
                <a:moveTo>
                  <a:pt x="29" y="63"/>
                </a:moveTo>
                <a:lnTo>
                  <a:pt x="23" y="56"/>
                </a:lnTo>
                <a:lnTo>
                  <a:pt x="19" y="48"/>
                </a:lnTo>
                <a:lnTo>
                  <a:pt x="13" y="42"/>
                </a:lnTo>
                <a:lnTo>
                  <a:pt x="12" y="36"/>
                </a:lnTo>
                <a:lnTo>
                  <a:pt x="8" y="31"/>
                </a:lnTo>
                <a:lnTo>
                  <a:pt x="6" y="25"/>
                </a:lnTo>
                <a:lnTo>
                  <a:pt x="2" y="21"/>
                </a:lnTo>
                <a:lnTo>
                  <a:pt x="2" y="17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4"/>
                </a:lnTo>
                <a:lnTo>
                  <a:pt x="4" y="2"/>
                </a:lnTo>
                <a:lnTo>
                  <a:pt x="6" y="2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23" y="2"/>
                </a:lnTo>
                <a:lnTo>
                  <a:pt x="31" y="2"/>
                </a:lnTo>
                <a:lnTo>
                  <a:pt x="38" y="4"/>
                </a:lnTo>
                <a:lnTo>
                  <a:pt x="46" y="6"/>
                </a:lnTo>
                <a:lnTo>
                  <a:pt x="56" y="6"/>
                </a:lnTo>
                <a:lnTo>
                  <a:pt x="65" y="8"/>
                </a:lnTo>
                <a:lnTo>
                  <a:pt x="77" y="10"/>
                </a:lnTo>
                <a:lnTo>
                  <a:pt x="88" y="13"/>
                </a:lnTo>
                <a:lnTo>
                  <a:pt x="100" y="15"/>
                </a:lnTo>
                <a:lnTo>
                  <a:pt x="115" y="17"/>
                </a:lnTo>
                <a:lnTo>
                  <a:pt x="129" y="21"/>
                </a:lnTo>
                <a:lnTo>
                  <a:pt x="144" y="25"/>
                </a:lnTo>
                <a:lnTo>
                  <a:pt x="159" y="29"/>
                </a:lnTo>
                <a:lnTo>
                  <a:pt x="177" y="33"/>
                </a:lnTo>
                <a:lnTo>
                  <a:pt x="177" y="42"/>
                </a:lnTo>
                <a:lnTo>
                  <a:pt x="179" y="54"/>
                </a:lnTo>
                <a:lnTo>
                  <a:pt x="179" y="65"/>
                </a:lnTo>
                <a:lnTo>
                  <a:pt x="179" y="77"/>
                </a:lnTo>
                <a:lnTo>
                  <a:pt x="180" y="90"/>
                </a:lnTo>
                <a:lnTo>
                  <a:pt x="182" y="104"/>
                </a:lnTo>
                <a:lnTo>
                  <a:pt x="184" y="119"/>
                </a:lnTo>
                <a:lnTo>
                  <a:pt x="186" y="134"/>
                </a:lnTo>
                <a:lnTo>
                  <a:pt x="188" y="150"/>
                </a:lnTo>
                <a:lnTo>
                  <a:pt x="190" y="167"/>
                </a:lnTo>
                <a:lnTo>
                  <a:pt x="194" y="184"/>
                </a:lnTo>
                <a:lnTo>
                  <a:pt x="198" y="201"/>
                </a:lnTo>
                <a:lnTo>
                  <a:pt x="202" y="221"/>
                </a:lnTo>
                <a:lnTo>
                  <a:pt x="205" y="240"/>
                </a:lnTo>
                <a:lnTo>
                  <a:pt x="209" y="261"/>
                </a:lnTo>
                <a:lnTo>
                  <a:pt x="215" y="282"/>
                </a:lnTo>
                <a:lnTo>
                  <a:pt x="219" y="303"/>
                </a:lnTo>
                <a:lnTo>
                  <a:pt x="225" y="322"/>
                </a:lnTo>
                <a:lnTo>
                  <a:pt x="228" y="342"/>
                </a:lnTo>
                <a:lnTo>
                  <a:pt x="232" y="361"/>
                </a:lnTo>
                <a:lnTo>
                  <a:pt x="236" y="378"/>
                </a:lnTo>
                <a:lnTo>
                  <a:pt x="238" y="393"/>
                </a:lnTo>
                <a:lnTo>
                  <a:pt x="242" y="409"/>
                </a:lnTo>
                <a:lnTo>
                  <a:pt x="244" y="424"/>
                </a:lnTo>
                <a:lnTo>
                  <a:pt x="246" y="438"/>
                </a:lnTo>
                <a:lnTo>
                  <a:pt x="248" y="451"/>
                </a:lnTo>
                <a:lnTo>
                  <a:pt x="250" y="462"/>
                </a:lnTo>
                <a:lnTo>
                  <a:pt x="250" y="474"/>
                </a:lnTo>
                <a:lnTo>
                  <a:pt x="251" y="484"/>
                </a:lnTo>
                <a:lnTo>
                  <a:pt x="251" y="495"/>
                </a:lnTo>
                <a:lnTo>
                  <a:pt x="251" y="503"/>
                </a:lnTo>
                <a:lnTo>
                  <a:pt x="251" y="510"/>
                </a:lnTo>
                <a:lnTo>
                  <a:pt x="251" y="520"/>
                </a:lnTo>
                <a:lnTo>
                  <a:pt x="251" y="530"/>
                </a:lnTo>
                <a:lnTo>
                  <a:pt x="251" y="537"/>
                </a:lnTo>
                <a:lnTo>
                  <a:pt x="250" y="545"/>
                </a:lnTo>
                <a:lnTo>
                  <a:pt x="250" y="551"/>
                </a:lnTo>
                <a:lnTo>
                  <a:pt x="248" y="556"/>
                </a:lnTo>
                <a:lnTo>
                  <a:pt x="248" y="562"/>
                </a:lnTo>
                <a:lnTo>
                  <a:pt x="246" y="568"/>
                </a:lnTo>
                <a:lnTo>
                  <a:pt x="244" y="572"/>
                </a:lnTo>
                <a:lnTo>
                  <a:pt x="244" y="576"/>
                </a:lnTo>
                <a:lnTo>
                  <a:pt x="242" y="578"/>
                </a:lnTo>
                <a:lnTo>
                  <a:pt x="240" y="580"/>
                </a:lnTo>
                <a:lnTo>
                  <a:pt x="238" y="581"/>
                </a:lnTo>
                <a:lnTo>
                  <a:pt x="236" y="583"/>
                </a:lnTo>
                <a:lnTo>
                  <a:pt x="234" y="583"/>
                </a:lnTo>
                <a:lnTo>
                  <a:pt x="232" y="583"/>
                </a:lnTo>
                <a:lnTo>
                  <a:pt x="230" y="583"/>
                </a:lnTo>
                <a:lnTo>
                  <a:pt x="226" y="581"/>
                </a:lnTo>
                <a:lnTo>
                  <a:pt x="221" y="576"/>
                </a:lnTo>
                <a:lnTo>
                  <a:pt x="217" y="570"/>
                </a:lnTo>
                <a:lnTo>
                  <a:pt x="213" y="562"/>
                </a:lnTo>
                <a:lnTo>
                  <a:pt x="207" y="553"/>
                </a:lnTo>
                <a:lnTo>
                  <a:pt x="202" y="541"/>
                </a:lnTo>
                <a:lnTo>
                  <a:pt x="196" y="528"/>
                </a:lnTo>
                <a:lnTo>
                  <a:pt x="190" y="512"/>
                </a:lnTo>
                <a:lnTo>
                  <a:pt x="184" y="497"/>
                </a:lnTo>
                <a:lnTo>
                  <a:pt x="179" y="478"/>
                </a:lnTo>
                <a:lnTo>
                  <a:pt x="171" y="457"/>
                </a:lnTo>
                <a:lnTo>
                  <a:pt x="163" y="434"/>
                </a:lnTo>
                <a:lnTo>
                  <a:pt x="159" y="422"/>
                </a:lnTo>
                <a:lnTo>
                  <a:pt x="155" y="411"/>
                </a:lnTo>
                <a:lnTo>
                  <a:pt x="152" y="397"/>
                </a:lnTo>
                <a:lnTo>
                  <a:pt x="148" y="384"/>
                </a:lnTo>
                <a:lnTo>
                  <a:pt x="144" y="370"/>
                </a:lnTo>
                <a:lnTo>
                  <a:pt x="140" y="355"/>
                </a:lnTo>
                <a:lnTo>
                  <a:pt x="131" y="326"/>
                </a:lnTo>
                <a:lnTo>
                  <a:pt x="123" y="299"/>
                </a:lnTo>
                <a:lnTo>
                  <a:pt x="115" y="274"/>
                </a:lnTo>
                <a:lnTo>
                  <a:pt x="108" y="249"/>
                </a:lnTo>
                <a:lnTo>
                  <a:pt x="100" y="226"/>
                </a:lnTo>
                <a:lnTo>
                  <a:pt x="92" y="205"/>
                </a:lnTo>
                <a:lnTo>
                  <a:pt x="84" y="184"/>
                </a:lnTo>
                <a:lnTo>
                  <a:pt x="77" y="167"/>
                </a:lnTo>
                <a:lnTo>
                  <a:pt x="71" y="150"/>
                </a:lnTo>
                <a:lnTo>
                  <a:pt x="63" y="132"/>
                </a:lnTo>
                <a:lnTo>
                  <a:pt x="58" y="117"/>
                </a:lnTo>
                <a:lnTo>
                  <a:pt x="50" y="104"/>
                </a:lnTo>
                <a:lnTo>
                  <a:pt x="44" y="92"/>
                </a:lnTo>
                <a:lnTo>
                  <a:pt x="38" y="81"/>
                </a:lnTo>
                <a:lnTo>
                  <a:pt x="33" y="71"/>
                </a:lnTo>
                <a:lnTo>
                  <a:pt x="29" y="6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Freeform 72"/>
          <p:cNvSpPr/>
          <p:nvPr/>
        </p:nvSpPr>
        <p:spPr>
          <a:xfrm>
            <a:off x="2778120" y="2286000"/>
            <a:ext cx="674640" cy="495360"/>
          </a:xfrm>
          <a:custGeom>
            <a:avLst/>
            <a:gdLst>
              <a:gd name="textAreaLeft" fmla="*/ 0 w 674640"/>
              <a:gd name="textAreaRight" fmla="*/ 675000 w 674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850" h="623">
                <a:moveTo>
                  <a:pt x="0" y="146"/>
                </a:moveTo>
                <a:lnTo>
                  <a:pt x="40" y="140"/>
                </a:lnTo>
                <a:lnTo>
                  <a:pt x="80" y="136"/>
                </a:lnTo>
                <a:lnTo>
                  <a:pt x="121" y="128"/>
                </a:lnTo>
                <a:lnTo>
                  <a:pt x="163" y="123"/>
                </a:lnTo>
                <a:lnTo>
                  <a:pt x="207" y="113"/>
                </a:lnTo>
                <a:lnTo>
                  <a:pt x="251" y="103"/>
                </a:lnTo>
                <a:lnTo>
                  <a:pt x="297" y="94"/>
                </a:lnTo>
                <a:lnTo>
                  <a:pt x="345" y="82"/>
                </a:lnTo>
                <a:lnTo>
                  <a:pt x="370" y="77"/>
                </a:lnTo>
                <a:lnTo>
                  <a:pt x="391" y="71"/>
                </a:lnTo>
                <a:lnTo>
                  <a:pt x="412" y="65"/>
                </a:lnTo>
                <a:lnTo>
                  <a:pt x="433" y="61"/>
                </a:lnTo>
                <a:lnTo>
                  <a:pt x="451" y="55"/>
                </a:lnTo>
                <a:lnTo>
                  <a:pt x="468" y="52"/>
                </a:lnTo>
                <a:lnTo>
                  <a:pt x="485" y="48"/>
                </a:lnTo>
                <a:lnTo>
                  <a:pt x="499" y="44"/>
                </a:lnTo>
                <a:lnTo>
                  <a:pt x="512" y="40"/>
                </a:lnTo>
                <a:lnTo>
                  <a:pt x="526" y="36"/>
                </a:lnTo>
                <a:lnTo>
                  <a:pt x="535" y="32"/>
                </a:lnTo>
                <a:lnTo>
                  <a:pt x="545" y="30"/>
                </a:lnTo>
                <a:lnTo>
                  <a:pt x="552" y="27"/>
                </a:lnTo>
                <a:lnTo>
                  <a:pt x="560" y="25"/>
                </a:lnTo>
                <a:lnTo>
                  <a:pt x="566" y="23"/>
                </a:lnTo>
                <a:lnTo>
                  <a:pt x="570" y="21"/>
                </a:lnTo>
                <a:lnTo>
                  <a:pt x="574" y="15"/>
                </a:lnTo>
                <a:lnTo>
                  <a:pt x="577" y="13"/>
                </a:lnTo>
                <a:lnTo>
                  <a:pt x="583" y="9"/>
                </a:lnTo>
                <a:lnTo>
                  <a:pt x="589" y="6"/>
                </a:lnTo>
                <a:lnTo>
                  <a:pt x="595" y="4"/>
                </a:lnTo>
                <a:lnTo>
                  <a:pt x="602" y="2"/>
                </a:lnTo>
                <a:lnTo>
                  <a:pt x="608" y="0"/>
                </a:lnTo>
                <a:lnTo>
                  <a:pt x="616" y="0"/>
                </a:lnTo>
                <a:lnTo>
                  <a:pt x="620" y="2"/>
                </a:lnTo>
                <a:lnTo>
                  <a:pt x="623" y="4"/>
                </a:lnTo>
                <a:lnTo>
                  <a:pt x="629" y="6"/>
                </a:lnTo>
                <a:lnTo>
                  <a:pt x="635" y="9"/>
                </a:lnTo>
                <a:lnTo>
                  <a:pt x="641" y="11"/>
                </a:lnTo>
                <a:lnTo>
                  <a:pt x="648" y="15"/>
                </a:lnTo>
                <a:lnTo>
                  <a:pt x="656" y="19"/>
                </a:lnTo>
                <a:lnTo>
                  <a:pt x="664" y="23"/>
                </a:lnTo>
                <a:lnTo>
                  <a:pt x="671" y="29"/>
                </a:lnTo>
                <a:lnTo>
                  <a:pt x="681" y="32"/>
                </a:lnTo>
                <a:lnTo>
                  <a:pt x="691" y="38"/>
                </a:lnTo>
                <a:lnTo>
                  <a:pt x="702" y="44"/>
                </a:lnTo>
                <a:lnTo>
                  <a:pt x="712" y="50"/>
                </a:lnTo>
                <a:lnTo>
                  <a:pt x="723" y="57"/>
                </a:lnTo>
                <a:lnTo>
                  <a:pt x="735" y="65"/>
                </a:lnTo>
                <a:lnTo>
                  <a:pt x="746" y="73"/>
                </a:lnTo>
                <a:lnTo>
                  <a:pt x="758" y="82"/>
                </a:lnTo>
                <a:lnTo>
                  <a:pt x="769" y="90"/>
                </a:lnTo>
                <a:lnTo>
                  <a:pt x="779" y="100"/>
                </a:lnTo>
                <a:lnTo>
                  <a:pt x="790" y="107"/>
                </a:lnTo>
                <a:lnTo>
                  <a:pt x="798" y="115"/>
                </a:lnTo>
                <a:lnTo>
                  <a:pt x="808" y="123"/>
                </a:lnTo>
                <a:lnTo>
                  <a:pt x="815" y="130"/>
                </a:lnTo>
                <a:lnTo>
                  <a:pt x="821" y="136"/>
                </a:lnTo>
                <a:lnTo>
                  <a:pt x="829" y="142"/>
                </a:lnTo>
                <a:lnTo>
                  <a:pt x="833" y="148"/>
                </a:lnTo>
                <a:lnTo>
                  <a:pt x="838" y="153"/>
                </a:lnTo>
                <a:lnTo>
                  <a:pt x="842" y="159"/>
                </a:lnTo>
                <a:lnTo>
                  <a:pt x="844" y="163"/>
                </a:lnTo>
                <a:lnTo>
                  <a:pt x="848" y="169"/>
                </a:lnTo>
                <a:lnTo>
                  <a:pt x="848" y="172"/>
                </a:lnTo>
                <a:lnTo>
                  <a:pt x="850" y="176"/>
                </a:lnTo>
                <a:lnTo>
                  <a:pt x="848" y="184"/>
                </a:lnTo>
                <a:lnTo>
                  <a:pt x="846" y="190"/>
                </a:lnTo>
                <a:lnTo>
                  <a:pt x="842" y="195"/>
                </a:lnTo>
                <a:lnTo>
                  <a:pt x="836" y="201"/>
                </a:lnTo>
                <a:lnTo>
                  <a:pt x="829" y="205"/>
                </a:lnTo>
                <a:lnTo>
                  <a:pt x="821" y="209"/>
                </a:lnTo>
                <a:lnTo>
                  <a:pt x="812" y="215"/>
                </a:lnTo>
                <a:lnTo>
                  <a:pt x="802" y="219"/>
                </a:lnTo>
                <a:lnTo>
                  <a:pt x="796" y="220"/>
                </a:lnTo>
                <a:lnTo>
                  <a:pt x="792" y="224"/>
                </a:lnTo>
                <a:lnTo>
                  <a:pt x="785" y="230"/>
                </a:lnTo>
                <a:lnTo>
                  <a:pt x="779" y="238"/>
                </a:lnTo>
                <a:lnTo>
                  <a:pt x="773" y="245"/>
                </a:lnTo>
                <a:lnTo>
                  <a:pt x="767" y="255"/>
                </a:lnTo>
                <a:lnTo>
                  <a:pt x="760" y="266"/>
                </a:lnTo>
                <a:lnTo>
                  <a:pt x="754" y="278"/>
                </a:lnTo>
                <a:lnTo>
                  <a:pt x="746" y="291"/>
                </a:lnTo>
                <a:lnTo>
                  <a:pt x="739" y="305"/>
                </a:lnTo>
                <a:lnTo>
                  <a:pt x="731" y="320"/>
                </a:lnTo>
                <a:lnTo>
                  <a:pt x="723" y="338"/>
                </a:lnTo>
                <a:lnTo>
                  <a:pt x="716" y="357"/>
                </a:lnTo>
                <a:lnTo>
                  <a:pt x="708" y="374"/>
                </a:lnTo>
                <a:lnTo>
                  <a:pt x="698" y="395"/>
                </a:lnTo>
                <a:lnTo>
                  <a:pt x="691" y="416"/>
                </a:lnTo>
                <a:lnTo>
                  <a:pt x="681" y="437"/>
                </a:lnTo>
                <a:lnTo>
                  <a:pt x="673" y="456"/>
                </a:lnTo>
                <a:lnTo>
                  <a:pt x="666" y="476"/>
                </a:lnTo>
                <a:lnTo>
                  <a:pt x="658" y="495"/>
                </a:lnTo>
                <a:lnTo>
                  <a:pt x="650" y="510"/>
                </a:lnTo>
                <a:lnTo>
                  <a:pt x="643" y="527"/>
                </a:lnTo>
                <a:lnTo>
                  <a:pt x="635" y="541"/>
                </a:lnTo>
                <a:lnTo>
                  <a:pt x="627" y="554"/>
                </a:lnTo>
                <a:lnTo>
                  <a:pt x="620" y="568"/>
                </a:lnTo>
                <a:lnTo>
                  <a:pt x="612" y="579"/>
                </a:lnTo>
                <a:lnTo>
                  <a:pt x="604" y="589"/>
                </a:lnTo>
                <a:lnTo>
                  <a:pt x="597" y="598"/>
                </a:lnTo>
                <a:lnTo>
                  <a:pt x="591" y="606"/>
                </a:lnTo>
                <a:lnTo>
                  <a:pt x="583" y="614"/>
                </a:lnTo>
                <a:lnTo>
                  <a:pt x="575" y="620"/>
                </a:lnTo>
                <a:lnTo>
                  <a:pt x="570" y="623"/>
                </a:lnTo>
                <a:lnTo>
                  <a:pt x="562" y="608"/>
                </a:lnTo>
                <a:lnTo>
                  <a:pt x="556" y="593"/>
                </a:lnTo>
                <a:lnTo>
                  <a:pt x="554" y="585"/>
                </a:lnTo>
                <a:lnTo>
                  <a:pt x="552" y="577"/>
                </a:lnTo>
                <a:lnTo>
                  <a:pt x="551" y="570"/>
                </a:lnTo>
                <a:lnTo>
                  <a:pt x="551" y="562"/>
                </a:lnTo>
                <a:lnTo>
                  <a:pt x="551" y="558"/>
                </a:lnTo>
                <a:lnTo>
                  <a:pt x="551" y="554"/>
                </a:lnTo>
                <a:lnTo>
                  <a:pt x="552" y="549"/>
                </a:lnTo>
                <a:lnTo>
                  <a:pt x="552" y="543"/>
                </a:lnTo>
                <a:lnTo>
                  <a:pt x="554" y="533"/>
                </a:lnTo>
                <a:lnTo>
                  <a:pt x="554" y="524"/>
                </a:lnTo>
                <a:lnTo>
                  <a:pt x="556" y="512"/>
                </a:lnTo>
                <a:lnTo>
                  <a:pt x="558" y="499"/>
                </a:lnTo>
                <a:lnTo>
                  <a:pt x="562" y="485"/>
                </a:lnTo>
                <a:lnTo>
                  <a:pt x="564" y="470"/>
                </a:lnTo>
                <a:lnTo>
                  <a:pt x="568" y="451"/>
                </a:lnTo>
                <a:lnTo>
                  <a:pt x="570" y="433"/>
                </a:lnTo>
                <a:lnTo>
                  <a:pt x="574" y="412"/>
                </a:lnTo>
                <a:lnTo>
                  <a:pt x="579" y="391"/>
                </a:lnTo>
                <a:lnTo>
                  <a:pt x="583" y="368"/>
                </a:lnTo>
                <a:lnTo>
                  <a:pt x="589" y="343"/>
                </a:lnTo>
                <a:lnTo>
                  <a:pt x="593" y="320"/>
                </a:lnTo>
                <a:lnTo>
                  <a:pt x="597" y="299"/>
                </a:lnTo>
                <a:lnTo>
                  <a:pt x="600" y="278"/>
                </a:lnTo>
                <a:lnTo>
                  <a:pt x="604" y="259"/>
                </a:lnTo>
                <a:lnTo>
                  <a:pt x="606" y="242"/>
                </a:lnTo>
                <a:lnTo>
                  <a:pt x="608" y="224"/>
                </a:lnTo>
                <a:lnTo>
                  <a:pt x="610" y="209"/>
                </a:lnTo>
                <a:lnTo>
                  <a:pt x="610" y="195"/>
                </a:lnTo>
                <a:lnTo>
                  <a:pt x="610" y="184"/>
                </a:lnTo>
                <a:lnTo>
                  <a:pt x="610" y="172"/>
                </a:lnTo>
                <a:lnTo>
                  <a:pt x="608" y="163"/>
                </a:lnTo>
                <a:lnTo>
                  <a:pt x="608" y="153"/>
                </a:lnTo>
                <a:lnTo>
                  <a:pt x="606" y="148"/>
                </a:lnTo>
                <a:lnTo>
                  <a:pt x="604" y="142"/>
                </a:lnTo>
                <a:lnTo>
                  <a:pt x="600" y="138"/>
                </a:lnTo>
                <a:lnTo>
                  <a:pt x="597" y="134"/>
                </a:lnTo>
                <a:lnTo>
                  <a:pt x="595" y="134"/>
                </a:lnTo>
                <a:lnTo>
                  <a:pt x="591" y="132"/>
                </a:lnTo>
                <a:lnTo>
                  <a:pt x="587" y="132"/>
                </a:lnTo>
                <a:lnTo>
                  <a:pt x="581" y="132"/>
                </a:lnTo>
                <a:lnTo>
                  <a:pt x="575" y="132"/>
                </a:lnTo>
                <a:lnTo>
                  <a:pt x="568" y="132"/>
                </a:lnTo>
                <a:lnTo>
                  <a:pt x="560" y="134"/>
                </a:lnTo>
                <a:lnTo>
                  <a:pt x="551" y="134"/>
                </a:lnTo>
                <a:lnTo>
                  <a:pt x="539" y="136"/>
                </a:lnTo>
                <a:lnTo>
                  <a:pt x="528" y="136"/>
                </a:lnTo>
                <a:lnTo>
                  <a:pt x="514" y="138"/>
                </a:lnTo>
                <a:lnTo>
                  <a:pt x="501" y="140"/>
                </a:lnTo>
                <a:lnTo>
                  <a:pt x="485" y="142"/>
                </a:lnTo>
                <a:lnTo>
                  <a:pt x="470" y="144"/>
                </a:lnTo>
                <a:lnTo>
                  <a:pt x="453" y="148"/>
                </a:lnTo>
                <a:lnTo>
                  <a:pt x="435" y="149"/>
                </a:lnTo>
                <a:lnTo>
                  <a:pt x="416" y="153"/>
                </a:lnTo>
                <a:lnTo>
                  <a:pt x="395" y="155"/>
                </a:lnTo>
                <a:lnTo>
                  <a:pt x="374" y="159"/>
                </a:lnTo>
                <a:lnTo>
                  <a:pt x="353" y="163"/>
                </a:lnTo>
                <a:lnTo>
                  <a:pt x="328" y="167"/>
                </a:lnTo>
                <a:lnTo>
                  <a:pt x="305" y="172"/>
                </a:lnTo>
                <a:lnTo>
                  <a:pt x="278" y="176"/>
                </a:lnTo>
                <a:lnTo>
                  <a:pt x="253" y="180"/>
                </a:lnTo>
                <a:lnTo>
                  <a:pt x="224" y="186"/>
                </a:lnTo>
                <a:lnTo>
                  <a:pt x="196" y="192"/>
                </a:lnTo>
                <a:lnTo>
                  <a:pt x="167" y="197"/>
                </a:lnTo>
                <a:lnTo>
                  <a:pt x="134" y="203"/>
                </a:lnTo>
                <a:lnTo>
                  <a:pt x="103" y="209"/>
                </a:lnTo>
                <a:lnTo>
                  <a:pt x="71" y="215"/>
                </a:lnTo>
                <a:lnTo>
                  <a:pt x="36" y="222"/>
                </a:lnTo>
                <a:lnTo>
                  <a:pt x="0" y="228"/>
                </a:lnTo>
                <a:lnTo>
                  <a:pt x="0" y="14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Freeform 73"/>
          <p:cNvSpPr/>
          <p:nvPr/>
        </p:nvSpPr>
        <p:spPr>
          <a:xfrm>
            <a:off x="2816280" y="2508120"/>
            <a:ext cx="353880" cy="125640"/>
          </a:xfrm>
          <a:custGeom>
            <a:avLst/>
            <a:gdLst>
              <a:gd name="textAreaLeft" fmla="*/ 0 w 353880"/>
              <a:gd name="textAreaRight" fmla="*/ 354240 w 3538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47" h="157">
                <a:moveTo>
                  <a:pt x="0" y="84"/>
                </a:moveTo>
                <a:lnTo>
                  <a:pt x="30" y="79"/>
                </a:lnTo>
                <a:lnTo>
                  <a:pt x="61" y="75"/>
                </a:lnTo>
                <a:lnTo>
                  <a:pt x="90" y="69"/>
                </a:lnTo>
                <a:lnTo>
                  <a:pt x="119" y="61"/>
                </a:lnTo>
                <a:lnTo>
                  <a:pt x="146" y="56"/>
                </a:lnTo>
                <a:lnTo>
                  <a:pt x="172" y="48"/>
                </a:lnTo>
                <a:lnTo>
                  <a:pt x="197" y="40"/>
                </a:lnTo>
                <a:lnTo>
                  <a:pt x="222" y="33"/>
                </a:lnTo>
                <a:lnTo>
                  <a:pt x="247" y="25"/>
                </a:lnTo>
                <a:lnTo>
                  <a:pt x="270" y="17"/>
                </a:lnTo>
                <a:lnTo>
                  <a:pt x="291" y="13"/>
                </a:lnTo>
                <a:lnTo>
                  <a:pt x="314" y="8"/>
                </a:lnTo>
                <a:lnTo>
                  <a:pt x="334" y="6"/>
                </a:lnTo>
                <a:lnTo>
                  <a:pt x="355" y="2"/>
                </a:lnTo>
                <a:lnTo>
                  <a:pt x="372" y="2"/>
                </a:lnTo>
                <a:lnTo>
                  <a:pt x="391" y="0"/>
                </a:lnTo>
                <a:lnTo>
                  <a:pt x="405" y="4"/>
                </a:lnTo>
                <a:lnTo>
                  <a:pt x="414" y="8"/>
                </a:lnTo>
                <a:lnTo>
                  <a:pt x="426" y="13"/>
                </a:lnTo>
                <a:lnTo>
                  <a:pt x="433" y="17"/>
                </a:lnTo>
                <a:lnTo>
                  <a:pt x="439" y="23"/>
                </a:lnTo>
                <a:lnTo>
                  <a:pt x="443" y="29"/>
                </a:lnTo>
                <a:lnTo>
                  <a:pt x="445" y="34"/>
                </a:lnTo>
                <a:lnTo>
                  <a:pt x="447" y="42"/>
                </a:lnTo>
                <a:lnTo>
                  <a:pt x="447" y="44"/>
                </a:lnTo>
                <a:lnTo>
                  <a:pt x="445" y="46"/>
                </a:lnTo>
                <a:lnTo>
                  <a:pt x="443" y="48"/>
                </a:lnTo>
                <a:lnTo>
                  <a:pt x="439" y="52"/>
                </a:lnTo>
                <a:lnTo>
                  <a:pt x="435" y="54"/>
                </a:lnTo>
                <a:lnTo>
                  <a:pt x="432" y="56"/>
                </a:lnTo>
                <a:lnTo>
                  <a:pt x="426" y="59"/>
                </a:lnTo>
                <a:lnTo>
                  <a:pt x="418" y="61"/>
                </a:lnTo>
                <a:lnTo>
                  <a:pt x="410" y="63"/>
                </a:lnTo>
                <a:lnTo>
                  <a:pt x="403" y="67"/>
                </a:lnTo>
                <a:lnTo>
                  <a:pt x="393" y="71"/>
                </a:lnTo>
                <a:lnTo>
                  <a:pt x="384" y="73"/>
                </a:lnTo>
                <a:lnTo>
                  <a:pt x="372" y="77"/>
                </a:lnTo>
                <a:lnTo>
                  <a:pt x="361" y="81"/>
                </a:lnTo>
                <a:lnTo>
                  <a:pt x="349" y="84"/>
                </a:lnTo>
                <a:lnTo>
                  <a:pt x="336" y="88"/>
                </a:lnTo>
                <a:lnTo>
                  <a:pt x="320" y="90"/>
                </a:lnTo>
                <a:lnTo>
                  <a:pt x="305" y="94"/>
                </a:lnTo>
                <a:lnTo>
                  <a:pt x="290" y="98"/>
                </a:lnTo>
                <a:lnTo>
                  <a:pt x="272" y="102"/>
                </a:lnTo>
                <a:lnTo>
                  <a:pt x="253" y="107"/>
                </a:lnTo>
                <a:lnTo>
                  <a:pt x="236" y="111"/>
                </a:lnTo>
                <a:lnTo>
                  <a:pt x="215" y="115"/>
                </a:lnTo>
                <a:lnTo>
                  <a:pt x="195" y="119"/>
                </a:lnTo>
                <a:lnTo>
                  <a:pt x="172" y="123"/>
                </a:lnTo>
                <a:lnTo>
                  <a:pt x="151" y="129"/>
                </a:lnTo>
                <a:lnTo>
                  <a:pt x="128" y="132"/>
                </a:lnTo>
                <a:lnTo>
                  <a:pt x="103" y="138"/>
                </a:lnTo>
                <a:lnTo>
                  <a:pt x="78" y="142"/>
                </a:lnTo>
                <a:lnTo>
                  <a:pt x="53" y="148"/>
                </a:lnTo>
                <a:lnTo>
                  <a:pt x="27" y="152"/>
                </a:lnTo>
                <a:lnTo>
                  <a:pt x="0" y="157"/>
                </a:lnTo>
                <a:lnTo>
                  <a:pt x="0" y="8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Freeform 74"/>
          <p:cNvSpPr/>
          <p:nvPr/>
        </p:nvSpPr>
        <p:spPr>
          <a:xfrm>
            <a:off x="2874960" y="2690640"/>
            <a:ext cx="376200" cy="115920"/>
          </a:xfrm>
          <a:custGeom>
            <a:avLst/>
            <a:gdLst>
              <a:gd name="textAreaLeft" fmla="*/ 0 w 376200"/>
              <a:gd name="textAreaRight" fmla="*/ 376560 w 3762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74" h="146">
                <a:moveTo>
                  <a:pt x="474" y="73"/>
                </a:moveTo>
                <a:lnTo>
                  <a:pt x="451" y="75"/>
                </a:lnTo>
                <a:lnTo>
                  <a:pt x="428" y="77"/>
                </a:lnTo>
                <a:lnTo>
                  <a:pt x="403" y="79"/>
                </a:lnTo>
                <a:lnTo>
                  <a:pt x="376" y="83"/>
                </a:lnTo>
                <a:lnTo>
                  <a:pt x="349" y="87"/>
                </a:lnTo>
                <a:lnTo>
                  <a:pt x="322" y="88"/>
                </a:lnTo>
                <a:lnTo>
                  <a:pt x="293" y="92"/>
                </a:lnTo>
                <a:lnTo>
                  <a:pt x="264" y="98"/>
                </a:lnTo>
                <a:lnTo>
                  <a:pt x="234" y="102"/>
                </a:lnTo>
                <a:lnTo>
                  <a:pt x="203" y="106"/>
                </a:lnTo>
                <a:lnTo>
                  <a:pt x="170" y="112"/>
                </a:lnTo>
                <a:lnTo>
                  <a:pt x="138" y="117"/>
                </a:lnTo>
                <a:lnTo>
                  <a:pt x="105" y="125"/>
                </a:lnTo>
                <a:lnTo>
                  <a:pt x="71" y="131"/>
                </a:lnTo>
                <a:lnTo>
                  <a:pt x="34" y="138"/>
                </a:lnTo>
                <a:lnTo>
                  <a:pt x="0" y="146"/>
                </a:lnTo>
                <a:lnTo>
                  <a:pt x="0" y="62"/>
                </a:lnTo>
                <a:lnTo>
                  <a:pt x="3" y="62"/>
                </a:lnTo>
                <a:lnTo>
                  <a:pt x="11" y="62"/>
                </a:lnTo>
                <a:lnTo>
                  <a:pt x="17" y="62"/>
                </a:lnTo>
                <a:lnTo>
                  <a:pt x="25" y="60"/>
                </a:lnTo>
                <a:lnTo>
                  <a:pt x="32" y="60"/>
                </a:lnTo>
                <a:lnTo>
                  <a:pt x="42" y="58"/>
                </a:lnTo>
                <a:lnTo>
                  <a:pt x="49" y="56"/>
                </a:lnTo>
                <a:lnTo>
                  <a:pt x="59" y="54"/>
                </a:lnTo>
                <a:lnTo>
                  <a:pt x="80" y="50"/>
                </a:lnTo>
                <a:lnTo>
                  <a:pt x="101" y="44"/>
                </a:lnTo>
                <a:lnTo>
                  <a:pt x="124" y="39"/>
                </a:lnTo>
                <a:lnTo>
                  <a:pt x="147" y="31"/>
                </a:lnTo>
                <a:lnTo>
                  <a:pt x="161" y="29"/>
                </a:lnTo>
                <a:lnTo>
                  <a:pt x="174" y="27"/>
                </a:lnTo>
                <a:lnTo>
                  <a:pt x="190" y="25"/>
                </a:lnTo>
                <a:lnTo>
                  <a:pt x="205" y="23"/>
                </a:lnTo>
                <a:lnTo>
                  <a:pt x="222" y="21"/>
                </a:lnTo>
                <a:lnTo>
                  <a:pt x="241" y="19"/>
                </a:lnTo>
                <a:lnTo>
                  <a:pt x="259" y="17"/>
                </a:lnTo>
                <a:lnTo>
                  <a:pt x="280" y="16"/>
                </a:lnTo>
                <a:lnTo>
                  <a:pt x="301" y="14"/>
                </a:lnTo>
                <a:lnTo>
                  <a:pt x="322" y="12"/>
                </a:lnTo>
                <a:lnTo>
                  <a:pt x="345" y="10"/>
                </a:lnTo>
                <a:lnTo>
                  <a:pt x="370" y="8"/>
                </a:lnTo>
                <a:lnTo>
                  <a:pt x="395" y="6"/>
                </a:lnTo>
                <a:lnTo>
                  <a:pt x="420" y="4"/>
                </a:lnTo>
                <a:lnTo>
                  <a:pt x="447" y="2"/>
                </a:lnTo>
                <a:lnTo>
                  <a:pt x="474" y="0"/>
                </a:lnTo>
                <a:lnTo>
                  <a:pt x="474" y="7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Freeform 75"/>
          <p:cNvSpPr/>
          <p:nvPr/>
        </p:nvSpPr>
        <p:spPr>
          <a:xfrm>
            <a:off x="2697120" y="3154320"/>
            <a:ext cx="644400" cy="149400"/>
          </a:xfrm>
          <a:custGeom>
            <a:avLst/>
            <a:gdLst>
              <a:gd name="textAreaLeft" fmla="*/ 0 w 644400"/>
              <a:gd name="textAreaRight" fmla="*/ 644760 w 644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812" h="188">
                <a:moveTo>
                  <a:pt x="0" y="115"/>
                </a:moveTo>
                <a:lnTo>
                  <a:pt x="42" y="107"/>
                </a:lnTo>
                <a:lnTo>
                  <a:pt x="84" y="99"/>
                </a:lnTo>
                <a:lnTo>
                  <a:pt x="127" y="94"/>
                </a:lnTo>
                <a:lnTo>
                  <a:pt x="165" y="88"/>
                </a:lnTo>
                <a:lnTo>
                  <a:pt x="203" y="82"/>
                </a:lnTo>
                <a:lnTo>
                  <a:pt x="242" y="76"/>
                </a:lnTo>
                <a:lnTo>
                  <a:pt x="278" y="71"/>
                </a:lnTo>
                <a:lnTo>
                  <a:pt x="313" y="65"/>
                </a:lnTo>
                <a:lnTo>
                  <a:pt x="347" y="59"/>
                </a:lnTo>
                <a:lnTo>
                  <a:pt x="380" y="53"/>
                </a:lnTo>
                <a:lnTo>
                  <a:pt x="411" y="49"/>
                </a:lnTo>
                <a:lnTo>
                  <a:pt x="441" y="46"/>
                </a:lnTo>
                <a:lnTo>
                  <a:pt x="470" y="40"/>
                </a:lnTo>
                <a:lnTo>
                  <a:pt x="499" y="36"/>
                </a:lnTo>
                <a:lnTo>
                  <a:pt x="526" y="32"/>
                </a:lnTo>
                <a:lnTo>
                  <a:pt x="553" y="28"/>
                </a:lnTo>
                <a:lnTo>
                  <a:pt x="578" y="25"/>
                </a:lnTo>
                <a:lnTo>
                  <a:pt x="601" y="23"/>
                </a:lnTo>
                <a:lnTo>
                  <a:pt x="624" y="19"/>
                </a:lnTo>
                <a:lnTo>
                  <a:pt x="645" y="15"/>
                </a:lnTo>
                <a:lnTo>
                  <a:pt x="664" y="13"/>
                </a:lnTo>
                <a:lnTo>
                  <a:pt x="683" y="11"/>
                </a:lnTo>
                <a:lnTo>
                  <a:pt x="702" y="9"/>
                </a:lnTo>
                <a:lnTo>
                  <a:pt x="718" y="7"/>
                </a:lnTo>
                <a:lnTo>
                  <a:pt x="733" y="5"/>
                </a:lnTo>
                <a:lnTo>
                  <a:pt x="748" y="3"/>
                </a:lnTo>
                <a:lnTo>
                  <a:pt x="762" y="2"/>
                </a:lnTo>
                <a:lnTo>
                  <a:pt x="773" y="2"/>
                </a:lnTo>
                <a:lnTo>
                  <a:pt x="785" y="0"/>
                </a:lnTo>
                <a:lnTo>
                  <a:pt x="795" y="0"/>
                </a:lnTo>
                <a:lnTo>
                  <a:pt x="804" y="0"/>
                </a:lnTo>
                <a:lnTo>
                  <a:pt x="812" y="0"/>
                </a:lnTo>
                <a:lnTo>
                  <a:pt x="812" y="61"/>
                </a:lnTo>
                <a:lnTo>
                  <a:pt x="783" y="65"/>
                </a:lnTo>
                <a:lnTo>
                  <a:pt x="754" y="69"/>
                </a:lnTo>
                <a:lnTo>
                  <a:pt x="724" y="74"/>
                </a:lnTo>
                <a:lnTo>
                  <a:pt x="693" y="78"/>
                </a:lnTo>
                <a:lnTo>
                  <a:pt x="660" y="82"/>
                </a:lnTo>
                <a:lnTo>
                  <a:pt x="628" y="86"/>
                </a:lnTo>
                <a:lnTo>
                  <a:pt x="593" y="90"/>
                </a:lnTo>
                <a:lnTo>
                  <a:pt x="560" y="94"/>
                </a:lnTo>
                <a:lnTo>
                  <a:pt x="551" y="96"/>
                </a:lnTo>
                <a:lnTo>
                  <a:pt x="541" y="97"/>
                </a:lnTo>
                <a:lnTo>
                  <a:pt x="532" y="99"/>
                </a:lnTo>
                <a:lnTo>
                  <a:pt x="520" y="101"/>
                </a:lnTo>
                <a:lnTo>
                  <a:pt x="509" y="103"/>
                </a:lnTo>
                <a:lnTo>
                  <a:pt x="497" y="105"/>
                </a:lnTo>
                <a:lnTo>
                  <a:pt x="486" y="109"/>
                </a:lnTo>
                <a:lnTo>
                  <a:pt x="472" y="111"/>
                </a:lnTo>
                <a:lnTo>
                  <a:pt x="459" y="113"/>
                </a:lnTo>
                <a:lnTo>
                  <a:pt x="445" y="115"/>
                </a:lnTo>
                <a:lnTo>
                  <a:pt x="430" y="119"/>
                </a:lnTo>
                <a:lnTo>
                  <a:pt x="416" y="120"/>
                </a:lnTo>
                <a:lnTo>
                  <a:pt x="401" y="124"/>
                </a:lnTo>
                <a:lnTo>
                  <a:pt x="384" y="126"/>
                </a:lnTo>
                <a:lnTo>
                  <a:pt x="369" y="128"/>
                </a:lnTo>
                <a:lnTo>
                  <a:pt x="351" y="132"/>
                </a:lnTo>
                <a:lnTo>
                  <a:pt x="334" y="134"/>
                </a:lnTo>
                <a:lnTo>
                  <a:pt x="315" y="138"/>
                </a:lnTo>
                <a:lnTo>
                  <a:pt x="298" y="142"/>
                </a:lnTo>
                <a:lnTo>
                  <a:pt x="278" y="144"/>
                </a:lnTo>
                <a:lnTo>
                  <a:pt x="257" y="147"/>
                </a:lnTo>
                <a:lnTo>
                  <a:pt x="238" y="151"/>
                </a:lnTo>
                <a:lnTo>
                  <a:pt x="217" y="153"/>
                </a:lnTo>
                <a:lnTo>
                  <a:pt x="196" y="157"/>
                </a:lnTo>
                <a:lnTo>
                  <a:pt x="175" y="161"/>
                </a:lnTo>
                <a:lnTo>
                  <a:pt x="152" y="165"/>
                </a:lnTo>
                <a:lnTo>
                  <a:pt x="131" y="168"/>
                </a:lnTo>
                <a:lnTo>
                  <a:pt x="108" y="172"/>
                </a:lnTo>
                <a:lnTo>
                  <a:pt x="83" y="174"/>
                </a:lnTo>
                <a:lnTo>
                  <a:pt x="60" y="178"/>
                </a:lnTo>
                <a:lnTo>
                  <a:pt x="35" y="182"/>
                </a:lnTo>
                <a:lnTo>
                  <a:pt x="10" y="188"/>
                </a:lnTo>
                <a:lnTo>
                  <a:pt x="4" y="151"/>
                </a:lnTo>
                <a:lnTo>
                  <a:pt x="0" y="11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8" name="Picture 78" descr=""/>
          <p:cNvPicPr/>
          <p:nvPr/>
        </p:nvPicPr>
        <p:blipFill>
          <a:blip r:embed="rId8"/>
          <a:srcRect l="0" t="0" r="-13785" b="59638"/>
          <a:stretch/>
        </p:blipFill>
        <p:spPr>
          <a:xfrm>
            <a:off x="2540160" y="3308400"/>
            <a:ext cx="888840" cy="272880"/>
          </a:xfrm>
          <a:prstGeom prst="rect">
            <a:avLst/>
          </a:prstGeom>
          <a:ln w="0">
            <a:noFill/>
          </a:ln>
        </p:spPr>
      </p:pic>
      <p:pic>
        <p:nvPicPr>
          <p:cNvPr id="4309" name="Picture 79" descr=""/>
          <p:cNvPicPr/>
          <p:nvPr/>
        </p:nvPicPr>
        <p:blipFill>
          <a:blip r:embed="rId9"/>
          <a:srcRect l="0" t="29127" r="-13785" b="-19223"/>
          <a:stretch/>
        </p:blipFill>
        <p:spPr>
          <a:xfrm>
            <a:off x="2540160" y="3505320"/>
            <a:ext cx="888840" cy="609480"/>
          </a:xfrm>
          <a:prstGeom prst="rect">
            <a:avLst/>
          </a:prstGeom>
          <a:ln w="0">
            <a:noFill/>
          </a:ln>
        </p:spPr>
      </p:pic>
      <p:sp>
        <p:nvSpPr>
          <p:cNvPr id="4310" name="Freeform 76"/>
          <p:cNvSpPr/>
          <p:nvPr/>
        </p:nvSpPr>
        <p:spPr>
          <a:xfrm>
            <a:off x="2792520" y="3549600"/>
            <a:ext cx="1015920" cy="514440"/>
          </a:xfrm>
          <a:custGeom>
            <a:avLst/>
            <a:gdLst/>
            <a:ahLst/>
            <a:rect l="l" t="t" r="r" b="b"/>
            <a:pathLst>
              <a:path w="1278" h="646">
                <a:moveTo>
                  <a:pt x="952" y="637"/>
                </a:moveTo>
                <a:lnTo>
                  <a:pt x="931" y="639"/>
                </a:lnTo>
                <a:lnTo>
                  <a:pt x="913" y="642"/>
                </a:lnTo>
                <a:lnTo>
                  <a:pt x="896" y="644"/>
                </a:lnTo>
                <a:lnTo>
                  <a:pt x="881" y="644"/>
                </a:lnTo>
                <a:lnTo>
                  <a:pt x="867" y="646"/>
                </a:lnTo>
                <a:lnTo>
                  <a:pt x="856" y="646"/>
                </a:lnTo>
                <a:lnTo>
                  <a:pt x="846" y="646"/>
                </a:lnTo>
                <a:lnTo>
                  <a:pt x="839" y="646"/>
                </a:lnTo>
                <a:lnTo>
                  <a:pt x="829" y="642"/>
                </a:lnTo>
                <a:lnTo>
                  <a:pt x="816" y="637"/>
                </a:lnTo>
                <a:lnTo>
                  <a:pt x="804" y="631"/>
                </a:lnTo>
                <a:lnTo>
                  <a:pt x="789" y="623"/>
                </a:lnTo>
                <a:lnTo>
                  <a:pt x="773" y="616"/>
                </a:lnTo>
                <a:lnTo>
                  <a:pt x="756" y="606"/>
                </a:lnTo>
                <a:lnTo>
                  <a:pt x="739" y="594"/>
                </a:lnTo>
                <a:lnTo>
                  <a:pt x="718" y="585"/>
                </a:lnTo>
                <a:lnTo>
                  <a:pt x="697" y="568"/>
                </a:lnTo>
                <a:lnTo>
                  <a:pt x="674" y="548"/>
                </a:lnTo>
                <a:lnTo>
                  <a:pt x="651" y="529"/>
                </a:lnTo>
                <a:lnTo>
                  <a:pt x="626" y="508"/>
                </a:lnTo>
                <a:lnTo>
                  <a:pt x="601" y="483"/>
                </a:lnTo>
                <a:lnTo>
                  <a:pt x="572" y="460"/>
                </a:lnTo>
                <a:lnTo>
                  <a:pt x="543" y="433"/>
                </a:lnTo>
                <a:lnTo>
                  <a:pt x="512" y="406"/>
                </a:lnTo>
                <a:lnTo>
                  <a:pt x="505" y="399"/>
                </a:lnTo>
                <a:lnTo>
                  <a:pt x="497" y="393"/>
                </a:lnTo>
                <a:lnTo>
                  <a:pt x="487" y="385"/>
                </a:lnTo>
                <a:lnTo>
                  <a:pt x="478" y="378"/>
                </a:lnTo>
                <a:lnTo>
                  <a:pt x="466" y="368"/>
                </a:lnTo>
                <a:lnTo>
                  <a:pt x="457" y="360"/>
                </a:lnTo>
                <a:lnTo>
                  <a:pt x="445" y="351"/>
                </a:lnTo>
                <a:lnTo>
                  <a:pt x="434" y="343"/>
                </a:lnTo>
                <a:lnTo>
                  <a:pt x="420" y="333"/>
                </a:lnTo>
                <a:lnTo>
                  <a:pt x="407" y="324"/>
                </a:lnTo>
                <a:lnTo>
                  <a:pt x="393" y="312"/>
                </a:lnTo>
                <a:lnTo>
                  <a:pt x="380" y="303"/>
                </a:lnTo>
                <a:lnTo>
                  <a:pt x="366" y="293"/>
                </a:lnTo>
                <a:lnTo>
                  <a:pt x="351" y="282"/>
                </a:lnTo>
                <a:lnTo>
                  <a:pt x="336" y="270"/>
                </a:lnTo>
                <a:lnTo>
                  <a:pt x="319" y="259"/>
                </a:lnTo>
                <a:lnTo>
                  <a:pt x="303" y="247"/>
                </a:lnTo>
                <a:lnTo>
                  <a:pt x="286" y="236"/>
                </a:lnTo>
                <a:lnTo>
                  <a:pt x="251" y="211"/>
                </a:lnTo>
                <a:lnTo>
                  <a:pt x="213" y="184"/>
                </a:lnTo>
                <a:lnTo>
                  <a:pt x="175" y="155"/>
                </a:lnTo>
                <a:lnTo>
                  <a:pt x="132" y="126"/>
                </a:lnTo>
                <a:lnTo>
                  <a:pt x="90" y="95"/>
                </a:lnTo>
                <a:lnTo>
                  <a:pt x="46" y="65"/>
                </a:lnTo>
                <a:lnTo>
                  <a:pt x="0" y="32"/>
                </a:lnTo>
                <a:lnTo>
                  <a:pt x="8" y="24"/>
                </a:lnTo>
                <a:lnTo>
                  <a:pt x="13" y="19"/>
                </a:lnTo>
                <a:lnTo>
                  <a:pt x="21" y="13"/>
                </a:lnTo>
                <a:lnTo>
                  <a:pt x="29" y="7"/>
                </a:lnTo>
                <a:lnTo>
                  <a:pt x="36" y="5"/>
                </a:lnTo>
                <a:lnTo>
                  <a:pt x="46" y="1"/>
                </a:lnTo>
                <a:lnTo>
                  <a:pt x="56" y="1"/>
                </a:lnTo>
                <a:lnTo>
                  <a:pt x="65" y="0"/>
                </a:lnTo>
                <a:lnTo>
                  <a:pt x="71" y="1"/>
                </a:lnTo>
                <a:lnTo>
                  <a:pt x="79" y="1"/>
                </a:lnTo>
                <a:lnTo>
                  <a:pt x="86" y="5"/>
                </a:lnTo>
                <a:lnTo>
                  <a:pt x="96" y="7"/>
                </a:lnTo>
                <a:lnTo>
                  <a:pt x="105" y="13"/>
                </a:lnTo>
                <a:lnTo>
                  <a:pt x="117" y="17"/>
                </a:lnTo>
                <a:lnTo>
                  <a:pt x="130" y="24"/>
                </a:lnTo>
                <a:lnTo>
                  <a:pt x="144" y="30"/>
                </a:lnTo>
                <a:lnTo>
                  <a:pt x="159" y="40"/>
                </a:lnTo>
                <a:lnTo>
                  <a:pt x="175" y="49"/>
                </a:lnTo>
                <a:lnTo>
                  <a:pt x="192" y="59"/>
                </a:lnTo>
                <a:lnTo>
                  <a:pt x="211" y="71"/>
                </a:lnTo>
                <a:lnTo>
                  <a:pt x="232" y="82"/>
                </a:lnTo>
                <a:lnTo>
                  <a:pt x="253" y="95"/>
                </a:lnTo>
                <a:lnTo>
                  <a:pt x="274" y="111"/>
                </a:lnTo>
                <a:lnTo>
                  <a:pt x="299" y="126"/>
                </a:lnTo>
                <a:lnTo>
                  <a:pt x="343" y="157"/>
                </a:lnTo>
                <a:lnTo>
                  <a:pt x="391" y="186"/>
                </a:lnTo>
                <a:lnTo>
                  <a:pt x="437" y="214"/>
                </a:lnTo>
                <a:lnTo>
                  <a:pt x="485" y="241"/>
                </a:lnTo>
                <a:lnTo>
                  <a:pt x="532" y="266"/>
                </a:lnTo>
                <a:lnTo>
                  <a:pt x="580" y="291"/>
                </a:lnTo>
                <a:lnTo>
                  <a:pt x="626" y="312"/>
                </a:lnTo>
                <a:lnTo>
                  <a:pt x="672" y="333"/>
                </a:lnTo>
                <a:lnTo>
                  <a:pt x="718" y="353"/>
                </a:lnTo>
                <a:lnTo>
                  <a:pt x="766" y="372"/>
                </a:lnTo>
                <a:lnTo>
                  <a:pt x="814" y="391"/>
                </a:lnTo>
                <a:lnTo>
                  <a:pt x="865" y="410"/>
                </a:lnTo>
                <a:lnTo>
                  <a:pt x="915" y="426"/>
                </a:lnTo>
                <a:lnTo>
                  <a:pt x="967" y="443"/>
                </a:lnTo>
                <a:lnTo>
                  <a:pt x="1019" y="456"/>
                </a:lnTo>
                <a:lnTo>
                  <a:pt x="1073" y="470"/>
                </a:lnTo>
                <a:lnTo>
                  <a:pt x="1098" y="475"/>
                </a:lnTo>
                <a:lnTo>
                  <a:pt x="1121" y="481"/>
                </a:lnTo>
                <a:lnTo>
                  <a:pt x="1144" y="487"/>
                </a:lnTo>
                <a:lnTo>
                  <a:pt x="1163" y="493"/>
                </a:lnTo>
                <a:lnTo>
                  <a:pt x="1182" y="498"/>
                </a:lnTo>
                <a:lnTo>
                  <a:pt x="1199" y="504"/>
                </a:lnTo>
                <a:lnTo>
                  <a:pt x="1215" y="508"/>
                </a:lnTo>
                <a:lnTo>
                  <a:pt x="1228" y="514"/>
                </a:lnTo>
                <a:lnTo>
                  <a:pt x="1240" y="518"/>
                </a:lnTo>
                <a:lnTo>
                  <a:pt x="1249" y="523"/>
                </a:lnTo>
                <a:lnTo>
                  <a:pt x="1259" y="527"/>
                </a:lnTo>
                <a:lnTo>
                  <a:pt x="1265" y="531"/>
                </a:lnTo>
                <a:lnTo>
                  <a:pt x="1270" y="535"/>
                </a:lnTo>
                <a:lnTo>
                  <a:pt x="1274" y="537"/>
                </a:lnTo>
                <a:lnTo>
                  <a:pt x="1276" y="541"/>
                </a:lnTo>
                <a:lnTo>
                  <a:pt x="1278" y="543"/>
                </a:lnTo>
                <a:lnTo>
                  <a:pt x="1278" y="545"/>
                </a:lnTo>
                <a:lnTo>
                  <a:pt x="1276" y="546"/>
                </a:lnTo>
                <a:lnTo>
                  <a:pt x="1274" y="548"/>
                </a:lnTo>
                <a:lnTo>
                  <a:pt x="1270" y="552"/>
                </a:lnTo>
                <a:lnTo>
                  <a:pt x="1267" y="554"/>
                </a:lnTo>
                <a:lnTo>
                  <a:pt x="1261" y="558"/>
                </a:lnTo>
                <a:lnTo>
                  <a:pt x="1255" y="560"/>
                </a:lnTo>
                <a:lnTo>
                  <a:pt x="1249" y="564"/>
                </a:lnTo>
                <a:lnTo>
                  <a:pt x="1240" y="568"/>
                </a:lnTo>
                <a:lnTo>
                  <a:pt x="1232" y="571"/>
                </a:lnTo>
                <a:lnTo>
                  <a:pt x="1222" y="575"/>
                </a:lnTo>
                <a:lnTo>
                  <a:pt x="1211" y="579"/>
                </a:lnTo>
                <a:lnTo>
                  <a:pt x="1199" y="583"/>
                </a:lnTo>
                <a:lnTo>
                  <a:pt x="1186" y="587"/>
                </a:lnTo>
                <a:lnTo>
                  <a:pt x="1171" y="591"/>
                </a:lnTo>
                <a:lnTo>
                  <a:pt x="1157" y="594"/>
                </a:lnTo>
                <a:lnTo>
                  <a:pt x="1126" y="602"/>
                </a:lnTo>
                <a:lnTo>
                  <a:pt x="1098" y="608"/>
                </a:lnTo>
                <a:lnTo>
                  <a:pt x="1069" y="614"/>
                </a:lnTo>
                <a:lnTo>
                  <a:pt x="1044" y="619"/>
                </a:lnTo>
                <a:lnTo>
                  <a:pt x="1019" y="623"/>
                </a:lnTo>
                <a:lnTo>
                  <a:pt x="994" y="627"/>
                </a:lnTo>
                <a:lnTo>
                  <a:pt x="973" y="633"/>
                </a:lnTo>
                <a:lnTo>
                  <a:pt x="952" y="63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1" name="Picture 9" descr="圣诞树6"/>
          <p:cNvPicPr/>
          <p:nvPr/>
        </p:nvPicPr>
        <p:blipFill>
          <a:blip r:embed="rId10"/>
          <a:stretch/>
        </p:blipFill>
        <p:spPr>
          <a:xfrm>
            <a:off x="7812000" y="5288040"/>
            <a:ext cx="1143000" cy="156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262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4262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4263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4263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261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4261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426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426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274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274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4275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427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1000"/>
                                        <p:tgtEl>
                                          <p:spTgt spid="4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300"/>
                            </p:stCondLst>
                            <p:childTnLst>
                              <p:par>
                                <p:cTn id="484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10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600"/>
                            </p:stCondLst>
                            <p:childTnLst>
                              <p:par>
                                <p:cTn id="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1000"/>
                                        <p:tgtEl>
                                          <p:spTgt spid="4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600"/>
                            </p:stCondLst>
                            <p:childTnLst>
                              <p:par>
                                <p:cTn id="492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4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9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10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200"/>
                            </p:stCondLst>
                            <p:childTnLst>
                              <p:par>
                                <p:cTn id="500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2" dur="1000"/>
                                        <p:tgtEl>
                                          <p:spTgt spid="4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500"/>
                            </p:stCondLst>
                            <p:childTnLst>
                              <p:par>
                                <p:cTn id="504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4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8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4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100"/>
                            </p:stCondLst>
                            <p:childTnLst>
                              <p:par>
                                <p:cTn id="512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1000"/>
                                        <p:tgtEl>
                                          <p:spTgt spid="4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400"/>
                            </p:stCondLst>
                            <p:childTnLst>
                              <p:par>
                                <p:cTn id="516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1000"/>
                                        <p:tgtEl>
                                          <p:spTgt spid="4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700"/>
                            </p:stCondLst>
                            <p:childTnLst>
                              <p:par>
                                <p:cTn id="52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10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4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6" dur="1000"/>
                                        <p:tgtEl>
                                          <p:spTgt spid="4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300"/>
                            </p:stCondLst>
                            <p:childTnLst>
                              <p:par>
                                <p:cTn id="528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1000"/>
                                        <p:tgtEl>
                                          <p:spTgt spid="4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1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1000"/>
                                        <p:tgtEl>
                                          <p:spTgt spid="4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72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1000"/>
                                        <p:tgtEl>
                                          <p:spTgt spid="4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2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13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314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15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16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317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318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Text Box 12"/>
          <p:cNvSpPr/>
          <p:nvPr/>
        </p:nvSpPr>
        <p:spPr>
          <a:xfrm>
            <a:off x="4572000" y="2438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Text Box 13"/>
          <p:cNvSpPr/>
          <p:nvPr/>
        </p:nvSpPr>
        <p:spPr>
          <a:xfrm>
            <a:off x="4572000" y="3200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败 败坏 败退 败火 反败为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Text Box 14"/>
          <p:cNvSpPr/>
          <p:nvPr/>
        </p:nvSpPr>
        <p:spPr>
          <a:xfrm>
            <a:off x="457200" y="4876920"/>
            <a:ext cx="838188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败是成功之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5" name="Group 15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326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9" name="Picture 19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330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Text Box 28"/>
          <p:cNvSpPr/>
          <p:nvPr/>
        </p:nvSpPr>
        <p:spPr>
          <a:xfrm>
            <a:off x="1981080" y="990720"/>
            <a:ext cx="31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bà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Freeform 63"/>
          <p:cNvSpPr/>
          <p:nvPr/>
        </p:nvSpPr>
        <p:spPr>
          <a:xfrm>
            <a:off x="2000160" y="2814480"/>
            <a:ext cx="511200" cy="128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1287720"/>
              <a:gd name="textAreaBottom" fmla="*/ 1287720 h 1287720"/>
            </a:gdLst>
            <a:ahLst/>
            <a:rect l="textAreaLeft" t="textAreaTop" r="textAreaRight" b="textAreaBottom"/>
            <a:pathLst>
              <a:path w="643" h="1622">
                <a:moveTo>
                  <a:pt x="439" y="27"/>
                </a:moveTo>
                <a:lnTo>
                  <a:pt x="443" y="19"/>
                </a:lnTo>
                <a:lnTo>
                  <a:pt x="449" y="11"/>
                </a:lnTo>
                <a:lnTo>
                  <a:pt x="457" y="6"/>
                </a:lnTo>
                <a:lnTo>
                  <a:pt x="466" y="2"/>
                </a:lnTo>
                <a:lnTo>
                  <a:pt x="476" y="0"/>
                </a:lnTo>
                <a:lnTo>
                  <a:pt x="482" y="0"/>
                </a:lnTo>
                <a:lnTo>
                  <a:pt x="487" y="0"/>
                </a:lnTo>
                <a:lnTo>
                  <a:pt x="495" y="0"/>
                </a:lnTo>
                <a:lnTo>
                  <a:pt x="501" y="0"/>
                </a:lnTo>
                <a:lnTo>
                  <a:pt x="509" y="2"/>
                </a:lnTo>
                <a:lnTo>
                  <a:pt x="514" y="4"/>
                </a:lnTo>
                <a:lnTo>
                  <a:pt x="528" y="8"/>
                </a:lnTo>
                <a:lnTo>
                  <a:pt x="541" y="13"/>
                </a:lnTo>
                <a:lnTo>
                  <a:pt x="555" y="17"/>
                </a:lnTo>
                <a:lnTo>
                  <a:pt x="566" y="21"/>
                </a:lnTo>
                <a:lnTo>
                  <a:pt x="589" y="31"/>
                </a:lnTo>
                <a:lnTo>
                  <a:pt x="610" y="38"/>
                </a:lnTo>
                <a:lnTo>
                  <a:pt x="616" y="44"/>
                </a:lnTo>
                <a:lnTo>
                  <a:pt x="620" y="50"/>
                </a:lnTo>
                <a:lnTo>
                  <a:pt x="624" y="57"/>
                </a:lnTo>
                <a:lnTo>
                  <a:pt x="628" y="65"/>
                </a:lnTo>
                <a:lnTo>
                  <a:pt x="631" y="75"/>
                </a:lnTo>
                <a:lnTo>
                  <a:pt x="633" y="86"/>
                </a:lnTo>
                <a:lnTo>
                  <a:pt x="637" y="98"/>
                </a:lnTo>
                <a:lnTo>
                  <a:pt x="639" y="109"/>
                </a:lnTo>
                <a:lnTo>
                  <a:pt x="639" y="125"/>
                </a:lnTo>
                <a:lnTo>
                  <a:pt x="641" y="140"/>
                </a:lnTo>
                <a:lnTo>
                  <a:pt x="641" y="157"/>
                </a:lnTo>
                <a:lnTo>
                  <a:pt x="643" y="175"/>
                </a:lnTo>
                <a:lnTo>
                  <a:pt x="641" y="194"/>
                </a:lnTo>
                <a:lnTo>
                  <a:pt x="641" y="215"/>
                </a:lnTo>
                <a:lnTo>
                  <a:pt x="641" y="236"/>
                </a:lnTo>
                <a:lnTo>
                  <a:pt x="639" y="259"/>
                </a:lnTo>
                <a:lnTo>
                  <a:pt x="637" y="284"/>
                </a:lnTo>
                <a:lnTo>
                  <a:pt x="635" y="309"/>
                </a:lnTo>
                <a:lnTo>
                  <a:pt x="633" y="334"/>
                </a:lnTo>
                <a:lnTo>
                  <a:pt x="631" y="361"/>
                </a:lnTo>
                <a:lnTo>
                  <a:pt x="629" y="386"/>
                </a:lnTo>
                <a:lnTo>
                  <a:pt x="628" y="414"/>
                </a:lnTo>
                <a:lnTo>
                  <a:pt x="624" y="441"/>
                </a:lnTo>
                <a:lnTo>
                  <a:pt x="622" y="470"/>
                </a:lnTo>
                <a:lnTo>
                  <a:pt x="620" y="497"/>
                </a:lnTo>
                <a:lnTo>
                  <a:pt x="616" y="528"/>
                </a:lnTo>
                <a:lnTo>
                  <a:pt x="612" y="556"/>
                </a:lnTo>
                <a:lnTo>
                  <a:pt x="608" y="587"/>
                </a:lnTo>
                <a:lnTo>
                  <a:pt x="604" y="618"/>
                </a:lnTo>
                <a:lnTo>
                  <a:pt x="601" y="649"/>
                </a:lnTo>
                <a:lnTo>
                  <a:pt x="597" y="681"/>
                </a:lnTo>
                <a:lnTo>
                  <a:pt x="591" y="714"/>
                </a:lnTo>
                <a:lnTo>
                  <a:pt x="585" y="746"/>
                </a:lnTo>
                <a:lnTo>
                  <a:pt x="580" y="779"/>
                </a:lnTo>
                <a:lnTo>
                  <a:pt x="574" y="810"/>
                </a:lnTo>
                <a:lnTo>
                  <a:pt x="566" y="842"/>
                </a:lnTo>
                <a:lnTo>
                  <a:pt x="551" y="904"/>
                </a:lnTo>
                <a:lnTo>
                  <a:pt x="543" y="935"/>
                </a:lnTo>
                <a:lnTo>
                  <a:pt x="533" y="963"/>
                </a:lnTo>
                <a:lnTo>
                  <a:pt x="524" y="992"/>
                </a:lnTo>
                <a:lnTo>
                  <a:pt x="514" y="1021"/>
                </a:lnTo>
                <a:lnTo>
                  <a:pt x="505" y="1050"/>
                </a:lnTo>
                <a:lnTo>
                  <a:pt x="495" y="1077"/>
                </a:lnTo>
                <a:lnTo>
                  <a:pt x="484" y="1103"/>
                </a:lnTo>
                <a:lnTo>
                  <a:pt x="472" y="1128"/>
                </a:lnTo>
                <a:lnTo>
                  <a:pt x="461" y="1155"/>
                </a:lnTo>
                <a:lnTo>
                  <a:pt x="449" y="1178"/>
                </a:lnTo>
                <a:lnTo>
                  <a:pt x="434" y="1205"/>
                </a:lnTo>
                <a:lnTo>
                  <a:pt x="420" y="1230"/>
                </a:lnTo>
                <a:lnTo>
                  <a:pt x="405" y="1253"/>
                </a:lnTo>
                <a:lnTo>
                  <a:pt x="390" y="1278"/>
                </a:lnTo>
                <a:lnTo>
                  <a:pt x="374" y="1299"/>
                </a:lnTo>
                <a:lnTo>
                  <a:pt x="359" y="1322"/>
                </a:lnTo>
                <a:lnTo>
                  <a:pt x="343" y="1343"/>
                </a:lnTo>
                <a:lnTo>
                  <a:pt x="326" y="1362"/>
                </a:lnTo>
                <a:lnTo>
                  <a:pt x="311" y="1384"/>
                </a:lnTo>
                <a:lnTo>
                  <a:pt x="294" y="1403"/>
                </a:lnTo>
                <a:lnTo>
                  <a:pt x="278" y="1420"/>
                </a:lnTo>
                <a:lnTo>
                  <a:pt x="261" y="1439"/>
                </a:lnTo>
                <a:lnTo>
                  <a:pt x="244" y="1456"/>
                </a:lnTo>
                <a:lnTo>
                  <a:pt x="226" y="1472"/>
                </a:lnTo>
                <a:lnTo>
                  <a:pt x="209" y="1489"/>
                </a:lnTo>
                <a:lnTo>
                  <a:pt x="192" y="1504"/>
                </a:lnTo>
                <a:lnTo>
                  <a:pt x="173" y="1520"/>
                </a:lnTo>
                <a:lnTo>
                  <a:pt x="153" y="1533"/>
                </a:lnTo>
                <a:lnTo>
                  <a:pt x="138" y="1545"/>
                </a:lnTo>
                <a:lnTo>
                  <a:pt x="121" y="1558"/>
                </a:lnTo>
                <a:lnTo>
                  <a:pt x="107" y="1568"/>
                </a:lnTo>
                <a:lnTo>
                  <a:pt x="94" y="1577"/>
                </a:lnTo>
                <a:lnTo>
                  <a:pt x="81" y="1585"/>
                </a:lnTo>
                <a:lnTo>
                  <a:pt x="69" y="1593"/>
                </a:lnTo>
                <a:lnTo>
                  <a:pt x="58" y="1600"/>
                </a:lnTo>
                <a:lnTo>
                  <a:pt x="48" y="1606"/>
                </a:lnTo>
                <a:lnTo>
                  <a:pt x="40" y="1610"/>
                </a:lnTo>
                <a:lnTo>
                  <a:pt x="33" y="1614"/>
                </a:lnTo>
                <a:lnTo>
                  <a:pt x="25" y="1618"/>
                </a:lnTo>
                <a:lnTo>
                  <a:pt x="19" y="1620"/>
                </a:lnTo>
                <a:lnTo>
                  <a:pt x="15" y="1620"/>
                </a:lnTo>
                <a:lnTo>
                  <a:pt x="10" y="1622"/>
                </a:lnTo>
                <a:lnTo>
                  <a:pt x="6" y="1620"/>
                </a:lnTo>
                <a:lnTo>
                  <a:pt x="2" y="1618"/>
                </a:lnTo>
                <a:lnTo>
                  <a:pt x="0" y="1616"/>
                </a:lnTo>
                <a:lnTo>
                  <a:pt x="0" y="1612"/>
                </a:lnTo>
                <a:lnTo>
                  <a:pt x="0" y="1608"/>
                </a:lnTo>
                <a:lnTo>
                  <a:pt x="2" y="1602"/>
                </a:lnTo>
                <a:lnTo>
                  <a:pt x="6" y="1595"/>
                </a:lnTo>
                <a:lnTo>
                  <a:pt x="10" y="1587"/>
                </a:lnTo>
                <a:lnTo>
                  <a:pt x="15" y="1579"/>
                </a:lnTo>
                <a:lnTo>
                  <a:pt x="21" y="1570"/>
                </a:lnTo>
                <a:lnTo>
                  <a:pt x="31" y="1558"/>
                </a:lnTo>
                <a:lnTo>
                  <a:pt x="38" y="1547"/>
                </a:lnTo>
                <a:lnTo>
                  <a:pt x="50" y="1535"/>
                </a:lnTo>
                <a:lnTo>
                  <a:pt x="61" y="1522"/>
                </a:lnTo>
                <a:lnTo>
                  <a:pt x="73" y="1508"/>
                </a:lnTo>
                <a:lnTo>
                  <a:pt x="86" y="1493"/>
                </a:lnTo>
                <a:lnTo>
                  <a:pt x="102" y="1478"/>
                </a:lnTo>
                <a:lnTo>
                  <a:pt x="115" y="1460"/>
                </a:lnTo>
                <a:lnTo>
                  <a:pt x="129" y="1445"/>
                </a:lnTo>
                <a:lnTo>
                  <a:pt x="144" y="1428"/>
                </a:lnTo>
                <a:lnTo>
                  <a:pt x="157" y="1409"/>
                </a:lnTo>
                <a:lnTo>
                  <a:pt x="173" y="1391"/>
                </a:lnTo>
                <a:lnTo>
                  <a:pt x="188" y="1372"/>
                </a:lnTo>
                <a:lnTo>
                  <a:pt x="201" y="1351"/>
                </a:lnTo>
                <a:lnTo>
                  <a:pt x="217" y="1332"/>
                </a:lnTo>
                <a:lnTo>
                  <a:pt x="232" y="1311"/>
                </a:lnTo>
                <a:lnTo>
                  <a:pt x="248" y="1288"/>
                </a:lnTo>
                <a:lnTo>
                  <a:pt x="263" y="1265"/>
                </a:lnTo>
                <a:lnTo>
                  <a:pt x="278" y="1242"/>
                </a:lnTo>
                <a:lnTo>
                  <a:pt x="294" y="1219"/>
                </a:lnTo>
                <a:lnTo>
                  <a:pt x="309" y="1194"/>
                </a:lnTo>
                <a:lnTo>
                  <a:pt x="324" y="1167"/>
                </a:lnTo>
                <a:lnTo>
                  <a:pt x="338" y="1140"/>
                </a:lnTo>
                <a:lnTo>
                  <a:pt x="351" y="1113"/>
                </a:lnTo>
                <a:lnTo>
                  <a:pt x="365" y="1086"/>
                </a:lnTo>
                <a:lnTo>
                  <a:pt x="376" y="1057"/>
                </a:lnTo>
                <a:lnTo>
                  <a:pt x="388" y="1029"/>
                </a:lnTo>
                <a:lnTo>
                  <a:pt x="399" y="1000"/>
                </a:lnTo>
                <a:lnTo>
                  <a:pt x="409" y="969"/>
                </a:lnTo>
                <a:lnTo>
                  <a:pt x="418" y="938"/>
                </a:lnTo>
                <a:lnTo>
                  <a:pt x="428" y="908"/>
                </a:lnTo>
                <a:lnTo>
                  <a:pt x="436" y="875"/>
                </a:lnTo>
                <a:lnTo>
                  <a:pt x="443" y="842"/>
                </a:lnTo>
                <a:lnTo>
                  <a:pt x="451" y="808"/>
                </a:lnTo>
                <a:lnTo>
                  <a:pt x="459" y="775"/>
                </a:lnTo>
                <a:lnTo>
                  <a:pt x="464" y="739"/>
                </a:lnTo>
                <a:lnTo>
                  <a:pt x="472" y="704"/>
                </a:lnTo>
                <a:lnTo>
                  <a:pt x="476" y="668"/>
                </a:lnTo>
                <a:lnTo>
                  <a:pt x="482" y="633"/>
                </a:lnTo>
                <a:lnTo>
                  <a:pt x="485" y="599"/>
                </a:lnTo>
                <a:lnTo>
                  <a:pt x="491" y="566"/>
                </a:lnTo>
                <a:lnTo>
                  <a:pt x="495" y="535"/>
                </a:lnTo>
                <a:lnTo>
                  <a:pt x="497" y="507"/>
                </a:lnTo>
                <a:lnTo>
                  <a:pt x="501" y="476"/>
                </a:lnTo>
                <a:lnTo>
                  <a:pt x="503" y="449"/>
                </a:lnTo>
                <a:lnTo>
                  <a:pt x="505" y="422"/>
                </a:lnTo>
                <a:lnTo>
                  <a:pt x="507" y="395"/>
                </a:lnTo>
                <a:lnTo>
                  <a:pt x="509" y="370"/>
                </a:lnTo>
                <a:lnTo>
                  <a:pt x="509" y="345"/>
                </a:lnTo>
                <a:lnTo>
                  <a:pt x="509" y="322"/>
                </a:lnTo>
                <a:lnTo>
                  <a:pt x="509" y="299"/>
                </a:lnTo>
                <a:lnTo>
                  <a:pt x="509" y="278"/>
                </a:lnTo>
                <a:lnTo>
                  <a:pt x="507" y="257"/>
                </a:lnTo>
                <a:lnTo>
                  <a:pt x="505" y="236"/>
                </a:lnTo>
                <a:lnTo>
                  <a:pt x="503" y="219"/>
                </a:lnTo>
                <a:lnTo>
                  <a:pt x="501" y="203"/>
                </a:lnTo>
                <a:lnTo>
                  <a:pt x="499" y="188"/>
                </a:lnTo>
                <a:lnTo>
                  <a:pt x="497" y="173"/>
                </a:lnTo>
                <a:lnTo>
                  <a:pt x="495" y="159"/>
                </a:lnTo>
                <a:lnTo>
                  <a:pt x="493" y="148"/>
                </a:lnTo>
                <a:lnTo>
                  <a:pt x="491" y="136"/>
                </a:lnTo>
                <a:lnTo>
                  <a:pt x="489" y="125"/>
                </a:lnTo>
                <a:lnTo>
                  <a:pt x="487" y="115"/>
                </a:lnTo>
                <a:lnTo>
                  <a:pt x="485" y="105"/>
                </a:lnTo>
                <a:lnTo>
                  <a:pt x="482" y="98"/>
                </a:lnTo>
                <a:lnTo>
                  <a:pt x="480" y="92"/>
                </a:lnTo>
                <a:lnTo>
                  <a:pt x="478" y="84"/>
                </a:lnTo>
                <a:lnTo>
                  <a:pt x="474" y="81"/>
                </a:lnTo>
                <a:lnTo>
                  <a:pt x="470" y="77"/>
                </a:lnTo>
                <a:lnTo>
                  <a:pt x="468" y="75"/>
                </a:lnTo>
                <a:lnTo>
                  <a:pt x="457" y="69"/>
                </a:lnTo>
                <a:lnTo>
                  <a:pt x="449" y="65"/>
                </a:lnTo>
                <a:lnTo>
                  <a:pt x="443" y="59"/>
                </a:lnTo>
                <a:lnTo>
                  <a:pt x="439" y="56"/>
                </a:lnTo>
                <a:lnTo>
                  <a:pt x="436" y="50"/>
                </a:lnTo>
                <a:lnTo>
                  <a:pt x="436" y="42"/>
                </a:lnTo>
                <a:lnTo>
                  <a:pt x="436" y="36"/>
                </a:lnTo>
                <a:lnTo>
                  <a:pt x="439" y="2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Freeform 64"/>
          <p:cNvSpPr/>
          <p:nvPr/>
        </p:nvSpPr>
        <p:spPr>
          <a:xfrm>
            <a:off x="2462040" y="3695760"/>
            <a:ext cx="290520" cy="396720"/>
          </a:xfrm>
          <a:custGeom>
            <a:avLst/>
            <a:gdLst>
              <a:gd name="textAreaLeft" fmla="*/ 0 w 290520"/>
              <a:gd name="textAreaRight" fmla="*/ 290520 w 2905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65" h="501">
                <a:moveTo>
                  <a:pt x="315" y="501"/>
                </a:moveTo>
                <a:lnTo>
                  <a:pt x="311" y="497"/>
                </a:lnTo>
                <a:lnTo>
                  <a:pt x="309" y="493"/>
                </a:lnTo>
                <a:lnTo>
                  <a:pt x="306" y="490"/>
                </a:lnTo>
                <a:lnTo>
                  <a:pt x="300" y="486"/>
                </a:lnTo>
                <a:lnTo>
                  <a:pt x="294" y="480"/>
                </a:lnTo>
                <a:lnTo>
                  <a:pt x="288" y="472"/>
                </a:lnTo>
                <a:lnTo>
                  <a:pt x="281" y="465"/>
                </a:lnTo>
                <a:lnTo>
                  <a:pt x="273" y="457"/>
                </a:lnTo>
                <a:lnTo>
                  <a:pt x="265" y="447"/>
                </a:lnTo>
                <a:lnTo>
                  <a:pt x="256" y="438"/>
                </a:lnTo>
                <a:lnTo>
                  <a:pt x="246" y="426"/>
                </a:lnTo>
                <a:lnTo>
                  <a:pt x="237" y="415"/>
                </a:lnTo>
                <a:lnTo>
                  <a:pt x="225" y="403"/>
                </a:lnTo>
                <a:lnTo>
                  <a:pt x="215" y="390"/>
                </a:lnTo>
                <a:lnTo>
                  <a:pt x="202" y="376"/>
                </a:lnTo>
                <a:lnTo>
                  <a:pt x="190" y="361"/>
                </a:lnTo>
                <a:lnTo>
                  <a:pt x="177" y="346"/>
                </a:lnTo>
                <a:lnTo>
                  <a:pt x="164" y="330"/>
                </a:lnTo>
                <a:lnTo>
                  <a:pt x="150" y="315"/>
                </a:lnTo>
                <a:lnTo>
                  <a:pt x="139" y="300"/>
                </a:lnTo>
                <a:lnTo>
                  <a:pt x="127" y="284"/>
                </a:lnTo>
                <a:lnTo>
                  <a:pt x="118" y="269"/>
                </a:lnTo>
                <a:lnTo>
                  <a:pt x="106" y="253"/>
                </a:lnTo>
                <a:lnTo>
                  <a:pt x="96" y="240"/>
                </a:lnTo>
                <a:lnTo>
                  <a:pt x="87" y="225"/>
                </a:lnTo>
                <a:lnTo>
                  <a:pt x="79" y="211"/>
                </a:lnTo>
                <a:lnTo>
                  <a:pt x="71" y="196"/>
                </a:lnTo>
                <a:lnTo>
                  <a:pt x="64" y="182"/>
                </a:lnTo>
                <a:lnTo>
                  <a:pt x="56" y="169"/>
                </a:lnTo>
                <a:lnTo>
                  <a:pt x="50" y="154"/>
                </a:lnTo>
                <a:lnTo>
                  <a:pt x="45" y="140"/>
                </a:lnTo>
                <a:lnTo>
                  <a:pt x="39" y="129"/>
                </a:lnTo>
                <a:lnTo>
                  <a:pt x="29" y="106"/>
                </a:lnTo>
                <a:lnTo>
                  <a:pt x="22" y="87"/>
                </a:lnTo>
                <a:lnTo>
                  <a:pt x="14" y="69"/>
                </a:lnTo>
                <a:lnTo>
                  <a:pt x="12" y="60"/>
                </a:lnTo>
                <a:lnTo>
                  <a:pt x="8" y="52"/>
                </a:lnTo>
                <a:lnTo>
                  <a:pt x="6" y="44"/>
                </a:lnTo>
                <a:lnTo>
                  <a:pt x="4" y="39"/>
                </a:lnTo>
                <a:lnTo>
                  <a:pt x="4" y="33"/>
                </a:lnTo>
                <a:lnTo>
                  <a:pt x="2" y="27"/>
                </a:lnTo>
                <a:lnTo>
                  <a:pt x="2" y="21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8" y="2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9" y="0"/>
                </a:lnTo>
                <a:lnTo>
                  <a:pt x="43" y="0"/>
                </a:lnTo>
                <a:lnTo>
                  <a:pt x="47" y="2"/>
                </a:lnTo>
                <a:lnTo>
                  <a:pt x="54" y="4"/>
                </a:lnTo>
                <a:lnTo>
                  <a:pt x="60" y="6"/>
                </a:lnTo>
                <a:lnTo>
                  <a:pt x="68" y="10"/>
                </a:lnTo>
                <a:lnTo>
                  <a:pt x="75" y="15"/>
                </a:lnTo>
                <a:lnTo>
                  <a:pt x="85" y="21"/>
                </a:lnTo>
                <a:lnTo>
                  <a:pt x="96" y="27"/>
                </a:lnTo>
                <a:lnTo>
                  <a:pt x="108" y="35"/>
                </a:lnTo>
                <a:lnTo>
                  <a:pt x="119" y="42"/>
                </a:lnTo>
                <a:lnTo>
                  <a:pt x="133" y="52"/>
                </a:lnTo>
                <a:lnTo>
                  <a:pt x="146" y="63"/>
                </a:lnTo>
                <a:lnTo>
                  <a:pt x="160" y="75"/>
                </a:lnTo>
                <a:lnTo>
                  <a:pt x="175" y="88"/>
                </a:lnTo>
                <a:lnTo>
                  <a:pt x="192" y="102"/>
                </a:lnTo>
                <a:lnTo>
                  <a:pt x="210" y="117"/>
                </a:lnTo>
                <a:lnTo>
                  <a:pt x="225" y="131"/>
                </a:lnTo>
                <a:lnTo>
                  <a:pt x="240" y="146"/>
                </a:lnTo>
                <a:lnTo>
                  <a:pt x="254" y="159"/>
                </a:lnTo>
                <a:lnTo>
                  <a:pt x="267" y="173"/>
                </a:lnTo>
                <a:lnTo>
                  <a:pt x="281" y="186"/>
                </a:lnTo>
                <a:lnTo>
                  <a:pt x="292" y="200"/>
                </a:lnTo>
                <a:lnTo>
                  <a:pt x="304" y="211"/>
                </a:lnTo>
                <a:lnTo>
                  <a:pt x="313" y="225"/>
                </a:lnTo>
                <a:lnTo>
                  <a:pt x="323" y="236"/>
                </a:lnTo>
                <a:lnTo>
                  <a:pt x="332" y="248"/>
                </a:lnTo>
                <a:lnTo>
                  <a:pt x="340" y="259"/>
                </a:lnTo>
                <a:lnTo>
                  <a:pt x="346" y="271"/>
                </a:lnTo>
                <a:lnTo>
                  <a:pt x="352" y="280"/>
                </a:lnTo>
                <a:lnTo>
                  <a:pt x="355" y="292"/>
                </a:lnTo>
                <a:lnTo>
                  <a:pt x="359" y="303"/>
                </a:lnTo>
                <a:lnTo>
                  <a:pt x="361" y="315"/>
                </a:lnTo>
                <a:lnTo>
                  <a:pt x="363" y="324"/>
                </a:lnTo>
                <a:lnTo>
                  <a:pt x="365" y="334"/>
                </a:lnTo>
                <a:lnTo>
                  <a:pt x="365" y="353"/>
                </a:lnTo>
                <a:lnTo>
                  <a:pt x="365" y="371"/>
                </a:lnTo>
                <a:lnTo>
                  <a:pt x="365" y="386"/>
                </a:lnTo>
                <a:lnTo>
                  <a:pt x="361" y="401"/>
                </a:lnTo>
                <a:lnTo>
                  <a:pt x="359" y="415"/>
                </a:lnTo>
                <a:lnTo>
                  <a:pt x="355" y="428"/>
                </a:lnTo>
                <a:lnTo>
                  <a:pt x="352" y="442"/>
                </a:lnTo>
                <a:lnTo>
                  <a:pt x="348" y="455"/>
                </a:lnTo>
                <a:lnTo>
                  <a:pt x="344" y="466"/>
                </a:lnTo>
                <a:lnTo>
                  <a:pt x="338" y="476"/>
                </a:lnTo>
                <a:lnTo>
                  <a:pt x="334" y="484"/>
                </a:lnTo>
                <a:lnTo>
                  <a:pt x="329" y="491"/>
                </a:lnTo>
                <a:lnTo>
                  <a:pt x="323" y="495"/>
                </a:lnTo>
                <a:lnTo>
                  <a:pt x="321" y="497"/>
                </a:lnTo>
                <a:lnTo>
                  <a:pt x="319" y="499"/>
                </a:lnTo>
                <a:lnTo>
                  <a:pt x="317" y="499"/>
                </a:lnTo>
                <a:lnTo>
                  <a:pt x="315" y="50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Freeform 65"/>
          <p:cNvSpPr/>
          <p:nvPr/>
        </p:nvSpPr>
        <p:spPr>
          <a:xfrm>
            <a:off x="2112840" y="2554200"/>
            <a:ext cx="138240" cy="10573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75" h="1332">
                <a:moveTo>
                  <a:pt x="13" y="6"/>
                </a:moveTo>
                <a:lnTo>
                  <a:pt x="19" y="4"/>
                </a:lnTo>
                <a:lnTo>
                  <a:pt x="25" y="2"/>
                </a:lnTo>
                <a:lnTo>
                  <a:pt x="31" y="2"/>
                </a:lnTo>
                <a:lnTo>
                  <a:pt x="38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3" y="0"/>
                </a:lnTo>
                <a:lnTo>
                  <a:pt x="83" y="2"/>
                </a:lnTo>
                <a:lnTo>
                  <a:pt x="94" y="4"/>
                </a:lnTo>
                <a:lnTo>
                  <a:pt x="106" y="6"/>
                </a:lnTo>
                <a:lnTo>
                  <a:pt x="117" y="9"/>
                </a:lnTo>
                <a:lnTo>
                  <a:pt x="131" y="13"/>
                </a:lnTo>
                <a:lnTo>
                  <a:pt x="144" y="17"/>
                </a:lnTo>
                <a:lnTo>
                  <a:pt x="159" y="23"/>
                </a:lnTo>
                <a:lnTo>
                  <a:pt x="175" y="30"/>
                </a:lnTo>
                <a:lnTo>
                  <a:pt x="175" y="57"/>
                </a:lnTo>
                <a:lnTo>
                  <a:pt x="175" y="86"/>
                </a:lnTo>
                <a:lnTo>
                  <a:pt x="175" y="117"/>
                </a:lnTo>
                <a:lnTo>
                  <a:pt x="175" y="149"/>
                </a:lnTo>
                <a:lnTo>
                  <a:pt x="175" y="184"/>
                </a:lnTo>
                <a:lnTo>
                  <a:pt x="175" y="220"/>
                </a:lnTo>
                <a:lnTo>
                  <a:pt x="175" y="259"/>
                </a:lnTo>
                <a:lnTo>
                  <a:pt x="175" y="299"/>
                </a:lnTo>
                <a:lnTo>
                  <a:pt x="175" y="339"/>
                </a:lnTo>
                <a:lnTo>
                  <a:pt x="175" y="384"/>
                </a:lnTo>
                <a:lnTo>
                  <a:pt x="175" y="430"/>
                </a:lnTo>
                <a:lnTo>
                  <a:pt x="175" y="476"/>
                </a:lnTo>
                <a:lnTo>
                  <a:pt x="175" y="526"/>
                </a:lnTo>
                <a:lnTo>
                  <a:pt x="175" y="575"/>
                </a:lnTo>
                <a:lnTo>
                  <a:pt x="175" y="627"/>
                </a:lnTo>
                <a:lnTo>
                  <a:pt x="175" y="681"/>
                </a:lnTo>
                <a:lnTo>
                  <a:pt x="175" y="708"/>
                </a:lnTo>
                <a:lnTo>
                  <a:pt x="173" y="737"/>
                </a:lnTo>
                <a:lnTo>
                  <a:pt x="173" y="764"/>
                </a:lnTo>
                <a:lnTo>
                  <a:pt x="173" y="788"/>
                </a:lnTo>
                <a:lnTo>
                  <a:pt x="171" y="813"/>
                </a:lnTo>
                <a:lnTo>
                  <a:pt x="171" y="838"/>
                </a:lnTo>
                <a:lnTo>
                  <a:pt x="171" y="863"/>
                </a:lnTo>
                <a:lnTo>
                  <a:pt x="169" y="886"/>
                </a:lnTo>
                <a:lnTo>
                  <a:pt x="169" y="907"/>
                </a:lnTo>
                <a:lnTo>
                  <a:pt x="169" y="931"/>
                </a:lnTo>
                <a:lnTo>
                  <a:pt x="167" y="952"/>
                </a:lnTo>
                <a:lnTo>
                  <a:pt x="167" y="971"/>
                </a:lnTo>
                <a:lnTo>
                  <a:pt x="167" y="992"/>
                </a:lnTo>
                <a:lnTo>
                  <a:pt x="167" y="1009"/>
                </a:lnTo>
                <a:lnTo>
                  <a:pt x="165" y="1028"/>
                </a:lnTo>
                <a:lnTo>
                  <a:pt x="165" y="1046"/>
                </a:lnTo>
                <a:lnTo>
                  <a:pt x="165" y="1063"/>
                </a:lnTo>
                <a:lnTo>
                  <a:pt x="165" y="1078"/>
                </a:lnTo>
                <a:lnTo>
                  <a:pt x="163" y="1094"/>
                </a:lnTo>
                <a:lnTo>
                  <a:pt x="163" y="1109"/>
                </a:lnTo>
                <a:lnTo>
                  <a:pt x="163" y="1122"/>
                </a:lnTo>
                <a:lnTo>
                  <a:pt x="163" y="1136"/>
                </a:lnTo>
                <a:lnTo>
                  <a:pt x="161" y="1147"/>
                </a:lnTo>
                <a:lnTo>
                  <a:pt x="161" y="1161"/>
                </a:lnTo>
                <a:lnTo>
                  <a:pt x="161" y="1170"/>
                </a:lnTo>
                <a:lnTo>
                  <a:pt x="159" y="1182"/>
                </a:lnTo>
                <a:lnTo>
                  <a:pt x="159" y="1192"/>
                </a:lnTo>
                <a:lnTo>
                  <a:pt x="159" y="1199"/>
                </a:lnTo>
                <a:lnTo>
                  <a:pt x="157" y="1207"/>
                </a:lnTo>
                <a:lnTo>
                  <a:pt x="157" y="1215"/>
                </a:lnTo>
                <a:lnTo>
                  <a:pt x="157" y="1222"/>
                </a:lnTo>
                <a:lnTo>
                  <a:pt x="155" y="1228"/>
                </a:lnTo>
                <a:lnTo>
                  <a:pt x="154" y="1239"/>
                </a:lnTo>
                <a:lnTo>
                  <a:pt x="152" y="1253"/>
                </a:lnTo>
                <a:lnTo>
                  <a:pt x="150" y="1263"/>
                </a:lnTo>
                <a:lnTo>
                  <a:pt x="150" y="1274"/>
                </a:lnTo>
                <a:lnTo>
                  <a:pt x="148" y="1284"/>
                </a:lnTo>
                <a:lnTo>
                  <a:pt x="146" y="1291"/>
                </a:lnTo>
                <a:lnTo>
                  <a:pt x="144" y="1299"/>
                </a:lnTo>
                <a:lnTo>
                  <a:pt x="142" y="1307"/>
                </a:lnTo>
                <a:lnTo>
                  <a:pt x="140" y="1312"/>
                </a:lnTo>
                <a:lnTo>
                  <a:pt x="138" y="1318"/>
                </a:lnTo>
                <a:lnTo>
                  <a:pt x="136" y="1322"/>
                </a:lnTo>
                <a:lnTo>
                  <a:pt x="134" y="1326"/>
                </a:lnTo>
                <a:lnTo>
                  <a:pt x="132" y="1328"/>
                </a:lnTo>
                <a:lnTo>
                  <a:pt x="131" y="1330"/>
                </a:lnTo>
                <a:lnTo>
                  <a:pt x="129" y="1332"/>
                </a:lnTo>
                <a:lnTo>
                  <a:pt x="127" y="1332"/>
                </a:lnTo>
                <a:lnTo>
                  <a:pt x="125" y="1332"/>
                </a:lnTo>
                <a:lnTo>
                  <a:pt x="121" y="1332"/>
                </a:lnTo>
                <a:lnTo>
                  <a:pt x="117" y="1330"/>
                </a:lnTo>
                <a:lnTo>
                  <a:pt x="113" y="1328"/>
                </a:lnTo>
                <a:lnTo>
                  <a:pt x="109" y="1326"/>
                </a:lnTo>
                <a:lnTo>
                  <a:pt x="106" y="1322"/>
                </a:lnTo>
                <a:lnTo>
                  <a:pt x="102" y="1318"/>
                </a:lnTo>
                <a:lnTo>
                  <a:pt x="98" y="1314"/>
                </a:lnTo>
                <a:lnTo>
                  <a:pt x="94" y="1310"/>
                </a:lnTo>
                <a:lnTo>
                  <a:pt x="92" y="1305"/>
                </a:lnTo>
                <a:lnTo>
                  <a:pt x="88" y="1299"/>
                </a:lnTo>
                <a:lnTo>
                  <a:pt x="84" y="1293"/>
                </a:lnTo>
                <a:lnTo>
                  <a:pt x="81" y="1286"/>
                </a:lnTo>
                <a:lnTo>
                  <a:pt x="77" y="1278"/>
                </a:lnTo>
                <a:lnTo>
                  <a:pt x="73" y="1270"/>
                </a:lnTo>
                <a:lnTo>
                  <a:pt x="71" y="1263"/>
                </a:lnTo>
                <a:lnTo>
                  <a:pt x="63" y="1245"/>
                </a:lnTo>
                <a:lnTo>
                  <a:pt x="58" y="1230"/>
                </a:lnTo>
                <a:lnTo>
                  <a:pt x="54" y="1216"/>
                </a:lnTo>
                <a:lnTo>
                  <a:pt x="50" y="1203"/>
                </a:lnTo>
                <a:lnTo>
                  <a:pt x="46" y="1192"/>
                </a:lnTo>
                <a:lnTo>
                  <a:pt x="44" y="1182"/>
                </a:lnTo>
                <a:lnTo>
                  <a:pt x="42" y="1178"/>
                </a:lnTo>
                <a:lnTo>
                  <a:pt x="42" y="1174"/>
                </a:lnTo>
                <a:lnTo>
                  <a:pt x="42" y="1172"/>
                </a:lnTo>
                <a:lnTo>
                  <a:pt x="42" y="1170"/>
                </a:lnTo>
                <a:lnTo>
                  <a:pt x="40" y="1167"/>
                </a:lnTo>
                <a:lnTo>
                  <a:pt x="38" y="1163"/>
                </a:lnTo>
                <a:lnTo>
                  <a:pt x="38" y="1159"/>
                </a:lnTo>
                <a:lnTo>
                  <a:pt x="38" y="1153"/>
                </a:lnTo>
                <a:lnTo>
                  <a:pt x="38" y="1145"/>
                </a:lnTo>
                <a:lnTo>
                  <a:pt x="38" y="1138"/>
                </a:lnTo>
                <a:lnTo>
                  <a:pt x="38" y="1130"/>
                </a:lnTo>
                <a:lnTo>
                  <a:pt x="40" y="1120"/>
                </a:lnTo>
                <a:lnTo>
                  <a:pt x="40" y="1109"/>
                </a:lnTo>
                <a:lnTo>
                  <a:pt x="42" y="1099"/>
                </a:lnTo>
                <a:lnTo>
                  <a:pt x="42" y="1088"/>
                </a:lnTo>
                <a:lnTo>
                  <a:pt x="44" y="1074"/>
                </a:lnTo>
                <a:lnTo>
                  <a:pt x="46" y="1061"/>
                </a:lnTo>
                <a:lnTo>
                  <a:pt x="48" y="1048"/>
                </a:lnTo>
                <a:lnTo>
                  <a:pt x="50" y="1032"/>
                </a:lnTo>
                <a:lnTo>
                  <a:pt x="52" y="1019"/>
                </a:lnTo>
                <a:lnTo>
                  <a:pt x="54" y="1002"/>
                </a:lnTo>
                <a:lnTo>
                  <a:pt x="54" y="984"/>
                </a:lnTo>
                <a:lnTo>
                  <a:pt x="56" y="965"/>
                </a:lnTo>
                <a:lnTo>
                  <a:pt x="58" y="944"/>
                </a:lnTo>
                <a:lnTo>
                  <a:pt x="58" y="921"/>
                </a:lnTo>
                <a:lnTo>
                  <a:pt x="60" y="898"/>
                </a:lnTo>
                <a:lnTo>
                  <a:pt x="60" y="873"/>
                </a:lnTo>
                <a:lnTo>
                  <a:pt x="61" y="846"/>
                </a:lnTo>
                <a:lnTo>
                  <a:pt x="61" y="817"/>
                </a:lnTo>
                <a:lnTo>
                  <a:pt x="63" y="787"/>
                </a:lnTo>
                <a:lnTo>
                  <a:pt x="63" y="756"/>
                </a:lnTo>
                <a:lnTo>
                  <a:pt x="65" y="721"/>
                </a:lnTo>
                <a:lnTo>
                  <a:pt x="65" y="689"/>
                </a:lnTo>
                <a:lnTo>
                  <a:pt x="67" y="652"/>
                </a:lnTo>
                <a:lnTo>
                  <a:pt x="69" y="614"/>
                </a:lnTo>
                <a:lnTo>
                  <a:pt x="71" y="575"/>
                </a:lnTo>
                <a:lnTo>
                  <a:pt x="71" y="556"/>
                </a:lnTo>
                <a:lnTo>
                  <a:pt x="71" y="537"/>
                </a:lnTo>
                <a:lnTo>
                  <a:pt x="71" y="520"/>
                </a:lnTo>
                <a:lnTo>
                  <a:pt x="71" y="501"/>
                </a:lnTo>
                <a:lnTo>
                  <a:pt x="71" y="483"/>
                </a:lnTo>
                <a:lnTo>
                  <a:pt x="71" y="468"/>
                </a:lnTo>
                <a:lnTo>
                  <a:pt x="71" y="451"/>
                </a:lnTo>
                <a:lnTo>
                  <a:pt x="71" y="435"/>
                </a:lnTo>
                <a:lnTo>
                  <a:pt x="71" y="420"/>
                </a:lnTo>
                <a:lnTo>
                  <a:pt x="71" y="405"/>
                </a:lnTo>
                <a:lnTo>
                  <a:pt x="71" y="389"/>
                </a:lnTo>
                <a:lnTo>
                  <a:pt x="71" y="376"/>
                </a:lnTo>
                <a:lnTo>
                  <a:pt x="71" y="362"/>
                </a:lnTo>
                <a:lnTo>
                  <a:pt x="71" y="349"/>
                </a:lnTo>
                <a:lnTo>
                  <a:pt x="71" y="338"/>
                </a:lnTo>
                <a:lnTo>
                  <a:pt x="71" y="324"/>
                </a:lnTo>
                <a:lnTo>
                  <a:pt x="71" y="313"/>
                </a:lnTo>
                <a:lnTo>
                  <a:pt x="71" y="303"/>
                </a:lnTo>
                <a:lnTo>
                  <a:pt x="71" y="291"/>
                </a:lnTo>
                <a:lnTo>
                  <a:pt x="71" y="282"/>
                </a:lnTo>
                <a:lnTo>
                  <a:pt x="71" y="272"/>
                </a:lnTo>
                <a:lnTo>
                  <a:pt x="71" y="263"/>
                </a:lnTo>
                <a:lnTo>
                  <a:pt x="71" y="255"/>
                </a:lnTo>
                <a:lnTo>
                  <a:pt x="71" y="247"/>
                </a:lnTo>
                <a:lnTo>
                  <a:pt x="71" y="240"/>
                </a:lnTo>
                <a:lnTo>
                  <a:pt x="71" y="234"/>
                </a:lnTo>
                <a:lnTo>
                  <a:pt x="71" y="226"/>
                </a:lnTo>
                <a:lnTo>
                  <a:pt x="71" y="220"/>
                </a:lnTo>
                <a:lnTo>
                  <a:pt x="71" y="217"/>
                </a:lnTo>
                <a:lnTo>
                  <a:pt x="71" y="211"/>
                </a:lnTo>
                <a:lnTo>
                  <a:pt x="71" y="207"/>
                </a:lnTo>
                <a:lnTo>
                  <a:pt x="71" y="203"/>
                </a:lnTo>
                <a:lnTo>
                  <a:pt x="67" y="192"/>
                </a:lnTo>
                <a:lnTo>
                  <a:pt x="63" y="178"/>
                </a:lnTo>
                <a:lnTo>
                  <a:pt x="58" y="165"/>
                </a:lnTo>
                <a:lnTo>
                  <a:pt x="54" y="149"/>
                </a:lnTo>
                <a:lnTo>
                  <a:pt x="48" y="136"/>
                </a:lnTo>
                <a:lnTo>
                  <a:pt x="40" y="121"/>
                </a:lnTo>
                <a:lnTo>
                  <a:pt x="33" y="105"/>
                </a:lnTo>
                <a:lnTo>
                  <a:pt x="23" y="88"/>
                </a:lnTo>
                <a:lnTo>
                  <a:pt x="17" y="80"/>
                </a:lnTo>
                <a:lnTo>
                  <a:pt x="13" y="75"/>
                </a:lnTo>
                <a:lnTo>
                  <a:pt x="10" y="69"/>
                </a:lnTo>
                <a:lnTo>
                  <a:pt x="6" y="61"/>
                </a:lnTo>
                <a:lnTo>
                  <a:pt x="4" y="55"/>
                </a:lnTo>
                <a:lnTo>
                  <a:pt x="2" y="50"/>
                </a:lnTo>
                <a:lnTo>
                  <a:pt x="0" y="44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2" y="23"/>
                </a:lnTo>
                <a:lnTo>
                  <a:pt x="2" y="19"/>
                </a:lnTo>
                <a:lnTo>
                  <a:pt x="4" y="15"/>
                </a:lnTo>
                <a:lnTo>
                  <a:pt x="8" y="11"/>
                </a:lnTo>
                <a:lnTo>
                  <a:pt x="10" y="9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Freeform 66"/>
          <p:cNvSpPr/>
          <p:nvPr/>
        </p:nvSpPr>
        <p:spPr>
          <a:xfrm>
            <a:off x="2197080" y="2467080"/>
            <a:ext cx="558720" cy="1164960"/>
          </a:xfrm>
          <a:custGeom>
            <a:avLst/>
            <a:gdLst>
              <a:gd name="textAreaLeft" fmla="*/ 0 w 558720"/>
              <a:gd name="textAreaRight" fmla="*/ 559080 w 5587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704" h="1468">
                <a:moveTo>
                  <a:pt x="456" y="35"/>
                </a:moveTo>
                <a:lnTo>
                  <a:pt x="468" y="27"/>
                </a:lnTo>
                <a:lnTo>
                  <a:pt x="477" y="20"/>
                </a:lnTo>
                <a:lnTo>
                  <a:pt x="485" y="14"/>
                </a:lnTo>
                <a:lnTo>
                  <a:pt x="495" y="8"/>
                </a:lnTo>
                <a:lnTo>
                  <a:pt x="502" y="4"/>
                </a:lnTo>
                <a:lnTo>
                  <a:pt x="510" y="2"/>
                </a:lnTo>
                <a:lnTo>
                  <a:pt x="516" y="0"/>
                </a:lnTo>
                <a:lnTo>
                  <a:pt x="523" y="0"/>
                </a:lnTo>
                <a:lnTo>
                  <a:pt x="527" y="0"/>
                </a:lnTo>
                <a:lnTo>
                  <a:pt x="531" y="0"/>
                </a:lnTo>
                <a:lnTo>
                  <a:pt x="537" y="2"/>
                </a:lnTo>
                <a:lnTo>
                  <a:pt x="541" y="4"/>
                </a:lnTo>
                <a:lnTo>
                  <a:pt x="552" y="10"/>
                </a:lnTo>
                <a:lnTo>
                  <a:pt x="566" y="16"/>
                </a:lnTo>
                <a:lnTo>
                  <a:pt x="579" y="23"/>
                </a:lnTo>
                <a:lnTo>
                  <a:pt x="594" y="35"/>
                </a:lnTo>
                <a:lnTo>
                  <a:pt x="612" y="46"/>
                </a:lnTo>
                <a:lnTo>
                  <a:pt x="629" y="58"/>
                </a:lnTo>
                <a:lnTo>
                  <a:pt x="644" y="71"/>
                </a:lnTo>
                <a:lnTo>
                  <a:pt x="652" y="77"/>
                </a:lnTo>
                <a:lnTo>
                  <a:pt x="660" y="85"/>
                </a:lnTo>
                <a:lnTo>
                  <a:pt x="667" y="91"/>
                </a:lnTo>
                <a:lnTo>
                  <a:pt x="673" y="96"/>
                </a:lnTo>
                <a:lnTo>
                  <a:pt x="679" y="102"/>
                </a:lnTo>
                <a:lnTo>
                  <a:pt x="685" y="108"/>
                </a:lnTo>
                <a:lnTo>
                  <a:pt x="688" y="114"/>
                </a:lnTo>
                <a:lnTo>
                  <a:pt x="692" y="117"/>
                </a:lnTo>
                <a:lnTo>
                  <a:pt x="696" y="123"/>
                </a:lnTo>
                <a:lnTo>
                  <a:pt x="700" y="127"/>
                </a:lnTo>
                <a:lnTo>
                  <a:pt x="702" y="131"/>
                </a:lnTo>
                <a:lnTo>
                  <a:pt x="704" y="135"/>
                </a:lnTo>
                <a:lnTo>
                  <a:pt x="704" y="137"/>
                </a:lnTo>
                <a:lnTo>
                  <a:pt x="704" y="140"/>
                </a:lnTo>
                <a:lnTo>
                  <a:pt x="704" y="148"/>
                </a:lnTo>
                <a:lnTo>
                  <a:pt x="704" y="158"/>
                </a:lnTo>
                <a:lnTo>
                  <a:pt x="702" y="165"/>
                </a:lnTo>
                <a:lnTo>
                  <a:pt x="698" y="175"/>
                </a:lnTo>
                <a:lnTo>
                  <a:pt x="692" y="192"/>
                </a:lnTo>
                <a:lnTo>
                  <a:pt x="685" y="210"/>
                </a:lnTo>
                <a:lnTo>
                  <a:pt x="679" y="223"/>
                </a:lnTo>
                <a:lnTo>
                  <a:pt x="673" y="238"/>
                </a:lnTo>
                <a:lnTo>
                  <a:pt x="667" y="254"/>
                </a:lnTo>
                <a:lnTo>
                  <a:pt x="664" y="271"/>
                </a:lnTo>
                <a:lnTo>
                  <a:pt x="658" y="288"/>
                </a:lnTo>
                <a:lnTo>
                  <a:pt x="654" y="307"/>
                </a:lnTo>
                <a:lnTo>
                  <a:pt x="650" y="329"/>
                </a:lnTo>
                <a:lnTo>
                  <a:pt x="648" y="350"/>
                </a:lnTo>
                <a:lnTo>
                  <a:pt x="646" y="355"/>
                </a:lnTo>
                <a:lnTo>
                  <a:pt x="646" y="363"/>
                </a:lnTo>
                <a:lnTo>
                  <a:pt x="644" y="371"/>
                </a:lnTo>
                <a:lnTo>
                  <a:pt x="644" y="380"/>
                </a:lnTo>
                <a:lnTo>
                  <a:pt x="642" y="390"/>
                </a:lnTo>
                <a:lnTo>
                  <a:pt x="642" y="400"/>
                </a:lnTo>
                <a:lnTo>
                  <a:pt x="641" y="409"/>
                </a:lnTo>
                <a:lnTo>
                  <a:pt x="641" y="421"/>
                </a:lnTo>
                <a:lnTo>
                  <a:pt x="641" y="432"/>
                </a:lnTo>
                <a:lnTo>
                  <a:pt x="639" y="446"/>
                </a:lnTo>
                <a:lnTo>
                  <a:pt x="639" y="457"/>
                </a:lnTo>
                <a:lnTo>
                  <a:pt x="637" y="472"/>
                </a:lnTo>
                <a:lnTo>
                  <a:pt x="637" y="486"/>
                </a:lnTo>
                <a:lnTo>
                  <a:pt x="637" y="501"/>
                </a:lnTo>
                <a:lnTo>
                  <a:pt x="635" y="517"/>
                </a:lnTo>
                <a:lnTo>
                  <a:pt x="635" y="532"/>
                </a:lnTo>
                <a:lnTo>
                  <a:pt x="633" y="549"/>
                </a:lnTo>
                <a:lnTo>
                  <a:pt x="633" y="566"/>
                </a:lnTo>
                <a:lnTo>
                  <a:pt x="633" y="584"/>
                </a:lnTo>
                <a:lnTo>
                  <a:pt x="633" y="603"/>
                </a:lnTo>
                <a:lnTo>
                  <a:pt x="631" y="622"/>
                </a:lnTo>
                <a:lnTo>
                  <a:pt x="631" y="641"/>
                </a:lnTo>
                <a:lnTo>
                  <a:pt x="631" y="662"/>
                </a:lnTo>
                <a:lnTo>
                  <a:pt x="631" y="684"/>
                </a:lnTo>
                <a:lnTo>
                  <a:pt x="629" y="705"/>
                </a:lnTo>
                <a:lnTo>
                  <a:pt x="629" y="726"/>
                </a:lnTo>
                <a:lnTo>
                  <a:pt x="629" y="749"/>
                </a:lnTo>
                <a:lnTo>
                  <a:pt x="629" y="772"/>
                </a:lnTo>
                <a:lnTo>
                  <a:pt x="629" y="797"/>
                </a:lnTo>
                <a:lnTo>
                  <a:pt x="629" y="822"/>
                </a:lnTo>
                <a:lnTo>
                  <a:pt x="629" y="847"/>
                </a:lnTo>
                <a:lnTo>
                  <a:pt x="629" y="872"/>
                </a:lnTo>
                <a:lnTo>
                  <a:pt x="629" y="898"/>
                </a:lnTo>
                <a:lnTo>
                  <a:pt x="629" y="923"/>
                </a:lnTo>
                <a:lnTo>
                  <a:pt x="629" y="948"/>
                </a:lnTo>
                <a:lnTo>
                  <a:pt x="629" y="971"/>
                </a:lnTo>
                <a:lnTo>
                  <a:pt x="629" y="994"/>
                </a:lnTo>
                <a:lnTo>
                  <a:pt x="629" y="1017"/>
                </a:lnTo>
                <a:lnTo>
                  <a:pt x="629" y="1039"/>
                </a:lnTo>
                <a:lnTo>
                  <a:pt x="629" y="1060"/>
                </a:lnTo>
                <a:lnTo>
                  <a:pt x="629" y="1081"/>
                </a:lnTo>
                <a:lnTo>
                  <a:pt x="627" y="1100"/>
                </a:lnTo>
                <a:lnTo>
                  <a:pt x="627" y="1119"/>
                </a:lnTo>
                <a:lnTo>
                  <a:pt x="627" y="1138"/>
                </a:lnTo>
                <a:lnTo>
                  <a:pt x="627" y="1156"/>
                </a:lnTo>
                <a:lnTo>
                  <a:pt x="627" y="1173"/>
                </a:lnTo>
                <a:lnTo>
                  <a:pt x="627" y="1190"/>
                </a:lnTo>
                <a:lnTo>
                  <a:pt x="627" y="1206"/>
                </a:lnTo>
                <a:lnTo>
                  <a:pt x="627" y="1221"/>
                </a:lnTo>
                <a:lnTo>
                  <a:pt x="627" y="1234"/>
                </a:lnTo>
                <a:lnTo>
                  <a:pt x="627" y="1250"/>
                </a:lnTo>
                <a:lnTo>
                  <a:pt x="625" y="1263"/>
                </a:lnTo>
                <a:lnTo>
                  <a:pt x="625" y="1275"/>
                </a:lnTo>
                <a:lnTo>
                  <a:pt x="625" y="1286"/>
                </a:lnTo>
                <a:lnTo>
                  <a:pt x="625" y="1298"/>
                </a:lnTo>
                <a:lnTo>
                  <a:pt x="625" y="1309"/>
                </a:lnTo>
                <a:lnTo>
                  <a:pt x="623" y="1319"/>
                </a:lnTo>
                <a:lnTo>
                  <a:pt x="623" y="1328"/>
                </a:lnTo>
                <a:lnTo>
                  <a:pt x="623" y="1338"/>
                </a:lnTo>
                <a:lnTo>
                  <a:pt x="621" y="1346"/>
                </a:lnTo>
                <a:lnTo>
                  <a:pt x="621" y="1353"/>
                </a:lnTo>
                <a:lnTo>
                  <a:pt x="621" y="1361"/>
                </a:lnTo>
                <a:lnTo>
                  <a:pt x="619" y="1367"/>
                </a:lnTo>
                <a:lnTo>
                  <a:pt x="619" y="1373"/>
                </a:lnTo>
                <a:lnTo>
                  <a:pt x="617" y="1382"/>
                </a:lnTo>
                <a:lnTo>
                  <a:pt x="616" y="1394"/>
                </a:lnTo>
                <a:lnTo>
                  <a:pt x="614" y="1403"/>
                </a:lnTo>
                <a:lnTo>
                  <a:pt x="610" y="1411"/>
                </a:lnTo>
                <a:lnTo>
                  <a:pt x="608" y="1420"/>
                </a:lnTo>
                <a:lnTo>
                  <a:pt x="606" y="1428"/>
                </a:lnTo>
                <a:lnTo>
                  <a:pt x="602" y="1434"/>
                </a:lnTo>
                <a:lnTo>
                  <a:pt x="600" y="1442"/>
                </a:lnTo>
                <a:lnTo>
                  <a:pt x="596" y="1445"/>
                </a:lnTo>
                <a:lnTo>
                  <a:pt x="594" y="1451"/>
                </a:lnTo>
                <a:lnTo>
                  <a:pt x="593" y="1455"/>
                </a:lnTo>
                <a:lnTo>
                  <a:pt x="589" y="1459"/>
                </a:lnTo>
                <a:lnTo>
                  <a:pt x="587" y="1463"/>
                </a:lnTo>
                <a:lnTo>
                  <a:pt x="585" y="1465"/>
                </a:lnTo>
                <a:lnTo>
                  <a:pt x="583" y="1465"/>
                </a:lnTo>
                <a:lnTo>
                  <a:pt x="581" y="1465"/>
                </a:lnTo>
                <a:lnTo>
                  <a:pt x="577" y="1467"/>
                </a:lnTo>
                <a:lnTo>
                  <a:pt x="573" y="1468"/>
                </a:lnTo>
                <a:lnTo>
                  <a:pt x="570" y="1468"/>
                </a:lnTo>
                <a:lnTo>
                  <a:pt x="566" y="1468"/>
                </a:lnTo>
                <a:lnTo>
                  <a:pt x="564" y="1467"/>
                </a:lnTo>
                <a:lnTo>
                  <a:pt x="560" y="1465"/>
                </a:lnTo>
                <a:lnTo>
                  <a:pt x="556" y="1461"/>
                </a:lnTo>
                <a:lnTo>
                  <a:pt x="552" y="1457"/>
                </a:lnTo>
                <a:lnTo>
                  <a:pt x="548" y="1451"/>
                </a:lnTo>
                <a:lnTo>
                  <a:pt x="545" y="1447"/>
                </a:lnTo>
                <a:lnTo>
                  <a:pt x="541" y="1440"/>
                </a:lnTo>
                <a:lnTo>
                  <a:pt x="539" y="1432"/>
                </a:lnTo>
                <a:lnTo>
                  <a:pt x="535" y="1424"/>
                </a:lnTo>
                <a:lnTo>
                  <a:pt x="531" y="1417"/>
                </a:lnTo>
                <a:lnTo>
                  <a:pt x="527" y="1407"/>
                </a:lnTo>
                <a:lnTo>
                  <a:pt x="523" y="1396"/>
                </a:lnTo>
                <a:lnTo>
                  <a:pt x="520" y="1386"/>
                </a:lnTo>
                <a:lnTo>
                  <a:pt x="518" y="1376"/>
                </a:lnTo>
                <a:lnTo>
                  <a:pt x="516" y="1365"/>
                </a:lnTo>
                <a:lnTo>
                  <a:pt x="514" y="1353"/>
                </a:lnTo>
                <a:lnTo>
                  <a:pt x="512" y="1342"/>
                </a:lnTo>
                <a:lnTo>
                  <a:pt x="510" y="1328"/>
                </a:lnTo>
                <a:lnTo>
                  <a:pt x="508" y="1313"/>
                </a:lnTo>
                <a:lnTo>
                  <a:pt x="508" y="1298"/>
                </a:lnTo>
                <a:lnTo>
                  <a:pt x="508" y="1282"/>
                </a:lnTo>
                <a:lnTo>
                  <a:pt x="508" y="1265"/>
                </a:lnTo>
                <a:lnTo>
                  <a:pt x="508" y="1246"/>
                </a:lnTo>
                <a:lnTo>
                  <a:pt x="508" y="1227"/>
                </a:lnTo>
                <a:lnTo>
                  <a:pt x="510" y="1207"/>
                </a:lnTo>
                <a:lnTo>
                  <a:pt x="512" y="1186"/>
                </a:lnTo>
                <a:lnTo>
                  <a:pt x="512" y="1163"/>
                </a:lnTo>
                <a:lnTo>
                  <a:pt x="514" y="1140"/>
                </a:lnTo>
                <a:lnTo>
                  <a:pt x="516" y="1115"/>
                </a:lnTo>
                <a:lnTo>
                  <a:pt x="518" y="1090"/>
                </a:lnTo>
                <a:lnTo>
                  <a:pt x="518" y="1064"/>
                </a:lnTo>
                <a:lnTo>
                  <a:pt x="520" y="1035"/>
                </a:lnTo>
                <a:lnTo>
                  <a:pt x="520" y="1006"/>
                </a:lnTo>
                <a:lnTo>
                  <a:pt x="522" y="975"/>
                </a:lnTo>
                <a:lnTo>
                  <a:pt x="522" y="945"/>
                </a:lnTo>
                <a:lnTo>
                  <a:pt x="522" y="912"/>
                </a:lnTo>
                <a:lnTo>
                  <a:pt x="523" y="877"/>
                </a:lnTo>
                <a:lnTo>
                  <a:pt x="523" y="843"/>
                </a:lnTo>
                <a:lnTo>
                  <a:pt x="523" y="806"/>
                </a:lnTo>
                <a:lnTo>
                  <a:pt x="523" y="768"/>
                </a:lnTo>
                <a:lnTo>
                  <a:pt x="523" y="730"/>
                </a:lnTo>
                <a:lnTo>
                  <a:pt x="523" y="689"/>
                </a:lnTo>
                <a:lnTo>
                  <a:pt x="523" y="647"/>
                </a:lnTo>
                <a:lnTo>
                  <a:pt x="523" y="605"/>
                </a:lnTo>
                <a:lnTo>
                  <a:pt x="523" y="584"/>
                </a:lnTo>
                <a:lnTo>
                  <a:pt x="523" y="563"/>
                </a:lnTo>
                <a:lnTo>
                  <a:pt x="523" y="542"/>
                </a:lnTo>
                <a:lnTo>
                  <a:pt x="523" y="522"/>
                </a:lnTo>
                <a:lnTo>
                  <a:pt x="523" y="503"/>
                </a:lnTo>
                <a:lnTo>
                  <a:pt x="523" y="486"/>
                </a:lnTo>
                <a:lnTo>
                  <a:pt x="522" y="467"/>
                </a:lnTo>
                <a:lnTo>
                  <a:pt x="522" y="449"/>
                </a:lnTo>
                <a:lnTo>
                  <a:pt x="522" y="434"/>
                </a:lnTo>
                <a:lnTo>
                  <a:pt x="522" y="417"/>
                </a:lnTo>
                <a:lnTo>
                  <a:pt x="520" y="401"/>
                </a:lnTo>
                <a:lnTo>
                  <a:pt x="520" y="386"/>
                </a:lnTo>
                <a:lnTo>
                  <a:pt x="518" y="373"/>
                </a:lnTo>
                <a:lnTo>
                  <a:pt x="518" y="359"/>
                </a:lnTo>
                <a:lnTo>
                  <a:pt x="516" y="346"/>
                </a:lnTo>
                <a:lnTo>
                  <a:pt x="516" y="332"/>
                </a:lnTo>
                <a:lnTo>
                  <a:pt x="514" y="321"/>
                </a:lnTo>
                <a:lnTo>
                  <a:pt x="512" y="309"/>
                </a:lnTo>
                <a:lnTo>
                  <a:pt x="512" y="300"/>
                </a:lnTo>
                <a:lnTo>
                  <a:pt x="510" y="288"/>
                </a:lnTo>
                <a:lnTo>
                  <a:pt x="508" y="279"/>
                </a:lnTo>
                <a:lnTo>
                  <a:pt x="506" y="269"/>
                </a:lnTo>
                <a:lnTo>
                  <a:pt x="506" y="261"/>
                </a:lnTo>
                <a:lnTo>
                  <a:pt x="504" y="254"/>
                </a:lnTo>
                <a:lnTo>
                  <a:pt x="502" y="246"/>
                </a:lnTo>
                <a:lnTo>
                  <a:pt x="500" y="238"/>
                </a:lnTo>
                <a:lnTo>
                  <a:pt x="497" y="233"/>
                </a:lnTo>
                <a:lnTo>
                  <a:pt x="495" y="227"/>
                </a:lnTo>
                <a:lnTo>
                  <a:pt x="493" y="221"/>
                </a:lnTo>
                <a:lnTo>
                  <a:pt x="491" y="217"/>
                </a:lnTo>
                <a:lnTo>
                  <a:pt x="489" y="213"/>
                </a:lnTo>
                <a:lnTo>
                  <a:pt x="485" y="210"/>
                </a:lnTo>
                <a:lnTo>
                  <a:pt x="481" y="204"/>
                </a:lnTo>
                <a:lnTo>
                  <a:pt x="475" y="198"/>
                </a:lnTo>
                <a:lnTo>
                  <a:pt x="470" y="192"/>
                </a:lnTo>
                <a:lnTo>
                  <a:pt x="464" y="187"/>
                </a:lnTo>
                <a:lnTo>
                  <a:pt x="458" y="183"/>
                </a:lnTo>
                <a:lnTo>
                  <a:pt x="452" y="179"/>
                </a:lnTo>
                <a:lnTo>
                  <a:pt x="447" y="177"/>
                </a:lnTo>
                <a:lnTo>
                  <a:pt x="441" y="175"/>
                </a:lnTo>
                <a:lnTo>
                  <a:pt x="435" y="173"/>
                </a:lnTo>
                <a:lnTo>
                  <a:pt x="429" y="171"/>
                </a:lnTo>
                <a:lnTo>
                  <a:pt x="424" y="171"/>
                </a:lnTo>
                <a:lnTo>
                  <a:pt x="418" y="169"/>
                </a:lnTo>
                <a:lnTo>
                  <a:pt x="410" y="171"/>
                </a:lnTo>
                <a:lnTo>
                  <a:pt x="404" y="171"/>
                </a:lnTo>
                <a:lnTo>
                  <a:pt x="397" y="173"/>
                </a:lnTo>
                <a:lnTo>
                  <a:pt x="391" y="175"/>
                </a:lnTo>
                <a:lnTo>
                  <a:pt x="381" y="177"/>
                </a:lnTo>
                <a:lnTo>
                  <a:pt x="370" y="181"/>
                </a:lnTo>
                <a:lnTo>
                  <a:pt x="356" y="183"/>
                </a:lnTo>
                <a:lnTo>
                  <a:pt x="341" y="188"/>
                </a:lnTo>
                <a:lnTo>
                  <a:pt x="324" y="192"/>
                </a:lnTo>
                <a:lnTo>
                  <a:pt x="305" y="198"/>
                </a:lnTo>
                <a:lnTo>
                  <a:pt x="284" y="204"/>
                </a:lnTo>
                <a:lnTo>
                  <a:pt x="262" y="210"/>
                </a:lnTo>
                <a:lnTo>
                  <a:pt x="237" y="215"/>
                </a:lnTo>
                <a:lnTo>
                  <a:pt x="213" y="223"/>
                </a:lnTo>
                <a:lnTo>
                  <a:pt x="184" y="231"/>
                </a:lnTo>
                <a:lnTo>
                  <a:pt x="155" y="240"/>
                </a:lnTo>
                <a:lnTo>
                  <a:pt x="124" y="248"/>
                </a:lnTo>
                <a:lnTo>
                  <a:pt x="92" y="258"/>
                </a:lnTo>
                <a:lnTo>
                  <a:pt x="55" y="269"/>
                </a:lnTo>
                <a:lnTo>
                  <a:pt x="19" y="279"/>
                </a:lnTo>
                <a:lnTo>
                  <a:pt x="9" y="210"/>
                </a:lnTo>
                <a:lnTo>
                  <a:pt x="0" y="140"/>
                </a:lnTo>
                <a:lnTo>
                  <a:pt x="46" y="139"/>
                </a:lnTo>
                <a:lnTo>
                  <a:pt x="69" y="139"/>
                </a:lnTo>
                <a:lnTo>
                  <a:pt x="90" y="137"/>
                </a:lnTo>
                <a:lnTo>
                  <a:pt x="111" y="137"/>
                </a:lnTo>
                <a:lnTo>
                  <a:pt x="132" y="135"/>
                </a:lnTo>
                <a:lnTo>
                  <a:pt x="151" y="133"/>
                </a:lnTo>
                <a:lnTo>
                  <a:pt x="170" y="129"/>
                </a:lnTo>
                <a:lnTo>
                  <a:pt x="190" y="127"/>
                </a:lnTo>
                <a:lnTo>
                  <a:pt x="209" y="123"/>
                </a:lnTo>
                <a:lnTo>
                  <a:pt x="226" y="119"/>
                </a:lnTo>
                <a:lnTo>
                  <a:pt x="243" y="116"/>
                </a:lnTo>
                <a:lnTo>
                  <a:pt x="259" y="110"/>
                </a:lnTo>
                <a:lnTo>
                  <a:pt x="276" y="106"/>
                </a:lnTo>
                <a:lnTo>
                  <a:pt x="291" y="100"/>
                </a:lnTo>
                <a:lnTo>
                  <a:pt x="305" y="92"/>
                </a:lnTo>
                <a:lnTo>
                  <a:pt x="318" y="89"/>
                </a:lnTo>
                <a:lnTo>
                  <a:pt x="332" y="85"/>
                </a:lnTo>
                <a:lnTo>
                  <a:pt x="345" y="79"/>
                </a:lnTo>
                <a:lnTo>
                  <a:pt x="356" y="75"/>
                </a:lnTo>
                <a:lnTo>
                  <a:pt x="368" y="71"/>
                </a:lnTo>
                <a:lnTo>
                  <a:pt x="380" y="68"/>
                </a:lnTo>
                <a:lnTo>
                  <a:pt x="389" y="64"/>
                </a:lnTo>
                <a:lnTo>
                  <a:pt x="399" y="60"/>
                </a:lnTo>
                <a:lnTo>
                  <a:pt x="408" y="56"/>
                </a:lnTo>
                <a:lnTo>
                  <a:pt x="416" y="52"/>
                </a:lnTo>
                <a:lnTo>
                  <a:pt x="424" y="48"/>
                </a:lnTo>
                <a:lnTo>
                  <a:pt x="431" y="46"/>
                </a:lnTo>
                <a:lnTo>
                  <a:pt x="439" y="43"/>
                </a:lnTo>
                <a:lnTo>
                  <a:pt x="445" y="41"/>
                </a:lnTo>
                <a:lnTo>
                  <a:pt x="452" y="37"/>
                </a:lnTo>
                <a:lnTo>
                  <a:pt x="456" y="3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Freeform 67"/>
          <p:cNvSpPr/>
          <p:nvPr/>
        </p:nvSpPr>
        <p:spPr>
          <a:xfrm>
            <a:off x="2658960" y="2298600"/>
            <a:ext cx="550800" cy="1119240"/>
          </a:xfrm>
          <a:custGeom>
            <a:avLst/>
            <a:gdLst>
              <a:gd name="textAreaLeft" fmla="*/ 0 w 550800"/>
              <a:gd name="textAreaRight" fmla="*/ 551160 w 5508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695" h="1411">
                <a:moveTo>
                  <a:pt x="486" y="225"/>
                </a:moveTo>
                <a:lnTo>
                  <a:pt x="487" y="204"/>
                </a:lnTo>
                <a:lnTo>
                  <a:pt x="491" y="183"/>
                </a:lnTo>
                <a:lnTo>
                  <a:pt x="491" y="163"/>
                </a:lnTo>
                <a:lnTo>
                  <a:pt x="491" y="144"/>
                </a:lnTo>
                <a:lnTo>
                  <a:pt x="491" y="127"/>
                </a:lnTo>
                <a:lnTo>
                  <a:pt x="491" y="108"/>
                </a:lnTo>
                <a:lnTo>
                  <a:pt x="487" y="91"/>
                </a:lnTo>
                <a:lnTo>
                  <a:pt x="486" y="73"/>
                </a:lnTo>
                <a:lnTo>
                  <a:pt x="482" y="62"/>
                </a:lnTo>
                <a:lnTo>
                  <a:pt x="480" y="50"/>
                </a:lnTo>
                <a:lnTo>
                  <a:pt x="480" y="39"/>
                </a:lnTo>
                <a:lnTo>
                  <a:pt x="480" y="29"/>
                </a:lnTo>
                <a:lnTo>
                  <a:pt x="482" y="25"/>
                </a:lnTo>
                <a:lnTo>
                  <a:pt x="484" y="21"/>
                </a:lnTo>
                <a:lnTo>
                  <a:pt x="486" y="18"/>
                </a:lnTo>
                <a:lnTo>
                  <a:pt x="487" y="14"/>
                </a:lnTo>
                <a:lnTo>
                  <a:pt x="491" y="12"/>
                </a:lnTo>
                <a:lnTo>
                  <a:pt x="495" y="8"/>
                </a:lnTo>
                <a:lnTo>
                  <a:pt x="499" y="6"/>
                </a:lnTo>
                <a:lnTo>
                  <a:pt x="505" y="4"/>
                </a:lnTo>
                <a:lnTo>
                  <a:pt x="511" y="2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2"/>
                </a:lnTo>
                <a:lnTo>
                  <a:pt x="541" y="4"/>
                </a:lnTo>
                <a:lnTo>
                  <a:pt x="547" y="8"/>
                </a:lnTo>
                <a:lnTo>
                  <a:pt x="555" y="10"/>
                </a:lnTo>
                <a:lnTo>
                  <a:pt x="562" y="16"/>
                </a:lnTo>
                <a:lnTo>
                  <a:pt x="568" y="20"/>
                </a:lnTo>
                <a:lnTo>
                  <a:pt x="576" y="25"/>
                </a:lnTo>
                <a:lnTo>
                  <a:pt x="585" y="31"/>
                </a:lnTo>
                <a:lnTo>
                  <a:pt x="593" y="39"/>
                </a:lnTo>
                <a:lnTo>
                  <a:pt x="601" y="44"/>
                </a:lnTo>
                <a:lnTo>
                  <a:pt x="610" y="54"/>
                </a:lnTo>
                <a:lnTo>
                  <a:pt x="618" y="62"/>
                </a:lnTo>
                <a:lnTo>
                  <a:pt x="635" y="79"/>
                </a:lnTo>
                <a:lnTo>
                  <a:pt x="643" y="87"/>
                </a:lnTo>
                <a:lnTo>
                  <a:pt x="651" y="94"/>
                </a:lnTo>
                <a:lnTo>
                  <a:pt x="656" y="102"/>
                </a:lnTo>
                <a:lnTo>
                  <a:pt x="664" y="110"/>
                </a:lnTo>
                <a:lnTo>
                  <a:pt x="670" y="115"/>
                </a:lnTo>
                <a:lnTo>
                  <a:pt x="674" y="121"/>
                </a:lnTo>
                <a:lnTo>
                  <a:pt x="679" y="127"/>
                </a:lnTo>
                <a:lnTo>
                  <a:pt x="683" y="133"/>
                </a:lnTo>
                <a:lnTo>
                  <a:pt x="687" y="137"/>
                </a:lnTo>
                <a:lnTo>
                  <a:pt x="689" y="142"/>
                </a:lnTo>
                <a:lnTo>
                  <a:pt x="691" y="146"/>
                </a:lnTo>
                <a:lnTo>
                  <a:pt x="693" y="150"/>
                </a:lnTo>
                <a:lnTo>
                  <a:pt x="695" y="152"/>
                </a:lnTo>
                <a:lnTo>
                  <a:pt x="695" y="156"/>
                </a:lnTo>
                <a:lnTo>
                  <a:pt x="695" y="163"/>
                </a:lnTo>
                <a:lnTo>
                  <a:pt x="693" y="175"/>
                </a:lnTo>
                <a:lnTo>
                  <a:pt x="689" y="187"/>
                </a:lnTo>
                <a:lnTo>
                  <a:pt x="685" y="200"/>
                </a:lnTo>
                <a:lnTo>
                  <a:pt x="681" y="215"/>
                </a:lnTo>
                <a:lnTo>
                  <a:pt x="677" y="223"/>
                </a:lnTo>
                <a:lnTo>
                  <a:pt x="674" y="233"/>
                </a:lnTo>
                <a:lnTo>
                  <a:pt x="670" y="240"/>
                </a:lnTo>
                <a:lnTo>
                  <a:pt x="666" y="250"/>
                </a:lnTo>
                <a:lnTo>
                  <a:pt x="662" y="261"/>
                </a:lnTo>
                <a:lnTo>
                  <a:pt x="656" y="271"/>
                </a:lnTo>
                <a:lnTo>
                  <a:pt x="651" y="282"/>
                </a:lnTo>
                <a:lnTo>
                  <a:pt x="645" y="296"/>
                </a:lnTo>
                <a:lnTo>
                  <a:pt x="639" y="309"/>
                </a:lnTo>
                <a:lnTo>
                  <a:pt x="633" y="323"/>
                </a:lnTo>
                <a:lnTo>
                  <a:pt x="628" y="338"/>
                </a:lnTo>
                <a:lnTo>
                  <a:pt x="620" y="355"/>
                </a:lnTo>
                <a:lnTo>
                  <a:pt x="614" y="373"/>
                </a:lnTo>
                <a:lnTo>
                  <a:pt x="608" y="390"/>
                </a:lnTo>
                <a:lnTo>
                  <a:pt x="601" y="409"/>
                </a:lnTo>
                <a:lnTo>
                  <a:pt x="593" y="428"/>
                </a:lnTo>
                <a:lnTo>
                  <a:pt x="587" y="449"/>
                </a:lnTo>
                <a:lnTo>
                  <a:pt x="580" y="471"/>
                </a:lnTo>
                <a:lnTo>
                  <a:pt x="574" y="492"/>
                </a:lnTo>
                <a:lnTo>
                  <a:pt x="566" y="515"/>
                </a:lnTo>
                <a:lnTo>
                  <a:pt x="558" y="538"/>
                </a:lnTo>
                <a:lnTo>
                  <a:pt x="553" y="563"/>
                </a:lnTo>
                <a:lnTo>
                  <a:pt x="545" y="586"/>
                </a:lnTo>
                <a:lnTo>
                  <a:pt x="535" y="611"/>
                </a:lnTo>
                <a:lnTo>
                  <a:pt x="528" y="637"/>
                </a:lnTo>
                <a:lnTo>
                  <a:pt x="518" y="664"/>
                </a:lnTo>
                <a:lnTo>
                  <a:pt x="507" y="691"/>
                </a:lnTo>
                <a:lnTo>
                  <a:pt x="497" y="720"/>
                </a:lnTo>
                <a:lnTo>
                  <a:pt x="484" y="747"/>
                </a:lnTo>
                <a:lnTo>
                  <a:pt x="472" y="778"/>
                </a:lnTo>
                <a:lnTo>
                  <a:pt x="459" y="806"/>
                </a:lnTo>
                <a:lnTo>
                  <a:pt x="443" y="837"/>
                </a:lnTo>
                <a:lnTo>
                  <a:pt x="430" y="868"/>
                </a:lnTo>
                <a:lnTo>
                  <a:pt x="413" y="898"/>
                </a:lnTo>
                <a:lnTo>
                  <a:pt x="397" y="929"/>
                </a:lnTo>
                <a:lnTo>
                  <a:pt x="380" y="962"/>
                </a:lnTo>
                <a:lnTo>
                  <a:pt x="361" y="994"/>
                </a:lnTo>
                <a:lnTo>
                  <a:pt x="342" y="1027"/>
                </a:lnTo>
                <a:lnTo>
                  <a:pt x="322" y="1062"/>
                </a:lnTo>
                <a:lnTo>
                  <a:pt x="303" y="1094"/>
                </a:lnTo>
                <a:lnTo>
                  <a:pt x="282" y="1127"/>
                </a:lnTo>
                <a:lnTo>
                  <a:pt x="263" y="1156"/>
                </a:lnTo>
                <a:lnTo>
                  <a:pt x="242" y="1184"/>
                </a:lnTo>
                <a:lnTo>
                  <a:pt x="221" y="1211"/>
                </a:lnTo>
                <a:lnTo>
                  <a:pt x="200" y="1238"/>
                </a:lnTo>
                <a:lnTo>
                  <a:pt x="178" y="1263"/>
                </a:lnTo>
                <a:lnTo>
                  <a:pt x="157" y="1286"/>
                </a:lnTo>
                <a:lnTo>
                  <a:pt x="134" y="1307"/>
                </a:lnTo>
                <a:lnTo>
                  <a:pt x="113" y="1328"/>
                </a:lnTo>
                <a:lnTo>
                  <a:pt x="90" y="1348"/>
                </a:lnTo>
                <a:lnTo>
                  <a:pt x="69" y="1365"/>
                </a:lnTo>
                <a:lnTo>
                  <a:pt x="46" y="1382"/>
                </a:lnTo>
                <a:lnTo>
                  <a:pt x="23" y="1397"/>
                </a:lnTo>
                <a:lnTo>
                  <a:pt x="0" y="1411"/>
                </a:lnTo>
                <a:lnTo>
                  <a:pt x="35" y="1353"/>
                </a:lnTo>
                <a:lnTo>
                  <a:pt x="69" y="1298"/>
                </a:lnTo>
                <a:lnTo>
                  <a:pt x="102" y="1240"/>
                </a:lnTo>
                <a:lnTo>
                  <a:pt x="136" y="1181"/>
                </a:lnTo>
                <a:lnTo>
                  <a:pt x="167" y="1121"/>
                </a:lnTo>
                <a:lnTo>
                  <a:pt x="198" y="1062"/>
                </a:lnTo>
                <a:lnTo>
                  <a:pt x="213" y="1031"/>
                </a:lnTo>
                <a:lnTo>
                  <a:pt x="228" y="998"/>
                </a:lnTo>
                <a:lnTo>
                  <a:pt x="242" y="966"/>
                </a:lnTo>
                <a:lnTo>
                  <a:pt x="257" y="935"/>
                </a:lnTo>
                <a:lnTo>
                  <a:pt x="284" y="874"/>
                </a:lnTo>
                <a:lnTo>
                  <a:pt x="309" y="814"/>
                </a:lnTo>
                <a:lnTo>
                  <a:pt x="334" y="756"/>
                </a:lnTo>
                <a:lnTo>
                  <a:pt x="357" y="701"/>
                </a:lnTo>
                <a:lnTo>
                  <a:pt x="376" y="645"/>
                </a:lnTo>
                <a:lnTo>
                  <a:pt x="395" y="591"/>
                </a:lnTo>
                <a:lnTo>
                  <a:pt x="405" y="566"/>
                </a:lnTo>
                <a:lnTo>
                  <a:pt x="413" y="542"/>
                </a:lnTo>
                <a:lnTo>
                  <a:pt x="420" y="517"/>
                </a:lnTo>
                <a:lnTo>
                  <a:pt x="428" y="492"/>
                </a:lnTo>
                <a:lnTo>
                  <a:pt x="434" y="469"/>
                </a:lnTo>
                <a:lnTo>
                  <a:pt x="438" y="446"/>
                </a:lnTo>
                <a:lnTo>
                  <a:pt x="443" y="424"/>
                </a:lnTo>
                <a:lnTo>
                  <a:pt x="447" y="405"/>
                </a:lnTo>
                <a:lnTo>
                  <a:pt x="451" y="384"/>
                </a:lnTo>
                <a:lnTo>
                  <a:pt x="457" y="367"/>
                </a:lnTo>
                <a:lnTo>
                  <a:pt x="461" y="350"/>
                </a:lnTo>
                <a:lnTo>
                  <a:pt x="464" y="332"/>
                </a:lnTo>
                <a:lnTo>
                  <a:pt x="466" y="317"/>
                </a:lnTo>
                <a:lnTo>
                  <a:pt x="470" y="302"/>
                </a:lnTo>
                <a:lnTo>
                  <a:pt x="474" y="286"/>
                </a:lnTo>
                <a:lnTo>
                  <a:pt x="476" y="273"/>
                </a:lnTo>
                <a:lnTo>
                  <a:pt x="478" y="259"/>
                </a:lnTo>
                <a:lnTo>
                  <a:pt x="482" y="248"/>
                </a:lnTo>
                <a:lnTo>
                  <a:pt x="484" y="236"/>
                </a:lnTo>
                <a:lnTo>
                  <a:pt x="486" y="22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Freeform 68"/>
          <p:cNvSpPr/>
          <p:nvPr/>
        </p:nvSpPr>
        <p:spPr>
          <a:xfrm>
            <a:off x="2960640" y="2817720"/>
            <a:ext cx="574560" cy="212760"/>
          </a:xfrm>
          <a:custGeom>
            <a:avLst/>
            <a:gdLst>
              <a:gd name="textAreaLeft" fmla="*/ 0 w 574560"/>
              <a:gd name="textAreaRight" fmla="*/ 574920 w 574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24" h="268">
                <a:moveTo>
                  <a:pt x="0" y="163"/>
                </a:moveTo>
                <a:lnTo>
                  <a:pt x="29" y="163"/>
                </a:lnTo>
                <a:lnTo>
                  <a:pt x="58" y="161"/>
                </a:lnTo>
                <a:lnTo>
                  <a:pt x="86" y="159"/>
                </a:lnTo>
                <a:lnTo>
                  <a:pt x="113" y="155"/>
                </a:lnTo>
                <a:lnTo>
                  <a:pt x="140" y="149"/>
                </a:lnTo>
                <a:lnTo>
                  <a:pt x="167" y="144"/>
                </a:lnTo>
                <a:lnTo>
                  <a:pt x="194" y="136"/>
                </a:lnTo>
                <a:lnTo>
                  <a:pt x="219" y="128"/>
                </a:lnTo>
                <a:lnTo>
                  <a:pt x="232" y="124"/>
                </a:lnTo>
                <a:lnTo>
                  <a:pt x="246" y="123"/>
                </a:lnTo>
                <a:lnTo>
                  <a:pt x="259" y="119"/>
                </a:lnTo>
                <a:lnTo>
                  <a:pt x="273" y="115"/>
                </a:lnTo>
                <a:lnTo>
                  <a:pt x="301" y="105"/>
                </a:lnTo>
                <a:lnTo>
                  <a:pt x="332" y="94"/>
                </a:lnTo>
                <a:lnTo>
                  <a:pt x="365" y="82"/>
                </a:lnTo>
                <a:lnTo>
                  <a:pt x="397" y="67"/>
                </a:lnTo>
                <a:lnTo>
                  <a:pt x="432" y="52"/>
                </a:lnTo>
                <a:lnTo>
                  <a:pt x="466" y="34"/>
                </a:lnTo>
                <a:lnTo>
                  <a:pt x="484" y="29"/>
                </a:lnTo>
                <a:lnTo>
                  <a:pt x="499" y="23"/>
                </a:lnTo>
                <a:lnTo>
                  <a:pt x="512" y="17"/>
                </a:lnTo>
                <a:lnTo>
                  <a:pt x="528" y="13"/>
                </a:lnTo>
                <a:lnTo>
                  <a:pt x="541" y="9"/>
                </a:lnTo>
                <a:lnTo>
                  <a:pt x="555" y="6"/>
                </a:lnTo>
                <a:lnTo>
                  <a:pt x="568" y="4"/>
                </a:lnTo>
                <a:lnTo>
                  <a:pt x="582" y="2"/>
                </a:lnTo>
                <a:lnTo>
                  <a:pt x="593" y="0"/>
                </a:lnTo>
                <a:lnTo>
                  <a:pt x="605" y="0"/>
                </a:lnTo>
                <a:lnTo>
                  <a:pt x="616" y="0"/>
                </a:lnTo>
                <a:lnTo>
                  <a:pt x="628" y="0"/>
                </a:lnTo>
                <a:lnTo>
                  <a:pt x="637" y="2"/>
                </a:lnTo>
                <a:lnTo>
                  <a:pt x="649" y="4"/>
                </a:lnTo>
                <a:lnTo>
                  <a:pt x="658" y="7"/>
                </a:lnTo>
                <a:lnTo>
                  <a:pt x="666" y="11"/>
                </a:lnTo>
                <a:lnTo>
                  <a:pt x="679" y="21"/>
                </a:lnTo>
                <a:lnTo>
                  <a:pt x="691" y="29"/>
                </a:lnTo>
                <a:lnTo>
                  <a:pt x="700" y="38"/>
                </a:lnTo>
                <a:lnTo>
                  <a:pt x="710" y="46"/>
                </a:lnTo>
                <a:lnTo>
                  <a:pt x="716" y="55"/>
                </a:lnTo>
                <a:lnTo>
                  <a:pt x="720" y="63"/>
                </a:lnTo>
                <a:lnTo>
                  <a:pt x="724" y="73"/>
                </a:lnTo>
                <a:lnTo>
                  <a:pt x="724" y="82"/>
                </a:lnTo>
                <a:lnTo>
                  <a:pt x="724" y="84"/>
                </a:lnTo>
                <a:lnTo>
                  <a:pt x="724" y="86"/>
                </a:lnTo>
                <a:lnTo>
                  <a:pt x="722" y="88"/>
                </a:lnTo>
                <a:lnTo>
                  <a:pt x="720" y="90"/>
                </a:lnTo>
                <a:lnTo>
                  <a:pt x="716" y="94"/>
                </a:lnTo>
                <a:lnTo>
                  <a:pt x="712" y="96"/>
                </a:lnTo>
                <a:lnTo>
                  <a:pt x="708" y="98"/>
                </a:lnTo>
                <a:lnTo>
                  <a:pt x="704" y="101"/>
                </a:lnTo>
                <a:lnTo>
                  <a:pt x="699" y="103"/>
                </a:lnTo>
                <a:lnTo>
                  <a:pt x="693" y="107"/>
                </a:lnTo>
                <a:lnTo>
                  <a:pt x="687" y="109"/>
                </a:lnTo>
                <a:lnTo>
                  <a:pt x="679" y="113"/>
                </a:lnTo>
                <a:lnTo>
                  <a:pt x="672" y="115"/>
                </a:lnTo>
                <a:lnTo>
                  <a:pt x="662" y="119"/>
                </a:lnTo>
                <a:lnTo>
                  <a:pt x="654" y="121"/>
                </a:lnTo>
                <a:lnTo>
                  <a:pt x="645" y="124"/>
                </a:lnTo>
                <a:lnTo>
                  <a:pt x="633" y="128"/>
                </a:lnTo>
                <a:lnTo>
                  <a:pt x="622" y="132"/>
                </a:lnTo>
                <a:lnTo>
                  <a:pt x="610" y="134"/>
                </a:lnTo>
                <a:lnTo>
                  <a:pt x="599" y="138"/>
                </a:lnTo>
                <a:lnTo>
                  <a:pt x="585" y="142"/>
                </a:lnTo>
                <a:lnTo>
                  <a:pt x="572" y="146"/>
                </a:lnTo>
                <a:lnTo>
                  <a:pt x="558" y="149"/>
                </a:lnTo>
                <a:lnTo>
                  <a:pt x="543" y="153"/>
                </a:lnTo>
                <a:lnTo>
                  <a:pt x="528" y="157"/>
                </a:lnTo>
                <a:lnTo>
                  <a:pt x="511" y="161"/>
                </a:lnTo>
                <a:lnTo>
                  <a:pt x="495" y="165"/>
                </a:lnTo>
                <a:lnTo>
                  <a:pt x="476" y="169"/>
                </a:lnTo>
                <a:lnTo>
                  <a:pt x="459" y="172"/>
                </a:lnTo>
                <a:lnTo>
                  <a:pt x="439" y="176"/>
                </a:lnTo>
                <a:lnTo>
                  <a:pt x="420" y="182"/>
                </a:lnTo>
                <a:lnTo>
                  <a:pt x="401" y="186"/>
                </a:lnTo>
                <a:lnTo>
                  <a:pt x="380" y="192"/>
                </a:lnTo>
                <a:lnTo>
                  <a:pt x="361" y="197"/>
                </a:lnTo>
                <a:lnTo>
                  <a:pt x="342" y="201"/>
                </a:lnTo>
                <a:lnTo>
                  <a:pt x="322" y="207"/>
                </a:lnTo>
                <a:lnTo>
                  <a:pt x="303" y="211"/>
                </a:lnTo>
                <a:lnTo>
                  <a:pt x="286" y="215"/>
                </a:lnTo>
                <a:lnTo>
                  <a:pt x="269" y="220"/>
                </a:lnTo>
                <a:lnTo>
                  <a:pt x="251" y="224"/>
                </a:lnTo>
                <a:lnTo>
                  <a:pt x="236" y="228"/>
                </a:lnTo>
                <a:lnTo>
                  <a:pt x="221" y="232"/>
                </a:lnTo>
                <a:lnTo>
                  <a:pt x="205" y="234"/>
                </a:lnTo>
                <a:lnTo>
                  <a:pt x="190" y="238"/>
                </a:lnTo>
                <a:lnTo>
                  <a:pt x="177" y="242"/>
                </a:lnTo>
                <a:lnTo>
                  <a:pt x="163" y="243"/>
                </a:lnTo>
                <a:lnTo>
                  <a:pt x="150" y="247"/>
                </a:lnTo>
                <a:lnTo>
                  <a:pt x="136" y="249"/>
                </a:lnTo>
                <a:lnTo>
                  <a:pt x="125" y="251"/>
                </a:lnTo>
                <a:lnTo>
                  <a:pt x="111" y="253"/>
                </a:lnTo>
                <a:lnTo>
                  <a:pt x="102" y="255"/>
                </a:lnTo>
                <a:lnTo>
                  <a:pt x="90" y="257"/>
                </a:lnTo>
                <a:lnTo>
                  <a:pt x="81" y="259"/>
                </a:lnTo>
                <a:lnTo>
                  <a:pt x="71" y="261"/>
                </a:lnTo>
                <a:lnTo>
                  <a:pt x="61" y="263"/>
                </a:lnTo>
                <a:lnTo>
                  <a:pt x="52" y="263"/>
                </a:lnTo>
                <a:lnTo>
                  <a:pt x="44" y="265"/>
                </a:lnTo>
                <a:lnTo>
                  <a:pt x="36" y="265"/>
                </a:lnTo>
                <a:lnTo>
                  <a:pt x="29" y="267"/>
                </a:lnTo>
                <a:lnTo>
                  <a:pt x="23" y="267"/>
                </a:lnTo>
                <a:lnTo>
                  <a:pt x="15" y="267"/>
                </a:lnTo>
                <a:lnTo>
                  <a:pt x="10" y="267"/>
                </a:lnTo>
                <a:lnTo>
                  <a:pt x="6" y="267"/>
                </a:lnTo>
                <a:lnTo>
                  <a:pt x="0" y="268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Freeform 69"/>
          <p:cNvSpPr/>
          <p:nvPr/>
        </p:nvSpPr>
        <p:spPr>
          <a:xfrm>
            <a:off x="2681280" y="2982960"/>
            <a:ext cx="611280" cy="992160"/>
          </a:xfrm>
          <a:custGeom>
            <a:avLst/>
            <a:gdLst>
              <a:gd name="textAreaLeft" fmla="*/ 0 w 611280"/>
              <a:gd name="textAreaRight" fmla="*/ 611640 w 611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769" h="1249">
                <a:moveTo>
                  <a:pt x="570" y="0"/>
                </a:moveTo>
                <a:lnTo>
                  <a:pt x="587" y="8"/>
                </a:lnTo>
                <a:lnTo>
                  <a:pt x="604" y="13"/>
                </a:lnTo>
                <a:lnTo>
                  <a:pt x="620" y="21"/>
                </a:lnTo>
                <a:lnTo>
                  <a:pt x="635" y="27"/>
                </a:lnTo>
                <a:lnTo>
                  <a:pt x="648" y="33"/>
                </a:lnTo>
                <a:lnTo>
                  <a:pt x="662" y="40"/>
                </a:lnTo>
                <a:lnTo>
                  <a:pt x="673" y="46"/>
                </a:lnTo>
                <a:lnTo>
                  <a:pt x="685" y="54"/>
                </a:lnTo>
                <a:lnTo>
                  <a:pt x="695" y="59"/>
                </a:lnTo>
                <a:lnTo>
                  <a:pt x="704" y="65"/>
                </a:lnTo>
                <a:lnTo>
                  <a:pt x="712" y="73"/>
                </a:lnTo>
                <a:lnTo>
                  <a:pt x="719" y="79"/>
                </a:lnTo>
                <a:lnTo>
                  <a:pt x="727" y="86"/>
                </a:lnTo>
                <a:lnTo>
                  <a:pt x="733" y="92"/>
                </a:lnTo>
                <a:lnTo>
                  <a:pt x="737" y="98"/>
                </a:lnTo>
                <a:lnTo>
                  <a:pt x="743" y="105"/>
                </a:lnTo>
                <a:lnTo>
                  <a:pt x="744" y="117"/>
                </a:lnTo>
                <a:lnTo>
                  <a:pt x="748" y="129"/>
                </a:lnTo>
                <a:lnTo>
                  <a:pt x="752" y="140"/>
                </a:lnTo>
                <a:lnTo>
                  <a:pt x="756" y="148"/>
                </a:lnTo>
                <a:lnTo>
                  <a:pt x="760" y="157"/>
                </a:lnTo>
                <a:lnTo>
                  <a:pt x="764" y="163"/>
                </a:lnTo>
                <a:lnTo>
                  <a:pt x="767" y="171"/>
                </a:lnTo>
                <a:lnTo>
                  <a:pt x="769" y="175"/>
                </a:lnTo>
                <a:lnTo>
                  <a:pt x="769" y="176"/>
                </a:lnTo>
                <a:lnTo>
                  <a:pt x="769" y="178"/>
                </a:lnTo>
                <a:lnTo>
                  <a:pt x="769" y="180"/>
                </a:lnTo>
                <a:lnTo>
                  <a:pt x="769" y="184"/>
                </a:lnTo>
                <a:lnTo>
                  <a:pt x="767" y="188"/>
                </a:lnTo>
                <a:lnTo>
                  <a:pt x="767" y="192"/>
                </a:lnTo>
                <a:lnTo>
                  <a:pt x="766" y="198"/>
                </a:lnTo>
                <a:lnTo>
                  <a:pt x="766" y="203"/>
                </a:lnTo>
                <a:lnTo>
                  <a:pt x="764" y="209"/>
                </a:lnTo>
                <a:lnTo>
                  <a:pt x="762" y="217"/>
                </a:lnTo>
                <a:lnTo>
                  <a:pt x="760" y="223"/>
                </a:lnTo>
                <a:lnTo>
                  <a:pt x="758" y="232"/>
                </a:lnTo>
                <a:lnTo>
                  <a:pt x="756" y="240"/>
                </a:lnTo>
                <a:lnTo>
                  <a:pt x="754" y="249"/>
                </a:lnTo>
                <a:lnTo>
                  <a:pt x="752" y="259"/>
                </a:lnTo>
                <a:lnTo>
                  <a:pt x="750" y="269"/>
                </a:lnTo>
                <a:lnTo>
                  <a:pt x="746" y="280"/>
                </a:lnTo>
                <a:lnTo>
                  <a:pt x="744" y="292"/>
                </a:lnTo>
                <a:lnTo>
                  <a:pt x="741" y="303"/>
                </a:lnTo>
                <a:lnTo>
                  <a:pt x="739" y="317"/>
                </a:lnTo>
                <a:lnTo>
                  <a:pt x="735" y="330"/>
                </a:lnTo>
                <a:lnTo>
                  <a:pt x="733" y="343"/>
                </a:lnTo>
                <a:lnTo>
                  <a:pt x="729" y="357"/>
                </a:lnTo>
                <a:lnTo>
                  <a:pt x="725" y="372"/>
                </a:lnTo>
                <a:lnTo>
                  <a:pt x="721" y="388"/>
                </a:lnTo>
                <a:lnTo>
                  <a:pt x="718" y="405"/>
                </a:lnTo>
                <a:lnTo>
                  <a:pt x="714" y="420"/>
                </a:lnTo>
                <a:lnTo>
                  <a:pt x="710" y="437"/>
                </a:lnTo>
                <a:lnTo>
                  <a:pt x="706" y="455"/>
                </a:lnTo>
                <a:lnTo>
                  <a:pt x="702" y="474"/>
                </a:lnTo>
                <a:lnTo>
                  <a:pt x="698" y="493"/>
                </a:lnTo>
                <a:lnTo>
                  <a:pt x="695" y="512"/>
                </a:lnTo>
                <a:lnTo>
                  <a:pt x="683" y="553"/>
                </a:lnTo>
                <a:lnTo>
                  <a:pt x="672" y="591"/>
                </a:lnTo>
                <a:lnTo>
                  <a:pt x="660" y="629"/>
                </a:lnTo>
                <a:lnTo>
                  <a:pt x="648" y="666"/>
                </a:lnTo>
                <a:lnTo>
                  <a:pt x="635" y="698"/>
                </a:lnTo>
                <a:lnTo>
                  <a:pt x="622" y="731"/>
                </a:lnTo>
                <a:lnTo>
                  <a:pt x="610" y="764"/>
                </a:lnTo>
                <a:lnTo>
                  <a:pt x="595" y="793"/>
                </a:lnTo>
                <a:lnTo>
                  <a:pt x="581" y="821"/>
                </a:lnTo>
                <a:lnTo>
                  <a:pt x="568" y="846"/>
                </a:lnTo>
                <a:lnTo>
                  <a:pt x="553" y="873"/>
                </a:lnTo>
                <a:lnTo>
                  <a:pt x="537" y="896"/>
                </a:lnTo>
                <a:lnTo>
                  <a:pt x="522" y="919"/>
                </a:lnTo>
                <a:lnTo>
                  <a:pt x="506" y="940"/>
                </a:lnTo>
                <a:lnTo>
                  <a:pt x="491" y="959"/>
                </a:lnTo>
                <a:lnTo>
                  <a:pt x="476" y="977"/>
                </a:lnTo>
                <a:lnTo>
                  <a:pt x="458" y="996"/>
                </a:lnTo>
                <a:lnTo>
                  <a:pt x="443" y="1015"/>
                </a:lnTo>
                <a:lnTo>
                  <a:pt x="428" y="1032"/>
                </a:lnTo>
                <a:lnTo>
                  <a:pt x="411" y="1048"/>
                </a:lnTo>
                <a:lnTo>
                  <a:pt x="395" y="1063"/>
                </a:lnTo>
                <a:lnTo>
                  <a:pt x="380" y="1077"/>
                </a:lnTo>
                <a:lnTo>
                  <a:pt x="363" y="1090"/>
                </a:lnTo>
                <a:lnTo>
                  <a:pt x="347" y="1101"/>
                </a:lnTo>
                <a:lnTo>
                  <a:pt x="332" y="1113"/>
                </a:lnTo>
                <a:lnTo>
                  <a:pt x="315" y="1125"/>
                </a:lnTo>
                <a:lnTo>
                  <a:pt x="299" y="1134"/>
                </a:lnTo>
                <a:lnTo>
                  <a:pt x="282" y="1144"/>
                </a:lnTo>
                <a:lnTo>
                  <a:pt x="267" y="1153"/>
                </a:lnTo>
                <a:lnTo>
                  <a:pt x="249" y="1161"/>
                </a:lnTo>
                <a:lnTo>
                  <a:pt x="234" y="1169"/>
                </a:lnTo>
                <a:lnTo>
                  <a:pt x="219" y="1174"/>
                </a:lnTo>
                <a:lnTo>
                  <a:pt x="203" y="1182"/>
                </a:lnTo>
                <a:lnTo>
                  <a:pt x="188" y="1188"/>
                </a:lnTo>
                <a:lnTo>
                  <a:pt x="173" y="1194"/>
                </a:lnTo>
                <a:lnTo>
                  <a:pt x="159" y="1199"/>
                </a:lnTo>
                <a:lnTo>
                  <a:pt x="146" y="1205"/>
                </a:lnTo>
                <a:lnTo>
                  <a:pt x="134" y="1209"/>
                </a:lnTo>
                <a:lnTo>
                  <a:pt x="123" y="1215"/>
                </a:lnTo>
                <a:lnTo>
                  <a:pt x="111" y="1219"/>
                </a:lnTo>
                <a:lnTo>
                  <a:pt x="102" y="1222"/>
                </a:lnTo>
                <a:lnTo>
                  <a:pt x="92" y="1226"/>
                </a:lnTo>
                <a:lnTo>
                  <a:pt x="82" y="1230"/>
                </a:lnTo>
                <a:lnTo>
                  <a:pt x="73" y="1234"/>
                </a:lnTo>
                <a:lnTo>
                  <a:pt x="65" y="1238"/>
                </a:lnTo>
                <a:lnTo>
                  <a:pt x="59" y="1240"/>
                </a:lnTo>
                <a:lnTo>
                  <a:pt x="52" y="1242"/>
                </a:lnTo>
                <a:lnTo>
                  <a:pt x="48" y="1245"/>
                </a:lnTo>
                <a:lnTo>
                  <a:pt x="42" y="1247"/>
                </a:lnTo>
                <a:lnTo>
                  <a:pt x="36" y="1247"/>
                </a:lnTo>
                <a:lnTo>
                  <a:pt x="32" y="1249"/>
                </a:lnTo>
                <a:lnTo>
                  <a:pt x="27" y="1249"/>
                </a:lnTo>
                <a:lnTo>
                  <a:pt x="19" y="1249"/>
                </a:lnTo>
                <a:lnTo>
                  <a:pt x="13" y="1247"/>
                </a:lnTo>
                <a:lnTo>
                  <a:pt x="7" y="1245"/>
                </a:lnTo>
                <a:lnTo>
                  <a:pt x="4" y="1242"/>
                </a:lnTo>
                <a:lnTo>
                  <a:pt x="0" y="1238"/>
                </a:lnTo>
                <a:lnTo>
                  <a:pt x="0" y="1234"/>
                </a:lnTo>
                <a:lnTo>
                  <a:pt x="0" y="1230"/>
                </a:lnTo>
                <a:lnTo>
                  <a:pt x="2" y="1228"/>
                </a:lnTo>
                <a:lnTo>
                  <a:pt x="4" y="1226"/>
                </a:lnTo>
                <a:lnTo>
                  <a:pt x="7" y="1222"/>
                </a:lnTo>
                <a:lnTo>
                  <a:pt x="13" y="1219"/>
                </a:lnTo>
                <a:lnTo>
                  <a:pt x="19" y="1215"/>
                </a:lnTo>
                <a:lnTo>
                  <a:pt x="27" y="1209"/>
                </a:lnTo>
                <a:lnTo>
                  <a:pt x="34" y="1205"/>
                </a:lnTo>
                <a:lnTo>
                  <a:pt x="44" y="1199"/>
                </a:lnTo>
                <a:lnTo>
                  <a:pt x="54" y="1192"/>
                </a:lnTo>
                <a:lnTo>
                  <a:pt x="63" y="1186"/>
                </a:lnTo>
                <a:lnTo>
                  <a:pt x="77" y="1178"/>
                </a:lnTo>
                <a:lnTo>
                  <a:pt x="88" y="1171"/>
                </a:lnTo>
                <a:lnTo>
                  <a:pt x="102" y="1161"/>
                </a:lnTo>
                <a:lnTo>
                  <a:pt x="117" y="1151"/>
                </a:lnTo>
                <a:lnTo>
                  <a:pt x="132" y="1140"/>
                </a:lnTo>
                <a:lnTo>
                  <a:pt x="149" y="1128"/>
                </a:lnTo>
                <a:lnTo>
                  <a:pt x="165" y="1117"/>
                </a:lnTo>
                <a:lnTo>
                  <a:pt x="182" y="1105"/>
                </a:lnTo>
                <a:lnTo>
                  <a:pt x="197" y="1092"/>
                </a:lnTo>
                <a:lnTo>
                  <a:pt x="215" y="1078"/>
                </a:lnTo>
                <a:lnTo>
                  <a:pt x="232" y="1065"/>
                </a:lnTo>
                <a:lnTo>
                  <a:pt x="249" y="1050"/>
                </a:lnTo>
                <a:lnTo>
                  <a:pt x="267" y="1034"/>
                </a:lnTo>
                <a:lnTo>
                  <a:pt x="284" y="1017"/>
                </a:lnTo>
                <a:lnTo>
                  <a:pt x="299" y="1002"/>
                </a:lnTo>
                <a:lnTo>
                  <a:pt x="316" y="984"/>
                </a:lnTo>
                <a:lnTo>
                  <a:pt x="334" y="965"/>
                </a:lnTo>
                <a:lnTo>
                  <a:pt x="351" y="946"/>
                </a:lnTo>
                <a:lnTo>
                  <a:pt x="366" y="927"/>
                </a:lnTo>
                <a:lnTo>
                  <a:pt x="384" y="906"/>
                </a:lnTo>
                <a:lnTo>
                  <a:pt x="399" y="885"/>
                </a:lnTo>
                <a:lnTo>
                  <a:pt x="414" y="862"/>
                </a:lnTo>
                <a:lnTo>
                  <a:pt x="430" y="840"/>
                </a:lnTo>
                <a:lnTo>
                  <a:pt x="443" y="817"/>
                </a:lnTo>
                <a:lnTo>
                  <a:pt x="457" y="794"/>
                </a:lnTo>
                <a:lnTo>
                  <a:pt x="468" y="771"/>
                </a:lnTo>
                <a:lnTo>
                  <a:pt x="480" y="748"/>
                </a:lnTo>
                <a:lnTo>
                  <a:pt x="491" y="725"/>
                </a:lnTo>
                <a:lnTo>
                  <a:pt x="501" y="702"/>
                </a:lnTo>
                <a:lnTo>
                  <a:pt x="510" y="679"/>
                </a:lnTo>
                <a:lnTo>
                  <a:pt x="520" y="654"/>
                </a:lnTo>
                <a:lnTo>
                  <a:pt x="528" y="631"/>
                </a:lnTo>
                <a:lnTo>
                  <a:pt x="535" y="608"/>
                </a:lnTo>
                <a:lnTo>
                  <a:pt x="543" y="583"/>
                </a:lnTo>
                <a:lnTo>
                  <a:pt x="549" y="560"/>
                </a:lnTo>
                <a:lnTo>
                  <a:pt x="556" y="535"/>
                </a:lnTo>
                <a:lnTo>
                  <a:pt x="560" y="512"/>
                </a:lnTo>
                <a:lnTo>
                  <a:pt x="564" y="489"/>
                </a:lnTo>
                <a:lnTo>
                  <a:pt x="568" y="466"/>
                </a:lnTo>
                <a:lnTo>
                  <a:pt x="570" y="445"/>
                </a:lnTo>
                <a:lnTo>
                  <a:pt x="574" y="424"/>
                </a:lnTo>
                <a:lnTo>
                  <a:pt x="576" y="405"/>
                </a:lnTo>
                <a:lnTo>
                  <a:pt x="579" y="386"/>
                </a:lnTo>
                <a:lnTo>
                  <a:pt x="581" y="368"/>
                </a:lnTo>
                <a:lnTo>
                  <a:pt x="583" y="353"/>
                </a:lnTo>
                <a:lnTo>
                  <a:pt x="585" y="336"/>
                </a:lnTo>
                <a:lnTo>
                  <a:pt x="587" y="320"/>
                </a:lnTo>
                <a:lnTo>
                  <a:pt x="589" y="307"/>
                </a:lnTo>
                <a:lnTo>
                  <a:pt x="591" y="294"/>
                </a:lnTo>
                <a:lnTo>
                  <a:pt x="593" y="280"/>
                </a:lnTo>
                <a:lnTo>
                  <a:pt x="595" y="267"/>
                </a:lnTo>
                <a:lnTo>
                  <a:pt x="597" y="255"/>
                </a:lnTo>
                <a:lnTo>
                  <a:pt x="599" y="246"/>
                </a:lnTo>
                <a:lnTo>
                  <a:pt x="599" y="234"/>
                </a:lnTo>
                <a:lnTo>
                  <a:pt x="599" y="223"/>
                </a:lnTo>
                <a:lnTo>
                  <a:pt x="599" y="209"/>
                </a:lnTo>
                <a:lnTo>
                  <a:pt x="597" y="196"/>
                </a:lnTo>
                <a:lnTo>
                  <a:pt x="597" y="184"/>
                </a:lnTo>
                <a:lnTo>
                  <a:pt x="595" y="169"/>
                </a:lnTo>
                <a:lnTo>
                  <a:pt x="593" y="155"/>
                </a:lnTo>
                <a:lnTo>
                  <a:pt x="591" y="140"/>
                </a:lnTo>
                <a:lnTo>
                  <a:pt x="589" y="125"/>
                </a:lnTo>
                <a:lnTo>
                  <a:pt x="587" y="107"/>
                </a:lnTo>
                <a:lnTo>
                  <a:pt x="585" y="92"/>
                </a:lnTo>
                <a:lnTo>
                  <a:pt x="583" y="75"/>
                </a:lnTo>
                <a:lnTo>
                  <a:pt x="579" y="58"/>
                </a:lnTo>
                <a:lnTo>
                  <a:pt x="577" y="38"/>
                </a:lnTo>
                <a:lnTo>
                  <a:pt x="574" y="19"/>
                </a:lnTo>
                <a:lnTo>
                  <a:pt x="570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Freeform 70"/>
          <p:cNvSpPr/>
          <p:nvPr/>
        </p:nvSpPr>
        <p:spPr>
          <a:xfrm>
            <a:off x="2825640" y="3159000"/>
            <a:ext cx="982800" cy="949320"/>
          </a:xfrm>
          <a:custGeom>
            <a:avLst/>
            <a:gdLst>
              <a:gd name="textAreaLeft" fmla="*/ 0 w 982800"/>
              <a:gd name="textAreaRight" fmla="*/ 983160 w 98280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238" h="1195">
                <a:moveTo>
                  <a:pt x="952" y="1188"/>
                </a:moveTo>
                <a:lnTo>
                  <a:pt x="927" y="1191"/>
                </a:lnTo>
                <a:lnTo>
                  <a:pt x="906" y="1193"/>
                </a:lnTo>
                <a:lnTo>
                  <a:pt x="883" y="1195"/>
                </a:lnTo>
                <a:lnTo>
                  <a:pt x="864" y="1195"/>
                </a:lnTo>
                <a:lnTo>
                  <a:pt x="845" y="1195"/>
                </a:lnTo>
                <a:lnTo>
                  <a:pt x="825" y="1193"/>
                </a:lnTo>
                <a:lnTo>
                  <a:pt x="808" y="1191"/>
                </a:lnTo>
                <a:lnTo>
                  <a:pt x="791" y="1188"/>
                </a:lnTo>
                <a:lnTo>
                  <a:pt x="781" y="1184"/>
                </a:lnTo>
                <a:lnTo>
                  <a:pt x="772" y="1182"/>
                </a:lnTo>
                <a:lnTo>
                  <a:pt x="764" y="1178"/>
                </a:lnTo>
                <a:lnTo>
                  <a:pt x="754" y="1174"/>
                </a:lnTo>
                <a:lnTo>
                  <a:pt x="745" y="1168"/>
                </a:lnTo>
                <a:lnTo>
                  <a:pt x="737" y="1163"/>
                </a:lnTo>
                <a:lnTo>
                  <a:pt x="728" y="1157"/>
                </a:lnTo>
                <a:lnTo>
                  <a:pt x="718" y="1149"/>
                </a:lnTo>
                <a:lnTo>
                  <a:pt x="710" y="1141"/>
                </a:lnTo>
                <a:lnTo>
                  <a:pt x="701" y="1132"/>
                </a:lnTo>
                <a:lnTo>
                  <a:pt x="691" y="1122"/>
                </a:lnTo>
                <a:lnTo>
                  <a:pt x="683" y="1111"/>
                </a:lnTo>
                <a:lnTo>
                  <a:pt x="674" y="1099"/>
                </a:lnTo>
                <a:lnTo>
                  <a:pt x="664" y="1088"/>
                </a:lnTo>
                <a:lnTo>
                  <a:pt x="657" y="1074"/>
                </a:lnTo>
                <a:lnTo>
                  <a:pt x="647" y="1059"/>
                </a:lnTo>
                <a:lnTo>
                  <a:pt x="643" y="1051"/>
                </a:lnTo>
                <a:lnTo>
                  <a:pt x="635" y="1042"/>
                </a:lnTo>
                <a:lnTo>
                  <a:pt x="630" y="1032"/>
                </a:lnTo>
                <a:lnTo>
                  <a:pt x="622" y="1021"/>
                </a:lnTo>
                <a:lnTo>
                  <a:pt x="612" y="1007"/>
                </a:lnTo>
                <a:lnTo>
                  <a:pt x="603" y="992"/>
                </a:lnTo>
                <a:lnTo>
                  <a:pt x="591" y="976"/>
                </a:lnTo>
                <a:lnTo>
                  <a:pt x="580" y="959"/>
                </a:lnTo>
                <a:lnTo>
                  <a:pt x="566" y="940"/>
                </a:lnTo>
                <a:lnTo>
                  <a:pt x="553" y="919"/>
                </a:lnTo>
                <a:lnTo>
                  <a:pt x="538" y="896"/>
                </a:lnTo>
                <a:lnTo>
                  <a:pt x="520" y="873"/>
                </a:lnTo>
                <a:lnTo>
                  <a:pt x="503" y="848"/>
                </a:lnTo>
                <a:lnTo>
                  <a:pt x="486" y="821"/>
                </a:lnTo>
                <a:lnTo>
                  <a:pt x="467" y="792"/>
                </a:lnTo>
                <a:lnTo>
                  <a:pt x="447" y="762"/>
                </a:lnTo>
                <a:lnTo>
                  <a:pt x="426" y="731"/>
                </a:lnTo>
                <a:lnTo>
                  <a:pt x="403" y="698"/>
                </a:lnTo>
                <a:lnTo>
                  <a:pt x="382" y="664"/>
                </a:lnTo>
                <a:lnTo>
                  <a:pt x="357" y="627"/>
                </a:lnTo>
                <a:lnTo>
                  <a:pt x="332" y="589"/>
                </a:lnTo>
                <a:lnTo>
                  <a:pt x="307" y="550"/>
                </a:lnTo>
                <a:lnTo>
                  <a:pt x="280" y="508"/>
                </a:lnTo>
                <a:lnTo>
                  <a:pt x="254" y="466"/>
                </a:lnTo>
                <a:lnTo>
                  <a:pt x="225" y="422"/>
                </a:lnTo>
                <a:lnTo>
                  <a:pt x="196" y="378"/>
                </a:lnTo>
                <a:lnTo>
                  <a:pt x="165" y="330"/>
                </a:lnTo>
                <a:lnTo>
                  <a:pt x="135" y="282"/>
                </a:lnTo>
                <a:lnTo>
                  <a:pt x="102" y="230"/>
                </a:lnTo>
                <a:lnTo>
                  <a:pt x="69" y="178"/>
                </a:lnTo>
                <a:lnTo>
                  <a:pt x="35" y="124"/>
                </a:lnTo>
                <a:lnTo>
                  <a:pt x="0" y="71"/>
                </a:lnTo>
                <a:lnTo>
                  <a:pt x="14" y="36"/>
                </a:lnTo>
                <a:lnTo>
                  <a:pt x="29" y="0"/>
                </a:lnTo>
                <a:lnTo>
                  <a:pt x="60" y="42"/>
                </a:lnTo>
                <a:lnTo>
                  <a:pt x="90" y="82"/>
                </a:lnTo>
                <a:lnTo>
                  <a:pt x="121" y="121"/>
                </a:lnTo>
                <a:lnTo>
                  <a:pt x="152" y="157"/>
                </a:lnTo>
                <a:lnTo>
                  <a:pt x="181" y="195"/>
                </a:lnTo>
                <a:lnTo>
                  <a:pt x="207" y="230"/>
                </a:lnTo>
                <a:lnTo>
                  <a:pt x="236" y="264"/>
                </a:lnTo>
                <a:lnTo>
                  <a:pt x="263" y="297"/>
                </a:lnTo>
                <a:lnTo>
                  <a:pt x="288" y="330"/>
                </a:lnTo>
                <a:lnTo>
                  <a:pt x="315" y="360"/>
                </a:lnTo>
                <a:lnTo>
                  <a:pt x="338" y="389"/>
                </a:lnTo>
                <a:lnTo>
                  <a:pt x="363" y="418"/>
                </a:lnTo>
                <a:lnTo>
                  <a:pt x="384" y="447"/>
                </a:lnTo>
                <a:lnTo>
                  <a:pt x="407" y="474"/>
                </a:lnTo>
                <a:lnTo>
                  <a:pt x="428" y="499"/>
                </a:lnTo>
                <a:lnTo>
                  <a:pt x="447" y="524"/>
                </a:lnTo>
                <a:lnTo>
                  <a:pt x="467" y="547"/>
                </a:lnTo>
                <a:lnTo>
                  <a:pt x="486" y="570"/>
                </a:lnTo>
                <a:lnTo>
                  <a:pt x="505" y="593"/>
                </a:lnTo>
                <a:lnTo>
                  <a:pt x="524" y="614"/>
                </a:lnTo>
                <a:lnTo>
                  <a:pt x="541" y="633"/>
                </a:lnTo>
                <a:lnTo>
                  <a:pt x="561" y="654"/>
                </a:lnTo>
                <a:lnTo>
                  <a:pt x="580" y="671"/>
                </a:lnTo>
                <a:lnTo>
                  <a:pt x="597" y="689"/>
                </a:lnTo>
                <a:lnTo>
                  <a:pt x="614" y="706"/>
                </a:lnTo>
                <a:lnTo>
                  <a:pt x="632" y="723"/>
                </a:lnTo>
                <a:lnTo>
                  <a:pt x="649" y="738"/>
                </a:lnTo>
                <a:lnTo>
                  <a:pt x="666" y="752"/>
                </a:lnTo>
                <a:lnTo>
                  <a:pt x="683" y="765"/>
                </a:lnTo>
                <a:lnTo>
                  <a:pt x="701" y="779"/>
                </a:lnTo>
                <a:lnTo>
                  <a:pt x="716" y="792"/>
                </a:lnTo>
                <a:lnTo>
                  <a:pt x="733" y="804"/>
                </a:lnTo>
                <a:lnTo>
                  <a:pt x="747" y="813"/>
                </a:lnTo>
                <a:lnTo>
                  <a:pt x="762" y="825"/>
                </a:lnTo>
                <a:lnTo>
                  <a:pt x="779" y="836"/>
                </a:lnTo>
                <a:lnTo>
                  <a:pt x="795" y="848"/>
                </a:lnTo>
                <a:lnTo>
                  <a:pt x="812" y="859"/>
                </a:lnTo>
                <a:lnTo>
                  <a:pt x="831" y="873"/>
                </a:lnTo>
                <a:lnTo>
                  <a:pt x="848" y="884"/>
                </a:lnTo>
                <a:lnTo>
                  <a:pt x="868" y="896"/>
                </a:lnTo>
                <a:lnTo>
                  <a:pt x="889" y="907"/>
                </a:lnTo>
                <a:lnTo>
                  <a:pt x="910" y="919"/>
                </a:lnTo>
                <a:lnTo>
                  <a:pt x="931" y="932"/>
                </a:lnTo>
                <a:lnTo>
                  <a:pt x="952" y="944"/>
                </a:lnTo>
                <a:lnTo>
                  <a:pt x="975" y="955"/>
                </a:lnTo>
                <a:lnTo>
                  <a:pt x="998" y="967"/>
                </a:lnTo>
                <a:lnTo>
                  <a:pt x="1023" y="978"/>
                </a:lnTo>
                <a:lnTo>
                  <a:pt x="1046" y="990"/>
                </a:lnTo>
                <a:lnTo>
                  <a:pt x="1069" y="1001"/>
                </a:lnTo>
                <a:lnTo>
                  <a:pt x="1090" y="1013"/>
                </a:lnTo>
                <a:lnTo>
                  <a:pt x="1109" y="1024"/>
                </a:lnTo>
                <a:lnTo>
                  <a:pt x="1129" y="1036"/>
                </a:lnTo>
                <a:lnTo>
                  <a:pt x="1146" y="1046"/>
                </a:lnTo>
                <a:lnTo>
                  <a:pt x="1161" y="1053"/>
                </a:lnTo>
                <a:lnTo>
                  <a:pt x="1175" y="1063"/>
                </a:lnTo>
                <a:lnTo>
                  <a:pt x="1188" y="1069"/>
                </a:lnTo>
                <a:lnTo>
                  <a:pt x="1200" y="1076"/>
                </a:lnTo>
                <a:lnTo>
                  <a:pt x="1209" y="1082"/>
                </a:lnTo>
                <a:lnTo>
                  <a:pt x="1219" y="1088"/>
                </a:lnTo>
                <a:lnTo>
                  <a:pt x="1225" y="1092"/>
                </a:lnTo>
                <a:lnTo>
                  <a:pt x="1230" y="1095"/>
                </a:lnTo>
                <a:lnTo>
                  <a:pt x="1234" y="1099"/>
                </a:lnTo>
                <a:lnTo>
                  <a:pt x="1236" y="1103"/>
                </a:lnTo>
                <a:lnTo>
                  <a:pt x="1238" y="1105"/>
                </a:lnTo>
                <a:lnTo>
                  <a:pt x="1236" y="1107"/>
                </a:lnTo>
                <a:lnTo>
                  <a:pt x="1236" y="1111"/>
                </a:lnTo>
                <a:lnTo>
                  <a:pt x="1234" y="1113"/>
                </a:lnTo>
                <a:lnTo>
                  <a:pt x="1232" y="1117"/>
                </a:lnTo>
                <a:lnTo>
                  <a:pt x="1228" y="1118"/>
                </a:lnTo>
                <a:lnTo>
                  <a:pt x="1225" y="1122"/>
                </a:lnTo>
                <a:lnTo>
                  <a:pt x="1221" y="1124"/>
                </a:lnTo>
                <a:lnTo>
                  <a:pt x="1215" y="1128"/>
                </a:lnTo>
                <a:lnTo>
                  <a:pt x="1211" y="1132"/>
                </a:lnTo>
                <a:lnTo>
                  <a:pt x="1204" y="1136"/>
                </a:lnTo>
                <a:lnTo>
                  <a:pt x="1198" y="1138"/>
                </a:lnTo>
                <a:lnTo>
                  <a:pt x="1190" y="1141"/>
                </a:lnTo>
                <a:lnTo>
                  <a:pt x="1180" y="1143"/>
                </a:lnTo>
                <a:lnTo>
                  <a:pt x="1171" y="1147"/>
                </a:lnTo>
                <a:lnTo>
                  <a:pt x="1161" y="1149"/>
                </a:lnTo>
                <a:lnTo>
                  <a:pt x="1152" y="1151"/>
                </a:lnTo>
                <a:lnTo>
                  <a:pt x="1052" y="1168"/>
                </a:lnTo>
                <a:lnTo>
                  <a:pt x="952" y="118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Freeform 77"/>
          <p:cNvSpPr/>
          <p:nvPr/>
        </p:nvSpPr>
        <p:spPr>
          <a:xfrm>
            <a:off x="2000160" y="2814480"/>
            <a:ext cx="511200" cy="128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1287720"/>
              <a:gd name="textAreaBottom" fmla="*/ 1287720 h 1287720"/>
            </a:gdLst>
            <a:ahLst/>
            <a:rect l="textAreaLeft" t="textAreaTop" r="textAreaRight" b="textAreaBottom"/>
            <a:pathLst>
              <a:path w="643" h="1622">
                <a:moveTo>
                  <a:pt x="439" y="27"/>
                </a:moveTo>
                <a:lnTo>
                  <a:pt x="443" y="19"/>
                </a:lnTo>
                <a:lnTo>
                  <a:pt x="449" y="11"/>
                </a:lnTo>
                <a:lnTo>
                  <a:pt x="457" y="6"/>
                </a:lnTo>
                <a:lnTo>
                  <a:pt x="466" y="2"/>
                </a:lnTo>
                <a:lnTo>
                  <a:pt x="476" y="0"/>
                </a:lnTo>
                <a:lnTo>
                  <a:pt x="482" y="0"/>
                </a:lnTo>
                <a:lnTo>
                  <a:pt x="487" y="0"/>
                </a:lnTo>
                <a:lnTo>
                  <a:pt x="495" y="0"/>
                </a:lnTo>
                <a:lnTo>
                  <a:pt x="501" y="0"/>
                </a:lnTo>
                <a:lnTo>
                  <a:pt x="509" y="2"/>
                </a:lnTo>
                <a:lnTo>
                  <a:pt x="514" y="4"/>
                </a:lnTo>
                <a:lnTo>
                  <a:pt x="528" y="8"/>
                </a:lnTo>
                <a:lnTo>
                  <a:pt x="541" y="13"/>
                </a:lnTo>
                <a:lnTo>
                  <a:pt x="555" y="17"/>
                </a:lnTo>
                <a:lnTo>
                  <a:pt x="566" y="21"/>
                </a:lnTo>
                <a:lnTo>
                  <a:pt x="589" y="31"/>
                </a:lnTo>
                <a:lnTo>
                  <a:pt x="610" y="38"/>
                </a:lnTo>
                <a:lnTo>
                  <a:pt x="616" y="44"/>
                </a:lnTo>
                <a:lnTo>
                  <a:pt x="620" y="50"/>
                </a:lnTo>
                <a:lnTo>
                  <a:pt x="624" y="57"/>
                </a:lnTo>
                <a:lnTo>
                  <a:pt x="628" y="65"/>
                </a:lnTo>
                <a:lnTo>
                  <a:pt x="631" y="75"/>
                </a:lnTo>
                <a:lnTo>
                  <a:pt x="633" y="86"/>
                </a:lnTo>
                <a:lnTo>
                  <a:pt x="637" y="98"/>
                </a:lnTo>
                <a:lnTo>
                  <a:pt x="639" y="109"/>
                </a:lnTo>
                <a:lnTo>
                  <a:pt x="639" y="125"/>
                </a:lnTo>
                <a:lnTo>
                  <a:pt x="641" y="140"/>
                </a:lnTo>
                <a:lnTo>
                  <a:pt x="641" y="157"/>
                </a:lnTo>
                <a:lnTo>
                  <a:pt x="643" y="175"/>
                </a:lnTo>
                <a:lnTo>
                  <a:pt x="641" y="194"/>
                </a:lnTo>
                <a:lnTo>
                  <a:pt x="641" y="215"/>
                </a:lnTo>
                <a:lnTo>
                  <a:pt x="641" y="236"/>
                </a:lnTo>
                <a:lnTo>
                  <a:pt x="639" y="259"/>
                </a:lnTo>
                <a:lnTo>
                  <a:pt x="637" y="284"/>
                </a:lnTo>
                <a:lnTo>
                  <a:pt x="635" y="309"/>
                </a:lnTo>
                <a:lnTo>
                  <a:pt x="633" y="334"/>
                </a:lnTo>
                <a:lnTo>
                  <a:pt x="631" y="361"/>
                </a:lnTo>
                <a:lnTo>
                  <a:pt x="629" y="386"/>
                </a:lnTo>
                <a:lnTo>
                  <a:pt x="628" y="414"/>
                </a:lnTo>
                <a:lnTo>
                  <a:pt x="624" y="441"/>
                </a:lnTo>
                <a:lnTo>
                  <a:pt x="622" y="470"/>
                </a:lnTo>
                <a:lnTo>
                  <a:pt x="620" y="497"/>
                </a:lnTo>
                <a:lnTo>
                  <a:pt x="616" y="528"/>
                </a:lnTo>
                <a:lnTo>
                  <a:pt x="612" y="556"/>
                </a:lnTo>
                <a:lnTo>
                  <a:pt x="608" y="587"/>
                </a:lnTo>
                <a:lnTo>
                  <a:pt x="604" y="618"/>
                </a:lnTo>
                <a:lnTo>
                  <a:pt x="601" y="649"/>
                </a:lnTo>
                <a:lnTo>
                  <a:pt x="597" y="681"/>
                </a:lnTo>
                <a:lnTo>
                  <a:pt x="591" y="714"/>
                </a:lnTo>
                <a:lnTo>
                  <a:pt x="585" y="746"/>
                </a:lnTo>
                <a:lnTo>
                  <a:pt x="580" y="779"/>
                </a:lnTo>
                <a:lnTo>
                  <a:pt x="574" y="810"/>
                </a:lnTo>
                <a:lnTo>
                  <a:pt x="566" y="842"/>
                </a:lnTo>
                <a:lnTo>
                  <a:pt x="551" y="904"/>
                </a:lnTo>
                <a:lnTo>
                  <a:pt x="543" y="935"/>
                </a:lnTo>
                <a:lnTo>
                  <a:pt x="533" y="963"/>
                </a:lnTo>
                <a:lnTo>
                  <a:pt x="524" y="992"/>
                </a:lnTo>
                <a:lnTo>
                  <a:pt x="514" y="1021"/>
                </a:lnTo>
                <a:lnTo>
                  <a:pt x="505" y="1050"/>
                </a:lnTo>
                <a:lnTo>
                  <a:pt x="495" y="1077"/>
                </a:lnTo>
                <a:lnTo>
                  <a:pt x="484" y="1103"/>
                </a:lnTo>
                <a:lnTo>
                  <a:pt x="472" y="1128"/>
                </a:lnTo>
                <a:lnTo>
                  <a:pt x="461" y="1155"/>
                </a:lnTo>
                <a:lnTo>
                  <a:pt x="449" y="1178"/>
                </a:lnTo>
                <a:lnTo>
                  <a:pt x="434" y="1205"/>
                </a:lnTo>
                <a:lnTo>
                  <a:pt x="420" y="1230"/>
                </a:lnTo>
                <a:lnTo>
                  <a:pt x="405" y="1253"/>
                </a:lnTo>
                <a:lnTo>
                  <a:pt x="390" y="1278"/>
                </a:lnTo>
                <a:lnTo>
                  <a:pt x="374" y="1299"/>
                </a:lnTo>
                <a:lnTo>
                  <a:pt x="359" y="1322"/>
                </a:lnTo>
                <a:lnTo>
                  <a:pt x="343" y="1343"/>
                </a:lnTo>
                <a:lnTo>
                  <a:pt x="326" y="1362"/>
                </a:lnTo>
                <a:lnTo>
                  <a:pt x="311" y="1384"/>
                </a:lnTo>
                <a:lnTo>
                  <a:pt x="294" y="1403"/>
                </a:lnTo>
                <a:lnTo>
                  <a:pt x="278" y="1420"/>
                </a:lnTo>
                <a:lnTo>
                  <a:pt x="261" y="1439"/>
                </a:lnTo>
                <a:lnTo>
                  <a:pt x="244" y="1456"/>
                </a:lnTo>
                <a:lnTo>
                  <a:pt x="226" y="1472"/>
                </a:lnTo>
                <a:lnTo>
                  <a:pt x="209" y="1489"/>
                </a:lnTo>
                <a:lnTo>
                  <a:pt x="192" y="1504"/>
                </a:lnTo>
                <a:lnTo>
                  <a:pt x="173" y="1520"/>
                </a:lnTo>
                <a:lnTo>
                  <a:pt x="153" y="1533"/>
                </a:lnTo>
                <a:lnTo>
                  <a:pt x="138" y="1545"/>
                </a:lnTo>
                <a:lnTo>
                  <a:pt x="121" y="1558"/>
                </a:lnTo>
                <a:lnTo>
                  <a:pt x="107" y="1568"/>
                </a:lnTo>
                <a:lnTo>
                  <a:pt x="94" y="1577"/>
                </a:lnTo>
                <a:lnTo>
                  <a:pt x="81" y="1585"/>
                </a:lnTo>
                <a:lnTo>
                  <a:pt x="69" y="1593"/>
                </a:lnTo>
                <a:lnTo>
                  <a:pt x="58" y="1600"/>
                </a:lnTo>
                <a:lnTo>
                  <a:pt x="48" y="1606"/>
                </a:lnTo>
                <a:lnTo>
                  <a:pt x="40" y="1610"/>
                </a:lnTo>
                <a:lnTo>
                  <a:pt x="33" y="1614"/>
                </a:lnTo>
                <a:lnTo>
                  <a:pt x="25" y="1618"/>
                </a:lnTo>
                <a:lnTo>
                  <a:pt x="19" y="1620"/>
                </a:lnTo>
                <a:lnTo>
                  <a:pt x="15" y="1620"/>
                </a:lnTo>
                <a:lnTo>
                  <a:pt x="10" y="1622"/>
                </a:lnTo>
                <a:lnTo>
                  <a:pt x="6" y="1620"/>
                </a:lnTo>
                <a:lnTo>
                  <a:pt x="2" y="1618"/>
                </a:lnTo>
                <a:lnTo>
                  <a:pt x="0" y="1616"/>
                </a:lnTo>
                <a:lnTo>
                  <a:pt x="0" y="1612"/>
                </a:lnTo>
                <a:lnTo>
                  <a:pt x="0" y="1608"/>
                </a:lnTo>
                <a:lnTo>
                  <a:pt x="2" y="1602"/>
                </a:lnTo>
                <a:lnTo>
                  <a:pt x="6" y="1595"/>
                </a:lnTo>
                <a:lnTo>
                  <a:pt x="10" y="1587"/>
                </a:lnTo>
                <a:lnTo>
                  <a:pt x="15" y="1579"/>
                </a:lnTo>
                <a:lnTo>
                  <a:pt x="21" y="1570"/>
                </a:lnTo>
                <a:lnTo>
                  <a:pt x="31" y="1558"/>
                </a:lnTo>
                <a:lnTo>
                  <a:pt x="38" y="1547"/>
                </a:lnTo>
                <a:lnTo>
                  <a:pt x="50" y="1535"/>
                </a:lnTo>
                <a:lnTo>
                  <a:pt x="61" y="1522"/>
                </a:lnTo>
                <a:lnTo>
                  <a:pt x="73" y="1508"/>
                </a:lnTo>
                <a:lnTo>
                  <a:pt x="86" y="1493"/>
                </a:lnTo>
                <a:lnTo>
                  <a:pt x="102" y="1478"/>
                </a:lnTo>
                <a:lnTo>
                  <a:pt x="115" y="1460"/>
                </a:lnTo>
                <a:lnTo>
                  <a:pt x="129" y="1445"/>
                </a:lnTo>
                <a:lnTo>
                  <a:pt x="144" y="1428"/>
                </a:lnTo>
                <a:lnTo>
                  <a:pt x="157" y="1409"/>
                </a:lnTo>
                <a:lnTo>
                  <a:pt x="173" y="1391"/>
                </a:lnTo>
                <a:lnTo>
                  <a:pt x="188" y="1372"/>
                </a:lnTo>
                <a:lnTo>
                  <a:pt x="201" y="1351"/>
                </a:lnTo>
                <a:lnTo>
                  <a:pt x="217" y="1332"/>
                </a:lnTo>
                <a:lnTo>
                  <a:pt x="232" y="1311"/>
                </a:lnTo>
                <a:lnTo>
                  <a:pt x="248" y="1288"/>
                </a:lnTo>
                <a:lnTo>
                  <a:pt x="263" y="1265"/>
                </a:lnTo>
                <a:lnTo>
                  <a:pt x="278" y="1242"/>
                </a:lnTo>
                <a:lnTo>
                  <a:pt x="294" y="1219"/>
                </a:lnTo>
                <a:lnTo>
                  <a:pt x="309" y="1194"/>
                </a:lnTo>
                <a:lnTo>
                  <a:pt x="324" y="1167"/>
                </a:lnTo>
                <a:lnTo>
                  <a:pt x="338" y="1140"/>
                </a:lnTo>
                <a:lnTo>
                  <a:pt x="351" y="1113"/>
                </a:lnTo>
                <a:lnTo>
                  <a:pt x="365" y="1086"/>
                </a:lnTo>
                <a:lnTo>
                  <a:pt x="376" y="1057"/>
                </a:lnTo>
                <a:lnTo>
                  <a:pt x="388" y="1029"/>
                </a:lnTo>
                <a:lnTo>
                  <a:pt x="399" y="1000"/>
                </a:lnTo>
                <a:lnTo>
                  <a:pt x="409" y="969"/>
                </a:lnTo>
                <a:lnTo>
                  <a:pt x="418" y="938"/>
                </a:lnTo>
                <a:lnTo>
                  <a:pt x="428" y="908"/>
                </a:lnTo>
                <a:lnTo>
                  <a:pt x="436" y="875"/>
                </a:lnTo>
                <a:lnTo>
                  <a:pt x="443" y="842"/>
                </a:lnTo>
                <a:lnTo>
                  <a:pt x="451" y="808"/>
                </a:lnTo>
                <a:lnTo>
                  <a:pt x="459" y="775"/>
                </a:lnTo>
                <a:lnTo>
                  <a:pt x="464" y="739"/>
                </a:lnTo>
                <a:lnTo>
                  <a:pt x="472" y="704"/>
                </a:lnTo>
                <a:lnTo>
                  <a:pt x="476" y="668"/>
                </a:lnTo>
                <a:lnTo>
                  <a:pt x="482" y="633"/>
                </a:lnTo>
                <a:lnTo>
                  <a:pt x="485" y="599"/>
                </a:lnTo>
                <a:lnTo>
                  <a:pt x="491" y="566"/>
                </a:lnTo>
                <a:lnTo>
                  <a:pt x="495" y="535"/>
                </a:lnTo>
                <a:lnTo>
                  <a:pt x="497" y="507"/>
                </a:lnTo>
                <a:lnTo>
                  <a:pt x="501" y="476"/>
                </a:lnTo>
                <a:lnTo>
                  <a:pt x="503" y="449"/>
                </a:lnTo>
                <a:lnTo>
                  <a:pt x="505" y="422"/>
                </a:lnTo>
                <a:lnTo>
                  <a:pt x="507" y="395"/>
                </a:lnTo>
                <a:lnTo>
                  <a:pt x="509" y="370"/>
                </a:lnTo>
                <a:lnTo>
                  <a:pt x="509" y="345"/>
                </a:lnTo>
                <a:lnTo>
                  <a:pt x="509" y="322"/>
                </a:lnTo>
                <a:lnTo>
                  <a:pt x="509" y="299"/>
                </a:lnTo>
                <a:lnTo>
                  <a:pt x="509" y="278"/>
                </a:lnTo>
                <a:lnTo>
                  <a:pt x="507" y="257"/>
                </a:lnTo>
                <a:lnTo>
                  <a:pt x="505" y="236"/>
                </a:lnTo>
                <a:lnTo>
                  <a:pt x="503" y="219"/>
                </a:lnTo>
                <a:lnTo>
                  <a:pt x="501" y="203"/>
                </a:lnTo>
                <a:lnTo>
                  <a:pt x="499" y="188"/>
                </a:lnTo>
                <a:lnTo>
                  <a:pt x="497" y="173"/>
                </a:lnTo>
                <a:lnTo>
                  <a:pt x="495" y="159"/>
                </a:lnTo>
                <a:lnTo>
                  <a:pt x="493" y="148"/>
                </a:lnTo>
                <a:lnTo>
                  <a:pt x="491" y="136"/>
                </a:lnTo>
                <a:lnTo>
                  <a:pt x="489" y="125"/>
                </a:lnTo>
                <a:lnTo>
                  <a:pt x="487" y="115"/>
                </a:lnTo>
                <a:lnTo>
                  <a:pt x="485" y="105"/>
                </a:lnTo>
                <a:lnTo>
                  <a:pt x="482" y="98"/>
                </a:lnTo>
                <a:lnTo>
                  <a:pt x="480" y="92"/>
                </a:lnTo>
                <a:lnTo>
                  <a:pt x="478" y="84"/>
                </a:lnTo>
                <a:lnTo>
                  <a:pt x="474" y="81"/>
                </a:lnTo>
                <a:lnTo>
                  <a:pt x="470" y="77"/>
                </a:lnTo>
                <a:lnTo>
                  <a:pt x="468" y="75"/>
                </a:lnTo>
                <a:lnTo>
                  <a:pt x="457" y="69"/>
                </a:lnTo>
                <a:lnTo>
                  <a:pt x="449" y="65"/>
                </a:lnTo>
                <a:lnTo>
                  <a:pt x="443" y="59"/>
                </a:lnTo>
                <a:lnTo>
                  <a:pt x="439" y="56"/>
                </a:lnTo>
                <a:lnTo>
                  <a:pt x="436" y="50"/>
                </a:lnTo>
                <a:lnTo>
                  <a:pt x="436" y="42"/>
                </a:lnTo>
                <a:lnTo>
                  <a:pt x="436" y="36"/>
                </a:lnTo>
                <a:lnTo>
                  <a:pt x="439" y="2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Freeform 78"/>
          <p:cNvSpPr/>
          <p:nvPr/>
        </p:nvSpPr>
        <p:spPr>
          <a:xfrm>
            <a:off x="2462040" y="3695760"/>
            <a:ext cx="290520" cy="396720"/>
          </a:xfrm>
          <a:custGeom>
            <a:avLst/>
            <a:gdLst>
              <a:gd name="textAreaLeft" fmla="*/ 0 w 290520"/>
              <a:gd name="textAreaRight" fmla="*/ 290520 w 2905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65" h="501">
                <a:moveTo>
                  <a:pt x="315" y="501"/>
                </a:moveTo>
                <a:lnTo>
                  <a:pt x="311" y="497"/>
                </a:lnTo>
                <a:lnTo>
                  <a:pt x="309" y="493"/>
                </a:lnTo>
                <a:lnTo>
                  <a:pt x="306" y="490"/>
                </a:lnTo>
                <a:lnTo>
                  <a:pt x="300" y="486"/>
                </a:lnTo>
                <a:lnTo>
                  <a:pt x="294" y="480"/>
                </a:lnTo>
                <a:lnTo>
                  <a:pt x="288" y="472"/>
                </a:lnTo>
                <a:lnTo>
                  <a:pt x="281" y="465"/>
                </a:lnTo>
                <a:lnTo>
                  <a:pt x="273" y="457"/>
                </a:lnTo>
                <a:lnTo>
                  <a:pt x="265" y="447"/>
                </a:lnTo>
                <a:lnTo>
                  <a:pt x="256" y="438"/>
                </a:lnTo>
                <a:lnTo>
                  <a:pt x="246" y="426"/>
                </a:lnTo>
                <a:lnTo>
                  <a:pt x="237" y="415"/>
                </a:lnTo>
                <a:lnTo>
                  <a:pt x="225" y="403"/>
                </a:lnTo>
                <a:lnTo>
                  <a:pt x="215" y="390"/>
                </a:lnTo>
                <a:lnTo>
                  <a:pt x="202" y="376"/>
                </a:lnTo>
                <a:lnTo>
                  <a:pt x="190" y="361"/>
                </a:lnTo>
                <a:lnTo>
                  <a:pt x="177" y="346"/>
                </a:lnTo>
                <a:lnTo>
                  <a:pt x="164" y="330"/>
                </a:lnTo>
                <a:lnTo>
                  <a:pt x="150" y="315"/>
                </a:lnTo>
                <a:lnTo>
                  <a:pt x="139" y="300"/>
                </a:lnTo>
                <a:lnTo>
                  <a:pt x="127" y="284"/>
                </a:lnTo>
                <a:lnTo>
                  <a:pt x="118" y="269"/>
                </a:lnTo>
                <a:lnTo>
                  <a:pt x="106" y="253"/>
                </a:lnTo>
                <a:lnTo>
                  <a:pt x="96" y="240"/>
                </a:lnTo>
                <a:lnTo>
                  <a:pt x="87" y="225"/>
                </a:lnTo>
                <a:lnTo>
                  <a:pt x="79" y="211"/>
                </a:lnTo>
                <a:lnTo>
                  <a:pt x="71" y="196"/>
                </a:lnTo>
                <a:lnTo>
                  <a:pt x="64" y="182"/>
                </a:lnTo>
                <a:lnTo>
                  <a:pt x="56" y="169"/>
                </a:lnTo>
                <a:lnTo>
                  <a:pt x="50" y="154"/>
                </a:lnTo>
                <a:lnTo>
                  <a:pt x="45" y="140"/>
                </a:lnTo>
                <a:lnTo>
                  <a:pt x="39" y="129"/>
                </a:lnTo>
                <a:lnTo>
                  <a:pt x="29" y="106"/>
                </a:lnTo>
                <a:lnTo>
                  <a:pt x="22" y="87"/>
                </a:lnTo>
                <a:lnTo>
                  <a:pt x="14" y="69"/>
                </a:lnTo>
                <a:lnTo>
                  <a:pt x="12" y="60"/>
                </a:lnTo>
                <a:lnTo>
                  <a:pt x="8" y="52"/>
                </a:lnTo>
                <a:lnTo>
                  <a:pt x="6" y="44"/>
                </a:lnTo>
                <a:lnTo>
                  <a:pt x="4" y="39"/>
                </a:lnTo>
                <a:lnTo>
                  <a:pt x="4" y="33"/>
                </a:lnTo>
                <a:lnTo>
                  <a:pt x="2" y="27"/>
                </a:lnTo>
                <a:lnTo>
                  <a:pt x="2" y="21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8" y="2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9" y="0"/>
                </a:lnTo>
                <a:lnTo>
                  <a:pt x="43" y="0"/>
                </a:lnTo>
                <a:lnTo>
                  <a:pt x="47" y="2"/>
                </a:lnTo>
                <a:lnTo>
                  <a:pt x="54" y="4"/>
                </a:lnTo>
                <a:lnTo>
                  <a:pt x="60" y="6"/>
                </a:lnTo>
                <a:lnTo>
                  <a:pt x="68" y="10"/>
                </a:lnTo>
                <a:lnTo>
                  <a:pt x="75" y="15"/>
                </a:lnTo>
                <a:lnTo>
                  <a:pt x="85" y="21"/>
                </a:lnTo>
                <a:lnTo>
                  <a:pt x="96" y="27"/>
                </a:lnTo>
                <a:lnTo>
                  <a:pt x="108" y="35"/>
                </a:lnTo>
                <a:lnTo>
                  <a:pt x="119" y="42"/>
                </a:lnTo>
                <a:lnTo>
                  <a:pt x="133" y="52"/>
                </a:lnTo>
                <a:lnTo>
                  <a:pt x="146" y="63"/>
                </a:lnTo>
                <a:lnTo>
                  <a:pt x="160" y="75"/>
                </a:lnTo>
                <a:lnTo>
                  <a:pt x="175" y="88"/>
                </a:lnTo>
                <a:lnTo>
                  <a:pt x="192" y="102"/>
                </a:lnTo>
                <a:lnTo>
                  <a:pt x="210" y="117"/>
                </a:lnTo>
                <a:lnTo>
                  <a:pt x="225" y="131"/>
                </a:lnTo>
                <a:lnTo>
                  <a:pt x="240" y="146"/>
                </a:lnTo>
                <a:lnTo>
                  <a:pt x="254" y="159"/>
                </a:lnTo>
                <a:lnTo>
                  <a:pt x="267" y="173"/>
                </a:lnTo>
                <a:lnTo>
                  <a:pt x="281" y="186"/>
                </a:lnTo>
                <a:lnTo>
                  <a:pt x="292" y="200"/>
                </a:lnTo>
                <a:lnTo>
                  <a:pt x="304" y="211"/>
                </a:lnTo>
                <a:lnTo>
                  <a:pt x="313" y="225"/>
                </a:lnTo>
                <a:lnTo>
                  <a:pt x="323" y="236"/>
                </a:lnTo>
                <a:lnTo>
                  <a:pt x="332" y="248"/>
                </a:lnTo>
                <a:lnTo>
                  <a:pt x="340" y="259"/>
                </a:lnTo>
                <a:lnTo>
                  <a:pt x="346" y="271"/>
                </a:lnTo>
                <a:lnTo>
                  <a:pt x="352" y="280"/>
                </a:lnTo>
                <a:lnTo>
                  <a:pt x="355" y="292"/>
                </a:lnTo>
                <a:lnTo>
                  <a:pt x="359" y="303"/>
                </a:lnTo>
                <a:lnTo>
                  <a:pt x="361" y="315"/>
                </a:lnTo>
                <a:lnTo>
                  <a:pt x="363" y="324"/>
                </a:lnTo>
                <a:lnTo>
                  <a:pt x="365" y="334"/>
                </a:lnTo>
                <a:lnTo>
                  <a:pt x="365" y="353"/>
                </a:lnTo>
                <a:lnTo>
                  <a:pt x="365" y="371"/>
                </a:lnTo>
                <a:lnTo>
                  <a:pt x="365" y="386"/>
                </a:lnTo>
                <a:lnTo>
                  <a:pt x="361" y="401"/>
                </a:lnTo>
                <a:lnTo>
                  <a:pt x="359" y="415"/>
                </a:lnTo>
                <a:lnTo>
                  <a:pt x="355" y="428"/>
                </a:lnTo>
                <a:lnTo>
                  <a:pt x="352" y="442"/>
                </a:lnTo>
                <a:lnTo>
                  <a:pt x="348" y="455"/>
                </a:lnTo>
                <a:lnTo>
                  <a:pt x="344" y="466"/>
                </a:lnTo>
                <a:lnTo>
                  <a:pt x="338" y="476"/>
                </a:lnTo>
                <a:lnTo>
                  <a:pt x="334" y="484"/>
                </a:lnTo>
                <a:lnTo>
                  <a:pt x="329" y="491"/>
                </a:lnTo>
                <a:lnTo>
                  <a:pt x="323" y="495"/>
                </a:lnTo>
                <a:lnTo>
                  <a:pt x="321" y="497"/>
                </a:lnTo>
                <a:lnTo>
                  <a:pt x="319" y="499"/>
                </a:lnTo>
                <a:lnTo>
                  <a:pt x="317" y="499"/>
                </a:lnTo>
                <a:lnTo>
                  <a:pt x="315" y="501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Freeform 79"/>
          <p:cNvSpPr/>
          <p:nvPr/>
        </p:nvSpPr>
        <p:spPr>
          <a:xfrm>
            <a:off x="2112840" y="2554200"/>
            <a:ext cx="138240" cy="10573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75" h="1332">
                <a:moveTo>
                  <a:pt x="13" y="6"/>
                </a:moveTo>
                <a:lnTo>
                  <a:pt x="19" y="4"/>
                </a:lnTo>
                <a:lnTo>
                  <a:pt x="25" y="2"/>
                </a:lnTo>
                <a:lnTo>
                  <a:pt x="31" y="2"/>
                </a:lnTo>
                <a:lnTo>
                  <a:pt x="38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3" y="0"/>
                </a:lnTo>
                <a:lnTo>
                  <a:pt x="83" y="2"/>
                </a:lnTo>
                <a:lnTo>
                  <a:pt x="94" y="4"/>
                </a:lnTo>
                <a:lnTo>
                  <a:pt x="106" y="6"/>
                </a:lnTo>
                <a:lnTo>
                  <a:pt x="117" y="9"/>
                </a:lnTo>
                <a:lnTo>
                  <a:pt x="131" y="13"/>
                </a:lnTo>
                <a:lnTo>
                  <a:pt x="144" y="17"/>
                </a:lnTo>
                <a:lnTo>
                  <a:pt x="159" y="23"/>
                </a:lnTo>
                <a:lnTo>
                  <a:pt x="175" y="30"/>
                </a:lnTo>
                <a:lnTo>
                  <a:pt x="175" y="57"/>
                </a:lnTo>
                <a:lnTo>
                  <a:pt x="175" y="86"/>
                </a:lnTo>
                <a:lnTo>
                  <a:pt x="175" y="117"/>
                </a:lnTo>
                <a:lnTo>
                  <a:pt x="175" y="149"/>
                </a:lnTo>
                <a:lnTo>
                  <a:pt x="175" y="184"/>
                </a:lnTo>
                <a:lnTo>
                  <a:pt x="175" y="220"/>
                </a:lnTo>
                <a:lnTo>
                  <a:pt x="175" y="259"/>
                </a:lnTo>
                <a:lnTo>
                  <a:pt x="175" y="299"/>
                </a:lnTo>
                <a:lnTo>
                  <a:pt x="175" y="339"/>
                </a:lnTo>
                <a:lnTo>
                  <a:pt x="175" y="384"/>
                </a:lnTo>
                <a:lnTo>
                  <a:pt x="175" y="430"/>
                </a:lnTo>
                <a:lnTo>
                  <a:pt x="175" y="476"/>
                </a:lnTo>
                <a:lnTo>
                  <a:pt x="175" y="526"/>
                </a:lnTo>
                <a:lnTo>
                  <a:pt x="175" y="575"/>
                </a:lnTo>
                <a:lnTo>
                  <a:pt x="175" y="627"/>
                </a:lnTo>
                <a:lnTo>
                  <a:pt x="175" y="681"/>
                </a:lnTo>
                <a:lnTo>
                  <a:pt x="175" y="708"/>
                </a:lnTo>
                <a:lnTo>
                  <a:pt x="173" y="737"/>
                </a:lnTo>
                <a:lnTo>
                  <a:pt x="173" y="764"/>
                </a:lnTo>
                <a:lnTo>
                  <a:pt x="173" y="788"/>
                </a:lnTo>
                <a:lnTo>
                  <a:pt x="171" y="813"/>
                </a:lnTo>
                <a:lnTo>
                  <a:pt x="171" y="838"/>
                </a:lnTo>
                <a:lnTo>
                  <a:pt x="171" y="863"/>
                </a:lnTo>
                <a:lnTo>
                  <a:pt x="169" y="886"/>
                </a:lnTo>
                <a:lnTo>
                  <a:pt x="169" y="907"/>
                </a:lnTo>
                <a:lnTo>
                  <a:pt x="169" y="931"/>
                </a:lnTo>
                <a:lnTo>
                  <a:pt x="167" y="952"/>
                </a:lnTo>
                <a:lnTo>
                  <a:pt x="167" y="971"/>
                </a:lnTo>
                <a:lnTo>
                  <a:pt x="167" y="992"/>
                </a:lnTo>
                <a:lnTo>
                  <a:pt x="167" y="1009"/>
                </a:lnTo>
                <a:lnTo>
                  <a:pt x="165" y="1028"/>
                </a:lnTo>
                <a:lnTo>
                  <a:pt x="165" y="1046"/>
                </a:lnTo>
                <a:lnTo>
                  <a:pt x="165" y="1063"/>
                </a:lnTo>
                <a:lnTo>
                  <a:pt x="165" y="1078"/>
                </a:lnTo>
                <a:lnTo>
                  <a:pt x="163" y="1094"/>
                </a:lnTo>
                <a:lnTo>
                  <a:pt x="163" y="1109"/>
                </a:lnTo>
                <a:lnTo>
                  <a:pt x="163" y="1122"/>
                </a:lnTo>
                <a:lnTo>
                  <a:pt x="163" y="1136"/>
                </a:lnTo>
                <a:lnTo>
                  <a:pt x="161" y="1147"/>
                </a:lnTo>
                <a:lnTo>
                  <a:pt x="161" y="1161"/>
                </a:lnTo>
                <a:lnTo>
                  <a:pt x="161" y="1170"/>
                </a:lnTo>
                <a:lnTo>
                  <a:pt x="159" y="1182"/>
                </a:lnTo>
                <a:lnTo>
                  <a:pt x="159" y="1192"/>
                </a:lnTo>
                <a:lnTo>
                  <a:pt x="159" y="1199"/>
                </a:lnTo>
                <a:lnTo>
                  <a:pt x="157" y="1207"/>
                </a:lnTo>
                <a:lnTo>
                  <a:pt x="157" y="1215"/>
                </a:lnTo>
                <a:lnTo>
                  <a:pt x="157" y="1222"/>
                </a:lnTo>
                <a:lnTo>
                  <a:pt x="155" y="1228"/>
                </a:lnTo>
                <a:lnTo>
                  <a:pt x="154" y="1239"/>
                </a:lnTo>
                <a:lnTo>
                  <a:pt x="152" y="1253"/>
                </a:lnTo>
                <a:lnTo>
                  <a:pt x="150" y="1263"/>
                </a:lnTo>
                <a:lnTo>
                  <a:pt x="150" y="1274"/>
                </a:lnTo>
                <a:lnTo>
                  <a:pt x="148" y="1284"/>
                </a:lnTo>
                <a:lnTo>
                  <a:pt x="146" y="1291"/>
                </a:lnTo>
                <a:lnTo>
                  <a:pt x="144" y="1299"/>
                </a:lnTo>
                <a:lnTo>
                  <a:pt x="142" y="1307"/>
                </a:lnTo>
                <a:lnTo>
                  <a:pt x="140" y="1312"/>
                </a:lnTo>
                <a:lnTo>
                  <a:pt x="138" y="1318"/>
                </a:lnTo>
                <a:lnTo>
                  <a:pt x="136" y="1322"/>
                </a:lnTo>
                <a:lnTo>
                  <a:pt x="134" y="1326"/>
                </a:lnTo>
                <a:lnTo>
                  <a:pt x="132" y="1328"/>
                </a:lnTo>
                <a:lnTo>
                  <a:pt x="131" y="1330"/>
                </a:lnTo>
                <a:lnTo>
                  <a:pt x="129" y="1332"/>
                </a:lnTo>
                <a:lnTo>
                  <a:pt x="127" y="1332"/>
                </a:lnTo>
                <a:lnTo>
                  <a:pt x="125" y="1332"/>
                </a:lnTo>
                <a:lnTo>
                  <a:pt x="121" y="1332"/>
                </a:lnTo>
                <a:lnTo>
                  <a:pt x="117" y="1330"/>
                </a:lnTo>
                <a:lnTo>
                  <a:pt x="113" y="1328"/>
                </a:lnTo>
                <a:lnTo>
                  <a:pt x="109" y="1326"/>
                </a:lnTo>
                <a:lnTo>
                  <a:pt x="106" y="1322"/>
                </a:lnTo>
                <a:lnTo>
                  <a:pt x="102" y="1318"/>
                </a:lnTo>
                <a:lnTo>
                  <a:pt x="98" y="1314"/>
                </a:lnTo>
                <a:lnTo>
                  <a:pt x="94" y="1310"/>
                </a:lnTo>
                <a:lnTo>
                  <a:pt x="92" y="1305"/>
                </a:lnTo>
                <a:lnTo>
                  <a:pt x="88" y="1299"/>
                </a:lnTo>
                <a:lnTo>
                  <a:pt x="84" y="1293"/>
                </a:lnTo>
                <a:lnTo>
                  <a:pt x="81" y="1286"/>
                </a:lnTo>
                <a:lnTo>
                  <a:pt x="77" y="1278"/>
                </a:lnTo>
                <a:lnTo>
                  <a:pt x="73" y="1270"/>
                </a:lnTo>
                <a:lnTo>
                  <a:pt x="71" y="1263"/>
                </a:lnTo>
                <a:lnTo>
                  <a:pt x="63" y="1245"/>
                </a:lnTo>
                <a:lnTo>
                  <a:pt x="58" y="1230"/>
                </a:lnTo>
                <a:lnTo>
                  <a:pt x="54" y="1216"/>
                </a:lnTo>
                <a:lnTo>
                  <a:pt x="50" y="1203"/>
                </a:lnTo>
                <a:lnTo>
                  <a:pt x="46" y="1192"/>
                </a:lnTo>
                <a:lnTo>
                  <a:pt x="44" y="1182"/>
                </a:lnTo>
                <a:lnTo>
                  <a:pt x="42" y="1178"/>
                </a:lnTo>
                <a:lnTo>
                  <a:pt x="42" y="1174"/>
                </a:lnTo>
                <a:lnTo>
                  <a:pt x="42" y="1172"/>
                </a:lnTo>
                <a:lnTo>
                  <a:pt x="42" y="1170"/>
                </a:lnTo>
                <a:lnTo>
                  <a:pt x="40" y="1167"/>
                </a:lnTo>
                <a:lnTo>
                  <a:pt x="38" y="1163"/>
                </a:lnTo>
                <a:lnTo>
                  <a:pt x="38" y="1159"/>
                </a:lnTo>
                <a:lnTo>
                  <a:pt x="38" y="1153"/>
                </a:lnTo>
                <a:lnTo>
                  <a:pt x="38" y="1145"/>
                </a:lnTo>
                <a:lnTo>
                  <a:pt x="38" y="1138"/>
                </a:lnTo>
                <a:lnTo>
                  <a:pt x="38" y="1130"/>
                </a:lnTo>
                <a:lnTo>
                  <a:pt x="40" y="1120"/>
                </a:lnTo>
                <a:lnTo>
                  <a:pt x="40" y="1109"/>
                </a:lnTo>
                <a:lnTo>
                  <a:pt x="42" y="1099"/>
                </a:lnTo>
                <a:lnTo>
                  <a:pt x="42" y="1088"/>
                </a:lnTo>
                <a:lnTo>
                  <a:pt x="44" y="1074"/>
                </a:lnTo>
                <a:lnTo>
                  <a:pt x="46" y="1061"/>
                </a:lnTo>
                <a:lnTo>
                  <a:pt x="48" y="1048"/>
                </a:lnTo>
                <a:lnTo>
                  <a:pt x="50" y="1032"/>
                </a:lnTo>
                <a:lnTo>
                  <a:pt x="52" y="1019"/>
                </a:lnTo>
                <a:lnTo>
                  <a:pt x="54" y="1002"/>
                </a:lnTo>
                <a:lnTo>
                  <a:pt x="54" y="984"/>
                </a:lnTo>
                <a:lnTo>
                  <a:pt x="56" y="965"/>
                </a:lnTo>
                <a:lnTo>
                  <a:pt x="58" y="944"/>
                </a:lnTo>
                <a:lnTo>
                  <a:pt x="58" y="921"/>
                </a:lnTo>
                <a:lnTo>
                  <a:pt x="60" y="898"/>
                </a:lnTo>
                <a:lnTo>
                  <a:pt x="60" y="873"/>
                </a:lnTo>
                <a:lnTo>
                  <a:pt x="61" y="846"/>
                </a:lnTo>
                <a:lnTo>
                  <a:pt x="61" y="817"/>
                </a:lnTo>
                <a:lnTo>
                  <a:pt x="63" y="787"/>
                </a:lnTo>
                <a:lnTo>
                  <a:pt x="63" y="756"/>
                </a:lnTo>
                <a:lnTo>
                  <a:pt x="65" y="721"/>
                </a:lnTo>
                <a:lnTo>
                  <a:pt x="65" y="689"/>
                </a:lnTo>
                <a:lnTo>
                  <a:pt x="67" y="652"/>
                </a:lnTo>
                <a:lnTo>
                  <a:pt x="69" y="614"/>
                </a:lnTo>
                <a:lnTo>
                  <a:pt x="71" y="575"/>
                </a:lnTo>
                <a:lnTo>
                  <a:pt x="71" y="556"/>
                </a:lnTo>
                <a:lnTo>
                  <a:pt x="71" y="537"/>
                </a:lnTo>
                <a:lnTo>
                  <a:pt x="71" y="520"/>
                </a:lnTo>
                <a:lnTo>
                  <a:pt x="71" y="501"/>
                </a:lnTo>
                <a:lnTo>
                  <a:pt x="71" y="483"/>
                </a:lnTo>
                <a:lnTo>
                  <a:pt x="71" y="468"/>
                </a:lnTo>
                <a:lnTo>
                  <a:pt x="71" y="451"/>
                </a:lnTo>
                <a:lnTo>
                  <a:pt x="71" y="435"/>
                </a:lnTo>
                <a:lnTo>
                  <a:pt x="71" y="420"/>
                </a:lnTo>
                <a:lnTo>
                  <a:pt x="71" y="405"/>
                </a:lnTo>
                <a:lnTo>
                  <a:pt x="71" y="389"/>
                </a:lnTo>
                <a:lnTo>
                  <a:pt x="71" y="376"/>
                </a:lnTo>
                <a:lnTo>
                  <a:pt x="71" y="362"/>
                </a:lnTo>
                <a:lnTo>
                  <a:pt x="71" y="349"/>
                </a:lnTo>
                <a:lnTo>
                  <a:pt x="71" y="338"/>
                </a:lnTo>
                <a:lnTo>
                  <a:pt x="71" y="324"/>
                </a:lnTo>
                <a:lnTo>
                  <a:pt x="71" y="313"/>
                </a:lnTo>
                <a:lnTo>
                  <a:pt x="71" y="303"/>
                </a:lnTo>
                <a:lnTo>
                  <a:pt x="71" y="291"/>
                </a:lnTo>
                <a:lnTo>
                  <a:pt x="71" y="282"/>
                </a:lnTo>
                <a:lnTo>
                  <a:pt x="71" y="272"/>
                </a:lnTo>
                <a:lnTo>
                  <a:pt x="71" y="263"/>
                </a:lnTo>
                <a:lnTo>
                  <a:pt x="71" y="255"/>
                </a:lnTo>
                <a:lnTo>
                  <a:pt x="71" y="247"/>
                </a:lnTo>
                <a:lnTo>
                  <a:pt x="71" y="240"/>
                </a:lnTo>
                <a:lnTo>
                  <a:pt x="71" y="234"/>
                </a:lnTo>
                <a:lnTo>
                  <a:pt x="71" y="226"/>
                </a:lnTo>
                <a:lnTo>
                  <a:pt x="71" y="220"/>
                </a:lnTo>
                <a:lnTo>
                  <a:pt x="71" y="217"/>
                </a:lnTo>
                <a:lnTo>
                  <a:pt x="71" y="211"/>
                </a:lnTo>
                <a:lnTo>
                  <a:pt x="71" y="207"/>
                </a:lnTo>
                <a:lnTo>
                  <a:pt x="71" y="203"/>
                </a:lnTo>
                <a:lnTo>
                  <a:pt x="67" y="192"/>
                </a:lnTo>
                <a:lnTo>
                  <a:pt x="63" y="178"/>
                </a:lnTo>
                <a:lnTo>
                  <a:pt x="58" y="165"/>
                </a:lnTo>
                <a:lnTo>
                  <a:pt x="54" y="149"/>
                </a:lnTo>
                <a:lnTo>
                  <a:pt x="48" y="136"/>
                </a:lnTo>
                <a:lnTo>
                  <a:pt x="40" y="121"/>
                </a:lnTo>
                <a:lnTo>
                  <a:pt x="33" y="105"/>
                </a:lnTo>
                <a:lnTo>
                  <a:pt x="23" y="88"/>
                </a:lnTo>
                <a:lnTo>
                  <a:pt x="17" y="80"/>
                </a:lnTo>
                <a:lnTo>
                  <a:pt x="13" y="75"/>
                </a:lnTo>
                <a:lnTo>
                  <a:pt x="10" y="69"/>
                </a:lnTo>
                <a:lnTo>
                  <a:pt x="6" y="61"/>
                </a:lnTo>
                <a:lnTo>
                  <a:pt x="4" y="55"/>
                </a:lnTo>
                <a:lnTo>
                  <a:pt x="2" y="50"/>
                </a:lnTo>
                <a:lnTo>
                  <a:pt x="0" y="44"/>
                </a:lnTo>
                <a:lnTo>
                  <a:pt x="0" y="38"/>
                </a:lnTo>
                <a:lnTo>
                  <a:pt x="0" y="32"/>
                </a:lnTo>
                <a:lnTo>
                  <a:pt x="0" y="29"/>
                </a:lnTo>
                <a:lnTo>
                  <a:pt x="2" y="23"/>
                </a:lnTo>
                <a:lnTo>
                  <a:pt x="2" y="19"/>
                </a:lnTo>
                <a:lnTo>
                  <a:pt x="4" y="15"/>
                </a:lnTo>
                <a:lnTo>
                  <a:pt x="8" y="11"/>
                </a:lnTo>
                <a:lnTo>
                  <a:pt x="10" y="9"/>
                </a:lnTo>
                <a:lnTo>
                  <a:pt x="13" y="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Freeform 80"/>
          <p:cNvSpPr/>
          <p:nvPr/>
        </p:nvSpPr>
        <p:spPr>
          <a:xfrm>
            <a:off x="2197080" y="2467080"/>
            <a:ext cx="558720" cy="1164960"/>
          </a:xfrm>
          <a:custGeom>
            <a:avLst/>
            <a:gdLst>
              <a:gd name="textAreaLeft" fmla="*/ 0 w 558720"/>
              <a:gd name="textAreaRight" fmla="*/ 559080 w 5587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704" h="1468">
                <a:moveTo>
                  <a:pt x="456" y="35"/>
                </a:moveTo>
                <a:lnTo>
                  <a:pt x="468" y="27"/>
                </a:lnTo>
                <a:lnTo>
                  <a:pt x="477" y="20"/>
                </a:lnTo>
                <a:lnTo>
                  <a:pt x="485" y="14"/>
                </a:lnTo>
                <a:lnTo>
                  <a:pt x="495" y="8"/>
                </a:lnTo>
                <a:lnTo>
                  <a:pt x="502" y="4"/>
                </a:lnTo>
                <a:lnTo>
                  <a:pt x="510" y="2"/>
                </a:lnTo>
                <a:lnTo>
                  <a:pt x="516" y="0"/>
                </a:lnTo>
                <a:lnTo>
                  <a:pt x="523" y="0"/>
                </a:lnTo>
                <a:lnTo>
                  <a:pt x="527" y="0"/>
                </a:lnTo>
                <a:lnTo>
                  <a:pt x="531" y="0"/>
                </a:lnTo>
                <a:lnTo>
                  <a:pt x="537" y="2"/>
                </a:lnTo>
                <a:lnTo>
                  <a:pt x="541" y="4"/>
                </a:lnTo>
                <a:lnTo>
                  <a:pt x="552" y="10"/>
                </a:lnTo>
                <a:lnTo>
                  <a:pt x="566" y="16"/>
                </a:lnTo>
                <a:lnTo>
                  <a:pt x="579" y="23"/>
                </a:lnTo>
                <a:lnTo>
                  <a:pt x="594" y="35"/>
                </a:lnTo>
                <a:lnTo>
                  <a:pt x="612" y="46"/>
                </a:lnTo>
                <a:lnTo>
                  <a:pt x="629" y="58"/>
                </a:lnTo>
                <a:lnTo>
                  <a:pt x="644" y="71"/>
                </a:lnTo>
                <a:lnTo>
                  <a:pt x="652" y="77"/>
                </a:lnTo>
                <a:lnTo>
                  <a:pt x="660" y="85"/>
                </a:lnTo>
                <a:lnTo>
                  <a:pt x="667" y="91"/>
                </a:lnTo>
                <a:lnTo>
                  <a:pt x="673" y="96"/>
                </a:lnTo>
                <a:lnTo>
                  <a:pt x="679" y="102"/>
                </a:lnTo>
                <a:lnTo>
                  <a:pt x="685" y="108"/>
                </a:lnTo>
                <a:lnTo>
                  <a:pt x="688" y="114"/>
                </a:lnTo>
                <a:lnTo>
                  <a:pt x="692" y="117"/>
                </a:lnTo>
                <a:lnTo>
                  <a:pt x="696" y="123"/>
                </a:lnTo>
                <a:lnTo>
                  <a:pt x="700" y="127"/>
                </a:lnTo>
                <a:lnTo>
                  <a:pt x="702" y="131"/>
                </a:lnTo>
                <a:lnTo>
                  <a:pt x="704" y="135"/>
                </a:lnTo>
                <a:lnTo>
                  <a:pt x="704" y="137"/>
                </a:lnTo>
                <a:lnTo>
                  <a:pt x="704" y="140"/>
                </a:lnTo>
                <a:lnTo>
                  <a:pt x="704" y="148"/>
                </a:lnTo>
                <a:lnTo>
                  <a:pt x="704" y="158"/>
                </a:lnTo>
                <a:lnTo>
                  <a:pt x="702" y="165"/>
                </a:lnTo>
                <a:lnTo>
                  <a:pt x="698" y="175"/>
                </a:lnTo>
                <a:lnTo>
                  <a:pt x="692" y="192"/>
                </a:lnTo>
                <a:lnTo>
                  <a:pt x="685" y="210"/>
                </a:lnTo>
                <a:lnTo>
                  <a:pt x="679" y="223"/>
                </a:lnTo>
                <a:lnTo>
                  <a:pt x="673" y="238"/>
                </a:lnTo>
                <a:lnTo>
                  <a:pt x="667" y="254"/>
                </a:lnTo>
                <a:lnTo>
                  <a:pt x="664" y="271"/>
                </a:lnTo>
                <a:lnTo>
                  <a:pt x="658" y="288"/>
                </a:lnTo>
                <a:lnTo>
                  <a:pt x="654" y="307"/>
                </a:lnTo>
                <a:lnTo>
                  <a:pt x="650" y="329"/>
                </a:lnTo>
                <a:lnTo>
                  <a:pt x="648" y="350"/>
                </a:lnTo>
                <a:lnTo>
                  <a:pt x="646" y="355"/>
                </a:lnTo>
                <a:lnTo>
                  <a:pt x="646" y="363"/>
                </a:lnTo>
                <a:lnTo>
                  <a:pt x="644" y="371"/>
                </a:lnTo>
                <a:lnTo>
                  <a:pt x="644" y="380"/>
                </a:lnTo>
                <a:lnTo>
                  <a:pt x="642" y="390"/>
                </a:lnTo>
                <a:lnTo>
                  <a:pt x="642" y="400"/>
                </a:lnTo>
                <a:lnTo>
                  <a:pt x="641" y="409"/>
                </a:lnTo>
                <a:lnTo>
                  <a:pt x="641" y="421"/>
                </a:lnTo>
                <a:lnTo>
                  <a:pt x="641" y="432"/>
                </a:lnTo>
                <a:lnTo>
                  <a:pt x="639" y="446"/>
                </a:lnTo>
                <a:lnTo>
                  <a:pt x="639" y="457"/>
                </a:lnTo>
                <a:lnTo>
                  <a:pt x="637" y="472"/>
                </a:lnTo>
                <a:lnTo>
                  <a:pt x="637" y="486"/>
                </a:lnTo>
                <a:lnTo>
                  <a:pt x="637" y="501"/>
                </a:lnTo>
                <a:lnTo>
                  <a:pt x="635" y="517"/>
                </a:lnTo>
                <a:lnTo>
                  <a:pt x="635" y="532"/>
                </a:lnTo>
                <a:lnTo>
                  <a:pt x="633" y="549"/>
                </a:lnTo>
                <a:lnTo>
                  <a:pt x="633" y="566"/>
                </a:lnTo>
                <a:lnTo>
                  <a:pt x="633" y="584"/>
                </a:lnTo>
                <a:lnTo>
                  <a:pt x="633" y="603"/>
                </a:lnTo>
                <a:lnTo>
                  <a:pt x="631" y="622"/>
                </a:lnTo>
                <a:lnTo>
                  <a:pt x="631" y="641"/>
                </a:lnTo>
                <a:lnTo>
                  <a:pt x="631" y="662"/>
                </a:lnTo>
                <a:lnTo>
                  <a:pt x="631" y="684"/>
                </a:lnTo>
                <a:lnTo>
                  <a:pt x="629" y="705"/>
                </a:lnTo>
                <a:lnTo>
                  <a:pt x="629" y="726"/>
                </a:lnTo>
                <a:lnTo>
                  <a:pt x="629" y="749"/>
                </a:lnTo>
                <a:lnTo>
                  <a:pt x="629" y="772"/>
                </a:lnTo>
                <a:lnTo>
                  <a:pt x="629" y="797"/>
                </a:lnTo>
                <a:lnTo>
                  <a:pt x="629" y="822"/>
                </a:lnTo>
                <a:lnTo>
                  <a:pt x="629" y="847"/>
                </a:lnTo>
                <a:lnTo>
                  <a:pt x="629" y="872"/>
                </a:lnTo>
                <a:lnTo>
                  <a:pt x="629" y="898"/>
                </a:lnTo>
                <a:lnTo>
                  <a:pt x="629" y="923"/>
                </a:lnTo>
                <a:lnTo>
                  <a:pt x="629" y="948"/>
                </a:lnTo>
                <a:lnTo>
                  <a:pt x="629" y="971"/>
                </a:lnTo>
                <a:lnTo>
                  <a:pt x="629" y="994"/>
                </a:lnTo>
                <a:lnTo>
                  <a:pt x="629" y="1017"/>
                </a:lnTo>
                <a:lnTo>
                  <a:pt x="629" y="1039"/>
                </a:lnTo>
                <a:lnTo>
                  <a:pt x="629" y="1060"/>
                </a:lnTo>
                <a:lnTo>
                  <a:pt x="629" y="1081"/>
                </a:lnTo>
                <a:lnTo>
                  <a:pt x="627" y="1100"/>
                </a:lnTo>
                <a:lnTo>
                  <a:pt x="627" y="1119"/>
                </a:lnTo>
                <a:lnTo>
                  <a:pt x="627" y="1138"/>
                </a:lnTo>
                <a:lnTo>
                  <a:pt x="627" y="1156"/>
                </a:lnTo>
                <a:lnTo>
                  <a:pt x="627" y="1173"/>
                </a:lnTo>
                <a:lnTo>
                  <a:pt x="627" y="1190"/>
                </a:lnTo>
                <a:lnTo>
                  <a:pt x="627" y="1206"/>
                </a:lnTo>
                <a:lnTo>
                  <a:pt x="627" y="1221"/>
                </a:lnTo>
                <a:lnTo>
                  <a:pt x="627" y="1234"/>
                </a:lnTo>
                <a:lnTo>
                  <a:pt x="627" y="1250"/>
                </a:lnTo>
                <a:lnTo>
                  <a:pt x="625" y="1263"/>
                </a:lnTo>
                <a:lnTo>
                  <a:pt x="625" y="1275"/>
                </a:lnTo>
                <a:lnTo>
                  <a:pt x="625" y="1286"/>
                </a:lnTo>
                <a:lnTo>
                  <a:pt x="625" y="1298"/>
                </a:lnTo>
                <a:lnTo>
                  <a:pt x="625" y="1309"/>
                </a:lnTo>
                <a:lnTo>
                  <a:pt x="623" y="1319"/>
                </a:lnTo>
                <a:lnTo>
                  <a:pt x="623" y="1328"/>
                </a:lnTo>
                <a:lnTo>
                  <a:pt x="623" y="1338"/>
                </a:lnTo>
                <a:lnTo>
                  <a:pt x="621" y="1346"/>
                </a:lnTo>
                <a:lnTo>
                  <a:pt x="621" y="1353"/>
                </a:lnTo>
                <a:lnTo>
                  <a:pt x="621" y="1361"/>
                </a:lnTo>
                <a:lnTo>
                  <a:pt x="619" y="1367"/>
                </a:lnTo>
                <a:lnTo>
                  <a:pt x="619" y="1373"/>
                </a:lnTo>
                <a:lnTo>
                  <a:pt x="617" y="1382"/>
                </a:lnTo>
                <a:lnTo>
                  <a:pt x="616" y="1394"/>
                </a:lnTo>
                <a:lnTo>
                  <a:pt x="614" y="1403"/>
                </a:lnTo>
                <a:lnTo>
                  <a:pt x="610" y="1411"/>
                </a:lnTo>
                <a:lnTo>
                  <a:pt x="608" y="1420"/>
                </a:lnTo>
                <a:lnTo>
                  <a:pt x="606" y="1428"/>
                </a:lnTo>
                <a:lnTo>
                  <a:pt x="602" y="1434"/>
                </a:lnTo>
                <a:lnTo>
                  <a:pt x="600" y="1442"/>
                </a:lnTo>
                <a:lnTo>
                  <a:pt x="596" y="1445"/>
                </a:lnTo>
                <a:lnTo>
                  <a:pt x="594" y="1451"/>
                </a:lnTo>
                <a:lnTo>
                  <a:pt x="593" y="1455"/>
                </a:lnTo>
                <a:lnTo>
                  <a:pt x="589" y="1459"/>
                </a:lnTo>
                <a:lnTo>
                  <a:pt x="587" y="1463"/>
                </a:lnTo>
                <a:lnTo>
                  <a:pt x="585" y="1465"/>
                </a:lnTo>
                <a:lnTo>
                  <a:pt x="583" y="1465"/>
                </a:lnTo>
                <a:lnTo>
                  <a:pt x="581" y="1465"/>
                </a:lnTo>
                <a:lnTo>
                  <a:pt x="577" y="1467"/>
                </a:lnTo>
                <a:lnTo>
                  <a:pt x="573" y="1468"/>
                </a:lnTo>
                <a:lnTo>
                  <a:pt x="570" y="1468"/>
                </a:lnTo>
                <a:lnTo>
                  <a:pt x="566" y="1468"/>
                </a:lnTo>
                <a:lnTo>
                  <a:pt x="564" y="1467"/>
                </a:lnTo>
                <a:lnTo>
                  <a:pt x="560" y="1465"/>
                </a:lnTo>
                <a:lnTo>
                  <a:pt x="556" y="1461"/>
                </a:lnTo>
                <a:lnTo>
                  <a:pt x="552" y="1457"/>
                </a:lnTo>
                <a:lnTo>
                  <a:pt x="548" y="1451"/>
                </a:lnTo>
                <a:lnTo>
                  <a:pt x="545" y="1447"/>
                </a:lnTo>
                <a:lnTo>
                  <a:pt x="541" y="1440"/>
                </a:lnTo>
                <a:lnTo>
                  <a:pt x="539" y="1432"/>
                </a:lnTo>
                <a:lnTo>
                  <a:pt x="535" y="1424"/>
                </a:lnTo>
                <a:lnTo>
                  <a:pt x="531" y="1417"/>
                </a:lnTo>
                <a:lnTo>
                  <a:pt x="527" y="1407"/>
                </a:lnTo>
                <a:lnTo>
                  <a:pt x="523" y="1396"/>
                </a:lnTo>
                <a:lnTo>
                  <a:pt x="520" y="1386"/>
                </a:lnTo>
                <a:lnTo>
                  <a:pt x="518" y="1376"/>
                </a:lnTo>
                <a:lnTo>
                  <a:pt x="516" y="1365"/>
                </a:lnTo>
                <a:lnTo>
                  <a:pt x="514" y="1353"/>
                </a:lnTo>
                <a:lnTo>
                  <a:pt x="512" y="1342"/>
                </a:lnTo>
                <a:lnTo>
                  <a:pt x="510" y="1328"/>
                </a:lnTo>
                <a:lnTo>
                  <a:pt x="508" y="1313"/>
                </a:lnTo>
                <a:lnTo>
                  <a:pt x="508" y="1298"/>
                </a:lnTo>
                <a:lnTo>
                  <a:pt x="508" y="1282"/>
                </a:lnTo>
                <a:lnTo>
                  <a:pt x="508" y="1265"/>
                </a:lnTo>
                <a:lnTo>
                  <a:pt x="508" y="1246"/>
                </a:lnTo>
                <a:lnTo>
                  <a:pt x="508" y="1227"/>
                </a:lnTo>
                <a:lnTo>
                  <a:pt x="510" y="1207"/>
                </a:lnTo>
                <a:lnTo>
                  <a:pt x="512" y="1186"/>
                </a:lnTo>
                <a:lnTo>
                  <a:pt x="512" y="1163"/>
                </a:lnTo>
                <a:lnTo>
                  <a:pt x="514" y="1140"/>
                </a:lnTo>
                <a:lnTo>
                  <a:pt x="516" y="1115"/>
                </a:lnTo>
                <a:lnTo>
                  <a:pt x="518" y="1090"/>
                </a:lnTo>
                <a:lnTo>
                  <a:pt x="518" y="1064"/>
                </a:lnTo>
                <a:lnTo>
                  <a:pt x="520" y="1035"/>
                </a:lnTo>
                <a:lnTo>
                  <a:pt x="520" y="1006"/>
                </a:lnTo>
                <a:lnTo>
                  <a:pt x="522" y="975"/>
                </a:lnTo>
                <a:lnTo>
                  <a:pt x="522" y="945"/>
                </a:lnTo>
                <a:lnTo>
                  <a:pt x="522" y="912"/>
                </a:lnTo>
                <a:lnTo>
                  <a:pt x="523" y="877"/>
                </a:lnTo>
                <a:lnTo>
                  <a:pt x="523" y="843"/>
                </a:lnTo>
                <a:lnTo>
                  <a:pt x="523" y="806"/>
                </a:lnTo>
                <a:lnTo>
                  <a:pt x="523" y="768"/>
                </a:lnTo>
                <a:lnTo>
                  <a:pt x="523" y="730"/>
                </a:lnTo>
                <a:lnTo>
                  <a:pt x="523" y="689"/>
                </a:lnTo>
                <a:lnTo>
                  <a:pt x="523" y="647"/>
                </a:lnTo>
                <a:lnTo>
                  <a:pt x="523" y="605"/>
                </a:lnTo>
                <a:lnTo>
                  <a:pt x="523" y="584"/>
                </a:lnTo>
                <a:lnTo>
                  <a:pt x="523" y="563"/>
                </a:lnTo>
                <a:lnTo>
                  <a:pt x="523" y="542"/>
                </a:lnTo>
                <a:lnTo>
                  <a:pt x="523" y="522"/>
                </a:lnTo>
                <a:lnTo>
                  <a:pt x="523" y="503"/>
                </a:lnTo>
                <a:lnTo>
                  <a:pt x="523" y="486"/>
                </a:lnTo>
                <a:lnTo>
                  <a:pt x="522" y="467"/>
                </a:lnTo>
                <a:lnTo>
                  <a:pt x="522" y="449"/>
                </a:lnTo>
                <a:lnTo>
                  <a:pt x="522" y="434"/>
                </a:lnTo>
                <a:lnTo>
                  <a:pt x="522" y="417"/>
                </a:lnTo>
                <a:lnTo>
                  <a:pt x="520" y="401"/>
                </a:lnTo>
                <a:lnTo>
                  <a:pt x="520" y="386"/>
                </a:lnTo>
                <a:lnTo>
                  <a:pt x="518" y="373"/>
                </a:lnTo>
                <a:lnTo>
                  <a:pt x="518" y="359"/>
                </a:lnTo>
                <a:lnTo>
                  <a:pt x="516" y="346"/>
                </a:lnTo>
                <a:lnTo>
                  <a:pt x="516" y="332"/>
                </a:lnTo>
                <a:lnTo>
                  <a:pt x="514" y="321"/>
                </a:lnTo>
                <a:lnTo>
                  <a:pt x="512" y="309"/>
                </a:lnTo>
                <a:lnTo>
                  <a:pt x="512" y="300"/>
                </a:lnTo>
                <a:lnTo>
                  <a:pt x="510" y="288"/>
                </a:lnTo>
                <a:lnTo>
                  <a:pt x="508" y="279"/>
                </a:lnTo>
                <a:lnTo>
                  <a:pt x="506" y="269"/>
                </a:lnTo>
                <a:lnTo>
                  <a:pt x="506" y="261"/>
                </a:lnTo>
                <a:lnTo>
                  <a:pt x="504" y="254"/>
                </a:lnTo>
                <a:lnTo>
                  <a:pt x="502" y="246"/>
                </a:lnTo>
                <a:lnTo>
                  <a:pt x="500" y="238"/>
                </a:lnTo>
                <a:lnTo>
                  <a:pt x="497" y="233"/>
                </a:lnTo>
                <a:lnTo>
                  <a:pt x="495" y="227"/>
                </a:lnTo>
                <a:lnTo>
                  <a:pt x="493" y="221"/>
                </a:lnTo>
                <a:lnTo>
                  <a:pt x="491" y="217"/>
                </a:lnTo>
                <a:lnTo>
                  <a:pt x="489" y="213"/>
                </a:lnTo>
                <a:lnTo>
                  <a:pt x="485" y="210"/>
                </a:lnTo>
                <a:lnTo>
                  <a:pt x="481" y="204"/>
                </a:lnTo>
                <a:lnTo>
                  <a:pt x="475" y="198"/>
                </a:lnTo>
                <a:lnTo>
                  <a:pt x="470" y="192"/>
                </a:lnTo>
                <a:lnTo>
                  <a:pt x="464" y="187"/>
                </a:lnTo>
                <a:lnTo>
                  <a:pt x="458" y="183"/>
                </a:lnTo>
                <a:lnTo>
                  <a:pt x="452" y="179"/>
                </a:lnTo>
                <a:lnTo>
                  <a:pt x="447" y="177"/>
                </a:lnTo>
                <a:lnTo>
                  <a:pt x="441" y="175"/>
                </a:lnTo>
                <a:lnTo>
                  <a:pt x="435" y="173"/>
                </a:lnTo>
                <a:lnTo>
                  <a:pt x="429" y="171"/>
                </a:lnTo>
                <a:lnTo>
                  <a:pt x="424" y="171"/>
                </a:lnTo>
                <a:lnTo>
                  <a:pt x="418" y="169"/>
                </a:lnTo>
                <a:lnTo>
                  <a:pt x="410" y="171"/>
                </a:lnTo>
                <a:lnTo>
                  <a:pt x="404" y="171"/>
                </a:lnTo>
                <a:lnTo>
                  <a:pt x="397" y="173"/>
                </a:lnTo>
                <a:lnTo>
                  <a:pt x="391" y="175"/>
                </a:lnTo>
                <a:lnTo>
                  <a:pt x="381" y="177"/>
                </a:lnTo>
                <a:lnTo>
                  <a:pt x="370" y="181"/>
                </a:lnTo>
                <a:lnTo>
                  <a:pt x="356" y="183"/>
                </a:lnTo>
                <a:lnTo>
                  <a:pt x="341" y="188"/>
                </a:lnTo>
                <a:lnTo>
                  <a:pt x="324" y="192"/>
                </a:lnTo>
                <a:lnTo>
                  <a:pt x="305" y="198"/>
                </a:lnTo>
                <a:lnTo>
                  <a:pt x="284" y="204"/>
                </a:lnTo>
                <a:lnTo>
                  <a:pt x="262" y="210"/>
                </a:lnTo>
                <a:lnTo>
                  <a:pt x="237" y="215"/>
                </a:lnTo>
                <a:lnTo>
                  <a:pt x="213" y="223"/>
                </a:lnTo>
                <a:lnTo>
                  <a:pt x="184" y="231"/>
                </a:lnTo>
                <a:lnTo>
                  <a:pt x="155" y="240"/>
                </a:lnTo>
                <a:lnTo>
                  <a:pt x="124" y="248"/>
                </a:lnTo>
                <a:lnTo>
                  <a:pt x="92" y="258"/>
                </a:lnTo>
                <a:lnTo>
                  <a:pt x="55" y="269"/>
                </a:lnTo>
                <a:lnTo>
                  <a:pt x="19" y="279"/>
                </a:lnTo>
                <a:lnTo>
                  <a:pt x="9" y="210"/>
                </a:lnTo>
                <a:lnTo>
                  <a:pt x="0" y="140"/>
                </a:lnTo>
                <a:lnTo>
                  <a:pt x="46" y="139"/>
                </a:lnTo>
                <a:lnTo>
                  <a:pt x="69" y="139"/>
                </a:lnTo>
                <a:lnTo>
                  <a:pt x="90" y="137"/>
                </a:lnTo>
                <a:lnTo>
                  <a:pt x="111" y="137"/>
                </a:lnTo>
                <a:lnTo>
                  <a:pt x="132" y="135"/>
                </a:lnTo>
                <a:lnTo>
                  <a:pt x="151" y="133"/>
                </a:lnTo>
                <a:lnTo>
                  <a:pt x="170" y="129"/>
                </a:lnTo>
                <a:lnTo>
                  <a:pt x="190" y="127"/>
                </a:lnTo>
                <a:lnTo>
                  <a:pt x="209" y="123"/>
                </a:lnTo>
                <a:lnTo>
                  <a:pt x="226" y="119"/>
                </a:lnTo>
                <a:lnTo>
                  <a:pt x="243" y="116"/>
                </a:lnTo>
                <a:lnTo>
                  <a:pt x="259" y="110"/>
                </a:lnTo>
                <a:lnTo>
                  <a:pt x="276" y="106"/>
                </a:lnTo>
                <a:lnTo>
                  <a:pt x="291" y="100"/>
                </a:lnTo>
                <a:lnTo>
                  <a:pt x="305" y="92"/>
                </a:lnTo>
                <a:lnTo>
                  <a:pt x="318" y="89"/>
                </a:lnTo>
                <a:lnTo>
                  <a:pt x="332" y="85"/>
                </a:lnTo>
                <a:lnTo>
                  <a:pt x="345" y="79"/>
                </a:lnTo>
                <a:lnTo>
                  <a:pt x="356" y="75"/>
                </a:lnTo>
                <a:lnTo>
                  <a:pt x="368" y="71"/>
                </a:lnTo>
                <a:lnTo>
                  <a:pt x="380" y="68"/>
                </a:lnTo>
                <a:lnTo>
                  <a:pt x="389" y="64"/>
                </a:lnTo>
                <a:lnTo>
                  <a:pt x="399" y="60"/>
                </a:lnTo>
                <a:lnTo>
                  <a:pt x="408" y="56"/>
                </a:lnTo>
                <a:lnTo>
                  <a:pt x="416" y="52"/>
                </a:lnTo>
                <a:lnTo>
                  <a:pt x="424" y="48"/>
                </a:lnTo>
                <a:lnTo>
                  <a:pt x="431" y="46"/>
                </a:lnTo>
                <a:lnTo>
                  <a:pt x="439" y="43"/>
                </a:lnTo>
                <a:lnTo>
                  <a:pt x="445" y="41"/>
                </a:lnTo>
                <a:lnTo>
                  <a:pt x="452" y="37"/>
                </a:lnTo>
                <a:lnTo>
                  <a:pt x="456" y="3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Freeform 81"/>
          <p:cNvSpPr/>
          <p:nvPr/>
        </p:nvSpPr>
        <p:spPr>
          <a:xfrm>
            <a:off x="2658960" y="2298600"/>
            <a:ext cx="550800" cy="1119240"/>
          </a:xfrm>
          <a:custGeom>
            <a:avLst/>
            <a:gdLst>
              <a:gd name="textAreaLeft" fmla="*/ 0 w 550800"/>
              <a:gd name="textAreaRight" fmla="*/ 551160 w 5508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695" h="1411">
                <a:moveTo>
                  <a:pt x="486" y="225"/>
                </a:moveTo>
                <a:lnTo>
                  <a:pt x="487" y="204"/>
                </a:lnTo>
                <a:lnTo>
                  <a:pt x="491" y="183"/>
                </a:lnTo>
                <a:lnTo>
                  <a:pt x="491" y="163"/>
                </a:lnTo>
                <a:lnTo>
                  <a:pt x="491" y="144"/>
                </a:lnTo>
                <a:lnTo>
                  <a:pt x="491" y="127"/>
                </a:lnTo>
                <a:lnTo>
                  <a:pt x="491" y="108"/>
                </a:lnTo>
                <a:lnTo>
                  <a:pt x="487" y="91"/>
                </a:lnTo>
                <a:lnTo>
                  <a:pt x="486" y="73"/>
                </a:lnTo>
                <a:lnTo>
                  <a:pt x="482" y="62"/>
                </a:lnTo>
                <a:lnTo>
                  <a:pt x="480" y="50"/>
                </a:lnTo>
                <a:lnTo>
                  <a:pt x="480" y="39"/>
                </a:lnTo>
                <a:lnTo>
                  <a:pt x="480" y="29"/>
                </a:lnTo>
                <a:lnTo>
                  <a:pt x="482" y="25"/>
                </a:lnTo>
                <a:lnTo>
                  <a:pt x="484" y="21"/>
                </a:lnTo>
                <a:lnTo>
                  <a:pt x="486" y="18"/>
                </a:lnTo>
                <a:lnTo>
                  <a:pt x="487" y="14"/>
                </a:lnTo>
                <a:lnTo>
                  <a:pt x="491" y="12"/>
                </a:lnTo>
                <a:lnTo>
                  <a:pt x="495" y="8"/>
                </a:lnTo>
                <a:lnTo>
                  <a:pt x="499" y="6"/>
                </a:lnTo>
                <a:lnTo>
                  <a:pt x="505" y="4"/>
                </a:lnTo>
                <a:lnTo>
                  <a:pt x="511" y="2"/>
                </a:lnTo>
                <a:lnTo>
                  <a:pt x="516" y="0"/>
                </a:lnTo>
                <a:lnTo>
                  <a:pt x="522" y="0"/>
                </a:lnTo>
                <a:lnTo>
                  <a:pt x="528" y="0"/>
                </a:lnTo>
                <a:lnTo>
                  <a:pt x="534" y="2"/>
                </a:lnTo>
                <a:lnTo>
                  <a:pt x="541" y="4"/>
                </a:lnTo>
                <a:lnTo>
                  <a:pt x="547" y="8"/>
                </a:lnTo>
                <a:lnTo>
                  <a:pt x="555" y="10"/>
                </a:lnTo>
                <a:lnTo>
                  <a:pt x="562" y="16"/>
                </a:lnTo>
                <a:lnTo>
                  <a:pt x="568" y="20"/>
                </a:lnTo>
                <a:lnTo>
                  <a:pt x="576" y="25"/>
                </a:lnTo>
                <a:lnTo>
                  <a:pt x="585" y="31"/>
                </a:lnTo>
                <a:lnTo>
                  <a:pt x="593" y="39"/>
                </a:lnTo>
                <a:lnTo>
                  <a:pt x="601" y="44"/>
                </a:lnTo>
                <a:lnTo>
                  <a:pt x="610" y="54"/>
                </a:lnTo>
                <a:lnTo>
                  <a:pt x="618" y="62"/>
                </a:lnTo>
                <a:lnTo>
                  <a:pt x="635" y="79"/>
                </a:lnTo>
                <a:lnTo>
                  <a:pt x="643" y="87"/>
                </a:lnTo>
                <a:lnTo>
                  <a:pt x="651" y="94"/>
                </a:lnTo>
                <a:lnTo>
                  <a:pt x="656" y="102"/>
                </a:lnTo>
                <a:lnTo>
                  <a:pt x="664" y="110"/>
                </a:lnTo>
                <a:lnTo>
                  <a:pt x="670" y="115"/>
                </a:lnTo>
                <a:lnTo>
                  <a:pt x="674" y="121"/>
                </a:lnTo>
                <a:lnTo>
                  <a:pt x="679" y="127"/>
                </a:lnTo>
                <a:lnTo>
                  <a:pt x="683" y="133"/>
                </a:lnTo>
                <a:lnTo>
                  <a:pt x="687" y="137"/>
                </a:lnTo>
                <a:lnTo>
                  <a:pt x="689" y="142"/>
                </a:lnTo>
                <a:lnTo>
                  <a:pt x="691" y="146"/>
                </a:lnTo>
                <a:lnTo>
                  <a:pt x="693" y="150"/>
                </a:lnTo>
                <a:lnTo>
                  <a:pt x="695" y="152"/>
                </a:lnTo>
                <a:lnTo>
                  <a:pt x="695" y="156"/>
                </a:lnTo>
                <a:lnTo>
                  <a:pt x="695" y="163"/>
                </a:lnTo>
                <a:lnTo>
                  <a:pt x="693" y="175"/>
                </a:lnTo>
                <a:lnTo>
                  <a:pt x="689" y="187"/>
                </a:lnTo>
                <a:lnTo>
                  <a:pt x="685" y="200"/>
                </a:lnTo>
                <a:lnTo>
                  <a:pt x="681" y="215"/>
                </a:lnTo>
                <a:lnTo>
                  <a:pt x="677" y="223"/>
                </a:lnTo>
                <a:lnTo>
                  <a:pt x="674" y="233"/>
                </a:lnTo>
                <a:lnTo>
                  <a:pt x="670" y="240"/>
                </a:lnTo>
                <a:lnTo>
                  <a:pt x="666" y="250"/>
                </a:lnTo>
                <a:lnTo>
                  <a:pt x="662" y="261"/>
                </a:lnTo>
                <a:lnTo>
                  <a:pt x="656" y="271"/>
                </a:lnTo>
                <a:lnTo>
                  <a:pt x="651" y="282"/>
                </a:lnTo>
                <a:lnTo>
                  <a:pt x="645" y="296"/>
                </a:lnTo>
                <a:lnTo>
                  <a:pt x="639" y="309"/>
                </a:lnTo>
                <a:lnTo>
                  <a:pt x="633" y="323"/>
                </a:lnTo>
                <a:lnTo>
                  <a:pt x="628" y="338"/>
                </a:lnTo>
                <a:lnTo>
                  <a:pt x="620" y="355"/>
                </a:lnTo>
                <a:lnTo>
                  <a:pt x="614" y="373"/>
                </a:lnTo>
                <a:lnTo>
                  <a:pt x="608" y="390"/>
                </a:lnTo>
                <a:lnTo>
                  <a:pt x="601" y="409"/>
                </a:lnTo>
                <a:lnTo>
                  <a:pt x="593" y="428"/>
                </a:lnTo>
                <a:lnTo>
                  <a:pt x="587" y="449"/>
                </a:lnTo>
                <a:lnTo>
                  <a:pt x="580" y="471"/>
                </a:lnTo>
                <a:lnTo>
                  <a:pt x="574" y="492"/>
                </a:lnTo>
                <a:lnTo>
                  <a:pt x="566" y="515"/>
                </a:lnTo>
                <a:lnTo>
                  <a:pt x="558" y="538"/>
                </a:lnTo>
                <a:lnTo>
                  <a:pt x="553" y="563"/>
                </a:lnTo>
                <a:lnTo>
                  <a:pt x="545" y="586"/>
                </a:lnTo>
                <a:lnTo>
                  <a:pt x="535" y="611"/>
                </a:lnTo>
                <a:lnTo>
                  <a:pt x="528" y="637"/>
                </a:lnTo>
                <a:lnTo>
                  <a:pt x="518" y="664"/>
                </a:lnTo>
                <a:lnTo>
                  <a:pt x="507" y="691"/>
                </a:lnTo>
                <a:lnTo>
                  <a:pt x="497" y="720"/>
                </a:lnTo>
                <a:lnTo>
                  <a:pt x="484" y="747"/>
                </a:lnTo>
                <a:lnTo>
                  <a:pt x="472" y="778"/>
                </a:lnTo>
                <a:lnTo>
                  <a:pt x="459" y="806"/>
                </a:lnTo>
                <a:lnTo>
                  <a:pt x="443" y="837"/>
                </a:lnTo>
                <a:lnTo>
                  <a:pt x="430" y="868"/>
                </a:lnTo>
                <a:lnTo>
                  <a:pt x="413" y="898"/>
                </a:lnTo>
                <a:lnTo>
                  <a:pt x="397" y="929"/>
                </a:lnTo>
                <a:lnTo>
                  <a:pt x="380" y="962"/>
                </a:lnTo>
                <a:lnTo>
                  <a:pt x="361" y="994"/>
                </a:lnTo>
                <a:lnTo>
                  <a:pt x="342" y="1027"/>
                </a:lnTo>
                <a:lnTo>
                  <a:pt x="322" y="1062"/>
                </a:lnTo>
                <a:lnTo>
                  <a:pt x="303" y="1094"/>
                </a:lnTo>
                <a:lnTo>
                  <a:pt x="282" y="1127"/>
                </a:lnTo>
                <a:lnTo>
                  <a:pt x="263" y="1156"/>
                </a:lnTo>
                <a:lnTo>
                  <a:pt x="242" y="1184"/>
                </a:lnTo>
                <a:lnTo>
                  <a:pt x="221" y="1211"/>
                </a:lnTo>
                <a:lnTo>
                  <a:pt x="200" y="1238"/>
                </a:lnTo>
                <a:lnTo>
                  <a:pt x="178" y="1263"/>
                </a:lnTo>
                <a:lnTo>
                  <a:pt x="157" y="1286"/>
                </a:lnTo>
                <a:lnTo>
                  <a:pt x="134" y="1307"/>
                </a:lnTo>
                <a:lnTo>
                  <a:pt x="113" y="1328"/>
                </a:lnTo>
                <a:lnTo>
                  <a:pt x="90" y="1348"/>
                </a:lnTo>
                <a:lnTo>
                  <a:pt x="69" y="1365"/>
                </a:lnTo>
                <a:lnTo>
                  <a:pt x="46" y="1382"/>
                </a:lnTo>
                <a:lnTo>
                  <a:pt x="23" y="1397"/>
                </a:lnTo>
                <a:lnTo>
                  <a:pt x="0" y="1411"/>
                </a:lnTo>
                <a:lnTo>
                  <a:pt x="35" y="1353"/>
                </a:lnTo>
                <a:lnTo>
                  <a:pt x="69" y="1298"/>
                </a:lnTo>
                <a:lnTo>
                  <a:pt x="102" y="1240"/>
                </a:lnTo>
                <a:lnTo>
                  <a:pt x="136" y="1181"/>
                </a:lnTo>
                <a:lnTo>
                  <a:pt x="167" y="1121"/>
                </a:lnTo>
                <a:lnTo>
                  <a:pt x="198" y="1062"/>
                </a:lnTo>
                <a:lnTo>
                  <a:pt x="213" y="1031"/>
                </a:lnTo>
                <a:lnTo>
                  <a:pt x="228" y="998"/>
                </a:lnTo>
                <a:lnTo>
                  <a:pt x="242" y="966"/>
                </a:lnTo>
                <a:lnTo>
                  <a:pt x="257" y="935"/>
                </a:lnTo>
                <a:lnTo>
                  <a:pt x="284" y="874"/>
                </a:lnTo>
                <a:lnTo>
                  <a:pt x="309" y="814"/>
                </a:lnTo>
                <a:lnTo>
                  <a:pt x="334" y="756"/>
                </a:lnTo>
                <a:lnTo>
                  <a:pt x="357" y="701"/>
                </a:lnTo>
                <a:lnTo>
                  <a:pt x="376" y="645"/>
                </a:lnTo>
                <a:lnTo>
                  <a:pt x="395" y="591"/>
                </a:lnTo>
                <a:lnTo>
                  <a:pt x="405" y="566"/>
                </a:lnTo>
                <a:lnTo>
                  <a:pt x="413" y="542"/>
                </a:lnTo>
                <a:lnTo>
                  <a:pt x="420" y="517"/>
                </a:lnTo>
                <a:lnTo>
                  <a:pt x="428" y="492"/>
                </a:lnTo>
                <a:lnTo>
                  <a:pt x="434" y="469"/>
                </a:lnTo>
                <a:lnTo>
                  <a:pt x="438" y="446"/>
                </a:lnTo>
                <a:lnTo>
                  <a:pt x="443" y="424"/>
                </a:lnTo>
                <a:lnTo>
                  <a:pt x="447" y="405"/>
                </a:lnTo>
                <a:lnTo>
                  <a:pt x="451" y="384"/>
                </a:lnTo>
                <a:lnTo>
                  <a:pt x="457" y="367"/>
                </a:lnTo>
                <a:lnTo>
                  <a:pt x="461" y="350"/>
                </a:lnTo>
                <a:lnTo>
                  <a:pt x="464" y="332"/>
                </a:lnTo>
                <a:lnTo>
                  <a:pt x="466" y="317"/>
                </a:lnTo>
                <a:lnTo>
                  <a:pt x="470" y="302"/>
                </a:lnTo>
                <a:lnTo>
                  <a:pt x="474" y="286"/>
                </a:lnTo>
                <a:lnTo>
                  <a:pt x="476" y="273"/>
                </a:lnTo>
                <a:lnTo>
                  <a:pt x="478" y="259"/>
                </a:lnTo>
                <a:lnTo>
                  <a:pt x="482" y="248"/>
                </a:lnTo>
                <a:lnTo>
                  <a:pt x="484" y="236"/>
                </a:lnTo>
                <a:lnTo>
                  <a:pt x="486" y="22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Freeform 82"/>
          <p:cNvSpPr/>
          <p:nvPr/>
        </p:nvSpPr>
        <p:spPr>
          <a:xfrm>
            <a:off x="2960640" y="2817720"/>
            <a:ext cx="574560" cy="212760"/>
          </a:xfrm>
          <a:custGeom>
            <a:avLst/>
            <a:gdLst>
              <a:gd name="textAreaLeft" fmla="*/ 0 w 574560"/>
              <a:gd name="textAreaRight" fmla="*/ 574920 w 574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724" h="268">
                <a:moveTo>
                  <a:pt x="0" y="163"/>
                </a:moveTo>
                <a:lnTo>
                  <a:pt x="29" y="163"/>
                </a:lnTo>
                <a:lnTo>
                  <a:pt x="58" y="161"/>
                </a:lnTo>
                <a:lnTo>
                  <a:pt x="86" y="159"/>
                </a:lnTo>
                <a:lnTo>
                  <a:pt x="113" y="155"/>
                </a:lnTo>
                <a:lnTo>
                  <a:pt x="140" y="149"/>
                </a:lnTo>
                <a:lnTo>
                  <a:pt x="167" y="144"/>
                </a:lnTo>
                <a:lnTo>
                  <a:pt x="194" y="136"/>
                </a:lnTo>
                <a:lnTo>
                  <a:pt x="219" y="128"/>
                </a:lnTo>
                <a:lnTo>
                  <a:pt x="232" y="124"/>
                </a:lnTo>
                <a:lnTo>
                  <a:pt x="246" y="123"/>
                </a:lnTo>
                <a:lnTo>
                  <a:pt x="259" y="119"/>
                </a:lnTo>
                <a:lnTo>
                  <a:pt x="273" y="115"/>
                </a:lnTo>
                <a:lnTo>
                  <a:pt x="301" y="105"/>
                </a:lnTo>
                <a:lnTo>
                  <a:pt x="332" y="94"/>
                </a:lnTo>
                <a:lnTo>
                  <a:pt x="365" y="82"/>
                </a:lnTo>
                <a:lnTo>
                  <a:pt x="397" y="67"/>
                </a:lnTo>
                <a:lnTo>
                  <a:pt x="432" y="52"/>
                </a:lnTo>
                <a:lnTo>
                  <a:pt x="466" y="34"/>
                </a:lnTo>
                <a:lnTo>
                  <a:pt x="484" y="29"/>
                </a:lnTo>
                <a:lnTo>
                  <a:pt x="499" y="23"/>
                </a:lnTo>
                <a:lnTo>
                  <a:pt x="512" y="17"/>
                </a:lnTo>
                <a:lnTo>
                  <a:pt x="528" y="13"/>
                </a:lnTo>
                <a:lnTo>
                  <a:pt x="541" y="9"/>
                </a:lnTo>
                <a:lnTo>
                  <a:pt x="555" y="6"/>
                </a:lnTo>
                <a:lnTo>
                  <a:pt x="568" y="4"/>
                </a:lnTo>
                <a:lnTo>
                  <a:pt x="582" y="2"/>
                </a:lnTo>
                <a:lnTo>
                  <a:pt x="593" y="0"/>
                </a:lnTo>
                <a:lnTo>
                  <a:pt x="605" y="0"/>
                </a:lnTo>
                <a:lnTo>
                  <a:pt x="616" y="0"/>
                </a:lnTo>
                <a:lnTo>
                  <a:pt x="628" y="0"/>
                </a:lnTo>
                <a:lnTo>
                  <a:pt x="637" y="2"/>
                </a:lnTo>
                <a:lnTo>
                  <a:pt x="649" y="4"/>
                </a:lnTo>
                <a:lnTo>
                  <a:pt x="658" y="7"/>
                </a:lnTo>
                <a:lnTo>
                  <a:pt x="666" y="11"/>
                </a:lnTo>
                <a:lnTo>
                  <a:pt x="679" y="21"/>
                </a:lnTo>
                <a:lnTo>
                  <a:pt x="691" y="29"/>
                </a:lnTo>
                <a:lnTo>
                  <a:pt x="700" y="38"/>
                </a:lnTo>
                <a:lnTo>
                  <a:pt x="710" y="46"/>
                </a:lnTo>
                <a:lnTo>
                  <a:pt x="716" y="55"/>
                </a:lnTo>
                <a:lnTo>
                  <a:pt x="720" y="63"/>
                </a:lnTo>
                <a:lnTo>
                  <a:pt x="724" y="73"/>
                </a:lnTo>
                <a:lnTo>
                  <a:pt x="724" y="82"/>
                </a:lnTo>
                <a:lnTo>
                  <a:pt x="724" y="84"/>
                </a:lnTo>
                <a:lnTo>
                  <a:pt x="724" y="86"/>
                </a:lnTo>
                <a:lnTo>
                  <a:pt x="722" y="88"/>
                </a:lnTo>
                <a:lnTo>
                  <a:pt x="720" y="90"/>
                </a:lnTo>
                <a:lnTo>
                  <a:pt x="716" y="94"/>
                </a:lnTo>
                <a:lnTo>
                  <a:pt x="712" y="96"/>
                </a:lnTo>
                <a:lnTo>
                  <a:pt x="708" y="98"/>
                </a:lnTo>
                <a:lnTo>
                  <a:pt x="704" y="101"/>
                </a:lnTo>
                <a:lnTo>
                  <a:pt x="699" y="103"/>
                </a:lnTo>
                <a:lnTo>
                  <a:pt x="693" y="107"/>
                </a:lnTo>
                <a:lnTo>
                  <a:pt x="687" y="109"/>
                </a:lnTo>
                <a:lnTo>
                  <a:pt x="679" y="113"/>
                </a:lnTo>
                <a:lnTo>
                  <a:pt x="672" y="115"/>
                </a:lnTo>
                <a:lnTo>
                  <a:pt x="662" y="119"/>
                </a:lnTo>
                <a:lnTo>
                  <a:pt x="654" y="121"/>
                </a:lnTo>
                <a:lnTo>
                  <a:pt x="645" y="124"/>
                </a:lnTo>
                <a:lnTo>
                  <a:pt x="633" y="128"/>
                </a:lnTo>
                <a:lnTo>
                  <a:pt x="622" y="132"/>
                </a:lnTo>
                <a:lnTo>
                  <a:pt x="610" y="134"/>
                </a:lnTo>
                <a:lnTo>
                  <a:pt x="599" y="138"/>
                </a:lnTo>
                <a:lnTo>
                  <a:pt x="585" y="142"/>
                </a:lnTo>
                <a:lnTo>
                  <a:pt x="572" y="146"/>
                </a:lnTo>
                <a:lnTo>
                  <a:pt x="558" y="149"/>
                </a:lnTo>
                <a:lnTo>
                  <a:pt x="543" y="153"/>
                </a:lnTo>
                <a:lnTo>
                  <a:pt x="528" y="157"/>
                </a:lnTo>
                <a:lnTo>
                  <a:pt x="511" y="161"/>
                </a:lnTo>
                <a:lnTo>
                  <a:pt x="495" y="165"/>
                </a:lnTo>
                <a:lnTo>
                  <a:pt x="476" y="169"/>
                </a:lnTo>
                <a:lnTo>
                  <a:pt x="459" y="172"/>
                </a:lnTo>
                <a:lnTo>
                  <a:pt x="439" y="176"/>
                </a:lnTo>
                <a:lnTo>
                  <a:pt x="420" y="182"/>
                </a:lnTo>
                <a:lnTo>
                  <a:pt x="401" y="186"/>
                </a:lnTo>
                <a:lnTo>
                  <a:pt x="380" y="192"/>
                </a:lnTo>
                <a:lnTo>
                  <a:pt x="361" y="197"/>
                </a:lnTo>
                <a:lnTo>
                  <a:pt x="342" y="201"/>
                </a:lnTo>
                <a:lnTo>
                  <a:pt x="322" y="207"/>
                </a:lnTo>
                <a:lnTo>
                  <a:pt x="303" y="211"/>
                </a:lnTo>
                <a:lnTo>
                  <a:pt x="286" y="215"/>
                </a:lnTo>
                <a:lnTo>
                  <a:pt x="269" y="220"/>
                </a:lnTo>
                <a:lnTo>
                  <a:pt x="251" y="224"/>
                </a:lnTo>
                <a:lnTo>
                  <a:pt x="236" y="228"/>
                </a:lnTo>
                <a:lnTo>
                  <a:pt x="221" y="232"/>
                </a:lnTo>
                <a:lnTo>
                  <a:pt x="205" y="234"/>
                </a:lnTo>
                <a:lnTo>
                  <a:pt x="190" y="238"/>
                </a:lnTo>
                <a:lnTo>
                  <a:pt x="177" y="242"/>
                </a:lnTo>
                <a:lnTo>
                  <a:pt x="163" y="243"/>
                </a:lnTo>
                <a:lnTo>
                  <a:pt x="150" y="247"/>
                </a:lnTo>
                <a:lnTo>
                  <a:pt x="136" y="249"/>
                </a:lnTo>
                <a:lnTo>
                  <a:pt x="125" y="251"/>
                </a:lnTo>
                <a:lnTo>
                  <a:pt x="111" y="253"/>
                </a:lnTo>
                <a:lnTo>
                  <a:pt x="102" y="255"/>
                </a:lnTo>
                <a:lnTo>
                  <a:pt x="90" y="257"/>
                </a:lnTo>
                <a:lnTo>
                  <a:pt x="81" y="259"/>
                </a:lnTo>
                <a:lnTo>
                  <a:pt x="71" y="261"/>
                </a:lnTo>
                <a:lnTo>
                  <a:pt x="61" y="263"/>
                </a:lnTo>
                <a:lnTo>
                  <a:pt x="52" y="263"/>
                </a:lnTo>
                <a:lnTo>
                  <a:pt x="44" y="265"/>
                </a:lnTo>
                <a:lnTo>
                  <a:pt x="36" y="265"/>
                </a:lnTo>
                <a:lnTo>
                  <a:pt x="29" y="267"/>
                </a:lnTo>
                <a:lnTo>
                  <a:pt x="23" y="267"/>
                </a:lnTo>
                <a:lnTo>
                  <a:pt x="15" y="267"/>
                </a:lnTo>
                <a:lnTo>
                  <a:pt x="10" y="267"/>
                </a:lnTo>
                <a:lnTo>
                  <a:pt x="6" y="267"/>
                </a:lnTo>
                <a:lnTo>
                  <a:pt x="0" y="268"/>
                </a:lnTo>
                <a:lnTo>
                  <a:pt x="0" y="16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Freeform 83"/>
          <p:cNvSpPr/>
          <p:nvPr/>
        </p:nvSpPr>
        <p:spPr>
          <a:xfrm>
            <a:off x="2681280" y="2982960"/>
            <a:ext cx="611280" cy="992160"/>
          </a:xfrm>
          <a:custGeom>
            <a:avLst/>
            <a:gdLst>
              <a:gd name="textAreaLeft" fmla="*/ 0 w 611280"/>
              <a:gd name="textAreaRight" fmla="*/ 611640 w 611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769" h="1249">
                <a:moveTo>
                  <a:pt x="570" y="0"/>
                </a:moveTo>
                <a:lnTo>
                  <a:pt x="587" y="8"/>
                </a:lnTo>
                <a:lnTo>
                  <a:pt x="604" y="13"/>
                </a:lnTo>
                <a:lnTo>
                  <a:pt x="620" y="21"/>
                </a:lnTo>
                <a:lnTo>
                  <a:pt x="635" y="27"/>
                </a:lnTo>
                <a:lnTo>
                  <a:pt x="648" y="33"/>
                </a:lnTo>
                <a:lnTo>
                  <a:pt x="662" y="40"/>
                </a:lnTo>
                <a:lnTo>
                  <a:pt x="673" y="46"/>
                </a:lnTo>
                <a:lnTo>
                  <a:pt x="685" y="54"/>
                </a:lnTo>
                <a:lnTo>
                  <a:pt x="695" y="59"/>
                </a:lnTo>
                <a:lnTo>
                  <a:pt x="704" y="65"/>
                </a:lnTo>
                <a:lnTo>
                  <a:pt x="712" y="73"/>
                </a:lnTo>
                <a:lnTo>
                  <a:pt x="719" y="79"/>
                </a:lnTo>
                <a:lnTo>
                  <a:pt x="727" y="86"/>
                </a:lnTo>
                <a:lnTo>
                  <a:pt x="733" y="92"/>
                </a:lnTo>
                <a:lnTo>
                  <a:pt x="737" y="98"/>
                </a:lnTo>
                <a:lnTo>
                  <a:pt x="743" y="105"/>
                </a:lnTo>
                <a:lnTo>
                  <a:pt x="744" y="117"/>
                </a:lnTo>
                <a:lnTo>
                  <a:pt x="748" y="129"/>
                </a:lnTo>
                <a:lnTo>
                  <a:pt x="752" y="140"/>
                </a:lnTo>
                <a:lnTo>
                  <a:pt x="756" y="148"/>
                </a:lnTo>
                <a:lnTo>
                  <a:pt x="760" y="157"/>
                </a:lnTo>
                <a:lnTo>
                  <a:pt x="764" y="163"/>
                </a:lnTo>
                <a:lnTo>
                  <a:pt x="767" y="171"/>
                </a:lnTo>
                <a:lnTo>
                  <a:pt x="769" y="175"/>
                </a:lnTo>
                <a:lnTo>
                  <a:pt x="769" y="176"/>
                </a:lnTo>
                <a:lnTo>
                  <a:pt x="769" y="178"/>
                </a:lnTo>
                <a:lnTo>
                  <a:pt x="769" y="180"/>
                </a:lnTo>
                <a:lnTo>
                  <a:pt x="769" y="184"/>
                </a:lnTo>
                <a:lnTo>
                  <a:pt x="767" y="188"/>
                </a:lnTo>
                <a:lnTo>
                  <a:pt x="767" y="192"/>
                </a:lnTo>
                <a:lnTo>
                  <a:pt x="766" y="198"/>
                </a:lnTo>
                <a:lnTo>
                  <a:pt x="766" y="203"/>
                </a:lnTo>
                <a:lnTo>
                  <a:pt x="764" y="209"/>
                </a:lnTo>
                <a:lnTo>
                  <a:pt x="762" y="217"/>
                </a:lnTo>
                <a:lnTo>
                  <a:pt x="760" y="223"/>
                </a:lnTo>
                <a:lnTo>
                  <a:pt x="758" y="232"/>
                </a:lnTo>
                <a:lnTo>
                  <a:pt x="756" y="240"/>
                </a:lnTo>
                <a:lnTo>
                  <a:pt x="754" y="249"/>
                </a:lnTo>
                <a:lnTo>
                  <a:pt x="752" y="259"/>
                </a:lnTo>
                <a:lnTo>
                  <a:pt x="750" y="269"/>
                </a:lnTo>
                <a:lnTo>
                  <a:pt x="746" y="280"/>
                </a:lnTo>
                <a:lnTo>
                  <a:pt x="744" y="292"/>
                </a:lnTo>
                <a:lnTo>
                  <a:pt x="741" y="303"/>
                </a:lnTo>
                <a:lnTo>
                  <a:pt x="739" y="317"/>
                </a:lnTo>
                <a:lnTo>
                  <a:pt x="735" y="330"/>
                </a:lnTo>
                <a:lnTo>
                  <a:pt x="733" y="343"/>
                </a:lnTo>
                <a:lnTo>
                  <a:pt x="729" y="357"/>
                </a:lnTo>
                <a:lnTo>
                  <a:pt x="725" y="372"/>
                </a:lnTo>
                <a:lnTo>
                  <a:pt x="721" y="388"/>
                </a:lnTo>
                <a:lnTo>
                  <a:pt x="718" y="405"/>
                </a:lnTo>
                <a:lnTo>
                  <a:pt x="714" y="420"/>
                </a:lnTo>
                <a:lnTo>
                  <a:pt x="710" y="437"/>
                </a:lnTo>
                <a:lnTo>
                  <a:pt x="706" y="455"/>
                </a:lnTo>
                <a:lnTo>
                  <a:pt x="702" y="474"/>
                </a:lnTo>
                <a:lnTo>
                  <a:pt x="698" y="493"/>
                </a:lnTo>
                <a:lnTo>
                  <a:pt x="695" y="512"/>
                </a:lnTo>
                <a:lnTo>
                  <a:pt x="683" y="553"/>
                </a:lnTo>
                <a:lnTo>
                  <a:pt x="672" y="591"/>
                </a:lnTo>
                <a:lnTo>
                  <a:pt x="660" y="629"/>
                </a:lnTo>
                <a:lnTo>
                  <a:pt x="648" y="666"/>
                </a:lnTo>
                <a:lnTo>
                  <a:pt x="635" y="698"/>
                </a:lnTo>
                <a:lnTo>
                  <a:pt x="622" y="731"/>
                </a:lnTo>
                <a:lnTo>
                  <a:pt x="610" y="764"/>
                </a:lnTo>
                <a:lnTo>
                  <a:pt x="595" y="793"/>
                </a:lnTo>
                <a:lnTo>
                  <a:pt x="581" y="821"/>
                </a:lnTo>
                <a:lnTo>
                  <a:pt x="568" y="846"/>
                </a:lnTo>
                <a:lnTo>
                  <a:pt x="553" y="873"/>
                </a:lnTo>
                <a:lnTo>
                  <a:pt x="537" y="896"/>
                </a:lnTo>
                <a:lnTo>
                  <a:pt x="522" y="919"/>
                </a:lnTo>
                <a:lnTo>
                  <a:pt x="506" y="940"/>
                </a:lnTo>
                <a:lnTo>
                  <a:pt x="491" y="959"/>
                </a:lnTo>
                <a:lnTo>
                  <a:pt x="476" y="977"/>
                </a:lnTo>
                <a:lnTo>
                  <a:pt x="458" y="996"/>
                </a:lnTo>
                <a:lnTo>
                  <a:pt x="443" y="1015"/>
                </a:lnTo>
                <a:lnTo>
                  <a:pt x="428" y="1032"/>
                </a:lnTo>
                <a:lnTo>
                  <a:pt x="411" y="1048"/>
                </a:lnTo>
                <a:lnTo>
                  <a:pt x="395" y="1063"/>
                </a:lnTo>
                <a:lnTo>
                  <a:pt x="380" y="1077"/>
                </a:lnTo>
                <a:lnTo>
                  <a:pt x="363" y="1090"/>
                </a:lnTo>
                <a:lnTo>
                  <a:pt x="347" y="1101"/>
                </a:lnTo>
                <a:lnTo>
                  <a:pt x="332" y="1113"/>
                </a:lnTo>
                <a:lnTo>
                  <a:pt x="315" y="1125"/>
                </a:lnTo>
                <a:lnTo>
                  <a:pt x="299" y="1134"/>
                </a:lnTo>
                <a:lnTo>
                  <a:pt x="282" y="1144"/>
                </a:lnTo>
                <a:lnTo>
                  <a:pt x="267" y="1153"/>
                </a:lnTo>
                <a:lnTo>
                  <a:pt x="249" y="1161"/>
                </a:lnTo>
                <a:lnTo>
                  <a:pt x="234" y="1169"/>
                </a:lnTo>
                <a:lnTo>
                  <a:pt x="219" y="1174"/>
                </a:lnTo>
                <a:lnTo>
                  <a:pt x="203" y="1182"/>
                </a:lnTo>
                <a:lnTo>
                  <a:pt x="188" y="1188"/>
                </a:lnTo>
                <a:lnTo>
                  <a:pt x="173" y="1194"/>
                </a:lnTo>
                <a:lnTo>
                  <a:pt x="159" y="1199"/>
                </a:lnTo>
                <a:lnTo>
                  <a:pt x="146" y="1205"/>
                </a:lnTo>
                <a:lnTo>
                  <a:pt x="134" y="1209"/>
                </a:lnTo>
                <a:lnTo>
                  <a:pt x="123" y="1215"/>
                </a:lnTo>
                <a:lnTo>
                  <a:pt x="111" y="1219"/>
                </a:lnTo>
                <a:lnTo>
                  <a:pt x="102" y="1222"/>
                </a:lnTo>
                <a:lnTo>
                  <a:pt x="92" y="1226"/>
                </a:lnTo>
                <a:lnTo>
                  <a:pt x="82" y="1230"/>
                </a:lnTo>
                <a:lnTo>
                  <a:pt x="73" y="1234"/>
                </a:lnTo>
                <a:lnTo>
                  <a:pt x="65" y="1238"/>
                </a:lnTo>
                <a:lnTo>
                  <a:pt x="59" y="1240"/>
                </a:lnTo>
                <a:lnTo>
                  <a:pt x="52" y="1242"/>
                </a:lnTo>
                <a:lnTo>
                  <a:pt x="48" y="1245"/>
                </a:lnTo>
                <a:lnTo>
                  <a:pt x="42" y="1247"/>
                </a:lnTo>
                <a:lnTo>
                  <a:pt x="36" y="1247"/>
                </a:lnTo>
                <a:lnTo>
                  <a:pt x="32" y="1249"/>
                </a:lnTo>
                <a:lnTo>
                  <a:pt x="27" y="1249"/>
                </a:lnTo>
                <a:lnTo>
                  <a:pt x="19" y="1249"/>
                </a:lnTo>
                <a:lnTo>
                  <a:pt x="13" y="1247"/>
                </a:lnTo>
                <a:lnTo>
                  <a:pt x="7" y="1245"/>
                </a:lnTo>
                <a:lnTo>
                  <a:pt x="4" y="1242"/>
                </a:lnTo>
                <a:lnTo>
                  <a:pt x="0" y="1238"/>
                </a:lnTo>
                <a:lnTo>
                  <a:pt x="0" y="1234"/>
                </a:lnTo>
                <a:lnTo>
                  <a:pt x="0" y="1230"/>
                </a:lnTo>
                <a:lnTo>
                  <a:pt x="2" y="1228"/>
                </a:lnTo>
                <a:lnTo>
                  <a:pt x="4" y="1226"/>
                </a:lnTo>
                <a:lnTo>
                  <a:pt x="7" y="1222"/>
                </a:lnTo>
                <a:lnTo>
                  <a:pt x="13" y="1219"/>
                </a:lnTo>
                <a:lnTo>
                  <a:pt x="19" y="1215"/>
                </a:lnTo>
                <a:lnTo>
                  <a:pt x="27" y="1209"/>
                </a:lnTo>
                <a:lnTo>
                  <a:pt x="34" y="1205"/>
                </a:lnTo>
                <a:lnTo>
                  <a:pt x="44" y="1199"/>
                </a:lnTo>
                <a:lnTo>
                  <a:pt x="54" y="1192"/>
                </a:lnTo>
                <a:lnTo>
                  <a:pt x="63" y="1186"/>
                </a:lnTo>
                <a:lnTo>
                  <a:pt x="77" y="1178"/>
                </a:lnTo>
                <a:lnTo>
                  <a:pt x="88" y="1171"/>
                </a:lnTo>
                <a:lnTo>
                  <a:pt x="102" y="1161"/>
                </a:lnTo>
                <a:lnTo>
                  <a:pt x="117" y="1151"/>
                </a:lnTo>
                <a:lnTo>
                  <a:pt x="132" y="1140"/>
                </a:lnTo>
                <a:lnTo>
                  <a:pt x="149" y="1128"/>
                </a:lnTo>
                <a:lnTo>
                  <a:pt x="165" y="1117"/>
                </a:lnTo>
                <a:lnTo>
                  <a:pt x="182" y="1105"/>
                </a:lnTo>
                <a:lnTo>
                  <a:pt x="197" y="1092"/>
                </a:lnTo>
                <a:lnTo>
                  <a:pt x="215" y="1078"/>
                </a:lnTo>
                <a:lnTo>
                  <a:pt x="232" y="1065"/>
                </a:lnTo>
                <a:lnTo>
                  <a:pt x="249" y="1050"/>
                </a:lnTo>
                <a:lnTo>
                  <a:pt x="267" y="1034"/>
                </a:lnTo>
                <a:lnTo>
                  <a:pt x="284" y="1017"/>
                </a:lnTo>
                <a:lnTo>
                  <a:pt x="299" y="1002"/>
                </a:lnTo>
                <a:lnTo>
                  <a:pt x="316" y="984"/>
                </a:lnTo>
                <a:lnTo>
                  <a:pt x="334" y="965"/>
                </a:lnTo>
                <a:lnTo>
                  <a:pt x="351" y="946"/>
                </a:lnTo>
                <a:lnTo>
                  <a:pt x="366" y="927"/>
                </a:lnTo>
                <a:lnTo>
                  <a:pt x="384" y="906"/>
                </a:lnTo>
                <a:lnTo>
                  <a:pt x="399" y="885"/>
                </a:lnTo>
                <a:lnTo>
                  <a:pt x="414" y="862"/>
                </a:lnTo>
                <a:lnTo>
                  <a:pt x="430" y="840"/>
                </a:lnTo>
                <a:lnTo>
                  <a:pt x="443" y="817"/>
                </a:lnTo>
                <a:lnTo>
                  <a:pt x="457" y="794"/>
                </a:lnTo>
                <a:lnTo>
                  <a:pt x="468" y="771"/>
                </a:lnTo>
                <a:lnTo>
                  <a:pt x="480" y="748"/>
                </a:lnTo>
                <a:lnTo>
                  <a:pt x="491" y="725"/>
                </a:lnTo>
                <a:lnTo>
                  <a:pt x="501" y="702"/>
                </a:lnTo>
                <a:lnTo>
                  <a:pt x="510" y="679"/>
                </a:lnTo>
                <a:lnTo>
                  <a:pt x="520" y="654"/>
                </a:lnTo>
                <a:lnTo>
                  <a:pt x="528" y="631"/>
                </a:lnTo>
                <a:lnTo>
                  <a:pt x="535" y="608"/>
                </a:lnTo>
                <a:lnTo>
                  <a:pt x="543" y="583"/>
                </a:lnTo>
                <a:lnTo>
                  <a:pt x="549" y="560"/>
                </a:lnTo>
                <a:lnTo>
                  <a:pt x="556" y="535"/>
                </a:lnTo>
                <a:lnTo>
                  <a:pt x="560" y="512"/>
                </a:lnTo>
                <a:lnTo>
                  <a:pt x="564" y="489"/>
                </a:lnTo>
                <a:lnTo>
                  <a:pt x="568" y="466"/>
                </a:lnTo>
                <a:lnTo>
                  <a:pt x="570" y="445"/>
                </a:lnTo>
                <a:lnTo>
                  <a:pt x="574" y="424"/>
                </a:lnTo>
                <a:lnTo>
                  <a:pt x="576" y="405"/>
                </a:lnTo>
                <a:lnTo>
                  <a:pt x="579" y="386"/>
                </a:lnTo>
                <a:lnTo>
                  <a:pt x="581" y="368"/>
                </a:lnTo>
                <a:lnTo>
                  <a:pt x="583" y="353"/>
                </a:lnTo>
                <a:lnTo>
                  <a:pt x="585" y="336"/>
                </a:lnTo>
                <a:lnTo>
                  <a:pt x="587" y="320"/>
                </a:lnTo>
                <a:lnTo>
                  <a:pt x="589" y="307"/>
                </a:lnTo>
                <a:lnTo>
                  <a:pt x="591" y="294"/>
                </a:lnTo>
                <a:lnTo>
                  <a:pt x="593" y="280"/>
                </a:lnTo>
                <a:lnTo>
                  <a:pt x="595" y="267"/>
                </a:lnTo>
                <a:lnTo>
                  <a:pt x="597" y="255"/>
                </a:lnTo>
                <a:lnTo>
                  <a:pt x="599" y="246"/>
                </a:lnTo>
                <a:lnTo>
                  <a:pt x="599" y="234"/>
                </a:lnTo>
                <a:lnTo>
                  <a:pt x="599" y="223"/>
                </a:lnTo>
                <a:lnTo>
                  <a:pt x="599" y="209"/>
                </a:lnTo>
                <a:lnTo>
                  <a:pt x="597" y="196"/>
                </a:lnTo>
                <a:lnTo>
                  <a:pt x="597" y="184"/>
                </a:lnTo>
                <a:lnTo>
                  <a:pt x="595" y="169"/>
                </a:lnTo>
                <a:lnTo>
                  <a:pt x="593" y="155"/>
                </a:lnTo>
                <a:lnTo>
                  <a:pt x="591" y="140"/>
                </a:lnTo>
                <a:lnTo>
                  <a:pt x="589" y="125"/>
                </a:lnTo>
                <a:lnTo>
                  <a:pt x="587" y="107"/>
                </a:lnTo>
                <a:lnTo>
                  <a:pt x="585" y="92"/>
                </a:lnTo>
                <a:lnTo>
                  <a:pt x="583" y="75"/>
                </a:lnTo>
                <a:lnTo>
                  <a:pt x="579" y="58"/>
                </a:lnTo>
                <a:lnTo>
                  <a:pt x="577" y="38"/>
                </a:lnTo>
                <a:lnTo>
                  <a:pt x="574" y="19"/>
                </a:lnTo>
                <a:lnTo>
                  <a:pt x="570" y="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Freeform 84"/>
          <p:cNvSpPr/>
          <p:nvPr/>
        </p:nvSpPr>
        <p:spPr>
          <a:xfrm>
            <a:off x="2825640" y="3159000"/>
            <a:ext cx="982800" cy="949320"/>
          </a:xfrm>
          <a:custGeom>
            <a:avLst/>
            <a:gdLst>
              <a:gd name="textAreaLeft" fmla="*/ 0 w 982800"/>
              <a:gd name="textAreaRight" fmla="*/ 983160 w 98280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238" h="1195">
                <a:moveTo>
                  <a:pt x="952" y="1188"/>
                </a:moveTo>
                <a:lnTo>
                  <a:pt x="927" y="1191"/>
                </a:lnTo>
                <a:lnTo>
                  <a:pt x="906" y="1193"/>
                </a:lnTo>
                <a:lnTo>
                  <a:pt x="883" y="1195"/>
                </a:lnTo>
                <a:lnTo>
                  <a:pt x="864" y="1195"/>
                </a:lnTo>
                <a:lnTo>
                  <a:pt x="845" y="1195"/>
                </a:lnTo>
                <a:lnTo>
                  <a:pt x="825" y="1193"/>
                </a:lnTo>
                <a:lnTo>
                  <a:pt x="808" y="1191"/>
                </a:lnTo>
                <a:lnTo>
                  <a:pt x="791" y="1188"/>
                </a:lnTo>
                <a:lnTo>
                  <a:pt x="781" y="1184"/>
                </a:lnTo>
                <a:lnTo>
                  <a:pt x="772" y="1182"/>
                </a:lnTo>
                <a:lnTo>
                  <a:pt x="764" y="1178"/>
                </a:lnTo>
                <a:lnTo>
                  <a:pt x="754" y="1174"/>
                </a:lnTo>
                <a:lnTo>
                  <a:pt x="745" y="1168"/>
                </a:lnTo>
                <a:lnTo>
                  <a:pt x="737" y="1163"/>
                </a:lnTo>
                <a:lnTo>
                  <a:pt x="728" y="1157"/>
                </a:lnTo>
                <a:lnTo>
                  <a:pt x="718" y="1149"/>
                </a:lnTo>
                <a:lnTo>
                  <a:pt x="710" y="1141"/>
                </a:lnTo>
                <a:lnTo>
                  <a:pt x="701" y="1132"/>
                </a:lnTo>
                <a:lnTo>
                  <a:pt x="691" y="1122"/>
                </a:lnTo>
                <a:lnTo>
                  <a:pt x="683" y="1111"/>
                </a:lnTo>
                <a:lnTo>
                  <a:pt x="674" y="1099"/>
                </a:lnTo>
                <a:lnTo>
                  <a:pt x="664" y="1088"/>
                </a:lnTo>
                <a:lnTo>
                  <a:pt x="657" y="1074"/>
                </a:lnTo>
                <a:lnTo>
                  <a:pt x="647" y="1059"/>
                </a:lnTo>
                <a:lnTo>
                  <a:pt x="643" y="1051"/>
                </a:lnTo>
                <a:lnTo>
                  <a:pt x="635" y="1042"/>
                </a:lnTo>
                <a:lnTo>
                  <a:pt x="630" y="1032"/>
                </a:lnTo>
                <a:lnTo>
                  <a:pt x="622" y="1021"/>
                </a:lnTo>
                <a:lnTo>
                  <a:pt x="612" y="1007"/>
                </a:lnTo>
                <a:lnTo>
                  <a:pt x="603" y="992"/>
                </a:lnTo>
                <a:lnTo>
                  <a:pt x="591" y="976"/>
                </a:lnTo>
                <a:lnTo>
                  <a:pt x="580" y="959"/>
                </a:lnTo>
                <a:lnTo>
                  <a:pt x="566" y="940"/>
                </a:lnTo>
                <a:lnTo>
                  <a:pt x="553" y="919"/>
                </a:lnTo>
                <a:lnTo>
                  <a:pt x="538" y="896"/>
                </a:lnTo>
                <a:lnTo>
                  <a:pt x="520" y="873"/>
                </a:lnTo>
                <a:lnTo>
                  <a:pt x="503" y="848"/>
                </a:lnTo>
                <a:lnTo>
                  <a:pt x="486" y="821"/>
                </a:lnTo>
                <a:lnTo>
                  <a:pt x="467" y="792"/>
                </a:lnTo>
                <a:lnTo>
                  <a:pt x="447" y="762"/>
                </a:lnTo>
                <a:lnTo>
                  <a:pt x="426" y="731"/>
                </a:lnTo>
                <a:lnTo>
                  <a:pt x="403" y="698"/>
                </a:lnTo>
                <a:lnTo>
                  <a:pt x="382" y="664"/>
                </a:lnTo>
                <a:lnTo>
                  <a:pt x="357" y="627"/>
                </a:lnTo>
                <a:lnTo>
                  <a:pt x="332" y="589"/>
                </a:lnTo>
                <a:lnTo>
                  <a:pt x="307" y="550"/>
                </a:lnTo>
                <a:lnTo>
                  <a:pt x="280" y="508"/>
                </a:lnTo>
                <a:lnTo>
                  <a:pt x="254" y="466"/>
                </a:lnTo>
                <a:lnTo>
                  <a:pt x="225" y="422"/>
                </a:lnTo>
                <a:lnTo>
                  <a:pt x="196" y="378"/>
                </a:lnTo>
                <a:lnTo>
                  <a:pt x="165" y="330"/>
                </a:lnTo>
                <a:lnTo>
                  <a:pt x="135" y="282"/>
                </a:lnTo>
                <a:lnTo>
                  <a:pt x="102" y="230"/>
                </a:lnTo>
                <a:lnTo>
                  <a:pt x="69" y="178"/>
                </a:lnTo>
                <a:lnTo>
                  <a:pt x="35" y="124"/>
                </a:lnTo>
                <a:lnTo>
                  <a:pt x="0" y="71"/>
                </a:lnTo>
                <a:lnTo>
                  <a:pt x="14" y="36"/>
                </a:lnTo>
                <a:lnTo>
                  <a:pt x="29" y="0"/>
                </a:lnTo>
                <a:lnTo>
                  <a:pt x="60" y="42"/>
                </a:lnTo>
                <a:lnTo>
                  <a:pt x="90" y="82"/>
                </a:lnTo>
                <a:lnTo>
                  <a:pt x="121" y="121"/>
                </a:lnTo>
                <a:lnTo>
                  <a:pt x="152" y="157"/>
                </a:lnTo>
                <a:lnTo>
                  <a:pt x="181" y="195"/>
                </a:lnTo>
                <a:lnTo>
                  <a:pt x="207" y="230"/>
                </a:lnTo>
                <a:lnTo>
                  <a:pt x="236" y="264"/>
                </a:lnTo>
                <a:lnTo>
                  <a:pt x="263" y="297"/>
                </a:lnTo>
                <a:lnTo>
                  <a:pt x="288" y="330"/>
                </a:lnTo>
                <a:lnTo>
                  <a:pt x="315" y="360"/>
                </a:lnTo>
                <a:lnTo>
                  <a:pt x="338" y="389"/>
                </a:lnTo>
                <a:lnTo>
                  <a:pt x="363" y="418"/>
                </a:lnTo>
                <a:lnTo>
                  <a:pt x="384" y="447"/>
                </a:lnTo>
                <a:lnTo>
                  <a:pt x="407" y="474"/>
                </a:lnTo>
                <a:lnTo>
                  <a:pt x="428" y="499"/>
                </a:lnTo>
                <a:lnTo>
                  <a:pt x="447" y="524"/>
                </a:lnTo>
                <a:lnTo>
                  <a:pt x="467" y="547"/>
                </a:lnTo>
                <a:lnTo>
                  <a:pt x="486" y="570"/>
                </a:lnTo>
                <a:lnTo>
                  <a:pt x="505" y="593"/>
                </a:lnTo>
                <a:lnTo>
                  <a:pt x="524" y="614"/>
                </a:lnTo>
                <a:lnTo>
                  <a:pt x="541" y="633"/>
                </a:lnTo>
                <a:lnTo>
                  <a:pt x="561" y="654"/>
                </a:lnTo>
                <a:lnTo>
                  <a:pt x="580" y="671"/>
                </a:lnTo>
                <a:lnTo>
                  <a:pt x="597" y="689"/>
                </a:lnTo>
                <a:lnTo>
                  <a:pt x="614" y="706"/>
                </a:lnTo>
                <a:lnTo>
                  <a:pt x="632" y="723"/>
                </a:lnTo>
                <a:lnTo>
                  <a:pt x="649" y="738"/>
                </a:lnTo>
                <a:lnTo>
                  <a:pt x="666" y="752"/>
                </a:lnTo>
                <a:lnTo>
                  <a:pt x="683" y="765"/>
                </a:lnTo>
                <a:lnTo>
                  <a:pt x="701" y="779"/>
                </a:lnTo>
                <a:lnTo>
                  <a:pt x="716" y="792"/>
                </a:lnTo>
                <a:lnTo>
                  <a:pt x="733" y="804"/>
                </a:lnTo>
                <a:lnTo>
                  <a:pt x="747" y="813"/>
                </a:lnTo>
                <a:lnTo>
                  <a:pt x="762" y="825"/>
                </a:lnTo>
                <a:lnTo>
                  <a:pt x="779" y="836"/>
                </a:lnTo>
                <a:lnTo>
                  <a:pt x="795" y="848"/>
                </a:lnTo>
                <a:lnTo>
                  <a:pt x="812" y="859"/>
                </a:lnTo>
                <a:lnTo>
                  <a:pt x="831" y="873"/>
                </a:lnTo>
                <a:lnTo>
                  <a:pt x="848" y="884"/>
                </a:lnTo>
                <a:lnTo>
                  <a:pt x="868" y="896"/>
                </a:lnTo>
                <a:lnTo>
                  <a:pt x="889" y="907"/>
                </a:lnTo>
                <a:lnTo>
                  <a:pt x="910" y="919"/>
                </a:lnTo>
                <a:lnTo>
                  <a:pt x="931" y="932"/>
                </a:lnTo>
                <a:lnTo>
                  <a:pt x="952" y="944"/>
                </a:lnTo>
                <a:lnTo>
                  <a:pt x="975" y="955"/>
                </a:lnTo>
                <a:lnTo>
                  <a:pt x="998" y="967"/>
                </a:lnTo>
                <a:lnTo>
                  <a:pt x="1023" y="978"/>
                </a:lnTo>
                <a:lnTo>
                  <a:pt x="1046" y="990"/>
                </a:lnTo>
                <a:lnTo>
                  <a:pt x="1069" y="1001"/>
                </a:lnTo>
                <a:lnTo>
                  <a:pt x="1090" y="1013"/>
                </a:lnTo>
                <a:lnTo>
                  <a:pt x="1109" y="1024"/>
                </a:lnTo>
                <a:lnTo>
                  <a:pt x="1129" y="1036"/>
                </a:lnTo>
                <a:lnTo>
                  <a:pt x="1146" y="1046"/>
                </a:lnTo>
                <a:lnTo>
                  <a:pt x="1161" y="1053"/>
                </a:lnTo>
                <a:lnTo>
                  <a:pt x="1175" y="1063"/>
                </a:lnTo>
                <a:lnTo>
                  <a:pt x="1188" y="1069"/>
                </a:lnTo>
                <a:lnTo>
                  <a:pt x="1200" y="1076"/>
                </a:lnTo>
                <a:lnTo>
                  <a:pt x="1209" y="1082"/>
                </a:lnTo>
                <a:lnTo>
                  <a:pt x="1219" y="1088"/>
                </a:lnTo>
                <a:lnTo>
                  <a:pt x="1225" y="1092"/>
                </a:lnTo>
                <a:lnTo>
                  <a:pt x="1230" y="1095"/>
                </a:lnTo>
                <a:lnTo>
                  <a:pt x="1234" y="1099"/>
                </a:lnTo>
                <a:lnTo>
                  <a:pt x="1236" y="1103"/>
                </a:lnTo>
                <a:lnTo>
                  <a:pt x="1238" y="1105"/>
                </a:lnTo>
                <a:lnTo>
                  <a:pt x="1236" y="1107"/>
                </a:lnTo>
                <a:lnTo>
                  <a:pt x="1236" y="1111"/>
                </a:lnTo>
                <a:lnTo>
                  <a:pt x="1234" y="1113"/>
                </a:lnTo>
                <a:lnTo>
                  <a:pt x="1232" y="1117"/>
                </a:lnTo>
                <a:lnTo>
                  <a:pt x="1228" y="1118"/>
                </a:lnTo>
                <a:lnTo>
                  <a:pt x="1225" y="1122"/>
                </a:lnTo>
                <a:lnTo>
                  <a:pt x="1221" y="1124"/>
                </a:lnTo>
                <a:lnTo>
                  <a:pt x="1215" y="1128"/>
                </a:lnTo>
                <a:lnTo>
                  <a:pt x="1211" y="1132"/>
                </a:lnTo>
                <a:lnTo>
                  <a:pt x="1204" y="1136"/>
                </a:lnTo>
                <a:lnTo>
                  <a:pt x="1198" y="1138"/>
                </a:lnTo>
                <a:lnTo>
                  <a:pt x="1190" y="1141"/>
                </a:lnTo>
                <a:lnTo>
                  <a:pt x="1180" y="1143"/>
                </a:lnTo>
                <a:lnTo>
                  <a:pt x="1171" y="1147"/>
                </a:lnTo>
                <a:lnTo>
                  <a:pt x="1161" y="1149"/>
                </a:lnTo>
                <a:lnTo>
                  <a:pt x="1152" y="1151"/>
                </a:lnTo>
                <a:lnTo>
                  <a:pt x="1052" y="1168"/>
                </a:lnTo>
                <a:lnTo>
                  <a:pt x="952" y="118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9" name="Group 39"/>
          <p:cNvGrpSpPr/>
          <p:nvPr/>
        </p:nvGrpSpPr>
        <p:grpSpPr>
          <a:xfrm>
            <a:off x="4572000" y="1676520"/>
            <a:ext cx="2052360" cy="779400"/>
            <a:chOff x="4572000" y="1676520"/>
            <a:chExt cx="2052360" cy="779400"/>
          </a:xfrm>
        </p:grpSpPr>
        <p:grpSp>
          <p:nvGrpSpPr>
            <p:cNvPr id="4350" name="Group 40"/>
            <p:cNvGrpSpPr/>
            <p:nvPr/>
          </p:nvGrpSpPr>
          <p:grpSpPr>
            <a:xfrm>
              <a:off x="6172200" y="1676520"/>
              <a:ext cx="452160" cy="686520"/>
              <a:chOff x="6172200" y="1676520"/>
              <a:chExt cx="452160" cy="686520"/>
            </a:xfrm>
          </p:grpSpPr>
          <p:sp>
            <p:nvSpPr>
              <p:cNvPr id="4351" name="Freeform 71"/>
              <p:cNvSpPr/>
              <p:nvPr/>
            </p:nvSpPr>
            <p:spPr>
              <a:xfrm>
                <a:off x="6172200" y="1822320"/>
                <a:ext cx="306000" cy="54072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643" h="1622">
                    <a:moveTo>
                      <a:pt x="439" y="27"/>
                    </a:moveTo>
                    <a:lnTo>
                      <a:pt x="443" y="19"/>
                    </a:lnTo>
                    <a:lnTo>
                      <a:pt x="449" y="11"/>
                    </a:lnTo>
                    <a:lnTo>
                      <a:pt x="457" y="6"/>
                    </a:lnTo>
                    <a:lnTo>
                      <a:pt x="466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0"/>
                    </a:lnTo>
                    <a:lnTo>
                      <a:pt x="495" y="0"/>
                    </a:lnTo>
                    <a:lnTo>
                      <a:pt x="501" y="0"/>
                    </a:lnTo>
                    <a:lnTo>
                      <a:pt x="509" y="2"/>
                    </a:lnTo>
                    <a:lnTo>
                      <a:pt x="514" y="4"/>
                    </a:lnTo>
                    <a:lnTo>
                      <a:pt x="528" y="8"/>
                    </a:lnTo>
                    <a:lnTo>
                      <a:pt x="541" y="13"/>
                    </a:lnTo>
                    <a:lnTo>
                      <a:pt x="555" y="17"/>
                    </a:lnTo>
                    <a:lnTo>
                      <a:pt x="566" y="21"/>
                    </a:lnTo>
                    <a:lnTo>
                      <a:pt x="589" y="31"/>
                    </a:lnTo>
                    <a:lnTo>
                      <a:pt x="610" y="38"/>
                    </a:lnTo>
                    <a:lnTo>
                      <a:pt x="616" y="44"/>
                    </a:lnTo>
                    <a:lnTo>
                      <a:pt x="620" y="50"/>
                    </a:lnTo>
                    <a:lnTo>
                      <a:pt x="624" y="57"/>
                    </a:lnTo>
                    <a:lnTo>
                      <a:pt x="628" y="65"/>
                    </a:lnTo>
                    <a:lnTo>
                      <a:pt x="631" y="75"/>
                    </a:lnTo>
                    <a:lnTo>
                      <a:pt x="633" y="86"/>
                    </a:lnTo>
                    <a:lnTo>
                      <a:pt x="637" y="98"/>
                    </a:lnTo>
                    <a:lnTo>
                      <a:pt x="639" y="109"/>
                    </a:lnTo>
                    <a:lnTo>
                      <a:pt x="639" y="125"/>
                    </a:lnTo>
                    <a:lnTo>
                      <a:pt x="641" y="140"/>
                    </a:lnTo>
                    <a:lnTo>
                      <a:pt x="641" y="157"/>
                    </a:lnTo>
                    <a:lnTo>
                      <a:pt x="643" y="175"/>
                    </a:lnTo>
                    <a:lnTo>
                      <a:pt x="641" y="194"/>
                    </a:lnTo>
                    <a:lnTo>
                      <a:pt x="641" y="215"/>
                    </a:lnTo>
                    <a:lnTo>
                      <a:pt x="641" y="236"/>
                    </a:lnTo>
                    <a:lnTo>
                      <a:pt x="639" y="259"/>
                    </a:lnTo>
                    <a:lnTo>
                      <a:pt x="637" y="284"/>
                    </a:lnTo>
                    <a:lnTo>
                      <a:pt x="635" y="309"/>
                    </a:lnTo>
                    <a:lnTo>
                      <a:pt x="633" y="334"/>
                    </a:lnTo>
                    <a:lnTo>
                      <a:pt x="631" y="361"/>
                    </a:lnTo>
                    <a:lnTo>
                      <a:pt x="629" y="386"/>
                    </a:lnTo>
                    <a:lnTo>
                      <a:pt x="628" y="414"/>
                    </a:lnTo>
                    <a:lnTo>
                      <a:pt x="624" y="441"/>
                    </a:lnTo>
                    <a:lnTo>
                      <a:pt x="622" y="470"/>
                    </a:lnTo>
                    <a:lnTo>
                      <a:pt x="620" y="497"/>
                    </a:lnTo>
                    <a:lnTo>
                      <a:pt x="616" y="528"/>
                    </a:lnTo>
                    <a:lnTo>
                      <a:pt x="612" y="556"/>
                    </a:lnTo>
                    <a:lnTo>
                      <a:pt x="608" y="587"/>
                    </a:lnTo>
                    <a:lnTo>
                      <a:pt x="604" y="618"/>
                    </a:lnTo>
                    <a:lnTo>
                      <a:pt x="601" y="649"/>
                    </a:lnTo>
                    <a:lnTo>
                      <a:pt x="597" y="681"/>
                    </a:lnTo>
                    <a:lnTo>
                      <a:pt x="591" y="714"/>
                    </a:lnTo>
                    <a:lnTo>
                      <a:pt x="585" y="746"/>
                    </a:lnTo>
                    <a:lnTo>
                      <a:pt x="580" y="779"/>
                    </a:lnTo>
                    <a:lnTo>
                      <a:pt x="574" y="810"/>
                    </a:lnTo>
                    <a:lnTo>
                      <a:pt x="566" y="842"/>
                    </a:lnTo>
                    <a:lnTo>
                      <a:pt x="551" y="904"/>
                    </a:lnTo>
                    <a:lnTo>
                      <a:pt x="543" y="935"/>
                    </a:lnTo>
                    <a:lnTo>
                      <a:pt x="533" y="963"/>
                    </a:lnTo>
                    <a:lnTo>
                      <a:pt x="524" y="992"/>
                    </a:lnTo>
                    <a:lnTo>
                      <a:pt x="514" y="1021"/>
                    </a:lnTo>
                    <a:lnTo>
                      <a:pt x="505" y="1050"/>
                    </a:lnTo>
                    <a:lnTo>
                      <a:pt x="495" y="1077"/>
                    </a:lnTo>
                    <a:lnTo>
                      <a:pt x="484" y="1103"/>
                    </a:lnTo>
                    <a:lnTo>
                      <a:pt x="472" y="1128"/>
                    </a:lnTo>
                    <a:lnTo>
                      <a:pt x="461" y="1155"/>
                    </a:lnTo>
                    <a:lnTo>
                      <a:pt x="449" y="1178"/>
                    </a:lnTo>
                    <a:lnTo>
                      <a:pt x="434" y="1205"/>
                    </a:lnTo>
                    <a:lnTo>
                      <a:pt x="420" y="1230"/>
                    </a:lnTo>
                    <a:lnTo>
                      <a:pt x="405" y="1253"/>
                    </a:lnTo>
                    <a:lnTo>
                      <a:pt x="390" y="1278"/>
                    </a:lnTo>
                    <a:lnTo>
                      <a:pt x="374" y="1299"/>
                    </a:lnTo>
                    <a:lnTo>
                      <a:pt x="359" y="1322"/>
                    </a:lnTo>
                    <a:lnTo>
                      <a:pt x="343" y="1343"/>
                    </a:lnTo>
                    <a:lnTo>
                      <a:pt x="326" y="1362"/>
                    </a:lnTo>
                    <a:lnTo>
                      <a:pt x="311" y="1384"/>
                    </a:lnTo>
                    <a:lnTo>
                      <a:pt x="294" y="1403"/>
                    </a:lnTo>
                    <a:lnTo>
                      <a:pt x="278" y="1420"/>
                    </a:lnTo>
                    <a:lnTo>
                      <a:pt x="261" y="1439"/>
                    </a:lnTo>
                    <a:lnTo>
                      <a:pt x="244" y="1456"/>
                    </a:lnTo>
                    <a:lnTo>
                      <a:pt x="226" y="1472"/>
                    </a:lnTo>
                    <a:lnTo>
                      <a:pt x="209" y="1489"/>
                    </a:lnTo>
                    <a:lnTo>
                      <a:pt x="192" y="1504"/>
                    </a:lnTo>
                    <a:lnTo>
                      <a:pt x="173" y="1520"/>
                    </a:lnTo>
                    <a:lnTo>
                      <a:pt x="153" y="1533"/>
                    </a:lnTo>
                    <a:lnTo>
                      <a:pt x="138" y="1545"/>
                    </a:lnTo>
                    <a:lnTo>
                      <a:pt x="121" y="1558"/>
                    </a:lnTo>
                    <a:lnTo>
                      <a:pt x="107" y="1568"/>
                    </a:lnTo>
                    <a:lnTo>
                      <a:pt x="94" y="1577"/>
                    </a:lnTo>
                    <a:lnTo>
                      <a:pt x="81" y="1585"/>
                    </a:lnTo>
                    <a:lnTo>
                      <a:pt x="69" y="1593"/>
                    </a:lnTo>
                    <a:lnTo>
                      <a:pt x="58" y="1600"/>
                    </a:lnTo>
                    <a:lnTo>
                      <a:pt x="48" y="1606"/>
                    </a:lnTo>
                    <a:lnTo>
                      <a:pt x="40" y="1610"/>
                    </a:lnTo>
                    <a:lnTo>
                      <a:pt x="33" y="1614"/>
                    </a:lnTo>
                    <a:lnTo>
                      <a:pt x="25" y="1618"/>
                    </a:lnTo>
                    <a:lnTo>
                      <a:pt x="19" y="1620"/>
                    </a:lnTo>
                    <a:lnTo>
                      <a:pt x="15" y="1620"/>
                    </a:lnTo>
                    <a:lnTo>
                      <a:pt x="10" y="1622"/>
                    </a:lnTo>
                    <a:lnTo>
                      <a:pt x="6" y="1620"/>
                    </a:lnTo>
                    <a:lnTo>
                      <a:pt x="2" y="1618"/>
                    </a:lnTo>
                    <a:lnTo>
                      <a:pt x="0" y="1616"/>
                    </a:lnTo>
                    <a:lnTo>
                      <a:pt x="0" y="1612"/>
                    </a:lnTo>
                    <a:lnTo>
                      <a:pt x="0" y="1608"/>
                    </a:lnTo>
                    <a:lnTo>
                      <a:pt x="2" y="1602"/>
                    </a:lnTo>
                    <a:lnTo>
                      <a:pt x="6" y="1595"/>
                    </a:lnTo>
                    <a:lnTo>
                      <a:pt x="10" y="1587"/>
                    </a:lnTo>
                    <a:lnTo>
                      <a:pt x="15" y="1579"/>
                    </a:lnTo>
                    <a:lnTo>
                      <a:pt x="21" y="1570"/>
                    </a:lnTo>
                    <a:lnTo>
                      <a:pt x="31" y="1558"/>
                    </a:lnTo>
                    <a:lnTo>
                      <a:pt x="38" y="1547"/>
                    </a:lnTo>
                    <a:lnTo>
                      <a:pt x="50" y="1535"/>
                    </a:lnTo>
                    <a:lnTo>
                      <a:pt x="61" y="1522"/>
                    </a:lnTo>
                    <a:lnTo>
                      <a:pt x="73" y="1508"/>
                    </a:lnTo>
                    <a:lnTo>
                      <a:pt x="86" y="1493"/>
                    </a:lnTo>
                    <a:lnTo>
                      <a:pt x="102" y="1478"/>
                    </a:lnTo>
                    <a:lnTo>
                      <a:pt x="115" y="1460"/>
                    </a:lnTo>
                    <a:lnTo>
                      <a:pt x="129" y="1445"/>
                    </a:lnTo>
                    <a:lnTo>
                      <a:pt x="144" y="1428"/>
                    </a:lnTo>
                    <a:lnTo>
                      <a:pt x="157" y="1409"/>
                    </a:lnTo>
                    <a:lnTo>
                      <a:pt x="173" y="1391"/>
                    </a:lnTo>
                    <a:lnTo>
                      <a:pt x="188" y="1372"/>
                    </a:lnTo>
                    <a:lnTo>
                      <a:pt x="201" y="1351"/>
                    </a:lnTo>
                    <a:lnTo>
                      <a:pt x="217" y="1332"/>
                    </a:lnTo>
                    <a:lnTo>
                      <a:pt x="232" y="1311"/>
                    </a:lnTo>
                    <a:lnTo>
                      <a:pt x="248" y="1288"/>
                    </a:lnTo>
                    <a:lnTo>
                      <a:pt x="263" y="1265"/>
                    </a:lnTo>
                    <a:lnTo>
                      <a:pt x="278" y="1242"/>
                    </a:lnTo>
                    <a:lnTo>
                      <a:pt x="294" y="1219"/>
                    </a:lnTo>
                    <a:lnTo>
                      <a:pt x="309" y="1194"/>
                    </a:lnTo>
                    <a:lnTo>
                      <a:pt x="324" y="1167"/>
                    </a:lnTo>
                    <a:lnTo>
                      <a:pt x="338" y="1140"/>
                    </a:lnTo>
                    <a:lnTo>
                      <a:pt x="351" y="1113"/>
                    </a:lnTo>
                    <a:lnTo>
                      <a:pt x="365" y="1086"/>
                    </a:lnTo>
                    <a:lnTo>
                      <a:pt x="376" y="1057"/>
                    </a:lnTo>
                    <a:lnTo>
                      <a:pt x="388" y="1029"/>
                    </a:lnTo>
                    <a:lnTo>
                      <a:pt x="399" y="1000"/>
                    </a:lnTo>
                    <a:lnTo>
                      <a:pt x="409" y="969"/>
                    </a:lnTo>
                    <a:lnTo>
                      <a:pt x="418" y="938"/>
                    </a:lnTo>
                    <a:lnTo>
                      <a:pt x="428" y="908"/>
                    </a:lnTo>
                    <a:lnTo>
                      <a:pt x="436" y="875"/>
                    </a:lnTo>
                    <a:lnTo>
                      <a:pt x="443" y="842"/>
                    </a:lnTo>
                    <a:lnTo>
                      <a:pt x="451" y="808"/>
                    </a:lnTo>
                    <a:lnTo>
                      <a:pt x="459" y="775"/>
                    </a:lnTo>
                    <a:lnTo>
                      <a:pt x="464" y="739"/>
                    </a:lnTo>
                    <a:lnTo>
                      <a:pt x="472" y="704"/>
                    </a:lnTo>
                    <a:lnTo>
                      <a:pt x="476" y="668"/>
                    </a:lnTo>
                    <a:lnTo>
                      <a:pt x="482" y="633"/>
                    </a:lnTo>
                    <a:lnTo>
                      <a:pt x="485" y="599"/>
                    </a:lnTo>
                    <a:lnTo>
                      <a:pt x="491" y="566"/>
                    </a:lnTo>
                    <a:lnTo>
                      <a:pt x="495" y="535"/>
                    </a:lnTo>
                    <a:lnTo>
                      <a:pt x="497" y="507"/>
                    </a:lnTo>
                    <a:lnTo>
                      <a:pt x="501" y="476"/>
                    </a:lnTo>
                    <a:lnTo>
                      <a:pt x="503" y="449"/>
                    </a:lnTo>
                    <a:lnTo>
                      <a:pt x="505" y="422"/>
                    </a:lnTo>
                    <a:lnTo>
                      <a:pt x="507" y="395"/>
                    </a:lnTo>
                    <a:lnTo>
                      <a:pt x="509" y="370"/>
                    </a:lnTo>
                    <a:lnTo>
                      <a:pt x="509" y="345"/>
                    </a:lnTo>
                    <a:lnTo>
                      <a:pt x="509" y="322"/>
                    </a:lnTo>
                    <a:lnTo>
                      <a:pt x="509" y="299"/>
                    </a:lnTo>
                    <a:lnTo>
                      <a:pt x="509" y="278"/>
                    </a:lnTo>
                    <a:lnTo>
                      <a:pt x="507" y="257"/>
                    </a:lnTo>
                    <a:lnTo>
                      <a:pt x="505" y="236"/>
                    </a:lnTo>
                    <a:lnTo>
                      <a:pt x="503" y="219"/>
                    </a:lnTo>
                    <a:lnTo>
                      <a:pt x="501" y="203"/>
                    </a:lnTo>
                    <a:lnTo>
                      <a:pt x="499" y="188"/>
                    </a:lnTo>
                    <a:lnTo>
                      <a:pt x="497" y="173"/>
                    </a:lnTo>
                    <a:lnTo>
                      <a:pt x="495" y="159"/>
                    </a:lnTo>
                    <a:lnTo>
                      <a:pt x="493" y="148"/>
                    </a:lnTo>
                    <a:lnTo>
                      <a:pt x="491" y="136"/>
                    </a:lnTo>
                    <a:lnTo>
                      <a:pt x="489" y="125"/>
                    </a:lnTo>
                    <a:lnTo>
                      <a:pt x="487" y="115"/>
                    </a:lnTo>
                    <a:lnTo>
                      <a:pt x="485" y="105"/>
                    </a:lnTo>
                    <a:lnTo>
                      <a:pt x="482" y="98"/>
                    </a:lnTo>
                    <a:lnTo>
                      <a:pt x="480" y="92"/>
                    </a:lnTo>
                    <a:lnTo>
                      <a:pt x="478" y="84"/>
                    </a:lnTo>
                    <a:lnTo>
                      <a:pt x="474" y="81"/>
                    </a:lnTo>
                    <a:lnTo>
                      <a:pt x="470" y="77"/>
                    </a:lnTo>
                    <a:lnTo>
                      <a:pt x="468" y="75"/>
                    </a:lnTo>
                    <a:lnTo>
                      <a:pt x="457" y="69"/>
                    </a:lnTo>
                    <a:lnTo>
                      <a:pt x="449" y="65"/>
                    </a:lnTo>
                    <a:lnTo>
                      <a:pt x="443" y="59"/>
                    </a:lnTo>
                    <a:lnTo>
                      <a:pt x="439" y="56"/>
                    </a:lnTo>
                    <a:lnTo>
                      <a:pt x="436" y="50"/>
                    </a:lnTo>
                    <a:lnTo>
                      <a:pt x="436" y="42"/>
                    </a:lnTo>
                    <a:lnTo>
                      <a:pt x="436" y="36"/>
                    </a:lnTo>
                    <a:lnTo>
                      <a:pt x="439" y="27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Freeform 72"/>
              <p:cNvSpPr/>
              <p:nvPr/>
            </p:nvSpPr>
            <p:spPr>
              <a:xfrm>
                <a:off x="6448680" y="2192760"/>
                <a:ext cx="173880" cy="16668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65" h="501">
                    <a:moveTo>
                      <a:pt x="315" y="501"/>
                    </a:moveTo>
                    <a:lnTo>
                      <a:pt x="311" y="497"/>
                    </a:lnTo>
                    <a:lnTo>
                      <a:pt x="309" y="493"/>
                    </a:lnTo>
                    <a:lnTo>
                      <a:pt x="306" y="490"/>
                    </a:lnTo>
                    <a:lnTo>
                      <a:pt x="300" y="486"/>
                    </a:lnTo>
                    <a:lnTo>
                      <a:pt x="294" y="480"/>
                    </a:lnTo>
                    <a:lnTo>
                      <a:pt x="288" y="472"/>
                    </a:lnTo>
                    <a:lnTo>
                      <a:pt x="281" y="465"/>
                    </a:lnTo>
                    <a:lnTo>
                      <a:pt x="273" y="457"/>
                    </a:lnTo>
                    <a:lnTo>
                      <a:pt x="265" y="447"/>
                    </a:lnTo>
                    <a:lnTo>
                      <a:pt x="256" y="438"/>
                    </a:lnTo>
                    <a:lnTo>
                      <a:pt x="246" y="426"/>
                    </a:lnTo>
                    <a:lnTo>
                      <a:pt x="237" y="415"/>
                    </a:lnTo>
                    <a:lnTo>
                      <a:pt x="225" y="403"/>
                    </a:lnTo>
                    <a:lnTo>
                      <a:pt x="215" y="390"/>
                    </a:lnTo>
                    <a:lnTo>
                      <a:pt x="202" y="376"/>
                    </a:lnTo>
                    <a:lnTo>
                      <a:pt x="190" y="361"/>
                    </a:lnTo>
                    <a:lnTo>
                      <a:pt x="177" y="346"/>
                    </a:lnTo>
                    <a:lnTo>
                      <a:pt x="164" y="330"/>
                    </a:lnTo>
                    <a:lnTo>
                      <a:pt x="150" y="315"/>
                    </a:lnTo>
                    <a:lnTo>
                      <a:pt x="139" y="300"/>
                    </a:lnTo>
                    <a:lnTo>
                      <a:pt x="127" y="284"/>
                    </a:lnTo>
                    <a:lnTo>
                      <a:pt x="118" y="269"/>
                    </a:lnTo>
                    <a:lnTo>
                      <a:pt x="106" y="253"/>
                    </a:lnTo>
                    <a:lnTo>
                      <a:pt x="96" y="240"/>
                    </a:lnTo>
                    <a:lnTo>
                      <a:pt x="87" y="225"/>
                    </a:lnTo>
                    <a:lnTo>
                      <a:pt x="79" y="211"/>
                    </a:lnTo>
                    <a:lnTo>
                      <a:pt x="71" y="196"/>
                    </a:lnTo>
                    <a:lnTo>
                      <a:pt x="64" y="182"/>
                    </a:lnTo>
                    <a:lnTo>
                      <a:pt x="56" y="169"/>
                    </a:lnTo>
                    <a:lnTo>
                      <a:pt x="50" y="154"/>
                    </a:lnTo>
                    <a:lnTo>
                      <a:pt x="45" y="140"/>
                    </a:lnTo>
                    <a:lnTo>
                      <a:pt x="39" y="129"/>
                    </a:lnTo>
                    <a:lnTo>
                      <a:pt x="29" y="106"/>
                    </a:lnTo>
                    <a:lnTo>
                      <a:pt x="22" y="87"/>
                    </a:lnTo>
                    <a:lnTo>
                      <a:pt x="14" y="69"/>
                    </a:lnTo>
                    <a:lnTo>
                      <a:pt x="12" y="60"/>
                    </a:lnTo>
                    <a:lnTo>
                      <a:pt x="8" y="52"/>
                    </a:lnTo>
                    <a:lnTo>
                      <a:pt x="6" y="44"/>
                    </a:lnTo>
                    <a:lnTo>
                      <a:pt x="4" y="39"/>
                    </a:lnTo>
                    <a:lnTo>
                      <a:pt x="4" y="33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4" y="4"/>
                    </a:lnTo>
                    <a:lnTo>
                      <a:pt x="60" y="6"/>
                    </a:lnTo>
                    <a:lnTo>
                      <a:pt x="68" y="10"/>
                    </a:lnTo>
                    <a:lnTo>
                      <a:pt x="75" y="15"/>
                    </a:lnTo>
                    <a:lnTo>
                      <a:pt x="85" y="21"/>
                    </a:lnTo>
                    <a:lnTo>
                      <a:pt x="96" y="27"/>
                    </a:lnTo>
                    <a:lnTo>
                      <a:pt x="108" y="35"/>
                    </a:lnTo>
                    <a:lnTo>
                      <a:pt x="119" y="42"/>
                    </a:lnTo>
                    <a:lnTo>
                      <a:pt x="133" y="52"/>
                    </a:lnTo>
                    <a:lnTo>
                      <a:pt x="146" y="63"/>
                    </a:lnTo>
                    <a:lnTo>
                      <a:pt x="160" y="75"/>
                    </a:lnTo>
                    <a:lnTo>
                      <a:pt x="175" y="88"/>
                    </a:lnTo>
                    <a:lnTo>
                      <a:pt x="192" y="102"/>
                    </a:lnTo>
                    <a:lnTo>
                      <a:pt x="210" y="117"/>
                    </a:lnTo>
                    <a:lnTo>
                      <a:pt x="225" y="131"/>
                    </a:lnTo>
                    <a:lnTo>
                      <a:pt x="240" y="146"/>
                    </a:lnTo>
                    <a:lnTo>
                      <a:pt x="254" y="159"/>
                    </a:lnTo>
                    <a:lnTo>
                      <a:pt x="267" y="173"/>
                    </a:lnTo>
                    <a:lnTo>
                      <a:pt x="281" y="186"/>
                    </a:lnTo>
                    <a:lnTo>
                      <a:pt x="292" y="200"/>
                    </a:lnTo>
                    <a:lnTo>
                      <a:pt x="304" y="211"/>
                    </a:lnTo>
                    <a:lnTo>
                      <a:pt x="313" y="225"/>
                    </a:lnTo>
                    <a:lnTo>
                      <a:pt x="323" y="236"/>
                    </a:lnTo>
                    <a:lnTo>
                      <a:pt x="332" y="248"/>
                    </a:lnTo>
                    <a:lnTo>
                      <a:pt x="340" y="259"/>
                    </a:lnTo>
                    <a:lnTo>
                      <a:pt x="346" y="271"/>
                    </a:lnTo>
                    <a:lnTo>
                      <a:pt x="352" y="280"/>
                    </a:lnTo>
                    <a:lnTo>
                      <a:pt x="355" y="292"/>
                    </a:lnTo>
                    <a:lnTo>
                      <a:pt x="359" y="303"/>
                    </a:lnTo>
                    <a:lnTo>
                      <a:pt x="361" y="315"/>
                    </a:lnTo>
                    <a:lnTo>
                      <a:pt x="363" y="324"/>
                    </a:lnTo>
                    <a:lnTo>
                      <a:pt x="365" y="334"/>
                    </a:lnTo>
                    <a:lnTo>
                      <a:pt x="365" y="353"/>
                    </a:lnTo>
                    <a:lnTo>
                      <a:pt x="365" y="371"/>
                    </a:lnTo>
                    <a:lnTo>
                      <a:pt x="365" y="386"/>
                    </a:lnTo>
                    <a:lnTo>
                      <a:pt x="361" y="401"/>
                    </a:lnTo>
                    <a:lnTo>
                      <a:pt x="359" y="415"/>
                    </a:lnTo>
                    <a:lnTo>
                      <a:pt x="355" y="428"/>
                    </a:lnTo>
                    <a:lnTo>
                      <a:pt x="352" y="442"/>
                    </a:lnTo>
                    <a:lnTo>
                      <a:pt x="348" y="455"/>
                    </a:lnTo>
                    <a:lnTo>
                      <a:pt x="344" y="466"/>
                    </a:lnTo>
                    <a:lnTo>
                      <a:pt x="338" y="476"/>
                    </a:lnTo>
                    <a:lnTo>
                      <a:pt x="334" y="484"/>
                    </a:lnTo>
                    <a:lnTo>
                      <a:pt x="329" y="491"/>
                    </a:lnTo>
                    <a:lnTo>
                      <a:pt x="323" y="495"/>
                    </a:lnTo>
                    <a:lnTo>
                      <a:pt x="321" y="497"/>
                    </a:lnTo>
                    <a:lnTo>
                      <a:pt x="319" y="499"/>
                    </a:lnTo>
                    <a:lnTo>
                      <a:pt x="317" y="499"/>
                    </a:lnTo>
                    <a:lnTo>
                      <a:pt x="315" y="501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Freeform 73"/>
              <p:cNvSpPr/>
              <p:nvPr/>
            </p:nvSpPr>
            <p:spPr>
              <a:xfrm>
                <a:off x="6239520" y="1713240"/>
                <a:ext cx="82800" cy="443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75" h="1332">
                    <a:moveTo>
                      <a:pt x="13" y="6"/>
                    </a:moveTo>
                    <a:lnTo>
                      <a:pt x="19" y="4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3" y="2"/>
                    </a:lnTo>
                    <a:lnTo>
                      <a:pt x="94" y="4"/>
                    </a:lnTo>
                    <a:lnTo>
                      <a:pt x="106" y="6"/>
                    </a:lnTo>
                    <a:lnTo>
                      <a:pt x="117" y="9"/>
                    </a:lnTo>
                    <a:lnTo>
                      <a:pt x="131" y="13"/>
                    </a:lnTo>
                    <a:lnTo>
                      <a:pt x="144" y="17"/>
                    </a:lnTo>
                    <a:lnTo>
                      <a:pt x="159" y="23"/>
                    </a:lnTo>
                    <a:lnTo>
                      <a:pt x="175" y="30"/>
                    </a:lnTo>
                    <a:lnTo>
                      <a:pt x="175" y="57"/>
                    </a:lnTo>
                    <a:lnTo>
                      <a:pt x="175" y="86"/>
                    </a:lnTo>
                    <a:lnTo>
                      <a:pt x="175" y="117"/>
                    </a:lnTo>
                    <a:lnTo>
                      <a:pt x="175" y="149"/>
                    </a:lnTo>
                    <a:lnTo>
                      <a:pt x="175" y="184"/>
                    </a:lnTo>
                    <a:lnTo>
                      <a:pt x="175" y="220"/>
                    </a:lnTo>
                    <a:lnTo>
                      <a:pt x="175" y="259"/>
                    </a:lnTo>
                    <a:lnTo>
                      <a:pt x="175" y="299"/>
                    </a:lnTo>
                    <a:lnTo>
                      <a:pt x="175" y="339"/>
                    </a:lnTo>
                    <a:lnTo>
                      <a:pt x="175" y="384"/>
                    </a:lnTo>
                    <a:lnTo>
                      <a:pt x="175" y="430"/>
                    </a:lnTo>
                    <a:lnTo>
                      <a:pt x="175" y="476"/>
                    </a:lnTo>
                    <a:lnTo>
                      <a:pt x="175" y="526"/>
                    </a:lnTo>
                    <a:lnTo>
                      <a:pt x="175" y="575"/>
                    </a:lnTo>
                    <a:lnTo>
                      <a:pt x="175" y="627"/>
                    </a:lnTo>
                    <a:lnTo>
                      <a:pt x="175" y="681"/>
                    </a:lnTo>
                    <a:lnTo>
                      <a:pt x="175" y="708"/>
                    </a:lnTo>
                    <a:lnTo>
                      <a:pt x="173" y="737"/>
                    </a:lnTo>
                    <a:lnTo>
                      <a:pt x="173" y="764"/>
                    </a:lnTo>
                    <a:lnTo>
                      <a:pt x="173" y="788"/>
                    </a:lnTo>
                    <a:lnTo>
                      <a:pt x="171" y="813"/>
                    </a:lnTo>
                    <a:lnTo>
                      <a:pt x="171" y="838"/>
                    </a:lnTo>
                    <a:lnTo>
                      <a:pt x="171" y="863"/>
                    </a:lnTo>
                    <a:lnTo>
                      <a:pt x="169" y="886"/>
                    </a:lnTo>
                    <a:lnTo>
                      <a:pt x="169" y="907"/>
                    </a:lnTo>
                    <a:lnTo>
                      <a:pt x="169" y="931"/>
                    </a:lnTo>
                    <a:lnTo>
                      <a:pt x="167" y="952"/>
                    </a:lnTo>
                    <a:lnTo>
                      <a:pt x="167" y="971"/>
                    </a:lnTo>
                    <a:lnTo>
                      <a:pt x="167" y="992"/>
                    </a:lnTo>
                    <a:lnTo>
                      <a:pt x="167" y="1009"/>
                    </a:lnTo>
                    <a:lnTo>
                      <a:pt x="165" y="1028"/>
                    </a:lnTo>
                    <a:lnTo>
                      <a:pt x="165" y="1046"/>
                    </a:lnTo>
                    <a:lnTo>
                      <a:pt x="165" y="1063"/>
                    </a:lnTo>
                    <a:lnTo>
                      <a:pt x="165" y="1078"/>
                    </a:lnTo>
                    <a:lnTo>
                      <a:pt x="163" y="1094"/>
                    </a:lnTo>
                    <a:lnTo>
                      <a:pt x="163" y="1109"/>
                    </a:lnTo>
                    <a:lnTo>
                      <a:pt x="163" y="1122"/>
                    </a:lnTo>
                    <a:lnTo>
                      <a:pt x="163" y="1136"/>
                    </a:lnTo>
                    <a:lnTo>
                      <a:pt x="161" y="1147"/>
                    </a:lnTo>
                    <a:lnTo>
                      <a:pt x="161" y="1161"/>
                    </a:lnTo>
                    <a:lnTo>
                      <a:pt x="161" y="1170"/>
                    </a:lnTo>
                    <a:lnTo>
                      <a:pt x="159" y="1182"/>
                    </a:lnTo>
                    <a:lnTo>
                      <a:pt x="159" y="1192"/>
                    </a:lnTo>
                    <a:lnTo>
                      <a:pt x="159" y="1199"/>
                    </a:lnTo>
                    <a:lnTo>
                      <a:pt x="157" y="1207"/>
                    </a:lnTo>
                    <a:lnTo>
                      <a:pt x="157" y="1215"/>
                    </a:lnTo>
                    <a:lnTo>
                      <a:pt x="157" y="1222"/>
                    </a:lnTo>
                    <a:lnTo>
                      <a:pt x="155" y="1228"/>
                    </a:lnTo>
                    <a:lnTo>
                      <a:pt x="154" y="1239"/>
                    </a:lnTo>
                    <a:lnTo>
                      <a:pt x="152" y="1253"/>
                    </a:lnTo>
                    <a:lnTo>
                      <a:pt x="150" y="1263"/>
                    </a:lnTo>
                    <a:lnTo>
                      <a:pt x="150" y="1274"/>
                    </a:lnTo>
                    <a:lnTo>
                      <a:pt x="148" y="1284"/>
                    </a:lnTo>
                    <a:lnTo>
                      <a:pt x="146" y="1291"/>
                    </a:lnTo>
                    <a:lnTo>
                      <a:pt x="144" y="1299"/>
                    </a:lnTo>
                    <a:lnTo>
                      <a:pt x="142" y="1307"/>
                    </a:lnTo>
                    <a:lnTo>
                      <a:pt x="140" y="1312"/>
                    </a:lnTo>
                    <a:lnTo>
                      <a:pt x="138" y="1318"/>
                    </a:lnTo>
                    <a:lnTo>
                      <a:pt x="136" y="1322"/>
                    </a:lnTo>
                    <a:lnTo>
                      <a:pt x="134" y="1326"/>
                    </a:lnTo>
                    <a:lnTo>
                      <a:pt x="132" y="1328"/>
                    </a:lnTo>
                    <a:lnTo>
                      <a:pt x="131" y="1330"/>
                    </a:lnTo>
                    <a:lnTo>
                      <a:pt x="129" y="1332"/>
                    </a:lnTo>
                    <a:lnTo>
                      <a:pt x="127" y="1332"/>
                    </a:lnTo>
                    <a:lnTo>
                      <a:pt x="125" y="1332"/>
                    </a:lnTo>
                    <a:lnTo>
                      <a:pt x="121" y="1332"/>
                    </a:lnTo>
                    <a:lnTo>
                      <a:pt x="117" y="1330"/>
                    </a:lnTo>
                    <a:lnTo>
                      <a:pt x="113" y="1328"/>
                    </a:lnTo>
                    <a:lnTo>
                      <a:pt x="109" y="1326"/>
                    </a:lnTo>
                    <a:lnTo>
                      <a:pt x="106" y="1322"/>
                    </a:lnTo>
                    <a:lnTo>
                      <a:pt x="102" y="1318"/>
                    </a:lnTo>
                    <a:lnTo>
                      <a:pt x="98" y="1314"/>
                    </a:lnTo>
                    <a:lnTo>
                      <a:pt x="94" y="1310"/>
                    </a:lnTo>
                    <a:lnTo>
                      <a:pt x="92" y="1305"/>
                    </a:lnTo>
                    <a:lnTo>
                      <a:pt x="88" y="1299"/>
                    </a:lnTo>
                    <a:lnTo>
                      <a:pt x="84" y="1293"/>
                    </a:lnTo>
                    <a:lnTo>
                      <a:pt x="81" y="1286"/>
                    </a:lnTo>
                    <a:lnTo>
                      <a:pt x="77" y="1278"/>
                    </a:lnTo>
                    <a:lnTo>
                      <a:pt x="73" y="1270"/>
                    </a:lnTo>
                    <a:lnTo>
                      <a:pt x="71" y="1263"/>
                    </a:lnTo>
                    <a:lnTo>
                      <a:pt x="63" y="1245"/>
                    </a:lnTo>
                    <a:lnTo>
                      <a:pt x="58" y="1230"/>
                    </a:lnTo>
                    <a:lnTo>
                      <a:pt x="54" y="1216"/>
                    </a:lnTo>
                    <a:lnTo>
                      <a:pt x="50" y="1203"/>
                    </a:lnTo>
                    <a:lnTo>
                      <a:pt x="46" y="1192"/>
                    </a:lnTo>
                    <a:lnTo>
                      <a:pt x="44" y="1182"/>
                    </a:lnTo>
                    <a:lnTo>
                      <a:pt x="42" y="1178"/>
                    </a:lnTo>
                    <a:lnTo>
                      <a:pt x="42" y="1174"/>
                    </a:lnTo>
                    <a:lnTo>
                      <a:pt x="42" y="1172"/>
                    </a:lnTo>
                    <a:lnTo>
                      <a:pt x="42" y="1170"/>
                    </a:lnTo>
                    <a:lnTo>
                      <a:pt x="40" y="1167"/>
                    </a:lnTo>
                    <a:lnTo>
                      <a:pt x="38" y="1163"/>
                    </a:lnTo>
                    <a:lnTo>
                      <a:pt x="38" y="1159"/>
                    </a:lnTo>
                    <a:lnTo>
                      <a:pt x="38" y="1153"/>
                    </a:lnTo>
                    <a:lnTo>
                      <a:pt x="38" y="1145"/>
                    </a:lnTo>
                    <a:lnTo>
                      <a:pt x="38" y="1138"/>
                    </a:lnTo>
                    <a:lnTo>
                      <a:pt x="38" y="1130"/>
                    </a:lnTo>
                    <a:lnTo>
                      <a:pt x="40" y="1120"/>
                    </a:lnTo>
                    <a:lnTo>
                      <a:pt x="40" y="1109"/>
                    </a:lnTo>
                    <a:lnTo>
                      <a:pt x="42" y="1099"/>
                    </a:lnTo>
                    <a:lnTo>
                      <a:pt x="42" y="1088"/>
                    </a:lnTo>
                    <a:lnTo>
                      <a:pt x="44" y="1074"/>
                    </a:lnTo>
                    <a:lnTo>
                      <a:pt x="46" y="1061"/>
                    </a:lnTo>
                    <a:lnTo>
                      <a:pt x="48" y="1048"/>
                    </a:lnTo>
                    <a:lnTo>
                      <a:pt x="50" y="1032"/>
                    </a:lnTo>
                    <a:lnTo>
                      <a:pt x="52" y="1019"/>
                    </a:lnTo>
                    <a:lnTo>
                      <a:pt x="54" y="1002"/>
                    </a:lnTo>
                    <a:lnTo>
                      <a:pt x="54" y="984"/>
                    </a:lnTo>
                    <a:lnTo>
                      <a:pt x="56" y="965"/>
                    </a:lnTo>
                    <a:lnTo>
                      <a:pt x="58" y="944"/>
                    </a:lnTo>
                    <a:lnTo>
                      <a:pt x="58" y="921"/>
                    </a:lnTo>
                    <a:lnTo>
                      <a:pt x="60" y="898"/>
                    </a:lnTo>
                    <a:lnTo>
                      <a:pt x="60" y="873"/>
                    </a:lnTo>
                    <a:lnTo>
                      <a:pt x="61" y="846"/>
                    </a:lnTo>
                    <a:lnTo>
                      <a:pt x="61" y="817"/>
                    </a:lnTo>
                    <a:lnTo>
                      <a:pt x="63" y="787"/>
                    </a:lnTo>
                    <a:lnTo>
                      <a:pt x="63" y="756"/>
                    </a:lnTo>
                    <a:lnTo>
                      <a:pt x="65" y="721"/>
                    </a:lnTo>
                    <a:lnTo>
                      <a:pt x="65" y="689"/>
                    </a:lnTo>
                    <a:lnTo>
                      <a:pt x="67" y="652"/>
                    </a:lnTo>
                    <a:lnTo>
                      <a:pt x="69" y="614"/>
                    </a:lnTo>
                    <a:lnTo>
                      <a:pt x="71" y="575"/>
                    </a:lnTo>
                    <a:lnTo>
                      <a:pt x="71" y="556"/>
                    </a:lnTo>
                    <a:lnTo>
                      <a:pt x="71" y="537"/>
                    </a:lnTo>
                    <a:lnTo>
                      <a:pt x="71" y="520"/>
                    </a:lnTo>
                    <a:lnTo>
                      <a:pt x="71" y="501"/>
                    </a:lnTo>
                    <a:lnTo>
                      <a:pt x="71" y="483"/>
                    </a:lnTo>
                    <a:lnTo>
                      <a:pt x="71" y="468"/>
                    </a:lnTo>
                    <a:lnTo>
                      <a:pt x="71" y="451"/>
                    </a:lnTo>
                    <a:lnTo>
                      <a:pt x="71" y="435"/>
                    </a:lnTo>
                    <a:lnTo>
                      <a:pt x="71" y="420"/>
                    </a:lnTo>
                    <a:lnTo>
                      <a:pt x="71" y="405"/>
                    </a:lnTo>
                    <a:lnTo>
                      <a:pt x="71" y="389"/>
                    </a:lnTo>
                    <a:lnTo>
                      <a:pt x="71" y="376"/>
                    </a:lnTo>
                    <a:lnTo>
                      <a:pt x="71" y="362"/>
                    </a:lnTo>
                    <a:lnTo>
                      <a:pt x="71" y="349"/>
                    </a:lnTo>
                    <a:lnTo>
                      <a:pt x="71" y="338"/>
                    </a:lnTo>
                    <a:lnTo>
                      <a:pt x="71" y="324"/>
                    </a:lnTo>
                    <a:lnTo>
                      <a:pt x="71" y="313"/>
                    </a:lnTo>
                    <a:lnTo>
                      <a:pt x="71" y="303"/>
                    </a:lnTo>
                    <a:lnTo>
                      <a:pt x="71" y="291"/>
                    </a:lnTo>
                    <a:lnTo>
                      <a:pt x="71" y="282"/>
                    </a:lnTo>
                    <a:lnTo>
                      <a:pt x="71" y="272"/>
                    </a:lnTo>
                    <a:lnTo>
                      <a:pt x="71" y="263"/>
                    </a:lnTo>
                    <a:lnTo>
                      <a:pt x="71" y="255"/>
                    </a:lnTo>
                    <a:lnTo>
                      <a:pt x="71" y="247"/>
                    </a:lnTo>
                    <a:lnTo>
                      <a:pt x="71" y="240"/>
                    </a:lnTo>
                    <a:lnTo>
                      <a:pt x="71" y="234"/>
                    </a:lnTo>
                    <a:lnTo>
                      <a:pt x="71" y="226"/>
                    </a:lnTo>
                    <a:lnTo>
                      <a:pt x="71" y="220"/>
                    </a:lnTo>
                    <a:lnTo>
                      <a:pt x="71" y="217"/>
                    </a:lnTo>
                    <a:lnTo>
                      <a:pt x="71" y="211"/>
                    </a:lnTo>
                    <a:lnTo>
                      <a:pt x="71" y="207"/>
                    </a:lnTo>
                    <a:lnTo>
                      <a:pt x="71" y="203"/>
                    </a:lnTo>
                    <a:lnTo>
                      <a:pt x="67" y="192"/>
                    </a:lnTo>
                    <a:lnTo>
                      <a:pt x="63" y="178"/>
                    </a:lnTo>
                    <a:lnTo>
                      <a:pt x="58" y="165"/>
                    </a:lnTo>
                    <a:lnTo>
                      <a:pt x="54" y="149"/>
                    </a:lnTo>
                    <a:lnTo>
                      <a:pt x="48" y="136"/>
                    </a:lnTo>
                    <a:lnTo>
                      <a:pt x="40" y="121"/>
                    </a:lnTo>
                    <a:lnTo>
                      <a:pt x="33" y="105"/>
                    </a:lnTo>
                    <a:lnTo>
                      <a:pt x="23" y="88"/>
                    </a:lnTo>
                    <a:lnTo>
                      <a:pt x="17" y="80"/>
                    </a:lnTo>
                    <a:lnTo>
                      <a:pt x="13" y="75"/>
                    </a:lnTo>
                    <a:lnTo>
                      <a:pt x="10" y="69"/>
                    </a:lnTo>
                    <a:lnTo>
                      <a:pt x="6" y="61"/>
                    </a:lnTo>
                    <a:lnTo>
                      <a:pt x="4" y="55"/>
                    </a:lnTo>
                    <a:lnTo>
                      <a:pt x="2" y="50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Freeform 74"/>
              <p:cNvSpPr/>
              <p:nvPr/>
            </p:nvSpPr>
            <p:spPr>
              <a:xfrm>
                <a:off x="6289920" y="1676520"/>
                <a:ext cx="334440" cy="489600"/>
              </a:xfrm>
              <a:custGeom>
                <a:avLst/>
                <a:gdLst>
                  <a:gd name="textAreaLeft" fmla="*/ 0 w 334440"/>
                  <a:gd name="textAreaRight" fmla="*/ 334800 w 3344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704" h="1468">
                    <a:moveTo>
                      <a:pt x="456" y="35"/>
                    </a:moveTo>
                    <a:lnTo>
                      <a:pt x="468" y="27"/>
                    </a:lnTo>
                    <a:lnTo>
                      <a:pt x="477" y="20"/>
                    </a:lnTo>
                    <a:lnTo>
                      <a:pt x="485" y="14"/>
                    </a:lnTo>
                    <a:lnTo>
                      <a:pt x="495" y="8"/>
                    </a:lnTo>
                    <a:lnTo>
                      <a:pt x="502" y="4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3" y="0"/>
                    </a:lnTo>
                    <a:lnTo>
                      <a:pt x="527" y="0"/>
                    </a:lnTo>
                    <a:lnTo>
                      <a:pt x="531" y="0"/>
                    </a:lnTo>
                    <a:lnTo>
                      <a:pt x="537" y="2"/>
                    </a:lnTo>
                    <a:lnTo>
                      <a:pt x="541" y="4"/>
                    </a:lnTo>
                    <a:lnTo>
                      <a:pt x="552" y="10"/>
                    </a:lnTo>
                    <a:lnTo>
                      <a:pt x="566" y="16"/>
                    </a:lnTo>
                    <a:lnTo>
                      <a:pt x="579" y="23"/>
                    </a:lnTo>
                    <a:lnTo>
                      <a:pt x="594" y="35"/>
                    </a:lnTo>
                    <a:lnTo>
                      <a:pt x="612" y="46"/>
                    </a:lnTo>
                    <a:lnTo>
                      <a:pt x="629" y="58"/>
                    </a:lnTo>
                    <a:lnTo>
                      <a:pt x="644" y="71"/>
                    </a:lnTo>
                    <a:lnTo>
                      <a:pt x="652" y="77"/>
                    </a:lnTo>
                    <a:lnTo>
                      <a:pt x="660" y="85"/>
                    </a:lnTo>
                    <a:lnTo>
                      <a:pt x="667" y="91"/>
                    </a:lnTo>
                    <a:lnTo>
                      <a:pt x="673" y="96"/>
                    </a:lnTo>
                    <a:lnTo>
                      <a:pt x="679" y="102"/>
                    </a:lnTo>
                    <a:lnTo>
                      <a:pt x="685" y="108"/>
                    </a:lnTo>
                    <a:lnTo>
                      <a:pt x="688" y="114"/>
                    </a:lnTo>
                    <a:lnTo>
                      <a:pt x="692" y="117"/>
                    </a:lnTo>
                    <a:lnTo>
                      <a:pt x="696" y="123"/>
                    </a:lnTo>
                    <a:lnTo>
                      <a:pt x="700" y="127"/>
                    </a:lnTo>
                    <a:lnTo>
                      <a:pt x="702" y="131"/>
                    </a:lnTo>
                    <a:lnTo>
                      <a:pt x="704" y="135"/>
                    </a:lnTo>
                    <a:lnTo>
                      <a:pt x="704" y="137"/>
                    </a:lnTo>
                    <a:lnTo>
                      <a:pt x="704" y="140"/>
                    </a:lnTo>
                    <a:lnTo>
                      <a:pt x="704" y="148"/>
                    </a:lnTo>
                    <a:lnTo>
                      <a:pt x="704" y="158"/>
                    </a:lnTo>
                    <a:lnTo>
                      <a:pt x="702" y="165"/>
                    </a:lnTo>
                    <a:lnTo>
                      <a:pt x="698" y="175"/>
                    </a:lnTo>
                    <a:lnTo>
                      <a:pt x="692" y="192"/>
                    </a:lnTo>
                    <a:lnTo>
                      <a:pt x="685" y="210"/>
                    </a:lnTo>
                    <a:lnTo>
                      <a:pt x="679" y="223"/>
                    </a:lnTo>
                    <a:lnTo>
                      <a:pt x="673" y="238"/>
                    </a:lnTo>
                    <a:lnTo>
                      <a:pt x="667" y="254"/>
                    </a:lnTo>
                    <a:lnTo>
                      <a:pt x="664" y="271"/>
                    </a:lnTo>
                    <a:lnTo>
                      <a:pt x="658" y="288"/>
                    </a:lnTo>
                    <a:lnTo>
                      <a:pt x="654" y="307"/>
                    </a:lnTo>
                    <a:lnTo>
                      <a:pt x="650" y="329"/>
                    </a:lnTo>
                    <a:lnTo>
                      <a:pt x="648" y="350"/>
                    </a:lnTo>
                    <a:lnTo>
                      <a:pt x="646" y="355"/>
                    </a:lnTo>
                    <a:lnTo>
                      <a:pt x="646" y="363"/>
                    </a:lnTo>
                    <a:lnTo>
                      <a:pt x="644" y="371"/>
                    </a:lnTo>
                    <a:lnTo>
                      <a:pt x="644" y="380"/>
                    </a:lnTo>
                    <a:lnTo>
                      <a:pt x="642" y="390"/>
                    </a:lnTo>
                    <a:lnTo>
                      <a:pt x="642" y="400"/>
                    </a:lnTo>
                    <a:lnTo>
                      <a:pt x="641" y="409"/>
                    </a:lnTo>
                    <a:lnTo>
                      <a:pt x="641" y="421"/>
                    </a:lnTo>
                    <a:lnTo>
                      <a:pt x="641" y="432"/>
                    </a:lnTo>
                    <a:lnTo>
                      <a:pt x="639" y="446"/>
                    </a:lnTo>
                    <a:lnTo>
                      <a:pt x="639" y="457"/>
                    </a:lnTo>
                    <a:lnTo>
                      <a:pt x="637" y="472"/>
                    </a:lnTo>
                    <a:lnTo>
                      <a:pt x="637" y="486"/>
                    </a:lnTo>
                    <a:lnTo>
                      <a:pt x="637" y="501"/>
                    </a:lnTo>
                    <a:lnTo>
                      <a:pt x="635" y="517"/>
                    </a:lnTo>
                    <a:lnTo>
                      <a:pt x="635" y="532"/>
                    </a:lnTo>
                    <a:lnTo>
                      <a:pt x="633" y="549"/>
                    </a:lnTo>
                    <a:lnTo>
                      <a:pt x="633" y="566"/>
                    </a:lnTo>
                    <a:lnTo>
                      <a:pt x="633" y="584"/>
                    </a:lnTo>
                    <a:lnTo>
                      <a:pt x="633" y="603"/>
                    </a:lnTo>
                    <a:lnTo>
                      <a:pt x="631" y="622"/>
                    </a:lnTo>
                    <a:lnTo>
                      <a:pt x="631" y="641"/>
                    </a:lnTo>
                    <a:lnTo>
                      <a:pt x="631" y="662"/>
                    </a:lnTo>
                    <a:lnTo>
                      <a:pt x="631" y="684"/>
                    </a:lnTo>
                    <a:lnTo>
                      <a:pt x="629" y="705"/>
                    </a:lnTo>
                    <a:lnTo>
                      <a:pt x="629" y="726"/>
                    </a:lnTo>
                    <a:lnTo>
                      <a:pt x="629" y="749"/>
                    </a:lnTo>
                    <a:lnTo>
                      <a:pt x="629" y="772"/>
                    </a:lnTo>
                    <a:lnTo>
                      <a:pt x="629" y="797"/>
                    </a:lnTo>
                    <a:lnTo>
                      <a:pt x="629" y="822"/>
                    </a:lnTo>
                    <a:lnTo>
                      <a:pt x="629" y="847"/>
                    </a:lnTo>
                    <a:lnTo>
                      <a:pt x="629" y="872"/>
                    </a:lnTo>
                    <a:lnTo>
                      <a:pt x="629" y="898"/>
                    </a:lnTo>
                    <a:lnTo>
                      <a:pt x="629" y="923"/>
                    </a:lnTo>
                    <a:lnTo>
                      <a:pt x="629" y="948"/>
                    </a:lnTo>
                    <a:lnTo>
                      <a:pt x="629" y="971"/>
                    </a:lnTo>
                    <a:lnTo>
                      <a:pt x="629" y="994"/>
                    </a:lnTo>
                    <a:lnTo>
                      <a:pt x="629" y="1017"/>
                    </a:lnTo>
                    <a:lnTo>
                      <a:pt x="629" y="1039"/>
                    </a:lnTo>
                    <a:lnTo>
                      <a:pt x="629" y="1060"/>
                    </a:lnTo>
                    <a:lnTo>
                      <a:pt x="629" y="1081"/>
                    </a:lnTo>
                    <a:lnTo>
                      <a:pt x="627" y="1100"/>
                    </a:lnTo>
                    <a:lnTo>
                      <a:pt x="627" y="1119"/>
                    </a:lnTo>
                    <a:lnTo>
                      <a:pt x="627" y="1138"/>
                    </a:lnTo>
                    <a:lnTo>
                      <a:pt x="627" y="1156"/>
                    </a:lnTo>
                    <a:lnTo>
                      <a:pt x="627" y="1173"/>
                    </a:lnTo>
                    <a:lnTo>
                      <a:pt x="627" y="1190"/>
                    </a:lnTo>
                    <a:lnTo>
                      <a:pt x="627" y="1206"/>
                    </a:lnTo>
                    <a:lnTo>
                      <a:pt x="627" y="1221"/>
                    </a:lnTo>
                    <a:lnTo>
                      <a:pt x="627" y="1234"/>
                    </a:lnTo>
                    <a:lnTo>
                      <a:pt x="627" y="1250"/>
                    </a:lnTo>
                    <a:lnTo>
                      <a:pt x="625" y="1263"/>
                    </a:lnTo>
                    <a:lnTo>
                      <a:pt x="625" y="1275"/>
                    </a:lnTo>
                    <a:lnTo>
                      <a:pt x="625" y="1286"/>
                    </a:lnTo>
                    <a:lnTo>
                      <a:pt x="625" y="1298"/>
                    </a:lnTo>
                    <a:lnTo>
                      <a:pt x="625" y="1309"/>
                    </a:lnTo>
                    <a:lnTo>
                      <a:pt x="623" y="1319"/>
                    </a:lnTo>
                    <a:lnTo>
                      <a:pt x="623" y="1328"/>
                    </a:lnTo>
                    <a:lnTo>
                      <a:pt x="623" y="1338"/>
                    </a:lnTo>
                    <a:lnTo>
                      <a:pt x="621" y="1346"/>
                    </a:lnTo>
                    <a:lnTo>
                      <a:pt x="621" y="1353"/>
                    </a:lnTo>
                    <a:lnTo>
                      <a:pt x="621" y="1361"/>
                    </a:lnTo>
                    <a:lnTo>
                      <a:pt x="619" y="1367"/>
                    </a:lnTo>
                    <a:lnTo>
                      <a:pt x="619" y="1373"/>
                    </a:lnTo>
                    <a:lnTo>
                      <a:pt x="617" y="1382"/>
                    </a:lnTo>
                    <a:lnTo>
                      <a:pt x="616" y="1394"/>
                    </a:lnTo>
                    <a:lnTo>
                      <a:pt x="614" y="1403"/>
                    </a:lnTo>
                    <a:lnTo>
                      <a:pt x="610" y="1411"/>
                    </a:lnTo>
                    <a:lnTo>
                      <a:pt x="608" y="1420"/>
                    </a:lnTo>
                    <a:lnTo>
                      <a:pt x="606" y="1428"/>
                    </a:lnTo>
                    <a:lnTo>
                      <a:pt x="602" y="1434"/>
                    </a:lnTo>
                    <a:lnTo>
                      <a:pt x="600" y="1442"/>
                    </a:lnTo>
                    <a:lnTo>
                      <a:pt x="596" y="1445"/>
                    </a:lnTo>
                    <a:lnTo>
                      <a:pt x="594" y="1451"/>
                    </a:lnTo>
                    <a:lnTo>
                      <a:pt x="593" y="1455"/>
                    </a:lnTo>
                    <a:lnTo>
                      <a:pt x="589" y="1459"/>
                    </a:lnTo>
                    <a:lnTo>
                      <a:pt x="587" y="1463"/>
                    </a:lnTo>
                    <a:lnTo>
                      <a:pt x="585" y="1465"/>
                    </a:lnTo>
                    <a:lnTo>
                      <a:pt x="583" y="1465"/>
                    </a:lnTo>
                    <a:lnTo>
                      <a:pt x="581" y="1465"/>
                    </a:lnTo>
                    <a:lnTo>
                      <a:pt x="577" y="1467"/>
                    </a:lnTo>
                    <a:lnTo>
                      <a:pt x="573" y="1468"/>
                    </a:lnTo>
                    <a:lnTo>
                      <a:pt x="570" y="1468"/>
                    </a:lnTo>
                    <a:lnTo>
                      <a:pt x="566" y="1468"/>
                    </a:lnTo>
                    <a:lnTo>
                      <a:pt x="564" y="1467"/>
                    </a:lnTo>
                    <a:lnTo>
                      <a:pt x="560" y="1465"/>
                    </a:lnTo>
                    <a:lnTo>
                      <a:pt x="556" y="1461"/>
                    </a:lnTo>
                    <a:lnTo>
                      <a:pt x="552" y="1457"/>
                    </a:lnTo>
                    <a:lnTo>
                      <a:pt x="548" y="1451"/>
                    </a:lnTo>
                    <a:lnTo>
                      <a:pt x="545" y="1447"/>
                    </a:lnTo>
                    <a:lnTo>
                      <a:pt x="541" y="1440"/>
                    </a:lnTo>
                    <a:lnTo>
                      <a:pt x="539" y="1432"/>
                    </a:lnTo>
                    <a:lnTo>
                      <a:pt x="535" y="1424"/>
                    </a:lnTo>
                    <a:lnTo>
                      <a:pt x="531" y="1417"/>
                    </a:lnTo>
                    <a:lnTo>
                      <a:pt x="527" y="1407"/>
                    </a:lnTo>
                    <a:lnTo>
                      <a:pt x="523" y="1396"/>
                    </a:lnTo>
                    <a:lnTo>
                      <a:pt x="520" y="1386"/>
                    </a:lnTo>
                    <a:lnTo>
                      <a:pt x="518" y="1376"/>
                    </a:lnTo>
                    <a:lnTo>
                      <a:pt x="516" y="1365"/>
                    </a:lnTo>
                    <a:lnTo>
                      <a:pt x="514" y="1353"/>
                    </a:lnTo>
                    <a:lnTo>
                      <a:pt x="512" y="1342"/>
                    </a:lnTo>
                    <a:lnTo>
                      <a:pt x="510" y="1328"/>
                    </a:lnTo>
                    <a:lnTo>
                      <a:pt x="508" y="1313"/>
                    </a:lnTo>
                    <a:lnTo>
                      <a:pt x="508" y="1298"/>
                    </a:lnTo>
                    <a:lnTo>
                      <a:pt x="508" y="1282"/>
                    </a:lnTo>
                    <a:lnTo>
                      <a:pt x="508" y="1265"/>
                    </a:lnTo>
                    <a:lnTo>
                      <a:pt x="508" y="1246"/>
                    </a:lnTo>
                    <a:lnTo>
                      <a:pt x="508" y="1227"/>
                    </a:lnTo>
                    <a:lnTo>
                      <a:pt x="510" y="1207"/>
                    </a:lnTo>
                    <a:lnTo>
                      <a:pt x="512" y="1186"/>
                    </a:lnTo>
                    <a:lnTo>
                      <a:pt x="512" y="1163"/>
                    </a:lnTo>
                    <a:lnTo>
                      <a:pt x="514" y="1140"/>
                    </a:lnTo>
                    <a:lnTo>
                      <a:pt x="516" y="1115"/>
                    </a:lnTo>
                    <a:lnTo>
                      <a:pt x="518" y="1090"/>
                    </a:lnTo>
                    <a:lnTo>
                      <a:pt x="518" y="1064"/>
                    </a:lnTo>
                    <a:lnTo>
                      <a:pt x="520" y="1035"/>
                    </a:lnTo>
                    <a:lnTo>
                      <a:pt x="520" y="1006"/>
                    </a:lnTo>
                    <a:lnTo>
                      <a:pt x="522" y="975"/>
                    </a:lnTo>
                    <a:lnTo>
                      <a:pt x="522" y="945"/>
                    </a:lnTo>
                    <a:lnTo>
                      <a:pt x="522" y="912"/>
                    </a:lnTo>
                    <a:lnTo>
                      <a:pt x="523" y="877"/>
                    </a:lnTo>
                    <a:lnTo>
                      <a:pt x="523" y="843"/>
                    </a:lnTo>
                    <a:lnTo>
                      <a:pt x="523" y="806"/>
                    </a:lnTo>
                    <a:lnTo>
                      <a:pt x="523" y="768"/>
                    </a:lnTo>
                    <a:lnTo>
                      <a:pt x="523" y="730"/>
                    </a:lnTo>
                    <a:lnTo>
                      <a:pt x="523" y="689"/>
                    </a:lnTo>
                    <a:lnTo>
                      <a:pt x="523" y="647"/>
                    </a:lnTo>
                    <a:lnTo>
                      <a:pt x="523" y="605"/>
                    </a:lnTo>
                    <a:lnTo>
                      <a:pt x="523" y="584"/>
                    </a:lnTo>
                    <a:lnTo>
                      <a:pt x="523" y="563"/>
                    </a:lnTo>
                    <a:lnTo>
                      <a:pt x="523" y="542"/>
                    </a:lnTo>
                    <a:lnTo>
                      <a:pt x="523" y="522"/>
                    </a:lnTo>
                    <a:lnTo>
                      <a:pt x="523" y="503"/>
                    </a:lnTo>
                    <a:lnTo>
                      <a:pt x="523" y="486"/>
                    </a:lnTo>
                    <a:lnTo>
                      <a:pt x="522" y="467"/>
                    </a:lnTo>
                    <a:lnTo>
                      <a:pt x="522" y="449"/>
                    </a:lnTo>
                    <a:lnTo>
                      <a:pt x="522" y="434"/>
                    </a:lnTo>
                    <a:lnTo>
                      <a:pt x="522" y="417"/>
                    </a:lnTo>
                    <a:lnTo>
                      <a:pt x="520" y="401"/>
                    </a:lnTo>
                    <a:lnTo>
                      <a:pt x="520" y="386"/>
                    </a:lnTo>
                    <a:lnTo>
                      <a:pt x="518" y="373"/>
                    </a:lnTo>
                    <a:lnTo>
                      <a:pt x="518" y="359"/>
                    </a:lnTo>
                    <a:lnTo>
                      <a:pt x="516" y="346"/>
                    </a:lnTo>
                    <a:lnTo>
                      <a:pt x="516" y="332"/>
                    </a:lnTo>
                    <a:lnTo>
                      <a:pt x="514" y="321"/>
                    </a:lnTo>
                    <a:lnTo>
                      <a:pt x="512" y="309"/>
                    </a:lnTo>
                    <a:lnTo>
                      <a:pt x="512" y="300"/>
                    </a:lnTo>
                    <a:lnTo>
                      <a:pt x="510" y="288"/>
                    </a:lnTo>
                    <a:lnTo>
                      <a:pt x="508" y="279"/>
                    </a:lnTo>
                    <a:lnTo>
                      <a:pt x="506" y="269"/>
                    </a:lnTo>
                    <a:lnTo>
                      <a:pt x="506" y="261"/>
                    </a:lnTo>
                    <a:lnTo>
                      <a:pt x="504" y="254"/>
                    </a:lnTo>
                    <a:lnTo>
                      <a:pt x="502" y="246"/>
                    </a:lnTo>
                    <a:lnTo>
                      <a:pt x="500" y="238"/>
                    </a:lnTo>
                    <a:lnTo>
                      <a:pt x="497" y="233"/>
                    </a:lnTo>
                    <a:lnTo>
                      <a:pt x="495" y="227"/>
                    </a:lnTo>
                    <a:lnTo>
                      <a:pt x="493" y="221"/>
                    </a:lnTo>
                    <a:lnTo>
                      <a:pt x="491" y="217"/>
                    </a:lnTo>
                    <a:lnTo>
                      <a:pt x="489" y="213"/>
                    </a:lnTo>
                    <a:lnTo>
                      <a:pt x="485" y="210"/>
                    </a:lnTo>
                    <a:lnTo>
                      <a:pt x="481" y="204"/>
                    </a:lnTo>
                    <a:lnTo>
                      <a:pt x="475" y="198"/>
                    </a:lnTo>
                    <a:lnTo>
                      <a:pt x="470" y="192"/>
                    </a:lnTo>
                    <a:lnTo>
                      <a:pt x="464" y="187"/>
                    </a:lnTo>
                    <a:lnTo>
                      <a:pt x="458" y="183"/>
                    </a:lnTo>
                    <a:lnTo>
                      <a:pt x="452" y="179"/>
                    </a:lnTo>
                    <a:lnTo>
                      <a:pt x="447" y="177"/>
                    </a:lnTo>
                    <a:lnTo>
                      <a:pt x="441" y="175"/>
                    </a:lnTo>
                    <a:lnTo>
                      <a:pt x="435" y="173"/>
                    </a:lnTo>
                    <a:lnTo>
                      <a:pt x="429" y="171"/>
                    </a:lnTo>
                    <a:lnTo>
                      <a:pt x="424" y="171"/>
                    </a:lnTo>
                    <a:lnTo>
                      <a:pt x="418" y="169"/>
                    </a:lnTo>
                    <a:lnTo>
                      <a:pt x="410" y="171"/>
                    </a:lnTo>
                    <a:lnTo>
                      <a:pt x="404" y="171"/>
                    </a:lnTo>
                    <a:lnTo>
                      <a:pt x="397" y="173"/>
                    </a:lnTo>
                    <a:lnTo>
                      <a:pt x="391" y="175"/>
                    </a:lnTo>
                    <a:lnTo>
                      <a:pt x="381" y="177"/>
                    </a:lnTo>
                    <a:lnTo>
                      <a:pt x="370" y="181"/>
                    </a:lnTo>
                    <a:lnTo>
                      <a:pt x="356" y="183"/>
                    </a:lnTo>
                    <a:lnTo>
                      <a:pt x="341" y="188"/>
                    </a:lnTo>
                    <a:lnTo>
                      <a:pt x="324" y="192"/>
                    </a:lnTo>
                    <a:lnTo>
                      <a:pt x="305" y="198"/>
                    </a:lnTo>
                    <a:lnTo>
                      <a:pt x="284" y="204"/>
                    </a:lnTo>
                    <a:lnTo>
                      <a:pt x="262" y="210"/>
                    </a:lnTo>
                    <a:lnTo>
                      <a:pt x="237" y="215"/>
                    </a:lnTo>
                    <a:lnTo>
                      <a:pt x="213" y="223"/>
                    </a:lnTo>
                    <a:lnTo>
                      <a:pt x="184" y="231"/>
                    </a:lnTo>
                    <a:lnTo>
                      <a:pt x="155" y="240"/>
                    </a:lnTo>
                    <a:lnTo>
                      <a:pt x="124" y="248"/>
                    </a:lnTo>
                    <a:lnTo>
                      <a:pt x="92" y="258"/>
                    </a:lnTo>
                    <a:lnTo>
                      <a:pt x="55" y="269"/>
                    </a:lnTo>
                    <a:lnTo>
                      <a:pt x="19" y="279"/>
                    </a:lnTo>
                    <a:lnTo>
                      <a:pt x="9" y="210"/>
                    </a:lnTo>
                    <a:lnTo>
                      <a:pt x="0" y="140"/>
                    </a:lnTo>
                    <a:lnTo>
                      <a:pt x="46" y="139"/>
                    </a:lnTo>
                    <a:lnTo>
                      <a:pt x="69" y="139"/>
                    </a:lnTo>
                    <a:lnTo>
                      <a:pt x="90" y="137"/>
                    </a:lnTo>
                    <a:lnTo>
                      <a:pt x="111" y="137"/>
                    </a:lnTo>
                    <a:lnTo>
                      <a:pt x="132" y="135"/>
                    </a:lnTo>
                    <a:lnTo>
                      <a:pt x="151" y="133"/>
                    </a:lnTo>
                    <a:lnTo>
                      <a:pt x="170" y="129"/>
                    </a:lnTo>
                    <a:lnTo>
                      <a:pt x="190" y="127"/>
                    </a:lnTo>
                    <a:lnTo>
                      <a:pt x="209" y="123"/>
                    </a:lnTo>
                    <a:lnTo>
                      <a:pt x="226" y="119"/>
                    </a:lnTo>
                    <a:lnTo>
                      <a:pt x="243" y="116"/>
                    </a:lnTo>
                    <a:lnTo>
                      <a:pt x="259" y="110"/>
                    </a:lnTo>
                    <a:lnTo>
                      <a:pt x="276" y="106"/>
                    </a:lnTo>
                    <a:lnTo>
                      <a:pt x="291" y="100"/>
                    </a:lnTo>
                    <a:lnTo>
                      <a:pt x="305" y="92"/>
                    </a:lnTo>
                    <a:lnTo>
                      <a:pt x="318" y="89"/>
                    </a:lnTo>
                    <a:lnTo>
                      <a:pt x="332" y="85"/>
                    </a:lnTo>
                    <a:lnTo>
                      <a:pt x="345" y="79"/>
                    </a:lnTo>
                    <a:lnTo>
                      <a:pt x="356" y="75"/>
                    </a:lnTo>
                    <a:lnTo>
                      <a:pt x="368" y="71"/>
                    </a:lnTo>
                    <a:lnTo>
                      <a:pt x="380" y="68"/>
                    </a:lnTo>
                    <a:lnTo>
                      <a:pt x="389" y="64"/>
                    </a:lnTo>
                    <a:lnTo>
                      <a:pt x="399" y="60"/>
                    </a:lnTo>
                    <a:lnTo>
                      <a:pt x="408" y="56"/>
                    </a:lnTo>
                    <a:lnTo>
                      <a:pt x="416" y="52"/>
                    </a:lnTo>
                    <a:lnTo>
                      <a:pt x="424" y="48"/>
                    </a:lnTo>
                    <a:lnTo>
                      <a:pt x="431" y="46"/>
                    </a:lnTo>
                    <a:lnTo>
                      <a:pt x="439" y="43"/>
                    </a:lnTo>
                    <a:lnTo>
                      <a:pt x="445" y="41"/>
                    </a:lnTo>
                    <a:lnTo>
                      <a:pt x="452" y="37"/>
                    </a:lnTo>
                    <a:lnTo>
                      <a:pt x="456" y="35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5" name="Text Box 85"/>
            <p:cNvSpPr/>
            <p:nvPr/>
          </p:nvSpPr>
          <p:spPr>
            <a:xfrm>
              <a:off x="4572000" y="175248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贝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amond/>
  </p:transition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4319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4319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32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32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4321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321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4318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4318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331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331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1000"/>
                                        <p:tgtEl>
                                          <p:spTgt spid="4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300"/>
                            </p:stCondLst>
                            <p:childTnLst>
                              <p:par>
                                <p:cTn id="566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6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10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9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10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200"/>
                            </p:stCondLst>
                            <p:childTnLst>
                              <p:par>
                                <p:cTn id="578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10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4" dur="1000"/>
                                        <p:tgtEl>
                                          <p:spTgt spid="4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8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10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100"/>
                            </p:stCondLst>
                            <p:childTnLst>
                              <p:par>
                                <p:cTn id="590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2" dur="10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33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33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6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57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358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59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60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361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362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Text Box 12"/>
          <p:cNvSpPr/>
          <p:nvPr/>
        </p:nvSpPr>
        <p:spPr>
          <a:xfrm>
            <a:off x="46483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Text Box 13"/>
          <p:cNvSpPr/>
          <p:nvPr/>
        </p:nvSpPr>
        <p:spPr>
          <a:xfrm>
            <a:off x="4648320" y="274320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吞下 吞没     吞吞吐吐 慢吞吞狼吞虎咽 独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Text Box 14"/>
          <p:cNvSpPr/>
          <p:nvPr/>
        </p:nvSpPr>
        <p:spPr>
          <a:xfrm>
            <a:off x="457200" y="5181480"/>
            <a:ext cx="838188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蜗牛背着重重的壳慢吞吞地往上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9" name="Group 15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370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73" name="Picture 19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374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Text Box 22"/>
          <p:cNvSpPr/>
          <p:nvPr/>
        </p:nvSpPr>
        <p:spPr>
          <a:xfrm>
            <a:off x="1828800" y="990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ū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Freeform 47"/>
          <p:cNvSpPr/>
          <p:nvPr/>
        </p:nvSpPr>
        <p:spPr>
          <a:xfrm>
            <a:off x="2459160" y="2374920"/>
            <a:ext cx="758880" cy="222120"/>
          </a:xfrm>
          <a:custGeom>
            <a:avLst/>
            <a:gdLst>
              <a:gd name="textAreaLeft" fmla="*/ 0 w 758880"/>
              <a:gd name="textAreaRight" fmla="*/ 759240 w 758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5" h="281">
                <a:moveTo>
                  <a:pt x="798" y="2"/>
                </a:moveTo>
                <a:lnTo>
                  <a:pt x="809" y="0"/>
                </a:lnTo>
                <a:lnTo>
                  <a:pt x="821" y="0"/>
                </a:lnTo>
                <a:lnTo>
                  <a:pt x="832" y="0"/>
                </a:lnTo>
                <a:lnTo>
                  <a:pt x="842" y="0"/>
                </a:lnTo>
                <a:lnTo>
                  <a:pt x="852" y="2"/>
                </a:lnTo>
                <a:lnTo>
                  <a:pt x="861" y="4"/>
                </a:lnTo>
                <a:lnTo>
                  <a:pt x="871" y="6"/>
                </a:lnTo>
                <a:lnTo>
                  <a:pt x="880" y="10"/>
                </a:lnTo>
                <a:lnTo>
                  <a:pt x="888" y="14"/>
                </a:lnTo>
                <a:lnTo>
                  <a:pt x="896" y="18"/>
                </a:lnTo>
                <a:lnTo>
                  <a:pt x="903" y="23"/>
                </a:lnTo>
                <a:lnTo>
                  <a:pt x="911" y="29"/>
                </a:lnTo>
                <a:lnTo>
                  <a:pt x="917" y="37"/>
                </a:lnTo>
                <a:lnTo>
                  <a:pt x="923" y="43"/>
                </a:lnTo>
                <a:lnTo>
                  <a:pt x="928" y="50"/>
                </a:lnTo>
                <a:lnTo>
                  <a:pt x="934" y="58"/>
                </a:lnTo>
                <a:lnTo>
                  <a:pt x="938" y="68"/>
                </a:lnTo>
                <a:lnTo>
                  <a:pt x="944" y="75"/>
                </a:lnTo>
                <a:lnTo>
                  <a:pt x="946" y="81"/>
                </a:lnTo>
                <a:lnTo>
                  <a:pt x="950" y="89"/>
                </a:lnTo>
                <a:lnTo>
                  <a:pt x="951" y="94"/>
                </a:lnTo>
                <a:lnTo>
                  <a:pt x="953" y="100"/>
                </a:lnTo>
                <a:lnTo>
                  <a:pt x="955" y="106"/>
                </a:lnTo>
                <a:lnTo>
                  <a:pt x="955" y="110"/>
                </a:lnTo>
                <a:lnTo>
                  <a:pt x="955" y="115"/>
                </a:lnTo>
                <a:lnTo>
                  <a:pt x="955" y="119"/>
                </a:lnTo>
                <a:lnTo>
                  <a:pt x="955" y="123"/>
                </a:lnTo>
                <a:lnTo>
                  <a:pt x="953" y="125"/>
                </a:lnTo>
                <a:lnTo>
                  <a:pt x="950" y="133"/>
                </a:lnTo>
                <a:lnTo>
                  <a:pt x="944" y="137"/>
                </a:lnTo>
                <a:lnTo>
                  <a:pt x="942" y="139"/>
                </a:lnTo>
                <a:lnTo>
                  <a:pt x="938" y="139"/>
                </a:lnTo>
                <a:lnTo>
                  <a:pt x="936" y="140"/>
                </a:lnTo>
                <a:lnTo>
                  <a:pt x="932" y="140"/>
                </a:lnTo>
                <a:lnTo>
                  <a:pt x="927" y="142"/>
                </a:lnTo>
                <a:lnTo>
                  <a:pt x="921" y="144"/>
                </a:lnTo>
                <a:lnTo>
                  <a:pt x="915" y="146"/>
                </a:lnTo>
                <a:lnTo>
                  <a:pt x="909" y="148"/>
                </a:lnTo>
                <a:lnTo>
                  <a:pt x="902" y="148"/>
                </a:lnTo>
                <a:lnTo>
                  <a:pt x="894" y="150"/>
                </a:lnTo>
                <a:lnTo>
                  <a:pt x="886" y="152"/>
                </a:lnTo>
                <a:lnTo>
                  <a:pt x="877" y="154"/>
                </a:lnTo>
                <a:lnTo>
                  <a:pt x="867" y="156"/>
                </a:lnTo>
                <a:lnTo>
                  <a:pt x="855" y="158"/>
                </a:lnTo>
                <a:lnTo>
                  <a:pt x="846" y="160"/>
                </a:lnTo>
                <a:lnTo>
                  <a:pt x="832" y="163"/>
                </a:lnTo>
                <a:lnTo>
                  <a:pt x="821" y="165"/>
                </a:lnTo>
                <a:lnTo>
                  <a:pt x="808" y="167"/>
                </a:lnTo>
                <a:lnTo>
                  <a:pt x="794" y="169"/>
                </a:lnTo>
                <a:lnTo>
                  <a:pt x="779" y="173"/>
                </a:lnTo>
                <a:lnTo>
                  <a:pt x="763" y="175"/>
                </a:lnTo>
                <a:lnTo>
                  <a:pt x="748" y="179"/>
                </a:lnTo>
                <a:lnTo>
                  <a:pt x="733" y="181"/>
                </a:lnTo>
                <a:lnTo>
                  <a:pt x="715" y="185"/>
                </a:lnTo>
                <a:lnTo>
                  <a:pt x="696" y="188"/>
                </a:lnTo>
                <a:lnTo>
                  <a:pt x="679" y="192"/>
                </a:lnTo>
                <a:lnTo>
                  <a:pt x="660" y="194"/>
                </a:lnTo>
                <a:lnTo>
                  <a:pt x="639" y="198"/>
                </a:lnTo>
                <a:lnTo>
                  <a:pt x="619" y="202"/>
                </a:lnTo>
                <a:lnTo>
                  <a:pt x="598" y="206"/>
                </a:lnTo>
                <a:lnTo>
                  <a:pt x="575" y="210"/>
                </a:lnTo>
                <a:lnTo>
                  <a:pt x="554" y="215"/>
                </a:lnTo>
                <a:lnTo>
                  <a:pt x="531" y="219"/>
                </a:lnTo>
                <a:lnTo>
                  <a:pt x="508" y="223"/>
                </a:lnTo>
                <a:lnTo>
                  <a:pt x="487" y="227"/>
                </a:lnTo>
                <a:lnTo>
                  <a:pt x="466" y="231"/>
                </a:lnTo>
                <a:lnTo>
                  <a:pt x="447" y="234"/>
                </a:lnTo>
                <a:lnTo>
                  <a:pt x="428" y="238"/>
                </a:lnTo>
                <a:lnTo>
                  <a:pt x="408" y="240"/>
                </a:lnTo>
                <a:lnTo>
                  <a:pt x="391" y="244"/>
                </a:lnTo>
                <a:lnTo>
                  <a:pt x="372" y="248"/>
                </a:lnTo>
                <a:lnTo>
                  <a:pt x="357" y="250"/>
                </a:lnTo>
                <a:lnTo>
                  <a:pt x="339" y="254"/>
                </a:lnTo>
                <a:lnTo>
                  <a:pt x="324" y="256"/>
                </a:lnTo>
                <a:lnTo>
                  <a:pt x="309" y="258"/>
                </a:lnTo>
                <a:lnTo>
                  <a:pt x="295" y="261"/>
                </a:lnTo>
                <a:lnTo>
                  <a:pt x="282" y="263"/>
                </a:lnTo>
                <a:lnTo>
                  <a:pt x="268" y="265"/>
                </a:lnTo>
                <a:lnTo>
                  <a:pt x="255" y="267"/>
                </a:lnTo>
                <a:lnTo>
                  <a:pt x="243" y="269"/>
                </a:lnTo>
                <a:lnTo>
                  <a:pt x="232" y="271"/>
                </a:lnTo>
                <a:lnTo>
                  <a:pt x="222" y="273"/>
                </a:lnTo>
                <a:lnTo>
                  <a:pt x="213" y="273"/>
                </a:lnTo>
                <a:lnTo>
                  <a:pt x="203" y="275"/>
                </a:lnTo>
                <a:lnTo>
                  <a:pt x="193" y="277"/>
                </a:lnTo>
                <a:lnTo>
                  <a:pt x="186" y="277"/>
                </a:lnTo>
                <a:lnTo>
                  <a:pt x="178" y="279"/>
                </a:lnTo>
                <a:lnTo>
                  <a:pt x="172" y="279"/>
                </a:lnTo>
                <a:lnTo>
                  <a:pt x="167" y="281"/>
                </a:lnTo>
                <a:lnTo>
                  <a:pt x="161" y="281"/>
                </a:lnTo>
                <a:lnTo>
                  <a:pt x="155" y="281"/>
                </a:lnTo>
                <a:lnTo>
                  <a:pt x="151" y="281"/>
                </a:lnTo>
                <a:lnTo>
                  <a:pt x="149" y="281"/>
                </a:lnTo>
                <a:lnTo>
                  <a:pt x="145" y="281"/>
                </a:lnTo>
                <a:lnTo>
                  <a:pt x="134" y="281"/>
                </a:lnTo>
                <a:lnTo>
                  <a:pt x="124" y="279"/>
                </a:lnTo>
                <a:lnTo>
                  <a:pt x="111" y="277"/>
                </a:lnTo>
                <a:lnTo>
                  <a:pt x="99" y="273"/>
                </a:lnTo>
                <a:lnTo>
                  <a:pt x="88" y="269"/>
                </a:lnTo>
                <a:lnTo>
                  <a:pt x="76" y="263"/>
                </a:lnTo>
                <a:lnTo>
                  <a:pt x="65" y="256"/>
                </a:lnTo>
                <a:lnTo>
                  <a:pt x="55" y="248"/>
                </a:lnTo>
                <a:lnTo>
                  <a:pt x="42" y="240"/>
                </a:lnTo>
                <a:lnTo>
                  <a:pt x="30" y="233"/>
                </a:lnTo>
                <a:lnTo>
                  <a:pt x="21" y="227"/>
                </a:lnTo>
                <a:lnTo>
                  <a:pt x="15" y="221"/>
                </a:lnTo>
                <a:lnTo>
                  <a:pt x="7" y="217"/>
                </a:lnTo>
                <a:lnTo>
                  <a:pt x="3" y="211"/>
                </a:lnTo>
                <a:lnTo>
                  <a:pt x="2" y="208"/>
                </a:lnTo>
                <a:lnTo>
                  <a:pt x="0" y="204"/>
                </a:lnTo>
                <a:lnTo>
                  <a:pt x="2" y="202"/>
                </a:lnTo>
                <a:lnTo>
                  <a:pt x="3" y="200"/>
                </a:lnTo>
                <a:lnTo>
                  <a:pt x="5" y="198"/>
                </a:lnTo>
                <a:lnTo>
                  <a:pt x="11" y="194"/>
                </a:lnTo>
                <a:lnTo>
                  <a:pt x="17" y="192"/>
                </a:lnTo>
                <a:lnTo>
                  <a:pt x="23" y="190"/>
                </a:lnTo>
                <a:lnTo>
                  <a:pt x="32" y="188"/>
                </a:lnTo>
                <a:lnTo>
                  <a:pt x="42" y="185"/>
                </a:lnTo>
                <a:lnTo>
                  <a:pt x="51" y="183"/>
                </a:lnTo>
                <a:lnTo>
                  <a:pt x="65" y="181"/>
                </a:lnTo>
                <a:lnTo>
                  <a:pt x="78" y="177"/>
                </a:lnTo>
                <a:lnTo>
                  <a:pt x="92" y="173"/>
                </a:lnTo>
                <a:lnTo>
                  <a:pt x="109" y="171"/>
                </a:lnTo>
                <a:lnTo>
                  <a:pt x="124" y="167"/>
                </a:lnTo>
                <a:lnTo>
                  <a:pt x="144" y="163"/>
                </a:lnTo>
                <a:lnTo>
                  <a:pt x="163" y="160"/>
                </a:lnTo>
                <a:lnTo>
                  <a:pt x="205" y="150"/>
                </a:lnTo>
                <a:lnTo>
                  <a:pt x="247" y="140"/>
                </a:lnTo>
                <a:lnTo>
                  <a:pt x="289" y="129"/>
                </a:lnTo>
                <a:lnTo>
                  <a:pt x="334" y="119"/>
                </a:lnTo>
                <a:lnTo>
                  <a:pt x="378" y="108"/>
                </a:lnTo>
                <a:lnTo>
                  <a:pt x="424" y="94"/>
                </a:lnTo>
                <a:lnTo>
                  <a:pt x="470" y="83"/>
                </a:lnTo>
                <a:lnTo>
                  <a:pt x="518" y="69"/>
                </a:lnTo>
                <a:lnTo>
                  <a:pt x="541" y="64"/>
                </a:lnTo>
                <a:lnTo>
                  <a:pt x="564" y="58"/>
                </a:lnTo>
                <a:lnTo>
                  <a:pt x="585" y="52"/>
                </a:lnTo>
                <a:lnTo>
                  <a:pt x="606" y="46"/>
                </a:lnTo>
                <a:lnTo>
                  <a:pt x="625" y="43"/>
                </a:lnTo>
                <a:lnTo>
                  <a:pt x="644" y="37"/>
                </a:lnTo>
                <a:lnTo>
                  <a:pt x="664" y="33"/>
                </a:lnTo>
                <a:lnTo>
                  <a:pt x="681" y="27"/>
                </a:lnTo>
                <a:lnTo>
                  <a:pt x="698" y="23"/>
                </a:lnTo>
                <a:lnTo>
                  <a:pt x="715" y="20"/>
                </a:lnTo>
                <a:lnTo>
                  <a:pt x="731" y="18"/>
                </a:lnTo>
                <a:lnTo>
                  <a:pt x="746" y="14"/>
                </a:lnTo>
                <a:lnTo>
                  <a:pt x="760" y="10"/>
                </a:lnTo>
                <a:lnTo>
                  <a:pt x="773" y="8"/>
                </a:lnTo>
                <a:lnTo>
                  <a:pt x="786" y="6"/>
                </a:lnTo>
                <a:lnTo>
                  <a:pt x="798" y="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Freeform 48"/>
          <p:cNvSpPr/>
          <p:nvPr/>
        </p:nvSpPr>
        <p:spPr>
          <a:xfrm>
            <a:off x="2198520" y="2782800"/>
            <a:ext cx="1214640" cy="29376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30" h="370">
                <a:moveTo>
                  <a:pt x="394" y="322"/>
                </a:moveTo>
                <a:lnTo>
                  <a:pt x="369" y="328"/>
                </a:lnTo>
                <a:lnTo>
                  <a:pt x="348" y="336"/>
                </a:lnTo>
                <a:lnTo>
                  <a:pt x="327" y="339"/>
                </a:lnTo>
                <a:lnTo>
                  <a:pt x="307" y="345"/>
                </a:lnTo>
                <a:lnTo>
                  <a:pt x="290" y="351"/>
                </a:lnTo>
                <a:lnTo>
                  <a:pt x="273" y="355"/>
                </a:lnTo>
                <a:lnTo>
                  <a:pt x="258" y="359"/>
                </a:lnTo>
                <a:lnTo>
                  <a:pt x="242" y="362"/>
                </a:lnTo>
                <a:lnTo>
                  <a:pt x="231" y="364"/>
                </a:lnTo>
                <a:lnTo>
                  <a:pt x="219" y="366"/>
                </a:lnTo>
                <a:lnTo>
                  <a:pt x="208" y="368"/>
                </a:lnTo>
                <a:lnTo>
                  <a:pt x="198" y="370"/>
                </a:lnTo>
                <a:lnTo>
                  <a:pt x="190" y="370"/>
                </a:lnTo>
                <a:lnTo>
                  <a:pt x="185" y="370"/>
                </a:lnTo>
                <a:lnTo>
                  <a:pt x="179" y="368"/>
                </a:lnTo>
                <a:lnTo>
                  <a:pt x="175" y="366"/>
                </a:lnTo>
                <a:lnTo>
                  <a:pt x="165" y="366"/>
                </a:lnTo>
                <a:lnTo>
                  <a:pt x="154" y="364"/>
                </a:lnTo>
                <a:lnTo>
                  <a:pt x="144" y="362"/>
                </a:lnTo>
                <a:lnTo>
                  <a:pt x="133" y="359"/>
                </a:lnTo>
                <a:lnTo>
                  <a:pt x="119" y="355"/>
                </a:lnTo>
                <a:lnTo>
                  <a:pt x="106" y="349"/>
                </a:lnTo>
                <a:lnTo>
                  <a:pt x="93" y="341"/>
                </a:lnTo>
                <a:lnTo>
                  <a:pt x="75" y="334"/>
                </a:lnTo>
                <a:lnTo>
                  <a:pt x="68" y="330"/>
                </a:lnTo>
                <a:lnTo>
                  <a:pt x="60" y="326"/>
                </a:lnTo>
                <a:lnTo>
                  <a:pt x="52" y="320"/>
                </a:lnTo>
                <a:lnTo>
                  <a:pt x="46" y="316"/>
                </a:lnTo>
                <a:lnTo>
                  <a:pt x="41" y="312"/>
                </a:lnTo>
                <a:lnTo>
                  <a:pt x="35" y="309"/>
                </a:lnTo>
                <a:lnTo>
                  <a:pt x="25" y="301"/>
                </a:lnTo>
                <a:lnTo>
                  <a:pt x="18" y="291"/>
                </a:lnTo>
                <a:lnTo>
                  <a:pt x="12" y="284"/>
                </a:lnTo>
                <a:lnTo>
                  <a:pt x="6" y="276"/>
                </a:lnTo>
                <a:lnTo>
                  <a:pt x="2" y="266"/>
                </a:lnTo>
                <a:lnTo>
                  <a:pt x="2" y="263"/>
                </a:lnTo>
                <a:lnTo>
                  <a:pt x="0" y="259"/>
                </a:lnTo>
                <a:lnTo>
                  <a:pt x="2" y="255"/>
                </a:lnTo>
                <a:lnTo>
                  <a:pt x="2" y="253"/>
                </a:lnTo>
                <a:lnTo>
                  <a:pt x="4" y="249"/>
                </a:lnTo>
                <a:lnTo>
                  <a:pt x="8" y="247"/>
                </a:lnTo>
                <a:lnTo>
                  <a:pt x="12" y="243"/>
                </a:lnTo>
                <a:lnTo>
                  <a:pt x="16" y="241"/>
                </a:lnTo>
                <a:lnTo>
                  <a:pt x="22" y="240"/>
                </a:lnTo>
                <a:lnTo>
                  <a:pt x="29" y="238"/>
                </a:lnTo>
                <a:lnTo>
                  <a:pt x="35" y="238"/>
                </a:lnTo>
                <a:lnTo>
                  <a:pt x="45" y="236"/>
                </a:lnTo>
                <a:lnTo>
                  <a:pt x="52" y="236"/>
                </a:lnTo>
                <a:lnTo>
                  <a:pt x="62" y="234"/>
                </a:lnTo>
                <a:lnTo>
                  <a:pt x="73" y="234"/>
                </a:lnTo>
                <a:lnTo>
                  <a:pt x="85" y="234"/>
                </a:lnTo>
                <a:lnTo>
                  <a:pt x="96" y="234"/>
                </a:lnTo>
                <a:lnTo>
                  <a:pt x="110" y="234"/>
                </a:lnTo>
                <a:lnTo>
                  <a:pt x="125" y="232"/>
                </a:lnTo>
                <a:lnTo>
                  <a:pt x="141" y="232"/>
                </a:lnTo>
                <a:lnTo>
                  <a:pt x="158" y="230"/>
                </a:lnTo>
                <a:lnTo>
                  <a:pt x="175" y="228"/>
                </a:lnTo>
                <a:lnTo>
                  <a:pt x="194" y="226"/>
                </a:lnTo>
                <a:lnTo>
                  <a:pt x="215" y="224"/>
                </a:lnTo>
                <a:lnTo>
                  <a:pt x="236" y="220"/>
                </a:lnTo>
                <a:lnTo>
                  <a:pt x="260" y="218"/>
                </a:lnTo>
                <a:lnTo>
                  <a:pt x="283" y="215"/>
                </a:lnTo>
                <a:lnTo>
                  <a:pt x="307" y="211"/>
                </a:lnTo>
                <a:lnTo>
                  <a:pt x="334" y="205"/>
                </a:lnTo>
                <a:lnTo>
                  <a:pt x="361" y="201"/>
                </a:lnTo>
                <a:lnTo>
                  <a:pt x="390" y="195"/>
                </a:lnTo>
                <a:lnTo>
                  <a:pt x="421" y="190"/>
                </a:lnTo>
                <a:lnTo>
                  <a:pt x="482" y="176"/>
                </a:lnTo>
                <a:lnTo>
                  <a:pt x="545" y="163"/>
                </a:lnTo>
                <a:lnTo>
                  <a:pt x="611" y="149"/>
                </a:lnTo>
                <a:lnTo>
                  <a:pt x="678" y="136"/>
                </a:lnTo>
                <a:lnTo>
                  <a:pt x="745" y="121"/>
                </a:lnTo>
                <a:lnTo>
                  <a:pt x="814" y="105"/>
                </a:lnTo>
                <a:lnTo>
                  <a:pt x="849" y="96"/>
                </a:lnTo>
                <a:lnTo>
                  <a:pt x="883" y="86"/>
                </a:lnTo>
                <a:lnTo>
                  <a:pt x="920" y="76"/>
                </a:lnTo>
                <a:lnTo>
                  <a:pt x="954" y="67"/>
                </a:lnTo>
                <a:lnTo>
                  <a:pt x="991" y="59"/>
                </a:lnTo>
                <a:lnTo>
                  <a:pt x="1023" y="51"/>
                </a:lnTo>
                <a:lnTo>
                  <a:pt x="1054" y="44"/>
                </a:lnTo>
                <a:lnTo>
                  <a:pt x="1085" y="36"/>
                </a:lnTo>
                <a:lnTo>
                  <a:pt x="1112" y="30"/>
                </a:lnTo>
                <a:lnTo>
                  <a:pt x="1138" y="27"/>
                </a:lnTo>
                <a:lnTo>
                  <a:pt x="1163" y="21"/>
                </a:lnTo>
                <a:lnTo>
                  <a:pt x="1186" y="17"/>
                </a:lnTo>
                <a:lnTo>
                  <a:pt x="1208" y="13"/>
                </a:lnTo>
                <a:lnTo>
                  <a:pt x="1227" y="9"/>
                </a:lnTo>
                <a:lnTo>
                  <a:pt x="1244" y="5"/>
                </a:lnTo>
                <a:lnTo>
                  <a:pt x="1261" y="4"/>
                </a:lnTo>
                <a:lnTo>
                  <a:pt x="1275" y="2"/>
                </a:lnTo>
                <a:lnTo>
                  <a:pt x="1288" y="2"/>
                </a:lnTo>
                <a:lnTo>
                  <a:pt x="1300" y="0"/>
                </a:lnTo>
                <a:lnTo>
                  <a:pt x="1309" y="0"/>
                </a:lnTo>
                <a:lnTo>
                  <a:pt x="1323" y="0"/>
                </a:lnTo>
                <a:lnTo>
                  <a:pt x="1336" y="2"/>
                </a:lnTo>
                <a:lnTo>
                  <a:pt x="1350" y="5"/>
                </a:lnTo>
                <a:lnTo>
                  <a:pt x="1365" y="7"/>
                </a:lnTo>
                <a:lnTo>
                  <a:pt x="1378" y="13"/>
                </a:lnTo>
                <a:lnTo>
                  <a:pt x="1394" y="19"/>
                </a:lnTo>
                <a:lnTo>
                  <a:pt x="1409" y="25"/>
                </a:lnTo>
                <a:lnTo>
                  <a:pt x="1426" y="34"/>
                </a:lnTo>
                <a:lnTo>
                  <a:pt x="1440" y="42"/>
                </a:lnTo>
                <a:lnTo>
                  <a:pt x="1451" y="50"/>
                </a:lnTo>
                <a:lnTo>
                  <a:pt x="1463" y="59"/>
                </a:lnTo>
                <a:lnTo>
                  <a:pt x="1474" y="67"/>
                </a:lnTo>
                <a:lnTo>
                  <a:pt x="1484" y="75"/>
                </a:lnTo>
                <a:lnTo>
                  <a:pt x="1493" y="84"/>
                </a:lnTo>
                <a:lnTo>
                  <a:pt x="1501" y="92"/>
                </a:lnTo>
                <a:lnTo>
                  <a:pt x="1509" y="99"/>
                </a:lnTo>
                <a:lnTo>
                  <a:pt x="1511" y="105"/>
                </a:lnTo>
                <a:lnTo>
                  <a:pt x="1515" y="111"/>
                </a:lnTo>
                <a:lnTo>
                  <a:pt x="1520" y="121"/>
                </a:lnTo>
                <a:lnTo>
                  <a:pt x="1524" y="130"/>
                </a:lnTo>
                <a:lnTo>
                  <a:pt x="1528" y="136"/>
                </a:lnTo>
                <a:lnTo>
                  <a:pt x="1530" y="142"/>
                </a:lnTo>
                <a:lnTo>
                  <a:pt x="1530" y="147"/>
                </a:lnTo>
                <a:lnTo>
                  <a:pt x="1528" y="151"/>
                </a:lnTo>
                <a:lnTo>
                  <a:pt x="1526" y="155"/>
                </a:lnTo>
                <a:lnTo>
                  <a:pt x="1524" y="157"/>
                </a:lnTo>
                <a:lnTo>
                  <a:pt x="1520" y="159"/>
                </a:lnTo>
                <a:lnTo>
                  <a:pt x="1513" y="163"/>
                </a:lnTo>
                <a:lnTo>
                  <a:pt x="1507" y="165"/>
                </a:lnTo>
                <a:lnTo>
                  <a:pt x="1497" y="167"/>
                </a:lnTo>
                <a:lnTo>
                  <a:pt x="1486" y="169"/>
                </a:lnTo>
                <a:lnTo>
                  <a:pt x="1474" y="169"/>
                </a:lnTo>
                <a:lnTo>
                  <a:pt x="1459" y="170"/>
                </a:lnTo>
                <a:lnTo>
                  <a:pt x="1444" y="172"/>
                </a:lnTo>
                <a:lnTo>
                  <a:pt x="1426" y="174"/>
                </a:lnTo>
                <a:lnTo>
                  <a:pt x="1407" y="174"/>
                </a:lnTo>
                <a:lnTo>
                  <a:pt x="1388" y="176"/>
                </a:lnTo>
                <a:lnTo>
                  <a:pt x="1365" y="176"/>
                </a:lnTo>
                <a:lnTo>
                  <a:pt x="1342" y="178"/>
                </a:lnTo>
                <a:lnTo>
                  <a:pt x="1317" y="178"/>
                </a:lnTo>
                <a:lnTo>
                  <a:pt x="1290" y="178"/>
                </a:lnTo>
                <a:lnTo>
                  <a:pt x="1236" y="178"/>
                </a:lnTo>
                <a:lnTo>
                  <a:pt x="1181" y="180"/>
                </a:lnTo>
                <a:lnTo>
                  <a:pt x="1123" y="184"/>
                </a:lnTo>
                <a:lnTo>
                  <a:pt x="1066" y="188"/>
                </a:lnTo>
                <a:lnTo>
                  <a:pt x="1008" y="193"/>
                </a:lnTo>
                <a:lnTo>
                  <a:pt x="948" y="201"/>
                </a:lnTo>
                <a:lnTo>
                  <a:pt x="920" y="205"/>
                </a:lnTo>
                <a:lnTo>
                  <a:pt x="889" y="211"/>
                </a:lnTo>
                <a:lnTo>
                  <a:pt x="858" y="217"/>
                </a:lnTo>
                <a:lnTo>
                  <a:pt x="828" y="222"/>
                </a:lnTo>
                <a:lnTo>
                  <a:pt x="768" y="236"/>
                </a:lnTo>
                <a:lnTo>
                  <a:pt x="709" y="247"/>
                </a:lnTo>
                <a:lnTo>
                  <a:pt x="653" y="261"/>
                </a:lnTo>
                <a:lnTo>
                  <a:pt x="597" y="272"/>
                </a:lnTo>
                <a:lnTo>
                  <a:pt x="544" y="286"/>
                </a:lnTo>
                <a:lnTo>
                  <a:pt x="492" y="297"/>
                </a:lnTo>
                <a:lnTo>
                  <a:pt x="442" y="311"/>
                </a:lnTo>
                <a:lnTo>
                  <a:pt x="394" y="32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Freeform 49"/>
          <p:cNvSpPr/>
          <p:nvPr/>
        </p:nvSpPr>
        <p:spPr>
          <a:xfrm>
            <a:off x="1992240" y="2517840"/>
            <a:ext cx="857160" cy="1339920"/>
          </a:xfrm>
          <a:custGeom>
            <a:avLst/>
            <a:gdLst>
              <a:gd name="textAreaLeft" fmla="*/ 0 w 857160"/>
              <a:gd name="textAreaRight" fmla="*/ 857520 w 85716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081" h="1689">
                <a:moveTo>
                  <a:pt x="173" y="1614"/>
                </a:moveTo>
                <a:lnTo>
                  <a:pt x="154" y="1625"/>
                </a:lnTo>
                <a:lnTo>
                  <a:pt x="135" y="1637"/>
                </a:lnTo>
                <a:lnTo>
                  <a:pt x="117" y="1646"/>
                </a:lnTo>
                <a:lnTo>
                  <a:pt x="102" y="1656"/>
                </a:lnTo>
                <a:lnTo>
                  <a:pt x="87" y="1664"/>
                </a:lnTo>
                <a:lnTo>
                  <a:pt x="73" y="1669"/>
                </a:lnTo>
                <a:lnTo>
                  <a:pt x="62" y="1675"/>
                </a:lnTo>
                <a:lnTo>
                  <a:pt x="50" y="1681"/>
                </a:lnTo>
                <a:lnTo>
                  <a:pt x="39" y="1685"/>
                </a:lnTo>
                <a:lnTo>
                  <a:pt x="31" y="1687"/>
                </a:lnTo>
                <a:lnTo>
                  <a:pt x="23" y="1689"/>
                </a:lnTo>
                <a:lnTo>
                  <a:pt x="16" y="1689"/>
                </a:lnTo>
                <a:lnTo>
                  <a:pt x="10" y="1689"/>
                </a:lnTo>
                <a:lnTo>
                  <a:pt x="6" y="1687"/>
                </a:lnTo>
                <a:lnTo>
                  <a:pt x="2" y="1683"/>
                </a:lnTo>
                <a:lnTo>
                  <a:pt x="0" y="1681"/>
                </a:lnTo>
                <a:lnTo>
                  <a:pt x="0" y="1677"/>
                </a:lnTo>
                <a:lnTo>
                  <a:pt x="0" y="1673"/>
                </a:lnTo>
                <a:lnTo>
                  <a:pt x="2" y="1669"/>
                </a:lnTo>
                <a:lnTo>
                  <a:pt x="6" y="1664"/>
                </a:lnTo>
                <a:lnTo>
                  <a:pt x="12" y="1656"/>
                </a:lnTo>
                <a:lnTo>
                  <a:pt x="18" y="1648"/>
                </a:lnTo>
                <a:lnTo>
                  <a:pt x="25" y="1641"/>
                </a:lnTo>
                <a:lnTo>
                  <a:pt x="35" y="1631"/>
                </a:lnTo>
                <a:lnTo>
                  <a:pt x="46" y="1619"/>
                </a:lnTo>
                <a:lnTo>
                  <a:pt x="58" y="1608"/>
                </a:lnTo>
                <a:lnTo>
                  <a:pt x="73" y="1594"/>
                </a:lnTo>
                <a:lnTo>
                  <a:pt x="89" y="1581"/>
                </a:lnTo>
                <a:lnTo>
                  <a:pt x="104" y="1566"/>
                </a:lnTo>
                <a:lnTo>
                  <a:pt x="123" y="1548"/>
                </a:lnTo>
                <a:lnTo>
                  <a:pt x="142" y="1531"/>
                </a:lnTo>
                <a:lnTo>
                  <a:pt x="164" y="1514"/>
                </a:lnTo>
                <a:lnTo>
                  <a:pt x="187" y="1495"/>
                </a:lnTo>
                <a:lnTo>
                  <a:pt x="210" y="1474"/>
                </a:lnTo>
                <a:lnTo>
                  <a:pt x="231" y="1452"/>
                </a:lnTo>
                <a:lnTo>
                  <a:pt x="254" y="1431"/>
                </a:lnTo>
                <a:lnTo>
                  <a:pt x="277" y="1408"/>
                </a:lnTo>
                <a:lnTo>
                  <a:pt x="300" y="1385"/>
                </a:lnTo>
                <a:lnTo>
                  <a:pt x="323" y="1362"/>
                </a:lnTo>
                <a:lnTo>
                  <a:pt x="346" y="1337"/>
                </a:lnTo>
                <a:lnTo>
                  <a:pt x="369" y="1312"/>
                </a:lnTo>
                <a:lnTo>
                  <a:pt x="392" y="1286"/>
                </a:lnTo>
                <a:lnTo>
                  <a:pt x="415" y="1259"/>
                </a:lnTo>
                <a:lnTo>
                  <a:pt x="438" y="1232"/>
                </a:lnTo>
                <a:lnTo>
                  <a:pt x="461" y="1203"/>
                </a:lnTo>
                <a:lnTo>
                  <a:pt x="482" y="1174"/>
                </a:lnTo>
                <a:lnTo>
                  <a:pt x="505" y="1144"/>
                </a:lnTo>
                <a:lnTo>
                  <a:pt x="526" y="1113"/>
                </a:lnTo>
                <a:lnTo>
                  <a:pt x="570" y="1049"/>
                </a:lnTo>
                <a:lnTo>
                  <a:pt x="611" y="984"/>
                </a:lnTo>
                <a:lnTo>
                  <a:pt x="632" y="952"/>
                </a:lnTo>
                <a:lnTo>
                  <a:pt x="651" y="919"/>
                </a:lnTo>
                <a:lnTo>
                  <a:pt x="670" y="886"/>
                </a:lnTo>
                <a:lnTo>
                  <a:pt x="687" y="854"/>
                </a:lnTo>
                <a:lnTo>
                  <a:pt x="705" y="821"/>
                </a:lnTo>
                <a:lnTo>
                  <a:pt x="722" y="787"/>
                </a:lnTo>
                <a:lnTo>
                  <a:pt x="739" y="752"/>
                </a:lnTo>
                <a:lnTo>
                  <a:pt x="755" y="717"/>
                </a:lnTo>
                <a:lnTo>
                  <a:pt x="768" y="683"/>
                </a:lnTo>
                <a:lnTo>
                  <a:pt x="783" y="648"/>
                </a:lnTo>
                <a:lnTo>
                  <a:pt x="795" y="614"/>
                </a:lnTo>
                <a:lnTo>
                  <a:pt x="808" y="579"/>
                </a:lnTo>
                <a:lnTo>
                  <a:pt x="831" y="512"/>
                </a:lnTo>
                <a:lnTo>
                  <a:pt x="841" y="478"/>
                </a:lnTo>
                <a:lnTo>
                  <a:pt x="851" y="443"/>
                </a:lnTo>
                <a:lnTo>
                  <a:pt x="860" y="409"/>
                </a:lnTo>
                <a:lnTo>
                  <a:pt x="870" y="372"/>
                </a:lnTo>
                <a:lnTo>
                  <a:pt x="879" y="338"/>
                </a:lnTo>
                <a:lnTo>
                  <a:pt x="887" y="301"/>
                </a:lnTo>
                <a:lnTo>
                  <a:pt x="895" y="266"/>
                </a:lnTo>
                <a:lnTo>
                  <a:pt x="900" y="230"/>
                </a:lnTo>
                <a:lnTo>
                  <a:pt x="906" y="192"/>
                </a:lnTo>
                <a:lnTo>
                  <a:pt x="912" y="155"/>
                </a:lnTo>
                <a:lnTo>
                  <a:pt x="918" y="117"/>
                </a:lnTo>
                <a:lnTo>
                  <a:pt x="922" y="78"/>
                </a:lnTo>
                <a:lnTo>
                  <a:pt x="924" y="40"/>
                </a:lnTo>
                <a:lnTo>
                  <a:pt x="925" y="0"/>
                </a:lnTo>
                <a:lnTo>
                  <a:pt x="945" y="15"/>
                </a:lnTo>
                <a:lnTo>
                  <a:pt x="960" y="29"/>
                </a:lnTo>
                <a:lnTo>
                  <a:pt x="975" y="42"/>
                </a:lnTo>
                <a:lnTo>
                  <a:pt x="991" y="55"/>
                </a:lnTo>
                <a:lnTo>
                  <a:pt x="1004" y="67"/>
                </a:lnTo>
                <a:lnTo>
                  <a:pt x="1016" y="78"/>
                </a:lnTo>
                <a:lnTo>
                  <a:pt x="1027" y="90"/>
                </a:lnTo>
                <a:lnTo>
                  <a:pt x="1037" y="101"/>
                </a:lnTo>
                <a:lnTo>
                  <a:pt x="1046" y="111"/>
                </a:lnTo>
                <a:lnTo>
                  <a:pt x="1054" y="121"/>
                </a:lnTo>
                <a:lnTo>
                  <a:pt x="1060" y="130"/>
                </a:lnTo>
                <a:lnTo>
                  <a:pt x="1066" y="138"/>
                </a:lnTo>
                <a:lnTo>
                  <a:pt x="1071" y="146"/>
                </a:lnTo>
                <a:lnTo>
                  <a:pt x="1075" y="153"/>
                </a:lnTo>
                <a:lnTo>
                  <a:pt x="1077" y="161"/>
                </a:lnTo>
                <a:lnTo>
                  <a:pt x="1081" y="167"/>
                </a:lnTo>
                <a:lnTo>
                  <a:pt x="1079" y="174"/>
                </a:lnTo>
                <a:lnTo>
                  <a:pt x="1079" y="180"/>
                </a:lnTo>
                <a:lnTo>
                  <a:pt x="1079" y="188"/>
                </a:lnTo>
                <a:lnTo>
                  <a:pt x="1079" y="197"/>
                </a:lnTo>
                <a:lnTo>
                  <a:pt x="1077" y="205"/>
                </a:lnTo>
                <a:lnTo>
                  <a:pt x="1075" y="215"/>
                </a:lnTo>
                <a:lnTo>
                  <a:pt x="1073" y="226"/>
                </a:lnTo>
                <a:lnTo>
                  <a:pt x="1071" y="236"/>
                </a:lnTo>
                <a:lnTo>
                  <a:pt x="1069" y="249"/>
                </a:lnTo>
                <a:lnTo>
                  <a:pt x="1067" y="261"/>
                </a:lnTo>
                <a:lnTo>
                  <a:pt x="1064" y="274"/>
                </a:lnTo>
                <a:lnTo>
                  <a:pt x="1060" y="290"/>
                </a:lnTo>
                <a:lnTo>
                  <a:pt x="1058" y="305"/>
                </a:lnTo>
                <a:lnTo>
                  <a:pt x="1052" y="320"/>
                </a:lnTo>
                <a:lnTo>
                  <a:pt x="1048" y="338"/>
                </a:lnTo>
                <a:lnTo>
                  <a:pt x="1044" y="357"/>
                </a:lnTo>
                <a:lnTo>
                  <a:pt x="1039" y="376"/>
                </a:lnTo>
                <a:lnTo>
                  <a:pt x="1031" y="397"/>
                </a:lnTo>
                <a:lnTo>
                  <a:pt x="1025" y="418"/>
                </a:lnTo>
                <a:lnTo>
                  <a:pt x="1018" y="441"/>
                </a:lnTo>
                <a:lnTo>
                  <a:pt x="1008" y="466"/>
                </a:lnTo>
                <a:lnTo>
                  <a:pt x="998" y="491"/>
                </a:lnTo>
                <a:lnTo>
                  <a:pt x="987" y="518"/>
                </a:lnTo>
                <a:lnTo>
                  <a:pt x="977" y="545"/>
                </a:lnTo>
                <a:lnTo>
                  <a:pt x="964" y="574"/>
                </a:lnTo>
                <a:lnTo>
                  <a:pt x="952" y="604"/>
                </a:lnTo>
                <a:lnTo>
                  <a:pt x="939" y="633"/>
                </a:lnTo>
                <a:lnTo>
                  <a:pt x="925" y="666"/>
                </a:lnTo>
                <a:lnTo>
                  <a:pt x="910" y="698"/>
                </a:lnTo>
                <a:lnTo>
                  <a:pt x="895" y="731"/>
                </a:lnTo>
                <a:lnTo>
                  <a:pt x="879" y="765"/>
                </a:lnTo>
                <a:lnTo>
                  <a:pt x="862" y="802"/>
                </a:lnTo>
                <a:lnTo>
                  <a:pt x="843" y="838"/>
                </a:lnTo>
                <a:lnTo>
                  <a:pt x="826" y="875"/>
                </a:lnTo>
                <a:lnTo>
                  <a:pt x="806" y="911"/>
                </a:lnTo>
                <a:lnTo>
                  <a:pt x="787" y="946"/>
                </a:lnTo>
                <a:lnTo>
                  <a:pt x="766" y="978"/>
                </a:lnTo>
                <a:lnTo>
                  <a:pt x="747" y="1013"/>
                </a:lnTo>
                <a:lnTo>
                  <a:pt x="726" y="1046"/>
                </a:lnTo>
                <a:lnTo>
                  <a:pt x="707" y="1076"/>
                </a:lnTo>
                <a:lnTo>
                  <a:pt x="686" y="1107"/>
                </a:lnTo>
                <a:lnTo>
                  <a:pt x="664" y="1138"/>
                </a:lnTo>
                <a:lnTo>
                  <a:pt x="643" y="1167"/>
                </a:lnTo>
                <a:lnTo>
                  <a:pt x="622" y="1195"/>
                </a:lnTo>
                <a:lnTo>
                  <a:pt x="601" y="1222"/>
                </a:lnTo>
                <a:lnTo>
                  <a:pt x="580" y="1249"/>
                </a:lnTo>
                <a:lnTo>
                  <a:pt x="557" y="1276"/>
                </a:lnTo>
                <a:lnTo>
                  <a:pt x="536" y="1303"/>
                </a:lnTo>
                <a:lnTo>
                  <a:pt x="513" y="1328"/>
                </a:lnTo>
                <a:lnTo>
                  <a:pt x="490" y="1355"/>
                </a:lnTo>
                <a:lnTo>
                  <a:pt x="467" y="1380"/>
                </a:lnTo>
                <a:lnTo>
                  <a:pt x="444" y="1403"/>
                </a:lnTo>
                <a:lnTo>
                  <a:pt x="421" y="1426"/>
                </a:lnTo>
                <a:lnTo>
                  <a:pt x="398" y="1447"/>
                </a:lnTo>
                <a:lnTo>
                  <a:pt x="375" y="1468"/>
                </a:lnTo>
                <a:lnTo>
                  <a:pt x="352" y="1487"/>
                </a:lnTo>
                <a:lnTo>
                  <a:pt x="329" y="1506"/>
                </a:lnTo>
                <a:lnTo>
                  <a:pt x="306" y="1523"/>
                </a:lnTo>
                <a:lnTo>
                  <a:pt x="284" y="1541"/>
                </a:lnTo>
                <a:lnTo>
                  <a:pt x="261" y="1556"/>
                </a:lnTo>
                <a:lnTo>
                  <a:pt x="240" y="1571"/>
                </a:lnTo>
                <a:lnTo>
                  <a:pt x="217" y="1587"/>
                </a:lnTo>
                <a:lnTo>
                  <a:pt x="194" y="1600"/>
                </a:lnTo>
                <a:lnTo>
                  <a:pt x="173" y="161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Freeform 50"/>
          <p:cNvSpPr/>
          <p:nvPr/>
        </p:nvSpPr>
        <p:spPr>
          <a:xfrm>
            <a:off x="2471760" y="3498840"/>
            <a:ext cx="157320" cy="689040"/>
          </a:xfrm>
          <a:custGeom>
            <a:avLst/>
            <a:gdLst>
              <a:gd name="textAreaLeft" fmla="*/ 0 w 157320"/>
              <a:gd name="textAreaRight" fmla="*/ 157320 w 157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98" h="867">
                <a:moveTo>
                  <a:pt x="13" y="88"/>
                </a:moveTo>
                <a:lnTo>
                  <a:pt x="10" y="78"/>
                </a:lnTo>
                <a:lnTo>
                  <a:pt x="6" y="69"/>
                </a:lnTo>
                <a:lnTo>
                  <a:pt x="4" y="59"/>
                </a:lnTo>
                <a:lnTo>
                  <a:pt x="2" y="51"/>
                </a:lnTo>
                <a:lnTo>
                  <a:pt x="2" y="46"/>
                </a:lnTo>
                <a:lnTo>
                  <a:pt x="0" y="38"/>
                </a:lnTo>
                <a:lnTo>
                  <a:pt x="0" y="32"/>
                </a:lnTo>
                <a:lnTo>
                  <a:pt x="0" y="26"/>
                </a:lnTo>
                <a:lnTo>
                  <a:pt x="0" y="23"/>
                </a:lnTo>
                <a:lnTo>
                  <a:pt x="0" y="17"/>
                </a:lnTo>
                <a:lnTo>
                  <a:pt x="2" y="9"/>
                </a:lnTo>
                <a:lnTo>
                  <a:pt x="6" y="3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2"/>
                </a:lnTo>
                <a:lnTo>
                  <a:pt x="40" y="2"/>
                </a:lnTo>
                <a:lnTo>
                  <a:pt x="48" y="3"/>
                </a:lnTo>
                <a:lnTo>
                  <a:pt x="56" y="5"/>
                </a:lnTo>
                <a:lnTo>
                  <a:pt x="65" y="9"/>
                </a:lnTo>
                <a:lnTo>
                  <a:pt x="77" y="11"/>
                </a:lnTo>
                <a:lnTo>
                  <a:pt x="86" y="15"/>
                </a:lnTo>
                <a:lnTo>
                  <a:pt x="98" y="19"/>
                </a:lnTo>
                <a:lnTo>
                  <a:pt x="111" y="23"/>
                </a:lnTo>
                <a:lnTo>
                  <a:pt x="125" y="26"/>
                </a:lnTo>
                <a:lnTo>
                  <a:pt x="138" y="32"/>
                </a:lnTo>
                <a:lnTo>
                  <a:pt x="152" y="38"/>
                </a:lnTo>
                <a:lnTo>
                  <a:pt x="167" y="44"/>
                </a:lnTo>
                <a:lnTo>
                  <a:pt x="169" y="94"/>
                </a:lnTo>
                <a:lnTo>
                  <a:pt x="171" y="140"/>
                </a:lnTo>
                <a:lnTo>
                  <a:pt x="175" y="186"/>
                </a:lnTo>
                <a:lnTo>
                  <a:pt x="176" y="232"/>
                </a:lnTo>
                <a:lnTo>
                  <a:pt x="178" y="274"/>
                </a:lnTo>
                <a:lnTo>
                  <a:pt x="180" y="316"/>
                </a:lnTo>
                <a:lnTo>
                  <a:pt x="182" y="357"/>
                </a:lnTo>
                <a:lnTo>
                  <a:pt x="184" y="395"/>
                </a:lnTo>
                <a:lnTo>
                  <a:pt x="184" y="431"/>
                </a:lnTo>
                <a:lnTo>
                  <a:pt x="186" y="466"/>
                </a:lnTo>
                <a:lnTo>
                  <a:pt x="188" y="501"/>
                </a:lnTo>
                <a:lnTo>
                  <a:pt x="190" y="533"/>
                </a:lnTo>
                <a:lnTo>
                  <a:pt x="190" y="564"/>
                </a:lnTo>
                <a:lnTo>
                  <a:pt x="192" y="593"/>
                </a:lnTo>
                <a:lnTo>
                  <a:pt x="192" y="619"/>
                </a:lnTo>
                <a:lnTo>
                  <a:pt x="194" y="646"/>
                </a:lnTo>
                <a:lnTo>
                  <a:pt x="194" y="669"/>
                </a:lnTo>
                <a:lnTo>
                  <a:pt x="196" y="692"/>
                </a:lnTo>
                <a:lnTo>
                  <a:pt x="196" y="715"/>
                </a:lnTo>
                <a:lnTo>
                  <a:pt x="196" y="735"/>
                </a:lnTo>
                <a:lnTo>
                  <a:pt x="196" y="754"/>
                </a:lnTo>
                <a:lnTo>
                  <a:pt x="198" y="769"/>
                </a:lnTo>
                <a:lnTo>
                  <a:pt x="198" y="785"/>
                </a:lnTo>
                <a:lnTo>
                  <a:pt x="198" y="800"/>
                </a:lnTo>
                <a:lnTo>
                  <a:pt x="198" y="811"/>
                </a:lnTo>
                <a:lnTo>
                  <a:pt x="198" y="823"/>
                </a:lnTo>
                <a:lnTo>
                  <a:pt x="198" y="833"/>
                </a:lnTo>
                <a:lnTo>
                  <a:pt x="196" y="840"/>
                </a:lnTo>
                <a:lnTo>
                  <a:pt x="196" y="846"/>
                </a:lnTo>
                <a:lnTo>
                  <a:pt x="196" y="850"/>
                </a:lnTo>
                <a:lnTo>
                  <a:pt x="194" y="854"/>
                </a:lnTo>
                <a:lnTo>
                  <a:pt x="194" y="856"/>
                </a:lnTo>
                <a:lnTo>
                  <a:pt x="190" y="859"/>
                </a:lnTo>
                <a:lnTo>
                  <a:pt x="186" y="861"/>
                </a:lnTo>
                <a:lnTo>
                  <a:pt x="180" y="863"/>
                </a:lnTo>
                <a:lnTo>
                  <a:pt x="175" y="865"/>
                </a:lnTo>
                <a:lnTo>
                  <a:pt x="169" y="867"/>
                </a:lnTo>
                <a:lnTo>
                  <a:pt x="161" y="867"/>
                </a:lnTo>
                <a:lnTo>
                  <a:pt x="148" y="867"/>
                </a:lnTo>
                <a:lnTo>
                  <a:pt x="146" y="863"/>
                </a:lnTo>
                <a:lnTo>
                  <a:pt x="142" y="859"/>
                </a:lnTo>
                <a:lnTo>
                  <a:pt x="138" y="856"/>
                </a:lnTo>
                <a:lnTo>
                  <a:pt x="134" y="848"/>
                </a:lnTo>
                <a:lnTo>
                  <a:pt x="132" y="840"/>
                </a:lnTo>
                <a:lnTo>
                  <a:pt x="129" y="831"/>
                </a:lnTo>
                <a:lnTo>
                  <a:pt x="125" y="821"/>
                </a:lnTo>
                <a:lnTo>
                  <a:pt x="123" y="808"/>
                </a:lnTo>
                <a:lnTo>
                  <a:pt x="119" y="796"/>
                </a:lnTo>
                <a:lnTo>
                  <a:pt x="117" y="781"/>
                </a:lnTo>
                <a:lnTo>
                  <a:pt x="113" y="765"/>
                </a:lnTo>
                <a:lnTo>
                  <a:pt x="111" y="748"/>
                </a:lnTo>
                <a:lnTo>
                  <a:pt x="109" y="729"/>
                </a:lnTo>
                <a:lnTo>
                  <a:pt x="107" y="710"/>
                </a:lnTo>
                <a:lnTo>
                  <a:pt x="105" y="689"/>
                </a:lnTo>
                <a:lnTo>
                  <a:pt x="104" y="667"/>
                </a:lnTo>
                <a:lnTo>
                  <a:pt x="96" y="621"/>
                </a:lnTo>
                <a:lnTo>
                  <a:pt x="90" y="575"/>
                </a:lnTo>
                <a:lnTo>
                  <a:pt x="82" y="529"/>
                </a:lnTo>
                <a:lnTo>
                  <a:pt x="77" y="485"/>
                </a:lnTo>
                <a:lnTo>
                  <a:pt x="71" y="443"/>
                </a:lnTo>
                <a:lnTo>
                  <a:pt x="65" y="401"/>
                </a:lnTo>
                <a:lnTo>
                  <a:pt x="61" y="360"/>
                </a:lnTo>
                <a:lnTo>
                  <a:pt x="59" y="341"/>
                </a:lnTo>
                <a:lnTo>
                  <a:pt x="58" y="322"/>
                </a:lnTo>
                <a:lnTo>
                  <a:pt x="56" y="303"/>
                </a:lnTo>
                <a:lnTo>
                  <a:pt x="54" y="286"/>
                </a:lnTo>
                <a:lnTo>
                  <a:pt x="52" y="268"/>
                </a:lnTo>
                <a:lnTo>
                  <a:pt x="50" y="251"/>
                </a:lnTo>
                <a:lnTo>
                  <a:pt x="46" y="234"/>
                </a:lnTo>
                <a:lnTo>
                  <a:pt x="44" y="218"/>
                </a:lnTo>
                <a:lnTo>
                  <a:pt x="42" y="203"/>
                </a:lnTo>
                <a:lnTo>
                  <a:pt x="38" y="188"/>
                </a:lnTo>
                <a:lnTo>
                  <a:pt x="34" y="174"/>
                </a:lnTo>
                <a:lnTo>
                  <a:pt x="33" y="161"/>
                </a:lnTo>
                <a:lnTo>
                  <a:pt x="29" y="147"/>
                </a:lnTo>
                <a:lnTo>
                  <a:pt x="25" y="134"/>
                </a:lnTo>
                <a:lnTo>
                  <a:pt x="23" y="122"/>
                </a:lnTo>
                <a:lnTo>
                  <a:pt x="19" y="109"/>
                </a:lnTo>
                <a:lnTo>
                  <a:pt x="15" y="99"/>
                </a:lnTo>
                <a:lnTo>
                  <a:pt x="13" y="8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Freeform 51"/>
          <p:cNvSpPr/>
          <p:nvPr/>
        </p:nvSpPr>
        <p:spPr>
          <a:xfrm>
            <a:off x="2554200" y="3435480"/>
            <a:ext cx="712800" cy="539640"/>
          </a:xfrm>
          <a:custGeom>
            <a:avLst/>
            <a:gdLst>
              <a:gd name="textAreaLeft" fmla="*/ 0 w 712800"/>
              <a:gd name="textAreaRight" fmla="*/ 713160 w 7128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898" h="679">
                <a:moveTo>
                  <a:pt x="898" y="223"/>
                </a:moveTo>
                <a:lnTo>
                  <a:pt x="896" y="228"/>
                </a:lnTo>
                <a:lnTo>
                  <a:pt x="896" y="234"/>
                </a:lnTo>
                <a:lnTo>
                  <a:pt x="894" y="244"/>
                </a:lnTo>
                <a:lnTo>
                  <a:pt x="890" y="251"/>
                </a:lnTo>
                <a:lnTo>
                  <a:pt x="884" y="259"/>
                </a:lnTo>
                <a:lnTo>
                  <a:pt x="879" y="265"/>
                </a:lnTo>
                <a:lnTo>
                  <a:pt x="871" y="269"/>
                </a:lnTo>
                <a:lnTo>
                  <a:pt x="861" y="274"/>
                </a:lnTo>
                <a:lnTo>
                  <a:pt x="852" y="278"/>
                </a:lnTo>
                <a:lnTo>
                  <a:pt x="850" y="280"/>
                </a:lnTo>
                <a:lnTo>
                  <a:pt x="846" y="282"/>
                </a:lnTo>
                <a:lnTo>
                  <a:pt x="842" y="284"/>
                </a:lnTo>
                <a:lnTo>
                  <a:pt x="840" y="288"/>
                </a:lnTo>
                <a:lnTo>
                  <a:pt x="836" y="292"/>
                </a:lnTo>
                <a:lnTo>
                  <a:pt x="832" y="297"/>
                </a:lnTo>
                <a:lnTo>
                  <a:pt x="829" y="303"/>
                </a:lnTo>
                <a:lnTo>
                  <a:pt x="825" y="309"/>
                </a:lnTo>
                <a:lnTo>
                  <a:pt x="821" y="317"/>
                </a:lnTo>
                <a:lnTo>
                  <a:pt x="815" y="324"/>
                </a:lnTo>
                <a:lnTo>
                  <a:pt x="811" y="334"/>
                </a:lnTo>
                <a:lnTo>
                  <a:pt x="806" y="342"/>
                </a:lnTo>
                <a:lnTo>
                  <a:pt x="802" y="353"/>
                </a:lnTo>
                <a:lnTo>
                  <a:pt x="796" y="363"/>
                </a:lnTo>
                <a:lnTo>
                  <a:pt x="790" y="374"/>
                </a:lnTo>
                <a:lnTo>
                  <a:pt x="784" y="386"/>
                </a:lnTo>
                <a:lnTo>
                  <a:pt x="779" y="399"/>
                </a:lnTo>
                <a:lnTo>
                  <a:pt x="773" y="413"/>
                </a:lnTo>
                <a:lnTo>
                  <a:pt x="767" y="428"/>
                </a:lnTo>
                <a:lnTo>
                  <a:pt x="761" y="443"/>
                </a:lnTo>
                <a:lnTo>
                  <a:pt x="756" y="459"/>
                </a:lnTo>
                <a:lnTo>
                  <a:pt x="750" y="474"/>
                </a:lnTo>
                <a:lnTo>
                  <a:pt x="742" y="491"/>
                </a:lnTo>
                <a:lnTo>
                  <a:pt x="736" y="510"/>
                </a:lnTo>
                <a:lnTo>
                  <a:pt x="729" y="528"/>
                </a:lnTo>
                <a:lnTo>
                  <a:pt x="723" y="547"/>
                </a:lnTo>
                <a:lnTo>
                  <a:pt x="715" y="568"/>
                </a:lnTo>
                <a:lnTo>
                  <a:pt x="708" y="589"/>
                </a:lnTo>
                <a:lnTo>
                  <a:pt x="702" y="610"/>
                </a:lnTo>
                <a:lnTo>
                  <a:pt x="694" y="631"/>
                </a:lnTo>
                <a:lnTo>
                  <a:pt x="687" y="654"/>
                </a:lnTo>
                <a:lnTo>
                  <a:pt x="679" y="679"/>
                </a:lnTo>
                <a:lnTo>
                  <a:pt x="579" y="679"/>
                </a:lnTo>
                <a:lnTo>
                  <a:pt x="583" y="651"/>
                </a:lnTo>
                <a:lnTo>
                  <a:pt x="587" y="624"/>
                </a:lnTo>
                <a:lnTo>
                  <a:pt x="591" y="599"/>
                </a:lnTo>
                <a:lnTo>
                  <a:pt x="594" y="572"/>
                </a:lnTo>
                <a:lnTo>
                  <a:pt x="598" y="547"/>
                </a:lnTo>
                <a:lnTo>
                  <a:pt x="600" y="524"/>
                </a:lnTo>
                <a:lnTo>
                  <a:pt x="604" y="501"/>
                </a:lnTo>
                <a:lnTo>
                  <a:pt x="606" y="478"/>
                </a:lnTo>
                <a:lnTo>
                  <a:pt x="608" y="457"/>
                </a:lnTo>
                <a:lnTo>
                  <a:pt x="612" y="437"/>
                </a:lnTo>
                <a:lnTo>
                  <a:pt x="614" y="416"/>
                </a:lnTo>
                <a:lnTo>
                  <a:pt x="616" y="397"/>
                </a:lnTo>
                <a:lnTo>
                  <a:pt x="618" y="380"/>
                </a:lnTo>
                <a:lnTo>
                  <a:pt x="618" y="363"/>
                </a:lnTo>
                <a:lnTo>
                  <a:pt x="619" y="345"/>
                </a:lnTo>
                <a:lnTo>
                  <a:pt x="621" y="330"/>
                </a:lnTo>
                <a:lnTo>
                  <a:pt x="621" y="315"/>
                </a:lnTo>
                <a:lnTo>
                  <a:pt x="623" y="301"/>
                </a:lnTo>
                <a:lnTo>
                  <a:pt x="623" y="288"/>
                </a:lnTo>
                <a:lnTo>
                  <a:pt x="623" y="274"/>
                </a:lnTo>
                <a:lnTo>
                  <a:pt x="623" y="263"/>
                </a:lnTo>
                <a:lnTo>
                  <a:pt x="623" y="251"/>
                </a:lnTo>
                <a:lnTo>
                  <a:pt x="623" y="242"/>
                </a:lnTo>
                <a:lnTo>
                  <a:pt x="623" y="232"/>
                </a:lnTo>
                <a:lnTo>
                  <a:pt x="623" y="224"/>
                </a:lnTo>
                <a:lnTo>
                  <a:pt x="623" y="217"/>
                </a:lnTo>
                <a:lnTo>
                  <a:pt x="621" y="211"/>
                </a:lnTo>
                <a:lnTo>
                  <a:pt x="621" y="205"/>
                </a:lnTo>
                <a:lnTo>
                  <a:pt x="619" y="200"/>
                </a:lnTo>
                <a:lnTo>
                  <a:pt x="619" y="196"/>
                </a:lnTo>
                <a:lnTo>
                  <a:pt x="618" y="192"/>
                </a:lnTo>
                <a:lnTo>
                  <a:pt x="616" y="190"/>
                </a:lnTo>
                <a:lnTo>
                  <a:pt x="608" y="182"/>
                </a:lnTo>
                <a:lnTo>
                  <a:pt x="600" y="175"/>
                </a:lnTo>
                <a:lnTo>
                  <a:pt x="591" y="169"/>
                </a:lnTo>
                <a:lnTo>
                  <a:pt x="581" y="165"/>
                </a:lnTo>
                <a:lnTo>
                  <a:pt x="571" y="161"/>
                </a:lnTo>
                <a:lnTo>
                  <a:pt x="560" y="157"/>
                </a:lnTo>
                <a:lnTo>
                  <a:pt x="547" y="157"/>
                </a:lnTo>
                <a:lnTo>
                  <a:pt x="535" y="155"/>
                </a:lnTo>
                <a:lnTo>
                  <a:pt x="527" y="155"/>
                </a:lnTo>
                <a:lnTo>
                  <a:pt x="518" y="157"/>
                </a:lnTo>
                <a:lnTo>
                  <a:pt x="508" y="157"/>
                </a:lnTo>
                <a:lnTo>
                  <a:pt x="499" y="157"/>
                </a:lnTo>
                <a:lnTo>
                  <a:pt x="487" y="159"/>
                </a:lnTo>
                <a:lnTo>
                  <a:pt x="474" y="161"/>
                </a:lnTo>
                <a:lnTo>
                  <a:pt x="460" y="163"/>
                </a:lnTo>
                <a:lnTo>
                  <a:pt x="445" y="165"/>
                </a:lnTo>
                <a:lnTo>
                  <a:pt x="429" y="167"/>
                </a:lnTo>
                <a:lnTo>
                  <a:pt x="412" y="169"/>
                </a:lnTo>
                <a:lnTo>
                  <a:pt x="395" y="171"/>
                </a:lnTo>
                <a:lnTo>
                  <a:pt x="376" y="175"/>
                </a:lnTo>
                <a:lnTo>
                  <a:pt x="357" y="178"/>
                </a:lnTo>
                <a:lnTo>
                  <a:pt x="335" y="180"/>
                </a:lnTo>
                <a:lnTo>
                  <a:pt x="312" y="184"/>
                </a:lnTo>
                <a:lnTo>
                  <a:pt x="289" y="190"/>
                </a:lnTo>
                <a:lnTo>
                  <a:pt x="266" y="194"/>
                </a:lnTo>
                <a:lnTo>
                  <a:pt x="243" y="198"/>
                </a:lnTo>
                <a:lnTo>
                  <a:pt x="220" y="201"/>
                </a:lnTo>
                <a:lnTo>
                  <a:pt x="199" y="203"/>
                </a:lnTo>
                <a:lnTo>
                  <a:pt x="178" y="207"/>
                </a:lnTo>
                <a:lnTo>
                  <a:pt x="159" y="209"/>
                </a:lnTo>
                <a:lnTo>
                  <a:pt x="140" y="213"/>
                </a:lnTo>
                <a:lnTo>
                  <a:pt x="120" y="215"/>
                </a:lnTo>
                <a:lnTo>
                  <a:pt x="103" y="217"/>
                </a:lnTo>
                <a:lnTo>
                  <a:pt x="86" y="219"/>
                </a:lnTo>
                <a:lnTo>
                  <a:pt x="69" y="219"/>
                </a:lnTo>
                <a:lnTo>
                  <a:pt x="53" y="221"/>
                </a:lnTo>
                <a:lnTo>
                  <a:pt x="38" y="221"/>
                </a:lnTo>
                <a:lnTo>
                  <a:pt x="25" y="223"/>
                </a:lnTo>
                <a:lnTo>
                  <a:pt x="11" y="223"/>
                </a:lnTo>
                <a:lnTo>
                  <a:pt x="0" y="223"/>
                </a:lnTo>
                <a:lnTo>
                  <a:pt x="0" y="123"/>
                </a:lnTo>
                <a:lnTo>
                  <a:pt x="40" y="119"/>
                </a:lnTo>
                <a:lnTo>
                  <a:pt x="82" y="113"/>
                </a:lnTo>
                <a:lnTo>
                  <a:pt x="124" y="109"/>
                </a:lnTo>
                <a:lnTo>
                  <a:pt x="168" y="105"/>
                </a:lnTo>
                <a:lnTo>
                  <a:pt x="213" y="100"/>
                </a:lnTo>
                <a:lnTo>
                  <a:pt x="255" y="92"/>
                </a:lnTo>
                <a:lnTo>
                  <a:pt x="299" y="86"/>
                </a:lnTo>
                <a:lnTo>
                  <a:pt x="343" y="79"/>
                </a:lnTo>
                <a:lnTo>
                  <a:pt x="364" y="75"/>
                </a:lnTo>
                <a:lnTo>
                  <a:pt x="385" y="73"/>
                </a:lnTo>
                <a:lnTo>
                  <a:pt x="404" y="71"/>
                </a:lnTo>
                <a:lnTo>
                  <a:pt x="422" y="67"/>
                </a:lnTo>
                <a:lnTo>
                  <a:pt x="439" y="65"/>
                </a:lnTo>
                <a:lnTo>
                  <a:pt x="454" y="61"/>
                </a:lnTo>
                <a:lnTo>
                  <a:pt x="468" y="58"/>
                </a:lnTo>
                <a:lnTo>
                  <a:pt x="481" y="54"/>
                </a:lnTo>
                <a:lnTo>
                  <a:pt x="493" y="50"/>
                </a:lnTo>
                <a:lnTo>
                  <a:pt x="502" y="46"/>
                </a:lnTo>
                <a:lnTo>
                  <a:pt x="512" y="42"/>
                </a:lnTo>
                <a:lnTo>
                  <a:pt x="522" y="38"/>
                </a:lnTo>
                <a:lnTo>
                  <a:pt x="527" y="34"/>
                </a:lnTo>
                <a:lnTo>
                  <a:pt x="535" y="31"/>
                </a:lnTo>
                <a:lnTo>
                  <a:pt x="539" y="27"/>
                </a:lnTo>
                <a:lnTo>
                  <a:pt x="543" y="23"/>
                </a:lnTo>
                <a:lnTo>
                  <a:pt x="556" y="13"/>
                </a:lnTo>
                <a:lnTo>
                  <a:pt x="564" y="10"/>
                </a:lnTo>
                <a:lnTo>
                  <a:pt x="571" y="8"/>
                </a:lnTo>
                <a:lnTo>
                  <a:pt x="579" y="4"/>
                </a:lnTo>
                <a:lnTo>
                  <a:pt x="589" y="2"/>
                </a:lnTo>
                <a:lnTo>
                  <a:pt x="596" y="0"/>
                </a:lnTo>
                <a:lnTo>
                  <a:pt x="606" y="0"/>
                </a:lnTo>
                <a:lnTo>
                  <a:pt x="612" y="0"/>
                </a:lnTo>
                <a:lnTo>
                  <a:pt x="618" y="2"/>
                </a:lnTo>
                <a:lnTo>
                  <a:pt x="625" y="4"/>
                </a:lnTo>
                <a:lnTo>
                  <a:pt x="633" y="6"/>
                </a:lnTo>
                <a:lnTo>
                  <a:pt x="641" y="10"/>
                </a:lnTo>
                <a:lnTo>
                  <a:pt x="648" y="13"/>
                </a:lnTo>
                <a:lnTo>
                  <a:pt x="658" y="19"/>
                </a:lnTo>
                <a:lnTo>
                  <a:pt x="667" y="23"/>
                </a:lnTo>
                <a:lnTo>
                  <a:pt x="679" y="29"/>
                </a:lnTo>
                <a:lnTo>
                  <a:pt x="690" y="36"/>
                </a:lnTo>
                <a:lnTo>
                  <a:pt x="702" y="44"/>
                </a:lnTo>
                <a:lnTo>
                  <a:pt x="713" y="52"/>
                </a:lnTo>
                <a:lnTo>
                  <a:pt x="727" y="59"/>
                </a:lnTo>
                <a:lnTo>
                  <a:pt x="740" y="69"/>
                </a:lnTo>
                <a:lnTo>
                  <a:pt x="756" y="79"/>
                </a:lnTo>
                <a:lnTo>
                  <a:pt x="769" y="90"/>
                </a:lnTo>
                <a:lnTo>
                  <a:pt x="784" y="100"/>
                </a:lnTo>
                <a:lnTo>
                  <a:pt x="798" y="109"/>
                </a:lnTo>
                <a:lnTo>
                  <a:pt x="811" y="119"/>
                </a:lnTo>
                <a:lnTo>
                  <a:pt x="825" y="129"/>
                </a:lnTo>
                <a:lnTo>
                  <a:pt x="834" y="138"/>
                </a:lnTo>
                <a:lnTo>
                  <a:pt x="846" y="148"/>
                </a:lnTo>
                <a:lnTo>
                  <a:pt x="855" y="155"/>
                </a:lnTo>
                <a:lnTo>
                  <a:pt x="863" y="165"/>
                </a:lnTo>
                <a:lnTo>
                  <a:pt x="871" y="173"/>
                </a:lnTo>
                <a:lnTo>
                  <a:pt x="879" y="180"/>
                </a:lnTo>
                <a:lnTo>
                  <a:pt x="884" y="188"/>
                </a:lnTo>
                <a:lnTo>
                  <a:pt x="888" y="196"/>
                </a:lnTo>
                <a:lnTo>
                  <a:pt x="892" y="203"/>
                </a:lnTo>
                <a:lnTo>
                  <a:pt x="894" y="209"/>
                </a:lnTo>
                <a:lnTo>
                  <a:pt x="896" y="217"/>
                </a:lnTo>
                <a:lnTo>
                  <a:pt x="898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Freeform 52"/>
          <p:cNvSpPr/>
          <p:nvPr/>
        </p:nvSpPr>
        <p:spPr>
          <a:xfrm>
            <a:off x="2575080" y="3895560"/>
            <a:ext cx="599760" cy="158760"/>
          </a:xfrm>
          <a:custGeom>
            <a:avLst/>
            <a:gdLst>
              <a:gd name="textAreaLeft" fmla="*/ 0 w 599760"/>
              <a:gd name="textAreaRight" fmla="*/ 600120 w 5997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57" h="199">
                <a:moveTo>
                  <a:pt x="735" y="55"/>
                </a:moveTo>
                <a:lnTo>
                  <a:pt x="739" y="61"/>
                </a:lnTo>
                <a:lnTo>
                  <a:pt x="743" y="67"/>
                </a:lnTo>
                <a:lnTo>
                  <a:pt x="747" y="72"/>
                </a:lnTo>
                <a:lnTo>
                  <a:pt x="751" y="78"/>
                </a:lnTo>
                <a:lnTo>
                  <a:pt x="753" y="82"/>
                </a:lnTo>
                <a:lnTo>
                  <a:pt x="755" y="88"/>
                </a:lnTo>
                <a:lnTo>
                  <a:pt x="755" y="92"/>
                </a:lnTo>
                <a:lnTo>
                  <a:pt x="757" y="95"/>
                </a:lnTo>
                <a:lnTo>
                  <a:pt x="757" y="99"/>
                </a:lnTo>
                <a:lnTo>
                  <a:pt x="757" y="103"/>
                </a:lnTo>
                <a:lnTo>
                  <a:pt x="755" y="107"/>
                </a:lnTo>
                <a:lnTo>
                  <a:pt x="755" y="111"/>
                </a:lnTo>
                <a:lnTo>
                  <a:pt x="749" y="117"/>
                </a:lnTo>
                <a:lnTo>
                  <a:pt x="743" y="120"/>
                </a:lnTo>
                <a:lnTo>
                  <a:pt x="741" y="122"/>
                </a:lnTo>
                <a:lnTo>
                  <a:pt x="739" y="122"/>
                </a:lnTo>
                <a:lnTo>
                  <a:pt x="737" y="124"/>
                </a:lnTo>
                <a:lnTo>
                  <a:pt x="734" y="124"/>
                </a:lnTo>
                <a:lnTo>
                  <a:pt x="730" y="126"/>
                </a:lnTo>
                <a:lnTo>
                  <a:pt x="724" y="128"/>
                </a:lnTo>
                <a:lnTo>
                  <a:pt x="718" y="128"/>
                </a:lnTo>
                <a:lnTo>
                  <a:pt x="712" y="130"/>
                </a:lnTo>
                <a:lnTo>
                  <a:pt x="707" y="130"/>
                </a:lnTo>
                <a:lnTo>
                  <a:pt x="701" y="132"/>
                </a:lnTo>
                <a:lnTo>
                  <a:pt x="693" y="132"/>
                </a:lnTo>
                <a:lnTo>
                  <a:pt x="686" y="134"/>
                </a:lnTo>
                <a:lnTo>
                  <a:pt x="676" y="136"/>
                </a:lnTo>
                <a:lnTo>
                  <a:pt x="668" y="136"/>
                </a:lnTo>
                <a:lnTo>
                  <a:pt x="659" y="138"/>
                </a:lnTo>
                <a:lnTo>
                  <a:pt x="649" y="140"/>
                </a:lnTo>
                <a:lnTo>
                  <a:pt x="638" y="140"/>
                </a:lnTo>
                <a:lnTo>
                  <a:pt x="628" y="142"/>
                </a:lnTo>
                <a:lnTo>
                  <a:pt x="616" y="143"/>
                </a:lnTo>
                <a:lnTo>
                  <a:pt x="603" y="143"/>
                </a:lnTo>
                <a:lnTo>
                  <a:pt x="592" y="145"/>
                </a:lnTo>
                <a:lnTo>
                  <a:pt x="578" y="147"/>
                </a:lnTo>
                <a:lnTo>
                  <a:pt x="565" y="149"/>
                </a:lnTo>
                <a:lnTo>
                  <a:pt x="549" y="151"/>
                </a:lnTo>
                <a:lnTo>
                  <a:pt x="536" y="153"/>
                </a:lnTo>
                <a:lnTo>
                  <a:pt x="521" y="153"/>
                </a:lnTo>
                <a:lnTo>
                  <a:pt x="505" y="155"/>
                </a:lnTo>
                <a:lnTo>
                  <a:pt x="488" y="157"/>
                </a:lnTo>
                <a:lnTo>
                  <a:pt x="471" y="159"/>
                </a:lnTo>
                <a:lnTo>
                  <a:pt x="453" y="161"/>
                </a:lnTo>
                <a:lnTo>
                  <a:pt x="436" y="163"/>
                </a:lnTo>
                <a:lnTo>
                  <a:pt x="417" y="166"/>
                </a:lnTo>
                <a:lnTo>
                  <a:pt x="380" y="170"/>
                </a:lnTo>
                <a:lnTo>
                  <a:pt x="346" y="174"/>
                </a:lnTo>
                <a:lnTo>
                  <a:pt x="311" y="178"/>
                </a:lnTo>
                <a:lnTo>
                  <a:pt x="279" y="180"/>
                </a:lnTo>
                <a:lnTo>
                  <a:pt x="248" y="184"/>
                </a:lnTo>
                <a:lnTo>
                  <a:pt x="219" y="186"/>
                </a:lnTo>
                <a:lnTo>
                  <a:pt x="190" y="189"/>
                </a:lnTo>
                <a:lnTo>
                  <a:pt x="165" y="191"/>
                </a:lnTo>
                <a:lnTo>
                  <a:pt x="139" y="193"/>
                </a:lnTo>
                <a:lnTo>
                  <a:pt x="116" y="195"/>
                </a:lnTo>
                <a:lnTo>
                  <a:pt x="93" y="195"/>
                </a:lnTo>
                <a:lnTo>
                  <a:pt x="71" y="197"/>
                </a:lnTo>
                <a:lnTo>
                  <a:pt x="52" y="197"/>
                </a:lnTo>
                <a:lnTo>
                  <a:pt x="33" y="199"/>
                </a:lnTo>
                <a:lnTo>
                  <a:pt x="16" y="199"/>
                </a:lnTo>
                <a:lnTo>
                  <a:pt x="0" y="199"/>
                </a:lnTo>
                <a:lnTo>
                  <a:pt x="0" y="88"/>
                </a:lnTo>
                <a:lnTo>
                  <a:pt x="14" y="88"/>
                </a:lnTo>
                <a:lnTo>
                  <a:pt x="27" y="88"/>
                </a:lnTo>
                <a:lnTo>
                  <a:pt x="43" y="86"/>
                </a:lnTo>
                <a:lnTo>
                  <a:pt x="58" y="86"/>
                </a:lnTo>
                <a:lnTo>
                  <a:pt x="75" y="84"/>
                </a:lnTo>
                <a:lnTo>
                  <a:pt x="94" y="82"/>
                </a:lnTo>
                <a:lnTo>
                  <a:pt x="116" y="80"/>
                </a:lnTo>
                <a:lnTo>
                  <a:pt x="137" y="78"/>
                </a:lnTo>
                <a:lnTo>
                  <a:pt x="160" y="76"/>
                </a:lnTo>
                <a:lnTo>
                  <a:pt x="183" y="72"/>
                </a:lnTo>
                <a:lnTo>
                  <a:pt x="208" y="69"/>
                </a:lnTo>
                <a:lnTo>
                  <a:pt x="235" y="65"/>
                </a:lnTo>
                <a:lnTo>
                  <a:pt x="263" y="59"/>
                </a:lnTo>
                <a:lnTo>
                  <a:pt x="292" y="55"/>
                </a:lnTo>
                <a:lnTo>
                  <a:pt x="323" y="49"/>
                </a:lnTo>
                <a:lnTo>
                  <a:pt x="354" y="44"/>
                </a:lnTo>
                <a:lnTo>
                  <a:pt x="386" y="38"/>
                </a:lnTo>
                <a:lnTo>
                  <a:pt x="415" y="32"/>
                </a:lnTo>
                <a:lnTo>
                  <a:pt x="444" y="26"/>
                </a:lnTo>
                <a:lnTo>
                  <a:pt x="469" y="23"/>
                </a:lnTo>
                <a:lnTo>
                  <a:pt x="494" y="19"/>
                </a:lnTo>
                <a:lnTo>
                  <a:pt x="517" y="15"/>
                </a:lnTo>
                <a:lnTo>
                  <a:pt x="538" y="11"/>
                </a:lnTo>
                <a:lnTo>
                  <a:pt x="559" y="7"/>
                </a:lnTo>
                <a:lnTo>
                  <a:pt x="576" y="5"/>
                </a:lnTo>
                <a:lnTo>
                  <a:pt x="592" y="3"/>
                </a:lnTo>
                <a:lnTo>
                  <a:pt x="607" y="1"/>
                </a:lnTo>
                <a:lnTo>
                  <a:pt x="618" y="1"/>
                </a:lnTo>
                <a:lnTo>
                  <a:pt x="630" y="0"/>
                </a:lnTo>
                <a:lnTo>
                  <a:pt x="639" y="0"/>
                </a:lnTo>
                <a:lnTo>
                  <a:pt x="647" y="0"/>
                </a:lnTo>
                <a:lnTo>
                  <a:pt x="653" y="0"/>
                </a:lnTo>
                <a:lnTo>
                  <a:pt x="659" y="0"/>
                </a:lnTo>
                <a:lnTo>
                  <a:pt x="663" y="0"/>
                </a:lnTo>
                <a:lnTo>
                  <a:pt x="668" y="1"/>
                </a:lnTo>
                <a:lnTo>
                  <a:pt x="674" y="3"/>
                </a:lnTo>
                <a:lnTo>
                  <a:pt x="684" y="7"/>
                </a:lnTo>
                <a:lnTo>
                  <a:pt x="693" y="13"/>
                </a:lnTo>
                <a:lnTo>
                  <a:pt x="705" y="23"/>
                </a:lnTo>
                <a:lnTo>
                  <a:pt x="714" y="32"/>
                </a:lnTo>
                <a:lnTo>
                  <a:pt x="724" y="42"/>
                </a:lnTo>
                <a:lnTo>
                  <a:pt x="735" y="5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Freeform 53"/>
          <p:cNvSpPr/>
          <p:nvPr/>
        </p:nvSpPr>
        <p:spPr>
          <a:xfrm>
            <a:off x="2876400" y="2897280"/>
            <a:ext cx="930600" cy="809640"/>
          </a:xfrm>
          <a:custGeom>
            <a:avLst/>
            <a:gdLst>
              <a:gd name="textAreaLeft" fmla="*/ 0 w 930600"/>
              <a:gd name="textAreaRight" fmla="*/ 930960 w 9306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171" h="1021">
                <a:moveTo>
                  <a:pt x="1171" y="946"/>
                </a:moveTo>
                <a:lnTo>
                  <a:pt x="1171" y="950"/>
                </a:lnTo>
                <a:lnTo>
                  <a:pt x="1167" y="955"/>
                </a:lnTo>
                <a:lnTo>
                  <a:pt x="1163" y="959"/>
                </a:lnTo>
                <a:lnTo>
                  <a:pt x="1160" y="963"/>
                </a:lnTo>
                <a:lnTo>
                  <a:pt x="1152" y="967"/>
                </a:lnTo>
                <a:lnTo>
                  <a:pt x="1144" y="971"/>
                </a:lnTo>
                <a:lnTo>
                  <a:pt x="1135" y="974"/>
                </a:lnTo>
                <a:lnTo>
                  <a:pt x="1125" y="978"/>
                </a:lnTo>
                <a:lnTo>
                  <a:pt x="1112" y="982"/>
                </a:lnTo>
                <a:lnTo>
                  <a:pt x="1098" y="986"/>
                </a:lnTo>
                <a:lnTo>
                  <a:pt x="1085" y="988"/>
                </a:lnTo>
                <a:lnTo>
                  <a:pt x="1067" y="992"/>
                </a:lnTo>
                <a:lnTo>
                  <a:pt x="1050" y="994"/>
                </a:lnTo>
                <a:lnTo>
                  <a:pt x="1031" y="998"/>
                </a:lnTo>
                <a:lnTo>
                  <a:pt x="1012" y="999"/>
                </a:lnTo>
                <a:lnTo>
                  <a:pt x="989" y="1001"/>
                </a:lnTo>
                <a:lnTo>
                  <a:pt x="968" y="1005"/>
                </a:lnTo>
                <a:lnTo>
                  <a:pt x="947" y="1009"/>
                </a:lnTo>
                <a:lnTo>
                  <a:pt x="925" y="1013"/>
                </a:lnTo>
                <a:lnTo>
                  <a:pt x="906" y="1015"/>
                </a:lnTo>
                <a:lnTo>
                  <a:pt x="887" y="1017"/>
                </a:lnTo>
                <a:lnTo>
                  <a:pt x="870" y="1019"/>
                </a:lnTo>
                <a:lnTo>
                  <a:pt x="852" y="1019"/>
                </a:lnTo>
                <a:lnTo>
                  <a:pt x="835" y="1021"/>
                </a:lnTo>
                <a:lnTo>
                  <a:pt x="820" y="1021"/>
                </a:lnTo>
                <a:lnTo>
                  <a:pt x="805" y="1021"/>
                </a:lnTo>
                <a:lnTo>
                  <a:pt x="791" y="1021"/>
                </a:lnTo>
                <a:lnTo>
                  <a:pt x="778" y="1019"/>
                </a:lnTo>
                <a:lnTo>
                  <a:pt x="766" y="1019"/>
                </a:lnTo>
                <a:lnTo>
                  <a:pt x="755" y="1017"/>
                </a:lnTo>
                <a:lnTo>
                  <a:pt x="745" y="1015"/>
                </a:lnTo>
                <a:lnTo>
                  <a:pt x="735" y="1013"/>
                </a:lnTo>
                <a:lnTo>
                  <a:pt x="734" y="1013"/>
                </a:lnTo>
                <a:lnTo>
                  <a:pt x="730" y="1011"/>
                </a:lnTo>
                <a:lnTo>
                  <a:pt x="726" y="1009"/>
                </a:lnTo>
                <a:lnTo>
                  <a:pt x="724" y="1007"/>
                </a:lnTo>
                <a:lnTo>
                  <a:pt x="720" y="1005"/>
                </a:lnTo>
                <a:lnTo>
                  <a:pt x="714" y="1001"/>
                </a:lnTo>
                <a:lnTo>
                  <a:pt x="710" y="998"/>
                </a:lnTo>
                <a:lnTo>
                  <a:pt x="707" y="994"/>
                </a:lnTo>
                <a:lnTo>
                  <a:pt x="701" y="988"/>
                </a:lnTo>
                <a:lnTo>
                  <a:pt x="695" y="984"/>
                </a:lnTo>
                <a:lnTo>
                  <a:pt x="689" y="978"/>
                </a:lnTo>
                <a:lnTo>
                  <a:pt x="684" y="973"/>
                </a:lnTo>
                <a:lnTo>
                  <a:pt x="678" y="965"/>
                </a:lnTo>
                <a:lnTo>
                  <a:pt x="672" y="959"/>
                </a:lnTo>
                <a:lnTo>
                  <a:pt x="659" y="944"/>
                </a:lnTo>
                <a:lnTo>
                  <a:pt x="643" y="925"/>
                </a:lnTo>
                <a:lnTo>
                  <a:pt x="628" y="905"/>
                </a:lnTo>
                <a:lnTo>
                  <a:pt x="611" y="884"/>
                </a:lnTo>
                <a:lnTo>
                  <a:pt x="593" y="861"/>
                </a:lnTo>
                <a:lnTo>
                  <a:pt x="572" y="836"/>
                </a:lnTo>
                <a:lnTo>
                  <a:pt x="553" y="809"/>
                </a:lnTo>
                <a:lnTo>
                  <a:pt x="532" y="781"/>
                </a:lnTo>
                <a:lnTo>
                  <a:pt x="509" y="750"/>
                </a:lnTo>
                <a:lnTo>
                  <a:pt x="486" y="717"/>
                </a:lnTo>
                <a:lnTo>
                  <a:pt x="461" y="683"/>
                </a:lnTo>
                <a:lnTo>
                  <a:pt x="434" y="646"/>
                </a:lnTo>
                <a:lnTo>
                  <a:pt x="407" y="608"/>
                </a:lnTo>
                <a:lnTo>
                  <a:pt x="380" y="568"/>
                </a:lnTo>
                <a:lnTo>
                  <a:pt x="352" y="525"/>
                </a:lnTo>
                <a:lnTo>
                  <a:pt x="321" y="481"/>
                </a:lnTo>
                <a:lnTo>
                  <a:pt x="290" y="435"/>
                </a:lnTo>
                <a:lnTo>
                  <a:pt x="258" y="387"/>
                </a:lnTo>
                <a:lnTo>
                  <a:pt x="223" y="337"/>
                </a:lnTo>
                <a:lnTo>
                  <a:pt x="188" y="287"/>
                </a:lnTo>
                <a:lnTo>
                  <a:pt x="154" y="234"/>
                </a:lnTo>
                <a:lnTo>
                  <a:pt x="117" y="178"/>
                </a:lnTo>
                <a:lnTo>
                  <a:pt x="79" y="120"/>
                </a:lnTo>
                <a:lnTo>
                  <a:pt x="41" y="61"/>
                </a:lnTo>
                <a:lnTo>
                  <a:pt x="0" y="0"/>
                </a:lnTo>
                <a:lnTo>
                  <a:pt x="83" y="2"/>
                </a:lnTo>
                <a:lnTo>
                  <a:pt x="117" y="44"/>
                </a:lnTo>
                <a:lnTo>
                  <a:pt x="150" y="84"/>
                </a:lnTo>
                <a:lnTo>
                  <a:pt x="183" y="124"/>
                </a:lnTo>
                <a:lnTo>
                  <a:pt x="215" y="163"/>
                </a:lnTo>
                <a:lnTo>
                  <a:pt x="248" y="201"/>
                </a:lnTo>
                <a:lnTo>
                  <a:pt x="281" y="238"/>
                </a:lnTo>
                <a:lnTo>
                  <a:pt x="311" y="272"/>
                </a:lnTo>
                <a:lnTo>
                  <a:pt x="342" y="307"/>
                </a:lnTo>
                <a:lnTo>
                  <a:pt x="371" y="339"/>
                </a:lnTo>
                <a:lnTo>
                  <a:pt x="400" y="372"/>
                </a:lnTo>
                <a:lnTo>
                  <a:pt x="428" y="403"/>
                </a:lnTo>
                <a:lnTo>
                  <a:pt x="457" y="431"/>
                </a:lnTo>
                <a:lnTo>
                  <a:pt x="486" y="460"/>
                </a:lnTo>
                <a:lnTo>
                  <a:pt x="513" y="487"/>
                </a:lnTo>
                <a:lnTo>
                  <a:pt x="540" y="514"/>
                </a:lnTo>
                <a:lnTo>
                  <a:pt x="565" y="539"/>
                </a:lnTo>
                <a:lnTo>
                  <a:pt x="591" y="562"/>
                </a:lnTo>
                <a:lnTo>
                  <a:pt x="616" y="585"/>
                </a:lnTo>
                <a:lnTo>
                  <a:pt x="639" y="606"/>
                </a:lnTo>
                <a:lnTo>
                  <a:pt x="664" y="627"/>
                </a:lnTo>
                <a:lnTo>
                  <a:pt x="687" y="646"/>
                </a:lnTo>
                <a:lnTo>
                  <a:pt x="710" y="666"/>
                </a:lnTo>
                <a:lnTo>
                  <a:pt x="734" y="683"/>
                </a:lnTo>
                <a:lnTo>
                  <a:pt x="755" y="698"/>
                </a:lnTo>
                <a:lnTo>
                  <a:pt x="776" y="713"/>
                </a:lnTo>
                <a:lnTo>
                  <a:pt x="797" y="727"/>
                </a:lnTo>
                <a:lnTo>
                  <a:pt x="816" y="740"/>
                </a:lnTo>
                <a:lnTo>
                  <a:pt x="835" y="752"/>
                </a:lnTo>
                <a:lnTo>
                  <a:pt x="854" y="763"/>
                </a:lnTo>
                <a:lnTo>
                  <a:pt x="874" y="773"/>
                </a:lnTo>
                <a:lnTo>
                  <a:pt x="891" y="783"/>
                </a:lnTo>
                <a:lnTo>
                  <a:pt x="908" y="790"/>
                </a:lnTo>
                <a:lnTo>
                  <a:pt x="939" y="806"/>
                </a:lnTo>
                <a:lnTo>
                  <a:pt x="968" y="819"/>
                </a:lnTo>
                <a:lnTo>
                  <a:pt x="983" y="825"/>
                </a:lnTo>
                <a:lnTo>
                  <a:pt x="996" y="832"/>
                </a:lnTo>
                <a:lnTo>
                  <a:pt x="1008" y="838"/>
                </a:lnTo>
                <a:lnTo>
                  <a:pt x="1021" y="846"/>
                </a:lnTo>
                <a:lnTo>
                  <a:pt x="1033" y="852"/>
                </a:lnTo>
                <a:lnTo>
                  <a:pt x="1044" y="857"/>
                </a:lnTo>
                <a:lnTo>
                  <a:pt x="1056" y="863"/>
                </a:lnTo>
                <a:lnTo>
                  <a:pt x="1067" y="869"/>
                </a:lnTo>
                <a:lnTo>
                  <a:pt x="1077" y="875"/>
                </a:lnTo>
                <a:lnTo>
                  <a:pt x="1087" y="879"/>
                </a:lnTo>
                <a:lnTo>
                  <a:pt x="1094" y="884"/>
                </a:lnTo>
                <a:lnTo>
                  <a:pt x="1104" y="890"/>
                </a:lnTo>
                <a:lnTo>
                  <a:pt x="1112" y="894"/>
                </a:lnTo>
                <a:lnTo>
                  <a:pt x="1119" y="900"/>
                </a:lnTo>
                <a:lnTo>
                  <a:pt x="1127" y="903"/>
                </a:lnTo>
                <a:lnTo>
                  <a:pt x="1133" y="907"/>
                </a:lnTo>
                <a:lnTo>
                  <a:pt x="1138" y="913"/>
                </a:lnTo>
                <a:lnTo>
                  <a:pt x="1144" y="917"/>
                </a:lnTo>
                <a:lnTo>
                  <a:pt x="1150" y="921"/>
                </a:lnTo>
                <a:lnTo>
                  <a:pt x="1154" y="923"/>
                </a:lnTo>
                <a:lnTo>
                  <a:pt x="1158" y="927"/>
                </a:lnTo>
                <a:lnTo>
                  <a:pt x="1161" y="930"/>
                </a:lnTo>
                <a:lnTo>
                  <a:pt x="1163" y="934"/>
                </a:lnTo>
                <a:lnTo>
                  <a:pt x="1167" y="936"/>
                </a:lnTo>
                <a:lnTo>
                  <a:pt x="1169" y="940"/>
                </a:lnTo>
                <a:lnTo>
                  <a:pt x="1169" y="942"/>
                </a:lnTo>
                <a:lnTo>
                  <a:pt x="1171" y="944"/>
                </a:lnTo>
                <a:lnTo>
                  <a:pt x="1171" y="94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Group 30"/>
          <p:cNvGrpSpPr/>
          <p:nvPr/>
        </p:nvGrpSpPr>
        <p:grpSpPr>
          <a:xfrm>
            <a:off x="4724280" y="1447920"/>
            <a:ext cx="2852640" cy="779400"/>
            <a:chOff x="4724280" y="1447920"/>
            <a:chExt cx="2852640" cy="779400"/>
          </a:xfrm>
        </p:grpSpPr>
        <p:sp>
          <p:nvSpPr>
            <p:cNvPr id="4385" name="Text Box 36"/>
            <p:cNvSpPr/>
            <p:nvPr/>
          </p:nvSpPr>
          <p:spPr>
            <a:xfrm>
              <a:off x="4724280" y="152388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口字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6" name="Group 32"/>
            <p:cNvGrpSpPr/>
            <p:nvPr/>
          </p:nvGrpSpPr>
          <p:grpSpPr>
            <a:xfrm>
              <a:off x="6781680" y="1447920"/>
              <a:ext cx="795240" cy="751680"/>
              <a:chOff x="6781680" y="1447920"/>
              <a:chExt cx="795240" cy="751680"/>
            </a:xfrm>
          </p:grpSpPr>
          <p:sp>
            <p:nvSpPr>
              <p:cNvPr id="4387" name="Freeform 56"/>
              <p:cNvSpPr/>
              <p:nvPr/>
            </p:nvSpPr>
            <p:spPr>
              <a:xfrm>
                <a:off x="6781680" y="1510920"/>
                <a:ext cx="157320" cy="68868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688680"/>
                  <a:gd name="textAreaBottom" fmla="*/ 689040 h 688680"/>
                </a:gdLst>
                <a:ahLst/>
                <a:rect l="textAreaLeft" t="textAreaTop" r="textAreaRight" b="textAreaBottom"/>
                <a:pathLst>
                  <a:path w="198" h="867">
                    <a:moveTo>
                      <a:pt x="13" y="88"/>
                    </a:moveTo>
                    <a:lnTo>
                      <a:pt x="10" y="78"/>
                    </a:lnTo>
                    <a:lnTo>
                      <a:pt x="6" y="69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2" y="46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8" y="3"/>
                    </a:lnTo>
                    <a:lnTo>
                      <a:pt x="56" y="5"/>
                    </a:lnTo>
                    <a:lnTo>
                      <a:pt x="65" y="9"/>
                    </a:lnTo>
                    <a:lnTo>
                      <a:pt x="77" y="11"/>
                    </a:lnTo>
                    <a:lnTo>
                      <a:pt x="86" y="15"/>
                    </a:lnTo>
                    <a:lnTo>
                      <a:pt x="98" y="19"/>
                    </a:lnTo>
                    <a:lnTo>
                      <a:pt x="111" y="23"/>
                    </a:lnTo>
                    <a:lnTo>
                      <a:pt x="125" y="26"/>
                    </a:lnTo>
                    <a:lnTo>
                      <a:pt x="138" y="32"/>
                    </a:lnTo>
                    <a:lnTo>
                      <a:pt x="152" y="38"/>
                    </a:lnTo>
                    <a:lnTo>
                      <a:pt x="167" y="44"/>
                    </a:lnTo>
                    <a:lnTo>
                      <a:pt x="169" y="94"/>
                    </a:lnTo>
                    <a:lnTo>
                      <a:pt x="171" y="140"/>
                    </a:lnTo>
                    <a:lnTo>
                      <a:pt x="175" y="186"/>
                    </a:lnTo>
                    <a:lnTo>
                      <a:pt x="176" y="232"/>
                    </a:lnTo>
                    <a:lnTo>
                      <a:pt x="178" y="274"/>
                    </a:lnTo>
                    <a:lnTo>
                      <a:pt x="180" y="316"/>
                    </a:lnTo>
                    <a:lnTo>
                      <a:pt x="182" y="357"/>
                    </a:lnTo>
                    <a:lnTo>
                      <a:pt x="184" y="395"/>
                    </a:lnTo>
                    <a:lnTo>
                      <a:pt x="184" y="431"/>
                    </a:lnTo>
                    <a:lnTo>
                      <a:pt x="186" y="466"/>
                    </a:lnTo>
                    <a:lnTo>
                      <a:pt x="188" y="501"/>
                    </a:lnTo>
                    <a:lnTo>
                      <a:pt x="190" y="533"/>
                    </a:lnTo>
                    <a:lnTo>
                      <a:pt x="190" y="564"/>
                    </a:lnTo>
                    <a:lnTo>
                      <a:pt x="192" y="593"/>
                    </a:lnTo>
                    <a:lnTo>
                      <a:pt x="192" y="619"/>
                    </a:lnTo>
                    <a:lnTo>
                      <a:pt x="194" y="646"/>
                    </a:lnTo>
                    <a:lnTo>
                      <a:pt x="194" y="669"/>
                    </a:lnTo>
                    <a:lnTo>
                      <a:pt x="196" y="692"/>
                    </a:lnTo>
                    <a:lnTo>
                      <a:pt x="196" y="715"/>
                    </a:lnTo>
                    <a:lnTo>
                      <a:pt x="196" y="735"/>
                    </a:lnTo>
                    <a:lnTo>
                      <a:pt x="196" y="754"/>
                    </a:lnTo>
                    <a:lnTo>
                      <a:pt x="198" y="769"/>
                    </a:lnTo>
                    <a:lnTo>
                      <a:pt x="198" y="785"/>
                    </a:lnTo>
                    <a:lnTo>
                      <a:pt x="198" y="800"/>
                    </a:lnTo>
                    <a:lnTo>
                      <a:pt x="198" y="811"/>
                    </a:lnTo>
                    <a:lnTo>
                      <a:pt x="198" y="823"/>
                    </a:lnTo>
                    <a:lnTo>
                      <a:pt x="198" y="833"/>
                    </a:lnTo>
                    <a:lnTo>
                      <a:pt x="196" y="840"/>
                    </a:lnTo>
                    <a:lnTo>
                      <a:pt x="196" y="846"/>
                    </a:lnTo>
                    <a:lnTo>
                      <a:pt x="196" y="850"/>
                    </a:lnTo>
                    <a:lnTo>
                      <a:pt x="194" y="854"/>
                    </a:lnTo>
                    <a:lnTo>
                      <a:pt x="194" y="856"/>
                    </a:lnTo>
                    <a:lnTo>
                      <a:pt x="190" y="859"/>
                    </a:lnTo>
                    <a:lnTo>
                      <a:pt x="186" y="861"/>
                    </a:lnTo>
                    <a:lnTo>
                      <a:pt x="180" y="863"/>
                    </a:lnTo>
                    <a:lnTo>
                      <a:pt x="175" y="865"/>
                    </a:lnTo>
                    <a:lnTo>
                      <a:pt x="169" y="867"/>
                    </a:lnTo>
                    <a:lnTo>
                      <a:pt x="161" y="867"/>
                    </a:lnTo>
                    <a:lnTo>
                      <a:pt x="148" y="867"/>
                    </a:lnTo>
                    <a:lnTo>
                      <a:pt x="146" y="863"/>
                    </a:lnTo>
                    <a:lnTo>
                      <a:pt x="142" y="859"/>
                    </a:lnTo>
                    <a:lnTo>
                      <a:pt x="138" y="856"/>
                    </a:lnTo>
                    <a:lnTo>
                      <a:pt x="134" y="848"/>
                    </a:lnTo>
                    <a:lnTo>
                      <a:pt x="132" y="840"/>
                    </a:lnTo>
                    <a:lnTo>
                      <a:pt x="129" y="831"/>
                    </a:lnTo>
                    <a:lnTo>
                      <a:pt x="125" y="821"/>
                    </a:lnTo>
                    <a:lnTo>
                      <a:pt x="123" y="808"/>
                    </a:lnTo>
                    <a:lnTo>
                      <a:pt x="119" y="796"/>
                    </a:lnTo>
                    <a:lnTo>
                      <a:pt x="117" y="781"/>
                    </a:lnTo>
                    <a:lnTo>
                      <a:pt x="113" y="765"/>
                    </a:lnTo>
                    <a:lnTo>
                      <a:pt x="111" y="748"/>
                    </a:lnTo>
                    <a:lnTo>
                      <a:pt x="109" y="729"/>
                    </a:lnTo>
                    <a:lnTo>
                      <a:pt x="107" y="710"/>
                    </a:lnTo>
                    <a:lnTo>
                      <a:pt x="105" y="689"/>
                    </a:lnTo>
                    <a:lnTo>
                      <a:pt x="104" y="667"/>
                    </a:lnTo>
                    <a:lnTo>
                      <a:pt x="96" y="621"/>
                    </a:lnTo>
                    <a:lnTo>
                      <a:pt x="90" y="575"/>
                    </a:lnTo>
                    <a:lnTo>
                      <a:pt x="82" y="529"/>
                    </a:lnTo>
                    <a:lnTo>
                      <a:pt x="77" y="485"/>
                    </a:lnTo>
                    <a:lnTo>
                      <a:pt x="71" y="443"/>
                    </a:lnTo>
                    <a:lnTo>
                      <a:pt x="65" y="401"/>
                    </a:lnTo>
                    <a:lnTo>
                      <a:pt x="61" y="360"/>
                    </a:lnTo>
                    <a:lnTo>
                      <a:pt x="59" y="341"/>
                    </a:lnTo>
                    <a:lnTo>
                      <a:pt x="58" y="322"/>
                    </a:lnTo>
                    <a:lnTo>
                      <a:pt x="56" y="303"/>
                    </a:lnTo>
                    <a:lnTo>
                      <a:pt x="54" y="286"/>
                    </a:lnTo>
                    <a:lnTo>
                      <a:pt x="52" y="268"/>
                    </a:lnTo>
                    <a:lnTo>
                      <a:pt x="50" y="251"/>
                    </a:lnTo>
                    <a:lnTo>
                      <a:pt x="46" y="234"/>
                    </a:lnTo>
                    <a:lnTo>
                      <a:pt x="44" y="218"/>
                    </a:lnTo>
                    <a:lnTo>
                      <a:pt x="42" y="203"/>
                    </a:lnTo>
                    <a:lnTo>
                      <a:pt x="38" y="188"/>
                    </a:lnTo>
                    <a:lnTo>
                      <a:pt x="34" y="174"/>
                    </a:lnTo>
                    <a:lnTo>
                      <a:pt x="33" y="161"/>
                    </a:lnTo>
                    <a:lnTo>
                      <a:pt x="29" y="147"/>
                    </a:lnTo>
                    <a:lnTo>
                      <a:pt x="25" y="134"/>
                    </a:lnTo>
                    <a:lnTo>
                      <a:pt x="23" y="122"/>
                    </a:lnTo>
                    <a:lnTo>
                      <a:pt x="19" y="109"/>
                    </a:lnTo>
                    <a:lnTo>
                      <a:pt x="15" y="99"/>
                    </a:lnTo>
                    <a:lnTo>
                      <a:pt x="13" y="8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Freeform 57"/>
              <p:cNvSpPr/>
              <p:nvPr/>
            </p:nvSpPr>
            <p:spPr>
              <a:xfrm>
                <a:off x="6864120" y="1447920"/>
                <a:ext cx="712800" cy="53928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898" h="679">
                    <a:moveTo>
                      <a:pt x="898" y="223"/>
                    </a:moveTo>
                    <a:lnTo>
                      <a:pt x="896" y="228"/>
                    </a:lnTo>
                    <a:lnTo>
                      <a:pt x="896" y="234"/>
                    </a:lnTo>
                    <a:lnTo>
                      <a:pt x="894" y="244"/>
                    </a:lnTo>
                    <a:lnTo>
                      <a:pt x="890" y="251"/>
                    </a:lnTo>
                    <a:lnTo>
                      <a:pt x="884" y="259"/>
                    </a:lnTo>
                    <a:lnTo>
                      <a:pt x="879" y="265"/>
                    </a:lnTo>
                    <a:lnTo>
                      <a:pt x="871" y="269"/>
                    </a:lnTo>
                    <a:lnTo>
                      <a:pt x="861" y="274"/>
                    </a:lnTo>
                    <a:lnTo>
                      <a:pt x="852" y="278"/>
                    </a:lnTo>
                    <a:lnTo>
                      <a:pt x="850" y="280"/>
                    </a:lnTo>
                    <a:lnTo>
                      <a:pt x="846" y="282"/>
                    </a:lnTo>
                    <a:lnTo>
                      <a:pt x="842" y="284"/>
                    </a:lnTo>
                    <a:lnTo>
                      <a:pt x="840" y="288"/>
                    </a:lnTo>
                    <a:lnTo>
                      <a:pt x="836" y="292"/>
                    </a:lnTo>
                    <a:lnTo>
                      <a:pt x="832" y="297"/>
                    </a:lnTo>
                    <a:lnTo>
                      <a:pt x="829" y="303"/>
                    </a:lnTo>
                    <a:lnTo>
                      <a:pt x="825" y="309"/>
                    </a:lnTo>
                    <a:lnTo>
                      <a:pt x="821" y="317"/>
                    </a:lnTo>
                    <a:lnTo>
                      <a:pt x="815" y="324"/>
                    </a:lnTo>
                    <a:lnTo>
                      <a:pt x="811" y="334"/>
                    </a:lnTo>
                    <a:lnTo>
                      <a:pt x="806" y="342"/>
                    </a:lnTo>
                    <a:lnTo>
                      <a:pt x="802" y="353"/>
                    </a:lnTo>
                    <a:lnTo>
                      <a:pt x="796" y="363"/>
                    </a:lnTo>
                    <a:lnTo>
                      <a:pt x="790" y="374"/>
                    </a:lnTo>
                    <a:lnTo>
                      <a:pt x="784" y="386"/>
                    </a:lnTo>
                    <a:lnTo>
                      <a:pt x="779" y="399"/>
                    </a:lnTo>
                    <a:lnTo>
                      <a:pt x="773" y="413"/>
                    </a:lnTo>
                    <a:lnTo>
                      <a:pt x="767" y="428"/>
                    </a:lnTo>
                    <a:lnTo>
                      <a:pt x="761" y="443"/>
                    </a:lnTo>
                    <a:lnTo>
                      <a:pt x="756" y="459"/>
                    </a:lnTo>
                    <a:lnTo>
                      <a:pt x="750" y="474"/>
                    </a:lnTo>
                    <a:lnTo>
                      <a:pt x="742" y="491"/>
                    </a:lnTo>
                    <a:lnTo>
                      <a:pt x="736" y="510"/>
                    </a:lnTo>
                    <a:lnTo>
                      <a:pt x="729" y="528"/>
                    </a:lnTo>
                    <a:lnTo>
                      <a:pt x="723" y="547"/>
                    </a:lnTo>
                    <a:lnTo>
                      <a:pt x="715" y="568"/>
                    </a:lnTo>
                    <a:lnTo>
                      <a:pt x="708" y="589"/>
                    </a:lnTo>
                    <a:lnTo>
                      <a:pt x="702" y="610"/>
                    </a:lnTo>
                    <a:lnTo>
                      <a:pt x="694" y="631"/>
                    </a:lnTo>
                    <a:lnTo>
                      <a:pt x="687" y="654"/>
                    </a:lnTo>
                    <a:lnTo>
                      <a:pt x="679" y="679"/>
                    </a:lnTo>
                    <a:lnTo>
                      <a:pt x="579" y="679"/>
                    </a:lnTo>
                    <a:lnTo>
                      <a:pt x="583" y="651"/>
                    </a:lnTo>
                    <a:lnTo>
                      <a:pt x="587" y="624"/>
                    </a:lnTo>
                    <a:lnTo>
                      <a:pt x="591" y="599"/>
                    </a:lnTo>
                    <a:lnTo>
                      <a:pt x="594" y="572"/>
                    </a:lnTo>
                    <a:lnTo>
                      <a:pt x="598" y="547"/>
                    </a:lnTo>
                    <a:lnTo>
                      <a:pt x="600" y="524"/>
                    </a:lnTo>
                    <a:lnTo>
                      <a:pt x="604" y="501"/>
                    </a:lnTo>
                    <a:lnTo>
                      <a:pt x="606" y="478"/>
                    </a:lnTo>
                    <a:lnTo>
                      <a:pt x="608" y="457"/>
                    </a:lnTo>
                    <a:lnTo>
                      <a:pt x="612" y="437"/>
                    </a:lnTo>
                    <a:lnTo>
                      <a:pt x="614" y="416"/>
                    </a:lnTo>
                    <a:lnTo>
                      <a:pt x="616" y="397"/>
                    </a:lnTo>
                    <a:lnTo>
                      <a:pt x="618" y="380"/>
                    </a:lnTo>
                    <a:lnTo>
                      <a:pt x="618" y="363"/>
                    </a:lnTo>
                    <a:lnTo>
                      <a:pt x="619" y="345"/>
                    </a:lnTo>
                    <a:lnTo>
                      <a:pt x="621" y="330"/>
                    </a:lnTo>
                    <a:lnTo>
                      <a:pt x="621" y="315"/>
                    </a:lnTo>
                    <a:lnTo>
                      <a:pt x="623" y="301"/>
                    </a:lnTo>
                    <a:lnTo>
                      <a:pt x="623" y="288"/>
                    </a:lnTo>
                    <a:lnTo>
                      <a:pt x="623" y="274"/>
                    </a:lnTo>
                    <a:lnTo>
                      <a:pt x="623" y="263"/>
                    </a:lnTo>
                    <a:lnTo>
                      <a:pt x="623" y="251"/>
                    </a:lnTo>
                    <a:lnTo>
                      <a:pt x="623" y="242"/>
                    </a:lnTo>
                    <a:lnTo>
                      <a:pt x="623" y="232"/>
                    </a:lnTo>
                    <a:lnTo>
                      <a:pt x="623" y="224"/>
                    </a:lnTo>
                    <a:lnTo>
                      <a:pt x="623" y="217"/>
                    </a:lnTo>
                    <a:lnTo>
                      <a:pt x="621" y="211"/>
                    </a:lnTo>
                    <a:lnTo>
                      <a:pt x="621" y="205"/>
                    </a:lnTo>
                    <a:lnTo>
                      <a:pt x="619" y="200"/>
                    </a:lnTo>
                    <a:lnTo>
                      <a:pt x="619" y="196"/>
                    </a:lnTo>
                    <a:lnTo>
                      <a:pt x="618" y="192"/>
                    </a:lnTo>
                    <a:lnTo>
                      <a:pt x="616" y="190"/>
                    </a:lnTo>
                    <a:lnTo>
                      <a:pt x="608" y="182"/>
                    </a:lnTo>
                    <a:lnTo>
                      <a:pt x="600" y="175"/>
                    </a:lnTo>
                    <a:lnTo>
                      <a:pt x="591" y="169"/>
                    </a:lnTo>
                    <a:lnTo>
                      <a:pt x="581" y="165"/>
                    </a:lnTo>
                    <a:lnTo>
                      <a:pt x="571" y="161"/>
                    </a:lnTo>
                    <a:lnTo>
                      <a:pt x="560" y="157"/>
                    </a:lnTo>
                    <a:lnTo>
                      <a:pt x="547" y="157"/>
                    </a:lnTo>
                    <a:lnTo>
                      <a:pt x="535" y="155"/>
                    </a:lnTo>
                    <a:lnTo>
                      <a:pt x="527" y="155"/>
                    </a:lnTo>
                    <a:lnTo>
                      <a:pt x="518" y="157"/>
                    </a:lnTo>
                    <a:lnTo>
                      <a:pt x="508" y="157"/>
                    </a:lnTo>
                    <a:lnTo>
                      <a:pt x="499" y="157"/>
                    </a:lnTo>
                    <a:lnTo>
                      <a:pt x="487" y="159"/>
                    </a:lnTo>
                    <a:lnTo>
                      <a:pt x="474" y="161"/>
                    </a:lnTo>
                    <a:lnTo>
                      <a:pt x="460" y="163"/>
                    </a:lnTo>
                    <a:lnTo>
                      <a:pt x="445" y="165"/>
                    </a:lnTo>
                    <a:lnTo>
                      <a:pt x="429" y="167"/>
                    </a:lnTo>
                    <a:lnTo>
                      <a:pt x="412" y="169"/>
                    </a:lnTo>
                    <a:lnTo>
                      <a:pt x="395" y="171"/>
                    </a:lnTo>
                    <a:lnTo>
                      <a:pt x="376" y="175"/>
                    </a:lnTo>
                    <a:lnTo>
                      <a:pt x="357" y="178"/>
                    </a:lnTo>
                    <a:lnTo>
                      <a:pt x="335" y="180"/>
                    </a:lnTo>
                    <a:lnTo>
                      <a:pt x="312" y="184"/>
                    </a:lnTo>
                    <a:lnTo>
                      <a:pt x="289" y="190"/>
                    </a:lnTo>
                    <a:lnTo>
                      <a:pt x="266" y="194"/>
                    </a:lnTo>
                    <a:lnTo>
                      <a:pt x="243" y="198"/>
                    </a:lnTo>
                    <a:lnTo>
                      <a:pt x="220" y="201"/>
                    </a:lnTo>
                    <a:lnTo>
                      <a:pt x="199" y="203"/>
                    </a:lnTo>
                    <a:lnTo>
                      <a:pt x="178" y="207"/>
                    </a:lnTo>
                    <a:lnTo>
                      <a:pt x="159" y="209"/>
                    </a:lnTo>
                    <a:lnTo>
                      <a:pt x="140" y="213"/>
                    </a:lnTo>
                    <a:lnTo>
                      <a:pt x="120" y="215"/>
                    </a:lnTo>
                    <a:lnTo>
                      <a:pt x="103" y="217"/>
                    </a:lnTo>
                    <a:lnTo>
                      <a:pt x="86" y="219"/>
                    </a:lnTo>
                    <a:lnTo>
                      <a:pt x="69" y="219"/>
                    </a:lnTo>
                    <a:lnTo>
                      <a:pt x="53" y="221"/>
                    </a:lnTo>
                    <a:lnTo>
                      <a:pt x="38" y="221"/>
                    </a:lnTo>
                    <a:lnTo>
                      <a:pt x="25" y="223"/>
                    </a:lnTo>
                    <a:lnTo>
                      <a:pt x="11" y="223"/>
                    </a:lnTo>
                    <a:lnTo>
                      <a:pt x="0" y="223"/>
                    </a:lnTo>
                    <a:lnTo>
                      <a:pt x="0" y="123"/>
                    </a:lnTo>
                    <a:lnTo>
                      <a:pt x="40" y="119"/>
                    </a:lnTo>
                    <a:lnTo>
                      <a:pt x="82" y="113"/>
                    </a:lnTo>
                    <a:lnTo>
                      <a:pt x="124" y="109"/>
                    </a:lnTo>
                    <a:lnTo>
                      <a:pt x="168" y="105"/>
                    </a:lnTo>
                    <a:lnTo>
                      <a:pt x="213" y="100"/>
                    </a:lnTo>
                    <a:lnTo>
                      <a:pt x="255" y="92"/>
                    </a:lnTo>
                    <a:lnTo>
                      <a:pt x="299" y="86"/>
                    </a:lnTo>
                    <a:lnTo>
                      <a:pt x="343" y="79"/>
                    </a:lnTo>
                    <a:lnTo>
                      <a:pt x="364" y="75"/>
                    </a:lnTo>
                    <a:lnTo>
                      <a:pt x="385" y="73"/>
                    </a:lnTo>
                    <a:lnTo>
                      <a:pt x="404" y="71"/>
                    </a:lnTo>
                    <a:lnTo>
                      <a:pt x="422" y="67"/>
                    </a:lnTo>
                    <a:lnTo>
                      <a:pt x="439" y="65"/>
                    </a:lnTo>
                    <a:lnTo>
                      <a:pt x="454" y="61"/>
                    </a:lnTo>
                    <a:lnTo>
                      <a:pt x="468" y="58"/>
                    </a:lnTo>
                    <a:lnTo>
                      <a:pt x="481" y="54"/>
                    </a:lnTo>
                    <a:lnTo>
                      <a:pt x="493" y="50"/>
                    </a:lnTo>
                    <a:lnTo>
                      <a:pt x="502" y="46"/>
                    </a:lnTo>
                    <a:lnTo>
                      <a:pt x="512" y="42"/>
                    </a:lnTo>
                    <a:lnTo>
                      <a:pt x="522" y="38"/>
                    </a:lnTo>
                    <a:lnTo>
                      <a:pt x="527" y="34"/>
                    </a:lnTo>
                    <a:lnTo>
                      <a:pt x="535" y="31"/>
                    </a:lnTo>
                    <a:lnTo>
                      <a:pt x="539" y="27"/>
                    </a:lnTo>
                    <a:lnTo>
                      <a:pt x="543" y="23"/>
                    </a:lnTo>
                    <a:lnTo>
                      <a:pt x="556" y="13"/>
                    </a:lnTo>
                    <a:lnTo>
                      <a:pt x="564" y="10"/>
                    </a:lnTo>
                    <a:lnTo>
                      <a:pt x="571" y="8"/>
                    </a:lnTo>
                    <a:lnTo>
                      <a:pt x="579" y="4"/>
                    </a:lnTo>
                    <a:lnTo>
                      <a:pt x="589" y="2"/>
                    </a:lnTo>
                    <a:lnTo>
                      <a:pt x="596" y="0"/>
                    </a:lnTo>
                    <a:lnTo>
                      <a:pt x="606" y="0"/>
                    </a:lnTo>
                    <a:lnTo>
                      <a:pt x="612" y="0"/>
                    </a:lnTo>
                    <a:lnTo>
                      <a:pt x="618" y="2"/>
                    </a:lnTo>
                    <a:lnTo>
                      <a:pt x="625" y="4"/>
                    </a:lnTo>
                    <a:lnTo>
                      <a:pt x="633" y="6"/>
                    </a:lnTo>
                    <a:lnTo>
                      <a:pt x="641" y="10"/>
                    </a:lnTo>
                    <a:lnTo>
                      <a:pt x="648" y="13"/>
                    </a:lnTo>
                    <a:lnTo>
                      <a:pt x="658" y="19"/>
                    </a:lnTo>
                    <a:lnTo>
                      <a:pt x="667" y="23"/>
                    </a:lnTo>
                    <a:lnTo>
                      <a:pt x="679" y="29"/>
                    </a:lnTo>
                    <a:lnTo>
                      <a:pt x="690" y="36"/>
                    </a:lnTo>
                    <a:lnTo>
                      <a:pt x="702" y="44"/>
                    </a:lnTo>
                    <a:lnTo>
                      <a:pt x="713" y="52"/>
                    </a:lnTo>
                    <a:lnTo>
                      <a:pt x="727" y="59"/>
                    </a:lnTo>
                    <a:lnTo>
                      <a:pt x="740" y="69"/>
                    </a:lnTo>
                    <a:lnTo>
                      <a:pt x="756" y="79"/>
                    </a:lnTo>
                    <a:lnTo>
                      <a:pt x="769" y="90"/>
                    </a:lnTo>
                    <a:lnTo>
                      <a:pt x="784" y="100"/>
                    </a:lnTo>
                    <a:lnTo>
                      <a:pt x="798" y="109"/>
                    </a:lnTo>
                    <a:lnTo>
                      <a:pt x="811" y="119"/>
                    </a:lnTo>
                    <a:lnTo>
                      <a:pt x="825" y="129"/>
                    </a:lnTo>
                    <a:lnTo>
                      <a:pt x="834" y="138"/>
                    </a:lnTo>
                    <a:lnTo>
                      <a:pt x="846" y="148"/>
                    </a:lnTo>
                    <a:lnTo>
                      <a:pt x="855" y="155"/>
                    </a:lnTo>
                    <a:lnTo>
                      <a:pt x="863" y="165"/>
                    </a:lnTo>
                    <a:lnTo>
                      <a:pt x="871" y="173"/>
                    </a:lnTo>
                    <a:lnTo>
                      <a:pt x="879" y="180"/>
                    </a:lnTo>
                    <a:lnTo>
                      <a:pt x="884" y="188"/>
                    </a:lnTo>
                    <a:lnTo>
                      <a:pt x="888" y="196"/>
                    </a:lnTo>
                    <a:lnTo>
                      <a:pt x="892" y="203"/>
                    </a:lnTo>
                    <a:lnTo>
                      <a:pt x="894" y="209"/>
                    </a:lnTo>
                    <a:lnTo>
                      <a:pt x="896" y="217"/>
                    </a:lnTo>
                    <a:lnTo>
                      <a:pt x="898" y="223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Freeform 58"/>
              <p:cNvSpPr/>
              <p:nvPr/>
            </p:nvSpPr>
            <p:spPr>
              <a:xfrm>
                <a:off x="6885000" y="1908000"/>
                <a:ext cx="600120" cy="158400"/>
              </a:xfrm>
              <a:custGeom>
                <a:avLst/>
                <a:gdLst>
                  <a:gd name="textAreaLeft" fmla="*/ 0 w 600120"/>
                  <a:gd name="textAreaRight" fmla="*/ 600120 w 60012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757" h="199">
                    <a:moveTo>
                      <a:pt x="735" y="55"/>
                    </a:moveTo>
                    <a:lnTo>
                      <a:pt x="739" y="61"/>
                    </a:lnTo>
                    <a:lnTo>
                      <a:pt x="743" y="67"/>
                    </a:lnTo>
                    <a:lnTo>
                      <a:pt x="747" y="72"/>
                    </a:lnTo>
                    <a:lnTo>
                      <a:pt x="751" y="78"/>
                    </a:lnTo>
                    <a:lnTo>
                      <a:pt x="753" y="82"/>
                    </a:lnTo>
                    <a:lnTo>
                      <a:pt x="755" y="88"/>
                    </a:lnTo>
                    <a:lnTo>
                      <a:pt x="755" y="92"/>
                    </a:lnTo>
                    <a:lnTo>
                      <a:pt x="757" y="95"/>
                    </a:lnTo>
                    <a:lnTo>
                      <a:pt x="757" y="99"/>
                    </a:lnTo>
                    <a:lnTo>
                      <a:pt x="757" y="103"/>
                    </a:lnTo>
                    <a:lnTo>
                      <a:pt x="755" y="107"/>
                    </a:lnTo>
                    <a:lnTo>
                      <a:pt x="755" y="111"/>
                    </a:lnTo>
                    <a:lnTo>
                      <a:pt x="749" y="117"/>
                    </a:lnTo>
                    <a:lnTo>
                      <a:pt x="743" y="120"/>
                    </a:lnTo>
                    <a:lnTo>
                      <a:pt x="741" y="122"/>
                    </a:lnTo>
                    <a:lnTo>
                      <a:pt x="739" y="122"/>
                    </a:lnTo>
                    <a:lnTo>
                      <a:pt x="737" y="124"/>
                    </a:lnTo>
                    <a:lnTo>
                      <a:pt x="734" y="124"/>
                    </a:lnTo>
                    <a:lnTo>
                      <a:pt x="730" y="126"/>
                    </a:lnTo>
                    <a:lnTo>
                      <a:pt x="724" y="128"/>
                    </a:lnTo>
                    <a:lnTo>
                      <a:pt x="718" y="128"/>
                    </a:lnTo>
                    <a:lnTo>
                      <a:pt x="712" y="130"/>
                    </a:lnTo>
                    <a:lnTo>
                      <a:pt x="707" y="130"/>
                    </a:lnTo>
                    <a:lnTo>
                      <a:pt x="701" y="132"/>
                    </a:lnTo>
                    <a:lnTo>
                      <a:pt x="693" y="132"/>
                    </a:lnTo>
                    <a:lnTo>
                      <a:pt x="686" y="134"/>
                    </a:lnTo>
                    <a:lnTo>
                      <a:pt x="676" y="136"/>
                    </a:lnTo>
                    <a:lnTo>
                      <a:pt x="668" y="136"/>
                    </a:lnTo>
                    <a:lnTo>
                      <a:pt x="659" y="138"/>
                    </a:lnTo>
                    <a:lnTo>
                      <a:pt x="649" y="140"/>
                    </a:lnTo>
                    <a:lnTo>
                      <a:pt x="638" y="140"/>
                    </a:lnTo>
                    <a:lnTo>
                      <a:pt x="628" y="142"/>
                    </a:lnTo>
                    <a:lnTo>
                      <a:pt x="616" y="143"/>
                    </a:lnTo>
                    <a:lnTo>
                      <a:pt x="603" y="143"/>
                    </a:lnTo>
                    <a:lnTo>
                      <a:pt x="592" y="145"/>
                    </a:lnTo>
                    <a:lnTo>
                      <a:pt x="578" y="147"/>
                    </a:lnTo>
                    <a:lnTo>
                      <a:pt x="565" y="149"/>
                    </a:lnTo>
                    <a:lnTo>
                      <a:pt x="549" y="151"/>
                    </a:lnTo>
                    <a:lnTo>
                      <a:pt x="536" y="153"/>
                    </a:lnTo>
                    <a:lnTo>
                      <a:pt x="521" y="153"/>
                    </a:lnTo>
                    <a:lnTo>
                      <a:pt x="505" y="155"/>
                    </a:lnTo>
                    <a:lnTo>
                      <a:pt x="488" y="157"/>
                    </a:lnTo>
                    <a:lnTo>
                      <a:pt x="471" y="159"/>
                    </a:lnTo>
                    <a:lnTo>
                      <a:pt x="453" y="161"/>
                    </a:lnTo>
                    <a:lnTo>
                      <a:pt x="436" y="163"/>
                    </a:lnTo>
                    <a:lnTo>
                      <a:pt x="417" y="166"/>
                    </a:lnTo>
                    <a:lnTo>
                      <a:pt x="380" y="170"/>
                    </a:lnTo>
                    <a:lnTo>
                      <a:pt x="346" y="174"/>
                    </a:lnTo>
                    <a:lnTo>
                      <a:pt x="311" y="178"/>
                    </a:lnTo>
                    <a:lnTo>
                      <a:pt x="279" y="180"/>
                    </a:lnTo>
                    <a:lnTo>
                      <a:pt x="248" y="184"/>
                    </a:lnTo>
                    <a:lnTo>
                      <a:pt x="219" y="186"/>
                    </a:lnTo>
                    <a:lnTo>
                      <a:pt x="190" y="189"/>
                    </a:lnTo>
                    <a:lnTo>
                      <a:pt x="165" y="191"/>
                    </a:lnTo>
                    <a:lnTo>
                      <a:pt x="139" y="193"/>
                    </a:lnTo>
                    <a:lnTo>
                      <a:pt x="116" y="195"/>
                    </a:lnTo>
                    <a:lnTo>
                      <a:pt x="93" y="195"/>
                    </a:lnTo>
                    <a:lnTo>
                      <a:pt x="71" y="197"/>
                    </a:lnTo>
                    <a:lnTo>
                      <a:pt x="52" y="197"/>
                    </a:lnTo>
                    <a:lnTo>
                      <a:pt x="33" y="199"/>
                    </a:lnTo>
                    <a:lnTo>
                      <a:pt x="16" y="199"/>
                    </a:lnTo>
                    <a:lnTo>
                      <a:pt x="0" y="199"/>
                    </a:lnTo>
                    <a:lnTo>
                      <a:pt x="0" y="88"/>
                    </a:lnTo>
                    <a:lnTo>
                      <a:pt x="14" y="88"/>
                    </a:lnTo>
                    <a:lnTo>
                      <a:pt x="27" y="88"/>
                    </a:lnTo>
                    <a:lnTo>
                      <a:pt x="43" y="86"/>
                    </a:lnTo>
                    <a:lnTo>
                      <a:pt x="58" y="86"/>
                    </a:lnTo>
                    <a:lnTo>
                      <a:pt x="75" y="84"/>
                    </a:lnTo>
                    <a:lnTo>
                      <a:pt x="94" y="82"/>
                    </a:lnTo>
                    <a:lnTo>
                      <a:pt x="116" y="80"/>
                    </a:lnTo>
                    <a:lnTo>
                      <a:pt x="137" y="78"/>
                    </a:lnTo>
                    <a:lnTo>
                      <a:pt x="160" y="76"/>
                    </a:lnTo>
                    <a:lnTo>
                      <a:pt x="183" y="72"/>
                    </a:lnTo>
                    <a:lnTo>
                      <a:pt x="208" y="69"/>
                    </a:lnTo>
                    <a:lnTo>
                      <a:pt x="235" y="65"/>
                    </a:lnTo>
                    <a:lnTo>
                      <a:pt x="263" y="59"/>
                    </a:lnTo>
                    <a:lnTo>
                      <a:pt x="292" y="55"/>
                    </a:lnTo>
                    <a:lnTo>
                      <a:pt x="323" y="49"/>
                    </a:lnTo>
                    <a:lnTo>
                      <a:pt x="354" y="44"/>
                    </a:lnTo>
                    <a:lnTo>
                      <a:pt x="386" y="38"/>
                    </a:lnTo>
                    <a:lnTo>
                      <a:pt x="415" y="32"/>
                    </a:lnTo>
                    <a:lnTo>
                      <a:pt x="444" y="26"/>
                    </a:lnTo>
                    <a:lnTo>
                      <a:pt x="469" y="23"/>
                    </a:lnTo>
                    <a:lnTo>
                      <a:pt x="494" y="19"/>
                    </a:lnTo>
                    <a:lnTo>
                      <a:pt x="517" y="15"/>
                    </a:lnTo>
                    <a:lnTo>
                      <a:pt x="538" y="11"/>
                    </a:lnTo>
                    <a:lnTo>
                      <a:pt x="559" y="7"/>
                    </a:lnTo>
                    <a:lnTo>
                      <a:pt x="576" y="5"/>
                    </a:lnTo>
                    <a:lnTo>
                      <a:pt x="592" y="3"/>
                    </a:lnTo>
                    <a:lnTo>
                      <a:pt x="607" y="1"/>
                    </a:lnTo>
                    <a:lnTo>
                      <a:pt x="618" y="1"/>
                    </a:lnTo>
                    <a:lnTo>
                      <a:pt x="630" y="0"/>
                    </a:lnTo>
                    <a:lnTo>
                      <a:pt x="639" y="0"/>
                    </a:lnTo>
                    <a:lnTo>
                      <a:pt x="647" y="0"/>
                    </a:lnTo>
                    <a:lnTo>
                      <a:pt x="653" y="0"/>
                    </a:lnTo>
                    <a:lnTo>
                      <a:pt x="659" y="0"/>
                    </a:lnTo>
                    <a:lnTo>
                      <a:pt x="663" y="0"/>
                    </a:lnTo>
                    <a:lnTo>
                      <a:pt x="668" y="1"/>
                    </a:lnTo>
                    <a:lnTo>
                      <a:pt x="674" y="3"/>
                    </a:lnTo>
                    <a:lnTo>
                      <a:pt x="684" y="7"/>
                    </a:lnTo>
                    <a:lnTo>
                      <a:pt x="693" y="13"/>
                    </a:lnTo>
                    <a:lnTo>
                      <a:pt x="705" y="23"/>
                    </a:lnTo>
                    <a:lnTo>
                      <a:pt x="714" y="32"/>
                    </a:lnTo>
                    <a:lnTo>
                      <a:pt x="724" y="42"/>
                    </a:lnTo>
                    <a:lnTo>
                      <a:pt x="735" y="55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0" name="Freeform 61"/>
          <p:cNvSpPr/>
          <p:nvPr/>
        </p:nvSpPr>
        <p:spPr>
          <a:xfrm>
            <a:off x="2460600" y="2374920"/>
            <a:ext cx="758880" cy="222120"/>
          </a:xfrm>
          <a:custGeom>
            <a:avLst/>
            <a:gdLst>
              <a:gd name="textAreaLeft" fmla="*/ 0 w 758880"/>
              <a:gd name="textAreaRight" fmla="*/ 759240 w 758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5" h="281">
                <a:moveTo>
                  <a:pt x="798" y="2"/>
                </a:moveTo>
                <a:lnTo>
                  <a:pt x="809" y="0"/>
                </a:lnTo>
                <a:lnTo>
                  <a:pt x="821" y="0"/>
                </a:lnTo>
                <a:lnTo>
                  <a:pt x="832" y="0"/>
                </a:lnTo>
                <a:lnTo>
                  <a:pt x="842" y="0"/>
                </a:lnTo>
                <a:lnTo>
                  <a:pt x="852" y="2"/>
                </a:lnTo>
                <a:lnTo>
                  <a:pt x="861" y="4"/>
                </a:lnTo>
                <a:lnTo>
                  <a:pt x="871" y="6"/>
                </a:lnTo>
                <a:lnTo>
                  <a:pt x="880" y="10"/>
                </a:lnTo>
                <a:lnTo>
                  <a:pt x="888" y="14"/>
                </a:lnTo>
                <a:lnTo>
                  <a:pt x="896" y="18"/>
                </a:lnTo>
                <a:lnTo>
                  <a:pt x="903" y="23"/>
                </a:lnTo>
                <a:lnTo>
                  <a:pt x="911" y="29"/>
                </a:lnTo>
                <a:lnTo>
                  <a:pt x="917" y="37"/>
                </a:lnTo>
                <a:lnTo>
                  <a:pt x="923" y="43"/>
                </a:lnTo>
                <a:lnTo>
                  <a:pt x="928" y="50"/>
                </a:lnTo>
                <a:lnTo>
                  <a:pt x="934" y="58"/>
                </a:lnTo>
                <a:lnTo>
                  <a:pt x="938" y="68"/>
                </a:lnTo>
                <a:lnTo>
                  <a:pt x="944" y="75"/>
                </a:lnTo>
                <a:lnTo>
                  <a:pt x="946" y="81"/>
                </a:lnTo>
                <a:lnTo>
                  <a:pt x="950" y="89"/>
                </a:lnTo>
                <a:lnTo>
                  <a:pt x="951" y="94"/>
                </a:lnTo>
                <a:lnTo>
                  <a:pt x="953" y="100"/>
                </a:lnTo>
                <a:lnTo>
                  <a:pt x="955" y="106"/>
                </a:lnTo>
                <a:lnTo>
                  <a:pt x="955" y="110"/>
                </a:lnTo>
                <a:lnTo>
                  <a:pt x="955" y="115"/>
                </a:lnTo>
                <a:lnTo>
                  <a:pt x="955" y="119"/>
                </a:lnTo>
                <a:lnTo>
                  <a:pt x="955" y="123"/>
                </a:lnTo>
                <a:lnTo>
                  <a:pt x="953" y="125"/>
                </a:lnTo>
                <a:lnTo>
                  <a:pt x="950" y="133"/>
                </a:lnTo>
                <a:lnTo>
                  <a:pt x="944" y="137"/>
                </a:lnTo>
                <a:lnTo>
                  <a:pt x="942" y="139"/>
                </a:lnTo>
                <a:lnTo>
                  <a:pt x="938" y="139"/>
                </a:lnTo>
                <a:lnTo>
                  <a:pt x="936" y="140"/>
                </a:lnTo>
                <a:lnTo>
                  <a:pt x="932" y="140"/>
                </a:lnTo>
                <a:lnTo>
                  <a:pt x="927" y="142"/>
                </a:lnTo>
                <a:lnTo>
                  <a:pt x="921" y="144"/>
                </a:lnTo>
                <a:lnTo>
                  <a:pt x="915" y="146"/>
                </a:lnTo>
                <a:lnTo>
                  <a:pt x="909" y="148"/>
                </a:lnTo>
                <a:lnTo>
                  <a:pt x="902" y="148"/>
                </a:lnTo>
                <a:lnTo>
                  <a:pt x="894" y="150"/>
                </a:lnTo>
                <a:lnTo>
                  <a:pt x="886" y="152"/>
                </a:lnTo>
                <a:lnTo>
                  <a:pt x="877" y="154"/>
                </a:lnTo>
                <a:lnTo>
                  <a:pt x="867" y="156"/>
                </a:lnTo>
                <a:lnTo>
                  <a:pt x="855" y="158"/>
                </a:lnTo>
                <a:lnTo>
                  <a:pt x="846" y="160"/>
                </a:lnTo>
                <a:lnTo>
                  <a:pt x="832" y="163"/>
                </a:lnTo>
                <a:lnTo>
                  <a:pt x="821" y="165"/>
                </a:lnTo>
                <a:lnTo>
                  <a:pt x="808" y="167"/>
                </a:lnTo>
                <a:lnTo>
                  <a:pt x="794" y="169"/>
                </a:lnTo>
                <a:lnTo>
                  <a:pt x="779" y="173"/>
                </a:lnTo>
                <a:lnTo>
                  <a:pt x="763" y="175"/>
                </a:lnTo>
                <a:lnTo>
                  <a:pt x="748" y="179"/>
                </a:lnTo>
                <a:lnTo>
                  <a:pt x="733" y="181"/>
                </a:lnTo>
                <a:lnTo>
                  <a:pt x="715" y="185"/>
                </a:lnTo>
                <a:lnTo>
                  <a:pt x="696" y="188"/>
                </a:lnTo>
                <a:lnTo>
                  <a:pt x="679" y="192"/>
                </a:lnTo>
                <a:lnTo>
                  <a:pt x="660" y="194"/>
                </a:lnTo>
                <a:lnTo>
                  <a:pt x="639" y="198"/>
                </a:lnTo>
                <a:lnTo>
                  <a:pt x="619" y="202"/>
                </a:lnTo>
                <a:lnTo>
                  <a:pt x="598" y="206"/>
                </a:lnTo>
                <a:lnTo>
                  <a:pt x="575" y="210"/>
                </a:lnTo>
                <a:lnTo>
                  <a:pt x="554" y="215"/>
                </a:lnTo>
                <a:lnTo>
                  <a:pt x="531" y="219"/>
                </a:lnTo>
                <a:lnTo>
                  <a:pt x="508" y="223"/>
                </a:lnTo>
                <a:lnTo>
                  <a:pt x="487" y="227"/>
                </a:lnTo>
                <a:lnTo>
                  <a:pt x="466" y="231"/>
                </a:lnTo>
                <a:lnTo>
                  <a:pt x="447" y="234"/>
                </a:lnTo>
                <a:lnTo>
                  <a:pt x="428" y="238"/>
                </a:lnTo>
                <a:lnTo>
                  <a:pt x="408" y="240"/>
                </a:lnTo>
                <a:lnTo>
                  <a:pt x="391" y="244"/>
                </a:lnTo>
                <a:lnTo>
                  <a:pt x="372" y="248"/>
                </a:lnTo>
                <a:lnTo>
                  <a:pt x="357" y="250"/>
                </a:lnTo>
                <a:lnTo>
                  <a:pt x="339" y="254"/>
                </a:lnTo>
                <a:lnTo>
                  <a:pt x="324" y="256"/>
                </a:lnTo>
                <a:lnTo>
                  <a:pt x="309" y="258"/>
                </a:lnTo>
                <a:lnTo>
                  <a:pt x="295" y="261"/>
                </a:lnTo>
                <a:lnTo>
                  <a:pt x="282" y="263"/>
                </a:lnTo>
                <a:lnTo>
                  <a:pt x="268" y="265"/>
                </a:lnTo>
                <a:lnTo>
                  <a:pt x="255" y="267"/>
                </a:lnTo>
                <a:lnTo>
                  <a:pt x="243" y="269"/>
                </a:lnTo>
                <a:lnTo>
                  <a:pt x="232" y="271"/>
                </a:lnTo>
                <a:lnTo>
                  <a:pt x="222" y="273"/>
                </a:lnTo>
                <a:lnTo>
                  <a:pt x="213" y="273"/>
                </a:lnTo>
                <a:lnTo>
                  <a:pt x="203" y="275"/>
                </a:lnTo>
                <a:lnTo>
                  <a:pt x="193" y="277"/>
                </a:lnTo>
                <a:lnTo>
                  <a:pt x="186" y="277"/>
                </a:lnTo>
                <a:lnTo>
                  <a:pt x="178" y="279"/>
                </a:lnTo>
                <a:lnTo>
                  <a:pt x="172" y="279"/>
                </a:lnTo>
                <a:lnTo>
                  <a:pt x="167" y="281"/>
                </a:lnTo>
                <a:lnTo>
                  <a:pt x="161" y="281"/>
                </a:lnTo>
                <a:lnTo>
                  <a:pt x="155" y="281"/>
                </a:lnTo>
                <a:lnTo>
                  <a:pt x="151" y="281"/>
                </a:lnTo>
                <a:lnTo>
                  <a:pt x="149" y="281"/>
                </a:lnTo>
                <a:lnTo>
                  <a:pt x="145" y="281"/>
                </a:lnTo>
                <a:lnTo>
                  <a:pt x="134" y="281"/>
                </a:lnTo>
                <a:lnTo>
                  <a:pt x="124" y="279"/>
                </a:lnTo>
                <a:lnTo>
                  <a:pt x="111" y="277"/>
                </a:lnTo>
                <a:lnTo>
                  <a:pt x="99" y="273"/>
                </a:lnTo>
                <a:lnTo>
                  <a:pt x="88" y="269"/>
                </a:lnTo>
                <a:lnTo>
                  <a:pt x="76" y="263"/>
                </a:lnTo>
                <a:lnTo>
                  <a:pt x="65" y="256"/>
                </a:lnTo>
                <a:lnTo>
                  <a:pt x="55" y="248"/>
                </a:lnTo>
                <a:lnTo>
                  <a:pt x="42" y="240"/>
                </a:lnTo>
                <a:lnTo>
                  <a:pt x="30" y="233"/>
                </a:lnTo>
                <a:lnTo>
                  <a:pt x="21" y="227"/>
                </a:lnTo>
                <a:lnTo>
                  <a:pt x="15" y="221"/>
                </a:lnTo>
                <a:lnTo>
                  <a:pt x="7" y="217"/>
                </a:lnTo>
                <a:lnTo>
                  <a:pt x="3" y="211"/>
                </a:lnTo>
                <a:lnTo>
                  <a:pt x="2" y="208"/>
                </a:lnTo>
                <a:lnTo>
                  <a:pt x="0" y="204"/>
                </a:lnTo>
                <a:lnTo>
                  <a:pt x="2" y="202"/>
                </a:lnTo>
                <a:lnTo>
                  <a:pt x="3" y="200"/>
                </a:lnTo>
                <a:lnTo>
                  <a:pt x="5" y="198"/>
                </a:lnTo>
                <a:lnTo>
                  <a:pt x="11" y="194"/>
                </a:lnTo>
                <a:lnTo>
                  <a:pt x="17" y="192"/>
                </a:lnTo>
                <a:lnTo>
                  <a:pt x="23" y="190"/>
                </a:lnTo>
                <a:lnTo>
                  <a:pt x="32" y="188"/>
                </a:lnTo>
                <a:lnTo>
                  <a:pt x="42" y="185"/>
                </a:lnTo>
                <a:lnTo>
                  <a:pt x="51" y="183"/>
                </a:lnTo>
                <a:lnTo>
                  <a:pt x="65" y="181"/>
                </a:lnTo>
                <a:lnTo>
                  <a:pt x="78" y="177"/>
                </a:lnTo>
                <a:lnTo>
                  <a:pt x="92" y="173"/>
                </a:lnTo>
                <a:lnTo>
                  <a:pt x="109" y="171"/>
                </a:lnTo>
                <a:lnTo>
                  <a:pt x="124" y="167"/>
                </a:lnTo>
                <a:lnTo>
                  <a:pt x="144" y="163"/>
                </a:lnTo>
                <a:lnTo>
                  <a:pt x="163" y="160"/>
                </a:lnTo>
                <a:lnTo>
                  <a:pt x="205" y="150"/>
                </a:lnTo>
                <a:lnTo>
                  <a:pt x="247" y="140"/>
                </a:lnTo>
                <a:lnTo>
                  <a:pt x="289" y="129"/>
                </a:lnTo>
                <a:lnTo>
                  <a:pt x="334" y="119"/>
                </a:lnTo>
                <a:lnTo>
                  <a:pt x="378" y="108"/>
                </a:lnTo>
                <a:lnTo>
                  <a:pt x="424" y="94"/>
                </a:lnTo>
                <a:lnTo>
                  <a:pt x="470" y="83"/>
                </a:lnTo>
                <a:lnTo>
                  <a:pt x="518" y="69"/>
                </a:lnTo>
                <a:lnTo>
                  <a:pt x="541" y="64"/>
                </a:lnTo>
                <a:lnTo>
                  <a:pt x="564" y="58"/>
                </a:lnTo>
                <a:lnTo>
                  <a:pt x="585" y="52"/>
                </a:lnTo>
                <a:lnTo>
                  <a:pt x="606" y="46"/>
                </a:lnTo>
                <a:lnTo>
                  <a:pt x="625" y="43"/>
                </a:lnTo>
                <a:lnTo>
                  <a:pt x="644" y="37"/>
                </a:lnTo>
                <a:lnTo>
                  <a:pt x="664" y="33"/>
                </a:lnTo>
                <a:lnTo>
                  <a:pt x="681" y="27"/>
                </a:lnTo>
                <a:lnTo>
                  <a:pt x="698" y="23"/>
                </a:lnTo>
                <a:lnTo>
                  <a:pt x="715" y="20"/>
                </a:lnTo>
                <a:lnTo>
                  <a:pt x="731" y="18"/>
                </a:lnTo>
                <a:lnTo>
                  <a:pt x="746" y="14"/>
                </a:lnTo>
                <a:lnTo>
                  <a:pt x="760" y="10"/>
                </a:lnTo>
                <a:lnTo>
                  <a:pt x="773" y="8"/>
                </a:lnTo>
                <a:lnTo>
                  <a:pt x="786" y="6"/>
                </a:lnTo>
                <a:lnTo>
                  <a:pt x="798" y="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Freeform 62"/>
          <p:cNvSpPr/>
          <p:nvPr/>
        </p:nvSpPr>
        <p:spPr>
          <a:xfrm>
            <a:off x="2200320" y="2782800"/>
            <a:ext cx="1214280" cy="29376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30" h="370">
                <a:moveTo>
                  <a:pt x="394" y="322"/>
                </a:moveTo>
                <a:lnTo>
                  <a:pt x="369" y="328"/>
                </a:lnTo>
                <a:lnTo>
                  <a:pt x="348" y="336"/>
                </a:lnTo>
                <a:lnTo>
                  <a:pt x="327" y="339"/>
                </a:lnTo>
                <a:lnTo>
                  <a:pt x="307" y="345"/>
                </a:lnTo>
                <a:lnTo>
                  <a:pt x="290" y="351"/>
                </a:lnTo>
                <a:lnTo>
                  <a:pt x="273" y="355"/>
                </a:lnTo>
                <a:lnTo>
                  <a:pt x="258" y="359"/>
                </a:lnTo>
                <a:lnTo>
                  <a:pt x="242" y="362"/>
                </a:lnTo>
                <a:lnTo>
                  <a:pt x="231" y="364"/>
                </a:lnTo>
                <a:lnTo>
                  <a:pt x="219" y="366"/>
                </a:lnTo>
                <a:lnTo>
                  <a:pt x="208" y="368"/>
                </a:lnTo>
                <a:lnTo>
                  <a:pt x="198" y="370"/>
                </a:lnTo>
                <a:lnTo>
                  <a:pt x="190" y="370"/>
                </a:lnTo>
                <a:lnTo>
                  <a:pt x="185" y="370"/>
                </a:lnTo>
                <a:lnTo>
                  <a:pt x="179" y="368"/>
                </a:lnTo>
                <a:lnTo>
                  <a:pt x="175" y="366"/>
                </a:lnTo>
                <a:lnTo>
                  <a:pt x="165" y="366"/>
                </a:lnTo>
                <a:lnTo>
                  <a:pt x="154" y="364"/>
                </a:lnTo>
                <a:lnTo>
                  <a:pt x="144" y="362"/>
                </a:lnTo>
                <a:lnTo>
                  <a:pt x="133" y="359"/>
                </a:lnTo>
                <a:lnTo>
                  <a:pt x="119" y="355"/>
                </a:lnTo>
                <a:lnTo>
                  <a:pt x="106" y="349"/>
                </a:lnTo>
                <a:lnTo>
                  <a:pt x="93" y="341"/>
                </a:lnTo>
                <a:lnTo>
                  <a:pt x="75" y="334"/>
                </a:lnTo>
                <a:lnTo>
                  <a:pt x="68" y="330"/>
                </a:lnTo>
                <a:lnTo>
                  <a:pt x="60" y="326"/>
                </a:lnTo>
                <a:lnTo>
                  <a:pt x="52" y="320"/>
                </a:lnTo>
                <a:lnTo>
                  <a:pt x="46" y="316"/>
                </a:lnTo>
                <a:lnTo>
                  <a:pt x="41" y="312"/>
                </a:lnTo>
                <a:lnTo>
                  <a:pt x="35" y="309"/>
                </a:lnTo>
                <a:lnTo>
                  <a:pt x="25" y="301"/>
                </a:lnTo>
                <a:lnTo>
                  <a:pt x="18" y="291"/>
                </a:lnTo>
                <a:lnTo>
                  <a:pt x="12" y="284"/>
                </a:lnTo>
                <a:lnTo>
                  <a:pt x="6" y="276"/>
                </a:lnTo>
                <a:lnTo>
                  <a:pt x="2" y="266"/>
                </a:lnTo>
                <a:lnTo>
                  <a:pt x="2" y="263"/>
                </a:lnTo>
                <a:lnTo>
                  <a:pt x="0" y="259"/>
                </a:lnTo>
                <a:lnTo>
                  <a:pt x="2" y="255"/>
                </a:lnTo>
                <a:lnTo>
                  <a:pt x="2" y="253"/>
                </a:lnTo>
                <a:lnTo>
                  <a:pt x="4" y="249"/>
                </a:lnTo>
                <a:lnTo>
                  <a:pt x="8" y="247"/>
                </a:lnTo>
                <a:lnTo>
                  <a:pt x="12" y="243"/>
                </a:lnTo>
                <a:lnTo>
                  <a:pt x="16" y="241"/>
                </a:lnTo>
                <a:lnTo>
                  <a:pt x="22" y="240"/>
                </a:lnTo>
                <a:lnTo>
                  <a:pt x="29" y="238"/>
                </a:lnTo>
                <a:lnTo>
                  <a:pt x="35" y="238"/>
                </a:lnTo>
                <a:lnTo>
                  <a:pt x="45" y="236"/>
                </a:lnTo>
                <a:lnTo>
                  <a:pt x="52" y="236"/>
                </a:lnTo>
                <a:lnTo>
                  <a:pt x="62" y="234"/>
                </a:lnTo>
                <a:lnTo>
                  <a:pt x="73" y="234"/>
                </a:lnTo>
                <a:lnTo>
                  <a:pt x="85" y="234"/>
                </a:lnTo>
                <a:lnTo>
                  <a:pt x="96" y="234"/>
                </a:lnTo>
                <a:lnTo>
                  <a:pt x="110" y="234"/>
                </a:lnTo>
                <a:lnTo>
                  <a:pt x="125" y="232"/>
                </a:lnTo>
                <a:lnTo>
                  <a:pt x="141" y="232"/>
                </a:lnTo>
                <a:lnTo>
                  <a:pt x="158" y="230"/>
                </a:lnTo>
                <a:lnTo>
                  <a:pt x="175" y="228"/>
                </a:lnTo>
                <a:lnTo>
                  <a:pt x="194" y="226"/>
                </a:lnTo>
                <a:lnTo>
                  <a:pt x="215" y="224"/>
                </a:lnTo>
                <a:lnTo>
                  <a:pt x="236" y="220"/>
                </a:lnTo>
                <a:lnTo>
                  <a:pt x="260" y="218"/>
                </a:lnTo>
                <a:lnTo>
                  <a:pt x="283" y="215"/>
                </a:lnTo>
                <a:lnTo>
                  <a:pt x="307" y="211"/>
                </a:lnTo>
                <a:lnTo>
                  <a:pt x="334" y="205"/>
                </a:lnTo>
                <a:lnTo>
                  <a:pt x="361" y="201"/>
                </a:lnTo>
                <a:lnTo>
                  <a:pt x="390" y="195"/>
                </a:lnTo>
                <a:lnTo>
                  <a:pt x="421" y="190"/>
                </a:lnTo>
                <a:lnTo>
                  <a:pt x="482" y="176"/>
                </a:lnTo>
                <a:lnTo>
                  <a:pt x="545" y="163"/>
                </a:lnTo>
                <a:lnTo>
                  <a:pt x="611" y="149"/>
                </a:lnTo>
                <a:lnTo>
                  <a:pt x="678" y="136"/>
                </a:lnTo>
                <a:lnTo>
                  <a:pt x="745" y="121"/>
                </a:lnTo>
                <a:lnTo>
                  <a:pt x="814" y="105"/>
                </a:lnTo>
                <a:lnTo>
                  <a:pt x="849" y="96"/>
                </a:lnTo>
                <a:lnTo>
                  <a:pt x="883" y="86"/>
                </a:lnTo>
                <a:lnTo>
                  <a:pt x="920" y="76"/>
                </a:lnTo>
                <a:lnTo>
                  <a:pt x="954" y="67"/>
                </a:lnTo>
                <a:lnTo>
                  <a:pt x="991" y="59"/>
                </a:lnTo>
                <a:lnTo>
                  <a:pt x="1023" y="51"/>
                </a:lnTo>
                <a:lnTo>
                  <a:pt x="1054" y="44"/>
                </a:lnTo>
                <a:lnTo>
                  <a:pt x="1085" y="36"/>
                </a:lnTo>
                <a:lnTo>
                  <a:pt x="1112" y="30"/>
                </a:lnTo>
                <a:lnTo>
                  <a:pt x="1138" y="27"/>
                </a:lnTo>
                <a:lnTo>
                  <a:pt x="1163" y="21"/>
                </a:lnTo>
                <a:lnTo>
                  <a:pt x="1186" y="17"/>
                </a:lnTo>
                <a:lnTo>
                  <a:pt x="1208" y="13"/>
                </a:lnTo>
                <a:lnTo>
                  <a:pt x="1227" y="9"/>
                </a:lnTo>
                <a:lnTo>
                  <a:pt x="1244" y="5"/>
                </a:lnTo>
                <a:lnTo>
                  <a:pt x="1261" y="4"/>
                </a:lnTo>
                <a:lnTo>
                  <a:pt x="1275" y="2"/>
                </a:lnTo>
                <a:lnTo>
                  <a:pt x="1288" y="2"/>
                </a:lnTo>
                <a:lnTo>
                  <a:pt x="1300" y="0"/>
                </a:lnTo>
                <a:lnTo>
                  <a:pt x="1309" y="0"/>
                </a:lnTo>
                <a:lnTo>
                  <a:pt x="1323" y="0"/>
                </a:lnTo>
                <a:lnTo>
                  <a:pt x="1336" y="2"/>
                </a:lnTo>
                <a:lnTo>
                  <a:pt x="1350" y="5"/>
                </a:lnTo>
                <a:lnTo>
                  <a:pt x="1365" y="7"/>
                </a:lnTo>
                <a:lnTo>
                  <a:pt x="1378" y="13"/>
                </a:lnTo>
                <a:lnTo>
                  <a:pt x="1394" y="19"/>
                </a:lnTo>
                <a:lnTo>
                  <a:pt x="1409" y="25"/>
                </a:lnTo>
                <a:lnTo>
                  <a:pt x="1426" y="34"/>
                </a:lnTo>
                <a:lnTo>
                  <a:pt x="1440" y="42"/>
                </a:lnTo>
                <a:lnTo>
                  <a:pt x="1451" y="50"/>
                </a:lnTo>
                <a:lnTo>
                  <a:pt x="1463" y="59"/>
                </a:lnTo>
                <a:lnTo>
                  <a:pt x="1474" y="67"/>
                </a:lnTo>
                <a:lnTo>
                  <a:pt x="1484" y="75"/>
                </a:lnTo>
                <a:lnTo>
                  <a:pt x="1493" y="84"/>
                </a:lnTo>
                <a:lnTo>
                  <a:pt x="1501" y="92"/>
                </a:lnTo>
                <a:lnTo>
                  <a:pt x="1509" y="99"/>
                </a:lnTo>
                <a:lnTo>
                  <a:pt x="1511" y="105"/>
                </a:lnTo>
                <a:lnTo>
                  <a:pt x="1515" y="111"/>
                </a:lnTo>
                <a:lnTo>
                  <a:pt x="1520" y="121"/>
                </a:lnTo>
                <a:lnTo>
                  <a:pt x="1524" y="130"/>
                </a:lnTo>
                <a:lnTo>
                  <a:pt x="1528" y="136"/>
                </a:lnTo>
                <a:lnTo>
                  <a:pt x="1530" y="142"/>
                </a:lnTo>
                <a:lnTo>
                  <a:pt x="1530" y="147"/>
                </a:lnTo>
                <a:lnTo>
                  <a:pt x="1528" y="151"/>
                </a:lnTo>
                <a:lnTo>
                  <a:pt x="1526" y="155"/>
                </a:lnTo>
                <a:lnTo>
                  <a:pt x="1524" y="157"/>
                </a:lnTo>
                <a:lnTo>
                  <a:pt x="1520" y="159"/>
                </a:lnTo>
                <a:lnTo>
                  <a:pt x="1513" y="163"/>
                </a:lnTo>
                <a:lnTo>
                  <a:pt x="1507" y="165"/>
                </a:lnTo>
                <a:lnTo>
                  <a:pt x="1497" y="167"/>
                </a:lnTo>
                <a:lnTo>
                  <a:pt x="1486" y="169"/>
                </a:lnTo>
                <a:lnTo>
                  <a:pt x="1474" y="169"/>
                </a:lnTo>
                <a:lnTo>
                  <a:pt x="1459" y="170"/>
                </a:lnTo>
                <a:lnTo>
                  <a:pt x="1444" y="172"/>
                </a:lnTo>
                <a:lnTo>
                  <a:pt x="1426" y="174"/>
                </a:lnTo>
                <a:lnTo>
                  <a:pt x="1407" y="174"/>
                </a:lnTo>
                <a:lnTo>
                  <a:pt x="1388" y="176"/>
                </a:lnTo>
                <a:lnTo>
                  <a:pt x="1365" y="176"/>
                </a:lnTo>
                <a:lnTo>
                  <a:pt x="1342" y="178"/>
                </a:lnTo>
                <a:lnTo>
                  <a:pt x="1317" y="178"/>
                </a:lnTo>
                <a:lnTo>
                  <a:pt x="1290" y="178"/>
                </a:lnTo>
                <a:lnTo>
                  <a:pt x="1236" y="178"/>
                </a:lnTo>
                <a:lnTo>
                  <a:pt x="1181" y="180"/>
                </a:lnTo>
                <a:lnTo>
                  <a:pt x="1123" y="184"/>
                </a:lnTo>
                <a:lnTo>
                  <a:pt x="1066" y="188"/>
                </a:lnTo>
                <a:lnTo>
                  <a:pt x="1008" y="193"/>
                </a:lnTo>
                <a:lnTo>
                  <a:pt x="948" y="201"/>
                </a:lnTo>
                <a:lnTo>
                  <a:pt x="920" y="205"/>
                </a:lnTo>
                <a:lnTo>
                  <a:pt x="889" y="211"/>
                </a:lnTo>
                <a:lnTo>
                  <a:pt x="858" y="217"/>
                </a:lnTo>
                <a:lnTo>
                  <a:pt x="828" y="222"/>
                </a:lnTo>
                <a:lnTo>
                  <a:pt x="768" y="236"/>
                </a:lnTo>
                <a:lnTo>
                  <a:pt x="709" y="247"/>
                </a:lnTo>
                <a:lnTo>
                  <a:pt x="653" y="261"/>
                </a:lnTo>
                <a:lnTo>
                  <a:pt x="597" y="272"/>
                </a:lnTo>
                <a:lnTo>
                  <a:pt x="544" y="286"/>
                </a:lnTo>
                <a:lnTo>
                  <a:pt x="492" y="297"/>
                </a:lnTo>
                <a:lnTo>
                  <a:pt x="442" y="311"/>
                </a:lnTo>
                <a:lnTo>
                  <a:pt x="394" y="32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Freeform 63"/>
          <p:cNvSpPr/>
          <p:nvPr/>
        </p:nvSpPr>
        <p:spPr>
          <a:xfrm>
            <a:off x="1994040" y="2517840"/>
            <a:ext cx="857160" cy="1339920"/>
          </a:xfrm>
          <a:custGeom>
            <a:avLst/>
            <a:gdLst>
              <a:gd name="textAreaLeft" fmla="*/ 0 w 857160"/>
              <a:gd name="textAreaRight" fmla="*/ 857520 w 85716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081" h="1689">
                <a:moveTo>
                  <a:pt x="173" y="1614"/>
                </a:moveTo>
                <a:lnTo>
                  <a:pt x="154" y="1625"/>
                </a:lnTo>
                <a:lnTo>
                  <a:pt x="135" y="1637"/>
                </a:lnTo>
                <a:lnTo>
                  <a:pt x="117" y="1646"/>
                </a:lnTo>
                <a:lnTo>
                  <a:pt x="102" y="1656"/>
                </a:lnTo>
                <a:lnTo>
                  <a:pt x="87" y="1664"/>
                </a:lnTo>
                <a:lnTo>
                  <a:pt x="73" y="1669"/>
                </a:lnTo>
                <a:lnTo>
                  <a:pt x="62" y="1675"/>
                </a:lnTo>
                <a:lnTo>
                  <a:pt x="50" y="1681"/>
                </a:lnTo>
                <a:lnTo>
                  <a:pt x="39" y="1685"/>
                </a:lnTo>
                <a:lnTo>
                  <a:pt x="31" y="1687"/>
                </a:lnTo>
                <a:lnTo>
                  <a:pt x="23" y="1689"/>
                </a:lnTo>
                <a:lnTo>
                  <a:pt x="16" y="1689"/>
                </a:lnTo>
                <a:lnTo>
                  <a:pt x="10" y="1689"/>
                </a:lnTo>
                <a:lnTo>
                  <a:pt x="6" y="1687"/>
                </a:lnTo>
                <a:lnTo>
                  <a:pt x="2" y="1683"/>
                </a:lnTo>
                <a:lnTo>
                  <a:pt x="0" y="1681"/>
                </a:lnTo>
                <a:lnTo>
                  <a:pt x="0" y="1677"/>
                </a:lnTo>
                <a:lnTo>
                  <a:pt x="0" y="1673"/>
                </a:lnTo>
                <a:lnTo>
                  <a:pt x="2" y="1669"/>
                </a:lnTo>
                <a:lnTo>
                  <a:pt x="6" y="1664"/>
                </a:lnTo>
                <a:lnTo>
                  <a:pt x="12" y="1656"/>
                </a:lnTo>
                <a:lnTo>
                  <a:pt x="18" y="1648"/>
                </a:lnTo>
                <a:lnTo>
                  <a:pt x="25" y="1641"/>
                </a:lnTo>
                <a:lnTo>
                  <a:pt x="35" y="1631"/>
                </a:lnTo>
                <a:lnTo>
                  <a:pt x="46" y="1619"/>
                </a:lnTo>
                <a:lnTo>
                  <a:pt x="58" y="1608"/>
                </a:lnTo>
                <a:lnTo>
                  <a:pt x="73" y="1594"/>
                </a:lnTo>
                <a:lnTo>
                  <a:pt x="89" y="1581"/>
                </a:lnTo>
                <a:lnTo>
                  <a:pt x="104" y="1566"/>
                </a:lnTo>
                <a:lnTo>
                  <a:pt x="123" y="1548"/>
                </a:lnTo>
                <a:lnTo>
                  <a:pt x="142" y="1531"/>
                </a:lnTo>
                <a:lnTo>
                  <a:pt x="164" y="1514"/>
                </a:lnTo>
                <a:lnTo>
                  <a:pt x="187" y="1495"/>
                </a:lnTo>
                <a:lnTo>
                  <a:pt x="210" y="1474"/>
                </a:lnTo>
                <a:lnTo>
                  <a:pt x="231" y="1452"/>
                </a:lnTo>
                <a:lnTo>
                  <a:pt x="254" y="1431"/>
                </a:lnTo>
                <a:lnTo>
                  <a:pt x="277" y="1408"/>
                </a:lnTo>
                <a:lnTo>
                  <a:pt x="300" y="1385"/>
                </a:lnTo>
                <a:lnTo>
                  <a:pt x="323" y="1362"/>
                </a:lnTo>
                <a:lnTo>
                  <a:pt x="346" y="1337"/>
                </a:lnTo>
                <a:lnTo>
                  <a:pt x="369" y="1312"/>
                </a:lnTo>
                <a:lnTo>
                  <a:pt x="392" y="1286"/>
                </a:lnTo>
                <a:lnTo>
                  <a:pt x="415" y="1259"/>
                </a:lnTo>
                <a:lnTo>
                  <a:pt x="438" y="1232"/>
                </a:lnTo>
                <a:lnTo>
                  <a:pt x="461" y="1203"/>
                </a:lnTo>
                <a:lnTo>
                  <a:pt x="482" y="1174"/>
                </a:lnTo>
                <a:lnTo>
                  <a:pt x="505" y="1144"/>
                </a:lnTo>
                <a:lnTo>
                  <a:pt x="526" y="1113"/>
                </a:lnTo>
                <a:lnTo>
                  <a:pt x="570" y="1049"/>
                </a:lnTo>
                <a:lnTo>
                  <a:pt x="611" y="984"/>
                </a:lnTo>
                <a:lnTo>
                  <a:pt x="632" y="952"/>
                </a:lnTo>
                <a:lnTo>
                  <a:pt x="651" y="919"/>
                </a:lnTo>
                <a:lnTo>
                  <a:pt x="670" y="886"/>
                </a:lnTo>
                <a:lnTo>
                  <a:pt x="687" y="854"/>
                </a:lnTo>
                <a:lnTo>
                  <a:pt x="705" y="821"/>
                </a:lnTo>
                <a:lnTo>
                  <a:pt x="722" y="787"/>
                </a:lnTo>
                <a:lnTo>
                  <a:pt x="739" y="752"/>
                </a:lnTo>
                <a:lnTo>
                  <a:pt x="755" y="717"/>
                </a:lnTo>
                <a:lnTo>
                  <a:pt x="768" y="683"/>
                </a:lnTo>
                <a:lnTo>
                  <a:pt x="783" y="648"/>
                </a:lnTo>
                <a:lnTo>
                  <a:pt x="795" y="614"/>
                </a:lnTo>
                <a:lnTo>
                  <a:pt x="808" y="579"/>
                </a:lnTo>
                <a:lnTo>
                  <a:pt x="831" y="512"/>
                </a:lnTo>
                <a:lnTo>
                  <a:pt x="841" y="478"/>
                </a:lnTo>
                <a:lnTo>
                  <a:pt x="851" y="443"/>
                </a:lnTo>
                <a:lnTo>
                  <a:pt x="860" y="409"/>
                </a:lnTo>
                <a:lnTo>
                  <a:pt x="870" y="372"/>
                </a:lnTo>
                <a:lnTo>
                  <a:pt x="879" y="338"/>
                </a:lnTo>
                <a:lnTo>
                  <a:pt x="887" y="301"/>
                </a:lnTo>
                <a:lnTo>
                  <a:pt x="895" y="266"/>
                </a:lnTo>
                <a:lnTo>
                  <a:pt x="900" y="230"/>
                </a:lnTo>
                <a:lnTo>
                  <a:pt x="906" y="192"/>
                </a:lnTo>
                <a:lnTo>
                  <a:pt x="912" y="155"/>
                </a:lnTo>
                <a:lnTo>
                  <a:pt x="918" y="117"/>
                </a:lnTo>
                <a:lnTo>
                  <a:pt x="922" y="78"/>
                </a:lnTo>
                <a:lnTo>
                  <a:pt x="924" y="40"/>
                </a:lnTo>
                <a:lnTo>
                  <a:pt x="925" y="0"/>
                </a:lnTo>
                <a:lnTo>
                  <a:pt x="945" y="15"/>
                </a:lnTo>
                <a:lnTo>
                  <a:pt x="960" y="29"/>
                </a:lnTo>
                <a:lnTo>
                  <a:pt x="975" y="42"/>
                </a:lnTo>
                <a:lnTo>
                  <a:pt x="991" y="55"/>
                </a:lnTo>
                <a:lnTo>
                  <a:pt x="1004" y="67"/>
                </a:lnTo>
                <a:lnTo>
                  <a:pt x="1016" y="78"/>
                </a:lnTo>
                <a:lnTo>
                  <a:pt x="1027" y="90"/>
                </a:lnTo>
                <a:lnTo>
                  <a:pt x="1037" y="101"/>
                </a:lnTo>
                <a:lnTo>
                  <a:pt x="1046" y="111"/>
                </a:lnTo>
                <a:lnTo>
                  <a:pt x="1054" y="121"/>
                </a:lnTo>
                <a:lnTo>
                  <a:pt x="1060" y="130"/>
                </a:lnTo>
                <a:lnTo>
                  <a:pt x="1066" y="138"/>
                </a:lnTo>
                <a:lnTo>
                  <a:pt x="1071" y="146"/>
                </a:lnTo>
                <a:lnTo>
                  <a:pt x="1075" y="153"/>
                </a:lnTo>
                <a:lnTo>
                  <a:pt x="1077" y="161"/>
                </a:lnTo>
                <a:lnTo>
                  <a:pt x="1081" y="167"/>
                </a:lnTo>
                <a:lnTo>
                  <a:pt x="1079" y="174"/>
                </a:lnTo>
                <a:lnTo>
                  <a:pt x="1079" y="180"/>
                </a:lnTo>
                <a:lnTo>
                  <a:pt x="1079" y="188"/>
                </a:lnTo>
                <a:lnTo>
                  <a:pt x="1079" y="197"/>
                </a:lnTo>
                <a:lnTo>
                  <a:pt x="1077" y="205"/>
                </a:lnTo>
                <a:lnTo>
                  <a:pt x="1075" y="215"/>
                </a:lnTo>
                <a:lnTo>
                  <a:pt x="1073" y="226"/>
                </a:lnTo>
                <a:lnTo>
                  <a:pt x="1071" y="236"/>
                </a:lnTo>
                <a:lnTo>
                  <a:pt x="1069" y="249"/>
                </a:lnTo>
                <a:lnTo>
                  <a:pt x="1067" y="261"/>
                </a:lnTo>
                <a:lnTo>
                  <a:pt x="1064" y="274"/>
                </a:lnTo>
                <a:lnTo>
                  <a:pt x="1060" y="290"/>
                </a:lnTo>
                <a:lnTo>
                  <a:pt x="1058" y="305"/>
                </a:lnTo>
                <a:lnTo>
                  <a:pt x="1052" y="320"/>
                </a:lnTo>
                <a:lnTo>
                  <a:pt x="1048" y="338"/>
                </a:lnTo>
                <a:lnTo>
                  <a:pt x="1044" y="357"/>
                </a:lnTo>
                <a:lnTo>
                  <a:pt x="1039" y="376"/>
                </a:lnTo>
                <a:lnTo>
                  <a:pt x="1031" y="397"/>
                </a:lnTo>
                <a:lnTo>
                  <a:pt x="1025" y="418"/>
                </a:lnTo>
                <a:lnTo>
                  <a:pt x="1018" y="441"/>
                </a:lnTo>
                <a:lnTo>
                  <a:pt x="1008" y="466"/>
                </a:lnTo>
                <a:lnTo>
                  <a:pt x="998" y="491"/>
                </a:lnTo>
                <a:lnTo>
                  <a:pt x="987" y="518"/>
                </a:lnTo>
                <a:lnTo>
                  <a:pt x="977" y="545"/>
                </a:lnTo>
                <a:lnTo>
                  <a:pt x="964" y="574"/>
                </a:lnTo>
                <a:lnTo>
                  <a:pt x="952" y="604"/>
                </a:lnTo>
                <a:lnTo>
                  <a:pt x="939" y="633"/>
                </a:lnTo>
                <a:lnTo>
                  <a:pt x="925" y="666"/>
                </a:lnTo>
                <a:lnTo>
                  <a:pt x="910" y="698"/>
                </a:lnTo>
                <a:lnTo>
                  <a:pt x="895" y="731"/>
                </a:lnTo>
                <a:lnTo>
                  <a:pt x="879" y="765"/>
                </a:lnTo>
                <a:lnTo>
                  <a:pt x="862" y="802"/>
                </a:lnTo>
                <a:lnTo>
                  <a:pt x="843" y="838"/>
                </a:lnTo>
                <a:lnTo>
                  <a:pt x="826" y="875"/>
                </a:lnTo>
                <a:lnTo>
                  <a:pt x="806" y="911"/>
                </a:lnTo>
                <a:lnTo>
                  <a:pt x="787" y="946"/>
                </a:lnTo>
                <a:lnTo>
                  <a:pt x="766" y="978"/>
                </a:lnTo>
                <a:lnTo>
                  <a:pt x="747" y="1013"/>
                </a:lnTo>
                <a:lnTo>
                  <a:pt x="726" y="1046"/>
                </a:lnTo>
                <a:lnTo>
                  <a:pt x="707" y="1076"/>
                </a:lnTo>
                <a:lnTo>
                  <a:pt x="686" y="1107"/>
                </a:lnTo>
                <a:lnTo>
                  <a:pt x="664" y="1138"/>
                </a:lnTo>
                <a:lnTo>
                  <a:pt x="643" y="1167"/>
                </a:lnTo>
                <a:lnTo>
                  <a:pt x="622" y="1195"/>
                </a:lnTo>
                <a:lnTo>
                  <a:pt x="601" y="1222"/>
                </a:lnTo>
                <a:lnTo>
                  <a:pt x="580" y="1249"/>
                </a:lnTo>
                <a:lnTo>
                  <a:pt x="557" y="1276"/>
                </a:lnTo>
                <a:lnTo>
                  <a:pt x="536" y="1303"/>
                </a:lnTo>
                <a:lnTo>
                  <a:pt x="513" y="1328"/>
                </a:lnTo>
                <a:lnTo>
                  <a:pt x="490" y="1355"/>
                </a:lnTo>
                <a:lnTo>
                  <a:pt x="467" y="1380"/>
                </a:lnTo>
                <a:lnTo>
                  <a:pt x="444" y="1403"/>
                </a:lnTo>
                <a:lnTo>
                  <a:pt x="421" y="1426"/>
                </a:lnTo>
                <a:lnTo>
                  <a:pt x="398" y="1447"/>
                </a:lnTo>
                <a:lnTo>
                  <a:pt x="375" y="1468"/>
                </a:lnTo>
                <a:lnTo>
                  <a:pt x="352" y="1487"/>
                </a:lnTo>
                <a:lnTo>
                  <a:pt x="329" y="1506"/>
                </a:lnTo>
                <a:lnTo>
                  <a:pt x="306" y="1523"/>
                </a:lnTo>
                <a:lnTo>
                  <a:pt x="284" y="1541"/>
                </a:lnTo>
                <a:lnTo>
                  <a:pt x="261" y="1556"/>
                </a:lnTo>
                <a:lnTo>
                  <a:pt x="240" y="1571"/>
                </a:lnTo>
                <a:lnTo>
                  <a:pt x="217" y="1587"/>
                </a:lnTo>
                <a:lnTo>
                  <a:pt x="194" y="1600"/>
                </a:lnTo>
                <a:lnTo>
                  <a:pt x="173" y="161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Freeform 64"/>
          <p:cNvSpPr/>
          <p:nvPr/>
        </p:nvSpPr>
        <p:spPr>
          <a:xfrm>
            <a:off x="2473200" y="3498840"/>
            <a:ext cx="157320" cy="689040"/>
          </a:xfrm>
          <a:custGeom>
            <a:avLst/>
            <a:gdLst>
              <a:gd name="textAreaLeft" fmla="*/ 0 w 157320"/>
              <a:gd name="textAreaRight" fmla="*/ 157320 w 157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98" h="867">
                <a:moveTo>
                  <a:pt x="13" y="88"/>
                </a:moveTo>
                <a:lnTo>
                  <a:pt x="10" y="78"/>
                </a:lnTo>
                <a:lnTo>
                  <a:pt x="6" y="69"/>
                </a:lnTo>
                <a:lnTo>
                  <a:pt x="4" y="59"/>
                </a:lnTo>
                <a:lnTo>
                  <a:pt x="2" y="51"/>
                </a:lnTo>
                <a:lnTo>
                  <a:pt x="2" y="46"/>
                </a:lnTo>
                <a:lnTo>
                  <a:pt x="0" y="38"/>
                </a:lnTo>
                <a:lnTo>
                  <a:pt x="0" y="32"/>
                </a:lnTo>
                <a:lnTo>
                  <a:pt x="0" y="26"/>
                </a:lnTo>
                <a:lnTo>
                  <a:pt x="0" y="23"/>
                </a:lnTo>
                <a:lnTo>
                  <a:pt x="0" y="17"/>
                </a:lnTo>
                <a:lnTo>
                  <a:pt x="2" y="9"/>
                </a:lnTo>
                <a:lnTo>
                  <a:pt x="6" y="3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7" y="0"/>
                </a:lnTo>
                <a:lnTo>
                  <a:pt x="33" y="2"/>
                </a:lnTo>
                <a:lnTo>
                  <a:pt x="40" y="2"/>
                </a:lnTo>
                <a:lnTo>
                  <a:pt x="48" y="3"/>
                </a:lnTo>
                <a:lnTo>
                  <a:pt x="56" y="5"/>
                </a:lnTo>
                <a:lnTo>
                  <a:pt x="65" y="9"/>
                </a:lnTo>
                <a:lnTo>
                  <a:pt x="77" y="11"/>
                </a:lnTo>
                <a:lnTo>
                  <a:pt x="86" y="15"/>
                </a:lnTo>
                <a:lnTo>
                  <a:pt x="98" y="19"/>
                </a:lnTo>
                <a:lnTo>
                  <a:pt x="111" y="23"/>
                </a:lnTo>
                <a:lnTo>
                  <a:pt x="125" y="26"/>
                </a:lnTo>
                <a:lnTo>
                  <a:pt x="138" y="32"/>
                </a:lnTo>
                <a:lnTo>
                  <a:pt x="152" y="38"/>
                </a:lnTo>
                <a:lnTo>
                  <a:pt x="167" y="44"/>
                </a:lnTo>
                <a:lnTo>
                  <a:pt x="169" y="94"/>
                </a:lnTo>
                <a:lnTo>
                  <a:pt x="171" y="140"/>
                </a:lnTo>
                <a:lnTo>
                  <a:pt x="175" y="186"/>
                </a:lnTo>
                <a:lnTo>
                  <a:pt x="176" y="232"/>
                </a:lnTo>
                <a:lnTo>
                  <a:pt x="178" y="274"/>
                </a:lnTo>
                <a:lnTo>
                  <a:pt x="180" y="316"/>
                </a:lnTo>
                <a:lnTo>
                  <a:pt x="182" y="357"/>
                </a:lnTo>
                <a:lnTo>
                  <a:pt x="184" y="395"/>
                </a:lnTo>
                <a:lnTo>
                  <a:pt x="184" y="431"/>
                </a:lnTo>
                <a:lnTo>
                  <a:pt x="186" y="466"/>
                </a:lnTo>
                <a:lnTo>
                  <a:pt x="188" y="501"/>
                </a:lnTo>
                <a:lnTo>
                  <a:pt x="190" y="533"/>
                </a:lnTo>
                <a:lnTo>
                  <a:pt x="190" y="564"/>
                </a:lnTo>
                <a:lnTo>
                  <a:pt x="192" y="593"/>
                </a:lnTo>
                <a:lnTo>
                  <a:pt x="192" y="619"/>
                </a:lnTo>
                <a:lnTo>
                  <a:pt x="194" y="646"/>
                </a:lnTo>
                <a:lnTo>
                  <a:pt x="194" y="669"/>
                </a:lnTo>
                <a:lnTo>
                  <a:pt x="196" y="692"/>
                </a:lnTo>
                <a:lnTo>
                  <a:pt x="196" y="715"/>
                </a:lnTo>
                <a:lnTo>
                  <a:pt x="196" y="735"/>
                </a:lnTo>
                <a:lnTo>
                  <a:pt x="196" y="754"/>
                </a:lnTo>
                <a:lnTo>
                  <a:pt x="198" y="769"/>
                </a:lnTo>
                <a:lnTo>
                  <a:pt x="198" y="785"/>
                </a:lnTo>
                <a:lnTo>
                  <a:pt x="198" y="800"/>
                </a:lnTo>
                <a:lnTo>
                  <a:pt x="198" y="811"/>
                </a:lnTo>
                <a:lnTo>
                  <a:pt x="198" y="823"/>
                </a:lnTo>
                <a:lnTo>
                  <a:pt x="198" y="833"/>
                </a:lnTo>
                <a:lnTo>
                  <a:pt x="196" y="840"/>
                </a:lnTo>
                <a:lnTo>
                  <a:pt x="196" y="846"/>
                </a:lnTo>
                <a:lnTo>
                  <a:pt x="196" y="850"/>
                </a:lnTo>
                <a:lnTo>
                  <a:pt x="194" y="854"/>
                </a:lnTo>
                <a:lnTo>
                  <a:pt x="194" y="856"/>
                </a:lnTo>
                <a:lnTo>
                  <a:pt x="190" y="859"/>
                </a:lnTo>
                <a:lnTo>
                  <a:pt x="186" y="861"/>
                </a:lnTo>
                <a:lnTo>
                  <a:pt x="180" y="863"/>
                </a:lnTo>
                <a:lnTo>
                  <a:pt x="175" y="865"/>
                </a:lnTo>
                <a:lnTo>
                  <a:pt x="169" y="867"/>
                </a:lnTo>
                <a:lnTo>
                  <a:pt x="161" y="867"/>
                </a:lnTo>
                <a:lnTo>
                  <a:pt x="148" y="867"/>
                </a:lnTo>
                <a:lnTo>
                  <a:pt x="146" y="863"/>
                </a:lnTo>
                <a:lnTo>
                  <a:pt x="142" y="859"/>
                </a:lnTo>
                <a:lnTo>
                  <a:pt x="138" y="856"/>
                </a:lnTo>
                <a:lnTo>
                  <a:pt x="134" y="848"/>
                </a:lnTo>
                <a:lnTo>
                  <a:pt x="132" y="840"/>
                </a:lnTo>
                <a:lnTo>
                  <a:pt x="129" y="831"/>
                </a:lnTo>
                <a:lnTo>
                  <a:pt x="125" y="821"/>
                </a:lnTo>
                <a:lnTo>
                  <a:pt x="123" y="808"/>
                </a:lnTo>
                <a:lnTo>
                  <a:pt x="119" y="796"/>
                </a:lnTo>
                <a:lnTo>
                  <a:pt x="117" y="781"/>
                </a:lnTo>
                <a:lnTo>
                  <a:pt x="113" y="765"/>
                </a:lnTo>
                <a:lnTo>
                  <a:pt x="111" y="748"/>
                </a:lnTo>
                <a:lnTo>
                  <a:pt x="109" y="729"/>
                </a:lnTo>
                <a:lnTo>
                  <a:pt x="107" y="710"/>
                </a:lnTo>
                <a:lnTo>
                  <a:pt x="105" y="689"/>
                </a:lnTo>
                <a:lnTo>
                  <a:pt x="104" y="667"/>
                </a:lnTo>
                <a:lnTo>
                  <a:pt x="96" y="621"/>
                </a:lnTo>
                <a:lnTo>
                  <a:pt x="90" y="575"/>
                </a:lnTo>
                <a:lnTo>
                  <a:pt x="82" y="529"/>
                </a:lnTo>
                <a:lnTo>
                  <a:pt x="77" y="485"/>
                </a:lnTo>
                <a:lnTo>
                  <a:pt x="71" y="443"/>
                </a:lnTo>
                <a:lnTo>
                  <a:pt x="65" y="401"/>
                </a:lnTo>
                <a:lnTo>
                  <a:pt x="61" y="360"/>
                </a:lnTo>
                <a:lnTo>
                  <a:pt x="59" y="341"/>
                </a:lnTo>
                <a:lnTo>
                  <a:pt x="58" y="322"/>
                </a:lnTo>
                <a:lnTo>
                  <a:pt x="56" y="303"/>
                </a:lnTo>
                <a:lnTo>
                  <a:pt x="54" y="286"/>
                </a:lnTo>
                <a:lnTo>
                  <a:pt x="52" y="268"/>
                </a:lnTo>
                <a:lnTo>
                  <a:pt x="50" y="251"/>
                </a:lnTo>
                <a:lnTo>
                  <a:pt x="46" y="234"/>
                </a:lnTo>
                <a:lnTo>
                  <a:pt x="44" y="218"/>
                </a:lnTo>
                <a:lnTo>
                  <a:pt x="42" y="203"/>
                </a:lnTo>
                <a:lnTo>
                  <a:pt x="38" y="188"/>
                </a:lnTo>
                <a:lnTo>
                  <a:pt x="34" y="174"/>
                </a:lnTo>
                <a:lnTo>
                  <a:pt x="33" y="161"/>
                </a:lnTo>
                <a:lnTo>
                  <a:pt x="29" y="147"/>
                </a:lnTo>
                <a:lnTo>
                  <a:pt x="25" y="134"/>
                </a:lnTo>
                <a:lnTo>
                  <a:pt x="23" y="122"/>
                </a:lnTo>
                <a:lnTo>
                  <a:pt x="19" y="109"/>
                </a:lnTo>
                <a:lnTo>
                  <a:pt x="15" y="99"/>
                </a:lnTo>
                <a:lnTo>
                  <a:pt x="13" y="8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Freeform 65"/>
          <p:cNvSpPr/>
          <p:nvPr/>
        </p:nvSpPr>
        <p:spPr>
          <a:xfrm>
            <a:off x="2556000" y="3435480"/>
            <a:ext cx="712800" cy="539640"/>
          </a:xfrm>
          <a:custGeom>
            <a:avLst/>
            <a:gdLst>
              <a:gd name="textAreaLeft" fmla="*/ 0 w 712800"/>
              <a:gd name="textAreaRight" fmla="*/ 713160 w 7128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898" h="679">
                <a:moveTo>
                  <a:pt x="898" y="223"/>
                </a:moveTo>
                <a:lnTo>
                  <a:pt x="896" y="228"/>
                </a:lnTo>
                <a:lnTo>
                  <a:pt x="896" y="234"/>
                </a:lnTo>
                <a:lnTo>
                  <a:pt x="894" y="244"/>
                </a:lnTo>
                <a:lnTo>
                  <a:pt x="890" y="251"/>
                </a:lnTo>
                <a:lnTo>
                  <a:pt x="884" y="259"/>
                </a:lnTo>
                <a:lnTo>
                  <a:pt x="879" y="265"/>
                </a:lnTo>
                <a:lnTo>
                  <a:pt x="871" y="269"/>
                </a:lnTo>
                <a:lnTo>
                  <a:pt x="861" y="274"/>
                </a:lnTo>
                <a:lnTo>
                  <a:pt x="852" y="278"/>
                </a:lnTo>
                <a:lnTo>
                  <a:pt x="850" y="280"/>
                </a:lnTo>
                <a:lnTo>
                  <a:pt x="846" y="282"/>
                </a:lnTo>
                <a:lnTo>
                  <a:pt x="842" y="284"/>
                </a:lnTo>
                <a:lnTo>
                  <a:pt x="840" y="288"/>
                </a:lnTo>
                <a:lnTo>
                  <a:pt x="836" y="292"/>
                </a:lnTo>
                <a:lnTo>
                  <a:pt x="832" y="297"/>
                </a:lnTo>
                <a:lnTo>
                  <a:pt x="829" y="303"/>
                </a:lnTo>
                <a:lnTo>
                  <a:pt x="825" y="309"/>
                </a:lnTo>
                <a:lnTo>
                  <a:pt x="821" y="317"/>
                </a:lnTo>
                <a:lnTo>
                  <a:pt x="815" y="324"/>
                </a:lnTo>
                <a:lnTo>
                  <a:pt x="811" y="334"/>
                </a:lnTo>
                <a:lnTo>
                  <a:pt x="806" y="342"/>
                </a:lnTo>
                <a:lnTo>
                  <a:pt x="802" y="353"/>
                </a:lnTo>
                <a:lnTo>
                  <a:pt x="796" y="363"/>
                </a:lnTo>
                <a:lnTo>
                  <a:pt x="790" y="374"/>
                </a:lnTo>
                <a:lnTo>
                  <a:pt x="784" y="386"/>
                </a:lnTo>
                <a:lnTo>
                  <a:pt x="779" y="399"/>
                </a:lnTo>
                <a:lnTo>
                  <a:pt x="773" y="413"/>
                </a:lnTo>
                <a:lnTo>
                  <a:pt x="767" y="428"/>
                </a:lnTo>
                <a:lnTo>
                  <a:pt x="761" y="443"/>
                </a:lnTo>
                <a:lnTo>
                  <a:pt x="756" y="459"/>
                </a:lnTo>
                <a:lnTo>
                  <a:pt x="750" y="474"/>
                </a:lnTo>
                <a:lnTo>
                  <a:pt x="742" y="491"/>
                </a:lnTo>
                <a:lnTo>
                  <a:pt x="736" y="510"/>
                </a:lnTo>
                <a:lnTo>
                  <a:pt x="729" y="528"/>
                </a:lnTo>
                <a:lnTo>
                  <a:pt x="723" y="547"/>
                </a:lnTo>
                <a:lnTo>
                  <a:pt x="715" y="568"/>
                </a:lnTo>
                <a:lnTo>
                  <a:pt x="708" y="589"/>
                </a:lnTo>
                <a:lnTo>
                  <a:pt x="702" y="610"/>
                </a:lnTo>
                <a:lnTo>
                  <a:pt x="694" y="631"/>
                </a:lnTo>
                <a:lnTo>
                  <a:pt x="687" y="654"/>
                </a:lnTo>
                <a:lnTo>
                  <a:pt x="679" y="679"/>
                </a:lnTo>
                <a:lnTo>
                  <a:pt x="579" y="679"/>
                </a:lnTo>
                <a:lnTo>
                  <a:pt x="583" y="651"/>
                </a:lnTo>
                <a:lnTo>
                  <a:pt x="587" y="624"/>
                </a:lnTo>
                <a:lnTo>
                  <a:pt x="591" y="599"/>
                </a:lnTo>
                <a:lnTo>
                  <a:pt x="594" y="572"/>
                </a:lnTo>
                <a:lnTo>
                  <a:pt x="598" y="547"/>
                </a:lnTo>
                <a:lnTo>
                  <a:pt x="600" y="524"/>
                </a:lnTo>
                <a:lnTo>
                  <a:pt x="604" y="501"/>
                </a:lnTo>
                <a:lnTo>
                  <a:pt x="606" y="478"/>
                </a:lnTo>
                <a:lnTo>
                  <a:pt x="608" y="457"/>
                </a:lnTo>
                <a:lnTo>
                  <a:pt x="612" y="437"/>
                </a:lnTo>
                <a:lnTo>
                  <a:pt x="614" y="416"/>
                </a:lnTo>
                <a:lnTo>
                  <a:pt x="616" y="397"/>
                </a:lnTo>
                <a:lnTo>
                  <a:pt x="618" y="380"/>
                </a:lnTo>
                <a:lnTo>
                  <a:pt x="618" y="363"/>
                </a:lnTo>
                <a:lnTo>
                  <a:pt x="619" y="345"/>
                </a:lnTo>
                <a:lnTo>
                  <a:pt x="621" y="330"/>
                </a:lnTo>
                <a:lnTo>
                  <a:pt x="621" y="315"/>
                </a:lnTo>
                <a:lnTo>
                  <a:pt x="623" y="301"/>
                </a:lnTo>
                <a:lnTo>
                  <a:pt x="623" y="288"/>
                </a:lnTo>
                <a:lnTo>
                  <a:pt x="623" y="274"/>
                </a:lnTo>
                <a:lnTo>
                  <a:pt x="623" y="263"/>
                </a:lnTo>
                <a:lnTo>
                  <a:pt x="623" y="251"/>
                </a:lnTo>
                <a:lnTo>
                  <a:pt x="623" y="242"/>
                </a:lnTo>
                <a:lnTo>
                  <a:pt x="623" y="232"/>
                </a:lnTo>
                <a:lnTo>
                  <a:pt x="623" y="224"/>
                </a:lnTo>
                <a:lnTo>
                  <a:pt x="623" y="217"/>
                </a:lnTo>
                <a:lnTo>
                  <a:pt x="621" y="211"/>
                </a:lnTo>
                <a:lnTo>
                  <a:pt x="621" y="205"/>
                </a:lnTo>
                <a:lnTo>
                  <a:pt x="619" y="200"/>
                </a:lnTo>
                <a:lnTo>
                  <a:pt x="619" y="196"/>
                </a:lnTo>
                <a:lnTo>
                  <a:pt x="618" y="192"/>
                </a:lnTo>
                <a:lnTo>
                  <a:pt x="616" y="190"/>
                </a:lnTo>
                <a:lnTo>
                  <a:pt x="608" y="182"/>
                </a:lnTo>
                <a:lnTo>
                  <a:pt x="600" y="175"/>
                </a:lnTo>
                <a:lnTo>
                  <a:pt x="591" y="169"/>
                </a:lnTo>
                <a:lnTo>
                  <a:pt x="581" y="165"/>
                </a:lnTo>
                <a:lnTo>
                  <a:pt x="571" y="161"/>
                </a:lnTo>
                <a:lnTo>
                  <a:pt x="560" y="157"/>
                </a:lnTo>
                <a:lnTo>
                  <a:pt x="547" y="157"/>
                </a:lnTo>
                <a:lnTo>
                  <a:pt x="535" y="155"/>
                </a:lnTo>
                <a:lnTo>
                  <a:pt x="527" y="155"/>
                </a:lnTo>
                <a:lnTo>
                  <a:pt x="518" y="157"/>
                </a:lnTo>
                <a:lnTo>
                  <a:pt x="508" y="157"/>
                </a:lnTo>
                <a:lnTo>
                  <a:pt x="499" y="157"/>
                </a:lnTo>
                <a:lnTo>
                  <a:pt x="487" y="159"/>
                </a:lnTo>
                <a:lnTo>
                  <a:pt x="474" y="161"/>
                </a:lnTo>
                <a:lnTo>
                  <a:pt x="460" y="163"/>
                </a:lnTo>
                <a:lnTo>
                  <a:pt x="445" y="165"/>
                </a:lnTo>
                <a:lnTo>
                  <a:pt x="429" y="167"/>
                </a:lnTo>
                <a:lnTo>
                  <a:pt x="412" y="169"/>
                </a:lnTo>
                <a:lnTo>
                  <a:pt x="395" y="171"/>
                </a:lnTo>
                <a:lnTo>
                  <a:pt x="376" y="175"/>
                </a:lnTo>
                <a:lnTo>
                  <a:pt x="357" y="178"/>
                </a:lnTo>
                <a:lnTo>
                  <a:pt x="335" y="180"/>
                </a:lnTo>
                <a:lnTo>
                  <a:pt x="312" y="184"/>
                </a:lnTo>
                <a:lnTo>
                  <a:pt x="289" y="190"/>
                </a:lnTo>
                <a:lnTo>
                  <a:pt x="266" y="194"/>
                </a:lnTo>
                <a:lnTo>
                  <a:pt x="243" y="198"/>
                </a:lnTo>
                <a:lnTo>
                  <a:pt x="220" y="201"/>
                </a:lnTo>
                <a:lnTo>
                  <a:pt x="199" y="203"/>
                </a:lnTo>
                <a:lnTo>
                  <a:pt x="178" y="207"/>
                </a:lnTo>
                <a:lnTo>
                  <a:pt x="159" y="209"/>
                </a:lnTo>
                <a:lnTo>
                  <a:pt x="140" y="213"/>
                </a:lnTo>
                <a:lnTo>
                  <a:pt x="120" y="215"/>
                </a:lnTo>
                <a:lnTo>
                  <a:pt x="103" y="217"/>
                </a:lnTo>
                <a:lnTo>
                  <a:pt x="86" y="219"/>
                </a:lnTo>
                <a:lnTo>
                  <a:pt x="69" y="219"/>
                </a:lnTo>
                <a:lnTo>
                  <a:pt x="53" y="221"/>
                </a:lnTo>
                <a:lnTo>
                  <a:pt x="38" y="221"/>
                </a:lnTo>
                <a:lnTo>
                  <a:pt x="25" y="223"/>
                </a:lnTo>
                <a:lnTo>
                  <a:pt x="11" y="223"/>
                </a:lnTo>
                <a:lnTo>
                  <a:pt x="0" y="223"/>
                </a:lnTo>
                <a:lnTo>
                  <a:pt x="0" y="123"/>
                </a:lnTo>
                <a:lnTo>
                  <a:pt x="40" y="119"/>
                </a:lnTo>
                <a:lnTo>
                  <a:pt x="82" y="113"/>
                </a:lnTo>
                <a:lnTo>
                  <a:pt x="124" y="109"/>
                </a:lnTo>
                <a:lnTo>
                  <a:pt x="168" y="105"/>
                </a:lnTo>
                <a:lnTo>
                  <a:pt x="213" y="100"/>
                </a:lnTo>
                <a:lnTo>
                  <a:pt x="255" y="92"/>
                </a:lnTo>
                <a:lnTo>
                  <a:pt x="299" y="86"/>
                </a:lnTo>
                <a:lnTo>
                  <a:pt x="343" y="79"/>
                </a:lnTo>
                <a:lnTo>
                  <a:pt x="364" y="75"/>
                </a:lnTo>
                <a:lnTo>
                  <a:pt x="385" y="73"/>
                </a:lnTo>
                <a:lnTo>
                  <a:pt x="404" y="71"/>
                </a:lnTo>
                <a:lnTo>
                  <a:pt x="422" y="67"/>
                </a:lnTo>
                <a:lnTo>
                  <a:pt x="439" y="65"/>
                </a:lnTo>
                <a:lnTo>
                  <a:pt x="454" y="61"/>
                </a:lnTo>
                <a:lnTo>
                  <a:pt x="468" y="58"/>
                </a:lnTo>
                <a:lnTo>
                  <a:pt x="481" y="54"/>
                </a:lnTo>
                <a:lnTo>
                  <a:pt x="493" y="50"/>
                </a:lnTo>
                <a:lnTo>
                  <a:pt x="502" y="46"/>
                </a:lnTo>
                <a:lnTo>
                  <a:pt x="512" y="42"/>
                </a:lnTo>
                <a:lnTo>
                  <a:pt x="522" y="38"/>
                </a:lnTo>
                <a:lnTo>
                  <a:pt x="527" y="34"/>
                </a:lnTo>
                <a:lnTo>
                  <a:pt x="535" y="31"/>
                </a:lnTo>
                <a:lnTo>
                  <a:pt x="539" y="27"/>
                </a:lnTo>
                <a:lnTo>
                  <a:pt x="543" y="23"/>
                </a:lnTo>
                <a:lnTo>
                  <a:pt x="556" y="13"/>
                </a:lnTo>
                <a:lnTo>
                  <a:pt x="564" y="10"/>
                </a:lnTo>
                <a:lnTo>
                  <a:pt x="571" y="8"/>
                </a:lnTo>
                <a:lnTo>
                  <a:pt x="579" y="4"/>
                </a:lnTo>
                <a:lnTo>
                  <a:pt x="589" y="2"/>
                </a:lnTo>
                <a:lnTo>
                  <a:pt x="596" y="0"/>
                </a:lnTo>
                <a:lnTo>
                  <a:pt x="606" y="0"/>
                </a:lnTo>
                <a:lnTo>
                  <a:pt x="612" y="0"/>
                </a:lnTo>
                <a:lnTo>
                  <a:pt x="618" y="2"/>
                </a:lnTo>
                <a:lnTo>
                  <a:pt x="625" y="4"/>
                </a:lnTo>
                <a:lnTo>
                  <a:pt x="633" y="6"/>
                </a:lnTo>
                <a:lnTo>
                  <a:pt x="641" y="10"/>
                </a:lnTo>
                <a:lnTo>
                  <a:pt x="648" y="13"/>
                </a:lnTo>
                <a:lnTo>
                  <a:pt x="658" y="19"/>
                </a:lnTo>
                <a:lnTo>
                  <a:pt x="667" y="23"/>
                </a:lnTo>
                <a:lnTo>
                  <a:pt x="679" y="29"/>
                </a:lnTo>
                <a:lnTo>
                  <a:pt x="690" y="36"/>
                </a:lnTo>
                <a:lnTo>
                  <a:pt x="702" y="44"/>
                </a:lnTo>
                <a:lnTo>
                  <a:pt x="713" y="52"/>
                </a:lnTo>
                <a:lnTo>
                  <a:pt x="727" y="59"/>
                </a:lnTo>
                <a:lnTo>
                  <a:pt x="740" y="69"/>
                </a:lnTo>
                <a:lnTo>
                  <a:pt x="756" y="79"/>
                </a:lnTo>
                <a:lnTo>
                  <a:pt x="769" y="90"/>
                </a:lnTo>
                <a:lnTo>
                  <a:pt x="784" y="100"/>
                </a:lnTo>
                <a:lnTo>
                  <a:pt x="798" y="109"/>
                </a:lnTo>
                <a:lnTo>
                  <a:pt x="811" y="119"/>
                </a:lnTo>
                <a:lnTo>
                  <a:pt x="825" y="129"/>
                </a:lnTo>
                <a:lnTo>
                  <a:pt x="834" y="138"/>
                </a:lnTo>
                <a:lnTo>
                  <a:pt x="846" y="148"/>
                </a:lnTo>
                <a:lnTo>
                  <a:pt x="855" y="155"/>
                </a:lnTo>
                <a:lnTo>
                  <a:pt x="863" y="165"/>
                </a:lnTo>
                <a:lnTo>
                  <a:pt x="871" y="173"/>
                </a:lnTo>
                <a:lnTo>
                  <a:pt x="879" y="180"/>
                </a:lnTo>
                <a:lnTo>
                  <a:pt x="884" y="188"/>
                </a:lnTo>
                <a:lnTo>
                  <a:pt x="888" y="196"/>
                </a:lnTo>
                <a:lnTo>
                  <a:pt x="892" y="203"/>
                </a:lnTo>
                <a:lnTo>
                  <a:pt x="894" y="209"/>
                </a:lnTo>
                <a:lnTo>
                  <a:pt x="896" y="217"/>
                </a:lnTo>
                <a:lnTo>
                  <a:pt x="898" y="22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Freeform 66"/>
          <p:cNvSpPr/>
          <p:nvPr/>
        </p:nvSpPr>
        <p:spPr>
          <a:xfrm>
            <a:off x="2576520" y="3895560"/>
            <a:ext cx="600120" cy="158760"/>
          </a:xfrm>
          <a:custGeom>
            <a:avLst/>
            <a:gdLst>
              <a:gd name="textAreaLeft" fmla="*/ 0 w 600120"/>
              <a:gd name="textAreaRight" fmla="*/ 600120 w 6001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57" h="199">
                <a:moveTo>
                  <a:pt x="735" y="55"/>
                </a:moveTo>
                <a:lnTo>
                  <a:pt x="739" y="61"/>
                </a:lnTo>
                <a:lnTo>
                  <a:pt x="743" y="67"/>
                </a:lnTo>
                <a:lnTo>
                  <a:pt x="747" y="72"/>
                </a:lnTo>
                <a:lnTo>
                  <a:pt x="751" y="78"/>
                </a:lnTo>
                <a:lnTo>
                  <a:pt x="753" y="82"/>
                </a:lnTo>
                <a:lnTo>
                  <a:pt x="755" y="88"/>
                </a:lnTo>
                <a:lnTo>
                  <a:pt x="755" y="92"/>
                </a:lnTo>
                <a:lnTo>
                  <a:pt x="757" y="95"/>
                </a:lnTo>
                <a:lnTo>
                  <a:pt x="757" y="99"/>
                </a:lnTo>
                <a:lnTo>
                  <a:pt x="757" y="103"/>
                </a:lnTo>
                <a:lnTo>
                  <a:pt x="755" y="107"/>
                </a:lnTo>
                <a:lnTo>
                  <a:pt x="755" y="111"/>
                </a:lnTo>
                <a:lnTo>
                  <a:pt x="749" y="117"/>
                </a:lnTo>
                <a:lnTo>
                  <a:pt x="743" y="120"/>
                </a:lnTo>
                <a:lnTo>
                  <a:pt x="741" y="122"/>
                </a:lnTo>
                <a:lnTo>
                  <a:pt x="739" y="122"/>
                </a:lnTo>
                <a:lnTo>
                  <a:pt x="737" y="124"/>
                </a:lnTo>
                <a:lnTo>
                  <a:pt x="734" y="124"/>
                </a:lnTo>
                <a:lnTo>
                  <a:pt x="730" y="126"/>
                </a:lnTo>
                <a:lnTo>
                  <a:pt x="724" y="128"/>
                </a:lnTo>
                <a:lnTo>
                  <a:pt x="718" y="128"/>
                </a:lnTo>
                <a:lnTo>
                  <a:pt x="712" y="130"/>
                </a:lnTo>
                <a:lnTo>
                  <a:pt x="707" y="130"/>
                </a:lnTo>
                <a:lnTo>
                  <a:pt x="701" y="132"/>
                </a:lnTo>
                <a:lnTo>
                  <a:pt x="693" y="132"/>
                </a:lnTo>
                <a:lnTo>
                  <a:pt x="686" y="134"/>
                </a:lnTo>
                <a:lnTo>
                  <a:pt x="676" y="136"/>
                </a:lnTo>
                <a:lnTo>
                  <a:pt x="668" y="136"/>
                </a:lnTo>
                <a:lnTo>
                  <a:pt x="659" y="138"/>
                </a:lnTo>
                <a:lnTo>
                  <a:pt x="649" y="140"/>
                </a:lnTo>
                <a:lnTo>
                  <a:pt x="638" y="140"/>
                </a:lnTo>
                <a:lnTo>
                  <a:pt x="628" y="142"/>
                </a:lnTo>
                <a:lnTo>
                  <a:pt x="616" y="143"/>
                </a:lnTo>
                <a:lnTo>
                  <a:pt x="603" y="143"/>
                </a:lnTo>
                <a:lnTo>
                  <a:pt x="592" y="145"/>
                </a:lnTo>
                <a:lnTo>
                  <a:pt x="578" y="147"/>
                </a:lnTo>
                <a:lnTo>
                  <a:pt x="565" y="149"/>
                </a:lnTo>
                <a:lnTo>
                  <a:pt x="549" y="151"/>
                </a:lnTo>
                <a:lnTo>
                  <a:pt x="536" y="153"/>
                </a:lnTo>
                <a:lnTo>
                  <a:pt x="521" y="153"/>
                </a:lnTo>
                <a:lnTo>
                  <a:pt x="505" y="155"/>
                </a:lnTo>
                <a:lnTo>
                  <a:pt x="488" y="157"/>
                </a:lnTo>
                <a:lnTo>
                  <a:pt x="471" y="159"/>
                </a:lnTo>
                <a:lnTo>
                  <a:pt x="453" y="161"/>
                </a:lnTo>
                <a:lnTo>
                  <a:pt x="436" y="163"/>
                </a:lnTo>
                <a:lnTo>
                  <a:pt x="417" y="166"/>
                </a:lnTo>
                <a:lnTo>
                  <a:pt x="380" y="170"/>
                </a:lnTo>
                <a:lnTo>
                  <a:pt x="346" y="174"/>
                </a:lnTo>
                <a:lnTo>
                  <a:pt x="311" y="178"/>
                </a:lnTo>
                <a:lnTo>
                  <a:pt x="279" y="180"/>
                </a:lnTo>
                <a:lnTo>
                  <a:pt x="248" y="184"/>
                </a:lnTo>
                <a:lnTo>
                  <a:pt x="219" y="186"/>
                </a:lnTo>
                <a:lnTo>
                  <a:pt x="190" y="189"/>
                </a:lnTo>
                <a:lnTo>
                  <a:pt x="165" y="191"/>
                </a:lnTo>
                <a:lnTo>
                  <a:pt x="139" y="193"/>
                </a:lnTo>
                <a:lnTo>
                  <a:pt x="116" y="195"/>
                </a:lnTo>
                <a:lnTo>
                  <a:pt x="93" y="195"/>
                </a:lnTo>
                <a:lnTo>
                  <a:pt x="71" y="197"/>
                </a:lnTo>
                <a:lnTo>
                  <a:pt x="52" y="197"/>
                </a:lnTo>
                <a:lnTo>
                  <a:pt x="33" y="199"/>
                </a:lnTo>
                <a:lnTo>
                  <a:pt x="16" y="199"/>
                </a:lnTo>
                <a:lnTo>
                  <a:pt x="0" y="199"/>
                </a:lnTo>
                <a:lnTo>
                  <a:pt x="0" y="88"/>
                </a:lnTo>
                <a:lnTo>
                  <a:pt x="14" y="88"/>
                </a:lnTo>
                <a:lnTo>
                  <a:pt x="27" y="88"/>
                </a:lnTo>
                <a:lnTo>
                  <a:pt x="43" y="86"/>
                </a:lnTo>
                <a:lnTo>
                  <a:pt x="58" y="86"/>
                </a:lnTo>
                <a:lnTo>
                  <a:pt x="75" y="84"/>
                </a:lnTo>
                <a:lnTo>
                  <a:pt x="94" y="82"/>
                </a:lnTo>
                <a:lnTo>
                  <a:pt x="116" y="80"/>
                </a:lnTo>
                <a:lnTo>
                  <a:pt x="137" y="78"/>
                </a:lnTo>
                <a:lnTo>
                  <a:pt x="160" y="76"/>
                </a:lnTo>
                <a:lnTo>
                  <a:pt x="183" y="72"/>
                </a:lnTo>
                <a:lnTo>
                  <a:pt x="208" y="69"/>
                </a:lnTo>
                <a:lnTo>
                  <a:pt x="235" y="65"/>
                </a:lnTo>
                <a:lnTo>
                  <a:pt x="263" y="59"/>
                </a:lnTo>
                <a:lnTo>
                  <a:pt x="292" y="55"/>
                </a:lnTo>
                <a:lnTo>
                  <a:pt x="323" y="49"/>
                </a:lnTo>
                <a:lnTo>
                  <a:pt x="354" y="44"/>
                </a:lnTo>
                <a:lnTo>
                  <a:pt x="386" y="38"/>
                </a:lnTo>
                <a:lnTo>
                  <a:pt x="415" y="32"/>
                </a:lnTo>
                <a:lnTo>
                  <a:pt x="444" y="26"/>
                </a:lnTo>
                <a:lnTo>
                  <a:pt x="469" y="23"/>
                </a:lnTo>
                <a:lnTo>
                  <a:pt x="494" y="19"/>
                </a:lnTo>
                <a:lnTo>
                  <a:pt x="517" y="15"/>
                </a:lnTo>
                <a:lnTo>
                  <a:pt x="538" y="11"/>
                </a:lnTo>
                <a:lnTo>
                  <a:pt x="559" y="7"/>
                </a:lnTo>
                <a:lnTo>
                  <a:pt x="576" y="5"/>
                </a:lnTo>
                <a:lnTo>
                  <a:pt x="592" y="3"/>
                </a:lnTo>
                <a:lnTo>
                  <a:pt x="607" y="1"/>
                </a:lnTo>
                <a:lnTo>
                  <a:pt x="618" y="1"/>
                </a:lnTo>
                <a:lnTo>
                  <a:pt x="630" y="0"/>
                </a:lnTo>
                <a:lnTo>
                  <a:pt x="639" y="0"/>
                </a:lnTo>
                <a:lnTo>
                  <a:pt x="647" y="0"/>
                </a:lnTo>
                <a:lnTo>
                  <a:pt x="653" y="0"/>
                </a:lnTo>
                <a:lnTo>
                  <a:pt x="659" y="0"/>
                </a:lnTo>
                <a:lnTo>
                  <a:pt x="663" y="0"/>
                </a:lnTo>
                <a:lnTo>
                  <a:pt x="668" y="1"/>
                </a:lnTo>
                <a:lnTo>
                  <a:pt x="674" y="3"/>
                </a:lnTo>
                <a:lnTo>
                  <a:pt x="684" y="7"/>
                </a:lnTo>
                <a:lnTo>
                  <a:pt x="693" y="13"/>
                </a:lnTo>
                <a:lnTo>
                  <a:pt x="705" y="23"/>
                </a:lnTo>
                <a:lnTo>
                  <a:pt x="714" y="32"/>
                </a:lnTo>
                <a:lnTo>
                  <a:pt x="724" y="42"/>
                </a:lnTo>
                <a:lnTo>
                  <a:pt x="735" y="5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Freeform 67"/>
          <p:cNvSpPr/>
          <p:nvPr/>
        </p:nvSpPr>
        <p:spPr>
          <a:xfrm>
            <a:off x="2878200" y="2897280"/>
            <a:ext cx="930240" cy="809640"/>
          </a:xfrm>
          <a:custGeom>
            <a:avLst/>
            <a:gdLst>
              <a:gd name="textAreaLeft" fmla="*/ 0 w 930240"/>
              <a:gd name="textAreaRight" fmla="*/ 930600 w 93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171" h="1021">
                <a:moveTo>
                  <a:pt x="1171" y="946"/>
                </a:moveTo>
                <a:lnTo>
                  <a:pt x="1171" y="950"/>
                </a:lnTo>
                <a:lnTo>
                  <a:pt x="1167" y="955"/>
                </a:lnTo>
                <a:lnTo>
                  <a:pt x="1163" y="959"/>
                </a:lnTo>
                <a:lnTo>
                  <a:pt x="1160" y="963"/>
                </a:lnTo>
                <a:lnTo>
                  <a:pt x="1152" y="967"/>
                </a:lnTo>
                <a:lnTo>
                  <a:pt x="1144" y="971"/>
                </a:lnTo>
                <a:lnTo>
                  <a:pt x="1135" y="974"/>
                </a:lnTo>
                <a:lnTo>
                  <a:pt x="1125" y="978"/>
                </a:lnTo>
                <a:lnTo>
                  <a:pt x="1112" y="982"/>
                </a:lnTo>
                <a:lnTo>
                  <a:pt x="1098" y="986"/>
                </a:lnTo>
                <a:lnTo>
                  <a:pt x="1085" y="988"/>
                </a:lnTo>
                <a:lnTo>
                  <a:pt x="1067" y="992"/>
                </a:lnTo>
                <a:lnTo>
                  <a:pt x="1050" y="994"/>
                </a:lnTo>
                <a:lnTo>
                  <a:pt x="1031" y="998"/>
                </a:lnTo>
                <a:lnTo>
                  <a:pt x="1012" y="999"/>
                </a:lnTo>
                <a:lnTo>
                  <a:pt x="989" y="1001"/>
                </a:lnTo>
                <a:lnTo>
                  <a:pt x="968" y="1005"/>
                </a:lnTo>
                <a:lnTo>
                  <a:pt x="947" y="1009"/>
                </a:lnTo>
                <a:lnTo>
                  <a:pt x="925" y="1013"/>
                </a:lnTo>
                <a:lnTo>
                  <a:pt x="906" y="1015"/>
                </a:lnTo>
                <a:lnTo>
                  <a:pt x="887" y="1017"/>
                </a:lnTo>
                <a:lnTo>
                  <a:pt x="870" y="1019"/>
                </a:lnTo>
                <a:lnTo>
                  <a:pt x="852" y="1019"/>
                </a:lnTo>
                <a:lnTo>
                  <a:pt x="835" y="1021"/>
                </a:lnTo>
                <a:lnTo>
                  <a:pt x="820" y="1021"/>
                </a:lnTo>
                <a:lnTo>
                  <a:pt x="805" y="1021"/>
                </a:lnTo>
                <a:lnTo>
                  <a:pt x="791" y="1021"/>
                </a:lnTo>
                <a:lnTo>
                  <a:pt x="778" y="1019"/>
                </a:lnTo>
                <a:lnTo>
                  <a:pt x="766" y="1019"/>
                </a:lnTo>
                <a:lnTo>
                  <a:pt x="755" y="1017"/>
                </a:lnTo>
                <a:lnTo>
                  <a:pt x="745" y="1015"/>
                </a:lnTo>
                <a:lnTo>
                  <a:pt x="735" y="1013"/>
                </a:lnTo>
                <a:lnTo>
                  <a:pt x="734" y="1013"/>
                </a:lnTo>
                <a:lnTo>
                  <a:pt x="730" y="1011"/>
                </a:lnTo>
                <a:lnTo>
                  <a:pt x="726" y="1009"/>
                </a:lnTo>
                <a:lnTo>
                  <a:pt x="724" y="1007"/>
                </a:lnTo>
                <a:lnTo>
                  <a:pt x="720" y="1005"/>
                </a:lnTo>
                <a:lnTo>
                  <a:pt x="714" y="1001"/>
                </a:lnTo>
                <a:lnTo>
                  <a:pt x="710" y="998"/>
                </a:lnTo>
                <a:lnTo>
                  <a:pt x="707" y="994"/>
                </a:lnTo>
                <a:lnTo>
                  <a:pt x="701" y="988"/>
                </a:lnTo>
                <a:lnTo>
                  <a:pt x="695" y="984"/>
                </a:lnTo>
                <a:lnTo>
                  <a:pt x="689" y="978"/>
                </a:lnTo>
                <a:lnTo>
                  <a:pt x="684" y="973"/>
                </a:lnTo>
                <a:lnTo>
                  <a:pt x="678" y="965"/>
                </a:lnTo>
                <a:lnTo>
                  <a:pt x="672" y="959"/>
                </a:lnTo>
                <a:lnTo>
                  <a:pt x="659" y="944"/>
                </a:lnTo>
                <a:lnTo>
                  <a:pt x="643" y="925"/>
                </a:lnTo>
                <a:lnTo>
                  <a:pt x="628" y="905"/>
                </a:lnTo>
                <a:lnTo>
                  <a:pt x="611" y="884"/>
                </a:lnTo>
                <a:lnTo>
                  <a:pt x="593" y="861"/>
                </a:lnTo>
                <a:lnTo>
                  <a:pt x="572" y="836"/>
                </a:lnTo>
                <a:lnTo>
                  <a:pt x="553" y="809"/>
                </a:lnTo>
                <a:lnTo>
                  <a:pt x="532" y="781"/>
                </a:lnTo>
                <a:lnTo>
                  <a:pt x="509" y="750"/>
                </a:lnTo>
                <a:lnTo>
                  <a:pt x="486" y="717"/>
                </a:lnTo>
                <a:lnTo>
                  <a:pt x="461" y="683"/>
                </a:lnTo>
                <a:lnTo>
                  <a:pt x="434" y="646"/>
                </a:lnTo>
                <a:lnTo>
                  <a:pt x="407" y="608"/>
                </a:lnTo>
                <a:lnTo>
                  <a:pt x="380" y="568"/>
                </a:lnTo>
                <a:lnTo>
                  <a:pt x="352" y="525"/>
                </a:lnTo>
                <a:lnTo>
                  <a:pt x="321" y="481"/>
                </a:lnTo>
                <a:lnTo>
                  <a:pt x="290" y="435"/>
                </a:lnTo>
                <a:lnTo>
                  <a:pt x="258" y="387"/>
                </a:lnTo>
                <a:lnTo>
                  <a:pt x="223" y="337"/>
                </a:lnTo>
                <a:lnTo>
                  <a:pt x="188" y="287"/>
                </a:lnTo>
                <a:lnTo>
                  <a:pt x="154" y="234"/>
                </a:lnTo>
                <a:lnTo>
                  <a:pt x="117" y="178"/>
                </a:lnTo>
                <a:lnTo>
                  <a:pt x="79" y="120"/>
                </a:lnTo>
                <a:lnTo>
                  <a:pt x="41" y="61"/>
                </a:lnTo>
                <a:lnTo>
                  <a:pt x="0" y="0"/>
                </a:lnTo>
                <a:lnTo>
                  <a:pt x="83" y="2"/>
                </a:lnTo>
                <a:lnTo>
                  <a:pt x="117" y="44"/>
                </a:lnTo>
                <a:lnTo>
                  <a:pt x="150" y="84"/>
                </a:lnTo>
                <a:lnTo>
                  <a:pt x="183" y="124"/>
                </a:lnTo>
                <a:lnTo>
                  <a:pt x="215" y="163"/>
                </a:lnTo>
                <a:lnTo>
                  <a:pt x="248" y="201"/>
                </a:lnTo>
                <a:lnTo>
                  <a:pt x="281" y="238"/>
                </a:lnTo>
                <a:lnTo>
                  <a:pt x="311" y="272"/>
                </a:lnTo>
                <a:lnTo>
                  <a:pt x="342" y="307"/>
                </a:lnTo>
                <a:lnTo>
                  <a:pt x="371" y="339"/>
                </a:lnTo>
                <a:lnTo>
                  <a:pt x="400" y="372"/>
                </a:lnTo>
                <a:lnTo>
                  <a:pt x="428" y="403"/>
                </a:lnTo>
                <a:lnTo>
                  <a:pt x="457" y="431"/>
                </a:lnTo>
                <a:lnTo>
                  <a:pt x="486" y="460"/>
                </a:lnTo>
                <a:lnTo>
                  <a:pt x="513" y="487"/>
                </a:lnTo>
                <a:lnTo>
                  <a:pt x="540" y="514"/>
                </a:lnTo>
                <a:lnTo>
                  <a:pt x="565" y="539"/>
                </a:lnTo>
                <a:lnTo>
                  <a:pt x="591" y="562"/>
                </a:lnTo>
                <a:lnTo>
                  <a:pt x="616" y="585"/>
                </a:lnTo>
                <a:lnTo>
                  <a:pt x="639" y="606"/>
                </a:lnTo>
                <a:lnTo>
                  <a:pt x="664" y="627"/>
                </a:lnTo>
                <a:lnTo>
                  <a:pt x="687" y="646"/>
                </a:lnTo>
                <a:lnTo>
                  <a:pt x="710" y="666"/>
                </a:lnTo>
                <a:lnTo>
                  <a:pt x="734" y="683"/>
                </a:lnTo>
                <a:lnTo>
                  <a:pt x="755" y="698"/>
                </a:lnTo>
                <a:lnTo>
                  <a:pt x="776" y="713"/>
                </a:lnTo>
                <a:lnTo>
                  <a:pt x="797" y="727"/>
                </a:lnTo>
                <a:lnTo>
                  <a:pt x="816" y="740"/>
                </a:lnTo>
                <a:lnTo>
                  <a:pt x="835" y="752"/>
                </a:lnTo>
                <a:lnTo>
                  <a:pt x="854" y="763"/>
                </a:lnTo>
                <a:lnTo>
                  <a:pt x="874" y="773"/>
                </a:lnTo>
                <a:lnTo>
                  <a:pt x="891" y="783"/>
                </a:lnTo>
                <a:lnTo>
                  <a:pt x="908" y="790"/>
                </a:lnTo>
                <a:lnTo>
                  <a:pt x="939" y="806"/>
                </a:lnTo>
                <a:lnTo>
                  <a:pt x="968" y="819"/>
                </a:lnTo>
                <a:lnTo>
                  <a:pt x="983" y="825"/>
                </a:lnTo>
                <a:lnTo>
                  <a:pt x="996" y="832"/>
                </a:lnTo>
                <a:lnTo>
                  <a:pt x="1008" y="838"/>
                </a:lnTo>
                <a:lnTo>
                  <a:pt x="1021" y="846"/>
                </a:lnTo>
                <a:lnTo>
                  <a:pt x="1033" y="852"/>
                </a:lnTo>
                <a:lnTo>
                  <a:pt x="1044" y="857"/>
                </a:lnTo>
                <a:lnTo>
                  <a:pt x="1056" y="863"/>
                </a:lnTo>
                <a:lnTo>
                  <a:pt x="1067" y="869"/>
                </a:lnTo>
                <a:lnTo>
                  <a:pt x="1077" y="875"/>
                </a:lnTo>
                <a:lnTo>
                  <a:pt x="1087" y="879"/>
                </a:lnTo>
                <a:lnTo>
                  <a:pt x="1094" y="884"/>
                </a:lnTo>
                <a:lnTo>
                  <a:pt x="1104" y="890"/>
                </a:lnTo>
                <a:lnTo>
                  <a:pt x="1112" y="894"/>
                </a:lnTo>
                <a:lnTo>
                  <a:pt x="1119" y="900"/>
                </a:lnTo>
                <a:lnTo>
                  <a:pt x="1127" y="903"/>
                </a:lnTo>
                <a:lnTo>
                  <a:pt x="1133" y="907"/>
                </a:lnTo>
                <a:lnTo>
                  <a:pt x="1138" y="913"/>
                </a:lnTo>
                <a:lnTo>
                  <a:pt x="1144" y="917"/>
                </a:lnTo>
                <a:lnTo>
                  <a:pt x="1150" y="921"/>
                </a:lnTo>
                <a:lnTo>
                  <a:pt x="1154" y="923"/>
                </a:lnTo>
                <a:lnTo>
                  <a:pt x="1158" y="927"/>
                </a:lnTo>
                <a:lnTo>
                  <a:pt x="1161" y="930"/>
                </a:lnTo>
                <a:lnTo>
                  <a:pt x="1163" y="934"/>
                </a:lnTo>
                <a:lnTo>
                  <a:pt x="1167" y="936"/>
                </a:lnTo>
                <a:lnTo>
                  <a:pt x="1169" y="940"/>
                </a:lnTo>
                <a:lnTo>
                  <a:pt x="1169" y="942"/>
                </a:lnTo>
                <a:lnTo>
                  <a:pt x="1171" y="944"/>
                </a:lnTo>
                <a:lnTo>
                  <a:pt x="1171" y="94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436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436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4364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4364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4365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4365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436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436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4374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4374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37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37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9" dur="10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300"/>
                            </p:stCondLst>
                            <p:childTnLst>
                              <p:par>
                                <p:cTn id="631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3" dur="1000"/>
                                        <p:tgtEl>
                                          <p:spTgt spid="4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6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10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900"/>
                            </p:stCondLst>
                            <p:childTnLst>
                              <p:par>
                                <p:cTn id="639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10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200"/>
                            </p:stCondLst>
                            <p:childTnLst>
                              <p:par>
                                <p:cTn id="643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10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1000"/>
                                        <p:tgtEl>
                                          <p:spTgt spid="4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800"/>
                            </p:stCondLst>
                            <p:childTnLst>
                              <p:par>
                                <p:cTn id="651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1000"/>
                                        <p:tgtEl>
                                          <p:spTgt spid="4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7" name="Picture 2" descr="Noname1"/>
          <p:cNvPicPr/>
          <p:nvPr/>
        </p:nvPicPr>
        <p:blipFill>
          <a:blip r:embed="rId1"/>
          <a:stretch/>
        </p:blipFill>
        <p:spPr>
          <a:xfrm>
            <a:off x="743436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398" name="Picture 3" descr="Noname1"/>
          <p:cNvPicPr/>
          <p:nvPr/>
        </p:nvPicPr>
        <p:blipFill>
          <a:blip r:embed="rId2"/>
          <a:stretch/>
        </p:blipFill>
        <p:spPr>
          <a:xfrm>
            <a:off x="5910120" y="3049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399" name="Picture 4" descr="Noname1"/>
          <p:cNvPicPr/>
          <p:nvPr/>
        </p:nvPicPr>
        <p:blipFill>
          <a:blip r:embed="rId3"/>
          <a:stretch/>
        </p:blipFill>
        <p:spPr>
          <a:xfrm>
            <a:off x="4481640" y="2761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400" name="Picture 5" descr="Noname1"/>
          <p:cNvPicPr/>
          <p:nvPr/>
        </p:nvPicPr>
        <p:blipFill>
          <a:blip r:embed="rId4"/>
          <a:stretch/>
        </p:blipFill>
        <p:spPr>
          <a:xfrm>
            <a:off x="3052800" y="2430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401" name="Picture 6" descr="Noname1"/>
          <p:cNvPicPr/>
          <p:nvPr/>
        </p:nvPicPr>
        <p:blipFill>
          <a:blip r:embed="rId5"/>
          <a:stretch/>
        </p:blipFill>
        <p:spPr>
          <a:xfrm>
            <a:off x="1523880" y="233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402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403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Text Box 9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Text Box 10"/>
          <p:cNvSpPr/>
          <p:nvPr/>
        </p:nvSpPr>
        <p:spPr>
          <a:xfrm>
            <a:off x="5986440" y="338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Text Box 11"/>
          <p:cNvSpPr/>
          <p:nvPr/>
        </p:nvSpPr>
        <p:spPr>
          <a:xfrm>
            <a:off x="7515360" y="31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Text Box 12"/>
          <p:cNvSpPr/>
          <p:nvPr/>
        </p:nvSpPr>
        <p:spPr>
          <a:xfrm>
            <a:off x="4572000" y="2895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Text Box 13"/>
          <p:cNvSpPr/>
          <p:nvPr/>
        </p:nvSpPr>
        <p:spPr>
          <a:xfrm>
            <a:off x="4572000" y="380988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努力 努嘴  努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Text Box 14"/>
          <p:cNvSpPr/>
          <p:nvPr/>
        </p:nvSpPr>
        <p:spPr>
          <a:xfrm>
            <a:off x="533520" y="5029200"/>
            <a:ext cx="838188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努力去做，哪怕只有一点儿希望也要坚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0" name="Group 15"/>
          <p:cNvGrpSpPr/>
          <p:nvPr/>
        </p:nvGrpSpPr>
        <p:grpSpPr>
          <a:xfrm>
            <a:off x="1566720" y="1886040"/>
            <a:ext cx="2657160" cy="2657160"/>
            <a:chOff x="1566720" y="1886040"/>
            <a:chExt cx="2657160" cy="2657160"/>
          </a:xfrm>
        </p:grpSpPr>
        <p:sp>
          <p:nvSpPr>
            <p:cNvPr id="4411" name="Rectangle 16"/>
            <p:cNvSpPr/>
            <p:nvPr/>
          </p:nvSpPr>
          <p:spPr>
            <a:xfrm>
              <a:off x="1566720" y="1886040"/>
              <a:ext cx="2657160" cy="265716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Line 17"/>
            <p:cNvSpPr/>
            <p:nvPr/>
          </p:nvSpPr>
          <p:spPr>
            <a:xfrm>
              <a:off x="1566720" y="3225240"/>
              <a:ext cx="2657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Line 18"/>
            <p:cNvSpPr/>
            <p:nvPr/>
          </p:nvSpPr>
          <p:spPr>
            <a:xfrm>
              <a:off x="2878920" y="1886040"/>
              <a:ext cx="0" cy="265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14" name="Picture 19" descr="Noname2"/>
          <p:cNvPicPr/>
          <p:nvPr/>
        </p:nvPicPr>
        <p:blipFill>
          <a:blip r:embed="rId7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415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Text Box 21"/>
          <p:cNvSpPr/>
          <p:nvPr/>
        </p:nvSpPr>
        <p:spPr>
          <a:xfrm>
            <a:off x="4567320" y="33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Text Box 22"/>
          <p:cNvSpPr/>
          <p:nvPr/>
        </p:nvSpPr>
        <p:spPr>
          <a:xfrm>
            <a:off x="1981080" y="990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ǔ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Freeform 43"/>
          <p:cNvSpPr/>
          <p:nvPr/>
        </p:nvSpPr>
        <p:spPr>
          <a:xfrm>
            <a:off x="1986120" y="2658960"/>
            <a:ext cx="771480" cy="235080"/>
          </a:xfrm>
          <a:custGeom>
            <a:avLst/>
            <a:gdLst>
              <a:gd name="textAreaLeft" fmla="*/ 0 w 771480"/>
              <a:gd name="textAreaRight" fmla="*/ 771840 w 7714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973" h="296">
                <a:moveTo>
                  <a:pt x="140" y="167"/>
                </a:moveTo>
                <a:lnTo>
                  <a:pt x="144" y="165"/>
                </a:lnTo>
                <a:lnTo>
                  <a:pt x="148" y="165"/>
                </a:lnTo>
                <a:lnTo>
                  <a:pt x="153" y="163"/>
                </a:lnTo>
                <a:lnTo>
                  <a:pt x="161" y="161"/>
                </a:lnTo>
                <a:lnTo>
                  <a:pt x="171" y="159"/>
                </a:lnTo>
                <a:lnTo>
                  <a:pt x="180" y="158"/>
                </a:lnTo>
                <a:lnTo>
                  <a:pt x="194" y="156"/>
                </a:lnTo>
                <a:lnTo>
                  <a:pt x="207" y="152"/>
                </a:lnTo>
                <a:lnTo>
                  <a:pt x="220" y="150"/>
                </a:lnTo>
                <a:lnTo>
                  <a:pt x="238" y="146"/>
                </a:lnTo>
                <a:lnTo>
                  <a:pt x="255" y="142"/>
                </a:lnTo>
                <a:lnTo>
                  <a:pt x="274" y="138"/>
                </a:lnTo>
                <a:lnTo>
                  <a:pt x="295" y="135"/>
                </a:lnTo>
                <a:lnTo>
                  <a:pt x="318" y="131"/>
                </a:lnTo>
                <a:lnTo>
                  <a:pt x="341" y="125"/>
                </a:lnTo>
                <a:lnTo>
                  <a:pt x="366" y="121"/>
                </a:lnTo>
                <a:lnTo>
                  <a:pt x="393" y="115"/>
                </a:lnTo>
                <a:lnTo>
                  <a:pt x="422" y="110"/>
                </a:lnTo>
                <a:lnTo>
                  <a:pt x="451" y="104"/>
                </a:lnTo>
                <a:lnTo>
                  <a:pt x="481" y="98"/>
                </a:lnTo>
                <a:lnTo>
                  <a:pt x="514" y="92"/>
                </a:lnTo>
                <a:lnTo>
                  <a:pt x="549" y="85"/>
                </a:lnTo>
                <a:lnTo>
                  <a:pt x="585" y="79"/>
                </a:lnTo>
                <a:lnTo>
                  <a:pt x="622" y="71"/>
                </a:lnTo>
                <a:lnTo>
                  <a:pt x="660" y="64"/>
                </a:lnTo>
                <a:lnTo>
                  <a:pt x="700" y="56"/>
                </a:lnTo>
                <a:lnTo>
                  <a:pt x="742" y="46"/>
                </a:lnTo>
                <a:lnTo>
                  <a:pt x="785" y="39"/>
                </a:lnTo>
                <a:lnTo>
                  <a:pt x="829" y="29"/>
                </a:lnTo>
                <a:lnTo>
                  <a:pt x="875" y="19"/>
                </a:lnTo>
                <a:lnTo>
                  <a:pt x="923" y="10"/>
                </a:lnTo>
                <a:lnTo>
                  <a:pt x="973" y="0"/>
                </a:lnTo>
                <a:lnTo>
                  <a:pt x="973" y="79"/>
                </a:lnTo>
                <a:lnTo>
                  <a:pt x="909" y="92"/>
                </a:lnTo>
                <a:lnTo>
                  <a:pt x="844" y="108"/>
                </a:lnTo>
                <a:lnTo>
                  <a:pt x="812" y="115"/>
                </a:lnTo>
                <a:lnTo>
                  <a:pt x="779" y="123"/>
                </a:lnTo>
                <a:lnTo>
                  <a:pt x="744" y="131"/>
                </a:lnTo>
                <a:lnTo>
                  <a:pt x="710" y="138"/>
                </a:lnTo>
                <a:lnTo>
                  <a:pt x="671" y="146"/>
                </a:lnTo>
                <a:lnTo>
                  <a:pt x="633" y="154"/>
                </a:lnTo>
                <a:lnTo>
                  <a:pt x="595" y="163"/>
                </a:lnTo>
                <a:lnTo>
                  <a:pt x="556" y="173"/>
                </a:lnTo>
                <a:lnTo>
                  <a:pt x="518" y="183"/>
                </a:lnTo>
                <a:lnTo>
                  <a:pt x="480" y="194"/>
                </a:lnTo>
                <a:lnTo>
                  <a:pt x="401" y="217"/>
                </a:lnTo>
                <a:lnTo>
                  <a:pt x="382" y="221"/>
                </a:lnTo>
                <a:lnTo>
                  <a:pt x="362" y="227"/>
                </a:lnTo>
                <a:lnTo>
                  <a:pt x="343" y="232"/>
                </a:lnTo>
                <a:lnTo>
                  <a:pt x="326" y="236"/>
                </a:lnTo>
                <a:lnTo>
                  <a:pt x="309" y="242"/>
                </a:lnTo>
                <a:lnTo>
                  <a:pt x="295" y="246"/>
                </a:lnTo>
                <a:lnTo>
                  <a:pt x="280" y="250"/>
                </a:lnTo>
                <a:lnTo>
                  <a:pt x="267" y="254"/>
                </a:lnTo>
                <a:lnTo>
                  <a:pt x="255" y="257"/>
                </a:lnTo>
                <a:lnTo>
                  <a:pt x="243" y="259"/>
                </a:lnTo>
                <a:lnTo>
                  <a:pt x="234" y="263"/>
                </a:lnTo>
                <a:lnTo>
                  <a:pt x="224" y="265"/>
                </a:lnTo>
                <a:lnTo>
                  <a:pt x="215" y="269"/>
                </a:lnTo>
                <a:lnTo>
                  <a:pt x="207" y="271"/>
                </a:lnTo>
                <a:lnTo>
                  <a:pt x="201" y="273"/>
                </a:lnTo>
                <a:lnTo>
                  <a:pt x="196" y="275"/>
                </a:lnTo>
                <a:lnTo>
                  <a:pt x="174" y="282"/>
                </a:lnTo>
                <a:lnTo>
                  <a:pt x="165" y="286"/>
                </a:lnTo>
                <a:lnTo>
                  <a:pt x="155" y="288"/>
                </a:lnTo>
                <a:lnTo>
                  <a:pt x="148" y="292"/>
                </a:lnTo>
                <a:lnTo>
                  <a:pt x="140" y="294"/>
                </a:lnTo>
                <a:lnTo>
                  <a:pt x="134" y="294"/>
                </a:lnTo>
                <a:lnTo>
                  <a:pt x="130" y="296"/>
                </a:lnTo>
                <a:lnTo>
                  <a:pt x="123" y="294"/>
                </a:lnTo>
                <a:lnTo>
                  <a:pt x="115" y="292"/>
                </a:lnTo>
                <a:lnTo>
                  <a:pt x="105" y="286"/>
                </a:lnTo>
                <a:lnTo>
                  <a:pt x="96" y="280"/>
                </a:lnTo>
                <a:lnTo>
                  <a:pt x="86" y="273"/>
                </a:lnTo>
                <a:lnTo>
                  <a:pt x="77" y="261"/>
                </a:lnTo>
                <a:lnTo>
                  <a:pt x="65" y="250"/>
                </a:lnTo>
                <a:lnTo>
                  <a:pt x="55" y="236"/>
                </a:lnTo>
                <a:lnTo>
                  <a:pt x="42" y="225"/>
                </a:lnTo>
                <a:lnTo>
                  <a:pt x="30" y="213"/>
                </a:lnTo>
                <a:lnTo>
                  <a:pt x="21" y="204"/>
                </a:lnTo>
                <a:lnTo>
                  <a:pt x="13" y="192"/>
                </a:lnTo>
                <a:lnTo>
                  <a:pt x="7" y="183"/>
                </a:lnTo>
                <a:lnTo>
                  <a:pt x="2" y="173"/>
                </a:lnTo>
                <a:lnTo>
                  <a:pt x="0" y="165"/>
                </a:lnTo>
                <a:lnTo>
                  <a:pt x="0" y="158"/>
                </a:lnTo>
                <a:lnTo>
                  <a:pt x="0" y="154"/>
                </a:lnTo>
                <a:lnTo>
                  <a:pt x="2" y="150"/>
                </a:lnTo>
                <a:lnTo>
                  <a:pt x="7" y="148"/>
                </a:lnTo>
                <a:lnTo>
                  <a:pt x="13" y="144"/>
                </a:lnTo>
                <a:lnTo>
                  <a:pt x="21" y="144"/>
                </a:lnTo>
                <a:lnTo>
                  <a:pt x="30" y="144"/>
                </a:lnTo>
                <a:lnTo>
                  <a:pt x="42" y="144"/>
                </a:lnTo>
                <a:lnTo>
                  <a:pt x="55" y="148"/>
                </a:lnTo>
                <a:lnTo>
                  <a:pt x="69" y="152"/>
                </a:lnTo>
                <a:lnTo>
                  <a:pt x="82" y="154"/>
                </a:lnTo>
                <a:lnTo>
                  <a:pt x="94" y="158"/>
                </a:lnTo>
                <a:lnTo>
                  <a:pt x="103" y="161"/>
                </a:lnTo>
                <a:lnTo>
                  <a:pt x="115" y="163"/>
                </a:lnTo>
                <a:lnTo>
                  <a:pt x="124" y="165"/>
                </a:lnTo>
                <a:lnTo>
                  <a:pt x="132" y="167"/>
                </a:lnTo>
                <a:lnTo>
                  <a:pt x="140" y="16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Freeform 44"/>
          <p:cNvSpPr/>
          <p:nvPr/>
        </p:nvSpPr>
        <p:spPr>
          <a:xfrm>
            <a:off x="2390760" y="2293920"/>
            <a:ext cx="347760" cy="939960"/>
          </a:xfrm>
          <a:custGeom>
            <a:avLst/>
            <a:gdLst>
              <a:gd name="textAreaLeft" fmla="*/ 0 w 347760"/>
              <a:gd name="textAreaRight" fmla="*/ 348120 w 3477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438" h="1184">
                <a:moveTo>
                  <a:pt x="144" y="577"/>
                </a:moveTo>
                <a:lnTo>
                  <a:pt x="138" y="598"/>
                </a:lnTo>
                <a:lnTo>
                  <a:pt x="131" y="616"/>
                </a:lnTo>
                <a:lnTo>
                  <a:pt x="125" y="635"/>
                </a:lnTo>
                <a:lnTo>
                  <a:pt x="119" y="652"/>
                </a:lnTo>
                <a:lnTo>
                  <a:pt x="115" y="667"/>
                </a:lnTo>
                <a:lnTo>
                  <a:pt x="112" y="683"/>
                </a:lnTo>
                <a:lnTo>
                  <a:pt x="108" y="696"/>
                </a:lnTo>
                <a:lnTo>
                  <a:pt x="104" y="708"/>
                </a:lnTo>
                <a:lnTo>
                  <a:pt x="100" y="719"/>
                </a:lnTo>
                <a:lnTo>
                  <a:pt x="98" y="729"/>
                </a:lnTo>
                <a:lnTo>
                  <a:pt x="96" y="738"/>
                </a:lnTo>
                <a:lnTo>
                  <a:pt x="96" y="746"/>
                </a:lnTo>
                <a:lnTo>
                  <a:pt x="94" y="754"/>
                </a:lnTo>
                <a:lnTo>
                  <a:pt x="96" y="758"/>
                </a:lnTo>
                <a:lnTo>
                  <a:pt x="96" y="761"/>
                </a:lnTo>
                <a:lnTo>
                  <a:pt x="98" y="765"/>
                </a:lnTo>
                <a:lnTo>
                  <a:pt x="100" y="767"/>
                </a:lnTo>
                <a:lnTo>
                  <a:pt x="104" y="771"/>
                </a:lnTo>
                <a:lnTo>
                  <a:pt x="108" y="775"/>
                </a:lnTo>
                <a:lnTo>
                  <a:pt x="113" y="779"/>
                </a:lnTo>
                <a:lnTo>
                  <a:pt x="119" y="785"/>
                </a:lnTo>
                <a:lnTo>
                  <a:pt x="129" y="792"/>
                </a:lnTo>
                <a:lnTo>
                  <a:pt x="136" y="800"/>
                </a:lnTo>
                <a:lnTo>
                  <a:pt x="146" y="808"/>
                </a:lnTo>
                <a:lnTo>
                  <a:pt x="158" y="817"/>
                </a:lnTo>
                <a:lnTo>
                  <a:pt x="171" y="827"/>
                </a:lnTo>
                <a:lnTo>
                  <a:pt x="183" y="836"/>
                </a:lnTo>
                <a:lnTo>
                  <a:pt x="198" y="848"/>
                </a:lnTo>
                <a:lnTo>
                  <a:pt x="213" y="861"/>
                </a:lnTo>
                <a:lnTo>
                  <a:pt x="231" y="875"/>
                </a:lnTo>
                <a:lnTo>
                  <a:pt x="248" y="888"/>
                </a:lnTo>
                <a:lnTo>
                  <a:pt x="265" y="902"/>
                </a:lnTo>
                <a:lnTo>
                  <a:pt x="284" y="917"/>
                </a:lnTo>
                <a:lnTo>
                  <a:pt x="302" y="930"/>
                </a:lnTo>
                <a:lnTo>
                  <a:pt x="319" y="946"/>
                </a:lnTo>
                <a:lnTo>
                  <a:pt x="334" y="957"/>
                </a:lnTo>
                <a:lnTo>
                  <a:pt x="348" y="971"/>
                </a:lnTo>
                <a:lnTo>
                  <a:pt x="361" y="982"/>
                </a:lnTo>
                <a:lnTo>
                  <a:pt x="374" y="994"/>
                </a:lnTo>
                <a:lnTo>
                  <a:pt x="386" y="1005"/>
                </a:lnTo>
                <a:lnTo>
                  <a:pt x="396" y="1015"/>
                </a:lnTo>
                <a:lnTo>
                  <a:pt x="403" y="1024"/>
                </a:lnTo>
                <a:lnTo>
                  <a:pt x="413" y="1034"/>
                </a:lnTo>
                <a:lnTo>
                  <a:pt x="419" y="1042"/>
                </a:lnTo>
                <a:lnTo>
                  <a:pt x="424" y="1049"/>
                </a:lnTo>
                <a:lnTo>
                  <a:pt x="428" y="1057"/>
                </a:lnTo>
                <a:lnTo>
                  <a:pt x="432" y="1065"/>
                </a:lnTo>
                <a:lnTo>
                  <a:pt x="434" y="1070"/>
                </a:lnTo>
                <a:lnTo>
                  <a:pt x="438" y="1080"/>
                </a:lnTo>
                <a:lnTo>
                  <a:pt x="438" y="1092"/>
                </a:lnTo>
                <a:lnTo>
                  <a:pt x="438" y="1103"/>
                </a:lnTo>
                <a:lnTo>
                  <a:pt x="436" y="1115"/>
                </a:lnTo>
                <a:lnTo>
                  <a:pt x="434" y="1124"/>
                </a:lnTo>
                <a:lnTo>
                  <a:pt x="432" y="1136"/>
                </a:lnTo>
                <a:lnTo>
                  <a:pt x="424" y="1159"/>
                </a:lnTo>
                <a:lnTo>
                  <a:pt x="422" y="1163"/>
                </a:lnTo>
                <a:lnTo>
                  <a:pt x="421" y="1168"/>
                </a:lnTo>
                <a:lnTo>
                  <a:pt x="419" y="1172"/>
                </a:lnTo>
                <a:lnTo>
                  <a:pt x="417" y="1176"/>
                </a:lnTo>
                <a:lnTo>
                  <a:pt x="415" y="1178"/>
                </a:lnTo>
                <a:lnTo>
                  <a:pt x="411" y="1180"/>
                </a:lnTo>
                <a:lnTo>
                  <a:pt x="409" y="1182"/>
                </a:lnTo>
                <a:lnTo>
                  <a:pt x="405" y="1184"/>
                </a:lnTo>
                <a:lnTo>
                  <a:pt x="399" y="1184"/>
                </a:lnTo>
                <a:lnTo>
                  <a:pt x="392" y="1184"/>
                </a:lnTo>
                <a:lnTo>
                  <a:pt x="386" y="1182"/>
                </a:lnTo>
                <a:lnTo>
                  <a:pt x="378" y="1178"/>
                </a:lnTo>
                <a:lnTo>
                  <a:pt x="374" y="1176"/>
                </a:lnTo>
                <a:lnTo>
                  <a:pt x="371" y="1172"/>
                </a:lnTo>
                <a:lnTo>
                  <a:pt x="367" y="1168"/>
                </a:lnTo>
                <a:lnTo>
                  <a:pt x="363" y="1165"/>
                </a:lnTo>
                <a:lnTo>
                  <a:pt x="357" y="1161"/>
                </a:lnTo>
                <a:lnTo>
                  <a:pt x="353" y="1155"/>
                </a:lnTo>
                <a:lnTo>
                  <a:pt x="348" y="1147"/>
                </a:lnTo>
                <a:lnTo>
                  <a:pt x="342" y="1141"/>
                </a:lnTo>
                <a:lnTo>
                  <a:pt x="336" y="1134"/>
                </a:lnTo>
                <a:lnTo>
                  <a:pt x="330" y="1124"/>
                </a:lnTo>
                <a:lnTo>
                  <a:pt x="323" y="1117"/>
                </a:lnTo>
                <a:lnTo>
                  <a:pt x="317" y="1107"/>
                </a:lnTo>
                <a:lnTo>
                  <a:pt x="309" y="1095"/>
                </a:lnTo>
                <a:lnTo>
                  <a:pt x="302" y="1084"/>
                </a:lnTo>
                <a:lnTo>
                  <a:pt x="294" y="1072"/>
                </a:lnTo>
                <a:lnTo>
                  <a:pt x="284" y="1061"/>
                </a:lnTo>
                <a:lnTo>
                  <a:pt x="267" y="1034"/>
                </a:lnTo>
                <a:lnTo>
                  <a:pt x="248" y="1011"/>
                </a:lnTo>
                <a:lnTo>
                  <a:pt x="229" y="986"/>
                </a:lnTo>
                <a:lnTo>
                  <a:pt x="207" y="965"/>
                </a:lnTo>
                <a:lnTo>
                  <a:pt x="186" y="942"/>
                </a:lnTo>
                <a:lnTo>
                  <a:pt x="163" y="921"/>
                </a:lnTo>
                <a:lnTo>
                  <a:pt x="140" y="902"/>
                </a:lnTo>
                <a:lnTo>
                  <a:pt x="115" y="882"/>
                </a:lnTo>
                <a:lnTo>
                  <a:pt x="104" y="873"/>
                </a:lnTo>
                <a:lnTo>
                  <a:pt x="92" y="865"/>
                </a:lnTo>
                <a:lnTo>
                  <a:pt x="83" y="856"/>
                </a:lnTo>
                <a:lnTo>
                  <a:pt x="73" y="848"/>
                </a:lnTo>
                <a:lnTo>
                  <a:pt x="64" y="840"/>
                </a:lnTo>
                <a:lnTo>
                  <a:pt x="54" y="833"/>
                </a:lnTo>
                <a:lnTo>
                  <a:pt x="46" y="825"/>
                </a:lnTo>
                <a:lnTo>
                  <a:pt x="39" y="819"/>
                </a:lnTo>
                <a:lnTo>
                  <a:pt x="33" y="813"/>
                </a:lnTo>
                <a:lnTo>
                  <a:pt x="27" y="808"/>
                </a:lnTo>
                <a:lnTo>
                  <a:pt x="21" y="802"/>
                </a:lnTo>
                <a:lnTo>
                  <a:pt x="16" y="796"/>
                </a:lnTo>
                <a:lnTo>
                  <a:pt x="12" y="792"/>
                </a:lnTo>
                <a:lnTo>
                  <a:pt x="8" y="790"/>
                </a:lnTo>
                <a:lnTo>
                  <a:pt x="6" y="786"/>
                </a:lnTo>
                <a:lnTo>
                  <a:pt x="4" y="785"/>
                </a:lnTo>
                <a:lnTo>
                  <a:pt x="2" y="783"/>
                </a:lnTo>
                <a:lnTo>
                  <a:pt x="2" y="777"/>
                </a:lnTo>
                <a:lnTo>
                  <a:pt x="0" y="771"/>
                </a:lnTo>
                <a:lnTo>
                  <a:pt x="0" y="765"/>
                </a:lnTo>
                <a:lnTo>
                  <a:pt x="0" y="756"/>
                </a:lnTo>
                <a:lnTo>
                  <a:pt x="2" y="746"/>
                </a:lnTo>
                <a:lnTo>
                  <a:pt x="4" y="733"/>
                </a:lnTo>
                <a:lnTo>
                  <a:pt x="6" y="721"/>
                </a:lnTo>
                <a:lnTo>
                  <a:pt x="8" y="706"/>
                </a:lnTo>
                <a:lnTo>
                  <a:pt x="12" y="690"/>
                </a:lnTo>
                <a:lnTo>
                  <a:pt x="14" y="673"/>
                </a:lnTo>
                <a:lnTo>
                  <a:pt x="19" y="654"/>
                </a:lnTo>
                <a:lnTo>
                  <a:pt x="23" y="635"/>
                </a:lnTo>
                <a:lnTo>
                  <a:pt x="29" y="614"/>
                </a:lnTo>
                <a:lnTo>
                  <a:pt x="35" y="591"/>
                </a:lnTo>
                <a:lnTo>
                  <a:pt x="41" y="568"/>
                </a:lnTo>
                <a:lnTo>
                  <a:pt x="54" y="520"/>
                </a:lnTo>
                <a:lnTo>
                  <a:pt x="67" y="474"/>
                </a:lnTo>
                <a:lnTo>
                  <a:pt x="79" y="428"/>
                </a:lnTo>
                <a:lnTo>
                  <a:pt x="89" y="383"/>
                </a:lnTo>
                <a:lnTo>
                  <a:pt x="98" y="339"/>
                </a:lnTo>
                <a:lnTo>
                  <a:pt x="106" y="297"/>
                </a:lnTo>
                <a:lnTo>
                  <a:pt x="112" y="255"/>
                </a:lnTo>
                <a:lnTo>
                  <a:pt x="115" y="215"/>
                </a:lnTo>
                <a:lnTo>
                  <a:pt x="117" y="193"/>
                </a:lnTo>
                <a:lnTo>
                  <a:pt x="119" y="176"/>
                </a:lnTo>
                <a:lnTo>
                  <a:pt x="121" y="157"/>
                </a:lnTo>
                <a:lnTo>
                  <a:pt x="121" y="142"/>
                </a:lnTo>
                <a:lnTo>
                  <a:pt x="121" y="126"/>
                </a:lnTo>
                <a:lnTo>
                  <a:pt x="121" y="113"/>
                </a:lnTo>
                <a:lnTo>
                  <a:pt x="121" y="99"/>
                </a:lnTo>
                <a:lnTo>
                  <a:pt x="121" y="88"/>
                </a:lnTo>
                <a:lnTo>
                  <a:pt x="119" y="78"/>
                </a:lnTo>
                <a:lnTo>
                  <a:pt x="117" y="69"/>
                </a:lnTo>
                <a:lnTo>
                  <a:pt x="115" y="61"/>
                </a:lnTo>
                <a:lnTo>
                  <a:pt x="113" y="53"/>
                </a:lnTo>
                <a:lnTo>
                  <a:pt x="110" y="48"/>
                </a:lnTo>
                <a:lnTo>
                  <a:pt x="106" y="42"/>
                </a:lnTo>
                <a:lnTo>
                  <a:pt x="102" y="38"/>
                </a:lnTo>
                <a:lnTo>
                  <a:pt x="98" y="36"/>
                </a:lnTo>
                <a:lnTo>
                  <a:pt x="92" y="34"/>
                </a:lnTo>
                <a:lnTo>
                  <a:pt x="89" y="32"/>
                </a:lnTo>
                <a:lnTo>
                  <a:pt x="85" y="30"/>
                </a:lnTo>
                <a:lnTo>
                  <a:pt x="81" y="28"/>
                </a:lnTo>
                <a:lnTo>
                  <a:pt x="79" y="26"/>
                </a:lnTo>
                <a:lnTo>
                  <a:pt x="77" y="25"/>
                </a:lnTo>
                <a:lnTo>
                  <a:pt x="77" y="23"/>
                </a:lnTo>
                <a:lnTo>
                  <a:pt x="77" y="21"/>
                </a:lnTo>
                <a:lnTo>
                  <a:pt x="77" y="19"/>
                </a:lnTo>
                <a:lnTo>
                  <a:pt x="79" y="17"/>
                </a:lnTo>
                <a:lnTo>
                  <a:pt x="81" y="15"/>
                </a:lnTo>
                <a:lnTo>
                  <a:pt x="85" y="13"/>
                </a:lnTo>
                <a:lnTo>
                  <a:pt x="89" y="11"/>
                </a:lnTo>
                <a:lnTo>
                  <a:pt x="92" y="9"/>
                </a:lnTo>
                <a:lnTo>
                  <a:pt x="98" y="7"/>
                </a:lnTo>
                <a:lnTo>
                  <a:pt x="106" y="3"/>
                </a:lnTo>
                <a:lnTo>
                  <a:pt x="115" y="2"/>
                </a:lnTo>
                <a:lnTo>
                  <a:pt x="127" y="0"/>
                </a:lnTo>
                <a:lnTo>
                  <a:pt x="138" y="0"/>
                </a:lnTo>
                <a:lnTo>
                  <a:pt x="152" y="2"/>
                </a:lnTo>
                <a:lnTo>
                  <a:pt x="167" y="5"/>
                </a:lnTo>
                <a:lnTo>
                  <a:pt x="183" y="9"/>
                </a:lnTo>
                <a:lnTo>
                  <a:pt x="200" y="17"/>
                </a:lnTo>
                <a:lnTo>
                  <a:pt x="217" y="28"/>
                </a:lnTo>
                <a:lnTo>
                  <a:pt x="225" y="32"/>
                </a:lnTo>
                <a:lnTo>
                  <a:pt x="232" y="38"/>
                </a:lnTo>
                <a:lnTo>
                  <a:pt x="238" y="42"/>
                </a:lnTo>
                <a:lnTo>
                  <a:pt x="244" y="46"/>
                </a:lnTo>
                <a:lnTo>
                  <a:pt x="250" y="51"/>
                </a:lnTo>
                <a:lnTo>
                  <a:pt x="255" y="55"/>
                </a:lnTo>
                <a:lnTo>
                  <a:pt x="259" y="59"/>
                </a:lnTo>
                <a:lnTo>
                  <a:pt x="263" y="63"/>
                </a:lnTo>
                <a:lnTo>
                  <a:pt x="267" y="67"/>
                </a:lnTo>
                <a:lnTo>
                  <a:pt x="271" y="71"/>
                </a:lnTo>
                <a:lnTo>
                  <a:pt x="273" y="74"/>
                </a:lnTo>
                <a:lnTo>
                  <a:pt x="275" y="78"/>
                </a:lnTo>
                <a:lnTo>
                  <a:pt x="275" y="82"/>
                </a:lnTo>
                <a:lnTo>
                  <a:pt x="275" y="86"/>
                </a:lnTo>
                <a:lnTo>
                  <a:pt x="275" y="92"/>
                </a:lnTo>
                <a:lnTo>
                  <a:pt x="275" y="97"/>
                </a:lnTo>
                <a:lnTo>
                  <a:pt x="275" y="105"/>
                </a:lnTo>
                <a:lnTo>
                  <a:pt x="273" y="113"/>
                </a:lnTo>
                <a:lnTo>
                  <a:pt x="273" y="122"/>
                </a:lnTo>
                <a:lnTo>
                  <a:pt x="271" y="132"/>
                </a:lnTo>
                <a:lnTo>
                  <a:pt x="269" y="142"/>
                </a:lnTo>
                <a:lnTo>
                  <a:pt x="267" y="151"/>
                </a:lnTo>
                <a:lnTo>
                  <a:pt x="265" y="163"/>
                </a:lnTo>
                <a:lnTo>
                  <a:pt x="261" y="176"/>
                </a:lnTo>
                <a:lnTo>
                  <a:pt x="259" y="188"/>
                </a:lnTo>
                <a:lnTo>
                  <a:pt x="255" y="201"/>
                </a:lnTo>
                <a:lnTo>
                  <a:pt x="252" y="216"/>
                </a:lnTo>
                <a:lnTo>
                  <a:pt x="248" y="232"/>
                </a:lnTo>
                <a:lnTo>
                  <a:pt x="242" y="247"/>
                </a:lnTo>
                <a:lnTo>
                  <a:pt x="238" y="263"/>
                </a:lnTo>
                <a:lnTo>
                  <a:pt x="227" y="301"/>
                </a:lnTo>
                <a:lnTo>
                  <a:pt x="217" y="339"/>
                </a:lnTo>
                <a:lnTo>
                  <a:pt x="206" y="378"/>
                </a:lnTo>
                <a:lnTo>
                  <a:pt x="194" y="416"/>
                </a:lnTo>
                <a:lnTo>
                  <a:pt x="183" y="456"/>
                </a:lnTo>
                <a:lnTo>
                  <a:pt x="171" y="497"/>
                </a:lnTo>
                <a:lnTo>
                  <a:pt x="158" y="537"/>
                </a:lnTo>
                <a:lnTo>
                  <a:pt x="144" y="57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Freeform 45"/>
          <p:cNvSpPr/>
          <p:nvPr/>
        </p:nvSpPr>
        <p:spPr>
          <a:xfrm>
            <a:off x="2125800" y="2543040"/>
            <a:ext cx="722160" cy="812880"/>
          </a:xfrm>
          <a:custGeom>
            <a:avLst/>
            <a:gdLst>
              <a:gd name="textAreaLeft" fmla="*/ 0 w 722160"/>
              <a:gd name="textAreaRight" fmla="*/ 722520 w 7221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910" h="1023">
                <a:moveTo>
                  <a:pt x="563" y="726"/>
                </a:moveTo>
                <a:lnTo>
                  <a:pt x="543" y="747"/>
                </a:lnTo>
                <a:lnTo>
                  <a:pt x="524" y="766"/>
                </a:lnTo>
                <a:lnTo>
                  <a:pt x="503" y="785"/>
                </a:lnTo>
                <a:lnTo>
                  <a:pt x="482" y="803"/>
                </a:lnTo>
                <a:lnTo>
                  <a:pt x="461" y="820"/>
                </a:lnTo>
                <a:lnTo>
                  <a:pt x="440" y="835"/>
                </a:lnTo>
                <a:lnTo>
                  <a:pt x="417" y="852"/>
                </a:lnTo>
                <a:lnTo>
                  <a:pt x="396" y="866"/>
                </a:lnTo>
                <a:lnTo>
                  <a:pt x="373" y="881"/>
                </a:lnTo>
                <a:lnTo>
                  <a:pt x="350" y="895"/>
                </a:lnTo>
                <a:lnTo>
                  <a:pt x="327" y="908"/>
                </a:lnTo>
                <a:lnTo>
                  <a:pt x="304" y="920"/>
                </a:lnTo>
                <a:lnTo>
                  <a:pt x="279" y="931"/>
                </a:lnTo>
                <a:lnTo>
                  <a:pt x="256" y="943"/>
                </a:lnTo>
                <a:lnTo>
                  <a:pt x="231" y="952"/>
                </a:lnTo>
                <a:lnTo>
                  <a:pt x="208" y="962"/>
                </a:lnTo>
                <a:lnTo>
                  <a:pt x="181" y="971"/>
                </a:lnTo>
                <a:lnTo>
                  <a:pt x="158" y="979"/>
                </a:lnTo>
                <a:lnTo>
                  <a:pt x="137" y="987"/>
                </a:lnTo>
                <a:lnTo>
                  <a:pt x="115" y="994"/>
                </a:lnTo>
                <a:lnTo>
                  <a:pt x="96" y="1000"/>
                </a:lnTo>
                <a:lnTo>
                  <a:pt x="81" y="1006"/>
                </a:lnTo>
                <a:lnTo>
                  <a:pt x="66" y="1010"/>
                </a:lnTo>
                <a:lnTo>
                  <a:pt x="52" y="1014"/>
                </a:lnTo>
                <a:lnTo>
                  <a:pt x="39" y="1017"/>
                </a:lnTo>
                <a:lnTo>
                  <a:pt x="29" y="1021"/>
                </a:lnTo>
                <a:lnTo>
                  <a:pt x="20" y="1023"/>
                </a:lnTo>
                <a:lnTo>
                  <a:pt x="14" y="1023"/>
                </a:lnTo>
                <a:lnTo>
                  <a:pt x="8" y="1023"/>
                </a:lnTo>
                <a:lnTo>
                  <a:pt x="4" y="1023"/>
                </a:lnTo>
                <a:lnTo>
                  <a:pt x="2" y="1023"/>
                </a:lnTo>
                <a:lnTo>
                  <a:pt x="0" y="1021"/>
                </a:lnTo>
                <a:lnTo>
                  <a:pt x="0" y="1019"/>
                </a:lnTo>
                <a:lnTo>
                  <a:pt x="0" y="1016"/>
                </a:lnTo>
                <a:lnTo>
                  <a:pt x="4" y="1012"/>
                </a:lnTo>
                <a:lnTo>
                  <a:pt x="8" y="1008"/>
                </a:lnTo>
                <a:lnTo>
                  <a:pt x="14" y="1002"/>
                </a:lnTo>
                <a:lnTo>
                  <a:pt x="21" y="994"/>
                </a:lnTo>
                <a:lnTo>
                  <a:pt x="31" y="987"/>
                </a:lnTo>
                <a:lnTo>
                  <a:pt x="43" y="979"/>
                </a:lnTo>
                <a:lnTo>
                  <a:pt x="56" y="970"/>
                </a:lnTo>
                <a:lnTo>
                  <a:pt x="71" y="960"/>
                </a:lnTo>
                <a:lnTo>
                  <a:pt x="89" y="948"/>
                </a:lnTo>
                <a:lnTo>
                  <a:pt x="106" y="937"/>
                </a:lnTo>
                <a:lnTo>
                  <a:pt x="127" y="925"/>
                </a:lnTo>
                <a:lnTo>
                  <a:pt x="148" y="912"/>
                </a:lnTo>
                <a:lnTo>
                  <a:pt x="171" y="898"/>
                </a:lnTo>
                <a:lnTo>
                  <a:pt x="198" y="883"/>
                </a:lnTo>
                <a:lnTo>
                  <a:pt x="246" y="856"/>
                </a:lnTo>
                <a:lnTo>
                  <a:pt x="292" y="827"/>
                </a:lnTo>
                <a:lnTo>
                  <a:pt x="315" y="812"/>
                </a:lnTo>
                <a:lnTo>
                  <a:pt x="336" y="797"/>
                </a:lnTo>
                <a:lnTo>
                  <a:pt x="357" y="781"/>
                </a:lnTo>
                <a:lnTo>
                  <a:pt x="378" y="766"/>
                </a:lnTo>
                <a:lnTo>
                  <a:pt x="399" y="749"/>
                </a:lnTo>
                <a:lnTo>
                  <a:pt x="419" y="732"/>
                </a:lnTo>
                <a:lnTo>
                  <a:pt x="438" y="714"/>
                </a:lnTo>
                <a:lnTo>
                  <a:pt x="457" y="695"/>
                </a:lnTo>
                <a:lnTo>
                  <a:pt x="474" y="678"/>
                </a:lnTo>
                <a:lnTo>
                  <a:pt x="492" y="659"/>
                </a:lnTo>
                <a:lnTo>
                  <a:pt x="509" y="637"/>
                </a:lnTo>
                <a:lnTo>
                  <a:pt x="524" y="618"/>
                </a:lnTo>
                <a:lnTo>
                  <a:pt x="540" y="599"/>
                </a:lnTo>
                <a:lnTo>
                  <a:pt x="555" y="580"/>
                </a:lnTo>
                <a:lnTo>
                  <a:pt x="568" y="561"/>
                </a:lnTo>
                <a:lnTo>
                  <a:pt x="584" y="542"/>
                </a:lnTo>
                <a:lnTo>
                  <a:pt x="595" y="522"/>
                </a:lnTo>
                <a:lnTo>
                  <a:pt x="609" y="503"/>
                </a:lnTo>
                <a:lnTo>
                  <a:pt x="632" y="463"/>
                </a:lnTo>
                <a:lnTo>
                  <a:pt x="655" y="423"/>
                </a:lnTo>
                <a:lnTo>
                  <a:pt x="676" y="380"/>
                </a:lnTo>
                <a:lnTo>
                  <a:pt x="695" y="336"/>
                </a:lnTo>
                <a:lnTo>
                  <a:pt x="712" y="294"/>
                </a:lnTo>
                <a:lnTo>
                  <a:pt x="718" y="273"/>
                </a:lnTo>
                <a:lnTo>
                  <a:pt x="726" y="254"/>
                </a:lnTo>
                <a:lnTo>
                  <a:pt x="730" y="236"/>
                </a:lnTo>
                <a:lnTo>
                  <a:pt x="735" y="217"/>
                </a:lnTo>
                <a:lnTo>
                  <a:pt x="739" y="200"/>
                </a:lnTo>
                <a:lnTo>
                  <a:pt x="743" y="185"/>
                </a:lnTo>
                <a:lnTo>
                  <a:pt x="745" y="169"/>
                </a:lnTo>
                <a:lnTo>
                  <a:pt x="749" y="156"/>
                </a:lnTo>
                <a:lnTo>
                  <a:pt x="751" y="142"/>
                </a:lnTo>
                <a:lnTo>
                  <a:pt x="751" y="129"/>
                </a:lnTo>
                <a:lnTo>
                  <a:pt x="753" y="117"/>
                </a:lnTo>
                <a:lnTo>
                  <a:pt x="753" y="108"/>
                </a:lnTo>
                <a:lnTo>
                  <a:pt x="753" y="98"/>
                </a:lnTo>
                <a:lnTo>
                  <a:pt x="753" y="91"/>
                </a:lnTo>
                <a:lnTo>
                  <a:pt x="751" y="83"/>
                </a:lnTo>
                <a:lnTo>
                  <a:pt x="751" y="77"/>
                </a:lnTo>
                <a:lnTo>
                  <a:pt x="747" y="66"/>
                </a:lnTo>
                <a:lnTo>
                  <a:pt x="745" y="54"/>
                </a:lnTo>
                <a:lnTo>
                  <a:pt x="743" y="44"/>
                </a:lnTo>
                <a:lnTo>
                  <a:pt x="743" y="35"/>
                </a:lnTo>
                <a:lnTo>
                  <a:pt x="745" y="27"/>
                </a:lnTo>
                <a:lnTo>
                  <a:pt x="749" y="20"/>
                </a:lnTo>
                <a:lnTo>
                  <a:pt x="753" y="12"/>
                </a:lnTo>
                <a:lnTo>
                  <a:pt x="758" y="8"/>
                </a:lnTo>
                <a:lnTo>
                  <a:pt x="764" y="4"/>
                </a:lnTo>
                <a:lnTo>
                  <a:pt x="770" y="2"/>
                </a:lnTo>
                <a:lnTo>
                  <a:pt x="778" y="0"/>
                </a:lnTo>
                <a:lnTo>
                  <a:pt x="787" y="2"/>
                </a:lnTo>
                <a:lnTo>
                  <a:pt x="799" y="2"/>
                </a:lnTo>
                <a:lnTo>
                  <a:pt x="812" y="6"/>
                </a:lnTo>
                <a:lnTo>
                  <a:pt x="827" y="12"/>
                </a:lnTo>
                <a:lnTo>
                  <a:pt x="843" y="18"/>
                </a:lnTo>
                <a:lnTo>
                  <a:pt x="856" y="25"/>
                </a:lnTo>
                <a:lnTo>
                  <a:pt x="868" y="33"/>
                </a:lnTo>
                <a:lnTo>
                  <a:pt x="877" y="41"/>
                </a:lnTo>
                <a:lnTo>
                  <a:pt x="887" y="48"/>
                </a:lnTo>
                <a:lnTo>
                  <a:pt x="895" y="58"/>
                </a:lnTo>
                <a:lnTo>
                  <a:pt x="900" y="66"/>
                </a:lnTo>
                <a:lnTo>
                  <a:pt x="904" y="75"/>
                </a:lnTo>
                <a:lnTo>
                  <a:pt x="908" y="87"/>
                </a:lnTo>
                <a:lnTo>
                  <a:pt x="910" y="92"/>
                </a:lnTo>
                <a:lnTo>
                  <a:pt x="910" y="100"/>
                </a:lnTo>
                <a:lnTo>
                  <a:pt x="910" y="108"/>
                </a:lnTo>
                <a:lnTo>
                  <a:pt x="908" y="117"/>
                </a:lnTo>
                <a:lnTo>
                  <a:pt x="906" y="129"/>
                </a:lnTo>
                <a:lnTo>
                  <a:pt x="904" y="140"/>
                </a:lnTo>
                <a:lnTo>
                  <a:pt x="898" y="156"/>
                </a:lnTo>
                <a:lnTo>
                  <a:pt x="895" y="169"/>
                </a:lnTo>
                <a:lnTo>
                  <a:pt x="889" y="186"/>
                </a:lnTo>
                <a:lnTo>
                  <a:pt x="881" y="204"/>
                </a:lnTo>
                <a:lnTo>
                  <a:pt x="875" y="223"/>
                </a:lnTo>
                <a:lnTo>
                  <a:pt x="866" y="244"/>
                </a:lnTo>
                <a:lnTo>
                  <a:pt x="856" y="267"/>
                </a:lnTo>
                <a:lnTo>
                  <a:pt x="847" y="290"/>
                </a:lnTo>
                <a:lnTo>
                  <a:pt x="837" y="315"/>
                </a:lnTo>
                <a:lnTo>
                  <a:pt x="826" y="342"/>
                </a:lnTo>
                <a:lnTo>
                  <a:pt x="812" y="371"/>
                </a:lnTo>
                <a:lnTo>
                  <a:pt x="799" y="398"/>
                </a:lnTo>
                <a:lnTo>
                  <a:pt x="785" y="423"/>
                </a:lnTo>
                <a:lnTo>
                  <a:pt x="772" y="449"/>
                </a:lnTo>
                <a:lnTo>
                  <a:pt x="758" y="474"/>
                </a:lnTo>
                <a:lnTo>
                  <a:pt x="743" y="499"/>
                </a:lnTo>
                <a:lnTo>
                  <a:pt x="728" y="524"/>
                </a:lnTo>
                <a:lnTo>
                  <a:pt x="710" y="549"/>
                </a:lnTo>
                <a:lnTo>
                  <a:pt x="695" y="572"/>
                </a:lnTo>
                <a:lnTo>
                  <a:pt x="678" y="595"/>
                </a:lnTo>
                <a:lnTo>
                  <a:pt x="660" y="618"/>
                </a:lnTo>
                <a:lnTo>
                  <a:pt x="641" y="641"/>
                </a:lnTo>
                <a:lnTo>
                  <a:pt x="622" y="662"/>
                </a:lnTo>
                <a:lnTo>
                  <a:pt x="603" y="684"/>
                </a:lnTo>
                <a:lnTo>
                  <a:pt x="584" y="705"/>
                </a:lnTo>
                <a:lnTo>
                  <a:pt x="563" y="72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Freeform 46"/>
          <p:cNvSpPr/>
          <p:nvPr/>
        </p:nvSpPr>
        <p:spPr>
          <a:xfrm>
            <a:off x="2817720" y="2471760"/>
            <a:ext cx="601920" cy="642960"/>
          </a:xfrm>
          <a:custGeom>
            <a:avLst/>
            <a:gdLst>
              <a:gd name="textAreaLeft" fmla="*/ 0 w 601920"/>
              <a:gd name="textAreaRight" fmla="*/ 602280 w 60192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758" h="810">
                <a:moveTo>
                  <a:pt x="552" y="29"/>
                </a:moveTo>
                <a:lnTo>
                  <a:pt x="556" y="21"/>
                </a:lnTo>
                <a:lnTo>
                  <a:pt x="560" y="15"/>
                </a:lnTo>
                <a:lnTo>
                  <a:pt x="566" y="12"/>
                </a:lnTo>
                <a:lnTo>
                  <a:pt x="571" y="6"/>
                </a:lnTo>
                <a:lnTo>
                  <a:pt x="577" y="4"/>
                </a:lnTo>
                <a:lnTo>
                  <a:pt x="585" y="2"/>
                </a:lnTo>
                <a:lnTo>
                  <a:pt x="591" y="0"/>
                </a:lnTo>
                <a:lnTo>
                  <a:pt x="598" y="0"/>
                </a:lnTo>
                <a:lnTo>
                  <a:pt x="606" y="0"/>
                </a:lnTo>
                <a:lnTo>
                  <a:pt x="614" y="2"/>
                </a:lnTo>
                <a:lnTo>
                  <a:pt x="623" y="8"/>
                </a:lnTo>
                <a:lnTo>
                  <a:pt x="635" y="14"/>
                </a:lnTo>
                <a:lnTo>
                  <a:pt x="646" y="19"/>
                </a:lnTo>
                <a:lnTo>
                  <a:pt x="660" y="29"/>
                </a:lnTo>
                <a:lnTo>
                  <a:pt x="675" y="39"/>
                </a:lnTo>
                <a:lnTo>
                  <a:pt x="692" y="48"/>
                </a:lnTo>
                <a:lnTo>
                  <a:pt x="700" y="54"/>
                </a:lnTo>
                <a:lnTo>
                  <a:pt x="708" y="60"/>
                </a:lnTo>
                <a:lnTo>
                  <a:pt x="715" y="65"/>
                </a:lnTo>
                <a:lnTo>
                  <a:pt x="721" y="71"/>
                </a:lnTo>
                <a:lnTo>
                  <a:pt x="729" y="77"/>
                </a:lnTo>
                <a:lnTo>
                  <a:pt x="733" y="81"/>
                </a:lnTo>
                <a:lnTo>
                  <a:pt x="738" y="86"/>
                </a:lnTo>
                <a:lnTo>
                  <a:pt x="742" y="92"/>
                </a:lnTo>
                <a:lnTo>
                  <a:pt x="746" y="96"/>
                </a:lnTo>
                <a:lnTo>
                  <a:pt x="750" y="102"/>
                </a:lnTo>
                <a:lnTo>
                  <a:pt x="752" y="106"/>
                </a:lnTo>
                <a:lnTo>
                  <a:pt x="754" y="111"/>
                </a:lnTo>
                <a:lnTo>
                  <a:pt x="756" y="115"/>
                </a:lnTo>
                <a:lnTo>
                  <a:pt x="758" y="119"/>
                </a:lnTo>
                <a:lnTo>
                  <a:pt x="758" y="127"/>
                </a:lnTo>
                <a:lnTo>
                  <a:pt x="758" y="134"/>
                </a:lnTo>
                <a:lnTo>
                  <a:pt x="756" y="140"/>
                </a:lnTo>
                <a:lnTo>
                  <a:pt x="754" y="146"/>
                </a:lnTo>
                <a:lnTo>
                  <a:pt x="750" y="150"/>
                </a:lnTo>
                <a:lnTo>
                  <a:pt x="744" y="156"/>
                </a:lnTo>
                <a:lnTo>
                  <a:pt x="738" y="159"/>
                </a:lnTo>
                <a:lnTo>
                  <a:pt x="731" y="163"/>
                </a:lnTo>
                <a:lnTo>
                  <a:pt x="721" y="167"/>
                </a:lnTo>
                <a:lnTo>
                  <a:pt x="715" y="169"/>
                </a:lnTo>
                <a:lnTo>
                  <a:pt x="710" y="173"/>
                </a:lnTo>
                <a:lnTo>
                  <a:pt x="704" y="177"/>
                </a:lnTo>
                <a:lnTo>
                  <a:pt x="700" y="181"/>
                </a:lnTo>
                <a:lnTo>
                  <a:pt x="694" y="186"/>
                </a:lnTo>
                <a:lnTo>
                  <a:pt x="689" y="194"/>
                </a:lnTo>
                <a:lnTo>
                  <a:pt x="683" y="200"/>
                </a:lnTo>
                <a:lnTo>
                  <a:pt x="677" y="209"/>
                </a:lnTo>
                <a:lnTo>
                  <a:pt x="673" y="217"/>
                </a:lnTo>
                <a:lnTo>
                  <a:pt x="667" y="227"/>
                </a:lnTo>
                <a:lnTo>
                  <a:pt x="662" y="236"/>
                </a:lnTo>
                <a:lnTo>
                  <a:pt x="658" y="248"/>
                </a:lnTo>
                <a:lnTo>
                  <a:pt x="652" y="257"/>
                </a:lnTo>
                <a:lnTo>
                  <a:pt x="646" y="269"/>
                </a:lnTo>
                <a:lnTo>
                  <a:pt x="641" y="282"/>
                </a:lnTo>
                <a:lnTo>
                  <a:pt x="637" y="294"/>
                </a:lnTo>
                <a:lnTo>
                  <a:pt x="631" y="307"/>
                </a:lnTo>
                <a:lnTo>
                  <a:pt x="625" y="321"/>
                </a:lnTo>
                <a:lnTo>
                  <a:pt x="612" y="348"/>
                </a:lnTo>
                <a:lnTo>
                  <a:pt x="596" y="376"/>
                </a:lnTo>
                <a:lnTo>
                  <a:pt x="579" y="403"/>
                </a:lnTo>
                <a:lnTo>
                  <a:pt x="562" y="432"/>
                </a:lnTo>
                <a:lnTo>
                  <a:pt x="541" y="463"/>
                </a:lnTo>
                <a:lnTo>
                  <a:pt x="520" y="491"/>
                </a:lnTo>
                <a:lnTo>
                  <a:pt x="495" y="520"/>
                </a:lnTo>
                <a:lnTo>
                  <a:pt x="483" y="536"/>
                </a:lnTo>
                <a:lnTo>
                  <a:pt x="472" y="549"/>
                </a:lnTo>
                <a:lnTo>
                  <a:pt x="458" y="562"/>
                </a:lnTo>
                <a:lnTo>
                  <a:pt x="447" y="576"/>
                </a:lnTo>
                <a:lnTo>
                  <a:pt x="435" y="589"/>
                </a:lnTo>
                <a:lnTo>
                  <a:pt x="422" y="601"/>
                </a:lnTo>
                <a:lnTo>
                  <a:pt x="410" y="612"/>
                </a:lnTo>
                <a:lnTo>
                  <a:pt x="397" y="624"/>
                </a:lnTo>
                <a:lnTo>
                  <a:pt x="385" y="633"/>
                </a:lnTo>
                <a:lnTo>
                  <a:pt x="372" y="643"/>
                </a:lnTo>
                <a:lnTo>
                  <a:pt x="360" y="653"/>
                </a:lnTo>
                <a:lnTo>
                  <a:pt x="349" y="660"/>
                </a:lnTo>
                <a:lnTo>
                  <a:pt x="335" y="668"/>
                </a:lnTo>
                <a:lnTo>
                  <a:pt x="324" y="676"/>
                </a:lnTo>
                <a:lnTo>
                  <a:pt x="310" y="681"/>
                </a:lnTo>
                <a:lnTo>
                  <a:pt x="299" y="689"/>
                </a:lnTo>
                <a:lnTo>
                  <a:pt x="274" y="703"/>
                </a:lnTo>
                <a:lnTo>
                  <a:pt x="249" y="716"/>
                </a:lnTo>
                <a:lnTo>
                  <a:pt x="226" y="729"/>
                </a:lnTo>
                <a:lnTo>
                  <a:pt x="201" y="741"/>
                </a:lnTo>
                <a:lnTo>
                  <a:pt x="151" y="764"/>
                </a:lnTo>
                <a:lnTo>
                  <a:pt x="103" y="787"/>
                </a:lnTo>
                <a:lnTo>
                  <a:pt x="90" y="793"/>
                </a:lnTo>
                <a:lnTo>
                  <a:pt x="78" y="797"/>
                </a:lnTo>
                <a:lnTo>
                  <a:pt x="69" y="800"/>
                </a:lnTo>
                <a:lnTo>
                  <a:pt x="59" y="804"/>
                </a:lnTo>
                <a:lnTo>
                  <a:pt x="49" y="806"/>
                </a:lnTo>
                <a:lnTo>
                  <a:pt x="42" y="808"/>
                </a:lnTo>
                <a:lnTo>
                  <a:pt x="34" y="810"/>
                </a:lnTo>
                <a:lnTo>
                  <a:pt x="26" y="810"/>
                </a:lnTo>
                <a:lnTo>
                  <a:pt x="21" y="810"/>
                </a:lnTo>
                <a:lnTo>
                  <a:pt x="15" y="810"/>
                </a:lnTo>
                <a:lnTo>
                  <a:pt x="9" y="810"/>
                </a:lnTo>
                <a:lnTo>
                  <a:pt x="5" y="808"/>
                </a:lnTo>
                <a:lnTo>
                  <a:pt x="3" y="806"/>
                </a:lnTo>
                <a:lnTo>
                  <a:pt x="1" y="802"/>
                </a:lnTo>
                <a:lnTo>
                  <a:pt x="0" y="800"/>
                </a:lnTo>
                <a:lnTo>
                  <a:pt x="0" y="797"/>
                </a:lnTo>
                <a:lnTo>
                  <a:pt x="0" y="795"/>
                </a:lnTo>
                <a:lnTo>
                  <a:pt x="1" y="791"/>
                </a:lnTo>
                <a:lnTo>
                  <a:pt x="5" y="789"/>
                </a:lnTo>
                <a:lnTo>
                  <a:pt x="9" y="783"/>
                </a:lnTo>
                <a:lnTo>
                  <a:pt x="13" y="779"/>
                </a:lnTo>
                <a:lnTo>
                  <a:pt x="21" y="774"/>
                </a:lnTo>
                <a:lnTo>
                  <a:pt x="26" y="768"/>
                </a:lnTo>
                <a:lnTo>
                  <a:pt x="36" y="760"/>
                </a:lnTo>
                <a:lnTo>
                  <a:pt x="46" y="752"/>
                </a:lnTo>
                <a:lnTo>
                  <a:pt x="57" y="745"/>
                </a:lnTo>
                <a:lnTo>
                  <a:pt x="69" y="735"/>
                </a:lnTo>
                <a:lnTo>
                  <a:pt x="82" y="726"/>
                </a:lnTo>
                <a:lnTo>
                  <a:pt x="97" y="714"/>
                </a:lnTo>
                <a:lnTo>
                  <a:pt x="113" y="703"/>
                </a:lnTo>
                <a:lnTo>
                  <a:pt x="130" y="691"/>
                </a:lnTo>
                <a:lnTo>
                  <a:pt x="149" y="678"/>
                </a:lnTo>
                <a:lnTo>
                  <a:pt x="168" y="668"/>
                </a:lnTo>
                <a:lnTo>
                  <a:pt x="186" y="656"/>
                </a:lnTo>
                <a:lnTo>
                  <a:pt x="205" y="643"/>
                </a:lnTo>
                <a:lnTo>
                  <a:pt x="222" y="632"/>
                </a:lnTo>
                <a:lnTo>
                  <a:pt x="238" y="620"/>
                </a:lnTo>
                <a:lnTo>
                  <a:pt x="253" y="609"/>
                </a:lnTo>
                <a:lnTo>
                  <a:pt x="268" y="595"/>
                </a:lnTo>
                <a:lnTo>
                  <a:pt x="284" y="582"/>
                </a:lnTo>
                <a:lnTo>
                  <a:pt x="299" y="570"/>
                </a:lnTo>
                <a:lnTo>
                  <a:pt x="312" y="557"/>
                </a:lnTo>
                <a:lnTo>
                  <a:pt x="326" y="543"/>
                </a:lnTo>
                <a:lnTo>
                  <a:pt x="337" y="530"/>
                </a:lnTo>
                <a:lnTo>
                  <a:pt x="351" y="514"/>
                </a:lnTo>
                <a:lnTo>
                  <a:pt x="362" y="501"/>
                </a:lnTo>
                <a:lnTo>
                  <a:pt x="372" y="486"/>
                </a:lnTo>
                <a:lnTo>
                  <a:pt x="383" y="472"/>
                </a:lnTo>
                <a:lnTo>
                  <a:pt x="404" y="445"/>
                </a:lnTo>
                <a:lnTo>
                  <a:pt x="424" y="419"/>
                </a:lnTo>
                <a:lnTo>
                  <a:pt x="441" y="392"/>
                </a:lnTo>
                <a:lnTo>
                  <a:pt x="458" y="363"/>
                </a:lnTo>
                <a:lnTo>
                  <a:pt x="476" y="336"/>
                </a:lnTo>
                <a:lnTo>
                  <a:pt x="489" y="309"/>
                </a:lnTo>
                <a:lnTo>
                  <a:pt x="502" y="282"/>
                </a:lnTo>
                <a:lnTo>
                  <a:pt x="514" y="255"/>
                </a:lnTo>
                <a:lnTo>
                  <a:pt x="520" y="242"/>
                </a:lnTo>
                <a:lnTo>
                  <a:pt x="523" y="230"/>
                </a:lnTo>
                <a:lnTo>
                  <a:pt x="527" y="219"/>
                </a:lnTo>
                <a:lnTo>
                  <a:pt x="531" y="209"/>
                </a:lnTo>
                <a:lnTo>
                  <a:pt x="535" y="200"/>
                </a:lnTo>
                <a:lnTo>
                  <a:pt x="537" y="190"/>
                </a:lnTo>
                <a:lnTo>
                  <a:pt x="541" y="182"/>
                </a:lnTo>
                <a:lnTo>
                  <a:pt x="543" y="175"/>
                </a:lnTo>
                <a:lnTo>
                  <a:pt x="545" y="167"/>
                </a:lnTo>
                <a:lnTo>
                  <a:pt x="545" y="161"/>
                </a:lnTo>
                <a:lnTo>
                  <a:pt x="545" y="156"/>
                </a:lnTo>
                <a:lnTo>
                  <a:pt x="547" y="150"/>
                </a:lnTo>
                <a:lnTo>
                  <a:pt x="547" y="146"/>
                </a:lnTo>
                <a:lnTo>
                  <a:pt x="545" y="142"/>
                </a:lnTo>
                <a:lnTo>
                  <a:pt x="545" y="140"/>
                </a:lnTo>
                <a:lnTo>
                  <a:pt x="543" y="136"/>
                </a:lnTo>
                <a:lnTo>
                  <a:pt x="541" y="136"/>
                </a:lnTo>
                <a:lnTo>
                  <a:pt x="537" y="134"/>
                </a:lnTo>
                <a:lnTo>
                  <a:pt x="535" y="134"/>
                </a:lnTo>
                <a:lnTo>
                  <a:pt x="531" y="133"/>
                </a:lnTo>
                <a:lnTo>
                  <a:pt x="525" y="133"/>
                </a:lnTo>
                <a:lnTo>
                  <a:pt x="520" y="134"/>
                </a:lnTo>
                <a:lnTo>
                  <a:pt x="514" y="134"/>
                </a:lnTo>
                <a:lnTo>
                  <a:pt x="508" y="136"/>
                </a:lnTo>
                <a:lnTo>
                  <a:pt x="502" y="138"/>
                </a:lnTo>
                <a:lnTo>
                  <a:pt x="495" y="138"/>
                </a:lnTo>
                <a:lnTo>
                  <a:pt x="487" y="142"/>
                </a:lnTo>
                <a:lnTo>
                  <a:pt x="477" y="144"/>
                </a:lnTo>
                <a:lnTo>
                  <a:pt x="470" y="146"/>
                </a:lnTo>
                <a:lnTo>
                  <a:pt x="460" y="150"/>
                </a:lnTo>
                <a:lnTo>
                  <a:pt x="439" y="158"/>
                </a:lnTo>
                <a:lnTo>
                  <a:pt x="429" y="161"/>
                </a:lnTo>
                <a:lnTo>
                  <a:pt x="418" y="167"/>
                </a:lnTo>
                <a:lnTo>
                  <a:pt x="399" y="177"/>
                </a:lnTo>
                <a:lnTo>
                  <a:pt x="380" y="182"/>
                </a:lnTo>
                <a:lnTo>
                  <a:pt x="362" y="188"/>
                </a:lnTo>
                <a:lnTo>
                  <a:pt x="345" y="194"/>
                </a:lnTo>
                <a:lnTo>
                  <a:pt x="330" y="198"/>
                </a:lnTo>
                <a:lnTo>
                  <a:pt x="314" y="202"/>
                </a:lnTo>
                <a:lnTo>
                  <a:pt x="299" y="205"/>
                </a:lnTo>
                <a:lnTo>
                  <a:pt x="286" y="209"/>
                </a:lnTo>
                <a:lnTo>
                  <a:pt x="270" y="211"/>
                </a:lnTo>
                <a:lnTo>
                  <a:pt x="257" y="213"/>
                </a:lnTo>
                <a:lnTo>
                  <a:pt x="243" y="213"/>
                </a:lnTo>
                <a:lnTo>
                  <a:pt x="228" y="211"/>
                </a:lnTo>
                <a:lnTo>
                  <a:pt x="215" y="207"/>
                </a:lnTo>
                <a:lnTo>
                  <a:pt x="201" y="204"/>
                </a:lnTo>
                <a:lnTo>
                  <a:pt x="188" y="196"/>
                </a:lnTo>
                <a:lnTo>
                  <a:pt x="174" y="192"/>
                </a:lnTo>
                <a:lnTo>
                  <a:pt x="163" y="186"/>
                </a:lnTo>
                <a:lnTo>
                  <a:pt x="153" y="181"/>
                </a:lnTo>
                <a:lnTo>
                  <a:pt x="145" y="175"/>
                </a:lnTo>
                <a:lnTo>
                  <a:pt x="138" y="169"/>
                </a:lnTo>
                <a:lnTo>
                  <a:pt x="134" y="161"/>
                </a:lnTo>
                <a:lnTo>
                  <a:pt x="132" y="154"/>
                </a:lnTo>
                <a:lnTo>
                  <a:pt x="130" y="148"/>
                </a:lnTo>
                <a:lnTo>
                  <a:pt x="130" y="146"/>
                </a:lnTo>
                <a:lnTo>
                  <a:pt x="128" y="144"/>
                </a:lnTo>
                <a:lnTo>
                  <a:pt x="128" y="142"/>
                </a:lnTo>
                <a:lnTo>
                  <a:pt x="128" y="140"/>
                </a:lnTo>
                <a:lnTo>
                  <a:pt x="130" y="138"/>
                </a:lnTo>
                <a:lnTo>
                  <a:pt x="132" y="136"/>
                </a:lnTo>
                <a:lnTo>
                  <a:pt x="134" y="134"/>
                </a:lnTo>
                <a:lnTo>
                  <a:pt x="136" y="133"/>
                </a:lnTo>
                <a:lnTo>
                  <a:pt x="140" y="133"/>
                </a:lnTo>
                <a:lnTo>
                  <a:pt x="144" y="131"/>
                </a:lnTo>
                <a:lnTo>
                  <a:pt x="147" y="131"/>
                </a:lnTo>
                <a:lnTo>
                  <a:pt x="153" y="129"/>
                </a:lnTo>
                <a:lnTo>
                  <a:pt x="159" y="129"/>
                </a:lnTo>
                <a:lnTo>
                  <a:pt x="165" y="129"/>
                </a:lnTo>
                <a:lnTo>
                  <a:pt x="178" y="127"/>
                </a:lnTo>
                <a:lnTo>
                  <a:pt x="184" y="127"/>
                </a:lnTo>
                <a:lnTo>
                  <a:pt x="190" y="127"/>
                </a:lnTo>
                <a:lnTo>
                  <a:pt x="197" y="127"/>
                </a:lnTo>
                <a:lnTo>
                  <a:pt x="207" y="125"/>
                </a:lnTo>
                <a:lnTo>
                  <a:pt x="216" y="125"/>
                </a:lnTo>
                <a:lnTo>
                  <a:pt x="228" y="123"/>
                </a:lnTo>
                <a:lnTo>
                  <a:pt x="239" y="121"/>
                </a:lnTo>
                <a:lnTo>
                  <a:pt x="253" y="119"/>
                </a:lnTo>
                <a:lnTo>
                  <a:pt x="266" y="117"/>
                </a:lnTo>
                <a:lnTo>
                  <a:pt x="280" y="113"/>
                </a:lnTo>
                <a:lnTo>
                  <a:pt x="295" y="110"/>
                </a:lnTo>
                <a:lnTo>
                  <a:pt x="312" y="108"/>
                </a:lnTo>
                <a:lnTo>
                  <a:pt x="328" y="102"/>
                </a:lnTo>
                <a:lnTo>
                  <a:pt x="347" y="98"/>
                </a:lnTo>
                <a:lnTo>
                  <a:pt x="364" y="94"/>
                </a:lnTo>
                <a:lnTo>
                  <a:pt x="383" y="88"/>
                </a:lnTo>
                <a:lnTo>
                  <a:pt x="403" y="83"/>
                </a:lnTo>
                <a:lnTo>
                  <a:pt x="420" y="77"/>
                </a:lnTo>
                <a:lnTo>
                  <a:pt x="437" y="73"/>
                </a:lnTo>
                <a:lnTo>
                  <a:pt x="452" y="67"/>
                </a:lnTo>
                <a:lnTo>
                  <a:pt x="466" y="63"/>
                </a:lnTo>
                <a:lnTo>
                  <a:pt x="479" y="60"/>
                </a:lnTo>
                <a:lnTo>
                  <a:pt x="491" y="54"/>
                </a:lnTo>
                <a:lnTo>
                  <a:pt x="502" y="50"/>
                </a:lnTo>
                <a:lnTo>
                  <a:pt x="512" y="48"/>
                </a:lnTo>
                <a:lnTo>
                  <a:pt x="522" y="44"/>
                </a:lnTo>
                <a:lnTo>
                  <a:pt x="529" y="40"/>
                </a:lnTo>
                <a:lnTo>
                  <a:pt x="537" y="39"/>
                </a:lnTo>
                <a:lnTo>
                  <a:pt x="541" y="35"/>
                </a:lnTo>
                <a:lnTo>
                  <a:pt x="547" y="33"/>
                </a:lnTo>
                <a:lnTo>
                  <a:pt x="550" y="31"/>
                </a:lnTo>
                <a:lnTo>
                  <a:pt x="552" y="2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Freeform 47"/>
          <p:cNvSpPr/>
          <p:nvPr/>
        </p:nvSpPr>
        <p:spPr>
          <a:xfrm>
            <a:off x="2873520" y="2674800"/>
            <a:ext cx="925200" cy="520920"/>
          </a:xfrm>
          <a:custGeom>
            <a:avLst/>
            <a:gdLst>
              <a:gd name="textAreaLeft" fmla="*/ 0 w 925200"/>
              <a:gd name="textAreaRight" fmla="*/ 925560 w 9252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164" h="657">
                <a:moveTo>
                  <a:pt x="32" y="69"/>
                </a:moveTo>
                <a:lnTo>
                  <a:pt x="23" y="66"/>
                </a:lnTo>
                <a:lnTo>
                  <a:pt x="13" y="62"/>
                </a:lnTo>
                <a:lnTo>
                  <a:pt x="7" y="58"/>
                </a:lnTo>
                <a:lnTo>
                  <a:pt x="3" y="52"/>
                </a:lnTo>
                <a:lnTo>
                  <a:pt x="1" y="48"/>
                </a:lnTo>
                <a:lnTo>
                  <a:pt x="0" y="43"/>
                </a:lnTo>
                <a:lnTo>
                  <a:pt x="1" y="37"/>
                </a:lnTo>
                <a:lnTo>
                  <a:pt x="3" y="29"/>
                </a:lnTo>
                <a:lnTo>
                  <a:pt x="3" y="23"/>
                </a:lnTo>
                <a:lnTo>
                  <a:pt x="5" y="18"/>
                </a:lnTo>
                <a:lnTo>
                  <a:pt x="7" y="12"/>
                </a:lnTo>
                <a:lnTo>
                  <a:pt x="11" y="8"/>
                </a:lnTo>
                <a:lnTo>
                  <a:pt x="17" y="4"/>
                </a:lnTo>
                <a:lnTo>
                  <a:pt x="23" y="2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63" y="4"/>
                </a:lnTo>
                <a:lnTo>
                  <a:pt x="76" y="8"/>
                </a:lnTo>
                <a:lnTo>
                  <a:pt x="90" y="14"/>
                </a:lnTo>
                <a:lnTo>
                  <a:pt x="105" y="21"/>
                </a:lnTo>
                <a:lnTo>
                  <a:pt x="120" y="29"/>
                </a:lnTo>
                <a:lnTo>
                  <a:pt x="136" y="39"/>
                </a:lnTo>
                <a:lnTo>
                  <a:pt x="153" y="50"/>
                </a:lnTo>
                <a:lnTo>
                  <a:pt x="163" y="58"/>
                </a:lnTo>
                <a:lnTo>
                  <a:pt x="172" y="66"/>
                </a:lnTo>
                <a:lnTo>
                  <a:pt x="186" y="75"/>
                </a:lnTo>
                <a:lnTo>
                  <a:pt x="199" y="85"/>
                </a:lnTo>
                <a:lnTo>
                  <a:pt x="213" y="94"/>
                </a:lnTo>
                <a:lnTo>
                  <a:pt x="230" y="106"/>
                </a:lnTo>
                <a:lnTo>
                  <a:pt x="245" y="119"/>
                </a:lnTo>
                <a:lnTo>
                  <a:pt x="264" y="131"/>
                </a:lnTo>
                <a:lnTo>
                  <a:pt x="284" y="146"/>
                </a:lnTo>
                <a:lnTo>
                  <a:pt x="305" y="160"/>
                </a:lnTo>
                <a:lnTo>
                  <a:pt x="326" y="175"/>
                </a:lnTo>
                <a:lnTo>
                  <a:pt x="349" y="192"/>
                </a:lnTo>
                <a:lnTo>
                  <a:pt x="374" y="210"/>
                </a:lnTo>
                <a:lnTo>
                  <a:pt x="399" y="227"/>
                </a:lnTo>
                <a:lnTo>
                  <a:pt x="426" y="246"/>
                </a:lnTo>
                <a:lnTo>
                  <a:pt x="452" y="265"/>
                </a:lnTo>
                <a:lnTo>
                  <a:pt x="479" y="286"/>
                </a:lnTo>
                <a:lnTo>
                  <a:pt x="506" y="306"/>
                </a:lnTo>
                <a:lnTo>
                  <a:pt x="533" y="325"/>
                </a:lnTo>
                <a:lnTo>
                  <a:pt x="560" y="342"/>
                </a:lnTo>
                <a:lnTo>
                  <a:pt x="589" y="359"/>
                </a:lnTo>
                <a:lnTo>
                  <a:pt x="618" y="377"/>
                </a:lnTo>
                <a:lnTo>
                  <a:pt x="646" y="392"/>
                </a:lnTo>
                <a:lnTo>
                  <a:pt x="675" y="407"/>
                </a:lnTo>
                <a:lnTo>
                  <a:pt x="706" y="421"/>
                </a:lnTo>
                <a:lnTo>
                  <a:pt x="735" y="434"/>
                </a:lnTo>
                <a:lnTo>
                  <a:pt x="765" y="448"/>
                </a:lnTo>
                <a:lnTo>
                  <a:pt x="796" y="459"/>
                </a:lnTo>
                <a:lnTo>
                  <a:pt x="827" y="471"/>
                </a:lnTo>
                <a:lnTo>
                  <a:pt x="857" y="482"/>
                </a:lnTo>
                <a:lnTo>
                  <a:pt x="890" y="492"/>
                </a:lnTo>
                <a:lnTo>
                  <a:pt x="921" y="503"/>
                </a:lnTo>
                <a:lnTo>
                  <a:pt x="936" y="507"/>
                </a:lnTo>
                <a:lnTo>
                  <a:pt x="951" y="511"/>
                </a:lnTo>
                <a:lnTo>
                  <a:pt x="967" y="517"/>
                </a:lnTo>
                <a:lnTo>
                  <a:pt x="980" y="520"/>
                </a:lnTo>
                <a:lnTo>
                  <a:pt x="994" y="524"/>
                </a:lnTo>
                <a:lnTo>
                  <a:pt x="1007" y="530"/>
                </a:lnTo>
                <a:lnTo>
                  <a:pt x="1019" y="534"/>
                </a:lnTo>
                <a:lnTo>
                  <a:pt x="1030" y="538"/>
                </a:lnTo>
                <a:lnTo>
                  <a:pt x="1042" y="542"/>
                </a:lnTo>
                <a:lnTo>
                  <a:pt x="1053" y="545"/>
                </a:lnTo>
                <a:lnTo>
                  <a:pt x="1065" y="549"/>
                </a:lnTo>
                <a:lnTo>
                  <a:pt x="1074" y="553"/>
                </a:lnTo>
                <a:lnTo>
                  <a:pt x="1084" y="557"/>
                </a:lnTo>
                <a:lnTo>
                  <a:pt x="1093" y="561"/>
                </a:lnTo>
                <a:lnTo>
                  <a:pt x="1101" y="563"/>
                </a:lnTo>
                <a:lnTo>
                  <a:pt x="1109" y="567"/>
                </a:lnTo>
                <a:lnTo>
                  <a:pt x="1116" y="570"/>
                </a:lnTo>
                <a:lnTo>
                  <a:pt x="1124" y="572"/>
                </a:lnTo>
                <a:lnTo>
                  <a:pt x="1130" y="576"/>
                </a:lnTo>
                <a:lnTo>
                  <a:pt x="1136" y="578"/>
                </a:lnTo>
                <a:lnTo>
                  <a:pt x="1141" y="582"/>
                </a:lnTo>
                <a:lnTo>
                  <a:pt x="1145" y="584"/>
                </a:lnTo>
                <a:lnTo>
                  <a:pt x="1149" y="586"/>
                </a:lnTo>
                <a:lnTo>
                  <a:pt x="1153" y="588"/>
                </a:lnTo>
                <a:lnTo>
                  <a:pt x="1157" y="590"/>
                </a:lnTo>
                <a:lnTo>
                  <a:pt x="1159" y="591"/>
                </a:lnTo>
                <a:lnTo>
                  <a:pt x="1161" y="593"/>
                </a:lnTo>
                <a:lnTo>
                  <a:pt x="1163" y="595"/>
                </a:lnTo>
                <a:lnTo>
                  <a:pt x="1164" y="597"/>
                </a:lnTo>
                <a:lnTo>
                  <a:pt x="1164" y="599"/>
                </a:lnTo>
                <a:lnTo>
                  <a:pt x="1164" y="601"/>
                </a:lnTo>
                <a:lnTo>
                  <a:pt x="1163" y="603"/>
                </a:lnTo>
                <a:lnTo>
                  <a:pt x="1159" y="605"/>
                </a:lnTo>
                <a:lnTo>
                  <a:pt x="1153" y="607"/>
                </a:lnTo>
                <a:lnTo>
                  <a:pt x="1149" y="609"/>
                </a:lnTo>
                <a:lnTo>
                  <a:pt x="1141" y="613"/>
                </a:lnTo>
                <a:lnTo>
                  <a:pt x="1134" y="615"/>
                </a:lnTo>
                <a:lnTo>
                  <a:pt x="1124" y="618"/>
                </a:lnTo>
                <a:lnTo>
                  <a:pt x="1115" y="620"/>
                </a:lnTo>
                <a:lnTo>
                  <a:pt x="1103" y="622"/>
                </a:lnTo>
                <a:lnTo>
                  <a:pt x="1090" y="626"/>
                </a:lnTo>
                <a:lnTo>
                  <a:pt x="1076" y="628"/>
                </a:lnTo>
                <a:lnTo>
                  <a:pt x="1061" y="632"/>
                </a:lnTo>
                <a:lnTo>
                  <a:pt x="1044" y="634"/>
                </a:lnTo>
                <a:lnTo>
                  <a:pt x="1026" y="636"/>
                </a:lnTo>
                <a:lnTo>
                  <a:pt x="1007" y="638"/>
                </a:lnTo>
                <a:lnTo>
                  <a:pt x="986" y="639"/>
                </a:lnTo>
                <a:lnTo>
                  <a:pt x="965" y="643"/>
                </a:lnTo>
                <a:lnTo>
                  <a:pt x="946" y="647"/>
                </a:lnTo>
                <a:lnTo>
                  <a:pt x="926" y="649"/>
                </a:lnTo>
                <a:lnTo>
                  <a:pt x="909" y="651"/>
                </a:lnTo>
                <a:lnTo>
                  <a:pt x="892" y="653"/>
                </a:lnTo>
                <a:lnTo>
                  <a:pt x="877" y="655"/>
                </a:lnTo>
                <a:lnTo>
                  <a:pt x="861" y="655"/>
                </a:lnTo>
                <a:lnTo>
                  <a:pt x="846" y="657"/>
                </a:lnTo>
                <a:lnTo>
                  <a:pt x="832" y="657"/>
                </a:lnTo>
                <a:lnTo>
                  <a:pt x="819" y="657"/>
                </a:lnTo>
                <a:lnTo>
                  <a:pt x="808" y="657"/>
                </a:lnTo>
                <a:lnTo>
                  <a:pt x="796" y="655"/>
                </a:lnTo>
                <a:lnTo>
                  <a:pt x="786" y="655"/>
                </a:lnTo>
                <a:lnTo>
                  <a:pt x="777" y="653"/>
                </a:lnTo>
                <a:lnTo>
                  <a:pt x="769" y="651"/>
                </a:lnTo>
                <a:lnTo>
                  <a:pt x="761" y="649"/>
                </a:lnTo>
                <a:lnTo>
                  <a:pt x="752" y="647"/>
                </a:lnTo>
                <a:lnTo>
                  <a:pt x="742" y="643"/>
                </a:lnTo>
                <a:lnTo>
                  <a:pt x="733" y="639"/>
                </a:lnTo>
                <a:lnTo>
                  <a:pt x="721" y="636"/>
                </a:lnTo>
                <a:lnTo>
                  <a:pt x="710" y="628"/>
                </a:lnTo>
                <a:lnTo>
                  <a:pt x="696" y="622"/>
                </a:lnTo>
                <a:lnTo>
                  <a:pt x="683" y="615"/>
                </a:lnTo>
                <a:lnTo>
                  <a:pt x="669" y="605"/>
                </a:lnTo>
                <a:lnTo>
                  <a:pt x="656" y="595"/>
                </a:lnTo>
                <a:lnTo>
                  <a:pt x="641" y="584"/>
                </a:lnTo>
                <a:lnTo>
                  <a:pt x="625" y="570"/>
                </a:lnTo>
                <a:lnTo>
                  <a:pt x="608" y="557"/>
                </a:lnTo>
                <a:lnTo>
                  <a:pt x="591" y="543"/>
                </a:lnTo>
                <a:lnTo>
                  <a:pt x="573" y="528"/>
                </a:lnTo>
                <a:lnTo>
                  <a:pt x="556" y="511"/>
                </a:lnTo>
                <a:lnTo>
                  <a:pt x="537" y="492"/>
                </a:lnTo>
                <a:lnTo>
                  <a:pt x="460" y="419"/>
                </a:lnTo>
                <a:lnTo>
                  <a:pt x="383" y="346"/>
                </a:lnTo>
                <a:lnTo>
                  <a:pt x="343" y="311"/>
                </a:lnTo>
                <a:lnTo>
                  <a:pt x="305" y="275"/>
                </a:lnTo>
                <a:lnTo>
                  <a:pt x="266" y="240"/>
                </a:lnTo>
                <a:lnTo>
                  <a:pt x="228" y="208"/>
                </a:lnTo>
                <a:lnTo>
                  <a:pt x="209" y="190"/>
                </a:lnTo>
                <a:lnTo>
                  <a:pt x="191" y="175"/>
                </a:lnTo>
                <a:lnTo>
                  <a:pt x="174" y="162"/>
                </a:lnTo>
                <a:lnTo>
                  <a:pt x="159" y="148"/>
                </a:lnTo>
                <a:lnTo>
                  <a:pt x="144" y="137"/>
                </a:lnTo>
                <a:lnTo>
                  <a:pt x="128" y="127"/>
                </a:lnTo>
                <a:lnTo>
                  <a:pt x="115" y="117"/>
                </a:lnTo>
                <a:lnTo>
                  <a:pt x="101" y="108"/>
                </a:lnTo>
                <a:lnTo>
                  <a:pt x="90" y="100"/>
                </a:lnTo>
                <a:lnTo>
                  <a:pt x="78" y="93"/>
                </a:lnTo>
                <a:lnTo>
                  <a:pt x="69" y="87"/>
                </a:lnTo>
                <a:lnTo>
                  <a:pt x="59" y="83"/>
                </a:lnTo>
                <a:lnTo>
                  <a:pt x="51" y="77"/>
                </a:lnTo>
                <a:lnTo>
                  <a:pt x="44" y="73"/>
                </a:lnTo>
                <a:lnTo>
                  <a:pt x="36" y="71"/>
                </a:lnTo>
                <a:lnTo>
                  <a:pt x="32" y="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Freeform 48"/>
          <p:cNvSpPr/>
          <p:nvPr/>
        </p:nvSpPr>
        <p:spPr>
          <a:xfrm>
            <a:off x="2395440" y="3298680"/>
            <a:ext cx="927360" cy="814680"/>
          </a:xfrm>
          <a:custGeom>
            <a:avLst/>
            <a:gdLst>
              <a:gd name="textAreaLeft" fmla="*/ 0 w 927360"/>
              <a:gd name="textAreaRight" fmla="*/ 927720 w 92736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1169" h="1025">
                <a:moveTo>
                  <a:pt x="148" y="286"/>
                </a:moveTo>
                <a:lnTo>
                  <a:pt x="140" y="284"/>
                </a:lnTo>
                <a:lnTo>
                  <a:pt x="132" y="282"/>
                </a:lnTo>
                <a:lnTo>
                  <a:pt x="123" y="279"/>
                </a:lnTo>
                <a:lnTo>
                  <a:pt x="111" y="273"/>
                </a:lnTo>
                <a:lnTo>
                  <a:pt x="100" y="265"/>
                </a:lnTo>
                <a:lnTo>
                  <a:pt x="86" y="257"/>
                </a:lnTo>
                <a:lnTo>
                  <a:pt x="71" y="248"/>
                </a:lnTo>
                <a:lnTo>
                  <a:pt x="54" y="236"/>
                </a:lnTo>
                <a:lnTo>
                  <a:pt x="46" y="231"/>
                </a:lnTo>
                <a:lnTo>
                  <a:pt x="38" y="227"/>
                </a:lnTo>
                <a:lnTo>
                  <a:pt x="31" y="221"/>
                </a:lnTo>
                <a:lnTo>
                  <a:pt x="25" y="217"/>
                </a:lnTo>
                <a:lnTo>
                  <a:pt x="19" y="211"/>
                </a:lnTo>
                <a:lnTo>
                  <a:pt x="13" y="207"/>
                </a:lnTo>
                <a:lnTo>
                  <a:pt x="10" y="204"/>
                </a:lnTo>
                <a:lnTo>
                  <a:pt x="6" y="200"/>
                </a:lnTo>
                <a:lnTo>
                  <a:pt x="4" y="196"/>
                </a:lnTo>
                <a:lnTo>
                  <a:pt x="2" y="192"/>
                </a:lnTo>
                <a:lnTo>
                  <a:pt x="0" y="190"/>
                </a:lnTo>
                <a:lnTo>
                  <a:pt x="0" y="186"/>
                </a:lnTo>
                <a:lnTo>
                  <a:pt x="0" y="184"/>
                </a:lnTo>
                <a:lnTo>
                  <a:pt x="2" y="183"/>
                </a:lnTo>
                <a:lnTo>
                  <a:pt x="4" y="181"/>
                </a:lnTo>
                <a:lnTo>
                  <a:pt x="8" y="179"/>
                </a:lnTo>
                <a:lnTo>
                  <a:pt x="10" y="177"/>
                </a:lnTo>
                <a:lnTo>
                  <a:pt x="12" y="175"/>
                </a:lnTo>
                <a:lnTo>
                  <a:pt x="15" y="173"/>
                </a:lnTo>
                <a:lnTo>
                  <a:pt x="19" y="171"/>
                </a:lnTo>
                <a:lnTo>
                  <a:pt x="23" y="171"/>
                </a:lnTo>
                <a:lnTo>
                  <a:pt x="29" y="169"/>
                </a:lnTo>
                <a:lnTo>
                  <a:pt x="35" y="169"/>
                </a:lnTo>
                <a:lnTo>
                  <a:pt x="40" y="167"/>
                </a:lnTo>
                <a:lnTo>
                  <a:pt x="54" y="165"/>
                </a:lnTo>
                <a:lnTo>
                  <a:pt x="67" y="163"/>
                </a:lnTo>
                <a:lnTo>
                  <a:pt x="84" y="161"/>
                </a:lnTo>
                <a:lnTo>
                  <a:pt x="102" y="158"/>
                </a:lnTo>
                <a:lnTo>
                  <a:pt x="109" y="158"/>
                </a:lnTo>
                <a:lnTo>
                  <a:pt x="121" y="158"/>
                </a:lnTo>
                <a:lnTo>
                  <a:pt x="132" y="158"/>
                </a:lnTo>
                <a:lnTo>
                  <a:pt x="144" y="156"/>
                </a:lnTo>
                <a:lnTo>
                  <a:pt x="159" y="156"/>
                </a:lnTo>
                <a:lnTo>
                  <a:pt x="173" y="154"/>
                </a:lnTo>
                <a:lnTo>
                  <a:pt x="190" y="152"/>
                </a:lnTo>
                <a:lnTo>
                  <a:pt x="205" y="150"/>
                </a:lnTo>
                <a:lnTo>
                  <a:pt x="225" y="148"/>
                </a:lnTo>
                <a:lnTo>
                  <a:pt x="244" y="146"/>
                </a:lnTo>
                <a:lnTo>
                  <a:pt x="263" y="144"/>
                </a:lnTo>
                <a:lnTo>
                  <a:pt x="286" y="142"/>
                </a:lnTo>
                <a:lnTo>
                  <a:pt x="307" y="138"/>
                </a:lnTo>
                <a:lnTo>
                  <a:pt x="332" y="136"/>
                </a:lnTo>
                <a:lnTo>
                  <a:pt x="355" y="133"/>
                </a:lnTo>
                <a:lnTo>
                  <a:pt x="382" y="129"/>
                </a:lnTo>
                <a:lnTo>
                  <a:pt x="430" y="125"/>
                </a:lnTo>
                <a:lnTo>
                  <a:pt x="476" y="119"/>
                </a:lnTo>
                <a:lnTo>
                  <a:pt x="522" y="113"/>
                </a:lnTo>
                <a:lnTo>
                  <a:pt x="564" y="108"/>
                </a:lnTo>
                <a:lnTo>
                  <a:pt x="606" y="102"/>
                </a:lnTo>
                <a:lnTo>
                  <a:pt x="645" y="94"/>
                </a:lnTo>
                <a:lnTo>
                  <a:pt x="683" y="87"/>
                </a:lnTo>
                <a:lnTo>
                  <a:pt x="720" y="79"/>
                </a:lnTo>
                <a:lnTo>
                  <a:pt x="735" y="75"/>
                </a:lnTo>
                <a:lnTo>
                  <a:pt x="752" y="71"/>
                </a:lnTo>
                <a:lnTo>
                  <a:pt x="768" y="67"/>
                </a:lnTo>
                <a:lnTo>
                  <a:pt x="781" y="64"/>
                </a:lnTo>
                <a:lnTo>
                  <a:pt x="796" y="62"/>
                </a:lnTo>
                <a:lnTo>
                  <a:pt x="808" y="58"/>
                </a:lnTo>
                <a:lnTo>
                  <a:pt x="819" y="54"/>
                </a:lnTo>
                <a:lnTo>
                  <a:pt x="831" y="50"/>
                </a:lnTo>
                <a:lnTo>
                  <a:pt x="841" y="46"/>
                </a:lnTo>
                <a:lnTo>
                  <a:pt x="850" y="42"/>
                </a:lnTo>
                <a:lnTo>
                  <a:pt x="858" y="39"/>
                </a:lnTo>
                <a:lnTo>
                  <a:pt x="865" y="35"/>
                </a:lnTo>
                <a:lnTo>
                  <a:pt x="873" y="31"/>
                </a:lnTo>
                <a:lnTo>
                  <a:pt x="879" y="27"/>
                </a:lnTo>
                <a:lnTo>
                  <a:pt x="883" y="23"/>
                </a:lnTo>
                <a:lnTo>
                  <a:pt x="887" y="19"/>
                </a:lnTo>
                <a:lnTo>
                  <a:pt x="890" y="16"/>
                </a:lnTo>
                <a:lnTo>
                  <a:pt x="896" y="14"/>
                </a:lnTo>
                <a:lnTo>
                  <a:pt x="902" y="10"/>
                </a:lnTo>
                <a:lnTo>
                  <a:pt x="908" y="6"/>
                </a:lnTo>
                <a:lnTo>
                  <a:pt x="915" y="4"/>
                </a:lnTo>
                <a:lnTo>
                  <a:pt x="923" y="2"/>
                </a:lnTo>
                <a:lnTo>
                  <a:pt x="933" y="0"/>
                </a:lnTo>
                <a:lnTo>
                  <a:pt x="944" y="0"/>
                </a:lnTo>
                <a:lnTo>
                  <a:pt x="952" y="4"/>
                </a:lnTo>
                <a:lnTo>
                  <a:pt x="956" y="8"/>
                </a:lnTo>
                <a:lnTo>
                  <a:pt x="961" y="10"/>
                </a:lnTo>
                <a:lnTo>
                  <a:pt x="967" y="14"/>
                </a:lnTo>
                <a:lnTo>
                  <a:pt x="973" y="16"/>
                </a:lnTo>
                <a:lnTo>
                  <a:pt x="979" y="19"/>
                </a:lnTo>
                <a:lnTo>
                  <a:pt x="986" y="23"/>
                </a:lnTo>
                <a:lnTo>
                  <a:pt x="994" y="29"/>
                </a:lnTo>
                <a:lnTo>
                  <a:pt x="1004" y="33"/>
                </a:lnTo>
                <a:lnTo>
                  <a:pt x="1011" y="39"/>
                </a:lnTo>
                <a:lnTo>
                  <a:pt x="1021" y="42"/>
                </a:lnTo>
                <a:lnTo>
                  <a:pt x="1031" y="50"/>
                </a:lnTo>
                <a:lnTo>
                  <a:pt x="1042" y="56"/>
                </a:lnTo>
                <a:lnTo>
                  <a:pt x="1054" y="62"/>
                </a:lnTo>
                <a:lnTo>
                  <a:pt x="1065" y="69"/>
                </a:lnTo>
                <a:lnTo>
                  <a:pt x="1077" y="79"/>
                </a:lnTo>
                <a:lnTo>
                  <a:pt x="1088" y="87"/>
                </a:lnTo>
                <a:lnTo>
                  <a:pt x="1098" y="96"/>
                </a:lnTo>
                <a:lnTo>
                  <a:pt x="1107" y="104"/>
                </a:lnTo>
                <a:lnTo>
                  <a:pt x="1115" y="110"/>
                </a:lnTo>
                <a:lnTo>
                  <a:pt x="1125" y="117"/>
                </a:lnTo>
                <a:lnTo>
                  <a:pt x="1130" y="123"/>
                </a:lnTo>
                <a:lnTo>
                  <a:pt x="1138" y="129"/>
                </a:lnTo>
                <a:lnTo>
                  <a:pt x="1144" y="135"/>
                </a:lnTo>
                <a:lnTo>
                  <a:pt x="1148" y="138"/>
                </a:lnTo>
                <a:lnTo>
                  <a:pt x="1153" y="142"/>
                </a:lnTo>
                <a:lnTo>
                  <a:pt x="1157" y="146"/>
                </a:lnTo>
                <a:lnTo>
                  <a:pt x="1161" y="150"/>
                </a:lnTo>
                <a:lnTo>
                  <a:pt x="1163" y="154"/>
                </a:lnTo>
                <a:lnTo>
                  <a:pt x="1167" y="156"/>
                </a:lnTo>
                <a:lnTo>
                  <a:pt x="1169" y="158"/>
                </a:lnTo>
                <a:lnTo>
                  <a:pt x="1167" y="165"/>
                </a:lnTo>
                <a:lnTo>
                  <a:pt x="1167" y="171"/>
                </a:lnTo>
                <a:lnTo>
                  <a:pt x="1163" y="177"/>
                </a:lnTo>
                <a:lnTo>
                  <a:pt x="1159" y="181"/>
                </a:lnTo>
                <a:lnTo>
                  <a:pt x="1155" y="186"/>
                </a:lnTo>
                <a:lnTo>
                  <a:pt x="1148" y="190"/>
                </a:lnTo>
                <a:lnTo>
                  <a:pt x="1140" y="194"/>
                </a:lnTo>
                <a:lnTo>
                  <a:pt x="1130" y="198"/>
                </a:lnTo>
                <a:lnTo>
                  <a:pt x="1125" y="200"/>
                </a:lnTo>
                <a:lnTo>
                  <a:pt x="1121" y="204"/>
                </a:lnTo>
                <a:lnTo>
                  <a:pt x="1115" y="211"/>
                </a:lnTo>
                <a:lnTo>
                  <a:pt x="1111" y="217"/>
                </a:lnTo>
                <a:lnTo>
                  <a:pt x="1107" y="227"/>
                </a:lnTo>
                <a:lnTo>
                  <a:pt x="1102" y="238"/>
                </a:lnTo>
                <a:lnTo>
                  <a:pt x="1098" y="252"/>
                </a:lnTo>
                <a:lnTo>
                  <a:pt x="1094" y="265"/>
                </a:lnTo>
                <a:lnTo>
                  <a:pt x="1090" y="280"/>
                </a:lnTo>
                <a:lnTo>
                  <a:pt x="1086" y="300"/>
                </a:lnTo>
                <a:lnTo>
                  <a:pt x="1082" y="319"/>
                </a:lnTo>
                <a:lnTo>
                  <a:pt x="1079" y="340"/>
                </a:lnTo>
                <a:lnTo>
                  <a:pt x="1075" y="363"/>
                </a:lnTo>
                <a:lnTo>
                  <a:pt x="1073" y="388"/>
                </a:lnTo>
                <a:lnTo>
                  <a:pt x="1069" y="415"/>
                </a:lnTo>
                <a:lnTo>
                  <a:pt x="1065" y="444"/>
                </a:lnTo>
                <a:lnTo>
                  <a:pt x="1059" y="474"/>
                </a:lnTo>
                <a:lnTo>
                  <a:pt x="1054" y="503"/>
                </a:lnTo>
                <a:lnTo>
                  <a:pt x="1050" y="532"/>
                </a:lnTo>
                <a:lnTo>
                  <a:pt x="1044" y="561"/>
                </a:lnTo>
                <a:lnTo>
                  <a:pt x="1038" y="586"/>
                </a:lnTo>
                <a:lnTo>
                  <a:pt x="1032" y="612"/>
                </a:lnTo>
                <a:lnTo>
                  <a:pt x="1027" y="635"/>
                </a:lnTo>
                <a:lnTo>
                  <a:pt x="1021" y="660"/>
                </a:lnTo>
                <a:lnTo>
                  <a:pt x="1015" y="683"/>
                </a:lnTo>
                <a:lnTo>
                  <a:pt x="1009" y="705"/>
                </a:lnTo>
                <a:lnTo>
                  <a:pt x="1004" y="726"/>
                </a:lnTo>
                <a:lnTo>
                  <a:pt x="998" y="745"/>
                </a:lnTo>
                <a:lnTo>
                  <a:pt x="992" y="764"/>
                </a:lnTo>
                <a:lnTo>
                  <a:pt x="984" y="783"/>
                </a:lnTo>
                <a:lnTo>
                  <a:pt x="979" y="801"/>
                </a:lnTo>
                <a:lnTo>
                  <a:pt x="971" y="818"/>
                </a:lnTo>
                <a:lnTo>
                  <a:pt x="965" y="833"/>
                </a:lnTo>
                <a:lnTo>
                  <a:pt x="958" y="848"/>
                </a:lnTo>
                <a:lnTo>
                  <a:pt x="950" y="864"/>
                </a:lnTo>
                <a:lnTo>
                  <a:pt x="944" y="877"/>
                </a:lnTo>
                <a:lnTo>
                  <a:pt x="936" y="889"/>
                </a:lnTo>
                <a:lnTo>
                  <a:pt x="929" y="902"/>
                </a:lnTo>
                <a:lnTo>
                  <a:pt x="923" y="912"/>
                </a:lnTo>
                <a:lnTo>
                  <a:pt x="915" y="923"/>
                </a:lnTo>
                <a:lnTo>
                  <a:pt x="908" y="933"/>
                </a:lnTo>
                <a:lnTo>
                  <a:pt x="902" y="943"/>
                </a:lnTo>
                <a:lnTo>
                  <a:pt x="894" y="950"/>
                </a:lnTo>
                <a:lnTo>
                  <a:pt x="887" y="958"/>
                </a:lnTo>
                <a:lnTo>
                  <a:pt x="881" y="966"/>
                </a:lnTo>
                <a:lnTo>
                  <a:pt x="873" y="973"/>
                </a:lnTo>
                <a:lnTo>
                  <a:pt x="865" y="979"/>
                </a:lnTo>
                <a:lnTo>
                  <a:pt x="860" y="985"/>
                </a:lnTo>
                <a:lnTo>
                  <a:pt x="852" y="991"/>
                </a:lnTo>
                <a:lnTo>
                  <a:pt x="846" y="994"/>
                </a:lnTo>
                <a:lnTo>
                  <a:pt x="833" y="1004"/>
                </a:lnTo>
                <a:lnTo>
                  <a:pt x="821" y="1010"/>
                </a:lnTo>
                <a:lnTo>
                  <a:pt x="812" y="1015"/>
                </a:lnTo>
                <a:lnTo>
                  <a:pt x="802" y="1019"/>
                </a:lnTo>
                <a:lnTo>
                  <a:pt x="794" y="1023"/>
                </a:lnTo>
                <a:lnTo>
                  <a:pt x="789" y="1023"/>
                </a:lnTo>
                <a:lnTo>
                  <a:pt x="785" y="1025"/>
                </a:lnTo>
                <a:lnTo>
                  <a:pt x="781" y="1023"/>
                </a:lnTo>
                <a:lnTo>
                  <a:pt x="777" y="1023"/>
                </a:lnTo>
                <a:lnTo>
                  <a:pt x="775" y="1021"/>
                </a:lnTo>
                <a:lnTo>
                  <a:pt x="771" y="1019"/>
                </a:lnTo>
                <a:lnTo>
                  <a:pt x="770" y="1015"/>
                </a:lnTo>
                <a:lnTo>
                  <a:pt x="768" y="1012"/>
                </a:lnTo>
                <a:lnTo>
                  <a:pt x="766" y="1008"/>
                </a:lnTo>
                <a:lnTo>
                  <a:pt x="764" y="1004"/>
                </a:lnTo>
                <a:lnTo>
                  <a:pt x="762" y="998"/>
                </a:lnTo>
                <a:lnTo>
                  <a:pt x="760" y="992"/>
                </a:lnTo>
                <a:lnTo>
                  <a:pt x="758" y="985"/>
                </a:lnTo>
                <a:lnTo>
                  <a:pt x="758" y="979"/>
                </a:lnTo>
                <a:lnTo>
                  <a:pt x="758" y="971"/>
                </a:lnTo>
                <a:lnTo>
                  <a:pt x="756" y="964"/>
                </a:lnTo>
                <a:lnTo>
                  <a:pt x="756" y="954"/>
                </a:lnTo>
                <a:lnTo>
                  <a:pt x="756" y="946"/>
                </a:lnTo>
                <a:lnTo>
                  <a:pt x="754" y="937"/>
                </a:lnTo>
                <a:lnTo>
                  <a:pt x="752" y="927"/>
                </a:lnTo>
                <a:lnTo>
                  <a:pt x="748" y="918"/>
                </a:lnTo>
                <a:lnTo>
                  <a:pt x="745" y="908"/>
                </a:lnTo>
                <a:lnTo>
                  <a:pt x="741" y="896"/>
                </a:lnTo>
                <a:lnTo>
                  <a:pt x="737" y="887"/>
                </a:lnTo>
                <a:lnTo>
                  <a:pt x="731" y="877"/>
                </a:lnTo>
                <a:lnTo>
                  <a:pt x="725" y="868"/>
                </a:lnTo>
                <a:lnTo>
                  <a:pt x="720" y="856"/>
                </a:lnTo>
                <a:lnTo>
                  <a:pt x="712" y="847"/>
                </a:lnTo>
                <a:lnTo>
                  <a:pt x="704" y="837"/>
                </a:lnTo>
                <a:lnTo>
                  <a:pt x="695" y="827"/>
                </a:lnTo>
                <a:lnTo>
                  <a:pt x="685" y="816"/>
                </a:lnTo>
                <a:lnTo>
                  <a:pt x="676" y="806"/>
                </a:lnTo>
                <a:lnTo>
                  <a:pt x="664" y="797"/>
                </a:lnTo>
                <a:lnTo>
                  <a:pt x="652" y="787"/>
                </a:lnTo>
                <a:lnTo>
                  <a:pt x="641" y="779"/>
                </a:lnTo>
                <a:lnTo>
                  <a:pt x="629" y="770"/>
                </a:lnTo>
                <a:lnTo>
                  <a:pt x="620" y="762"/>
                </a:lnTo>
                <a:lnTo>
                  <a:pt x="610" y="753"/>
                </a:lnTo>
                <a:lnTo>
                  <a:pt x="601" y="745"/>
                </a:lnTo>
                <a:lnTo>
                  <a:pt x="593" y="737"/>
                </a:lnTo>
                <a:lnTo>
                  <a:pt x="585" y="731"/>
                </a:lnTo>
                <a:lnTo>
                  <a:pt x="578" y="724"/>
                </a:lnTo>
                <a:lnTo>
                  <a:pt x="572" y="718"/>
                </a:lnTo>
                <a:lnTo>
                  <a:pt x="568" y="712"/>
                </a:lnTo>
                <a:lnTo>
                  <a:pt x="564" y="706"/>
                </a:lnTo>
                <a:lnTo>
                  <a:pt x="560" y="703"/>
                </a:lnTo>
                <a:lnTo>
                  <a:pt x="558" y="699"/>
                </a:lnTo>
                <a:lnTo>
                  <a:pt x="558" y="695"/>
                </a:lnTo>
                <a:lnTo>
                  <a:pt x="558" y="691"/>
                </a:lnTo>
                <a:lnTo>
                  <a:pt x="560" y="689"/>
                </a:lnTo>
                <a:lnTo>
                  <a:pt x="562" y="687"/>
                </a:lnTo>
                <a:lnTo>
                  <a:pt x="564" y="687"/>
                </a:lnTo>
                <a:lnTo>
                  <a:pt x="568" y="685"/>
                </a:lnTo>
                <a:lnTo>
                  <a:pt x="572" y="685"/>
                </a:lnTo>
                <a:lnTo>
                  <a:pt x="578" y="685"/>
                </a:lnTo>
                <a:lnTo>
                  <a:pt x="583" y="685"/>
                </a:lnTo>
                <a:lnTo>
                  <a:pt x="589" y="687"/>
                </a:lnTo>
                <a:lnTo>
                  <a:pt x="597" y="687"/>
                </a:lnTo>
                <a:lnTo>
                  <a:pt x="604" y="689"/>
                </a:lnTo>
                <a:lnTo>
                  <a:pt x="614" y="691"/>
                </a:lnTo>
                <a:lnTo>
                  <a:pt x="626" y="693"/>
                </a:lnTo>
                <a:lnTo>
                  <a:pt x="635" y="697"/>
                </a:lnTo>
                <a:lnTo>
                  <a:pt x="649" y="699"/>
                </a:lnTo>
                <a:lnTo>
                  <a:pt x="662" y="703"/>
                </a:lnTo>
                <a:lnTo>
                  <a:pt x="676" y="706"/>
                </a:lnTo>
                <a:lnTo>
                  <a:pt x="691" y="708"/>
                </a:lnTo>
                <a:lnTo>
                  <a:pt x="704" y="714"/>
                </a:lnTo>
                <a:lnTo>
                  <a:pt x="718" y="720"/>
                </a:lnTo>
                <a:lnTo>
                  <a:pt x="729" y="724"/>
                </a:lnTo>
                <a:lnTo>
                  <a:pt x="741" y="726"/>
                </a:lnTo>
                <a:lnTo>
                  <a:pt x="752" y="728"/>
                </a:lnTo>
                <a:lnTo>
                  <a:pt x="764" y="730"/>
                </a:lnTo>
                <a:lnTo>
                  <a:pt x="773" y="731"/>
                </a:lnTo>
                <a:lnTo>
                  <a:pt x="783" y="731"/>
                </a:lnTo>
                <a:lnTo>
                  <a:pt x="793" y="731"/>
                </a:lnTo>
                <a:lnTo>
                  <a:pt x="800" y="730"/>
                </a:lnTo>
                <a:lnTo>
                  <a:pt x="808" y="728"/>
                </a:lnTo>
                <a:lnTo>
                  <a:pt x="816" y="726"/>
                </a:lnTo>
                <a:lnTo>
                  <a:pt x="823" y="722"/>
                </a:lnTo>
                <a:lnTo>
                  <a:pt x="829" y="718"/>
                </a:lnTo>
                <a:lnTo>
                  <a:pt x="835" y="714"/>
                </a:lnTo>
                <a:lnTo>
                  <a:pt x="841" y="708"/>
                </a:lnTo>
                <a:lnTo>
                  <a:pt x="844" y="705"/>
                </a:lnTo>
                <a:lnTo>
                  <a:pt x="848" y="699"/>
                </a:lnTo>
                <a:lnTo>
                  <a:pt x="850" y="691"/>
                </a:lnTo>
                <a:lnTo>
                  <a:pt x="854" y="682"/>
                </a:lnTo>
                <a:lnTo>
                  <a:pt x="858" y="670"/>
                </a:lnTo>
                <a:lnTo>
                  <a:pt x="862" y="657"/>
                </a:lnTo>
                <a:lnTo>
                  <a:pt x="865" y="643"/>
                </a:lnTo>
                <a:lnTo>
                  <a:pt x="869" y="626"/>
                </a:lnTo>
                <a:lnTo>
                  <a:pt x="873" y="609"/>
                </a:lnTo>
                <a:lnTo>
                  <a:pt x="877" y="589"/>
                </a:lnTo>
                <a:lnTo>
                  <a:pt x="883" y="568"/>
                </a:lnTo>
                <a:lnTo>
                  <a:pt x="887" y="545"/>
                </a:lnTo>
                <a:lnTo>
                  <a:pt x="890" y="520"/>
                </a:lnTo>
                <a:lnTo>
                  <a:pt x="896" y="493"/>
                </a:lnTo>
                <a:lnTo>
                  <a:pt x="900" y="465"/>
                </a:lnTo>
                <a:lnTo>
                  <a:pt x="906" y="434"/>
                </a:lnTo>
                <a:lnTo>
                  <a:pt x="912" y="405"/>
                </a:lnTo>
                <a:lnTo>
                  <a:pt x="915" y="378"/>
                </a:lnTo>
                <a:lnTo>
                  <a:pt x="919" y="351"/>
                </a:lnTo>
                <a:lnTo>
                  <a:pt x="921" y="328"/>
                </a:lnTo>
                <a:lnTo>
                  <a:pt x="925" y="305"/>
                </a:lnTo>
                <a:lnTo>
                  <a:pt x="927" y="284"/>
                </a:lnTo>
                <a:lnTo>
                  <a:pt x="929" y="265"/>
                </a:lnTo>
                <a:lnTo>
                  <a:pt x="929" y="248"/>
                </a:lnTo>
                <a:lnTo>
                  <a:pt x="929" y="232"/>
                </a:lnTo>
                <a:lnTo>
                  <a:pt x="931" y="217"/>
                </a:lnTo>
                <a:lnTo>
                  <a:pt x="931" y="204"/>
                </a:lnTo>
                <a:lnTo>
                  <a:pt x="929" y="192"/>
                </a:lnTo>
                <a:lnTo>
                  <a:pt x="929" y="181"/>
                </a:lnTo>
                <a:lnTo>
                  <a:pt x="927" y="171"/>
                </a:lnTo>
                <a:lnTo>
                  <a:pt x="927" y="165"/>
                </a:lnTo>
                <a:lnTo>
                  <a:pt x="925" y="158"/>
                </a:lnTo>
                <a:lnTo>
                  <a:pt x="923" y="154"/>
                </a:lnTo>
                <a:lnTo>
                  <a:pt x="919" y="152"/>
                </a:lnTo>
                <a:lnTo>
                  <a:pt x="915" y="150"/>
                </a:lnTo>
                <a:lnTo>
                  <a:pt x="910" y="146"/>
                </a:lnTo>
                <a:lnTo>
                  <a:pt x="902" y="146"/>
                </a:lnTo>
                <a:lnTo>
                  <a:pt x="894" y="144"/>
                </a:lnTo>
                <a:lnTo>
                  <a:pt x="887" y="144"/>
                </a:lnTo>
                <a:lnTo>
                  <a:pt x="877" y="142"/>
                </a:lnTo>
                <a:lnTo>
                  <a:pt x="865" y="144"/>
                </a:lnTo>
                <a:lnTo>
                  <a:pt x="854" y="144"/>
                </a:lnTo>
                <a:lnTo>
                  <a:pt x="842" y="146"/>
                </a:lnTo>
                <a:lnTo>
                  <a:pt x="829" y="146"/>
                </a:lnTo>
                <a:lnTo>
                  <a:pt x="814" y="148"/>
                </a:lnTo>
                <a:lnTo>
                  <a:pt x="798" y="152"/>
                </a:lnTo>
                <a:lnTo>
                  <a:pt x="783" y="154"/>
                </a:lnTo>
                <a:lnTo>
                  <a:pt x="766" y="158"/>
                </a:lnTo>
                <a:lnTo>
                  <a:pt x="748" y="161"/>
                </a:lnTo>
                <a:lnTo>
                  <a:pt x="729" y="165"/>
                </a:lnTo>
                <a:lnTo>
                  <a:pt x="710" y="171"/>
                </a:lnTo>
                <a:lnTo>
                  <a:pt x="691" y="175"/>
                </a:lnTo>
                <a:lnTo>
                  <a:pt x="670" y="179"/>
                </a:lnTo>
                <a:lnTo>
                  <a:pt x="649" y="184"/>
                </a:lnTo>
                <a:lnTo>
                  <a:pt x="628" y="188"/>
                </a:lnTo>
                <a:lnTo>
                  <a:pt x="604" y="194"/>
                </a:lnTo>
                <a:lnTo>
                  <a:pt x="583" y="198"/>
                </a:lnTo>
                <a:lnTo>
                  <a:pt x="558" y="204"/>
                </a:lnTo>
                <a:lnTo>
                  <a:pt x="535" y="209"/>
                </a:lnTo>
                <a:lnTo>
                  <a:pt x="510" y="215"/>
                </a:lnTo>
                <a:lnTo>
                  <a:pt x="487" y="221"/>
                </a:lnTo>
                <a:lnTo>
                  <a:pt x="461" y="225"/>
                </a:lnTo>
                <a:lnTo>
                  <a:pt x="411" y="236"/>
                </a:lnTo>
                <a:lnTo>
                  <a:pt x="382" y="242"/>
                </a:lnTo>
                <a:lnTo>
                  <a:pt x="357" y="248"/>
                </a:lnTo>
                <a:lnTo>
                  <a:pt x="332" y="252"/>
                </a:lnTo>
                <a:lnTo>
                  <a:pt x="309" y="257"/>
                </a:lnTo>
                <a:lnTo>
                  <a:pt x="288" y="261"/>
                </a:lnTo>
                <a:lnTo>
                  <a:pt x="269" y="265"/>
                </a:lnTo>
                <a:lnTo>
                  <a:pt x="249" y="269"/>
                </a:lnTo>
                <a:lnTo>
                  <a:pt x="232" y="273"/>
                </a:lnTo>
                <a:lnTo>
                  <a:pt x="217" y="277"/>
                </a:lnTo>
                <a:lnTo>
                  <a:pt x="203" y="279"/>
                </a:lnTo>
                <a:lnTo>
                  <a:pt x="190" y="280"/>
                </a:lnTo>
                <a:lnTo>
                  <a:pt x="178" y="282"/>
                </a:lnTo>
                <a:lnTo>
                  <a:pt x="169" y="284"/>
                </a:lnTo>
                <a:lnTo>
                  <a:pt x="161" y="284"/>
                </a:lnTo>
                <a:lnTo>
                  <a:pt x="154" y="286"/>
                </a:lnTo>
                <a:lnTo>
                  <a:pt x="148" y="28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Freeform 49"/>
          <p:cNvSpPr/>
          <p:nvPr/>
        </p:nvSpPr>
        <p:spPr>
          <a:xfrm>
            <a:off x="2185920" y="3184560"/>
            <a:ext cx="743040" cy="882720"/>
          </a:xfrm>
          <a:custGeom>
            <a:avLst/>
            <a:gdLst>
              <a:gd name="textAreaLeft" fmla="*/ 0 w 743040"/>
              <a:gd name="textAreaRight" fmla="*/ 743400 w 74304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937" h="1111">
                <a:moveTo>
                  <a:pt x="741" y="578"/>
                </a:moveTo>
                <a:lnTo>
                  <a:pt x="724" y="601"/>
                </a:lnTo>
                <a:lnTo>
                  <a:pt x="708" y="624"/>
                </a:lnTo>
                <a:lnTo>
                  <a:pt x="693" y="647"/>
                </a:lnTo>
                <a:lnTo>
                  <a:pt x="676" y="670"/>
                </a:lnTo>
                <a:lnTo>
                  <a:pt x="658" y="691"/>
                </a:lnTo>
                <a:lnTo>
                  <a:pt x="641" y="712"/>
                </a:lnTo>
                <a:lnTo>
                  <a:pt x="624" y="733"/>
                </a:lnTo>
                <a:lnTo>
                  <a:pt x="607" y="753"/>
                </a:lnTo>
                <a:lnTo>
                  <a:pt x="587" y="774"/>
                </a:lnTo>
                <a:lnTo>
                  <a:pt x="568" y="791"/>
                </a:lnTo>
                <a:lnTo>
                  <a:pt x="551" y="810"/>
                </a:lnTo>
                <a:lnTo>
                  <a:pt x="530" y="827"/>
                </a:lnTo>
                <a:lnTo>
                  <a:pt x="511" y="845"/>
                </a:lnTo>
                <a:lnTo>
                  <a:pt x="491" y="862"/>
                </a:lnTo>
                <a:lnTo>
                  <a:pt x="470" y="877"/>
                </a:lnTo>
                <a:lnTo>
                  <a:pt x="449" y="893"/>
                </a:lnTo>
                <a:lnTo>
                  <a:pt x="428" y="908"/>
                </a:lnTo>
                <a:lnTo>
                  <a:pt x="405" y="921"/>
                </a:lnTo>
                <a:lnTo>
                  <a:pt x="384" y="935"/>
                </a:lnTo>
                <a:lnTo>
                  <a:pt x="363" y="948"/>
                </a:lnTo>
                <a:lnTo>
                  <a:pt x="342" y="962"/>
                </a:lnTo>
                <a:lnTo>
                  <a:pt x="321" y="973"/>
                </a:lnTo>
                <a:lnTo>
                  <a:pt x="301" y="985"/>
                </a:lnTo>
                <a:lnTo>
                  <a:pt x="282" y="996"/>
                </a:lnTo>
                <a:lnTo>
                  <a:pt x="244" y="1017"/>
                </a:lnTo>
                <a:lnTo>
                  <a:pt x="207" y="1037"/>
                </a:lnTo>
                <a:lnTo>
                  <a:pt x="173" y="1054"/>
                </a:lnTo>
                <a:lnTo>
                  <a:pt x="140" y="1069"/>
                </a:lnTo>
                <a:lnTo>
                  <a:pt x="125" y="1075"/>
                </a:lnTo>
                <a:lnTo>
                  <a:pt x="108" y="1081"/>
                </a:lnTo>
                <a:lnTo>
                  <a:pt x="94" y="1085"/>
                </a:lnTo>
                <a:lnTo>
                  <a:pt x="79" y="1090"/>
                </a:lnTo>
                <a:lnTo>
                  <a:pt x="67" y="1094"/>
                </a:lnTo>
                <a:lnTo>
                  <a:pt x="56" y="1098"/>
                </a:lnTo>
                <a:lnTo>
                  <a:pt x="44" y="1102"/>
                </a:lnTo>
                <a:lnTo>
                  <a:pt x="37" y="1104"/>
                </a:lnTo>
                <a:lnTo>
                  <a:pt x="27" y="1108"/>
                </a:lnTo>
                <a:lnTo>
                  <a:pt x="21" y="1110"/>
                </a:lnTo>
                <a:lnTo>
                  <a:pt x="14" y="1110"/>
                </a:lnTo>
                <a:lnTo>
                  <a:pt x="10" y="1111"/>
                </a:lnTo>
                <a:lnTo>
                  <a:pt x="6" y="1111"/>
                </a:lnTo>
                <a:lnTo>
                  <a:pt x="2" y="1111"/>
                </a:lnTo>
                <a:lnTo>
                  <a:pt x="0" y="1110"/>
                </a:lnTo>
                <a:lnTo>
                  <a:pt x="0" y="1108"/>
                </a:lnTo>
                <a:lnTo>
                  <a:pt x="0" y="1104"/>
                </a:lnTo>
                <a:lnTo>
                  <a:pt x="4" y="1100"/>
                </a:lnTo>
                <a:lnTo>
                  <a:pt x="8" y="1094"/>
                </a:lnTo>
                <a:lnTo>
                  <a:pt x="14" y="1088"/>
                </a:lnTo>
                <a:lnTo>
                  <a:pt x="21" y="1083"/>
                </a:lnTo>
                <a:lnTo>
                  <a:pt x="31" y="1075"/>
                </a:lnTo>
                <a:lnTo>
                  <a:pt x="40" y="1065"/>
                </a:lnTo>
                <a:lnTo>
                  <a:pt x="52" y="1058"/>
                </a:lnTo>
                <a:lnTo>
                  <a:pt x="67" y="1048"/>
                </a:lnTo>
                <a:lnTo>
                  <a:pt x="83" y="1037"/>
                </a:lnTo>
                <a:lnTo>
                  <a:pt x="98" y="1025"/>
                </a:lnTo>
                <a:lnTo>
                  <a:pt x="117" y="1014"/>
                </a:lnTo>
                <a:lnTo>
                  <a:pt x="136" y="1000"/>
                </a:lnTo>
                <a:lnTo>
                  <a:pt x="156" y="987"/>
                </a:lnTo>
                <a:lnTo>
                  <a:pt x="179" y="971"/>
                </a:lnTo>
                <a:lnTo>
                  <a:pt x="223" y="937"/>
                </a:lnTo>
                <a:lnTo>
                  <a:pt x="267" y="902"/>
                </a:lnTo>
                <a:lnTo>
                  <a:pt x="311" y="866"/>
                </a:lnTo>
                <a:lnTo>
                  <a:pt x="353" y="829"/>
                </a:lnTo>
                <a:lnTo>
                  <a:pt x="395" y="791"/>
                </a:lnTo>
                <a:lnTo>
                  <a:pt x="438" y="751"/>
                </a:lnTo>
                <a:lnTo>
                  <a:pt x="457" y="731"/>
                </a:lnTo>
                <a:lnTo>
                  <a:pt x="476" y="710"/>
                </a:lnTo>
                <a:lnTo>
                  <a:pt x="497" y="689"/>
                </a:lnTo>
                <a:lnTo>
                  <a:pt x="516" y="666"/>
                </a:lnTo>
                <a:lnTo>
                  <a:pt x="534" y="645"/>
                </a:lnTo>
                <a:lnTo>
                  <a:pt x="553" y="624"/>
                </a:lnTo>
                <a:lnTo>
                  <a:pt x="570" y="603"/>
                </a:lnTo>
                <a:lnTo>
                  <a:pt x="585" y="582"/>
                </a:lnTo>
                <a:lnTo>
                  <a:pt x="601" y="559"/>
                </a:lnTo>
                <a:lnTo>
                  <a:pt x="616" y="536"/>
                </a:lnTo>
                <a:lnTo>
                  <a:pt x="630" y="513"/>
                </a:lnTo>
                <a:lnTo>
                  <a:pt x="643" y="490"/>
                </a:lnTo>
                <a:lnTo>
                  <a:pt x="655" y="467"/>
                </a:lnTo>
                <a:lnTo>
                  <a:pt x="668" y="442"/>
                </a:lnTo>
                <a:lnTo>
                  <a:pt x="678" y="419"/>
                </a:lnTo>
                <a:lnTo>
                  <a:pt x="689" y="394"/>
                </a:lnTo>
                <a:lnTo>
                  <a:pt x="697" y="369"/>
                </a:lnTo>
                <a:lnTo>
                  <a:pt x="706" y="344"/>
                </a:lnTo>
                <a:lnTo>
                  <a:pt x="714" y="319"/>
                </a:lnTo>
                <a:lnTo>
                  <a:pt x="722" y="292"/>
                </a:lnTo>
                <a:lnTo>
                  <a:pt x="727" y="267"/>
                </a:lnTo>
                <a:lnTo>
                  <a:pt x="733" y="244"/>
                </a:lnTo>
                <a:lnTo>
                  <a:pt x="739" y="221"/>
                </a:lnTo>
                <a:lnTo>
                  <a:pt x="745" y="200"/>
                </a:lnTo>
                <a:lnTo>
                  <a:pt x="749" y="181"/>
                </a:lnTo>
                <a:lnTo>
                  <a:pt x="752" y="162"/>
                </a:lnTo>
                <a:lnTo>
                  <a:pt x="754" y="146"/>
                </a:lnTo>
                <a:lnTo>
                  <a:pt x="758" y="131"/>
                </a:lnTo>
                <a:lnTo>
                  <a:pt x="760" y="115"/>
                </a:lnTo>
                <a:lnTo>
                  <a:pt x="760" y="104"/>
                </a:lnTo>
                <a:lnTo>
                  <a:pt x="762" y="92"/>
                </a:lnTo>
                <a:lnTo>
                  <a:pt x="762" y="83"/>
                </a:lnTo>
                <a:lnTo>
                  <a:pt x="762" y="73"/>
                </a:lnTo>
                <a:lnTo>
                  <a:pt x="762" y="66"/>
                </a:lnTo>
                <a:lnTo>
                  <a:pt x="760" y="60"/>
                </a:lnTo>
                <a:lnTo>
                  <a:pt x="758" y="56"/>
                </a:lnTo>
                <a:lnTo>
                  <a:pt x="752" y="48"/>
                </a:lnTo>
                <a:lnTo>
                  <a:pt x="749" y="41"/>
                </a:lnTo>
                <a:lnTo>
                  <a:pt x="747" y="35"/>
                </a:lnTo>
                <a:lnTo>
                  <a:pt x="745" y="27"/>
                </a:lnTo>
                <a:lnTo>
                  <a:pt x="747" y="21"/>
                </a:lnTo>
                <a:lnTo>
                  <a:pt x="749" y="16"/>
                </a:lnTo>
                <a:lnTo>
                  <a:pt x="752" y="12"/>
                </a:lnTo>
                <a:lnTo>
                  <a:pt x="758" y="6"/>
                </a:lnTo>
                <a:lnTo>
                  <a:pt x="760" y="4"/>
                </a:lnTo>
                <a:lnTo>
                  <a:pt x="764" y="4"/>
                </a:lnTo>
                <a:lnTo>
                  <a:pt x="768" y="2"/>
                </a:lnTo>
                <a:lnTo>
                  <a:pt x="772" y="2"/>
                </a:lnTo>
                <a:lnTo>
                  <a:pt x="775" y="0"/>
                </a:lnTo>
                <a:lnTo>
                  <a:pt x="781" y="0"/>
                </a:lnTo>
                <a:lnTo>
                  <a:pt x="785" y="0"/>
                </a:lnTo>
                <a:lnTo>
                  <a:pt x="793" y="0"/>
                </a:lnTo>
                <a:lnTo>
                  <a:pt x="804" y="2"/>
                </a:lnTo>
                <a:lnTo>
                  <a:pt x="820" y="6"/>
                </a:lnTo>
                <a:lnTo>
                  <a:pt x="835" y="10"/>
                </a:lnTo>
                <a:lnTo>
                  <a:pt x="852" y="18"/>
                </a:lnTo>
                <a:lnTo>
                  <a:pt x="869" y="27"/>
                </a:lnTo>
                <a:lnTo>
                  <a:pt x="885" y="37"/>
                </a:lnTo>
                <a:lnTo>
                  <a:pt x="896" y="46"/>
                </a:lnTo>
                <a:lnTo>
                  <a:pt x="908" y="54"/>
                </a:lnTo>
                <a:lnTo>
                  <a:pt x="917" y="64"/>
                </a:lnTo>
                <a:lnTo>
                  <a:pt x="927" y="71"/>
                </a:lnTo>
                <a:lnTo>
                  <a:pt x="933" y="79"/>
                </a:lnTo>
                <a:lnTo>
                  <a:pt x="937" y="85"/>
                </a:lnTo>
                <a:lnTo>
                  <a:pt x="937" y="89"/>
                </a:lnTo>
                <a:lnTo>
                  <a:pt x="937" y="94"/>
                </a:lnTo>
                <a:lnTo>
                  <a:pt x="935" y="100"/>
                </a:lnTo>
                <a:lnTo>
                  <a:pt x="935" y="106"/>
                </a:lnTo>
                <a:lnTo>
                  <a:pt x="933" y="114"/>
                </a:lnTo>
                <a:lnTo>
                  <a:pt x="933" y="121"/>
                </a:lnTo>
                <a:lnTo>
                  <a:pt x="931" y="129"/>
                </a:lnTo>
                <a:lnTo>
                  <a:pt x="929" y="138"/>
                </a:lnTo>
                <a:lnTo>
                  <a:pt x="925" y="148"/>
                </a:lnTo>
                <a:lnTo>
                  <a:pt x="923" y="160"/>
                </a:lnTo>
                <a:lnTo>
                  <a:pt x="919" y="171"/>
                </a:lnTo>
                <a:lnTo>
                  <a:pt x="917" y="185"/>
                </a:lnTo>
                <a:lnTo>
                  <a:pt x="914" y="198"/>
                </a:lnTo>
                <a:lnTo>
                  <a:pt x="908" y="211"/>
                </a:lnTo>
                <a:lnTo>
                  <a:pt x="904" y="227"/>
                </a:lnTo>
                <a:lnTo>
                  <a:pt x="900" y="244"/>
                </a:lnTo>
                <a:lnTo>
                  <a:pt x="894" y="259"/>
                </a:lnTo>
                <a:lnTo>
                  <a:pt x="889" y="277"/>
                </a:lnTo>
                <a:lnTo>
                  <a:pt x="881" y="296"/>
                </a:lnTo>
                <a:lnTo>
                  <a:pt x="875" y="313"/>
                </a:lnTo>
                <a:lnTo>
                  <a:pt x="868" y="332"/>
                </a:lnTo>
                <a:lnTo>
                  <a:pt x="858" y="351"/>
                </a:lnTo>
                <a:lnTo>
                  <a:pt x="850" y="371"/>
                </a:lnTo>
                <a:lnTo>
                  <a:pt x="841" y="392"/>
                </a:lnTo>
                <a:lnTo>
                  <a:pt x="831" y="413"/>
                </a:lnTo>
                <a:lnTo>
                  <a:pt x="820" y="434"/>
                </a:lnTo>
                <a:lnTo>
                  <a:pt x="808" y="457"/>
                </a:lnTo>
                <a:lnTo>
                  <a:pt x="797" y="480"/>
                </a:lnTo>
                <a:lnTo>
                  <a:pt x="783" y="503"/>
                </a:lnTo>
                <a:lnTo>
                  <a:pt x="770" y="526"/>
                </a:lnTo>
                <a:lnTo>
                  <a:pt x="756" y="551"/>
                </a:lnTo>
                <a:lnTo>
                  <a:pt x="741" y="57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5" name="Group 30"/>
          <p:cNvGrpSpPr/>
          <p:nvPr/>
        </p:nvGrpSpPr>
        <p:grpSpPr>
          <a:xfrm>
            <a:off x="4648320" y="1600200"/>
            <a:ext cx="3193920" cy="963720"/>
            <a:chOff x="4648320" y="1600200"/>
            <a:chExt cx="3193920" cy="963720"/>
          </a:xfrm>
        </p:grpSpPr>
        <p:sp>
          <p:nvSpPr>
            <p:cNvPr id="4426" name="Text Box 33"/>
            <p:cNvSpPr/>
            <p:nvPr/>
          </p:nvSpPr>
          <p:spPr>
            <a:xfrm>
              <a:off x="4648320" y="1860480"/>
              <a:ext cx="18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力字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7" name="Group 32"/>
            <p:cNvGrpSpPr/>
            <p:nvPr/>
          </p:nvGrpSpPr>
          <p:grpSpPr>
            <a:xfrm>
              <a:off x="6705720" y="1600200"/>
              <a:ext cx="1136520" cy="928800"/>
              <a:chOff x="6705720" y="1600200"/>
              <a:chExt cx="1136520" cy="928800"/>
            </a:xfrm>
          </p:grpSpPr>
          <p:sp>
            <p:nvSpPr>
              <p:cNvPr id="4428" name="Freeform 51"/>
              <p:cNvSpPr/>
              <p:nvPr/>
            </p:nvSpPr>
            <p:spPr>
              <a:xfrm>
                <a:off x="6915240" y="1714680"/>
                <a:ext cx="927000" cy="81432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1169" h="1025">
                    <a:moveTo>
                      <a:pt x="148" y="286"/>
                    </a:moveTo>
                    <a:lnTo>
                      <a:pt x="140" y="284"/>
                    </a:lnTo>
                    <a:lnTo>
                      <a:pt x="132" y="282"/>
                    </a:lnTo>
                    <a:lnTo>
                      <a:pt x="123" y="279"/>
                    </a:lnTo>
                    <a:lnTo>
                      <a:pt x="111" y="273"/>
                    </a:lnTo>
                    <a:lnTo>
                      <a:pt x="100" y="265"/>
                    </a:lnTo>
                    <a:lnTo>
                      <a:pt x="86" y="257"/>
                    </a:lnTo>
                    <a:lnTo>
                      <a:pt x="71" y="248"/>
                    </a:lnTo>
                    <a:lnTo>
                      <a:pt x="54" y="236"/>
                    </a:lnTo>
                    <a:lnTo>
                      <a:pt x="46" y="231"/>
                    </a:lnTo>
                    <a:lnTo>
                      <a:pt x="38" y="227"/>
                    </a:lnTo>
                    <a:lnTo>
                      <a:pt x="31" y="221"/>
                    </a:lnTo>
                    <a:lnTo>
                      <a:pt x="25" y="217"/>
                    </a:lnTo>
                    <a:lnTo>
                      <a:pt x="19" y="211"/>
                    </a:lnTo>
                    <a:lnTo>
                      <a:pt x="13" y="207"/>
                    </a:lnTo>
                    <a:lnTo>
                      <a:pt x="10" y="204"/>
                    </a:lnTo>
                    <a:lnTo>
                      <a:pt x="6" y="200"/>
                    </a:lnTo>
                    <a:lnTo>
                      <a:pt x="4" y="196"/>
                    </a:lnTo>
                    <a:lnTo>
                      <a:pt x="2" y="192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0" y="184"/>
                    </a:lnTo>
                    <a:lnTo>
                      <a:pt x="2" y="183"/>
                    </a:lnTo>
                    <a:lnTo>
                      <a:pt x="4" y="181"/>
                    </a:lnTo>
                    <a:lnTo>
                      <a:pt x="8" y="179"/>
                    </a:lnTo>
                    <a:lnTo>
                      <a:pt x="10" y="177"/>
                    </a:lnTo>
                    <a:lnTo>
                      <a:pt x="12" y="175"/>
                    </a:lnTo>
                    <a:lnTo>
                      <a:pt x="15" y="173"/>
                    </a:lnTo>
                    <a:lnTo>
                      <a:pt x="19" y="171"/>
                    </a:lnTo>
                    <a:lnTo>
                      <a:pt x="23" y="171"/>
                    </a:lnTo>
                    <a:lnTo>
                      <a:pt x="29" y="169"/>
                    </a:lnTo>
                    <a:lnTo>
                      <a:pt x="35" y="169"/>
                    </a:lnTo>
                    <a:lnTo>
                      <a:pt x="40" y="167"/>
                    </a:lnTo>
                    <a:lnTo>
                      <a:pt x="54" y="165"/>
                    </a:lnTo>
                    <a:lnTo>
                      <a:pt x="67" y="163"/>
                    </a:lnTo>
                    <a:lnTo>
                      <a:pt x="84" y="161"/>
                    </a:lnTo>
                    <a:lnTo>
                      <a:pt x="102" y="158"/>
                    </a:lnTo>
                    <a:lnTo>
                      <a:pt x="109" y="158"/>
                    </a:lnTo>
                    <a:lnTo>
                      <a:pt x="121" y="158"/>
                    </a:lnTo>
                    <a:lnTo>
                      <a:pt x="132" y="158"/>
                    </a:lnTo>
                    <a:lnTo>
                      <a:pt x="144" y="156"/>
                    </a:lnTo>
                    <a:lnTo>
                      <a:pt x="159" y="156"/>
                    </a:lnTo>
                    <a:lnTo>
                      <a:pt x="173" y="154"/>
                    </a:lnTo>
                    <a:lnTo>
                      <a:pt x="190" y="152"/>
                    </a:lnTo>
                    <a:lnTo>
                      <a:pt x="205" y="150"/>
                    </a:lnTo>
                    <a:lnTo>
                      <a:pt x="225" y="148"/>
                    </a:lnTo>
                    <a:lnTo>
                      <a:pt x="244" y="146"/>
                    </a:lnTo>
                    <a:lnTo>
                      <a:pt x="263" y="144"/>
                    </a:lnTo>
                    <a:lnTo>
                      <a:pt x="286" y="142"/>
                    </a:lnTo>
                    <a:lnTo>
                      <a:pt x="307" y="138"/>
                    </a:lnTo>
                    <a:lnTo>
                      <a:pt x="332" y="136"/>
                    </a:lnTo>
                    <a:lnTo>
                      <a:pt x="355" y="133"/>
                    </a:lnTo>
                    <a:lnTo>
                      <a:pt x="382" y="129"/>
                    </a:lnTo>
                    <a:lnTo>
                      <a:pt x="430" y="125"/>
                    </a:lnTo>
                    <a:lnTo>
                      <a:pt x="476" y="119"/>
                    </a:lnTo>
                    <a:lnTo>
                      <a:pt x="522" y="113"/>
                    </a:lnTo>
                    <a:lnTo>
                      <a:pt x="564" y="108"/>
                    </a:lnTo>
                    <a:lnTo>
                      <a:pt x="606" y="102"/>
                    </a:lnTo>
                    <a:lnTo>
                      <a:pt x="645" y="94"/>
                    </a:lnTo>
                    <a:lnTo>
                      <a:pt x="683" y="87"/>
                    </a:lnTo>
                    <a:lnTo>
                      <a:pt x="720" y="79"/>
                    </a:lnTo>
                    <a:lnTo>
                      <a:pt x="735" y="75"/>
                    </a:lnTo>
                    <a:lnTo>
                      <a:pt x="752" y="71"/>
                    </a:lnTo>
                    <a:lnTo>
                      <a:pt x="768" y="67"/>
                    </a:lnTo>
                    <a:lnTo>
                      <a:pt x="781" y="64"/>
                    </a:lnTo>
                    <a:lnTo>
                      <a:pt x="796" y="62"/>
                    </a:lnTo>
                    <a:lnTo>
                      <a:pt x="808" y="58"/>
                    </a:lnTo>
                    <a:lnTo>
                      <a:pt x="819" y="54"/>
                    </a:lnTo>
                    <a:lnTo>
                      <a:pt x="831" y="50"/>
                    </a:lnTo>
                    <a:lnTo>
                      <a:pt x="841" y="46"/>
                    </a:lnTo>
                    <a:lnTo>
                      <a:pt x="850" y="42"/>
                    </a:lnTo>
                    <a:lnTo>
                      <a:pt x="858" y="39"/>
                    </a:lnTo>
                    <a:lnTo>
                      <a:pt x="865" y="35"/>
                    </a:lnTo>
                    <a:lnTo>
                      <a:pt x="873" y="31"/>
                    </a:lnTo>
                    <a:lnTo>
                      <a:pt x="879" y="27"/>
                    </a:lnTo>
                    <a:lnTo>
                      <a:pt x="883" y="23"/>
                    </a:lnTo>
                    <a:lnTo>
                      <a:pt x="887" y="19"/>
                    </a:lnTo>
                    <a:lnTo>
                      <a:pt x="890" y="16"/>
                    </a:lnTo>
                    <a:lnTo>
                      <a:pt x="896" y="14"/>
                    </a:lnTo>
                    <a:lnTo>
                      <a:pt x="902" y="10"/>
                    </a:lnTo>
                    <a:lnTo>
                      <a:pt x="908" y="6"/>
                    </a:lnTo>
                    <a:lnTo>
                      <a:pt x="915" y="4"/>
                    </a:lnTo>
                    <a:lnTo>
                      <a:pt x="923" y="2"/>
                    </a:lnTo>
                    <a:lnTo>
                      <a:pt x="933" y="0"/>
                    </a:lnTo>
                    <a:lnTo>
                      <a:pt x="944" y="0"/>
                    </a:lnTo>
                    <a:lnTo>
                      <a:pt x="952" y="4"/>
                    </a:lnTo>
                    <a:lnTo>
                      <a:pt x="956" y="8"/>
                    </a:lnTo>
                    <a:lnTo>
                      <a:pt x="961" y="10"/>
                    </a:lnTo>
                    <a:lnTo>
                      <a:pt x="967" y="14"/>
                    </a:lnTo>
                    <a:lnTo>
                      <a:pt x="973" y="16"/>
                    </a:lnTo>
                    <a:lnTo>
                      <a:pt x="979" y="19"/>
                    </a:lnTo>
                    <a:lnTo>
                      <a:pt x="986" y="23"/>
                    </a:lnTo>
                    <a:lnTo>
                      <a:pt x="994" y="29"/>
                    </a:lnTo>
                    <a:lnTo>
                      <a:pt x="1004" y="33"/>
                    </a:lnTo>
                    <a:lnTo>
                      <a:pt x="1011" y="39"/>
                    </a:lnTo>
                    <a:lnTo>
                      <a:pt x="1021" y="42"/>
                    </a:lnTo>
                    <a:lnTo>
                      <a:pt x="1031" y="50"/>
                    </a:lnTo>
                    <a:lnTo>
                      <a:pt x="1042" y="56"/>
                    </a:lnTo>
                    <a:lnTo>
                      <a:pt x="1054" y="62"/>
                    </a:lnTo>
                    <a:lnTo>
                      <a:pt x="1065" y="69"/>
                    </a:lnTo>
                    <a:lnTo>
                      <a:pt x="1077" y="79"/>
                    </a:lnTo>
                    <a:lnTo>
                      <a:pt x="1088" y="87"/>
                    </a:lnTo>
                    <a:lnTo>
                      <a:pt x="1098" y="96"/>
                    </a:lnTo>
                    <a:lnTo>
                      <a:pt x="1107" y="104"/>
                    </a:lnTo>
                    <a:lnTo>
                      <a:pt x="1115" y="110"/>
                    </a:lnTo>
                    <a:lnTo>
                      <a:pt x="1125" y="117"/>
                    </a:lnTo>
                    <a:lnTo>
                      <a:pt x="1130" y="123"/>
                    </a:lnTo>
                    <a:lnTo>
                      <a:pt x="1138" y="129"/>
                    </a:lnTo>
                    <a:lnTo>
                      <a:pt x="1144" y="135"/>
                    </a:lnTo>
                    <a:lnTo>
                      <a:pt x="1148" y="138"/>
                    </a:lnTo>
                    <a:lnTo>
                      <a:pt x="1153" y="142"/>
                    </a:lnTo>
                    <a:lnTo>
                      <a:pt x="1157" y="146"/>
                    </a:lnTo>
                    <a:lnTo>
                      <a:pt x="1161" y="150"/>
                    </a:lnTo>
                    <a:lnTo>
                      <a:pt x="1163" y="154"/>
                    </a:lnTo>
                    <a:lnTo>
                      <a:pt x="1167" y="156"/>
                    </a:lnTo>
                    <a:lnTo>
                      <a:pt x="1169" y="158"/>
                    </a:lnTo>
                    <a:lnTo>
                      <a:pt x="1167" y="165"/>
                    </a:lnTo>
                    <a:lnTo>
                      <a:pt x="1167" y="171"/>
                    </a:lnTo>
                    <a:lnTo>
                      <a:pt x="1163" y="177"/>
                    </a:lnTo>
                    <a:lnTo>
                      <a:pt x="1159" y="181"/>
                    </a:lnTo>
                    <a:lnTo>
                      <a:pt x="1155" y="186"/>
                    </a:lnTo>
                    <a:lnTo>
                      <a:pt x="1148" y="190"/>
                    </a:lnTo>
                    <a:lnTo>
                      <a:pt x="1140" y="194"/>
                    </a:lnTo>
                    <a:lnTo>
                      <a:pt x="1130" y="198"/>
                    </a:lnTo>
                    <a:lnTo>
                      <a:pt x="1125" y="200"/>
                    </a:lnTo>
                    <a:lnTo>
                      <a:pt x="1121" y="204"/>
                    </a:lnTo>
                    <a:lnTo>
                      <a:pt x="1115" y="211"/>
                    </a:lnTo>
                    <a:lnTo>
                      <a:pt x="1111" y="217"/>
                    </a:lnTo>
                    <a:lnTo>
                      <a:pt x="1107" y="227"/>
                    </a:lnTo>
                    <a:lnTo>
                      <a:pt x="1102" y="238"/>
                    </a:lnTo>
                    <a:lnTo>
                      <a:pt x="1098" y="252"/>
                    </a:lnTo>
                    <a:lnTo>
                      <a:pt x="1094" y="265"/>
                    </a:lnTo>
                    <a:lnTo>
                      <a:pt x="1090" y="280"/>
                    </a:lnTo>
                    <a:lnTo>
                      <a:pt x="1086" y="300"/>
                    </a:lnTo>
                    <a:lnTo>
                      <a:pt x="1082" y="319"/>
                    </a:lnTo>
                    <a:lnTo>
                      <a:pt x="1079" y="340"/>
                    </a:lnTo>
                    <a:lnTo>
                      <a:pt x="1075" y="363"/>
                    </a:lnTo>
                    <a:lnTo>
                      <a:pt x="1073" y="388"/>
                    </a:lnTo>
                    <a:lnTo>
                      <a:pt x="1069" y="415"/>
                    </a:lnTo>
                    <a:lnTo>
                      <a:pt x="1065" y="444"/>
                    </a:lnTo>
                    <a:lnTo>
                      <a:pt x="1059" y="474"/>
                    </a:lnTo>
                    <a:lnTo>
                      <a:pt x="1054" y="503"/>
                    </a:lnTo>
                    <a:lnTo>
                      <a:pt x="1050" y="532"/>
                    </a:lnTo>
                    <a:lnTo>
                      <a:pt x="1044" y="561"/>
                    </a:lnTo>
                    <a:lnTo>
                      <a:pt x="1038" y="586"/>
                    </a:lnTo>
                    <a:lnTo>
                      <a:pt x="1032" y="612"/>
                    </a:lnTo>
                    <a:lnTo>
                      <a:pt x="1027" y="635"/>
                    </a:lnTo>
                    <a:lnTo>
                      <a:pt x="1021" y="660"/>
                    </a:lnTo>
                    <a:lnTo>
                      <a:pt x="1015" y="683"/>
                    </a:lnTo>
                    <a:lnTo>
                      <a:pt x="1009" y="705"/>
                    </a:lnTo>
                    <a:lnTo>
                      <a:pt x="1004" y="726"/>
                    </a:lnTo>
                    <a:lnTo>
                      <a:pt x="998" y="745"/>
                    </a:lnTo>
                    <a:lnTo>
                      <a:pt x="992" y="764"/>
                    </a:lnTo>
                    <a:lnTo>
                      <a:pt x="984" y="783"/>
                    </a:lnTo>
                    <a:lnTo>
                      <a:pt x="979" y="801"/>
                    </a:lnTo>
                    <a:lnTo>
                      <a:pt x="971" y="818"/>
                    </a:lnTo>
                    <a:lnTo>
                      <a:pt x="965" y="833"/>
                    </a:lnTo>
                    <a:lnTo>
                      <a:pt x="958" y="848"/>
                    </a:lnTo>
                    <a:lnTo>
                      <a:pt x="950" y="864"/>
                    </a:lnTo>
                    <a:lnTo>
                      <a:pt x="944" y="877"/>
                    </a:lnTo>
                    <a:lnTo>
                      <a:pt x="936" y="889"/>
                    </a:lnTo>
                    <a:lnTo>
                      <a:pt x="929" y="902"/>
                    </a:lnTo>
                    <a:lnTo>
                      <a:pt x="923" y="912"/>
                    </a:lnTo>
                    <a:lnTo>
                      <a:pt x="915" y="923"/>
                    </a:lnTo>
                    <a:lnTo>
                      <a:pt x="908" y="933"/>
                    </a:lnTo>
                    <a:lnTo>
                      <a:pt x="902" y="943"/>
                    </a:lnTo>
                    <a:lnTo>
                      <a:pt x="894" y="950"/>
                    </a:lnTo>
                    <a:lnTo>
                      <a:pt x="887" y="958"/>
                    </a:lnTo>
                    <a:lnTo>
                      <a:pt x="881" y="966"/>
                    </a:lnTo>
                    <a:lnTo>
                      <a:pt x="873" y="973"/>
                    </a:lnTo>
                    <a:lnTo>
                      <a:pt x="865" y="979"/>
                    </a:lnTo>
                    <a:lnTo>
                      <a:pt x="860" y="985"/>
                    </a:lnTo>
                    <a:lnTo>
                      <a:pt x="852" y="991"/>
                    </a:lnTo>
                    <a:lnTo>
                      <a:pt x="846" y="994"/>
                    </a:lnTo>
                    <a:lnTo>
                      <a:pt x="833" y="1004"/>
                    </a:lnTo>
                    <a:lnTo>
                      <a:pt x="821" y="1010"/>
                    </a:lnTo>
                    <a:lnTo>
                      <a:pt x="812" y="1015"/>
                    </a:lnTo>
                    <a:lnTo>
                      <a:pt x="802" y="1019"/>
                    </a:lnTo>
                    <a:lnTo>
                      <a:pt x="794" y="1023"/>
                    </a:lnTo>
                    <a:lnTo>
                      <a:pt x="789" y="1023"/>
                    </a:lnTo>
                    <a:lnTo>
                      <a:pt x="785" y="1025"/>
                    </a:lnTo>
                    <a:lnTo>
                      <a:pt x="781" y="1023"/>
                    </a:lnTo>
                    <a:lnTo>
                      <a:pt x="777" y="1023"/>
                    </a:lnTo>
                    <a:lnTo>
                      <a:pt x="775" y="1021"/>
                    </a:lnTo>
                    <a:lnTo>
                      <a:pt x="771" y="1019"/>
                    </a:lnTo>
                    <a:lnTo>
                      <a:pt x="770" y="1015"/>
                    </a:lnTo>
                    <a:lnTo>
                      <a:pt x="768" y="1012"/>
                    </a:lnTo>
                    <a:lnTo>
                      <a:pt x="766" y="1008"/>
                    </a:lnTo>
                    <a:lnTo>
                      <a:pt x="764" y="1004"/>
                    </a:lnTo>
                    <a:lnTo>
                      <a:pt x="762" y="998"/>
                    </a:lnTo>
                    <a:lnTo>
                      <a:pt x="760" y="992"/>
                    </a:lnTo>
                    <a:lnTo>
                      <a:pt x="758" y="985"/>
                    </a:lnTo>
                    <a:lnTo>
                      <a:pt x="758" y="979"/>
                    </a:lnTo>
                    <a:lnTo>
                      <a:pt x="758" y="971"/>
                    </a:lnTo>
                    <a:lnTo>
                      <a:pt x="756" y="964"/>
                    </a:lnTo>
                    <a:lnTo>
                      <a:pt x="756" y="954"/>
                    </a:lnTo>
                    <a:lnTo>
                      <a:pt x="756" y="946"/>
                    </a:lnTo>
                    <a:lnTo>
                      <a:pt x="754" y="937"/>
                    </a:lnTo>
                    <a:lnTo>
                      <a:pt x="752" y="927"/>
                    </a:lnTo>
                    <a:lnTo>
                      <a:pt x="748" y="918"/>
                    </a:lnTo>
                    <a:lnTo>
                      <a:pt x="745" y="908"/>
                    </a:lnTo>
                    <a:lnTo>
                      <a:pt x="741" y="896"/>
                    </a:lnTo>
                    <a:lnTo>
                      <a:pt x="737" y="887"/>
                    </a:lnTo>
                    <a:lnTo>
                      <a:pt x="731" y="877"/>
                    </a:lnTo>
                    <a:lnTo>
                      <a:pt x="725" y="868"/>
                    </a:lnTo>
                    <a:lnTo>
                      <a:pt x="720" y="856"/>
                    </a:lnTo>
                    <a:lnTo>
                      <a:pt x="712" y="847"/>
                    </a:lnTo>
                    <a:lnTo>
                      <a:pt x="704" y="837"/>
                    </a:lnTo>
                    <a:lnTo>
                      <a:pt x="695" y="827"/>
                    </a:lnTo>
                    <a:lnTo>
                      <a:pt x="685" y="816"/>
                    </a:lnTo>
                    <a:lnTo>
                      <a:pt x="676" y="806"/>
                    </a:lnTo>
                    <a:lnTo>
                      <a:pt x="664" y="797"/>
                    </a:lnTo>
                    <a:lnTo>
                      <a:pt x="652" y="787"/>
                    </a:lnTo>
                    <a:lnTo>
                      <a:pt x="641" y="779"/>
                    </a:lnTo>
                    <a:lnTo>
                      <a:pt x="629" y="770"/>
                    </a:lnTo>
                    <a:lnTo>
                      <a:pt x="620" y="762"/>
                    </a:lnTo>
                    <a:lnTo>
                      <a:pt x="610" y="753"/>
                    </a:lnTo>
                    <a:lnTo>
                      <a:pt x="601" y="745"/>
                    </a:lnTo>
                    <a:lnTo>
                      <a:pt x="593" y="737"/>
                    </a:lnTo>
                    <a:lnTo>
                      <a:pt x="585" y="731"/>
                    </a:lnTo>
                    <a:lnTo>
                      <a:pt x="578" y="724"/>
                    </a:lnTo>
                    <a:lnTo>
                      <a:pt x="572" y="718"/>
                    </a:lnTo>
                    <a:lnTo>
                      <a:pt x="568" y="712"/>
                    </a:lnTo>
                    <a:lnTo>
                      <a:pt x="564" y="706"/>
                    </a:lnTo>
                    <a:lnTo>
                      <a:pt x="560" y="703"/>
                    </a:lnTo>
                    <a:lnTo>
                      <a:pt x="558" y="699"/>
                    </a:lnTo>
                    <a:lnTo>
                      <a:pt x="558" y="695"/>
                    </a:lnTo>
                    <a:lnTo>
                      <a:pt x="558" y="691"/>
                    </a:lnTo>
                    <a:lnTo>
                      <a:pt x="560" y="689"/>
                    </a:lnTo>
                    <a:lnTo>
                      <a:pt x="562" y="687"/>
                    </a:lnTo>
                    <a:lnTo>
                      <a:pt x="564" y="687"/>
                    </a:lnTo>
                    <a:lnTo>
                      <a:pt x="568" y="685"/>
                    </a:lnTo>
                    <a:lnTo>
                      <a:pt x="572" y="685"/>
                    </a:lnTo>
                    <a:lnTo>
                      <a:pt x="578" y="685"/>
                    </a:lnTo>
                    <a:lnTo>
                      <a:pt x="583" y="685"/>
                    </a:lnTo>
                    <a:lnTo>
                      <a:pt x="589" y="687"/>
                    </a:lnTo>
                    <a:lnTo>
                      <a:pt x="597" y="687"/>
                    </a:lnTo>
                    <a:lnTo>
                      <a:pt x="604" y="689"/>
                    </a:lnTo>
                    <a:lnTo>
                      <a:pt x="614" y="691"/>
                    </a:lnTo>
                    <a:lnTo>
                      <a:pt x="626" y="693"/>
                    </a:lnTo>
                    <a:lnTo>
                      <a:pt x="635" y="697"/>
                    </a:lnTo>
                    <a:lnTo>
                      <a:pt x="649" y="699"/>
                    </a:lnTo>
                    <a:lnTo>
                      <a:pt x="662" y="703"/>
                    </a:lnTo>
                    <a:lnTo>
                      <a:pt x="676" y="706"/>
                    </a:lnTo>
                    <a:lnTo>
                      <a:pt x="691" y="708"/>
                    </a:lnTo>
                    <a:lnTo>
                      <a:pt x="704" y="714"/>
                    </a:lnTo>
                    <a:lnTo>
                      <a:pt x="718" y="720"/>
                    </a:lnTo>
                    <a:lnTo>
                      <a:pt x="729" y="724"/>
                    </a:lnTo>
                    <a:lnTo>
                      <a:pt x="741" y="726"/>
                    </a:lnTo>
                    <a:lnTo>
                      <a:pt x="752" y="728"/>
                    </a:lnTo>
                    <a:lnTo>
                      <a:pt x="764" y="730"/>
                    </a:lnTo>
                    <a:lnTo>
                      <a:pt x="773" y="731"/>
                    </a:lnTo>
                    <a:lnTo>
                      <a:pt x="783" y="731"/>
                    </a:lnTo>
                    <a:lnTo>
                      <a:pt x="793" y="731"/>
                    </a:lnTo>
                    <a:lnTo>
                      <a:pt x="800" y="730"/>
                    </a:lnTo>
                    <a:lnTo>
                      <a:pt x="808" y="728"/>
                    </a:lnTo>
                    <a:lnTo>
                      <a:pt x="816" y="726"/>
                    </a:lnTo>
                    <a:lnTo>
                      <a:pt x="823" y="722"/>
                    </a:lnTo>
                    <a:lnTo>
                      <a:pt x="829" y="718"/>
                    </a:lnTo>
                    <a:lnTo>
                      <a:pt x="835" y="714"/>
                    </a:lnTo>
                    <a:lnTo>
                      <a:pt x="841" y="708"/>
                    </a:lnTo>
                    <a:lnTo>
                      <a:pt x="844" y="705"/>
                    </a:lnTo>
                    <a:lnTo>
                      <a:pt x="848" y="699"/>
                    </a:lnTo>
                    <a:lnTo>
                      <a:pt x="850" y="691"/>
                    </a:lnTo>
                    <a:lnTo>
                      <a:pt x="854" y="682"/>
                    </a:lnTo>
                    <a:lnTo>
                      <a:pt x="858" y="670"/>
                    </a:lnTo>
                    <a:lnTo>
                      <a:pt x="862" y="657"/>
                    </a:lnTo>
                    <a:lnTo>
                      <a:pt x="865" y="643"/>
                    </a:lnTo>
                    <a:lnTo>
                      <a:pt x="869" y="626"/>
                    </a:lnTo>
                    <a:lnTo>
                      <a:pt x="873" y="609"/>
                    </a:lnTo>
                    <a:lnTo>
                      <a:pt x="877" y="589"/>
                    </a:lnTo>
                    <a:lnTo>
                      <a:pt x="883" y="568"/>
                    </a:lnTo>
                    <a:lnTo>
                      <a:pt x="887" y="545"/>
                    </a:lnTo>
                    <a:lnTo>
                      <a:pt x="890" y="520"/>
                    </a:lnTo>
                    <a:lnTo>
                      <a:pt x="896" y="493"/>
                    </a:lnTo>
                    <a:lnTo>
                      <a:pt x="900" y="465"/>
                    </a:lnTo>
                    <a:lnTo>
                      <a:pt x="906" y="434"/>
                    </a:lnTo>
                    <a:lnTo>
                      <a:pt x="912" y="405"/>
                    </a:lnTo>
                    <a:lnTo>
                      <a:pt x="915" y="378"/>
                    </a:lnTo>
                    <a:lnTo>
                      <a:pt x="919" y="351"/>
                    </a:lnTo>
                    <a:lnTo>
                      <a:pt x="921" y="328"/>
                    </a:lnTo>
                    <a:lnTo>
                      <a:pt x="925" y="305"/>
                    </a:lnTo>
                    <a:lnTo>
                      <a:pt x="927" y="284"/>
                    </a:lnTo>
                    <a:lnTo>
                      <a:pt x="929" y="265"/>
                    </a:lnTo>
                    <a:lnTo>
                      <a:pt x="929" y="248"/>
                    </a:lnTo>
                    <a:lnTo>
                      <a:pt x="929" y="232"/>
                    </a:lnTo>
                    <a:lnTo>
                      <a:pt x="931" y="217"/>
                    </a:lnTo>
                    <a:lnTo>
                      <a:pt x="931" y="204"/>
                    </a:lnTo>
                    <a:lnTo>
                      <a:pt x="929" y="192"/>
                    </a:lnTo>
                    <a:lnTo>
                      <a:pt x="929" y="181"/>
                    </a:lnTo>
                    <a:lnTo>
                      <a:pt x="927" y="171"/>
                    </a:lnTo>
                    <a:lnTo>
                      <a:pt x="927" y="165"/>
                    </a:lnTo>
                    <a:lnTo>
                      <a:pt x="925" y="158"/>
                    </a:lnTo>
                    <a:lnTo>
                      <a:pt x="923" y="154"/>
                    </a:lnTo>
                    <a:lnTo>
                      <a:pt x="919" y="152"/>
                    </a:lnTo>
                    <a:lnTo>
                      <a:pt x="915" y="150"/>
                    </a:lnTo>
                    <a:lnTo>
                      <a:pt x="910" y="146"/>
                    </a:lnTo>
                    <a:lnTo>
                      <a:pt x="902" y="146"/>
                    </a:lnTo>
                    <a:lnTo>
                      <a:pt x="894" y="144"/>
                    </a:lnTo>
                    <a:lnTo>
                      <a:pt x="887" y="144"/>
                    </a:lnTo>
                    <a:lnTo>
                      <a:pt x="877" y="142"/>
                    </a:lnTo>
                    <a:lnTo>
                      <a:pt x="865" y="144"/>
                    </a:lnTo>
                    <a:lnTo>
                      <a:pt x="854" y="144"/>
                    </a:lnTo>
                    <a:lnTo>
                      <a:pt x="842" y="146"/>
                    </a:lnTo>
                    <a:lnTo>
                      <a:pt x="829" y="146"/>
                    </a:lnTo>
                    <a:lnTo>
                      <a:pt x="814" y="148"/>
                    </a:lnTo>
                    <a:lnTo>
                      <a:pt x="798" y="152"/>
                    </a:lnTo>
                    <a:lnTo>
                      <a:pt x="783" y="154"/>
                    </a:lnTo>
                    <a:lnTo>
                      <a:pt x="766" y="158"/>
                    </a:lnTo>
                    <a:lnTo>
                      <a:pt x="748" y="161"/>
                    </a:lnTo>
                    <a:lnTo>
                      <a:pt x="729" y="165"/>
                    </a:lnTo>
                    <a:lnTo>
                      <a:pt x="710" y="171"/>
                    </a:lnTo>
                    <a:lnTo>
                      <a:pt x="691" y="175"/>
                    </a:lnTo>
                    <a:lnTo>
                      <a:pt x="670" y="179"/>
                    </a:lnTo>
                    <a:lnTo>
                      <a:pt x="649" y="184"/>
                    </a:lnTo>
                    <a:lnTo>
                      <a:pt x="628" y="188"/>
                    </a:lnTo>
                    <a:lnTo>
                      <a:pt x="604" y="194"/>
                    </a:lnTo>
                    <a:lnTo>
                      <a:pt x="583" y="198"/>
                    </a:lnTo>
                    <a:lnTo>
                      <a:pt x="558" y="204"/>
                    </a:lnTo>
                    <a:lnTo>
                      <a:pt x="535" y="209"/>
                    </a:lnTo>
                    <a:lnTo>
                      <a:pt x="510" y="215"/>
                    </a:lnTo>
                    <a:lnTo>
                      <a:pt x="487" y="221"/>
                    </a:lnTo>
                    <a:lnTo>
                      <a:pt x="461" y="225"/>
                    </a:lnTo>
                    <a:lnTo>
                      <a:pt x="411" y="236"/>
                    </a:lnTo>
                    <a:lnTo>
                      <a:pt x="382" y="242"/>
                    </a:lnTo>
                    <a:lnTo>
                      <a:pt x="357" y="248"/>
                    </a:lnTo>
                    <a:lnTo>
                      <a:pt x="332" y="252"/>
                    </a:lnTo>
                    <a:lnTo>
                      <a:pt x="309" y="257"/>
                    </a:lnTo>
                    <a:lnTo>
                      <a:pt x="288" y="261"/>
                    </a:lnTo>
                    <a:lnTo>
                      <a:pt x="269" y="265"/>
                    </a:lnTo>
                    <a:lnTo>
                      <a:pt x="249" y="269"/>
                    </a:lnTo>
                    <a:lnTo>
                      <a:pt x="232" y="273"/>
                    </a:lnTo>
                    <a:lnTo>
                      <a:pt x="217" y="277"/>
                    </a:lnTo>
                    <a:lnTo>
                      <a:pt x="203" y="279"/>
                    </a:lnTo>
                    <a:lnTo>
                      <a:pt x="190" y="280"/>
                    </a:lnTo>
                    <a:lnTo>
                      <a:pt x="178" y="282"/>
                    </a:lnTo>
                    <a:lnTo>
                      <a:pt x="169" y="284"/>
                    </a:lnTo>
                    <a:lnTo>
                      <a:pt x="161" y="284"/>
                    </a:lnTo>
                    <a:lnTo>
                      <a:pt x="154" y="286"/>
                    </a:lnTo>
                    <a:lnTo>
                      <a:pt x="148" y="286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Freeform 52"/>
              <p:cNvSpPr/>
              <p:nvPr/>
            </p:nvSpPr>
            <p:spPr>
              <a:xfrm>
                <a:off x="6705720" y="1600200"/>
                <a:ext cx="743040" cy="88272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937" h="1111">
                    <a:moveTo>
                      <a:pt x="741" y="578"/>
                    </a:moveTo>
                    <a:lnTo>
                      <a:pt x="724" y="601"/>
                    </a:lnTo>
                    <a:lnTo>
                      <a:pt x="708" y="624"/>
                    </a:lnTo>
                    <a:lnTo>
                      <a:pt x="693" y="647"/>
                    </a:lnTo>
                    <a:lnTo>
                      <a:pt x="676" y="670"/>
                    </a:lnTo>
                    <a:lnTo>
                      <a:pt x="658" y="691"/>
                    </a:lnTo>
                    <a:lnTo>
                      <a:pt x="641" y="712"/>
                    </a:lnTo>
                    <a:lnTo>
                      <a:pt x="624" y="733"/>
                    </a:lnTo>
                    <a:lnTo>
                      <a:pt x="607" y="753"/>
                    </a:lnTo>
                    <a:lnTo>
                      <a:pt x="587" y="774"/>
                    </a:lnTo>
                    <a:lnTo>
                      <a:pt x="568" y="791"/>
                    </a:lnTo>
                    <a:lnTo>
                      <a:pt x="551" y="810"/>
                    </a:lnTo>
                    <a:lnTo>
                      <a:pt x="530" y="827"/>
                    </a:lnTo>
                    <a:lnTo>
                      <a:pt x="511" y="845"/>
                    </a:lnTo>
                    <a:lnTo>
                      <a:pt x="491" y="862"/>
                    </a:lnTo>
                    <a:lnTo>
                      <a:pt x="470" y="877"/>
                    </a:lnTo>
                    <a:lnTo>
                      <a:pt x="449" y="893"/>
                    </a:lnTo>
                    <a:lnTo>
                      <a:pt x="428" y="908"/>
                    </a:lnTo>
                    <a:lnTo>
                      <a:pt x="405" y="921"/>
                    </a:lnTo>
                    <a:lnTo>
                      <a:pt x="384" y="935"/>
                    </a:lnTo>
                    <a:lnTo>
                      <a:pt x="363" y="948"/>
                    </a:lnTo>
                    <a:lnTo>
                      <a:pt x="342" y="962"/>
                    </a:lnTo>
                    <a:lnTo>
                      <a:pt x="321" y="973"/>
                    </a:lnTo>
                    <a:lnTo>
                      <a:pt x="301" y="985"/>
                    </a:lnTo>
                    <a:lnTo>
                      <a:pt x="282" y="996"/>
                    </a:lnTo>
                    <a:lnTo>
                      <a:pt x="244" y="1017"/>
                    </a:lnTo>
                    <a:lnTo>
                      <a:pt x="207" y="1037"/>
                    </a:lnTo>
                    <a:lnTo>
                      <a:pt x="173" y="1054"/>
                    </a:lnTo>
                    <a:lnTo>
                      <a:pt x="140" y="1069"/>
                    </a:lnTo>
                    <a:lnTo>
                      <a:pt x="125" y="1075"/>
                    </a:lnTo>
                    <a:lnTo>
                      <a:pt x="108" y="1081"/>
                    </a:lnTo>
                    <a:lnTo>
                      <a:pt x="94" y="1085"/>
                    </a:lnTo>
                    <a:lnTo>
                      <a:pt x="79" y="1090"/>
                    </a:lnTo>
                    <a:lnTo>
                      <a:pt x="67" y="1094"/>
                    </a:lnTo>
                    <a:lnTo>
                      <a:pt x="56" y="1098"/>
                    </a:lnTo>
                    <a:lnTo>
                      <a:pt x="44" y="1102"/>
                    </a:lnTo>
                    <a:lnTo>
                      <a:pt x="37" y="1104"/>
                    </a:lnTo>
                    <a:lnTo>
                      <a:pt x="27" y="1108"/>
                    </a:lnTo>
                    <a:lnTo>
                      <a:pt x="21" y="1110"/>
                    </a:lnTo>
                    <a:lnTo>
                      <a:pt x="14" y="1110"/>
                    </a:lnTo>
                    <a:lnTo>
                      <a:pt x="10" y="1111"/>
                    </a:lnTo>
                    <a:lnTo>
                      <a:pt x="6" y="1111"/>
                    </a:lnTo>
                    <a:lnTo>
                      <a:pt x="2" y="1111"/>
                    </a:lnTo>
                    <a:lnTo>
                      <a:pt x="0" y="1110"/>
                    </a:lnTo>
                    <a:lnTo>
                      <a:pt x="0" y="1108"/>
                    </a:lnTo>
                    <a:lnTo>
                      <a:pt x="0" y="1104"/>
                    </a:lnTo>
                    <a:lnTo>
                      <a:pt x="4" y="1100"/>
                    </a:lnTo>
                    <a:lnTo>
                      <a:pt x="8" y="1094"/>
                    </a:lnTo>
                    <a:lnTo>
                      <a:pt x="14" y="1088"/>
                    </a:lnTo>
                    <a:lnTo>
                      <a:pt x="21" y="1083"/>
                    </a:lnTo>
                    <a:lnTo>
                      <a:pt x="31" y="1075"/>
                    </a:lnTo>
                    <a:lnTo>
                      <a:pt x="40" y="1065"/>
                    </a:lnTo>
                    <a:lnTo>
                      <a:pt x="52" y="1058"/>
                    </a:lnTo>
                    <a:lnTo>
                      <a:pt x="67" y="1048"/>
                    </a:lnTo>
                    <a:lnTo>
                      <a:pt x="83" y="1037"/>
                    </a:lnTo>
                    <a:lnTo>
                      <a:pt x="98" y="1025"/>
                    </a:lnTo>
                    <a:lnTo>
                      <a:pt x="117" y="1014"/>
                    </a:lnTo>
                    <a:lnTo>
                      <a:pt x="136" y="1000"/>
                    </a:lnTo>
                    <a:lnTo>
                      <a:pt x="156" y="987"/>
                    </a:lnTo>
                    <a:lnTo>
                      <a:pt x="179" y="971"/>
                    </a:lnTo>
                    <a:lnTo>
                      <a:pt x="223" y="937"/>
                    </a:lnTo>
                    <a:lnTo>
                      <a:pt x="267" y="902"/>
                    </a:lnTo>
                    <a:lnTo>
                      <a:pt x="311" y="866"/>
                    </a:lnTo>
                    <a:lnTo>
                      <a:pt x="353" y="829"/>
                    </a:lnTo>
                    <a:lnTo>
                      <a:pt x="395" y="791"/>
                    </a:lnTo>
                    <a:lnTo>
                      <a:pt x="438" y="751"/>
                    </a:lnTo>
                    <a:lnTo>
                      <a:pt x="457" y="731"/>
                    </a:lnTo>
                    <a:lnTo>
                      <a:pt x="476" y="710"/>
                    </a:lnTo>
                    <a:lnTo>
                      <a:pt x="497" y="689"/>
                    </a:lnTo>
                    <a:lnTo>
                      <a:pt x="516" y="666"/>
                    </a:lnTo>
                    <a:lnTo>
                      <a:pt x="534" y="645"/>
                    </a:lnTo>
                    <a:lnTo>
                      <a:pt x="553" y="624"/>
                    </a:lnTo>
                    <a:lnTo>
                      <a:pt x="570" y="603"/>
                    </a:lnTo>
                    <a:lnTo>
                      <a:pt x="585" y="582"/>
                    </a:lnTo>
                    <a:lnTo>
                      <a:pt x="601" y="559"/>
                    </a:lnTo>
                    <a:lnTo>
                      <a:pt x="616" y="536"/>
                    </a:lnTo>
                    <a:lnTo>
                      <a:pt x="630" y="513"/>
                    </a:lnTo>
                    <a:lnTo>
                      <a:pt x="643" y="490"/>
                    </a:lnTo>
                    <a:lnTo>
                      <a:pt x="655" y="467"/>
                    </a:lnTo>
                    <a:lnTo>
                      <a:pt x="668" y="442"/>
                    </a:lnTo>
                    <a:lnTo>
                      <a:pt x="678" y="419"/>
                    </a:lnTo>
                    <a:lnTo>
                      <a:pt x="689" y="394"/>
                    </a:lnTo>
                    <a:lnTo>
                      <a:pt x="697" y="369"/>
                    </a:lnTo>
                    <a:lnTo>
                      <a:pt x="706" y="344"/>
                    </a:lnTo>
                    <a:lnTo>
                      <a:pt x="714" y="319"/>
                    </a:lnTo>
                    <a:lnTo>
                      <a:pt x="722" y="292"/>
                    </a:lnTo>
                    <a:lnTo>
                      <a:pt x="727" y="267"/>
                    </a:lnTo>
                    <a:lnTo>
                      <a:pt x="733" y="244"/>
                    </a:lnTo>
                    <a:lnTo>
                      <a:pt x="739" y="221"/>
                    </a:lnTo>
                    <a:lnTo>
                      <a:pt x="745" y="200"/>
                    </a:lnTo>
                    <a:lnTo>
                      <a:pt x="749" y="181"/>
                    </a:lnTo>
                    <a:lnTo>
                      <a:pt x="752" y="162"/>
                    </a:lnTo>
                    <a:lnTo>
                      <a:pt x="754" y="146"/>
                    </a:lnTo>
                    <a:lnTo>
                      <a:pt x="758" y="131"/>
                    </a:lnTo>
                    <a:lnTo>
                      <a:pt x="760" y="115"/>
                    </a:lnTo>
                    <a:lnTo>
                      <a:pt x="760" y="104"/>
                    </a:lnTo>
                    <a:lnTo>
                      <a:pt x="762" y="92"/>
                    </a:lnTo>
                    <a:lnTo>
                      <a:pt x="762" y="83"/>
                    </a:lnTo>
                    <a:lnTo>
                      <a:pt x="762" y="73"/>
                    </a:lnTo>
                    <a:lnTo>
                      <a:pt x="762" y="66"/>
                    </a:lnTo>
                    <a:lnTo>
                      <a:pt x="760" y="60"/>
                    </a:lnTo>
                    <a:lnTo>
                      <a:pt x="758" y="56"/>
                    </a:lnTo>
                    <a:lnTo>
                      <a:pt x="752" y="48"/>
                    </a:lnTo>
                    <a:lnTo>
                      <a:pt x="749" y="41"/>
                    </a:lnTo>
                    <a:lnTo>
                      <a:pt x="747" y="35"/>
                    </a:lnTo>
                    <a:lnTo>
                      <a:pt x="745" y="27"/>
                    </a:lnTo>
                    <a:lnTo>
                      <a:pt x="747" y="21"/>
                    </a:lnTo>
                    <a:lnTo>
                      <a:pt x="749" y="16"/>
                    </a:lnTo>
                    <a:lnTo>
                      <a:pt x="752" y="12"/>
                    </a:lnTo>
                    <a:lnTo>
                      <a:pt x="758" y="6"/>
                    </a:lnTo>
                    <a:lnTo>
                      <a:pt x="760" y="4"/>
                    </a:lnTo>
                    <a:lnTo>
                      <a:pt x="764" y="4"/>
                    </a:lnTo>
                    <a:lnTo>
                      <a:pt x="768" y="2"/>
                    </a:lnTo>
                    <a:lnTo>
                      <a:pt x="772" y="2"/>
                    </a:lnTo>
                    <a:lnTo>
                      <a:pt x="775" y="0"/>
                    </a:lnTo>
                    <a:lnTo>
                      <a:pt x="781" y="0"/>
                    </a:lnTo>
                    <a:lnTo>
                      <a:pt x="785" y="0"/>
                    </a:lnTo>
                    <a:lnTo>
                      <a:pt x="793" y="0"/>
                    </a:lnTo>
                    <a:lnTo>
                      <a:pt x="804" y="2"/>
                    </a:lnTo>
                    <a:lnTo>
                      <a:pt x="820" y="6"/>
                    </a:lnTo>
                    <a:lnTo>
                      <a:pt x="835" y="10"/>
                    </a:lnTo>
                    <a:lnTo>
                      <a:pt x="852" y="18"/>
                    </a:lnTo>
                    <a:lnTo>
                      <a:pt x="869" y="27"/>
                    </a:lnTo>
                    <a:lnTo>
                      <a:pt x="885" y="37"/>
                    </a:lnTo>
                    <a:lnTo>
                      <a:pt x="896" y="46"/>
                    </a:lnTo>
                    <a:lnTo>
                      <a:pt x="908" y="54"/>
                    </a:lnTo>
                    <a:lnTo>
                      <a:pt x="917" y="64"/>
                    </a:lnTo>
                    <a:lnTo>
                      <a:pt x="927" y="71"/>
                    </a:lnTo>
                    <a:lnTo>
                      <a:pt x="933" y="79"/>
                    </a:lnTo>
                    <a:lnTo>
                      <a:pt x="937" y="85"/>
                    </a:lnTo>
                    <a:lnTo>
                      <a:pt x="937" y="89"/>
                    </a:lnTo>
                    <a:lnTo>
                      <a:pt x="937" y="94"/>
                    </a:lnTo>
                    <a:lnTo>
                      <a:pt x="935" y="100"/>
                    </a:lnTo>
                    <a:lnTo>
                      <a:pt x="935" y="106"/>
                    </a:lnTo>
                    <a:lnTo>
                      <a:pt x="933" y="114"/>
                    </a:lnTo>
                    <a:lnTo>
                      <a:pt x="933" y="121"/>
                    </a:lnTo>
                    <a:lnTo>
                      <a:pt x="931" y="129"/>
                    </a:lnTo>
                    <a:lnTo>
                      <a:pt x="929" y="138"/>
                    </a:lnTo>
                    <a:lnTo>
                      <a:pt x="925" y="148"/>
                    </a:lnTo>
                    <a:lnTo>
                      <a:pt x="923" y="160"/>
                    </a:lnTo>
                    <a:lnTo>
                      <a:pt x="919" y="171"/>
                    </a:lnTo>
                    <a:lnTo>
                      <a:pt x="917" y="185"/>
                    </a:lnTo>
                    <a:lnTo>
                      <a:pt x="914" y="198"/>
                    </a:lnTo>
                    <a:lnTo>
                      <a:pt x="908" y="211"/>
                    </a:lnTo>
                    <a:lnTo>
                      <a:pt x="904" y="227"/>
                    </a:lnTo>
                    <a:lnTo>
                      <a:pt x="900" y="244"/>
                    </a:lnTo>
                    <a:lnTo>
                      <a:pt x="894" y="259"/>
                    </a:lnTo>
                    <a:lnTo>
                      <a:pt x="889" y="277"/>
                    </a:lnTo>
                    <a:lnTo>
                      <a:pt x="881" y="296"/>
                    </a:lnTo>
                    <a:lnTo>
                      <a:pt x="875" y="313"/>
                    </a:lnTo>
                    <a:lnTo>
                      <a:pt x="868" y="332"/>
                    </a:lnTo>
                    <a:lnTo>
                      <a:pt x="858" y="351"/>
                    </a:lnTo>
                    <a:lnTo>
                      <a:pt x="850" y="371"/>
                    </a:lnTo>
                    <a:lnTo>
                      <a:pt x="841" y="392"/>
                    </a:lnTo>
                    <a:lnTo>
                      <a:pt x="831" y="413"/>
                    </a:lnTo>
                    <a:lnTo>
                      <a:pt x="820" y="434"/>
                    </a:lnTo>
                    <a:lnTo>
                      <a:pt x="808" y="457"/>
                    </a:lnTo>
                    <a:lnTo>
                      <a:pt x="797" y="480"/>
                    </a:lnTo>
                    <a:lnTo>
                      <a:pt x="783" y="503"/>
                    </a:lnTo>
                    <a:lnTo>
                      <a:pt x="770" y="526"/>
                    </a:lnTo>
                    <a:lnTo>
                      <a:pt x="756" y="551"/>
                    </a:lnTo>
                    <a:lnTo>
                      <a:pt x="741" y="578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30" name="Picture 63" descr=""/>
          <p:cNvPicPr/>
          <p:nvPr/>
        </p:nvPicPr>
        <p:blipFill>
          <a:blip r:embed="rId8"/>
          <a:srcRect l="-25606" t="0" r="-17847" b="-3970"/>
          <a:stretch/>
        </p:blipFill>
        <p:spPr>
          <a:xfrm>
            <a:off x="2286000" y="2286000"/>
            <a:ext cx="533520" cy="990720"/>
          </a:xfrm>
          <a:prstGeom prst="rect">
            <a:avLst/>
          </a:prstGeom>
          <a:ln w="0">
            <a:noFill/>
          </a:ln>
        </p:spPr>
      </p:pic>
      <p:sp>
        <p:nvSpPr>
          <p:cNvPr id="4431" name="Freeform 57"/>
          <p:cNvSpPr/>
          <p:nvPr/>
        </p:nvSpPr>
        <p:spPr>
          <a:xfrm>
            <a:off x="2127240" y="2541600"/>
            <a:ext cx="722160" cy="812880"/>
          </a:xfrm>
          <a:custGeom>
            <a:avLst/>
            <a:gdLst>
              <a:gd name="textAreaLeft" fmla="*/ 0 w 722160"/>
              <a:gd name="textAreaRight" fmla="*/ 722520 w 7221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910" h="1023">
                <a:moveTo>
                  <a:pt x="563" y="726"/>
                </a:moveTo>
                <a:lnTo>
                  <a:pt x="543" y="747"/>
                </a:lnTo>
                <a:lnTo>
                  <a:pt x="524" y="766"/>
                </a:lnTo>
                <a:lnTo>
                  <a:pt x="503" y="785"/>
                </a:lnTo>
                <a:lnTo>
                  <a:pt x="482" y="803"/>
                </a:lnTo>
                <a:lnTo>
                  <a:pt x="461" y="820"/>
                </a:lnTo>
                <a:lnTo>
                  <a:pt x="440" y="835"/>
                </a:lnTo>
                <a:lnTo>
                  <a:pt x="417" y="852"/>
                </a:lnTo>
                <a:lnTo>
                  <a:pt x="396" y="866"/>
                </a:lnTo>
                <a:lnTo>
                  <a:pt x="373" y="881"/>
                </a:lnTo>
                <a:lnTo>
                  <a:pt x="350" y="895"/>
                </a:lnTo>
                <a:lnTo>
                  <a:pt x="327" y="908"/>
                </a:lnTo>
                <a:lnTo>
                  <a:pt x="304" y="920"/>
                </a:lnTo>
                <a:lnTo>
                  <a:pt x="279" y="931"/>
                </a:lnTo>
                <a:lnTo>
                  <a:pt x="256" y="943"/>
                </a:lnTo>
                <a:lnTo>
                  <a:pt x="231" y="952"/>
                </a:lnTo>
                <a:lnTo>
                  <a:pt x="208" y="962"/>
                </a:lnTo>
                <a:lnTo>
                  <a:pt x="181" y="971"/>
                </a:lnTo>
                <a:lnTo>
                  <a:pt x="158" y="979"/>
                </a:lnTo>
                <a:lnTo>
                  <a:pt x="137" y="987"/>
                </a:lnTo>
                <a:lnTo>
                  <a:pt x="115" y="994"/>
                </a:lnTo>
                <a:lnTo>
                  <a:pt x="96" y="1000"/>
                </a:lnTo>
                <a:lnTo>
                  <a:pt x="81" y="1006"/>
                </a:lnTo>
                <a:lnTo>
                  <a:pt x="66" y="1010"/>
                </a:lnTo>
                <a:lnTo>
                  <a:pt x="52" y="1014"/>
                </a:lnTo>
                <a:lnTo>
                  <a:pt x="39" y="1017"/>
                </a:lnTo>
                <a:lnTo>
                  <a:pt x="29" y="1021"/>
                </a:lnTo>
                <a:lnTo>
                  <a:pt x="20" y="1023"/>
                </a:lnTo>
                <a:lnTo>
                  <a:pt x="14" y="1023"/>
                </a:lnTo>
                <a:lnTo>
                  <a:pt x="8" y="1023"/>
                </a:lnTo>
                <a:lnTo>
                  <a:pt x="4" y="1023"/>
                </a:lnTo>
                <a:lnTo>
                  <a:pt x="2" y="1023"/>
                </a:lnTo>
                <a:lnTo>
                  <a:pt x="0" y="1021"/>
                </a:lnTo>
                <a:lnTo>
                  <a:pt x="0" y="1019"/>
                </a:lnTo>
                <a:lnTo>
                  <a:pt x="0" y="1016"/>
                </a:lnTo>
                <a:lnTo>
                  <a:pt x="4" y="1012"/>
                </a:lnTo>
                <a:lnTo>
                  <a:pt x="8" y="1008"/>
                </a:lnTo>
                <a:lnTo>
                  <a:pt x="14" y="1002"/>
                </a:lnTo>
                <a:lnTo>
                  <a:pt x="21" y="994"/>
                </a:lnTo>
                <a:lnTo>
                  <a:pt x="31" y="987"/>
                </a:lnTo>
                <a:lnTo>
                  <a:pt x="43" y="979"/>
                </a:lnTo>
                <a:lnTo>
                  <a:pt x="56" y="970"/>
                </a:lnTo>
                <a:lnTo>
                  <a:pt x="71" y="960"/>
                </a:lnTo>
                <a:lnTo>
                  <a:pt x="89" y="948"/>
                </a:lnTo>
                <a:lnTo>
                  <a:pt x="106" y="937"/>
                </a:lnTo>
                <a:lnTo>
                  <a:pt x="127" y="925"/>
                </a:lnTo>
                <a:lnTo>
                  <a:pt x="148" y="912"/>
                </a:lnTo>
                <a:lnTo>
                  <a:pt x="171" y="898"/>
                </a:lnTo>
                <a:lnTo>
                  <a:pt x="198" y="883"/>
                </a:lnTo>
                <a:lnTo>
                  <a:pt x="246" y="856"/>
                </a:lnTo>
                <a:lnTo>
                  <a:pt x="292" y="827"/>
                </a:lnTo>
                <a:lnTo>
                  <a:pt x="315" y="812"/>
                </a:lnTo>
                <a:lnTo>
                  <a:pt x="336" y="797"/>
                </a:lnTo>
                <a:lnTo>
                  <a:pt x="357" y="781"/>
                </a:lnTo>
                <a:lnTo>
                  <a:pt x="378" y="766"/>
                </a:lnTo>
                <a:lnTo>
                  <a:pt x="399" y="749"/>
                </a:lnTo>
                <a:lnTo>
                  <a:pt x="419" y="732"/>
                </a:lnTo>
                <a:lnTo>
                  <a:pt x="438" y="714"/>
                </a:lnTo>
                <a:lnTo>
                  <a:pt x="457" y="695"/>
                </a:lnTo>
                <a:lnTo>
                  <a:pt x="474" y="678"/>
                </a:lnTo>
                <a:lnTo>
                  <a:pt x="492" y="659"/>
                </a:lnTo>
                <a:lnTo>
                  <a:pt x="509" y="637"/>
                </a:lnTo>
                <a:lnTo>
                  <a:pt x="524" y="618"/>
                </a:lnTo>
                <a:lnTo>
                  <a:pt x="540" y="599"/>
                </a:lnTo>
                <a:lnTo>
                  <a:pt x="555" y="580"/>
                </a:lnTo>
                <a:lnTo>
                  <a:pt x="568" y="561"/>
                </a:lnTo>
                <a:lnTo>
                  <a:pt x="584" y="542"/>
                </a:lnTo>
                <a:lnTo>
                  <a:pt x="595" y="522"/>
                </a:lnTo>
                <a:lnTo>
                  <a:pt x="609" y="503"/>
                </a:lnTo>
                <a:lnTo>
                  <a:pt x="632" y="463"/>
                </a:lnTo>
                <a:lnTo>
                  <a:pt x="655" y="423"/>
                </a:lnTo>
                <a:lnTo>
                  <a:pt x="676" y="380"/>
                </a:lnTo>
                <a:lnTo>
                  <a:pt x="695" y="336"/>
                </a:lnTo>
                <a:lnTo>
                  <a:pt x="712" y="294"/>
                </a:lnTo>
                <a:lnTo>
                  <a:pt x="718" y="273"/>
                </a:lnTo>
                <a:lnTo>
                  <a:pt x="726" y="254"/>
                </a:lnTo>
                <a:lnTo>
                  <a:pt x="730" y="236"/>
                </a:lnTo>
                <a:lnTo>
                  <a:pt x="735" y="217"/>
                </a:lnTo>
                <a:lnTo>
                  <a:pt x="739" y="200"/>
                </a:lnTo>
                <a:lnTo>
                  <a:pt x="743" y="185"/>
                </a:lnTo>
                <a:lnTo>
                  <a:pt x="745" y="169"/>
                </a:lnTo>
                <a:lnTo>
                  <a:pt x="749" y="156"/>
                </a:lnTo>
                <a:lnTo>
                  <a:pt x="751" y="142"/>
                </a:lnTo>
                <a:lnTo>
                  <a:pt x="751" y="129"/>
                </a:lnTo>
                <a:lnTo>
                  <a:pt x="753" y="117"/>
                </a:lnTo>
                <a:lnTo>
                  <a:pt x="753" y="108"/>
                </a:lnTo>
                <a:lnTo>
                  <a:pt x="753" y="98"/>
                </a:lnTo>
                <a:lnTo>
                  <a:pt x="753" y="91"/>
                </a:lnTo>
                <a:lnTo>
                  <a:pt x="751" y="83"/>
                </a:lnTo>
                <a:lnTo>
                  <a:pt x="751" y="77"/>
                </a:lnTo>
                <a:lnTo>
                  <a:pt x="747" y="66"/>
                </a:lnTo>
                <a:lnTo>
                  <a:pt x="745" y="54"/>
                </a:lnTo>
                <a:lnTo>
                  <a:pt x="743" y="44"/>
                </a:lnTo>
                <a:lnTo>
                  <a:pt x="743" y="35"/>
                </a:lnTo>
                <a:lnTo>
                  <a:pt x="745" y="27"/>
                </a:lnTo>
                <a:lnTo>
                  <a:pt x="749" y="20"/>
                </a:lnTo>
                <a:lnTo>
                  <a:pt x="753" y="12"/>
                </a:lnTo>
                <a:lnTo>
                  <a:pt x="758" y="8"/>
                </a:lnTo>
                <a:lnTo>
                  <a:pt x="764" y="4"/>
                </a:lnTo>
                <a:lnTo>
                  <a:pt x="770" y="2"/>
                </a:lnTo>
                <a:lnTo>
                  <a:pt x="778" y="0"/>
                </a:lnTo>
                <a:lnTo>
                  <a:pt x="787" y="2"/>
                </a:lnTo>
                <a:lnTo>
                  <a:pt x="799" y="2"/>
                </a:lnTo>
                <a:lnTo>
                  <a:pt x="812" y="6"/>
                </a:lnTo>
                <a:lnTo>
                  <a:pt x="827" y="12"/>
                </a:lnTo>
                <a:lnTo>
                  <a:pt x="843" y="18"/>
                </a:lnTo>
                <a:lnTo>
                  <a:pt x="856" y="25"/>
                </a:lnTo>
                <a:lnTo>
                  <a:pt x="868" y="33"/>
                </a:lnTo>
                <a:lnTo>
                  <a:pt x="877" y="41"/>
                </a:lnTo>
                <a:lnTo>
                  <a:pt x="887" y="48"/>
                </a:lnTo>
                <a:lnTo>
                  <a:pt x="895" y="58"/>
                </a:lnTo>
                <a:lnTo>
                  <a:pt x="900" y="66"/>
                </a:lnTo>
                <a:lnTo>
                  <a:pt x="904" y="75"/>
                </a:lnTo>
                <a:lnTo>
                  <a:pt x="908" y="87"/>
                </a:lnTo>
                <a:lnTo>
                  <a:pt x="910" y="92"/>
                </a:lnTo>
                <a:lnTo>
                  <a:pt x="910" y="100"/>
                </a:lnTo>
                <a:lnTo>
                  <a:pt x="910" y="108"/>
                </a:lnTo>
                <a:lnTo>
                  <a:pt x="908" y="117"/>
                </a:lnTo>
                <a:lnTo>
                  <a:pt x="906" y="129"/>
                </a:lnTo>
                <a:lnTo>
                  <a:pt x="904" y="140"/>
                </a:lnTo>
                <a:lnTo>
                  <a:pt x="898" y="156"/>
                </a:lnTo>
                <a:lnTo>
                  <a:pt x="895" y="169"/>
                </a:lnTo>
                <a:lnTo>
                  <a:pt x="889" y="186"/>
                </a:lnTo>
                <a:lnTo>
                  <a:pt x="881" y="204"/>
                </a:lnTo>
                <a:lnTo>
                  <a:pt x="875" y="223"/>
                </a:lnTo>
                <a:lnTo>
                  <a:pt x="866" y="244"/>
                </a:lnTo>
                <a:lnTo>
                  <a:pt x="856" y="267"/>
                </a:lnTo>
                <a:lnTo>
                  <a:pt x="847" y="290"/>
                </a:lnTo>
                <a:lnTo>
                  <a:pt x="837" y="315"/>
                </a:lnTo>
                <a:lnTo>
                  <a:pt x="826" y="342"/>
                </a:lnTo>
                <a:lnTo>
                  <a:pt x="812" y="371"/>
                </a:lnTo>
                <a:lnTo>
                  <a:pt x="799" y="398"/>
                </a:lnTo>
                <a:lnTo>
                  <a:pt x="785" y="423"/>
                </a:lnTo>
                <a:lnTo>
                  <a:pt x="772" y="449"/>
                </a:lnTo>
                <a:lnTo>
                  <a:pt x="758" y="474"/>
                </a:lnTo>
                <a:lnTo>
                  <a:pt x="743" y="499"/>
                </a:lnTo>
                <a:lnTo>
                  <a:pt x="728" y="524"/>
                </a:lnTo>
                <a:lnTo>
                  <a:pt x="710" y="549"/>
                </a:lnTo>
                <a:lnTo>
                  <a:pt x="695" y="572"/>
                </a:lnTo>
                <a:lnTo>
                  <a:pt x="678" y="595"/>
                </a:lnTo>
                <a:lnTo>
                  <a:pt x="660" y="618"/>
                </a:lnTo>
                <a:lnTo>
                  <a:pt x="641" y="641"/>
                </a:lnTo>
                <a:lnTo>
                  <a:pt x="622" y="662"/>
                </a:lnTo>
                <a:lnTo>
                  <a:pt x="603" y="684"/>
                </a:lnTo>
                <a:lnTo>
                  <a:pt x="584" y="705"/>
                </a:lnTo>
                <a:lnTo>
                  <a:pt x="563" y="72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Freeform 55"/>
          <p:cNvSpPr/>
          <p:nvPr/>
        </p:nvSpPr>
        <p:spPr>
          <a:xfrm>
            <a:off x="1987560" y="2657520"/>
            <a:ext cx="771480" cy="235080"/>
          </a:xfrm>
          <a:custGeom>
            <a:avLst/>
            <a:gdLst>
              <a:gd name="textAreaLeft" fmla="*/ 0 w 771480"/>
              <a:gd name="textAreaRight" fmla="*/ 771840 w 7714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973" h="296">
                <a:moveTo>
                  <a:pt x="140" y="167"/>
                </a:moveTo>
                <a:lnTo>
                  <a:pt x="144" y="165"/>
                </a:lnTo>
                <a:lnTo>
                  <a:pt x="148" y="165"/>
                </a:lnTo>
                <a:lnTo>
                  <a:pt x="153" y="163"/>
                </a:lnTo>
                <a:lnTo>
                  <a:pt x="161" y="161"/>
                </a:lnTo>
                <a:lnTo>
                  <a:pt x="171" y="159"/>
                </a:lnTo>
                <a:lnTo>
                  <a:pt x="180" y="158"/>
                </a:lnTo>
                <a:lnTo>
                  <a:pt x="194" y="156"/>
                </a:lnTo>
                <a:lnTo>
                  <a:pt x="207" y="152"/>
                </a:lnTo>
                <a:lnTo>
                  <a:pt x="220" y="150"/>
                </a:lnTo>
                <a:lnTo>
                  <a:pt x="238" y="146"/>
                </a:lnTo>
                <a:lnTo>
                  <a:pt x="255" y="142"/>
                </a:lnTo>
                <a:lnTo>
                  <a:pt x="274" y="138"/>
                </a:lnTo>
                <a:lnTo>
                  <a:pt x="295" y="135"/>
                </a:lnTo>
                <a:lnTo>
                  <a:pt x="318" y="131"/>
                </a:lnTo>
                <a:lnTo>
                  <a:pt x="341" y="125"/>
                </a:lnTo>
                <a:lnTo>
                  <a:pt x="366" y="121"/>
                </a:lnTo>
                <a:lnTo>
                  <a:pt x="393" y="115"/>
                </a:lnTo>
                <a:lnTo>
                  <a:pt x="422" y="110"/>
                </a:lnTo>
                <a:lnTo>
                  <a:pt x="451" y="104"/>
                </a:lnTo>
                <a:lnTo>
                  <a:pt x="481" y="98"/>
                </a:lnTo>
                <a:lnTo>
                  <a:pt x="514" y="92"/>
                </a:lnTo>
                <a:lnTo>
                  <a:pt x="549" y="85"/>
                </a:lnTo>
                <a:lnTo>
                  <a:pt x="585" y="79"/>
                </a:lnTo>
                <a:lnTo>
                  <a:pt x="622" y="71"/>
                </a:lnTo>
                <a:lnTo>
                  <a:pt x="660" y="64"/>
                </a:lnTo>
                <a:lnTo>
                  <a:pt x="700" y="56"/>
                </a:lnTo>
                <a:lnTo>
                  <a:pt x="742" y="46"/>
                </a:lnTo>
                <a:lnTo>
                  <a:pt x="785" y="39"/>
                </a:lnTo>
                <a:lnTo>
                  <a:pt x="829" y="29"/>
                </a:lnTo>
                <a:lnTo>
                  <a:pt x="875" y="19"/>
                </a:lnTo>
                <a:lnTo>
                  <a:pt x="923" y="10"/>
                </a:lnTo>
                <a:lnTo>
                  <a:pt x="973" y="0"/>
                </a:lnTo>
                <a:lnTo>
                  <a:pt x="973" y="79"/>
                </a:lnTo>
                <a:lnTo>
                  <a:pt x="909" y="92"/>
                </a:lnTo>
                <a:lnTo>
                  <a:pt x="844" y="108"/>
                </a:lnTo>
                <a:lnTo>
                  <a:pt x="812" y="115"/>
                </a:lnTo>
                <a:lnTo>
                  <a:pt x="779" y="123"/>
                </a:lnTo>
                <a:lnTo>
                  <a:pt x="744" y="131"/>
                </a:lnTo>
                <a:lnTo>
                  <a:pt x="710" y="138"/>
                </a:lnTo>
                <a:lnTo>
                  <a:pt x="671" y="146"/>
                </a:lnTo>
                <a:lnTo>
                  <a:pt x="633" y="154"/>
                </a:lnTo>
                <a:lnTo>
                  <a:pt x="595" y="163"/>
                </a:lnTo>
                <a:lnTo>
                  <a:pt x="556" y="173"/>
                </a:lnTo>
                <a:lnTo>
                  <a:pt x="518" y="183"/>
                </a:lnTo>
                <a:lnTo>
                  <a:pt x="480" y="194"/>
                </a:lnTo>
                <a:lnTo>
                  <a:pt x="401" y="217"/>
                </a:lnTo>
                <a:lnTo>
                  <a:pt x="382" y="221"/>
                </a:lnTo>
                <a:lnTo>
                  <a:pt x="362" y="227"/>
                </a:lnTo>
                <a:lnTo>
                  <a:pt x="343" y="232"/>
                </a:lnTo>
                <a:lnTo>
                  <a:pt x="326" y="236"/>
                </a:lnTo>
                <a:lnTo>
                  <a:pt x="309" y="242"/>
                </a:lnTo>
                <a:lnTo>
                  <a:pt x="295" y="246"/>
                </a:lnTo>
                <a:lnTo>
                  <a:pt x="280" y="250"/>
                </a:lnTo>
                <a:lnTo>
                  <a:pt x="267" y="254"/>
                </a:lnTo>
                <a:lnTo>
                  <a:pt x="255" y="257"/>
                </a:lnTo>
                <a:lnTo>
                  <a:pt x="243" y="259"/>
                </a:lnTo>
                <a:lnTo>
                  <a:pt x="234" y="263"/>
                </a:lnTo>
                <a:lnTo>
                  <a:pt x="224" y="265"/>
                </a:lnTo>
                <a:lnTo>
                  <a:pt x="215" y="269"/>
                </a:lnTo>
                <a:lnTo>
                  <a:pt x="207" y="271"/>
                </a:lnTo>
                <a:lnTo>
                  <a:pt x="201" y="273"/>
                </a:lnTo>
                <a:lnTo>
                  <a:pt x="196" y="275"/>
                </a:lnTo>
                <a:lnTo>
                  <a:pt x="174" y="282"/>
                </a:lnTo>
                <a:lnTo>
                  <a:pt x="165" y="286"/>
                </a:lnTo>
                <a:lnTo>
                  <a:pt x="155" y="288"/>
                </a:lnTo>
                <a:lnTo>
                  <a:pt x="148" y="292"/>
                </a:lnTo>
                <a:lnTo>
                  <a:pt x="140" y="294"/>
                </a:lnTo>
                <a:lnTo>
                  <a:pt x="134" y="294"/>
                </a:lnTo>
                <a:lnTo>
                  <a:pt x="130" y="296"/>
                </a:lnTo>
                <a:lnTo>
                  <a:pt x="123" y="294"/>
                </a:lnTo>
                <a:lnTo>
                  <a:pt x="115" y="292"/>
                </a:lnTo>
                <a:lnTo>
                  <a:pt x="105" y="286"/>
                </a:lnTo>
                <a:lnTo>
                  <a:pt x="96" y="280"/>
                </a:lnTo>
                <a:lnTo>
                  <a:pt x="86" y="273"/>
                </a:lnTo>
                <a:lnTo>
                  <a:pt x="77" y="261"/>
                </a:lnTo>
                <a:lnTo>
                  <a:pt x="65" y="250"/>
                </a:lnTo>
                <a:lnTo>
                  <a:pt x="55" y="236"/>
                </a:lnTo>
                <a:lnTo>
                  <a:pt x="42" y="225"/>
                </a:lnTo>
                <a:lnTo>
                  <a:pt x="30" y="213"/>
                </a:lnTo>
                <a:lnTo>
                  <a:pt x="21" y="204"/>
                </a:lnTo>
                <a:lnTo>
                  <a:pt x="13" y="192"/>
                </a:lnTo>
                <a:lnTo>
                  <a:pt x="7" y="183"/>
                </a:lnTo>
                <a:lnTo>
                  <a:pt x="2" y="173"/>
                </a:lnTo>
                <a:lnTo>
                  <a:pt x="0" y="165"/>
                </a:lnTo>
                <a:lnTo>
                  <a:pt x="0" y="158"/>
                </a:lnTo>
                <a:lnTo>
                  <a:pt x="0" y="154"/>
                </a:lnTo>
                <a:lnTo>
                  <a:pt x="2" y="150"/>
                </a:lnTo>
                <a:lnTo>
                  <a:pt x="7" y="148"/>
                </a:lnTo>
                <a:lnTo>
                  <a:pt x="13" y="144"/>
                </a:lnTo>
                <a:lnTo>
                  <a:pt x="21" y="144"/>
                </a:lnTo>
                <a:lnTo>
                  <a:pt x="30" y="144"/>
                </a:lnTo>
                <a:lnTo>
                  <a:pt x="42" y="144"/>
                </a:lnTo>
                <a:lnTo>
                  <a:pt x="55" y="148"/>
                </a:lnTo>
                <a:lnTo>
                  <a:pt x="69" y="152"/>
                </a:lnTo>
                <a:lnTo>
                  <a:pt x="82" y="154"/>
                </a:lnTo>
                <a:lnTo>
                  <a:pt x="94" y="158"/>
                </a:lnTo>
                <a:lnTo>
                  <a:pt x="103" y="161"/>
                </a:lnTo>
                <a:lnTo>
                  <a:pt x="115" y="163"/>
                </a:lnTo>
                <a:lnTo>
                  <a:pt x="124" y="165"/>
                </a:lnTo>
                <a:lnTo>
                  <a:pt x="132" y="167"/>
                </a:lnTo>
                <a:lnTo>
                  <a:pt x="140" y="16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3" name="Picture 65" descr=""/>
          <p:cNvPicPr/>
          <p:nvPr/>
        </p:nvPicPr>
        <p:blipFill>
          <a:blip r:embed="rId9"/>
          <a:srcRect l="0" t="0" r="-11984" b="68612"/>
          <a:stretch/>
        </p:blipFill>
        <p:spPr>
          <a:xfrm>
            <a:off x="2811600" y="2457360"/>
            <a:ext cx="693720" cy="209520"/>
          </a:xfrm>
          <a:prstGeom prst="rect">
            <a:avLst/>
          </a:prstGeom>
          <a:ln w="0">
            <a:noFill/>
          </a:ln>
        </p:spPr>
      </p:pic>
      <p:pic>
        <p:nvPicPr>
          <p:cNvPr id="4434" name="Picture 66" descr=""/>
          <p:cNvPicPr/>
          <p:nvPr/>
        </p:nvPicPr>
        <p:blipFill>
          <a:blip r:embed="rId10"/>
          <a:srcRect l="0" t="31442" r="-24316" b="0"/>
          <a:stretch/>
        </p:blipFill>
        <p:spPr>
          <a:xfrm>
            <a:off x="2813040" y="2666880"/>
            <a:ext cx="770040" cy="457200"/>
          </a:xfrm>
          <a:prstGeom prst="rect">
            <a:avLst/>
          </a:prstGeom>
          <a:ln w="0">
            <a:noFill/>
          </a:ln>
        </p:spPr>
      </p:pic>
      <p:sp>
        <p:nvSpPr>
          <p:cNvPr id="4435" name="Freeform 59"/>
          <p:cNvSpPr/>
          <p:nvPr/>
        </p:nvSpPr>
        <p:spPr>
          <a:xfrm>
            <a:off x="2874960" y="2673360"/>
            <a:ext cx="925560" cy="520560"/>
          </a:xfrm>
          <a:custGeom>
            <a:avLst/>
            <a:gdLst>
              <a:gd name="textAreaLeft" fmla="*/ 0 w 925560"/>
              <a:gd name="textAreaRight" fmla="*/ 925920 w 925560"/>
              <a:gd name="textAreaTop" fmla="*/ 0 h 520560"/>
              <a:gd name="textAreaBottom" fmla="*/ 520560 h 520560"/>
            </a:gdLst>
            <a:ahLst/>
            <a:rect l="textAreaLeft" t="textAreaTop" r="textAreaRight" b="textAreaBottom"/>
            <a:pathLst>
              <a:path w="1164" h="657">
                <a:moveTo>
                  <a:pt x="32" y="69"/>
                </a:moveTo>
                <a:lnTo>
                  <a:pt x="23" y="66"/>
                </a:lnTo>
                <a:lnTo>
                  <a:pt x="13" y="62"/>
                </a:lnTo>
                <a:lnTo>
                  <a:pt x="7" y="58"/>
                </a:lnTo>
                <a:lnTo>
                  <a:pt x="3" y="52"/>
                </a:lnTo>
                <a:lnTo>
                  <a:pt x="1" y="48"/>
                </a:lnTo>
                <a:lnTo>
                  <a:pt x="0" y="43"/>
                </a:lnTo>
                <a:lnTo>
                  <a:pt x="1" y="37"/>
                </a:lnTo>
                <a:lnTo>
                  <a:pt x="3" y="29"/>
                </a:lnTo>
                <a:lnTo>
                  <a:pt x="3" y="23"/>
                </a:lnTo>
                <a:lnTo>
                  <a:pt x="5" y="18"/>
                </a:lnTo>
                <a:lnTo>
                  <a:pt x="7" y="12"/>
                </a:lnTo>
                <a:lnTo>
                  <a:pt x="11" y="8"/>
                </a:lnTo>
                <a:lnTo>
                  <a:pt x="17" y="4"/>
                </a:lnTo>
                <a:lnTo>
                  <a:pt x="23" y="2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63" y="4"/>
                </a:lnTo>
                <a:lnTo>
                  <a:pt x="76" y="8"/>
                </a:lnTo>
                <a:lnTo>
                  <a:pt x="90" y="14"/>
                </a:lnTo>
                <a:lnTo>
                  <a:pt x="105" y="21"/>
                </a:lnTo>
                <a:lnTo>
                  <a:pt x="120" y="29"/>
                </a:lnTo>
                <a:lnTo>
                  <a:pt x="136" y="39"/>
                </a:lnTo>
                <a:lnTo>
                  <a:pt x="153" y="50"/>
                </a:lnTo>
                <a:lnTo>
                  <a:pt x="163" y="58"/>
                </a:lnTo>
                <a:lnTo>
                  <a:pt x="172" y="66"/>
                </a:lnTo>
                <a:lnTo>
                  <a:pt x="186" y="75"/>
                </a:lnTo>
                <a:lnTo>
                  <a:pt x="199" y="85"/>
                </a:lnTo>
                <a:lnTo>
                  <a:pt x="213" y="94"/>
                </a:lnTo>
                <a:lnTo>
                  <a:pt x="230" y="106"/>
                </a:lnTo>
                <a:lnTo>
                  <a:pt x="245" y="119"/>
                </a:lnTo>
                <a:lnTo>
                  <a:pt x="264" y="131"/>
                </a:lnTo>
                <a:lnTo>
                  <a:pt x="284" y="146"/>
                </a:lnTo>
                <a:lnTo>
                  <a:pt x="305" y="160"/>
                </a:lnTo>
                <a:lnTo>
                  <a:pt x="326" y="175"/>
                </a:lnTo>
                <a:lnTo>
                  <a:pt x="349" y="192"/>
                </a:lnTo>
                <a:lnTo>
                  <a:pt x="374" y="210"/>
                </a:lnTo>
                <a:lnTo>
                  <a:pt x="399" y="227"/>
                </a:lnTo>
                <a:lnTo>
                  <a:pt x="426" y="246"/>
                </a:lnTo>
                <a:lnTo>
                  <a:pt x="452" y="265"/>
                </a:lnTo>
                <a:lnTo>
                  <a:pt x="479" y="286"/>
                </a:lnTo>
                <a:lnTo>
                  <a:pt x="506" y="306"/>
                </a:lnTo>
                <a:lnTo>
                  <a:pt x="533" y="325"/>
                </a:lnTo>
                <a:lnTo>
                  <a:pt x="560" y="342"/>
                </a:lnTo>
                <a:lnTo>
                  <a:pt x="589" y="359"/>
                </a:lnTo>
                <a:lnTo>
                  <a:pt x="618" y="377"/>
                </a:lnTo>
                <a:lnTo>
                  <a:pt x="646" y="392"/>
                </a:lnTo>
                <a:lnTo>
                  <a:pt x="675" y="407"/>
                </a:lnTo>
                <a:lnTo>
                  <a:pt x="706" y="421"/>
                </a:lnTo>
                <a:lnTo>
                  <a:pt x="735" y="434"/>
                </a:lnTo>
                <a:lnTo>
                  <a:pt x="765" y="448"/>
                </a:lnTo>
                <a:lnTo>
                  <a:pt x="796" y="459"/>
                </a:lnTo>
                <a:lnTo>
                  <a:pt x="827" y="471"/>
                </a:lnTo>
                <a:lnTo>
                  <a:pt x="857" y="482"/>
                </a:lnTo>
                <a:lnTo>
                  <a:pt x="890" y="492"/>
                </a:lnTo>
                <a:lnTo>
                  <a:pt x="921" y="503"/>
                </a:lnTo>
                <a:lnTo>
                  <a:pt x="936" y="507"/>
                </a:lnTo>
                <a:lnTo>
                  <a:pt x="951" y="511"/>
                </a:lnTo>
                <a:lnTo>
                  <a:pt x="967" y="517"/>
                </a:lnTo>
                <a:lnTo>
                  <a:pt x="980" y="520"/>
                </a:lnTo>
                <a:lnTo>
                  <a:pt x="994" y="524"/>
                </a:lnTo>
                <a:lnTo>
                  <a:pt x="1007" y="530"/>
                </a:lnTo>
                <a:lnTo>
                  <a:pt x="1019" y="534"/>
                </a:lnTo>
                <a:lnTo>
                  <a:pt x="1030" y="538"/>
                </a:lnTo>
                <a:lnTo>
                  <a:pt x="1042" y="542"/>
                </a:lnTo>
                <a:lnTo>
                  <a:pt x="1053" y="545"/>
                </a:lnTo>
                <a:lnTo>
                  <a:pt x="1065" y="549"/>
                </a:lnTo>
                <a:lnTo>
                  <a:pt x="1074" y="553"/>
                </a:lnTo>
                <a:lnTo>
                  <a:pt x="1084" y="557"/>
                </a:lnTo>
                <a:lnTo>
                  <a:pt x="1093" y="561"/>
                </a:lnTo>
                <a:lnTo>
                  <a:pt x="1101" y="563"/>
                </a:lnTo>
                <a:lnTo>
                  <a:pt x="1109" y="567"/>
                </a:lnTo>
                <a:lnTo>
                  <a:pt x="1116" y="570"/>
                </a:lnTo>
                <a:lnTo>
                  <a:pt x="1124" y="572"/>
                </a:lnTo>
                <a:lnTo>
                  <a:pt x="1130" y="576"/>
                </a:lnTo>
                <a:lnTo>
                  <a:pt x="1136" y="578"/>
                </a:lnTo>
                <a:lnTo>
                  <a:pt x="1141" y="582"/>
                </a:lnTo>
                <a:lnTo>
                  <a:pt x="1145" y="584"/>
                </a:lnTo>
                <a:lnTo>
                  <a:pt x="1149" y="586"/>
                </a:lnTo>
                <a:lnTo>
                  <a:pt x="1153" y="588"/>
                </a:lnTo>
                <a:lnTo>
                  <a:pt x="1157" y="590"/>
                </a:lnTo>
                <a:lnTo>
                  <a:pt x="1159" y="591"/>
                </a:lnTo>
                <a:lnTo>
                  <a:pt x="1161" y="593"/>
                </a:lnTo>
                <a:lnTo>
                  <a:pt x="1163" y="595"/>
                </a:lnTo>
                <a:lnTo>
                  <a:pt x="1164" y="597"/>
                </a:lnTo>
                <a:lnTo>
                  <a:pt x="1164" y="599"/>
                </a:lnTo>
                <a:lnTo>
                  <a:pt x="1164" y="601"/>
                </a:lnTo>
                <a:lnTo>
                  <a:pt x="1163" y="603"/>
                </a:lnTo>
                <a:lnTo>
                  <a:pt x="1159" y="605"/>
                </a:lnTo>
                <a:lnTo>
                  <a:pt x="1153" y="607"/>
                </a:lnTo>
                <a:lnTo>
                  <a:pt x="1149" y="609"/>
                </a:lnTo>
                <a:lnTo>
                  <a:pt x="1141" y="613"/>
                </a:lnTo>
                <a:lnTo>
                  <a:pt x="1134" y="615"/>
                </a:lnTo>
                <a:lnTo>
                  <a:pt x="1124" y="618"/>
                </a:lnTo>
                <a:lnTo>
                  <a:pt x="1115" y="620"/>
                </a:lnTo>
                <a:lnTo>
                  <a:pt x="1103" y="622"/>
                </a:lnTo>
                <a:lnTo>
                  <a:pt x="1090" y="626"/>
                </a:lnTo>
                <a:lnTo>
                  <a:pt x="1076" y="628"/>
                </a:lnTo>
                <a:lnTo>
                  <a:pt x="1061" y="632"/>
                </a:lnTo>
                <a:lnTo>
                  <a:pt x="1044" y="634"/>
                </a:lnTo>
                <a:lnTo>
                  <a:pt x="1026" y="636"/>
                </a:lnTo>
                <a:lnTo>
                  <a:pt x="1007" y="638"/>
                </a:lnTo>
                <a:lnTo>
                  <a:pt x="986" y="639"/>
                </a:lnTo>
                <a:lnTo>
                  <a:pt x="965" y="643"/>
                </a:lnTo>
                <a:lnTo>
                  <a:pt x="946" y="647"/>
                </a:lnTo>
                <a:lnTo>
                  <a:pt x="926" y="649"/>
                </a:lnTo>
                <a:lnTo>
                  <a:pt x="909" y="651"/>
                </a:lnTo>
                <a:lnTo>
                  <a:pt x="892" y="653"/>
                </a:lnTo>
                <a:lnTo>
                  <a:pt x="877" y="655"/>
                </a:lnTo>
                <a:lnTo>
                  <a:pt x="861" y="655"/>
                </a:lnTo>
                <a:lnTo>
                  <a:pt x="846" y="657"/>
                </a:lnTo>
                <a:lnTo>
                  <a:pt x="832" y="657"/>
                </a:lnTo>
                <a:lnTo>
                  <a:pt x="819" y="657"/>
                </a:lnTo>
                <a:lnTo>
                  <a:pt x="808" y="657"/>
                </a:lnTo>
                <a:lnTo>
                  <a:pt x="796" y="655"/>
                </a:lnTo>
                <a:lnTo>
                  <a:pt x="786" y="655"/>
                </a:lnTo>
                <a:lnTo>
                  <a:pt x="777" y="653"/>
                </a:lnTo>
                <a:lnTo>
                  <a:pt x="769" y="651"/>
                </a:lnTo>
                <a:lnTo>
                  <a:pt x="761" y="649"/>
                </a:lnTo>
                <a:lnTo>
                  <a:pt x="752" y="647"/>
                </a:lnTo>
                <a:lnTo>
                  <a:pt x="742" y="643"/>
                </a:lnTo>
                <a:lnTo>
                  <a:pt x="733" y="639"/>
                </a:lnTo>
                <a:lnTo>
                  <a:pt x="721" y="636"/>
                </a:lnTo>
                <a:lnTo>
                  <a:pt x="710" y="628"/>
                </a:lnTo>
                <a:lnTo>
                  <a:pt x="696" y="622"/>
                </a:lnTo>
                <a:lnTo>
                  <a:pt x="683" y="615"/>
                </a:lnTo>
                <a:lnTo>
                  <a:pt x="669" y="605"/>
                </a:lnTo>
                <a:lnTo>
                  <a:pt x="656" y="595"/>
                </a:lnTo>
                <a:lnTo>
                  <a:pt x="641" y="584"/>
                </a:lnTo>
                <a:lnTo>
                  <a:pt x="625" y="570"/>
                </a:lnTo>
                <a:lnTo>
                  <a:pt x="608" y="557"/>
                </a:lnTo>
                <a:lnTo>
                  <a:pt x="591" y="543"/>
                </a:lnTo>
                <a:lnTo>
                  <a:pt x="573" y="528"/>
                </a:lnTo>
                <a:lnTo>
                  <a:pt x="556" y="511"/>
                </a:lnTo>
                <a:lnTo>
                  <a:pt x="537" y="492"/>
                </a:lnTo>
                <a:lnTo>
                  <a:pt x="460" y="419"/>
                </a:lnTo>
                <a:lnTo>
                  <a:pt x="383" y="346"/>
                </a:lnTo>
                <a:lnTo>
                  <a:pt x="343" y="311"/>
                </a:lnTo>
                <a:lnTo>
                  <a:pt x="305" y="275"/>
                </a:lnTo>
                <a:lnTo>
                  <a:pt x="266" y="240"/>
                </a:lnTo>
                <a:lnTo>
                  <a:pt x="228" y="208"/>
                </a:lnTo>
                <a:lnTo>
                  <a:pt x="209" y="190"/>
                </a:lnTo>
                <a:lnTo>
                  <a:pt x="191" y="175"/>
                </a:lnTo>
                <a:lnTo>
                  <a:pt x="174" y="162"/>
                </a:lnTo>
                <a:lnTo>
                  <a:pt x="159" y="148"/>
                </a:lnTo>
                <a:lnTo>
                  <a:pt x="144" y="137"/>
                </a:lnTo>
                <a:lnTo>
                  <a:pt x="128" y="127"/>
                </a:lnTo>
                <a:lnTo>
                  <a:pt x="115" y="117"/>
                </a:lnTo>
                <a:lnTo>
                  <a:pt x="101" y="108"/>
                </a:lnTo>
                <a:lnTo>
                  <a:pt x="90" y="100"/>
                </a:lnTo>
                <a:lnTo>
                  <a:pt x="78" y="93"/>
                </a:lnTo>
                <a:lnTo>
                  <a:pt x="69" y="87"/>
                </a:lnTo>
                <a:lnTo>
                  <a:pt x="59" y="83"/>
                </a:lnTo>
                <a:lnTo>
                  <a:pt x="51" y="77"/>
                </a:lnTo>
                <a:lnTo>
                  <a:pt x="44" y="73"/>
                </a:lnTo>
                <a:lnTo>
                  <a:pt x="36" y="71"/>
                </a:lnTo>
                <a:lnTo>
                  <a:pt x="32" y="6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6" name="Picture 67" descr=""/>
          <p:cNvPicPr/>
          <p:nvPr/>
        </p:nvPicPr>
        <p:blipFill>
          <a:blip r:embed="rId11"/>
          <a:srcRect l="0" t="0" r="-8620" b="65163"/>
          <a:stretch/>
        </p:blipFill>
        <p:spPr>
          <a:xfrm>
            <a:off x="2394000" y="3289320"/>
            <a:ext cx="1035000" cy="291960"/>
          </a:xfrm>
          <a:prstGeom prst="rect">
            <a:avLst/>
          </a:prstGeom>
          <a:ln w="0">
            <a:noFill/>
          </a:ln>
        </p:spPr>
      </p:pic>
      <p:pic>
        <p:nvPicPr>
          <p:cNvPr id="4437" name="Picture 68" descr=""/>
          <p:cNvPicPr/>
          <p:nvPr/>
        </p:nvPicPr>
        <p:blipFill>
          <a:blip r:embed="rId12"/>
          <a:srcRect l="36673" t="25773" r="-8620" b="1503"/>
          <a:stretch/>
        </p:blipFill>
        <p:spPr>
          <a:xfrm>
            <a:off x="2743200" y="35053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4438" name="Freeform 61"/>
          <p:cNvSpPr/>
          <p:nvPr/>
        </p:nvSpPr>
        <p:spPr>
          <a:xfrm>
            <a:off x="2187720" y="3182760"/>
            <a:ext cx="742680" cy="882720"/>
          </a:xfrm>
          <a:custGeom>
            <a:avLst/>
            <a:gdLst>
              <a:gd name="textAreaLeft" fmla="*/ 0 w 742680"/>
              <a:gd name="textAreaRight" fmla="*/ 743040 w 7426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937" h="1111">
                <a:moveTo>
                  <a:pt x="741" y="578"/>
                </a:moveTo>
                <a:lnTo>
                  <a:pt x="724" y="601"/>
                </a:lnTo>
                <a:lnTo>
                  <a:pt x="708" y="624"/>
                </a:lnTo>
                <a:lnTo>
                  <a:pt x="693" y="647"/>
                </a:lnTo>
                <a:lnTo>
                  <a:pt x="676" y="670"/>
                </a:lnTo>
                <a:lnTo>
                  <a:pt x="658" y="691"/>
                </a:lnTo>
                <a:lnTo>
                  <a:pt x="641" y="712"/>
                </a:lnTo>
                <a:lnTo>
                  <a:pt x="624" y="733"/>
                </a:lnTo>
                <a:lnTo>
                  <a:pt x="607" y="753"/>
                </a:lnTo>
                <a:lnTo>
                  <a:pt x="587" y="774"/>
                </a:lnTo>
                <a:lnTo>
                  <a:pt x="568" y="791"/>
                </a:lnTo>
                <a:lnTo>
                  <a:pt x="551" y="810"/>
                </a:lnTo>
                <a:lnTo>
                  <a:pt x="530" y="827"/>
                </a:lnTo>
                <a:lnTo>
                  <a:pt x="511" y="845"/>
                </a:lnTo>
                <a:lnTo>
                  <a:pt x="491" y="862"/>
                </a:lnTo>
                <a:lnTo>
                  <a:pt x="470" y="877"/>
                </a:lnTo>
                <a:lnTo>
                  <a:pt x="449" y="893"/>
                </a:lnTo>
                <a:lnTo>
                  <a:pt x="428" y="908"/>
                </a:lnTo>
                <a:lnTo>
                  <a:pt x="405" y="921"/>
                </a:lnTo>
                <a:lnTo>
                  <a:pt x="384" y="935"/>
                </a:lnTo>
                <a:lnTo>
                  <a:pt x="363" y="948"/>
                </a:lnTo>
                <a:lnTo>
                  <a:pt x="342" y="962"/>
                </a:lnTo>
                <a:lnTo>
                  <a:pt x="321" y="973"/>
                </a:lnTo>
                <a:lnTo>
                  <a:pt x="301" y="985"/>
                </a:lnTo>
                <a:lnTo>
                  <a:pt x="282" y="996"/>
                </a:lnTo>
                <a:lnTo>
                  <a:pt x="244" y="1017"/>
                </a:lnTo>
                <a:lnTo>
                  <a:pt x="207" y="1037"/>
                </a:lnTo>
                <a:lnTo>
                  <a:pt x="173" y="1054"/>
                </a:lnTo>
                <a:lnTo>
                  <a:pt x="140" y="1069"/>
                </a:lnTo>
                <a:lnTo>
                  <a:pt x="125" y="1075"/>
                </a:lnTo>
                <a:lnTo>
                  <a:pt x="108" y="1081"/>
                </a:lnTo>
                <a:lnTo>
                  <a:pt x="94" y="1085"/>
                </a:lnTo>
                <a:lnTo>
                  <a:pt x="79" y="1090"/>
                </a:lnTo>
                <a:lnTo>
                  <a:pt x="67" y="1094"/>
                </a:lnTo>
                <a:lnTo>
                  <a:pt x="56" y="1098"/>
                </a:lnTo>
                <a:lnTo>
                  <a:pt x="44" y="1102"/>
                </a:lnTo>
                <a:lnTo>
                  <a:pt x="37" y="1104"/>
                </a:lnTo>
                <a:lnTo>
                  <a:pt x="27" y="1108"/>
                </a:lnTo>
                <a:lnTo>
                  <a:pt x="21" y="1110"/>
                </a:lnTo>
                <a:lnTo>
                  <a:pt x="14" y="1110"/>
                </a:lnTo>
                <a:lnTo>
                  <a:pt x="10" y="1111"/>
                </a:lnTo>
                <a:lnTo>
                  <a:pt x="6" y="1111"/>
                </a:lnTo>
                <a:lnTo>
                  <a:pt x="2" y="1111"/>
                </a:lnTo>
                <a:lnTo>
                  <a:pt x="0" y="1110"/>
                </a:lnTo>
                <a:lnTo>
                  <a:pt x="0" y="1108"/>
                </a:lnTo>
                <a:lnTo>
                  <a:pt x="0" y="1104"/>
                </a:lnTo>
                <a:lnTo>
                  <a:pt x="4" y="1100"/>
                </a:lnTo>
                <a:lnTo>
                  <a:pt x="8" y="1094"/>
                </a:lnTo>
                <a:lnTo>
                  <a:pt x="14" y="1088"/>
                </a:lnTo>
                <a:lnTo>
                  <a:pt x="21" y="1083"/>
                </a:lnTo>
                <a:lnTo>
                  <a:pt x="31" y="1075"/>
                </a:lnTo>
                <a:lnTo>
                  <a:pt x="40" y="1065"/>
                </a:lnTo>
                <a:lnTo>
                  <a:pt x="52" y="1058"/>
                </a:lnTo>
                <a:lnTo>
                  <a:pt x="67" y="1048"/>
                </a:lnTo>
                <a:lnTo>
                  <a:pt x="83" y="1037"/>
                </a:lnTo>
                <a:lnTo>
                  <a:pt x="98" y="1025"/>
                </a:lnTo>
                <a:lnTo>
                  <a:pt x="117" y="1014"/>
                </a:lnTo>
                <a:lnTo>
                  <a:pt x="136" y="1000"/>
                </a:lnTo>
                <a:lnTo>
                  <a:pt x="156" y="987"/>
                </a:lnTo>
                <a:lnTo>
                  <a:pt x="179" y="971"/>
                </a:lnTo>
                <a:lnTo>
                  <a:pt x="223" y="937"/>
                </a:lnTo>
                <a:lnTo>
                  <a:pt x="267" y="902"/>
                </a:lnTo>
                <a:lnTo>
                  <a:pt x="311" y="866"/>
                </a:lnTo>
                <a:lnTo>
                  <a:pt x="353" y="829"/>
                </a:lnTo>
                <a:lnTo>
                  <a:pt x="395" y="791"/>
                </a:lnTo>
                <a:lnTo>
                  <a:pt x="438" y="751"/>
                </a:lnTo>
                <a:lnTo>
                  <a:pt x="457" y="731"/>
                </a:lnTo>
                <a:lnTo>
                  <a:pt x="476" y="710"/>
                </a:lnTo>
                <a:lnTo>
                  <a:pt x="497" y="689"/>
                </a:lnTo>
                <a:lnTo>
                  <a:pt x="516" y="666"/>
                </a:lnTo>
                <a:lnTo>
                  <a:pt x="534" y="645"/>
                </a:lnTo>
                <a:lnTo>
                  <a:pt x="553" y="624"/>
                </a:lnTo>
                <a:lnTo>
                  <a:pt x="570" y="603"/>
                </a:lnTo>
                <a:lnTo>
                  <a:pt x="585" y="582"/>
                </a:lnTo>
                <a:lnTo>
                  <a:pt x="601" y="559"/>
                </a:lnTo>
                <a:lnTo>
                  <a:pt x="616" y="536"/>
                </a:lnTo>
                <a:lnTo>
                  <a:pt x="630" y="513"/>
                </a:lnTo>
                <a:lnTo>
                  <a:pt x="643" y="490"/>
                </a:lnTo>
                <a:lnTo>
                  <a:pt x="655" y="467"/>
                </a:lnTo>
                <a:lnTo>
                  <a:pt x="668" y="442"/>
                </a:lnTo>
                <a:lnTo>
                  <a:pt x="678" y="419"/>
                </a:lnTo>
                <a:lnTo>
                  <a:pt x="689" y="394"/>
                </a:lnTo>
                <a:lnTo>
                  <a:pt x="697" y="369"/>
                </a:lnTo>
                <a:lnTo>
                  <a:pt x="706" y="344"/>
                </a:lnTo>
                <a:lnTo>
                  <a:pt x="714" y="319"/>
                </a:lnTo>
                <a:lnTo>
                  <a:pt x="722" y="292"/>
                </a:lnTo>
                <a:lnTo>
                  <a:pt x="727" y="267"/>
                </a:lnTo>
                <a:lnTo>
                  <a:pt x="733" y="244"/>
                </a:lnTo>
                <a:lnTo>
                  <a:pt x="739" y="221"/>
                </a:lnTo>
                <a:lnTo>
                  <a:pt x="745" y="200"/>
                </a:lnTo>
                <a:lnTo>
                  <a:pt x="749" y="181"/>
                </a:lnTo>
                <a:lnTo>
                  <a:pt x="752" y="162"/>
                </a:lnTo>
                <a:lnTo>
                  <a:pt x="754" y="146"/>
                </a:lnTo>
                <a:lnTo>
                  <a:pt x="758" y="131"/>
                </a:lnTo>
                <a:lnTo>
                  <a:pt x="760" y="115"/>
                </a:lnTo>
                <a:lnTo>
                  <a:pt x="760" y="104"/>
                </a:lnTo>
                <a:lnTo>
                  <a:pt x="762" y="92"/>
                </a:lnTo>
                <a:lnTo>
                  <a:pt x="762" y="83"/>
                </a:lnTo>
                <a:lnTo>
                  <a:pt x="762" y="73"/>
                </a:lnTo>
                <a:lnTo>
                  <a:pt x="762" y="66"/>
                </a:lnTo>
                <a:lnTo>
                  <a:pt x="760" y="60"/>
                </a:lnTo>
                <a:lnTo>
                  <a:pt x="758" y="56"/>
                </a:lnTo>
                <a:lnTo>
                  <a:pt x="752" y="48"/>
                </a:lnTo>
                <a:lnTo>
                  <a:pt x="749" y="41"/>
                </a:lnTo>
                <a:lnTo>
                  <a:pt x="747" y="35"/>
                </a:lnTo>
                <a:lnTo>
                  <a:pt x="745" y="27"/>
                </a:lnTo>
                <a:lnTo>
                  <a:pt x="747" y="21"/>
                </a:lnTo>
                <a:lnTo>
                  <a:pt x="749" y="16"/>
                </a:lnTo>
                <a:lnTo>
                  <a:pt x="752" y="12"/>
                </a:lnTo>
                <a:lnTo>
                  <a:pt x="758" y="6"/>
                </a:lnTo>
                <a:lnTo>
                  <a:pt x="760" y="4"/>
                </a:lnTo>
                <a:lnTo>
                  <a:pt x="764" y="4"/>
                </a:lnTo>
                <a:lnTo>
                  <a:pt x="768" y="2"/>
                </a:lnTo>
                <a:lnTo>
                  <a:pt x="772" y="2"/>
                </a:lnTo>
                <a:lnTo>
                  <a:pt x="775" y="0"/>
                </a:lnTo>
                <a:lnTo>
                  <a:pt x="781" y="0"/>
                </a:lnTo>
                <a:lnTo>
                  <a:pt x="785" y="0"/>
                </a:lnTo>
                <a:lnTo>
                  <a:pt x="793" y="0"/>
                </a:lnTo>
                <a:lnTo>
                  <a:pt x="804" y="2"/>
                </a:lnTo>
                <a:lnTo>
                  <a:pt x="820" y="6"/>
                </a:lnTo>
                <a:lnTo>
                  <a:pt x="835" y="10"/>
                </a:lnTo>
                <a:lnTo>
                  <a:pt x="852" y="18"/>
                </a:lnTo>
                <a:lnTo>
                  <a:pt x="869" y="27"/>
                </a:lnTo>
                <a:lnTo>
                  <a:pt x="885" y="37"/>
                </a:lnTo>
                <a:lnTo>
                  <a:pt x="896" y="46"/>
                </a:lnTo>
                <a:lnTo>
                  <a:pt x="908" y="54"/>
                </a:lnTo>
                <a:lnTo>
                  <a:pt x="917" y="64"/>
                </a:lnTo>
                <a:lnTo>
                  <a:pt x="927" y="71"/>
                </a:lnTo>
                <a:lnTo>
                  <a:pt x="933" y="79"/>
                </a:lnTo>
                <a:lnTo>
                  <a:pt x="937" y="85"/>
                </a:lnTo>
                <a:lnTo>
                  <a:pt x="937" y="89"/>
                </a:lnTo>
                <a:lnTo>
                  <a:pt x="937" y="94"/>
                </a:lnTo>
                <a:lnTo>
                  <a:pt x="935" y="100"/>
                </a:lnTo>
                <a:lnTo>
                  <a:pt x="935" y="106"/>
                </a:lnTo>
                <a:lnTo>
                  <a:pt x="933" y="114"/>
                </a:lnTo>
                <a:lnTo>
                  <a:pt x="933" y="121"/>
                </a:lnTo>
                <a:lnTo>
                  <a:pt x="931" y="129"/>
                </a:lnTo>
                <a:lnTo>
                  <a:pt x="929" y="138"/>
                </a:lnTo>
                <a:lnTo>
                  <a:pt x="925" y="148"/>
                </a:lnTo>
                <a:lnTo>
                  <a:pt x="923" y="160"/>
                </a:lnTo>
                <a:lnTo>
                  <a:pt x="919" y="171"/>
                </a:lnTo>
                <a:lnTo>
                  <a:pt x="917" y="185"/>
                </a:lnTo>
                <a:lnTo>
                  <a:pt x="914" y="198"/>
                </a:lnTo>
                <a:lnTo>
                  <a:pt x="908" y="211"/>
                </a:lnTo>
                <a:lnTo>
                  <a:pt x="904" y="227"/>
                </a:lnTo>
                <a:lnTo>
                  <a:pt x="900" y="244"/>
                </a:lnTo>
                <a:lnTo>
                  <a:pt x="894" y="259"/>
                </a:lnTo>
                <a:lnTo>
                  <a:pt x="889" y="277"/>
                </a:lnTo>
                <a:lnTo>
                  <a:pt x="881" y="296"/>
                </a:lnTo>
                <a:lnTo>
                  <a:pt x="875" y="313"/>
                </a:lnTo>
                <a:lnTo>
                  <a:pt x="868" y="332"/>
                </a:lnTo>
                <a:lnTo>
                  <a:pt x="858" y="351"/>
                </a:lnTo>
                <a:lnTo>
                  <a:pt x="850" y="371"/>
                </a:lnTo>
                <a:lnTo>
                  <a:pt x="841" y="392"/>
                </a:lnTo>
                <a:lnTo>
                  <a:pt x="831" y="413"/>
                </a:lnTo>
                <a:lnTo>
                  <a:pt x="820" y="434"/>
                </a:lnTo>
                <a:lnTo>
                  <a:pt x="808" y="457"/>
                </a:lnTo>
                <a:lnTo>
                  <a:pt x="797" y="480"/>
                </a:lnTo>
                <a:lnTo>
                  <a:pt x="783" y="503"/>
                </a:lnTo>
                <a:lnTo>
                  <a:pt x="770" y="526"/>
                </a:lnTo>
                <a:lnTo>
                  <a:pt x="756" y="551"/>
                </a:lnTo>
                <a:lnTo>
                  <a:pt x="741" y="57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9" name="Picture 9" descr="圣诞树6"/>
          <p:cNvPicPr/>
          <p:nvPr/>
        </p:nvPicPr>
        <p:blipFill>
          <a:blip r:embed="rId13"/>
          <a:stretch/>
        </p:blipFill>
        <p:spPr>
          <a:xfrm>
            <a:off x="7596360" y="558972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54" dur="indefinite" restart="never" nodeType="tmRoot">
          <p:childTnLst>
            <p:seq>
              <p:cTn id="655" restart="whenNotActive" nodeType="interactiveSeq" fill="hold">
                <p:stCondLst>
                  <p:cond evt="onClick">
                    <p:tgtEl>
                      <p:spTgt spid="4404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4404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4405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4405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4406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4406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440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40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441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441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441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441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5" dur="1000"/>
                                        <p:tgtEl>
                                          <p:spTgt spid="4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3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1000"/>
                                        <p:tgtEl>
                                          <p:spTgt spid="4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600"/>
                            </p:stCondLst>
                            <p:childTnLst>
                              <p:par>
                                <p:cTn id="691" nodeType="afterEffect" fill="hold" presetClass="entr" presetID="18" presetSubtype="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3" dur="10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9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1000"/>
                                        <p:tgtEl>
                                          <p:spTgt spid="4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8" presetSubtype="1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1000"/>
                                        <p:tgtEl>
                                          <p:spTgt spid="4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00"/>
                            </p:stCondLst>
                            <p:childTnLst>
                              <p:par>
                                <p:cTn id="702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10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7100"/>
                            </p:stCondLst>
                            <p:childTnLst>
                              <p:par>
                                <p:cTn id="706" nodeType="afterEffect" fill="hold" presetClass="entr" presetID="18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8" dur="1000"/>
                                        <p:tgtEl>
                                          <p:spTgt spid="4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1000"/>
                                        <p:tgtEl>
                                          <p:spTgt spid="4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100"/>
                            </p:stCondLst>
                            <p:childTnLst>
                              <p:par>
                                <p:cTn id="713" nodeType="after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10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Text Box 3"/>
          <p:cNvSpPr/>
          <p:nvPr/>
        </p:nvSpPr>
        <p:spPr>
          <a:xfrm>
            <a:off x="3104640" y="1628640"/>
            <a:ext cx="323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来一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五月一日</a:t>
            </a:r>
            <a:br>
              <a:rPr sz="4400"/>
            </a:b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做一遍</a:t>
            </a:r>
            <a:br>
              <a:rPr sz="4400"/>
            </a:b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(          )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教室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Text Box 4"/>
          <p:cNvSpPr/>
          <p:nvPr/>
        </p:nvSpPr>
        <p:spPr>
          <a:xfrm>
            <a:off x="2162880" y="682560"/>
            <a:ext cx="310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用“再”、“在”填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Text Box 5"/>
          <p:cNvSpPr/>
          <p:nvPr/>
        </p:nvSpPr>
        <p:spPr>
          <a:xfrm>
            <a:off x="3317040" y="170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Text Box 6"/>
          <p:cNvSpPr/>
          <p:nvPr/>
        </p:nvSpPr>
        <p:spPr>
          <a:xfrm>
            <a:off x="3246480" y="3141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Text Box 7"/>
          <p:cNvSpPr/>
          <p:nvPr/>
        </p:nvSpPr>
        <p:spPr>
          <a:xfrm>
            <a:off x="3245400" y="2421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Text Box 8"/>
          <p:cNvSpPr/>
          <p:nvPr/>
        </p:nvSpPr>
        <p:spPr>
          <a:xfrm>
            <a:off x="3317760" y="378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4" name="Picture 9" descr="圣诞树6"/>
          <p:cNvPicPr/>
          <p:nvPr/>
        </p:nvPicPr>
        <p:blipFill>
          <a:blip r:embed="rId1"/>
          <a:stretch/>
        </p:blipFill>
        <p:spPr>
          <a:xfrm>
            <a:off x="8001000" y="5516640"/>
            <a:ext cx="1143000" cy="156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默读课文，找一找小加回家的表现，在哪一自然段？用横线画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Rectangle 3"/>
          <p:cNvSpPr/>
          <p:nvPr/>
        </p:nvSpPr>
        <p:spPr>
          <a:xfrm>
            <a:off x="108000" y="189000"/>
            <a:ext cx="9036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Rectangle 9"/>
          <p:cNvSpPr/>
          <p:nvPr/>
        </p:nvSpPr>
        <p:spPr>
          <a:xfrm>
            <a:off x="1430640" y="3284640"/>
            <a:ext cx="34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请用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慢吞吞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说一句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8" name="Group 55"/>
          <p:cNvGrpSpPr/>
          <p:nvPr/>
        </p:nvGrpSpPr>
        <p:grpSpPr>
          <a:xfrm>
            <a:off x="179280" y="1700280"/>
            <a:ext cx="8713800" cy="936720"/>
            <a:chOff x="179280" y="1700280"/>
            <a:chExt cx="8713800" cy="936720"/>
          </a:xfrm>
        </p:grpSpPr>
        <p:sp>
          <p:nvSpPr>
            <p:cNvPr id="3969" name="Text Box 4"/>
            <p:cNvSpPr/>
            <p:nvPr/>
          </p:nvSpPr>
          <p:spPr>
            <a:xfrm>
              <a:off x="179280" y="1700280"/>
              <a:ext cx="871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</a:rPr>
                <a:t>、小加往常是怎样？请用“      ”画出来，现在又是怎样的呢？请用“          ”画出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Line 30"/>
            <p:cNvSpPr/>
            <p:nvPr/>
          </p:nvSpPr>
          <p:spPr>
            <a:xfrm>
              <a:off x="5796000" y="1989360"/>
              <a:ext cx="647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Freeform 47"/>
            <p:cNvSpPr/>
            <p:nvPr/>
          </p:nvSpPr>
          <p:spPr>
            <a:xfrm>
              <a:off x="5651280" y="2563920"/>
              <a:ext cx="936720" cy="73080"/>
            </a:xfrm>
            <a:custGeom>
              <a:avLst/>
              <a:gdLst/>
              <a:ahLst/>
              <a:rect l="l" t="t" r="r" b="b"/>
              <a:pathLst>
                <a:path w="1682" h="121">
                  <a:moveTo>
                    <a:pt x="0" y="53"/>
                  </a:moveTo>
                  <a:cubicBezTo>
                    <a:pt x="16" y="120"/>
                    <a:pt x="25" y="110"/>
                    <a:pt x="91" y="99"/>
                  </a:cubicBezTo>
                  <a:cubicBezTo>
                    <a:pt x="109" y="51"/>
                    <a:pt x="119" y="60"/>
                    <a:pt x="165" y="72"/>
                  </a:cubicBezTo>
                  <a:cubicBezTo>
                    <a:pt x="168" y="84"/>
                    <a:pt x="163" y="103"/>
                    <a:pt x="174" y="108"/>
                  </a:cubicBezTo>
                  <a:cubicBezTo>
                    <a:pt x="204" y="121"/>
                    <a:pt x="234" y="96"/>
                    <a:pt x="256" y="81"/>
                  </a:cubicBezTo>
                  <a:cubicBezTo>
                    <a:pt x="318" y="96"/>
                    <a:pt x="317" y="111"/>
                    <a:pt x="366" y="62"/>
                  </a:cubicBezTo>
                  <a:cubicBezTo>
                    <a:pt x="400" y="98"/>
                    <a:pt x="405" y="100"/>
                    <a:pt x="457" y="90"/>
                  </a:cubicBezTo>
                  <a:cubicBezTo>
                    <a:pt x="511" y="55"/>
                    <a:pt x="466" y="71"/>
                    <a:pt x="494" y="99"/>
                  </a:cubicBezTo>
                  <a:cubicBezTo>
                    <a:pt x="501" y="106"/>
                    <a:pt x="512" y="105"/>
                    <a:pt x="521" y="108"/>
                  </a:cubicBezTo>
                  <a:cubicBezTo>
                    <a:pt x="553" y="98"/>
                    <a:pt x="571" y="86"/>
                    <a:pt x="594" y="62"/>
                  </a:cubicBezTo>
                  <a:cubicBezTo>
                    <a:pt x="606" y="65"/>
                    <a:pt x="620" y="65"/>
                    <a:pt x="631" y="72"/>
                  </a:cubicBezTo>
                  <a:cubicBezTo>
                    <a:pt x="674" y="101"/>
                    <a:pt x="621" y="108"/>
                    <a:pt x="677" y="90"/>
                  </a:cubicBezTo>
                  <a:cubicBezTo>
                    <a:pt x="703" y="50"/>
                    <a:pt x="713" y="51"/>
                    <a:pt x="759" y="62"/>
                  </a:cubicBezTo>
                  <a:cubicBezTo>
                    <a:pt x="762" y="71"/>
                    <a:pt x="759" y="87"/>
                    <a:pt x="768" y="90"/>
                  </a:cubicBezTo>
                  <a:cubicBezTo>
                    <a:pt x="801" y="102"/>
                    <a:pt x="815" y="80"/>
                    <a:pt x="832" y="62"/>
                  </a:cubicBezTo>
                  <a:cubicBezTo>
                    <a:pt x="874" y="70"/>
                    <a:pt x="903" y="85"/>
                    <a:pt x="942" y="72"/>
                  </a:cubicBezTo>
                  <a:cubicBezTo>
                    <a:pt x="988" y="23"/>
                    <a:pt x="985" y="54"/>
                    <a:pt x="1033" y="72"/>
                  </a:cubicBezTo>
                  <a:cubicBezTo>
                    <a:pt x="1042" y="69"/>
                    <a:pt x="1054" y="69"/>
                    <a:pt x="1061" y="62"/>
                  </a:cubicBezTo>
                  <a:cubicBezTo>
                    <a:pt x="1068" y="55"/>
                    <a:pt x="1061" y="38"/>
                    <a:pt x="1070" y="35"/>
                  </a:cubicBezTo>
                  <a:cubicBezTo>
                    <a:pt x="1085" y="30"/>
                    <a:pt x="1100" y="41"/>
                    <a:pt x="1115" y="44"/>
                  </a:cubicBezTo>
                  <a:cubicBezTo>
                    <a:pt x="1126" y="55"/>
                    <a:pt x="1142" y="74"/>
                    <a:pt x="1161" y="72"/>
                  </a:cubicBezTo>
                  <a:cubicBezTo>
                    <a:pt x="1180" y="70"/>
                    <a:pt x="1216" y="53"/>
                    <a:pt x="1216" y="53"/>
                  </a:cubicBezTo>
                  <a:cubicBezTo>
                    <a:pt x="1242" y="59"/>
                    <a:pt x="1263" y="70"/>
                    <a:pt x="1289" y="53"/>
                  </a:cubicBezTo>
                  <a:cubicBezTo>
                    <a:pt x="1369" y="0"/>
                    <a:pt x="1245" y="46"/>
                    <a:pt x="1335" y="17"/>
                  </a:cubicBezTo>
                  <a:cubicBezTo>
                    <a:pt x="1388" y="69"/>
                    <a:pt x="1361" y="55"/>
                    <a:pt x="1408" y="72"/>
                  </a:cubicBezTo>
                  <a:cubicBezTo>
                    <a:pt x="1429" y="50"/>
                    <a:pt x="1447" y="34"/>
                    <a:pt x="1472" y="17"/>
                  </a:cubicBezTo>
                  <a:cubicBezTo>
                    <a:pt x="1487" y="20"/>
                    <a:pt x="1503" y="22"/>
                    <a:pt x="1518" y="26"/>
                  </a:cubicBezTo>
                  <a:cubicBezTo>
                    <a:pt x="1537" y="31"/>
                    <a:pt x="1573" y="44"/>
                    <a:pt x="1573" y="44"/>
                  </a:cubicBezTo>
                  <a:cubicBezTo>
                    <a:pt x="1579" y="62"/>
                    <a:pt x="1579" y="88"/>
                    <a:pt x="1609" y="81"/>
                  </a:cubicBezTo>
                  <a:cubicBezTo>
                    <a:pt x="1618" y="79"/>
                    <a:pt x="1620" y="67"/>
                    <a:pt x="1627" y="62"/>
                  </a:cubicBezTo>
                  <a:cubicBezTo>
                    <a:pt x="1646" y="50"/>
                    <a:pt x="1661" y="53"/>
                    <a:pt x="1682" y="5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2" name="Picture 2" descr="7ea5a81db6e77d9286d6b617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3973" name="Text Box 3"/>
          <p:cNvSpPr/>
          <p:nvPr/>
        </p:nvSpPr>
        <p:spPr>
          <a:xfrm>
            <a:off x="4643280" y="1890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放学回家，小加</a:t>
            </a:r>
            <a:r>
              <a:rPr b="1" lang="zh-CN" sz="3600" spc="-1" strike="noStrike">
                <a:solidFill>
                  <a:srgbClr val="d02300"/>
                </a:solidFill>
                <a:latin typeface="Times New Roman"/>
              </a:rPr>
              <a:t>不是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往常那样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坐在电视机前看节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d02300"/>
                </a:solidFill>
                <a:latin typeface="Times New Roman"/>
              </a:rPr>
              <a:t>而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悄悄地躲进了自己的房间。吃晚饭的时候，他</a:t>
            </a:r>
            <a:r>
              <a:rPr b="1" lang="zh-CN" sz="3600" spc="-1" strike="noStrike">
                <a:solidFill>
                  <a:srgbClr val="d02300"/>
                </a:solidFill>
                <a:latin typeface="Times New Roman"/>
              </a:rPr>
              <a:t>也不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往常那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有说有笑，大口大口地往嘴里扒着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d02300"/>
                </a:solidFill>
                <a:latin typeface="Times New Roman"/>
              </a:rPr>
              <a:t>而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闷着头慢吞吞地吃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04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 u="sng">
                <a:solidFill>
                  <a:srgbClr val="ff3300"/>
                </a:solidFill>
                <a:uFillTx/>
                <a:latin typeface="Verdana"/>
              </a:rPr>
              <a:t>垂头丧气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是什么意思？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你能用它造句吗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5" name=""/>
          <p:cNvSpPr/>
          <p:nvPr/>
        </p:nvSpPr>
        <p:spPr>
          <a:xfrm>
            <a:off x="1403280" y="3860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十分灰心，精神状态不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1743120" y="5018040"/>
            <a:ext cx="599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2854080" y="5445000"/>
            <a:ext cx="329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垂头丧气：我虽然没考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我没有垂头丧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8" name="Group 8"/>
          <p:cNvGrpSpPr/>
          <p:nvPr/>
        </p:nvGrpSpPr>
        <p:grpSpPr>
          <a:xfrm>
            <a:off x="-360" y="44280"/>
            <a:ext cx="7524360" cy="2090880"/>
            <a:chOff x="-360" y="44280"/>
            <a:chExt cx="7524360" cy="2090880"/>
          </a:xfrm>
        </p:grpSpPr>
        <p:sp>
          <p:nvSpPr>
            <p:cNvPr id="3979" name="AutoShape 4"/>
            <p:cNvSpPr/>
            <p:nvPr/>
          </p:nvSpPr>
          <p:spPr>
            <a:xfrm flipH="1">
              <a:off x="-720" y="44280"/>
              <a:ext cx="4479480" cy="16336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WordArt 5"/>
            <p:cNvSpPr txBox="1"/>
            <p:nvPr/>
          </p:nvSpPr>
          <p:spPr>
            <a:xfrm>
              <a:off x="791280" y="349200"/>
              <a:ext cx="3165480" cy="84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宋体"/>
                </a:rPr>
                <a:t>说一说</a:t>
              </a:r>
              <a:endParaRPr b="1" lang="en-US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  <a:ea typeface="宋体"/>
              </a:endParaRPr>
            </a:p>
          </p:txBody>
        </p:sp>
        <p:pic>
          <p:nvPicPr>
            <p:cNvPr id="3981" name="Picture 6" descr="卡通"/>
            <p:cNvPicPr/>
            <p:nvPr/>
          </p:nvPicPr>
          <p:blipFill>
            <a:blip r:embed="rId1"/>
            <a:stretch/>
          </p:blipFill>
          <p:spPr>
            <a:xfrm>
              <a:off x="4748400" y="501480"/>
              <a:ext cx="2775600" cy="16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2" name="Rectangle 7"/>
          <p:cNvSpPr/>
          <p:nvPr/>
        </p:nvSpPr>
        <p:spPr>
          <a:xfrm>
            <a:off x="468360" y="141300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、小加遇到了什么难事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Rectangle 8"/>
          <p:cNvSpPr/>
          <p:nvPr/>
        </p:nvSpPr>
        <p:spPr>
          <a:xfrm>
            <a:off x="324000" y="2276640"/>
            <a:ext cx="83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在妈妈的询问下，小加告诉爸爸妈妈：在课外活动时，我第一次玩儿‘跳马’，有点害怕。我想，要是跳不过去，或者从‘马’上摔下来，那该多难为情啊。所以，我跑到‘马’跟前的时候，不由自主地停了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Rectangle 10"/>
          <p:cNvSpPr/>
          <p:nvPr/>
        </p:nvSpPr>
        <p:spPr>
          <a:xfrm>
            <a:off x="6545160" y="4178160"/>
            <a:ext cx="22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由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Rectangle 11"/>
          <p:cNvSpPr/>
          <p:nvPr/>
        </p:nvSpPr>
        <p:spPr>
          <a:xfrm>
            <a:off x="2602800" y="5229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请用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由自主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说一句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9:12:28Z</dcterms:created>
  <dc:creator>Administrator</dc:creator>
  <dc:description/>
  <dc:language>en-US</dc:language>
  <cp:lastModifiedBy>微软用户</cp:lastModifiedBy>
  <dcterms:modified xsi:type="dcterms:W3CDTF">2015-07-09T01:24:5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