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7677-FB14-419F-8A9E-A1371FAEB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3EC8-4D0D-4531-8DCE-9C15AF51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D94A-ECFC-47BC-8035-D9E68ADAA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E757-82EF-4C81-A44B-574AD8722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B00C-9846-486F-8266-2FF50F90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742F-3B19-4BBF-83A3-707D7291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069A-39FD-45C6-9DE2-D365F9F6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F032-6E3E-4576-96B5-D58E4806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09D0-C1AE-4141-ABE8-593F1F5C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183C-F639-4FB0-BBDA-DFB16A77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1040-1CCB-4C25-B1DE-19FBBD7D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2C26-0BD2-4BF2-9420-DCB4699A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8C413-90C1-4E52-A842-0296910526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" Target="slide5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image" Target="../media/image6.jpeg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6880" y="2666880"/>
            <a:ext cx="4840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4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祖先的摇篮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3808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be0e3"/>
                </a:solidFill>
                <a:latin typeface="Arial"/>
              </a:rPr>
              <a:t>冀教版二年级语文下册第二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62120" y="228600"/>
            <a:ext cx="449568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那时侯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孩子们也在这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逗小松鼠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采野蔷薇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也曾在这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捉红蜻蜓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逮绿蝈蝈儿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505320" y="1371600"/>
            <a:ext cx="472428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风儿吹动树叶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沙沙，沙沙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那回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多么美好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又那么遥远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61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666880" y="2133720"/>
            <a:ext cx="403884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摘       鹊蛋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逗       蔷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掏       野兔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采       蜻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       野果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捉       松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2590920"/>
            <a:ext cx="1905120" cy="28191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124080" y="3276360"/>
            <a:ext cx="1981440" cy="14475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200400" y="4724280"/>
            <a:ext cx="1905120" cy="13716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276720" y="2666520"/>
            <a:ext cx="1828800" cy="1295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200400" y="3962160"/>
            <a:ext cx="1905120" cy="14475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3429000"/>
            <a:ext cx="1828800" cy="27432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657600" y="1447920"/>
            <a:ext cx="1600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连  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819520" y="2209680"/>
            <a:ext cx="39621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再见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14400" y="114300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43400" y="70020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掏鸡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70020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曾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70020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原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0" y="70020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好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7668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逮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68760" y="17668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蝈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51360" y="17668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意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4038480"/>
            <a:ext cx="33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浓绿的树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34320" y="1766880"/>
            <a:ext cx="1447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回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28954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遥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71800" y="29098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想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57800" y="290988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一望无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4038480"/>
            <a:ext cx="335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古老的森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14400" y="114300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65560" y="6858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63840" y="6858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6858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91120" y="373392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68580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逮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220968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79680" y="2209680"/>
            <a:ext cx="78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373392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3733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48280" y="22096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3733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22096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>
            <a:hlinkClick r:id="rId3" action="ppaction://hlinksldjump"/>
          </p:cNvPr>
          <p:cNvSpPr/>
          <p:nvPr/>
        </p:nvSpPr>
        <p:spPr>
          <a:xfrm>
            <a:off x="1752480" y="58053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第一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3657600" y="57913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第二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5" action="ppaction://hlinksldjump"/>
          </p:cNvPr>
          <p:cNvSpPr/>
          <p:nvPr/>
        </p:nvSpPr>
        <p:spPr>
          <a:xfrm>
            <a:off x="5638680" y="57913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第三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467480" y="57913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第四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1523880"/>
            <a:ext cx="63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哪个小节给你留下了深刻的印象呢？是什么吸引了你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lastslide"/>
          </p:cNvPr>
          <p:cNvSpPr/>
          <p:nvPr/>
        </p:nvSpPr>
        <p:spPr>
          <a:xfrm>
            <a:off x="228600" y="594360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结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572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>
            <a:hlinkClick r:id="rId4" action="ppaction://hlinksldjump"/>
          </p:cNvPr>
          <p:cNvSpPr/>
          <p:nvPr/>
        </p:nvSpPr>
        <p:spPr>
          <a:xfrm>
            <a:off x="609480" y="297000"/>
            <a:ext cx="480060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爷爷说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原始森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我们祖先的摇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真有意思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该是多大的摇篮哪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浓绿的树阴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望无边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遮住了蓝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523880" y="76320"/>
            <a:ext cx="61722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57200" y="228600"/>
            <a:ext cx="4419720" cy="64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想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的祖先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可曾在这些大树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摘野果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掏鹊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可曾在那片草地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野兔赛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看蘑菇打伞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7-11T01:58:05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