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A8D-F871-4751-9A8B-81635FC4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1FE-BB59-4DC2-BE9E-2EB02AE3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35E-AF6D-4E27-ADC9-35B248F6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140-E2AB-481E-86B2-30BD994C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1E2-A431-4561-BBAE-02763B5E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D9B-993B-4AFE-B42E-898B4122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3CB-E21C-49E8-A17D-6786061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562-D6BF-4D1E-8C86-C38824D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DF7-E2EC-469C-93D8-70B8E855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C75-D5CD-4A8D-9E12-4BC5F7C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485-54CE-4651-A75F-A427C21D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CFC-C58C-4A43-9B80-EB46157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0C84-74CD-4980-A5A2-386D90058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4" descr="图片1_副本"/>
          <p:cNvPicPr/>
          <p:nvPr/>
        </p:nvPicPr>
        <p:blipFill>
          <a:blip r:embed="rId1"/>
          <a:stretch/>
        </p:blipFill>
        <p:spPr>
          <a:xfrm>
            <a:off x="0" y="0"/>
            <a:ext cx="479916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50920" y="333360"/>
            <a:ext cx="70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鲁教版小学语文二年级下册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8920" y="2205000"/>
            <a:ext cx="835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的“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6869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36867"/>
          <p:cNvSpPr/>
          <p:nvPr/>
        </p:nvSpPr>
        <p:spPr>
          <a:xfrm>
            <a:off x="1755000" y="765000"/>
            <a:ext cx="61704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川川认真地问：“这上面有字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吗？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有。你来看，这是雨点留下的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印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，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雨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；这是波浪的足迹，叫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波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；还有这些闪光的、透明的，是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矿物。他们都是字呀！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7890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37889"/>
          <p:cNvSpPr/>
          <p:nvPr/>
        </p:nvSpPr>
        <p:spPr>
          <a:xfrm>
            <a:off x="2012040" y="765000"/>
            <a:ext cx="58654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川川又问：“这上面有图画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吗？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叔叔说：“有。你看，这儿有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树叶，有贝壳，那儿还有一条小鱼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哩！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8914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38913"/>
          <p:cNvSpPr/>
          <p:nvPr/>
        </p:nvSpPr>
        <p:spPr>
          <a:xfrm>
            <a:off x="1788480" y="692280"/>
            <a:ext cx="6170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这能说明什么呢？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它告诉我们，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很久很久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前，这里是一片长满树木的陆地。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后来，陆地沉下去了，这里就变成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了大海。又过了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很多很多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万年，海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底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慢慢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上升，这里又变成了高山，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就是我们脚下的这座山。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9939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39937"/>
          <p:cNvSpPr/>
          <p:nvPr/>
        </p:nvSpPr>
        <p:spPr>
          <a:xfrm>
            <a:off x="1855800" y="692280"/>
            <a:ext cx="636552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    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读了这本岩石书有什么用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呢？”川川总爱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</a:rPr>
              <a:t>刨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根问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</a:rPr>
              <a:t>底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叔叔说“用处可大哩！它能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告诉我们，哪里埋着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</a:rPr>
              <a:t>煤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炭，哪里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藏着铁矿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把这本‘书’读懂，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就能为祖国找到更多的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</a:rPr>
              <a:t>宝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藏！”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40962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40961"/>
          <p:cNvSpPr/>
          <p:nvPr/>
        </p:nvSpPr>
        <p:spPr>
          <a:xfrm>
            <a:off x="1647720" y="1341360"/>
            <a:ext cx="636552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    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太好了，太好了！”川川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高兴地说，“我也要读这本最大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的‘书’！”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51201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51202"/>
          <p:cNvSpPr/>
          <p:nvPr/>
        </p:nvSpPr>
        <p:spPr>
          <a:xfrm>
            <a:off x="1684440" y="1052640"/>
            <a:ext cx="635292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川川的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刨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根问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底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让我们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道了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石就像一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册厚厚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的书，它的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身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有字也有画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，读懂这本最大的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书”，就能为祖国找到更多的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宝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藏。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48129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48130"/>
          <p:cNvSpPr/>
          <p:nvPr/>
        </p:nvSpPr>
        <p:spPr>
          <a:xfrm>
            <a:off x="826920" y="1341360"/>
            <a:ext cx="885852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、和父母一起分角色朗读课文。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、阅读课后“我知道”的资料，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感兴趣的同学可以查找相关资料，下节课和同学们交流。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推荐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7180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5280" y="54936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声朗读，读准字音，读通句子，边读边思考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为什么要加引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0177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就是书啊！你看，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一层一层的，不就像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册厚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书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0179" descr="岩石"/>
          <p:cNvPicPr/>
          <p:nvPr/>
        </p:nvPicPr>
        <p:blipFill>
          <a:blip r:embed="rId2"/>
          <a:stretch/>
        </p:blipFill>
        <p:spPr>
          <a:xfrm>
            <a:off x="2771640" y="1916280"/>
            <a:ext cx="3889440" cy="198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68360" y="4149720"/>
            <a:ext cx="84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石一层一层的，就像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册厚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的书。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" name="矩形 50181"/>
          <p:cNvSpPr/>
          <p:nvPr/>
        </p:nvSpPr>
        <p:spPr>
          <a:xfrm>
            <a:off x="2542680" y="4960800"/>
            <a:ext cx="44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石一层一层的，不就像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册厚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的书吗？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3033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547640" y="3068640"/>
            <a:ext cx="3456000" cy="3456000"/>
            <a:chOff x="1547640" y="3068640"/>
            <a:chExt cx="3456000" cy="3456000"/>
          </a:xfrm>
        </p:grpSpPr>
        <p:sp>
          <p:nvSpPr>
            <p:cNvPr id="54" name="直接连接符 43012"/>
            <p:cNvSpPr/>
            <p:nvPr/>
          </p:nvSpPr>
          <p:spPr>
            <a:xfrm flipV="1">
              <a:off x="1547640" y="3068640"/>
              <a:ext cx="3456000" cy="345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 rot="10800000">
              <a:off x="1547640" y="3068640"/>
              <a:ext cx="3456000" cy="34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6" name="矩形 43013"/>
          <p:cNvSpPr/>
          <p:nvPr/>
        </p:nvSpPr>
        <p:spPr>
          <a:xfrm>
            <a:off x="5391000" y="3438360"/>
            <a:ext cx="2989440" cy="26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矩形 43014"/>
          <p:cNvSpPr/>
          <p:nvPr/>
        </p:nvSpPr>
        <p:spPr>
          <a:xfrm>
            <a:off x="4932360" y="3284640"/>
            <a:ext cx="3672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矩形 43015"/>
          <p:cNvSpPr/>
          <p:nvPr/>
        </p:nvSpPr>
        <p:spPr>
          <a:xfrm>
            <a:off x="6659640" y="666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矩形 43016"/>
          <p:cNvSpPr/>
          <p:nvPr/>
        </p:nvSpPr>
        <p:spPr>
          <a:xfrm>
            <a:off x="1332000" y="2997360"/>
            <a:ext cx="3240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0" name="图片 43026" descr="未标题-3"/>
          <p:cNvPicPr/>
          <p:nvPr/>
        </p:nvPicPr>
        <p:blipFill>
          <a:blip r:embed="rId2"/>
          <a:stretch/>
        </p:blipFill>
        <p:spPr>
          <a:xfrm>
            <a:off x="5219640" y="260280"/>
            <a:ext cx="1473120" cy="1511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3027" descr="未标题-"/>
          <p:cNvPicPr/>
          <p:nvPr/>
        </p:nvPicPr>
        <p:blipFill>
          <a:blip r:embed="rId3"/>
          <a:stretch/>
        </p:blipFill>
        <p:spPr>
          <a:xfrm>
            <a:off x="3419640" y="189000"/>
            <a:ext cx="1663560" cy="15746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3028" descr="未标题-1"/>
          <p:cNvPicPr/>
          <p:nvPr/>
        </p:nvPicPr>
        <p:blipFill>
          <a:blip r:embed="rId4"/>
          <a:stretch/>
        </p:blipFill>
        <p:spPr>
          <a:xfrm>
            <a:off x="1619280" y="333360"/>
            <a:ext cx="1612800" cy="15238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43029"/>
          <p:cNvSpPr/>
          <p:nvPr/>
        </p:nvSpPr>
        <p:spPr>
          <a:xfrm>
            <a:off x="7048800" y="620640"/>
            <a:ext cx="13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册</a:t>
            </a:r>
            <a:endParaRPr b="0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文本框 43035"/>
          <p:cNvSpPr/>
          <p:nvPr/>
        </p:nvSpPr>
        <p:spPr>
          <a:xfrm>
            <a:off x="2054160" y="1700280"/>
            <a:ext cx="232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厚厚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的书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文本框 43036"/>
          <p:cNvSpPr/>
          <p:nvPr/>
        </p:nvSpPr>
        <p:spPr>
          <a:xfrm>
            <a:off x="2115360" y="2421000"/>
            <a:ext cx="34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厚厚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的（  ）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文本框 43037"/>
          <p:cNvSpPr/>
          <p:nvPr/>
        </p:nvSpPr>
        <p:spPr>
          <a:xfrm>
            <a:off x="2441520" y="3860640"/>
            <a:ext cx="47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一（ ）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厚厚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的（  ）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文本框 43038"/>
          <p:cNvSpPr/>
          <p:nvPr/>
        </p:nvSpPr>
        <p:spPr>
          <a:xfrm>
            <a:off x="2724840" y="3141720"/>
            <a:ext cx="220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一册厚厚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的书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4056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44035"/>
          <p:cNvGrpSpPr/>
          <p:nvPr/>
        </p:nvGrpSpPr>
        <p:grpSpPr>
          <a:xfrm>
            <a:off x="3203280" y="1846080"/>
            <a:ext cx="2808720" cy="2592720"/>
            <a:chOff x="3203280" y="1846080"/>
            <a:chExt cx="2808720" cy="2592720"/>
          </a:xfrm>
        </p:grpSpPr>
        <p:sp>
          <p:nvSpPr>
            <p:cNvPr id="70" name="矩形 44036"/>
            <p:cNvSpPr/>
            <p:nvPr/>
          </p:nvSpPr>
          <p:spPr>
            <a:xfrm>
              <a:off x="3203640" y="1846440"/>
              <a:ext cx="280836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03640" y="1846440"/>
              <a:ext cx="2808360" cy="2592360"/>
              <a:chOff x="3203640" y="1846440"/>
              <a:chExt cx="2808360" cy="2592360"/>
            </a:xfrm>
          </p:grpSpPr>
          <p:sp>
            <p:nvSpPr>
              <p:cNvPr id="72" name="直接连接符 44037"/>
              <p:cNvSpPr/>
              <p:nvPr/>
            </p:nvSpPr>
            <p:spPr>
              <a:xfrm>
                <a:off x="3203640" y="1846440"/>
                <a:ext cx="2808360" cy="25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3203640" y="1846440"/>
                <a:ext cx="280836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203280" y="3141360"/>
              <a:ext cx="2808720" cy="360"/>
              <a:chOff x="3203280" y="3141360"/>
              <a:chExt cx="2808720" cy="360"/>
            </a:xfrm>
          </p:grpSpPr>
          <p:sp>
            <p:nvSpPr>
              <p:cNvPr id="75" name="直接连接符 44038"/>
              <p:cNvSpPr/>
              <p:nvPr/>
            </p:nvSpPr>
            <p:spPr>
              <a:xfrm>
                <a:off x="3203640" y="3141720"/>
                <a:ext cx="2808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 rot="10800000">
                <a:off x="3203280" y="314136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203280" y="1846080"/>
              <a:ext cx="2808720" cy="2592360"/>
              <a:chOff x="3203280" y="1846080"/>
              <a:chExt cx="2808720" cy="2592360"/>
            </a:xfrm>
          </p:grpSpPr>
          <p:sp>
            <p:nvSpPr>
              <p:cNvPr id="78" name="直接连接符 44039"/>
              <p:cNvSpPr/>
              <p:nvPr/>
            </p:nvSpPr>
            <p:spPr>
              <a:xfrm flipV="1">
                <a:off x="3203640" y="1846080"/>
                <a:ext cx="2808360" cy="25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 rot="10800000">
                <a:off x="3203280" y="1845720"/>
                <a:ext cx="280836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614840" y="1846440"/>
              <a:ext cx="360" cy="2590560"/>
              <a:chOff x="4614840" y="1846440"/>
              <a:chExt cx="360" cy="2590560"/>
            </a:xfrm>
          </p:grpSpPr>
          <p:sp>
            <p:nvSpPr>
              <p:cNvPr id="81" name="直接连接符 44040"/>
              <p:cNvSpPr/>
              <p:nvPr/>
            </p:nvSpPr>
            <p:spPr>
              <a:xfrm>
                <a:off x="4614840" y="1846440"/>
                <a:ext cx="0" cy="2590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4614840" y="1846440"/>
                <a:ext cx="360" cy="25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83" name="文本框 44041"/>
          <p:cNvSpPr/>
          <p:nvPr/>
        </p:nvSpPr>
        <p:spPr>
          <a:xfrm>
            <a:off x="3382920" y="1441440"/>
            <a:ext cx="239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楷体_GB2312"/>
              </a:rPr>
              <a:t>册</a:t>
            </a:r>
            <a:endParaRPr b="0" lang="en-US" sz="20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4" name="组合 44042"/>
          <p:cNvGrpSpPr/>
          <p:nvPr/>
        </p:nvGrpSpPr>
        <p:grpSpPr>
          <a:xfrm>
            <a:off x="250560" y="1846080"/>
            <a:ext cx="2808720" cy="2592720"/>
            <a:chOff x="250560" y="1846080"/>
            <a:chExt cx="2808720" cy="2592720"/>
          </a:xfrm>
        </p:grpSpPr>
        <p:sp>
          <p:nvSpPr>
            <p:cNvPr id="85" name="矩形 44043"/>
            <p:cNvSpPr/>
            <p:nvPr/>
          </p:nvSpPr>
          <p:spPr>
            <a:xfrm>
              <a:off x="250920" y="1846440"/>
              <a:ext cx="280836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50920" y="1846440"/>
              <a:ext cx="2808360" cy="2592360"/>
              <a:chOff x="250920" y="1846440"/>
              <a:chExt cx="2808360" cy="2592360"/>
            </a:xfrm>
          </p:grpSpPr>
          <p:sp>
            <p:nvSpPr>
              <p:cNvPr id="87" name="直接连接符 44044"/>
              <p:cNvSpPr/>
              <p:nvPr/>
            </p:nvSpPr>
            <p:spPr>
              <a:xfrm>
                <a:off x="250920" y="1846440"/>
                <a:ext cx="2808360" cy="25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250920" y="1846440"/>
                <a:ext cx="280836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50560" y="3141360"/>
              <a:ext cx="2808720" cy="360"/>
              <a:chOff x="250560" y="3141360"/>
              <a:chExt cx="2808720" cy="360"/>
            </a:xfrm>
          </p:grpSpPr>
          <p:sp>
            <p:nvSpPr>
              <p:cNvPr id="90" name="直接连接符 44045"/>
              <p:cNvSpPr/>
              <p:nvPr/>
            </p:nvSpPr>
            <p:spPr>
              <a:xfrm>
                <a:off x="250920" y="3141720"/>
                <a:ext cx="2808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 rot="10800000">
                <a:off x="250560" y="314136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50560" y="1846080"/>
              <a:ext cx="2808720" cy="2592360"/>
              <a:chOff x="250560" y="1846080"/>
              <a:chExt cx="2808720" cy="2592360"/>
            </a:xfrm>
          </p:grpSpPr>
          <p:sp>
            <p:nvSpPr>
              <p:cNvPr id="93" name="直接连接符 44046"/>
              <p:cNvSpPr/>
              <p:nvPr/>
            </p:nvSpPr>
            <p:spPr>
              <a:xfrm flipV="1">
                <a:off x="250920" y="1846080"/>
                <a:ext cx="2808360" cy="25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 rot="10800000">
                <a:off x="250560" y="1845720"/>
                <a:ext cx="280836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662120" y="1846440"/>
              <a:ext cx="360" cy="2590560"/>
              <a:chOff x="1662120" y="1846440"/>
              <a:chExt cx="360" cy="2590560"/>
            </a:xfrm>
          </p:grpSpPr>
          <p:sp>
            <p:nvSpPr>
              <p:cNvPr id="96" name="直接连接符 44047"/>
              <p:cNvSpPr/>
              <p:nvPr/>
            </p:nvSpPr>
            <p:spPr>
              <a:xfrm>
                <a:off x="1662120" y="1846440"/>
                <a:ext cx="0" cy="2590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662120" y="1846440"/>
                <a:ext cx="360" cy="25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98" name="文本框 44048"/>
          <p:cNvSpPr/>
          <p:nvPr/>
        </p:nvSpPr>
        <p:spPr>
          <a:xfrm>
            <a:off x="501480" y="1413000"/>
            <a:ext cx="239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楷体_GB2312"/>
              </a:rPr>
              <a:t>岩</a:t>
            </a:r>
            <a:endParaRPr b="0" lang="en-US" sz="20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" name="组合 44049"/>
          <p:cNvGrpSpPr/>
          <p:nvPr/>
        </p:nvGrpSpPr>
        <p:grpSpPr>
          <a:xfrm>
            <a:off x="6156000" y="1846080"/>
            <a:ext cx="2808720" cy="2592720"/>
            <a:chOff x="6156000" y="1846080"/>
            <a:chExt cx="2808720" cy="2592720"/>
          </a:xfrm>
        </p:grpSpPr>
        <p:sp>
          <p:nvSpPr>
            <p:cNvPr id="100" name="矩形 44050"/>
            <p:cNvSpPr/>
            <p:nvPr/>
          </p:nvSpPr>
          <p:spPr>
            <a:xfrm>
              <a:off x="6156360" y="1846440"/>
              <a:ext cx="280836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6156360" y="1846440"/>
              <a:ext cx="2808360" cy="2592360"/>
              <a:chOff x="6156360" y="1846440"/>
              <a:chExt cx="2808360" cy="2592360"/>
            </a:xfrm>
          </p:grpSpPr>
          <p:sp>
            <p:nvSpPr>
              <p:cNvPr id="102" name="直接连接符 44051"/>
              <p:cNvSpPr/>
              <p:nvPr/>
            </p:nvSpPr>
            <p:spPr>
              <a:xfrm>
                <a:off x="6156360" y="1846440"/>
                <a:ext cx="2808360" cy="25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6156360" y="1846440"/>
                <a:ext cx="280836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56000" y="3141360"/>
              <a:ext cx="2808720" cy="360"/>
              <a:chOff x="6156000" y="3141360"/>
              <a:chExt cx="2808720" cy="360"/>
            </a:xfrm>
          </p:grpSpPr>
          <p:sp>
            <p:nvSpPr>
              <p:cNvPr id="105" name="直接连接符 44052"/>
              <p:cNvSpPr/>
              <p:nvPr/>
            </p:nvSpPr>
            <p:spPr>
              <a:xfrm>
                <a:off x="6156360" y="3141720"/>
                <a:ext cx="2808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 rot="10800000">
                <a:off x="6156000" y="314136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156000" y="1846080"/>
              <a:ext cx="2808720" cy="2592360"/>
              <a:chOff x="6156000" y="1846080"/>
              <a:chExt cx="2808720" cy="2592360"/>
            </a:xfrm>
          </p:grpSpPr>
          <p:sp>
            <p:nvSpPr>
              <p:cNvPr id="108" name="直接连接符 44053"/>
              <p:cNvSpPr/>
              <p:nvPr/>
            </p:nvSpPr>
            <p:spPr>
              <a:xfrm flipV="1">
                <a:off x="6156360" y="1846080"/>
                <a:ext cx="2808360" cy="25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 rot="10800000">
                <a:off x="6156000" y="1845720"/>
                <a:ext cx="280836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567560" y="1846440"/>
              <a:ext cx="360" cy="2590560"/>
              <a:chOff x="7567560" y="1846440"/>
              <a:chExt cx="360" cy="2590560"/>
            </a:xfrm>
          </p:grpSpPr>
          <p:sp>
            <p:nvSpPr>
              <p:cNvPr id="111" name="直接连接符 44054"/>
              <p:cNvSpPr/>
              <p:nvPr/>
            </p:nvSpPr>
            <p:spPr>
              <a:xfrm>
                <a:off x="7567560" y="1846440"/>
                <a:ext cx="0" cy="2590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7567560" y="1846440"/>
                <a:ext cx="360" cy="25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13" name="文本框 44055"/>
          <p:cNvSpPr/>
          <p:nvPr/>
        </p:nvSpPr>
        <p:spPr>
          <a:xfrm>
            <a:off x="6335640" y="1368360"/>
            <a:ext cx="239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楷体_GB2312"/>
              </a:rPr>
              <a:t>厚</a:t>
            </a:r>
            <a:endParaRPr b="0" lang="en-US" sz="20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5060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45059"/>
          <p:cNvSpPr/>
          <p:nvPr/>
        </p:nvSpPr>
        <p:spPr>
          <a:xfrm>
            <a:off x="684360" y="981000"/>
            <a:ext cx="8126280" cy="37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叔叔，您在看什么？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我在看‘书’呢！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哪里有书啊？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</a:rPr>
              <a:t>岩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石就是书啊！你看，这岩石一层一层的，不就像一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</a:rPr>
              <a:t>册厚厚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</a:rPr>
              <a:t>的书吗？”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41985" descr="图片1_副本"/>
          <p:cNvPicPr/>
          <p:nvPr/>
        </p:nvPicPr>
        <p:blipFill>
          <a:blip r:embed="rId1"/>
          <a:stretch/>
        </p:blipFill>
        <p:spPr>
          <a:xfrm>
            <a:off x="0" y="0"/>
            <a:ext cx="4799160" cy="686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41991"/>
          <p:cNvGrpSpPr/>
          <p:nvPr/>
        </p:nvGrpSpPr>
        <p:grpSpPr>
          <a:xfrm>
            <a:off x="4859280" y="2708280"/>
            <a:ext cx="7561440" cy="2348280"/>
            <a:chOff x="4859280" y="2708280"/>
            <a:chExt cx="7561440" cy="2348280"/>
          </a:xfrm>
        </p:grpSpPr>
        <p:sp>
          <p:nvSpPr>
            <p:cNvPr id="118" name="矩形 41989"/>
            <p:cNvSpPr/>
            <p:nvPr/>
          </p:nvSpPr>
          <p:spPr>
            <a:xfrm>
              <a:off x="4859280" y="2708280"/>
              <a:ext cx="7561440" cy="23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读书要求：</a:t>
              </a: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请默读课文</a:t>
              </a: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</a:rPr>
                <a:t>5-11</a:t>
              </a: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段，把川川提的问题</a:t>
              </a: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用       画出来。</a:t>
              </a: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364000" y="4869000"/>
              <a:ext cx="1440000" cy="360"/>
              <a:chOff x="5364000" y="4869000"/>
              <a:chExt cx="1440000" cy="360"/>
            </a:xfrm>
          </p:grpSpPr>
          <p:sp>
            <p:nvSpPr>
              <p:cNvPr id="120" name="直接连接符 41990"/>
              <p:cNvSpPr/>
              <p:nvPr/>
            </p:nvSpPr>
            <p:spPr>
              <a:xfrm>
                <a:off x="5364000" y="486900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5364000" y="48690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22" name="矩形 41992"/>
          <p:cNvSpPr/>
          <p:nvPr/>
        </p:nvSpPr>
        <p:spPr>
          <a:xfrm>
            <a:off x="971640" y="13464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一位地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质勘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探队员，正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趴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在一块大石头上看着什么。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文本框 41995"/>
          <p:cNvSpPr/>
          <p:nvPr/>
        </p:nvSpPr>
        <p:spPr>
          <a:xfrm>
            <a:off x="3547440" y="549360"/>
            <a:ext cx="25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ì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kan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文本框 42002"/>
          <p:cNvSpPr/>
          <p:nvPr/>
        </p:nvSpPr>
        <p:spPr>
          <a:xfrm>
            <a:off x="7945560" y="476280"/>
            <a:ext cx="14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Dotum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677440" y="620640"/>
            <a:ext cx="215640" cy="360"/>
            <a:chOff x="8677440" y="620640"/>
            <a:chExt cx="215640" cy="360"/>
          </a:xfrm>
        </p:grpSpPr>
        <p:sp>
          <p:nvSpPr>
            <p:cNvPr id="126" name="直接连接符 42003"/>
            <p:cNvSpPr/>
            <p:nvPr/>
          </p:nvSpPr>
          <p:spPr>
            <a:xfrm>
              <a:off x="8677440" y="6206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8677440" y="620640"/>
              <a:ext cx="21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48360" y="692280"/>
            <a:ext cx="215640" cy="360"/>
            <a:chOff x="5148360" y="692280"/>
            <a:chExt cx="215640" cy="360"/>
          </a:xfrm>
        </p:grpSpPr>
        <p:sp>
          <p:nvSpPr>
            <p:cNvPr id="129" name="直接连接符 42005"/>
            <p:cNvSpPr/>
            <p:nvPr/>
          </p:nvSpPr>
          <p:spPr>
            <a:xfrm>
              <a:off x="5148360" y="6922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148360" y="692280"/>
              <a:ext cx="21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33796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33795"/>
          <p:cNvSpPr/>
          <p:nvPr/>
        </p:nvSpPr>
        <p:spPr>
          <a:xfrm>
            <a:off x="539640" y="333360"/>
            <a:ext cx="88520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川川认真地问：“这上面有字吗？”</a:t>
            </a:r>
            <a:endParaRPr b="0" lang="en-US" sz="39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川川又问：“这上面有图画吗？”</a:t>
            </a:r>
            <a:endParaRPr b="0" lang="en-US" sz="39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  “</a:t>
            </a: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这能说明什么呢？”</a:t>
            </a:r>
            <a:endParaRPr b="0" lang="en-US" sz="39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  “</a:t>
            </a: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读了这本岩石书有什么用呢？”川</a:t>
            </a:r>
            <a:endParaRPr b="0" lang="en-US" sz="39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川总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刨</a:t>
            </a: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根问</a:t>
            </a:r>
            <a:r>
              <a:rPr b="0" lang="zh-CN" sz="3900" spc="-1" strike="noStrike">
                <a:solidFill>
                  <a:srgbClr val="ff0000"/>
                </a:solidFill>
                <a:latin typeface="楷体_GB2312"/>
              </a:rPr>
              <a:t>底</a:t>
            </a:r>
            <a:r>
              <a:rPr b="0" lang="zh-CN" sz="39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文本框 33797"/>
          <p:cNvSpPr/>
          <p:nvPr/>
        </p:nvSpPr>
        <p:spPr>
          <a:xfrm>
            <a:off x="1692360" y="407664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泡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饱  跑  抱  袍  炮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刨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5876" descr="题-1"/>
          <p:cNvPicPr/>
          <p:nvPr/>
        </p:nvPicPr>
        <p:blipFill>
          <a:blip r:embed="rId1"/>
          <a:stretch/>
        </p:blipFill>
        <p:spPr>
          <a:xfrm>
            <a:off x="0" y="11160"/>
            <a:ext cx="1515960" cy="68468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35841"/>
          <p:cNvSpPr/>
          <p:nvPr/>
        </p:nvSpPr>
        <p:spPr>
          <a:xfrm>
            <a:off x="2336760" y="189000"/>
            <a:ext cx="281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刨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根问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</a:rPr>
              <a:t>底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929120" y="692280"/>
            <a:ext cx="792360" cy="360"/>
            <a:chOff x="4929120" y="692280"/>
            <a:chExt cx="792360" cy="360"/>
          </a:xfrm>
        </p:grpSpPr>
        <p:sp>
          <p:nvSpPr>
            <p:cNvPr id="137" name="直接连接符 35844"/>
            <p:cNvSpPr/>
            <p:nvPr/>
          </p:nvSpPr>
          <p:spPr>
            <a:xfrm>
              <a:off x="4929120" y="69228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929120" y="69228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9" name="文本框 35845"/>
          <p:cNvSpPr/>
          <p:nvPr/>
        </p:nvSpPr>
        <p:spPr>
          <a:xfrm>
            <a:off x="5646600" y="18900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文本框 35846"/>
          <p:cNvSpPr/>
          <p:nvPr/>
        </p:nvSpPr>
        <p:spPr>
          <a:xfrm>
            <a:off x="3754800" y="1341360"/>
            <a:ext cx="2567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选字填空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、小红不好意思地（    ）下了头。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、夏天，人们都在树荫（    ）下乘凉。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矩形 35848"/>
          <p:cNvSpPr/>
          <p:nvPr/>
        </p:nvSpPr>
        <p:spPr>
          <a:xfrm>
            <a:off x="826920" y="3573360"/>
            <a:ext cx="273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组合 35879"/>
          <p:cNvGrpSpPr/>
          <p:nvPr/>
        </p:nvGrpSpPr>
        <p:grpSpPr>
          <a:xfrm>
            <a:off x="1618920" y="2924280"/>
            <a:ext cx="2808720" cy="3142080"/>
            <a:chOff x="1618920" y="2924280"/>
            <a:chExt cx="2808720" cy="3142080"/>
          </a:xfrm>
        </p:grpSpPr>
        <p:grpSp>
          <p:nvGrpSpPr>
            <p:cNvPr id="143" name="组合 35867"/>
            <p:cNvGrpSpPr/>
            <p:nvPr/>
          </p:nvGrpSpPr>
          <p:grpSpPr>
            <a:xfrm>
              <a:off x="1618920" y="3357360"/>
              <a:ext cx="2808720" cy="2592720"/>
              <a:chOff x="1618920" y="3357360"/>
              <a:chExt cx="2808720" cy="2592720"/>
            </a:xfrm>
          </p:grpSpPr>
          <p:sp>
            <p:nvSpPr>
              <p:cNvPr id="144" name="矩形 35862"/>
              <p:cNvSpPr/>
              <p:nvPr/>
            </p:nvSpPr>
            <p:spPr>
              <a:xfrm>
                <a:off x="1619280" y="3357720"/>
                <a:ext cx="2808360" cy="25923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619280" y="3357720"/>
                <a:ext cx="2808360" cy="2592360"/>
                <a:chOff x="1619280" y="3357720"/>
                <a:chExt cx="2808360" cy="2592360"/>
              </a:xfrm>
            </p:grpSpPr>
            <p:sp>
              <p:nvSpPr>
                <p:cNvPr id="146" name="直接连接符 35863"/>
                <p:cNvSpPr/>
                <p:nvPr/>
              </p:nvSpPr>
              <p:spPr>
                <a:xfrm>
                  <a:off x="1619280" y="3357720"/>
                  <a:ext cx="2808360" cy="2592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7" name=""/>
                <p:cNvSpPr txBox="1"/>
                <p:nvPr/>
              </p:nvSpPr>
              <p:spPr>
                <a:xfrm>
                  <a:off x="1619280" y="3357720"/>
                  <a:ext cx="2808360" cy="25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618920" y="4652640"/>
                <a:ext cx="2808720" cy="360"/>
                <a:chOff x="1618920" y="4652640"/>
                <a:chExt cx="2808720" cy="360"/>
              </a:xfrm>
            </p:grpSpPr>
            <p:sp>
              <p:nvSpPr>
                <p:cNvPr id="149" name="直接连接符 35864"/>
                <p:cNvSpPr/>
                <p:nvPr/>
              </p:nvSpPr>
              <p:spPr>
                <a:xfrm>
                  <a:off x="1619280" y="4653000"/>
                  <a:ext cx="2808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0" name=""/>
                <p:cNvSpPr txBox="1"/>
                <p:nvPr/>
              </p:nvSpPr>
              <p:spPr>
                <a:xfrm rot="10800000">
                  <a:off x="1618920" y="4652640"/>
                  <a:ext cx="2808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618920" y="3357360"/>
                <a:ext cx="2808720" cy="2592360"/>
                <a:chOff x="1618920" y="3357360"/>
                <a:chExt cx="2808720" cy="2592360"/>
              </a:xfrm>
            </p:grpSpPr>
            <p:sp>
              <p:nvSpPr>
                <p:cNvPr id="152" name="直接连接符 35865"/>
                <p:cNvSpPr/>
                <p:nvPr/>
              </p:nvSpPr>
              <p:spPr>
                <a:xfrm flipV="1">
                  <a:off x="1619280" y="3357360"/>
                  <a:ext cx="2808360" cy="2592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3" name=""/>
                <p:cNvSpPr txBox="1"/>
                <p:nvPr/>
              </p:nvSpPr>
              <p:spPr>
                <a:xfrm rot="10800000">
                  <a:off x="1618920" y="3357360"/>
                  <a:ext cx="2808360" cy="25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030480" y="3357720"/>
                <a:ext cx="360" cy="2590560"/>
                <a:chOff x="3030480" y="3357720"/>
                <a:chExt cx="360" cy="2590560"/>
              </a:xfrm>
            </p:grpSpPr>
            <p:sp>
              <p:nvSpPr>
                <p:cNvPr id="155" name="直接连接符 35866"/>
                <p:cNvSpPr/>
                <p:nvPr/>
              </p:nvSpPr>
              <p:spPr>
                <a:xfrm>
                  <a:off x="3030480" y="3357720"/>
                  <a:ext cx="0" cy="2590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6" name=""/>
                <p:cNvSpPr txBox="1"/>
                <p:nvPr/>
              </p:nvSpPr>
              <p:spPr>
                <a:xfrm>
                  <a:off x="3030480" y="3357720"/>
                  <a:ext cx="360" cy="25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57" name="文本框 35874"/>
            <p:cNvSpPr/>
            <p:nvPr/>
          </p:nvSpPr>
          <p:spPr>
            <a:xfrm>
              <a:off x="1798560" y="2924280"/>
              <a:ext cx="23907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0" spc="-1" strike="noStrike">
                  <a:solidFill>
                    <a:srgbClr val="000000"/>
                  </a:solidFill>
                  <a:latin typeface="楷体_GB2312"/>
                </a:rPr>
                <a:t>刨</a:t>
              </a:r>
              <a:endParaRPr b="0" lang="en-US" sz="20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8" name="组合 35880"/>
          <p:cNvGrpSpPr/>
          <p:nvPr/>
        </p:nvGrpSpPr>
        <p:grpSpPr>
          <a:xfrm>
            <a:off x="5003280" y="2852640"/>
            <a:ext cx="2808720" cy="3142080"/>
            <a:chOff x="5003280" y="2852640"/>
            <a:chExt cx="2808720" cy="3142080"/>
          </a:xfrm>
        </p:grpSpPr>
        <p:grpSp>
          <p:nvGrpSpPr>
            <p:cNvPr id="159" name="组合 35868"/>
            <p:cNvGrpSpPr/>
            <p:nvPr/>
          </p:nvGrpSpPr>
          <p:grpSpPr>
            <a:xfrm>
              <a:off x="5003280" y="3357360"/>
              <a:ext cx="2808720" cy="2592720"/>
              <a:chOff x="5003280" y="3357360"/>
              <a:chExt cx="2808720" cy="2592720"/>
            </a:xfrm>
          </p:grpSpPr>
          <p:sp>
            <p:nvSpPr>
              <p:cNvPr id="160" name="矩形 35869"/>
              <p:cNvSpPr/>
              <p:nvPr/>
            </p:nvSpPr>
            <p:spPr>
              <a:xfrm>
                <a:off x="5003640" y="3357720"/>
                <a:ext cx="2808360" cy="25923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5003640" y="3357720"/>
                <a:ext cx="2808360" cy="2592360"/>
                <a:chOff x="5003640" y="3357720"/>
                <a:chExt cx="2808360" cy="2592360"/>
              </a:xfrm>
            </p:grpSpPr>
            <p:sp>
              <p:nvSpPr>
                <p:cNvPr id="162" name="直接连接符 35870"/>
                <p:cNvSpPr/>
                <p:nvPr/>
              </p:nvSpPr>
              <p:spPr>
                <a:xfrm>
                  <a:off x="5003640" y="3357720"/>
                  <a:ext cx="2808360" cy="2592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5003640" y="3357720"/>
                  <a:ext cx="2808360" cy="25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003280" y="4652640"/>
                <a:ext cx="2808720" cy="360"/>
                <a:chOff x="5003280" y="4652640"/>
                <a:chExt cx="2808720" cy="360"/>
              </a:xfrm>
            </p:grpSpPr>
            <p:sp>
              <p:nvSpPr>
                <p:cNvPr id="165" name="直接连接符 35871"/>
                <p:cNvSpPr/>
                <p:nvPr/>
              </p:nvSpPr>
              <p:spPr>
                <a:xfrm>
                  <a:off x="5003640" y="4653000"/>
                  <a:ext cx="2808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 rot="10800000">
                  <a:off x="5003280" y="4652640"/>
                  <a:ext cx="2808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003280" y="3357360"/>
                <a:ext cx="2808720" cy="2592360"/>
                <a:chOff x="5003280" y="3357360"/>
                <a:chExt cx="2808720" cy="2592360"/>
              </a:xfrm>
            </p:grpSpPr>
            <p:sp>
              <p:nvSpPr>
                <p:cNvPr id="168" name="直接连接符 35872"/>
                <p:cNvSpPr/>
                <p:nvPr/>
              </p:nvSpPr>
              <p:spPr>
                <a:xfrm flipV="1">
                  <a:off x="5003640" y="3357360"/>
                  <a:ext cx="2808360" cy="2592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 rot="10800000">
                  <a:off x="5003280" y="3357360"/>
                  <a:ext cx="2808360" cy="25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414840" y="3357720"/>
                <a:ext cx="360" cy="2590560"/>
                <a:chOff x="6414840" y="3357720"/>
                <a:chExt cx="360" cy="2590560"/>
              </a:xfrm>
            </p:grpSpPr>
            <p:sp>
              <p:nvSpPr>
                <p:cNvPr id="171" name="直接连接符 35873"/>
                <p:cNvSpPr/>
                <p:nvPr/>
              </p:nvSpPr>
              <p:spPr>
                <a:xfrm>
                  <a:off x="6414840" y="3357720"/>
                  <a:ext cx="0" cy="2590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6414840" y="3357720"/>
                  <a:ext cx="360" cy="259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73" name="文本框 35875"/>
            <p:cNvSpPr/>
            <p:nvPr/>
          </p:nvSpPr>
          <p:spPr>
            <a:xfrm>
              <a:off x="5183280" y="2852640"/>
              <a:ext cx="23907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0" spc="-1" strike="noStrike">
                  <a:solidFill>
                    <a:srgbClr val="000000"/>
                  </a:solidFill>
                  <a:latin typeface="楷体_GB2312"/>
                </a:rPr>
                <a:t>底</a:t>
              </a:r>
              <a:endParaRPr b="0" lang="en-US" sz="20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4" name="文本框 35877"/>
          <p:cNvSpPr/>
          <p:nvPr/>
        </p:nvSpPr>
        <p:spPr>
          <a:xfrm>
            <a:off x="4929120" y="170028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文本框 35878"/>
          <p:cNvSpPr/>
          <p:nvPr/>
        </p:nvSpPr>
        <p:spPr>
          <a:xfrm>
            <a:off x="5721120" y="2349360"/>
            <a:ext cx="12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底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9:43:20Z</dcterms:created>
  <dc:creator/>
  <dc:description/>
  <dc:language>en-US</dc:language>
  <cp:lastModifiedBy>user</cp:lastModifiedBy>
  <dcterms:modified xsi:type="dcterms:W3CDTF">2016-04-08T01:54:04Z</dcterms:modified>
  <cp:revision>69</cp:revision>
  <dc:subject/>
  <dc:title>最大的“书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