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小学资源网logo"/>
          <p:cNvPicPr/>
          <p:nvPr/>
        </p:nvPicPr>
        <p:blipFill>
          <a:blip r:embed="rId3"/>
          <a:stretch/>
        </p:blipFill>
        <p:spPr>
          <a:xfrm>
            <a:off x="7632720" y="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小学资源网logo"/>
          <p:cNvPicPr/>
          <p:nvPr/>
        </p:nvPicPr>
        <p:blipFill>
          <a:blip r:embed="rId4"/>
          <a:stretch/>
        </p:blipFill>
        <p:spPr>
          <a:xfrm>
            <a:off x="7632720" y="0"/>
            <a:ext cx="1511280" cy="72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动脑筋的帕斯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有一次，帕斯卡听到                           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他想：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要是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                                 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于是他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一边                      一边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    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他发现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只要                          就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原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Line 4"/>
          <p:cNvSpPr/>
          <p:nvPr/>
        </p:nvSpPr>
        <p:spPr>
          <a:xfrm>
            <a:off x="5219640" y="206064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5"/>
          <p:cNvSpPr/>
          <p:nvPr/>
        </p:nvSpPr>
        <p:spPr>
          <a:xfrm>
            <a:off x="1619280" y="270828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1835280" y="3357720"/>
            <a:ext cx="61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>
            <a:off x="1835280" y="4005360"/>
            <a:ext cx="61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9"/>
          <p:cNvSpPr/>
          <p:nvPr/>
        </p:nvSpPr>
        <p:spPr>
          <a:xfrm>
            <a:off x="1476360" y="4581360"/>
            <a:ext cx="65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0"/>
          <p:cNvSpPr/>
          <p:nvPr/>
        </p:nvSpPr>
        <p:spPr>
          <a:xfrm>
            <a:off x="539640" y="5229360"/>
            <a:ext cx="511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940360" y="5084640"/>
            <a:ext cx="71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228600" y="304920"/>
            <a:ext cx="70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回顾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752480" y="53352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帕斯卡听到厨房的叮当声提出了什么问题？经过自己的钻研找到了什么答案？找出有关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20050723113232537"/>
          <p:cNvPicPr/>
          <p:nvPr/>
        </p:nvPicPr>
        <p:blipFill>
          <a:blip r:embed="rId1"/>
          <a:stretch/>
        </p:blipFill>
        <p:spPr>
          <a:xfrm>
            <a:off x="1523880" y="2286000"/>
            <a:ext cx="609624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755640" y="1141560"/>
            <a:ext cx="7632720" cy="41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帕斯卡听到（              ），他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                  ），接着，他动手开始自己操作：他（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发现（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，实验证明：（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611280" y="3381480"/>
            <a:ext cx="784836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               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原来发声最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紧的是振动，不是敲打。打击停止了，只要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停止，还能发出声音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826920" y="2349360"/>
            <a:ext cx="831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盘子被敲打后，声音持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了好长一段时间，但只要用手一按盘子边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就立刻停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5640" y="1989000"/>
            <a:ext cx="92170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               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边做实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边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3852720" y="1125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敲打盘子的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1116000" y="1557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离开盘子后，声音为什么不马上消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684360" y="476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611280" y="12535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抢读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304920" y="2439360"/>
            <a:ext cx="85341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学家   思考   消失   实验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    探索    发明   创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611280" y="12535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539640" y="2774520"/>
            <a:ext cx="82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句式，说说帕斯卡为什么能发现声学的振动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228600" y="144792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帕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拍（  ）怕（  ）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（  ）迫（  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755640" y="836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换部首组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55280" y="436536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国大数学家、物理学家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帕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斯卡，小时候不但喜欢问个为什么，还特别喜欢自己去钻研找出问题的答案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4" descr="c2bce20398ce78b5d53f7c6d"/>
          <p:cNvPicPr/>
          <p:nvPr/>
        </p:nvPicPr>
        <p:blipFill>
          <a:blip r:embed="rId1"/>
          <a:stretch/>
        </p:blipFill>
        <p:spPr>
          <a:xfrm>
            <a:off x="2916360" y="260280"/>
            <a:ext cx="3351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法国大数学家、物理学家帕斯卡，小时候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不但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喜欢问个为什么，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还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特别喜欢自己去钻研，找出问题的答案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755640" y="2852640"/>
            <a:ext cx="7632720" cy="792360"/>
            <a:chOff x="755640" y="2852640"/>
            <a:chExt cx="7632720" cy="792360"/>
          </a:xfrm>
        </p:grpSpPr>
        <p:sp>
          <p:nvSpPr>
            <p:cNvPr id="443" name="Line 4"/>
            <p:cNvSpPr/>
            <p:nvPr/>
          </p:nvSpPr>
          <p:spPr>
            <a:xfrm>
              <a:off x="305928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"/>
            <p:cNvSpPr/>
            <p:nvPr/>
          </p:nvSpPr>
          <p:spPr>
            <a:xfrm>
              <a:off x="7093080" y="28526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6"/>
            <p:cNvSpPr/>
            <p:nvPr/>
          </p:nvSpPr>
          <p:spPr>
            <a:xfrm>
              <a:off x="755640" y="364500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8"/>
          <p:cNvSpPr/>
          <p:nvPr/>
        </p:nvSpPr>
        <p:spPr>
          <a:xfrm>
            <a:off x="806400" y="5068800"/>
            <a:ext cx="34351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而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还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1234800" y="407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递进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中介绍帕斯卡发现了一个什么问题？他找到的答案又是什么呢？请大家带着问题四人小组自学课文，分别用直线、浪线划出有关内容。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刀离开盘子以后，声音不马上消失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声最要紧的是振动，不是敲打。打击停止了，只要振动不停止，还能发出声音来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帕斯卡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实验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，找到了问题的答案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5610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帕斯卡是如何找到这个问题的答案的呢？请你将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多读几遍，要一字不差地把它读清楚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他发现盘子被敲打后，声音持续了好长一段时间，但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只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用手一按盘子边，声音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就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立刻停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帕斯卡高兴地发现，原来发声最要紧的是振动，不是敲打。打击停止了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不停止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发出声音来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Administrator</cp:lastModifiedBy>
  <dcterms:modified xsi:type="dcterms:W3CDTF">2016-12-11T03:49:44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