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小学资源网logo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小学资源网logo"/>
          <p:cNvPicPr/>
          <p:nvPr/>
        </p:nvPicPr>
        <p:blipFill>
          <a:blip r:embed="rId3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阿凡提"/>
          <p:cNvPicPr/>
          <p:nvPr/>
        </p:nvPicPr>
        <p:blipFill>
          <a:blip r:embed="rId1"/>
          <a:stretch/>
        </p:blipFill>
        <p:spPr>
          <a:xfrm>
            <a:off x="1835280" y="333360"/>
            <a:ext cx="5041800" cy="41752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1116000" y="4869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帮助人是光荣的事情，也是快乐的事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_2cd1b8b9a76829128eb76c34de71c47925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"/>
          <p:cNvSpPr/>
          <p:nvPr/>
        </p:nvSpPr>
        <p:spPr>
          <a:xfrm>
            <a:off x="17928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个穷人来找阿凡提，恳求说：“可敬的阿凡提，我想求您一件事情，不知道您肯不肯帮忙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25092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帮助人是光荣的事情，也是快乐的事情，你说吧。”阿凡提爽快地答应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179280" y="19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！”穷人长长地叹了一口气说，“咱们穷人日子真难熬哇！昨天，我在巴依开的一家饭馆门口站了一站，巴依说我吃了他饭菜的香味，逼我付饭钱。我当然不给，他就到卡子那儿告我。卡子决定今天判决。您能为我说几句公道话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179280" y="4149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，行！”阿凡提一口答应下来，就陪着穷人去见卡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楷体"/>
              </a:rPr>
              <a:t>穷人请阿凡提（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780000" y="5013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帮他说几句公道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780000" y="5013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帮他说几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楷体"/>
              </a:rPr>
              <a:t>公道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s_2cd1b8b9a76829128eb76c34de71c47925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39528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昨天，我在巴依开的一家饭馆门口站了一站，巴依说我吃了他饭菜的香味，逼我付饭钱。我当然不给，他就到卡子那儿告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179280" y="26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穷人遇到了什么不公正的待遇呢？快速读读课文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1</a:t>
            </a:r>
            <a:r>
              <a:rPr b="1" lang="en-US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——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节，用横线划出相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200712713245153_2"/>
          <p:cNvPicPr/>
          <p:nvPr/>
        </p:nvPicPr>
        <p:blipFill>
          <a:blip r:embed="rId1"/>
          <a:stretch/>
        </p:blipFill>
        <p:spPr>
          <a:xfrm>
            <a:off x="0" y="143028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3"/>
          <p:cNvSpPr/>
          <p:nvPr/>
        </p:nvSpPr>
        <p:spPr>
          <a:xfrm>
            <a:off x="3492360" y="76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  “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帮助人是光荣的事情，也是快乐的事情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s_2cd1b8b9a76829128eb76c34de71c47925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179280" y="1159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有一个穷人来找阿凡提，恳求说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可敬的阿凡提，我想求您一件事情，不知道您肯不肯帮忙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0920" y="1557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帮助人是光荣的事情，也是快乐的事情，你说吧。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阿凡提爽快地答应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79280" y="2565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！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穷人长长地叹了一口气说，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咱们穷人日子真难熬哇！昨天，我在巴依开的一家饭馆门口站了一站，巴依说我吃了他饭菜的香味，逼我付饭钱。我当然不给，他就到卡子那儿告我。卡子决定今天判决。您能为我说几句公道话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79280" y="5445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，行！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阿凡提一口答应下来，就陪着穷人去见卡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58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依早就到了，正在和卡子高兴地交谈着。卡子一看见穷人，就迫不及待地叫起来：“你吃了巴依饭菜的香味，怎么敢不付钱？快把钱付给巴依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0" y="306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巴依正在高兴地对卡子说：“</a:t>
            </a:r>
            <a:r>
              <a:rPr b="1" lang="zh-CN" sz="3200" spc="-1" strike="noStrike" u="sng">
                <a:solidFill>
                  <a:srgbClr val="c0504d"/>
                </a:solidFill>
                <a:uFillTx/>
                <a:latin typeface="华文楷体"/>
                <a:ea typeface="华文楷体"/>
              </a:rPr>
              <a:t>                       </a:t>
            </a:r>
            <a:r>
              <a:rPr b="1" lang="zh-CN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58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华文楷体"/>
                <a:ea typeface="华文楷体"/>
              </a:rPr>
              <a:t>巴依早就到了，正在和卡子高兴地交谈着。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卡子一看见穷人，就迫不及待地叫起来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你吃了巴依饭菜的香味，怎么敢不付钱？快把钱付给巴依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fm"/>
          <p:cNvPicPr/>
          <p:nvPr/>
        </p:nvPicPr>
        <p:blipFill>
          <a:blip r:embed="rId1"/>
          <a:srcRect l="0" t="58736" r="76321" b="20917"/>
          <a:stretch/>
        </p:blipFill>
        <p:spPr>
          <a:xfrm>
            <a:off x="1979640" y="4121280"/>
            <a:ext cx="4248000" cy="27367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7"/>
          <p:cNvSpPr/>
          <p:nvPr/>
        </p:nvSpPr>
        <p:spPr>
          <a:xfrm>
            <a:off x="358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依早就到了，正在和卡子高兴地交谈着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卡子一看见穷人，就迫不及待地叫起来：“你吃了巴依饭菜的香味，怎么敢不付钱？快把钱付给巴依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324000" y="189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阿凡提的公道话会有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250920" y="18900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轻声读课文</a:t>
            </a:r>
            <a:r>
              <a:rPr b="1" lang="en-US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5——9</a:t>
            </a:r>
            <a:r>
              <a:rPr b="1" lang="zh-CN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小节，思考：阿凡提是怎样把账结清的？用曲线划出相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华文楷体"/>
                <a:ea typeface="华文楷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79280" y="170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阿凡提从裤腰上取下一个小钱袋，举到巴依耳朵旁边摇了几下，问巴依：“你听见钱袋里响亮的声音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5148360" y="1700280"/>
            <a:ext cx="504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1187280" y="2276640"/>
            <a:ext cx="5050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4859280" y="2276640"/>
            <a:ext cx="504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"/>
          <p:cNvSpPr/>
          <p:nvPr/>
        </p:nvSpPr>
        <p:spPr>
          <a:xfrm>
            <a:off x="7093080" y="2276640"/>
            <a:ext cx="504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519120" y="155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0" y="54936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什么？啊，听到了，听到了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巴依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0" y="1773360"/>
            <a:ext cx="92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华文楷体"/>
                <a:ea typeface="华文楷体"/>
              </a:rPr>
              <a:t>  “</a:t>
            </a:r>
            <a:r>
              <a:rPr b="1" lang="zh-CN" sz="2800" spc="-1" strike="noStrike">
                <a:solidFill>
                  <a:srgbClr val="c0504d"/>
                </a:solidFill>
                <a:latin typeface="华文楷体"/>
                <a:ea typeface="华文楷体"/>
              </a:rPr>
              <a:t>什么？啊，听到了，听到了！”巴依（     ）地说。 他暗暗地想：（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什么？啊，听到了，听到了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324000" y="189000"/>
            <a:ext cx="85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，他吃了你饭菜的香味，我付给你钱的声音，咱们的账算清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79280" y="2924280"/>
            <a:ext cx="95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大摇大摆：走路摇摇摆摆，形容十分神气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24000" y="189000"/>
            <a:ext cx="85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，他吃了你饭菜的香味，我付给你钱的声音，咱们的账算清了。”阿凡提说完，拉着穷人的手大摇大摆地走了。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24000" y="189000"/>
            <a:ext cx="85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，他吃了你饭菜的香味，我付给你钱的声音，咱们的账算清了。”阿凡提说完，拉着穷人的手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大摇大摆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地走了。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200712713245153_2"/>
          <p:cNvPicPr/>
          <p:nvPr/>
        </p:nvPicPr>
        <p:blipFill>
          <a:blip r:embed="rId1"/>
          <a:stretch/>
        </p:blipFill>
        <p:spPr>
          <a:xfrm>
            <a:off x="-181080" y="143028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2700360" y="54936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    “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帮助人是光荣的事情，也是快乐的事情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250920" y="189000"/>
            <a:ext cx="871380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依早就到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在和卡子高兴地交谈着。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卡子一看见穷人，就迫不及待地叫起来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你吃了巴依饭菜的香味，怎么敢不付钱？快把钱付给巴依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慢一点儿，卡子！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阿凡提走上去，行了一个礼说，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我是他的弟弟，他没有钱，让我付钱给巴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阿凡提从裤腰上取下一个小钱袋，举到巴依耳朵旁边摇了几下，问巴依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你听见钱袋里响亮的声音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什么？啊，听到了，听到了！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巴依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，他吃了你饭菜的香味，我付给你钱的声音，咱们的账算清了。”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阿凡提说完，拉着穷人的手大摇大摆地走了。</a:t>
            </a:r>
            <a:r>
              <a:rPr b="0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"/>
          <p:cNvSpPr/>
          <p:nvPr/>
        </p:nvSpPr>
        <p:spPr>
          <a:xfrm>
            <a:off x="1619280" y="16286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饭 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332000" y="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华文楷体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饭 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547640" y="2354400"/>
            <a:ext cx="6409080" cy="450360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4"/>
          <p:cNvSpPr/>
          <p:nvPr/>
        </p:nvSpPr>
        <p:spPr>
          <a:xfrm>
            <a:off x="0" y="1557360"/>
            <a:ext cx="96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c0504d"/>
                </a:solidFill>
                <a:latin typeface="华文楷体"/>
                <a:ea typeface="华文楷体"/>
              </a:rPr>
              <a:t>这就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843280" y="15573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以其人之道还治其人之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79280" y="907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179280" y="189000"/>
            <a:ext cx="896472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话训练：（选一个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华文楷体"/>
                <a:ea typeface="华文楷体"/>
              </a:rPr>
              <a:t>           </a:t>
            </a:r>
            <a:r>
              <a:rPr b="1" lang="zh-CN" sz="3600" spc="-1" strike="noStrike">
                <a:solidFill>
                  <a:srgbClr val="cc00ff"/>
                </a:solidFill>
                <a:latin typeface="华文楷体"/>
                <a:ea typeface="华文楷体"/>
              </a:rPr>
              <a:t>阿凡提拉着穷人的手大摇大摆地走了。巴依和卡子之间会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华文楷体"/>
                <a:ea typeface="华文楷体"/>
              </a:rPr>
              <a:t>           </a:t>
            </a:r>
            <a:r>
              <a:rPr b="1" lang="zh-CN" sz="3600" spc="-1" strike="noStrike">
                <a:solidFill>
                  <a:srgbClr val="cc00ff"/>
                </a:solidFill>
                <a:latin typeface="华文楷体"/>
                <a:ea typeface="华文楷体"/>
              </a:rPr>
              <a:t>路上，穷人会对阿凡提说些什么？阿凡又会怎么对他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395280" y="3213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要求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、把人物语言写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、注意提示语在句中的位置，正确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用标点符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0" y="0"/>
            <a:ext cx="95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、自学生字，把课文读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、把课文分成两部分，用“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╱╱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”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、圈出课文中出现的人物，联系课文内容，说说他们之间发生了一个什么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5508720" y="0"/>
            <a:ext cx="3634560" cy="3788640"/>
            <a:chOff x="5508720" y="0"/>
            <a:chExt cx="3634560" cy="3788640"/>
          </a:xfrm>
        </p:grpSpPr>
        <p:sp>
          <p:nvSpPr>
            <p:cNvPr id="442" name="Line 3"/>
            <p:cNvSpPr/>
            <p:nvPr/>
          </p:nvSpPr>
          <p:spPr>
            <a:xfrm>
              <a:off x="5508720" y="1893600"/>
              <a:ext cx="3633120" cy="144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7325280" y="0"/>
              <a:ext cx="1800" cy="3787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5"/>
            <p:cNvGrpSpPr/>
            <p:nvPr/>
          </p:nvGrpSpPr>
          <p:grpSpPr>
            <a:xfrm>
              <a:off x="5508720" y="0"/>
              <a:ext cx="3634560" cy="3788640"/>
              <a:chOff x="5508720" y="0"/>
              <a:chExt cx="3634560" cy="3788640"/>
            </a:xfrm>
          </p:grpSpPr>
          <p:sp>
            <p:nvSpPr>
              <p:cNvPr id="445" name="Line 6"/>
              <p:cNvSpPr/>
              <p:nvPr/>
            </p:nvSpPr>
            <p:spPr>
              <a:xfrm>
                <a:off x="5508720" y="0"/>
                <a:ext cx="3632760" cy="1440"/>
              </a:xfrm>
              <a:prstGeom prst="line">
                <a:avLst/>
              </a:prstGeom>
              <a:ln w="1260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"/>
              <p:cNvSpPr/>
              <p:nvPr/>
            </p:nvSpPr>
            <p:spPr>
              <a:xfrm>
                <a:off x="5508720" y="3786840"/>
                <a:ext cx="3632760" cy="1800"/>
              </a:xfrm>
              <a:prstGeom prst="line">
                <a:avLst/>
              </a:prstGeom>
              <a:ln w="1260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8"/>
              <p:cNvSpPr/>
              <p:nvPr/>
            </p:nvSpPr>
            <p:spPr>
              <a:xfrm>
                <a:off x="5508720" y="0"/>
                <a:ext cx="1440" cy="3786840"/>
              </a:xfrm>
              <a:prstGeom prst="line">
                <a:avLst/>
              </a:prstGeom>
              <a:ln w="1260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"/>
              <p:cNvSpPr/>
              <p:nvPr/>
            </p:nvSpPr>
            <p:spPr>
              <a:xfrm>
                <a:off x="9141480" y="0"/>
                <a:ext cx="1800" cy="3786840"/>
              </a:xfrm>
              <a:prstGeom prst="line">
                <a:avLst/>
              </a:prstGeom>
              <a:ln w="1260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Rectangle 10"/>
          <p:cNvSpPr/>
          <p:nvPr/>
        </p:nvSpPr>
        <p:spPr>
          <a:xfrm>
            <a:off x="0" y="54936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难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熬   判决    恳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395280" y="21337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爽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快    算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0" y="1484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华文楷体"/>
                <a:ea typeface="华文楷体"/>
              </a:rPr>
              <a:t>shuǎng        zh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539640" y="3213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楷体"/>
              </a:rPr>
              <a:t>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不及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539640" y="4233240"/>
            <a:ext cx="3240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逼迫、强迫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急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916360" y="328464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楷体"/>
              </a:rPr>
              <a:t>：急迫得不能再等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539640" y="4233240"/>
            <a:ext cx="3240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逼迫、强迫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、急促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4067280" y="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k</a:t>
            </a:r>
            <a:r>
              <a:rPr b="1" lang="en-US" sz="3200" spc="-1" strike="noStrike">
                <a:solidFill>
                  <a:srgbClr val="c0504d"/>
                </a:solidFill>
                <a:latin typeface="Arial Black"/>
                <a:ea typeface="华文楷体"/>
              </a:rPr>
              <a:t>ě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8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286000" cy="595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9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1343160" cy="1760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"/>
          <p:cNvPicPr/>
          <p:nvPr/>
        </p:nvPicPr>
        <p:blipFill>
          <a:blip r:embed="rId3"/>
          <a:stretch/>
        </p:blipFill>
        <p:spPr>
          <a:xfrm>
            <a:off x="7308720" y="836640"/>
            <a:ext cx="1219320" cy="1779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1" descr=""/>
          <p:cNvPicPr/>
          <p:nvPr/>
        </p:nvPicPr>
        <p:blipFill>
          <a:blip r:embed="rId4"/>
          <a:stretch/>
        </p:blipFill>
        <p:spPr>
          <a:xfrm>
            <a:off x="5867280" y="-171360"/>
            <a:ext cx="34513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9218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恳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求   光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荣   迫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不及待  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爽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快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难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熬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   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裤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腰     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判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决    算</a:t>
            </a: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新宋体"/>
                <a:ea typeface="新宋体"/>
              </a:rPr>
              <a:t>陪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同</a:t>
            </a:r>
            <a:r>
              <a:rPr b="1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   </a:t>
            </a: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行礼    裤腰     钱袋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新宋体"/>
                <a:ea typeface="新宋体"/>
              </a:rPr>
              <a:t>可敬  公道话   大摇大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250920" y="189000"/>
            <a:ext cx="288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读：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课文出现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华文楷体"/>
              </a:rPr>
              <a:t>穷人       阿凡提          巴依           卡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2843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5292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759636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1187280" y="2276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楷体"/>
              </a:rPr>
              <a:t>维吾尔族少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140360" y="234936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楷体"/>
              </a:rPr>
              <a:t>有钱的财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516720" y="2349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楷体"/>
              </a:rPr>
              <a:t>地方上的官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1006560" y="907920"/>
            <a:ext cx="8137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依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于是穷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阿凡提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阿凡提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制服了巴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0" y="90792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（ 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华文楷体"/>
              </a:rPr>
              <a:t>——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0" y="31258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（ 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华文楷体"/>
              </a:rPr>
              <a:t>—— 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课文分成哪两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1006560" y="1268280"/>
            <a:ext cx="8137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巴依说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穷人吃了他饭菜的香味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穷人付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于是穷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恳求阿凡提帮忙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阿凡提爽快地答应了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阿凡提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用钱的声音付了饭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制服了巴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0" y="1268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华文楷体"/>
              </a:rPr>
              <a:t>1——4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0" y="400536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华文楷体"/>
              </a:rPr>
              <a:t>5——9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华文楷体"/>
              </a:rPr>
              <a:t>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楷体"/>
              </a:rPr>
              <a:t>课文分成哪两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189000"/>
            <a:ext cx="88930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有一个穷人来找阿凡提，恳求说：“可敬的阿凡提，我想求你一件事情，不知道您肯不肯帮忙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“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帮助人是光荣的事情，也是快乐的事情，你说吧。”阿凡提爽快地答应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“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唉！”穷人长长地叹了一口气说，“咱们穷人日子真难熬啊！昨天，我在巴依开的一家饭馆门口站了一站，巴依说我吃了他饭菜的香味，逼我付饭钱。我当然不给，他就到卡子那儿告我。卡子决定今天判决。您能为我说几句公道话吗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行，行！”阿凡提一口答应下来，就陪着穷人去见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巴依早就到了，正在和卡子高兴地交谈着。卡子一看见穷人，就迫不及待地叫起来：“你吃了巴依饭菜的香味，怎么敢不付钱？快把钱付给巴依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“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慢一点儿，卡子！”阿凡提走上去，行了一个礼说，“我是他的弟弟，他没有钱，让我付钱给巴依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阿凡提从裤腰上取下一个小钱袋，举到巴依耳朵旁边摇了几下，问巴依：“你听见钱袋里响亮的声音吗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“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什么？啊，听到了，听到了！”巴依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“</a:t>
            </a:r>
            <a:r>
              <a:rPr b="1" lang="zh-CN" sz="2000" spc="-1" strike="noStrike">
                <a:solidFill>
                  <a:srgbClr val="c0504d"/>
                </a:solidFill>
                <a:latin typeface="Calibri"/>
              </a:rPr>
              <a:t>好，他吃了你饭菜的香味，我付给你钱的声音，咱们的帐算清了。”阿凡提说完，拉着穷人的手大摇大摆地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723600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5219640" y="580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6-12-11T06:04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