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24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5.gif" ContentType="image/gif"/>
  <Override PartName="/ppt/media/image13.png" ContentType="image/png"/>
  <Override PartName="/ppt/media/image6.jpeg" ContentType="image/jpeg"/>
  <Override PartName="/ppt/media/image10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8.gif" ContentType="image/gif"/>
  <Override PartName="/ppt/media/image27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20.gif" ContentType="image/gif"/>
  <Override PartName="/ppt/media/image18.gif" ContentType="image/gif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7242-0762-4C78-98C5-72A4BC085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7C55-FC1B-4A91-ADC5-2E78708E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D55F-FE45-4CF2-AECD-8027CD54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79D4-093F-4589-870A-87BC41F24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C724-0C1D-4D4D-B414-86234475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B85D-4DFC-4358-B27E-ECA59A4F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D3FD-97D3-49F6-BBEB-2FFF61C8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AD7B-1680-409E-AC75-81D87FEB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F88E-4AFE-4BF9-8089-AC5E0A9D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BAF8-8B48-465C-8BD3-C1280D9C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4556-852E-499A-9AEC-BC1D6F74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4E83-4471-4D04-96A1-D33B3F1D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566E-B927-4528-835C-4605E110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8154-3305-4177-B464-8D10B7C6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6D08-4511-4789-9DE1-3F8D3624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CDD8-C5FE-4A6D-A6BD-F5A7C42ED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70A4-58C6-4970-BBDA-884B7532C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EB482-3681-4604-ACB5-C3DDAE7A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5FCCE-D386-469B-9B54-39817DEF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C5EA3-30AA-45DB-B300-DFEB58E2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F6C36-7881-4A78-B2CD-DC09BF99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0DF64-43A8-460A-B5C6-227C3910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3C97-F47B-496B-82BA-4A37AA2A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C8FF3-B5E5-407A-BA41-0E086CBF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A762B-B02F-4513-84DB-EF44F48E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337D2-B935-406A-A501-255917E4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A5112-C88E-4FB4-8E93-72C111BF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803B2-4C50-4901-9AE2-BE2BF1F8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A79AF-AAD8-4F43-A7D3-11AE7905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A1A82-6014-4761-A305-805999C84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A6F42-039E-42EC-ACF0-1E2528543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9DC54-C609-43B5-8E36-56FF71D4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7BF61-407A-439F-BE5E-9B7DC9BE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AC3F-2AE4-4BC4-9717-E6EB7A83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25745-4735-4449-A6E5-5DF52B95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B8951-3C03-4E67-BB5B-8F931840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C291D-BA17-47E6-AE43-3CC82B60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B335F-13B1-448E-A5F2-3192FD4A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A96D5-0CDA-4A12-9014-8A4DC6B7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364E3-17A0-4BE0-B644-FE5EA3FB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9791A-751B-4FD0-8A71-D4E89F04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0EE9B-0486-40D0-BC67-B83333736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E915F-055F-415F-857B-76BF83BF5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60B8-0BA8-405F-AB3D-66E28C24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6221-6210-4981-A695-3935DB0C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F4A7-777B-4087-B9D5-2815F085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09B5-B780-4B7E-A6CB-D66A65CF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2260-6460-47F0-9D60-96E8509E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宋体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79551b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宋体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宋体"/>
            </a:endParaRPr>
          </a:p>
          <a:p>
            <a:pPr lvl="1" marL="690840" indent="-265680">
              <a:spcBef>
                <a:spcPts val="700"/>
              </a:spcBef>
              <a:buClr>
                <a:srgbClr val="79551b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宋体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宋体"/>
            </a:endParaRPr>
          </a:p>
          <a:p>
            <a:pPr lvl="2" marL="1062720" indent="-212400">
              <a:spcBef>
                <a:spcPts val="700"/>
              </a:spcBef>
              <a:buClr>
                <a:srgbClr val="79551b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宋体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宋体"/>
            </a:endParaRPr>
          </a:p>
          <a:p>
            <a:pPr lvl="3" marL="1487880" indent="-212400">
              <a:spcBef>
                <a:spcPts val="700"/>
              </a:spcBef>
              <a:buClr>
                <a:srgbClr val="79551b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宋体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宋体"/>
            </a:endParaRPr>
          </a:p>
          <a:p>
            <a:pPr lvl="4" marL="1913040" indent="-212400">
              <a:spcBef>
                <a:spcPts val="700"/>
              </a:spcBef>
              <a:buClr>
                <a:srgbClr val="79551b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宋体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宋体"/>
            </a:endParaRPr>
          </a:p>
          <a:p>
            <a:pPr lvl="5" marL="1913040" indent="-212400">
              <a:spcBef>
                <a:spcPts val="700"/>
              </a:spcBef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宋体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宋体"/>
            </a:endParaRPr>
          </a:p>
          <a:p>
            <a:pPr lvl="6" marL="1913040" indent="-212400">
              <a:spcBef>
                <a:spcPts val="700"/>
              </a:spcBef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宋体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9551b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3A79-954E-4F6B-93CD-01F37781C9F8}" type="slidenum">
              <a:rPr b="0" lang="zh-CN" sz="1200" spc="-1" strike="noStrike">
                <a:solidFill>
                  <a:srgbClr val="79551b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4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44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4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1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5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4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55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58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59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1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62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4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65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7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68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70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71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73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74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76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79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80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8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85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88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91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94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97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00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03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06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09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12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15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16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18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1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20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21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23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26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29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32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35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38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41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47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0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3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55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5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57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58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5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60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61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62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63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64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6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66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67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68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69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7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7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72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73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74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75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55F4-C3C1-4E2E-AED8-3FCA26E0B7DB}" type="slidenum"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宋体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宋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79551b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宋体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宋体"/>
            </a:endParaRPr>
          </a:p>
          <a:p>
            <a:pPr lvl="1" marL="690840" indent="-265680">
              <a:spcBef>
                <a:spcPts val="700"/>
              </a:spcBef>
              <a:buClr>
                <a:srgbClr val="79551b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宋体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宋体"/>
            </a:endParaRPr>
          </a:p>
          <a:p>
            <a:pPr lvl="2" marL="1062720" indent="-212400">
              <a:spcBef>
                <a:spcPts val="700"/>
              </a:spcBef>
              <a:buClr>
                <a:srgbClr val="79551b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宋体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宋体"/>
            </a:endParaRPr>
          </a:p>
          <a:p>
            <a:pPr lvl="3" marL="1487880" indent="-212400">
              <a:spcBef>
                <a:spcPts val="700"/>
              </a:spcBef>
              <a:buClr>
                <a:srgbClr val="79551b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宋体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宋体"/>
            </a:endParaRPr>
          </a:p>
          <a:p>
            <a:pPr lvl="4" marL="1913040" indent="-212400">
              <a:spcBef>
                <a:spcPts val="700"/>
              </a:spcBef>
              <a:buClr>
                <a:srgbClr val="79551b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宋体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宋体"/>
            </a:endParaRPr>
          </a:p>
          <a:p>
            <a:pPr lvl="5" marL="1913040" indent="-212400">
              <a:spcBef>
                <a:spcPts val="700"/>
              </a:spcBef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宋体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宋体"/>
            </a:endParaRPr>
          </a:p>
          <a:p>
            <a:pPr lvl="6" marL="1913040" indent="-212400">
              <a:spcBef>
                <a:spcPts val="700"/>
              </a:spcBef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宋体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宋体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7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8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9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F74B-1560-400E-ACD6-A07C63BEB9E9}" type="slidenum">
              <a:rPr b="0" lang="zh-CN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59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260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261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262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63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64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65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266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267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68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69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270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1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72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273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4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75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276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7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78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279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0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81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282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3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84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285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6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87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288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90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291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93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294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96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297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99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300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02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303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05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306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08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309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11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312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14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315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17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318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20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321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23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324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26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327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29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330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sp>
                <p:nvSpPr>
                  <p:cNvPr id="331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332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  <p:grpSp>
                <p:nvGrpSpPr>
                  <p:cNvPr id="333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34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335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37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338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9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40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341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43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344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46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347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49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350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52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353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4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55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356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58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359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61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362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64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365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66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67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68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369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370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371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372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373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374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375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</p:grpSp>
        </p:grpSp>
        <p:grpSp>
          <p:nvGrpSpPr>
            <p:cNvPr id="376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377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378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379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380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381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382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383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384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385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386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387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388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389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390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434C-8BFC-4351-A582-9600DE07E87D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gif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gif"/><Relationship Id="rId10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gif"/><Relationship Id="rId3" Type="http://schemas.openxmlformats.org/officeDocument/2006/relationships/image" Target="../media/image12.gif"/><Relationship Id="rId4" Type="http://schemas.openxmlformats.org/officeDocument/2006/relationships/image" Target="../media/image16.jpeg"/><Relationship Id="rId5" Type="http://schemas.openxmlformats.org/officeDocument/2006/relationships/image" Target="../media/image15.gif"/><Relationship Id="rId6" Type="http://schemas.openxmlformats.org/officeDocument/2006/relationships/image" Target="../media/image14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18.gi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34" name="Picture 4" descr="4e3678f8e0bb027b252df28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6"/>
          <p:cNvSpPr/>
          <p:nvPr/>
        </p:nvSpPr>
        <p:spPr>
          <a:xfrm>
            <a:off x="-252360" y="1557360"/>
            <a:ext cx="6624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33cc"/>
                </a:solidFill>
                <a:latin typeface="Arial Black"/>
              </a:rPr>
              <a:t>15</a:t>
            </a:r>
            <a:r>
              <a:rPr b="1" lang="zh-CN" sz="8000" spc="-1" strike="noStrike">
                <a:solidFill>
                  <a:srgbClr val="0033cc"/>
                </a:solidFill>
                <a:latin typeface="Arial Black"/>
              </a:rPr>
              <a:t>、地球清洁工</a:t>
            </a:r>
            <a:endParaRPr b="0" lang="en-US" sz="8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64" name="Picture 4" descr="u=3188708110,3507587853&amp;fm=0&amp;gp=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5"/>
          <p:cNvSpPr/>
          <p:nvPr/>
        </p:nvSpPr>
        <p:spPr>
          <a:xfrm>
            <a:off x="250920" y="1197000"/>
            <a:ext cx="5111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动物环境保护站要招收一批清洁工，一听到这个消息，很多动物都</a:t>
            </a:r>
            <a:r>
              <a:rPr b="1" lang="zh-CN" sz="3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争先恐后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地跑来报名。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466" name="Picture 7" descr="u=1443070739,2304620350&amp;fm=0&amp;gp=-26[1]"/>
          <p:cNvPicPr/>
          <p:nvPr/>
        </p:nvPicPr>
        <p:blipFill>
          <a:blip r:embed="rId2"/>
          <a:stretch/>
        </p:blipFill>
        <p:spPr>
          <a:xfrm>
            <a:off x="5364000" y="1125360"/>
            <a:ext cx="3311640" cy="5301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" dur="20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69" name="Picture 4" descr="244eabed125d060663d09f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5"/>
          <p:cNvSpPr/>
          <p:nvPr/>
        </p:nvSpPr>
        <p:spPr>
          <a:xfrm>
            <a:off x="2843280" y="198900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担任这项工作的主考官是大猩猩。他向来报名的动物们打招呼说：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你们好啊！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471" name="Picture 6" descr="200811119654968_1"/>
          <p:cNvPicPr/>
          <p:nvPr/>
        </p:nvPicPr>
        <p:blipFill>
          <a:blip r:embed="rId2"/>
          <a:stretch/>
        </p:blipFill>
        <p:spPr>
          <a:xfrm>
            <a:off x="7596360" y="260280"/>
            <a:ext cx="1333440" cy="13716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7" descr="2009528232831808"/>
          <p:cNvPicPr/>
          <p:nvPr/>
        </p:nvPicPr>
        <p:blipFill>
          <a:blip r:embed="rId3"/>
          <a:stretch/>
        </p:blipFill>
        <p:spPr>
          <a:xfrm>
            <a:off x="1547640" y="1268280"/>
            <a:ext cx="1389240" cy="1737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8" descr="20051010193113165[1]"/>
          <p:cNvPicPr/>
          <p:nvPr/>
        </p:nvPicPr>
        <p:blipFill>
          <a:blip r:embed="rId4"/>
          <a:stretch/>
        </p:blipFill>
        <p:spPr>
          <a:xfrm>
            <a:off x="7812000" y="1773360"/>
            <a:ext cx="1332000" cy="1295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9" descr="20051010193324487[1]"/>
          <p:cNvPicPr/>
          <p:nvPr/>
        </p:nvPicPr>
        <p:blipFill>
          <a:blip r:embed="rId5"/>
          <a:stretch/>
        </p:blipFill>
        <p:spPr>
          <a:xfrm>
            <a:off x="7877160" y="3141720"/>
            <a:ext cx="1266840" cy="7920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0" descr="20051017204735264[1]"/>
          <p:cNvPicPr/>
          <p:nvPr/>
        </p:nvPicPr>
        <p:blipFill>
          <a:blip r:embed="rId6"/>
          <a:stretch/>
        </p:blipFill>
        <p:spPr>
          <a:xfrm>
            <a:off x="3348000" y="4076640"/>
            <a:ext cx="3384720" cy="24624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2" descr="card0149[1]"/>
          <p:cNvPicPr/>
          <p:nvPr/>
        </p:nvPicPr>
        <p:blipFill>
          <a:blip r:embed="rId7"/>
          <a:srcRect l="0" t="10525" r="0" b="0"/>
          <a:stretch/>
        </p:blipFill>
        <p:spPr>
          <a:xfrm>
            <a:off x="4284720" y="642960"/>
            <a:ext cx="1801800" cy="14176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3" descr="tanglaoya"/>
          <p:cNvPicPr/>
          <p:nvPr/>
        </p:nvPicPr>
        <p:blipFill>
          <a:blip r:embed="rId8"/>
          <a:stretch/>
        </p:blipFill>
        <p:spPr>
          <a:xfrm>
            <a:off x="7308720" y="4653000"/>
            <a:ext cx="1447920" cy="17780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5" descr="20051105154831843[1]"/>
          <p:cNvPicPr/>
          <p:nvPr/>
        </p:nvPicPr>
        <p:blipFill>
          <a:blip r:embed="rId9"/>
          <a:stretch/>
        </p:blipFill>
        <p:spPr>
          <a:xfrm>
            <a:off x="-252360" y="3429000"/>
            <a:ext cx="2781360" cy="3238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81" name="Picture 8" descr="8539310992140711e92488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9"/>
          <p:cNvSpPr/>
          <p:nvPr/>
        </p:nvSpPr>
        <p:spPr>
          <a:xfrm>
            <a:off x="2925000" y="549360"/>
            <a:ext cx="33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你好，主考官先生</a:t>
            </a:r>
            <a:r>
              <a:rPr b="1" lang="en-US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!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3" name="Text Box 10"/>
          <p:cNvSpPr/>
          <p:nvPr/>
        </p:nvSpPr>
        <p:spPr>
          <a:xfrm>
            <a:off x="2124000" y="1700280"/>
            <a:ext cx="52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你们都来报名，我很高                    兴啊！可是，你们都有些什么本领呢</a:t>
            </a:r>
            <a:r>
              <a:rPr b="1" lang="en-US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?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4" name="Text Box 11"/>
          <p:cNvSpPr/>
          <p:nvPr/>
        </p:nvSpPr>
        <p:spPr>
          <a:xfrm>
            <a:off x="4894200" y="3716280"/>
            <a:ext cx="16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我说！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5" name="Text Box 12"/>
          <p:cNvSpPr/>
          <p:nvPr/>
        </p:nvSpPr>
        <p:spPr>
          <a:xfrm>
            <a:off x="4894200" y="4653000"/>
            <a:ext cx="16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我说！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6" name="Text Box 13"/>
          <p:cNvSpPr/>
          <p:nvPr/>
        </p:nvSpPr>
        <p:spPr>
          <a:xfrm>
            <a:off x="4986360" y="5734080"/>
            <a:ext cx="19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我先说！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7" name="AutoShape 14"/>
          <p:cNvSpPr/>
          <p:nvPr/>
        </p:nvSpPr>
        <p:spPr>
          <a:xfrm>
            <a:off x="4211640" y="3860640"/>
            <a:ext cx="360360" cy="2374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61920 h 2374920"/>
              <a:gd name="textAreaBottom" fmla="*/ 2313000 h 237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8" name="Text Box 15"/>
          <p:cNvSpPr/>
          <p:nvPr/>
        </p:nvSpPr>
        <p:spPr>
          <a:xfrm>
            <a:off x="2124000" y="4437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七嘴八舌的争抢着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489" name="Picture 16" descr="20051105154831843[1]"/>
          <p:cNvPicPr/>
          <p:nvPr/>
        </p:nvPicPr>
        <p:blipFill>
          <a:blip r:embed="rId2"/>
          <a:stretch/>
        </p:blipFill>
        <p:spPr>
          <a:xfrm>
            <a:off x="-468360" y="692280"/>
            <a:ext cx="3333960" cy="285732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7" descr="2009528232831808"/>
          <p:cNvPicPr/>
          <p:nvPr/>
        </p:nvPicPr>
        <p:blipFill>
          <a:blip r:embed="rId3"/>
          <a:stretch/>
        </p:blipFill>
        <p:spPr>
          <a:xfrm>
            <a:off x="0" y="5121360"/>
            <a:ext cx="1389240" cy="17366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8" descr="card0149[1]"/>
          <p:cNvPicPr/>
          <p:nvPr/>
        </p:nvPicPr>
        <p:blipFill>
          <a:blip r:embed="rId4"/>
          <a:srcRect l="0" t="13526" r="0" b="0"/>
          <a:stretch/>
        </p:blipFill>
        <p:spPr>
          <a:xfrm>
            <a:off x="7020000" y="214200"/>
            <a:ext cx="1801800" cy="13701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9" descr="20051017204735264[1]"/>
          <p:cNvPicPr/>
          <p:nvPr/>
        </p:nvPicPr>
        <p:blipFill>
          <a:blip r:embed="rId5"/>
          <a:stretch/>
        </p:blipFill>
        <p:spPr>
          <a:xfrm>
            <a:off x="2411280" y="4869000"/>
            <a:ext cx="3384720" cy="24620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0" descr="20051010193324487[1]"/>
          <p:cNvPicPr/>
          <p:nvPr/>
        </p:nvPicPr>
        <p:blipFill>
          <a:blip r:embed="rId6"/>
          <a:stretch/>
        </p:blipFill>
        <p:spPr>
          <a:xfrm>
            <a:off x="7093080" y="4149720"/>
            <a:ext cx="1266840" cy="7920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1" descr="20051010193113165[1]"/>
          <p:cNvPicPr/>
          <p:nvPr/>
        </p:nvPicPr>
        <p:blipFill>
          <a:blip r:embed="rId7"/>
          <a:stretch/>
        </p:blipFill>
        <p:spPr>
          <a:xfrm>
            <a:off x="7812000" y="1773360"/>
            <a:ext cx="1332000" cy="1295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97" name="Picture 4" descr="2377dc5250d770771238c27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5"/>
          <p:cNvSpPr/>
          <p:nvPr/>
        </p:nvSpPr>
        <p:spPr>
          <a:xfrm>
            <a:off x="3646440" y="692280"/>
            <a:ext cx="19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静一静！静一静！你们不要吵，一个个的说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4110120" y="1700280"/>
            <a:ext cx="96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那我先说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4072680" y="2708280"/>
            <a:ext cx="96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好，小海鸥先说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1" name="Text Box 8"/>
          <p:cNvSpPr/>
          <p:nvPr/>
        </p:nvSpPr>
        <p:spPr>
          <a:xfrm>
            <a:off x="250920" y="364500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呀，能把人们坐船的时候扔到海里的剩饭剩菜全部都吃掉，所以我做海洋清洁工最合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2" name="Text Box 9"/>
          <p:cNvSpPr/>
          <p:nvPr/>
        </p:nvSpPr>
        <p:spPr>
          <a:xfrm>
            <a:off x="4169520" y="5229360"/>
            <a:ext cx="96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嗯，说得好！你呀，就做海洋清洁工吧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503" name="Picture 10" descr="20051105154831843[1]"/>
          <p:cNvPicPr/>
          <p:nvPr/>
        </p:nvPicPr>
        <p:blipFill>
          <a:blip r:embed="rId2"/>
          <a:stretch/>
        </p:blipFill>
        <p:spPr>
          <a:xfrm>
            <a:off x="179280" y="692280"/>
            <a:ext cx="3333960" cy="28573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12" descr="图片 031"/>
          <p:cNvPicPr/>
          <p:nvPr/>
        </p:nvPicPr>
        <p:blipFill>
          <a:blip r:embed="rId3"/>
          <a:stretch/>
        </p:blipFill>
        <p:spPr>
          <a:xfrm>
            <a:off x="6732720" y="1773360"/>
            <a:ext cx="1908000" cy="118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07" name="Picture 4" descr="01300000349330124099544851888"/>
          <p:cNvPicPr/>
          <p:nvPr/>
        </p:nvPicPr>
        <p:blipFill>
          <a:blip r:embed="rId1"/>
          <a:srcRect l="0" t="0" r="0" b="9367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5"/>
          <p:cNvSpPr/>
          <p:nvPr/>
        </p:nvSpPr>
        <p:spPr>
          <a:xfrm>
            <a:off x="3918960" y="404640"/>
            <a:ext cx="12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下一个该谁说了？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9" name="Text Box 6"/>
          <p:cNvSpPr/>
          <p:nvPr/>
        </p:nvSpPr>
        <p:spPr>
          <a:xfrm>
            <a:off x="3226320" y="1557360"/>
            <a:ext cx="24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那我来说吧！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10" name="Text Box 7"/>
          <p:cNvSpPr/>
          <p:nvPr/>
        </p:nvSpPr>
        <p:spPr>
          <a:xfrm>
            <a:off x="2587320" y="2421000"/>
            <a:ext cx="358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好，就让小鲤鱼说吧！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11" name="Text Box 8"/>
          <p:cNvSpPr/>
          <p:nvPr/>
        </p:nvSpPr>
        <p:spPr>
          <a:xfrm>
            <a:off x="0" y="3429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呀，生活在淡水里，河里的水草、水虫和垃圾都是我的食物，我可以做淡水清洁工。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12" name="Text Box 9"/>
          <p:cNvSpPr/>
          <p:nvPr/>
        </p:nvSpPr>
        <p:spPr>
          <a:xfrm>
            <a:off x="3578040" y="501336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好！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513" name="Picture 10" descr="20051105154831843[1]"/>
          <p:cNvPicPr/>
          <p:nvPr/>
        </p:nvPicPr>
        <p:blipFill>
          <a:blip r:embed="rId2"/>
          <a:stretch/>
        </p:blipFill>
        <p:spPr>
          <a:xfrm>
            <a:off x="-684360" y="0"/>
            <a:ext cx="3333960" cy="2857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16" name="Picture 4" descr="c90d38f56defb54fddc474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5"/>
          <p:cNvSpPr/>
          <p:nvPr/>
        </p:nvSpPr>
        <p:spPr>
          <a:xfrm>
            <a:off x="3226320" y="981000"/>
            <a:ext cx="24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下个谁说呀？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18" name="Text Box 6"/>
          <p:cNvSpPr/>
          <p:nvPr/>
        </p:nvSpPr>
        <p:spPr>
          <a:xfrm>
            <a:off x="395280" y="213372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来说，别看我乌鸦的模样不好看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可是我爱吃地面的蝇蛆，所以，我做地面清洁工是最合适的。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19" name="Text Box 7"/>
          <p:cNvSpPr/>
          <p:nvPr/>
        </p:nvSpPr>
        <p:spPr>
          <a:xfrm>
            <a:off x="324000" y="4508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乌鸦说的不错，你就做地面清洁工吧！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520" name="Picture 9" descr="20051105154831843[1]"/>
          <p:cNvPicPr/>
          <p:nvPr/>
        </p:nvPicPr>
        <p:blipFill>
          <a:blip r:embed="rId2"/>
          <a:stretch/>
        </p:blipFill>
        <p:spPr>
          <a:xfrm>
            <a:off x="-468360" y="-171360"/>
            <a:ext cx="2879640" cy="2468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23" name="Picture 5" descr="2971dc2a0e3b71dbe6cd40ac"/>
          <p:cNvPicPr/>
          <p:nvPr/>
        </p:nvPicPr>
        <p:blipFill>
          <a:blip r:embed="rId1"/>
          <a:srcRect l="0" t="0" r="0" b="11457"/>
          <a:stretch/>
        </p:blipFill>
        <p:spPr>
          <a:xfrm>
            <a:off x="0" y="-3571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6"/>
          <p:cNvSpPr/>
          <p:nvPr/>
        </p:nvSpPr>
        <p:spPr>
          <a:xfrm>
            <a:off x="1295280" y="4046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蚯蚓在这里等了半天了，我们就让他们来说说吧！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684360" y="22766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呀，能在地下将生活垃圾制造成肥料，让植物长得更茁壮。你们看，我做地下清洁工合适吗？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26" name="Text Box 8"/>
          <p:cNvSpPr/>
          <p:nvPr/>
        </p:nvSpPr>
        <p:spPr>
          <a:xfrm>
            <a:off x="1042920" y="4653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很好你就做地下清洁工吧！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527" name="Picture 9" descr="20051105154831843[1]"/>
          <p:cNvPicPr/>
          <p:nvPr/>
        </p:nvPicPr>
        <p:blipFill>
          <a:blip r:embed="rId2"/>
          <a:stretch/>
        </p:blipFill>
        <p:spPr>
          <a:xfrm>
            <a:off x="-757080" y="-171360"/>
            <a:ext cx="2879640" cy="2468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30" name="Picture 4" descr="58510dc800eb7aa8c91768c7[1]"/>
          <p:cNvPicPr/>
          <p:nvPr/>
        </p:nvPicPr>
        <p:blipFill>
          <a:blip r:embed="rId1"/>
          <a:srcRect l="0" t="0" r="0" b="728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6"/>
          <p:cNvSpPr/>
          <p:nvPr/>
        </p:nvSpPr>
        <p:spPr>
          <a:xfrm>
            <a:off x="3951360" y="404640"/>
            <a:ext cx="18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哎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也写上我的名字。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2987640" y="1413000"/>
            <a:ext cx="41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你，屎壳郎也相当清洁工？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250920" y="3068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是啊，我能把牧场上的羊粪、牛粪滚成粪球，然后再把它们埋到地下，即清理了地面，又能充分利用肥料，我做清洁工难道不行吗？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534" name="Picture 10" descr="20051105154831843[1]"/>
          <p:cNvPicPr/>
          <p:nvPr/>
        </p:nvPicPr>
        <p:blipFill>
          <a:blip r:embed="rId2"/>
          <a:stretch/>
        </p:blipFill>
        <p:spPr>
          <a:xfrm>
            <a:off x="-757080" y="-243000"/>
            <a:ext cx="3333600" cy="2857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37" name="Picture 5" descr="200812414434239"/>
          <p:cNvPicPr/>
          <p:nvPr/>
        </p:nvPicPr>
        <p:blipFill>
          <a:blip r:embed="rId1"/>
          <a:stretch/>
        </p:blipFill>
        <p:spPr>
          <a:xfrm>
            <a:off x="0" y="0"/>
            <a:ext cx="9144000" cy="681516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6"/>
          <p:cNvSpPr/>
          <p:nvPr/>
        </p:nvSpPr>
        <p:spPr>
          <a:xfrm>
            <a:off x="1835280" y="836640"/>
            <a:ext cx="70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行！行！当然行啊！别看屎壳郎个小，本领可不小。你们都是了不起的地球清洁工，有了你们，地球环境就能变得更好、更清洁。从明天开始，大家分头去做环境保护工作吧！。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539" name="Picture 7" descr="20051105154831843[1]"/>
          <p:cNvPicPr/>
          <p:nvPr/>
        </p:nvPicPr>
        <p:blipFill>
          <a:blip r:embed="rId2"/>
          <a:stretch/>
        </p:blipFill>
        <p:spPr>
          <a:xfrm>
            <a:off x="-757080" y="-243000"/>
            <a:ext cx="3333600" cy="2857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42" name="Picture 4" descr="200811192221137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3" name="WordArt 5" descr=""/>
          <p:cNvPicPr/>
          <p:nvPr/>
        </p:nvPicPr>
        <p:blipFill>
          <a:blip r:embed="rId2"/>
          <a:stretch/>
        </p:blipFill>
        <p:spPr>
          <a:xfrm>
            <a:off x="1609560" y="536400"/>
            <a:ext cx="1889280" cy="511200"/>
          </a:xfrm>
          <a:prstGeom prst="rect">
            <a:avLst/>
          </a:prstGeom>
          <a:ln w="0">
            <a:noFill/>
          </a:ln>
        </p:spPr>
      </p:pic>
      <p:pic>
        <p:nvPicPr>
          <p:cNvPr id="544" name="WordArt 6" descr=""/>
          <p:cNvPicPr/>
          <p:nvPr/>
        </p:nvPicPr>
        <p:blipFill>
          <a:blip r:embed="rId3"/>
          <a:stretch/>
        </p:blipFill>
        <p:spPr>
          <a:xfrm>
            <a:off x="5767560" y="1620720"/>
            <a:ext cx="3011400" cy="811440"/>
          </a:xfrm>
          <a:prstGeom prst="rect">
            <a:avLst/>
          </a:prstGeom>
          <a:ln w="0">
            <a:noFill/>
          </a:ln>
        </p:spPr>
      </p:pic>
      <p:sp>
        <p:nvSpPr>
          <p:cNvPr id="545" name="Line 7"/>
          <p:cNvSpPr/>
          <p:nvPr/>
        </p:nvSpPr>
        <p:spPr>
          <a:xfrm>
            <a:off x="6156360" y="3357720"/>
            <a:ext cx="273672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46" name="Line 8"/>
          <p:cNvSpPr/>
          <p:nvPr/>
        </p:nvSpPr>
        <p:spPr>
          <a:xfrm>
            <a:off x="5724360" y="4005360"/>
            <a:ext cx="316872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47" name="Line 9"/>
          <p:cNvSpPr/>
          <p:nvPr/>
        </p:nvSpPr>
        <p:spPr>
          <a:xfrm>
            <a:off x="5724360" y="5300640"/>
            <a:ext cx="316872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48" name="Line 10"/>
          <p:cNvSpPr/>
          <p:nvPr/>
        </p:nvSpPr>
        <p:spPr>
          <a:xfrm>
            <a:off x="5724360" y="4653000"/>
            <a:ext cx="316872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5"/>
          <p:cNvSpPr/>
          <p:nvPr/>
        </p:nvSpPr>
        <p:spPr>
          <a:xfrm>
            <a:off x="1619280" y="2492280"/>
            <a:ext cx="5977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    </a:t>
            </a:r>
            <a:r>
              <a:rPr b="1" lang="zh-CN" sz="24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西师版小学三年级上册第三单元帝十五课</a:t>
            </a:r>
            <a:r>
              <a:rPr b="1" lang="en-US" sz="24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《</a:t>
            </a:r>
            <a:r>
              <a:rPr b="1" lang="zh-CN" sz="24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地球清洁工</a:t>
            </a:r>
            <a:r>
              <a:rPr b="1" lang="en-US" sz="24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》</a:t>
            </a:r>
            <a:r>
              <a:rPr b="1" lang="zh-CN" sz="24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。这篇童话故事，以生动传神的手法，叙述了动物环境保护站招收一批清洁工。小海鸥担任海洋清洁工，小鲤鱼担任淡水清洁工，乌鸦担任地面清洁工，小蚯蚓担任地下清洁工，以及屎壳螂担任牧场清洁工，他们是了不起的清洁工，有了他们地球环境将更好，更清洁。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zh-CN" sz="24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全文共</a:t>
            </a:r>
            <a:r>
              <a:rPr b="1" lang="en-US" sz="24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25</a:t>
            </a:r>
            <a:r>
              <a:rPr b="1" lang="zh-CN" sz="24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段。感情真挚，巧设悬念抓住读者的心，引人入胜，富有童话感染力。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37" name="Text Box 6"/>
          <p:cNvSpPr/>
          <p:nvPr/>
        </p:nvSpPr>
        <p:spPr>
          <a:xfrm>
            <a:off x="1619280" y="907920"/>
            <a:ext cx="369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说教材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Arial"/>
              </a:rPr>
              <a:t>：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51" name="Picture 4" descr="244eabed125d060663d09f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5"/>
          <p:cNvSpPr/>
          <p:nvPr/>
        </p:nvSpPr>
        <p:spPr>
          <a:xfrm>
            <a:off x="3438360" y="423720"/>
            <a:ext cx="2740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15.</a:t>
            </a:r>
            <a:r>
              <a:rPr b="1" lang="zh-CN" sz="4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地球清洁工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53" name="Text Box 6"/>
          <p:cNvSpPr/>
          <p:nvPr/>
        </p:nvSpPr>
        <p:spPr>
          <a:xfrm>
            <a:off x="684360" y="2565360"/>
            <a:ext cx="29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地球清洁工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54" name="AutoShape 7"/>
          <p:cNvSpPr/>
          <p:nvPr/>
        </p:nvSpPr>
        <p:spPr>
          <a:xfrm>
            <a:off x="3348000" y="1413000"/>
            <a:ext cx="144360" cy="3001680"/>
          </a:xfrm>
          <a:custGeom>
            <a:avLst/>
            <a:gdLst>
              <a:gd name="textAreaLeft" fmla="*/ 92160 w 144360"/>
              <a:gd name="textAreaRight" fmla="*/ 144360 w 144360"/>
              <a:gd name="textAreaTop" fmla="*/ 78120 h 3001680"/>
              <a:gd name="textAreaBottom" fmla="*/ 2923560 h 300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55" name="Text Box 8"/>
          <p:cNvSpPr/>
          <p:nvPr/>
        </p:nvSpPr>
        <p:spPr>
          <a:xfrm>
            <a:off x="3913560" y="1484280"/>
            <a:ext cx="1003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cc"/>
                </a:solidFill>
                <a:latin typeface="楷体_GB2312"/>
                <a:ea typeface="楷体_GB2312"/>
              </a:rPr>
              <a:t>小海鸥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cc"/>
                </a:solidFill>
                <a:latin typeface="楷体_GB2312"/>
                <a:ea typeface="楷体_GB2312"/>
              </a:rPr>
              <a:t>小鲤鱼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cc"/>
                </a:solidFill>
                <a:latin typeface="楷体_GB2312"/>
                <a:ea typeface="楷体_GB2312"/>
              </a:rPr>
              <a:t>乌鸦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cc"/>
                </a:solidFill>
                <a:latin typeface="楷体_GB2312"/>
                <a:ea typeface="楷体_GB2312"/>
              </a:rPr>
              <a:t>小蚯蚓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cc"/>
                </a:solidFill>
                <a:latin typeface="楷体_GB2312"/>
                <a:ea typeface="楷体_GB2312"/>
              </a:rPr>
              <a:t>屎壳郎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>
    <p:random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40" name="Picture 4" descr="2008124144342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5"/>
          <p:cNvSpPr/>
          <p:nvPr/>
        </p:nvSpPr>
        <p:spPr>
          <a:xfrm>
            <a:off x="971640" y="404640"/>
            <a:ext cx="7272360" cy="34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教学目标：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1.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知道故事里讲了哪些小动物，他们是怎样做地球清洁工的，有对自然、对生物观察探究的兴趣。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2.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能正确、流利、有感情的朗读课文。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3.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能与小伙伴合作分角色演一演。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5"/>
          <p:cNvSpPr/>
          <p:nvPr/>
        </p:nvSpPr>
        <p:spPr>
          <a:xfrm>
            <a:off x="1042920" y="981000"/>
            <a:ext cx="612000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重点难点：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1.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知道故事里讲了哪些小动物，他们是怎样做地球清洁工的。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2.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能正确流利有感情的朗读课文。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5"/>
          <p:cNvSpPr/>
          <p:nvPr/>
        </p:nvSpPr>
        <p:spPr>
          <a:xfrm>
            <a:off x="1187280" y="692280"/>
            <a:ext cx="5040360" cy="31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说教法学法：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1.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在朗读中了解故事。</a:t>
            </a: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2.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在朗读中体会品质。</a:t>
            </a: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46" name="Picture 4" descr="0146942d6755afc98b139923"/>
          <p:cNvPicPr/>
          <p:nvPr/>
        </p:nvPicPr>
        <p:blipFill>
          <a:blip r:embed="rId1"/>
          <a:srcRect l="0" t="8886" r="0" b="52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6"/>
          <p:cNvSpPr/>
          <p:nvPr/>
        </p:nvSpPr>
        <p:spPr>
          <a:xfrm>
            <a:off x="0" y="260280"/>
            <a:ext cx="7489800" cy="45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说教学过程：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创设情景               导入新课</a:t>
            </a: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读悟结合               体会情感</a:t>
            </a: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展开想象               品读全诗</a:t>
            </a: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扩展延伸               激发情感</a:t>
            </a: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50" name="Picture 5" descr="1c03f2cqa6bd5"/>
          <p:cNvPicPr/>
          <p:nvPr/>
        </p:nvPicPr>
        <p:blipFill>
          <a:blip r:embed="rId1"/>
          <a:srcRect l="0" t="0" r="0" b="312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6"/>
          <p:cNvSpPr/>
          <p:nvPr/>
        </p:nvSpPr>
        <p:spPr>
          <a:xfrm>
            <a:off x="826920" y="907920"/>
            <a:ext cx="71280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说学情：</a:t>
            </a:r>
            <a:endParaRPr b="0" lang="en-US" sz="4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　通过本课的教学，充分的认识地球清洁工们对地球所起的巨大作用，激发学生环保意识，并教育学生保护环境要从身边的小事做起。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54" name="Picture 4" descr="3565bdd500269f20a18bb7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5"/>
          <p:cNvSpPr/>
          <p:nvPr/>
        </p:nvSpPr>
        <p:spPr>
          <a:xfrm>
            <a:off x="6113880" y="2133720"/>
            <a:ext cx="106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66cc"/>
                </a:solidFill>
                <a:uFillTx/>
                <a:latin typeface="楷体_GB2312"/>
                <a:ea typeface="楷体_GB2312"/>
              </a:rPr>
              <a:t>1.</a:t>
            </a:r>
            <a:r>
              <a:rPr b="1" lang="zh-CN" sz="3600" spc="-1" strike="noStrike" u="sng">
                <a:solidFill>
                  <a:srgbClr val="3366cc"/>
                </a:solidFill>
                <a:uFillTx/>
                <a:latin typeface="楷体_GB2312"/>
                <a:ea typeface="楷体_GB2312"/>
              </a:rPr>
              <a:t>自由朗读课文。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66cc"/>
                </a:solidFill>
                <a:uFillTx/>
                <a:latin typeface="楷体_GB2312"/>
                <a:ea typeface="楷体_GB2312"/>
              </a:rPr>
              <a:t>2.</a:t>
            </a:r>
            <a:r>
              <a:rPr b="1" lang="zh-CN" sz="3600" spc="-1" strike="noStrike" u="sng">
                <a:solidFill>
                  <a:srgbClr val="3366cc"/>
                </a:solidFill>
                <a:uFillTx/>
                <a:latin typeface="楷体_GB2312"/>
                <a:ea typeface="楷体_GB2312"/>
              </a:rPr>
              <a:t>轻声默读课文。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2402280" y="2421000"/>
            <a:ext cx="1003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cc"/>
                </a:solidFill>
                <a:latin typeface="楷体_GB2312"/>
                <a:ea typeface="楷体_GB2312"/>
              </a:rPr>
              <a:t>小海鸥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cc"/>
                </a:solidFill>
                <a:latin typeface="楷体_GB2312"/>
                <a:ea typeface="楷体_GB2312"/>
              </a:rPr>
              <a:t>小鲤鱼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cc"/>
                </a:solidFill>
                <a:latin typeface="楷体_GB2312"/>
                <a:ea typeface="楷体_GB2312"/>
              </a:rPr>
              <a:t>乌鸦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cc"/>
                </a:solidFill>
                <a:latin typeface="楷体_GB2312"/>
                <a:ea typeface="楷体_GB2312"/>
              </a:rPr>
              <a:t>小蚯蚓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cc"/>
                </a:solidFill>
                <a:latin typeface="楷体_GB2312"/>
                <a:ea typeface="楷体_GB2312"/>
              </a:rPr>
              <a:t>屎壳郎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3672720" y="404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3366cc"/>
                </a:solidFill>
                <a:uFillTx/>
                <a:latin typeface="楷体_GB2312"/>
                <a:ea typeface="楷体_GB2312"/>
              </a:rPr>
              <a:t>这篇课文一共介绍了几种地球清洁工？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60" name="AutoShape 7"/>
          <p:cNvSpPr/>
          <p:nvPr/>
        </p:nvSpPr>
        <p:spPr>
          <a:xfrm>
            <a:off x="1763640" y="2708280"/>
            <a:ext cx="360360" cy="2303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59760 h 2303280"/>
              <a:gd name="textAreaBottom" fmla="*/ 2243520 h 23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461" name="Picture 8" descr="0803GIF[1]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1871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9T03:47:36Z</dcterms:created>
  <dc:creator/>
  <dc:description/>
  <dc:language>en-US</dc:language>
  <cp:lastModifiedBy/>
  <dcterms:modified xsi:type="dcterms:W3CDTF">2016-11-23T07:40:11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92052</vt:lpwstr>
  </property>
</Properties>
</file>