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40.jpeg" ContentType="image/jpeg"/>
  <Override PartName="/ppt/media/image12.jpeg" ContentType="image/jpeg"/>
  <Override PartName="/ppt/media/image16.jpeg" ContentType="image/jpeg"/>
  <Override PartName="/ppt/media/chimes.wav" ContentType="audio/x-wav"/>
  <Override PartName="/ppt/media/image21.jpeg" ContentType="image/jpeg"/>
  <Override PartName="/ppt/media/image27.jpeg" ContentType="image/jpeg"/>
  <Override PartName="/ppt/media/camera.wav" ContentType="audio/x-wav"/>
  <Override PartName="/ppt/media/image28.jpeg" ContentType="image/jpeg"/>
  <Override PartName="/ppt/media/image34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6B3-4245-483A-AE85-3DA6BB8B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E6C-D169-48B9-8AAC-A02EDF2E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FD1-BA6B-4E3C-82FE-5D5B4176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B9E-9A5C-410B-B911-ACC05174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C1B3-B361-4B23-AA14-D1880506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11BB-66CC-434E-965A-D4469C94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53E2-3E54-4798-B2C7-A9D3C91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0498-4FD8-46E9-AB3C-12E76742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A87B-45C8-417F-B56F-96044F77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C8C6-4392-40E5-86C2-6709826F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98E0-518C-401D-B578-535ACD7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170-8E70-4776-9059-679080C9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AA34-C2B7-4D79-A76F-E26F1E9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5F8A-BED2-4F44-B668-5093F72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2CEC-2966-4CF5-96EA-1E6A9A21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D466-7CAC-4C1F-AE83-8D6F893A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90A3-AD51-4F9B-9942-FE5E21DF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F05-EEDE-4318-B9F0-FA536B8E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576-4819-421F-AEDD-00136714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ED2-BA14-4667-8D3E-A1E62CD8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485-FDA5-4014-861D-0130841A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EB5-48AD-4881-A54A-5D70CCF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87D-2E83-451D-BDCF-C1873D0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0CD-33BF-4D4E-BF18-EDC29DD6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4BE5-80E9-4975-A33C-14A9E9D73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3C59-1858-43F2-97C5-1F9909D4E7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3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描写秋天的词语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秋高气爽    天高云淡     层林尽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秋雨绵绵    五谷丰登     瓜果飘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硕果累累    秋菊傲霜     丹桂飘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景色宜人    秋风习习     春华秋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441972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066680" y="334800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五彩缤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368960" cy="30481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4419720" y="3048120"/>
            <a:ext cx="4724280" cy="380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4191120" y="3962520"/>
            <a:ext cx="18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次阿兵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5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我会填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（      ）的秋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秋天（       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和老师一起拟题目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迷人的秋天     山野秋色     美丽的秋天         秋天的田野     我爱秋天     秋天的果园       秋天的田野    秋天的图画     秋天的树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爱的秋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第一段：开头可以开门见山，点名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是几个作文的开头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爱秋天，秋给我们画了一幅美丽的图画，它给人们带来了丰收的快乐。《我爱秋天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阵秋风吹来到处充满了秋天的气息。秋风伯伯忙着把这个喜讯传递给每一个人。《可爱的秋天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金色的秋天，正是硕果累累的时候。一天爸爸决定带我到家乡的果园去看一看。《秋天的果园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天是个美丽的季节，也是一个丰收的季节。家乡的秋景真是美不胜收。《美丽的秋天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中间：抓住秋天景色的几个特征来写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形状、姿态、色彩、声音。按照一定的顺序，适当运用比喻、拟人、夸张等修辞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843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按一定的顺序写作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可以从远到近，也可以从上到下，从左到右，从整体到局部，还可以按照地点转移的顺序来观察和写作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写看到的、听到的、闻到的、想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上修辞手法：比喻、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抓住景物的特点：色彩、形状、姿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写作方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到的：树叶、田野、果园以及一些小动物忙碌的场景，其中不乏秋天的色彩，有金黄的田野，各色的菊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到的：风吹树叶“刷刷”的声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到的：梨、苹果等各种水果的香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到的：农民伯伯忙着收割粮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80520" y="4114800"/>
            <a:ext cx="4876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观察一幅图，我们可以从上到下，也可以从远到近，从左到右，从整体到局部，还可以按照地点转移的顺序来观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257800" y="380880"/>
            <a:ext cx="3619440" cy="609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天到了，天气凉了。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湛蓝 的天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，高高地飘着几朵白云，显得格外宁静。 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远处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山林里，五彩缤纷 的树叶 像一只只蝴蝶在空中飞舞；轻轻落到地上，就像给大地盖上了一层金红色的地毯。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近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金色的稻谷像一片金色的海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919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232440" y="2303640"/>
            <a:ext cx="205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稻谷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，一阵风吹过，稻田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掀起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色的稻浪，像金色的海洋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0492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田野里，一株株红高粱，高高地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举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红红的火把，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威武地站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里。（拟人句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五彩缤纷的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草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天是黄色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松树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天是绿色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儿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天是红色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梨子说，秋天是黄色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而那被落叶装扮了的大地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秋天是绚丽多彩的。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366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52280" y="93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一个玉米棒子就有一尺来长，剥开皮一看，金黄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玉米粒就像列队的士兵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一样整齐地排列着，好像正等待什么命令。（比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0" y="32004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太阳出来了，照射在葡萄上就像一颗颗透明的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色宝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33520" y="15228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鲜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苹果像一个个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小灯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高高的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挂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枝头，树枝看起来快要被折断的样子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52280" y="1523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梨树上挂满了黄澄澄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梨子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，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像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一个个可爱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葫芦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09120" y="1599840"/>
            <a:ext cx="4000680" cy="44989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304920" y="837720"/>
            <a:ext cx="4000320" cy="4498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http://img2.3lian.com/img2007/23/14/018.jpg"/>
          <p:cNvPicPr/>
          <p:nvPr/>
        </p:nvPicPr>
        <p:blipFill>
          <a:blip r:embed="rId3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410080" y="304920"/>
            <a:ext cx="358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风吹拂，“哗啦啦”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树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纷纷扬扬从树上悠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u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悠地飘下来，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像一只美丽的蝴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空中飞舞，轻轻落到地上，就像给大地铺上了一层金红色的地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638680" y="7621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树上的叶子有的变红了，有的变黄了，秋风吹来，它们发出沙沙、沙沙的声响，好像他们穿着彩色衣裳伴秋风的乐器声弹唱着优美的乐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教你一写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秋天的雨，有一盒五彩缤纷的颜料。（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 句</a:t>
            </a: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总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你看，它把黄色给了银杏树，黄黄的叶子像一把把小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，扇哪扇哪，扇走了夏天的炎热。③它把红色给了枫树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红红的枫叶像一枚枚邮票，飘哇飘哇，邮来了秋天的凉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金黄色是给田野的，看，田野像金色的海洋。⑤橙红色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给果树的，橘子、柿子你挤我碰，争着要人们去摘呢！⑥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花仙子得到的颜色就更多了，紫红的、淡黄的、雪白的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美丽的菊花在秋雨里频频点头。（ ② ③ ④ ⑤ ⑥句具体描写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作文小秘诀：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文的中间内容要详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尾要简洁，还可以抒发自己对秋天的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124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4952880" y="2286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鹅卵石般的枣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4080" y="17064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5127480"/>
            <a:ext cx="231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567800" y="39844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黄澄澄的梨像葫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380880" y="152280"/>
            <a:ext cx="54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萄像宝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4495680" y="312408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 flipH="1">
            <a:off x="5104800" y="3246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红彤彤的苹果像灯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0880" y="252144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秋天的果园是五彩缤纷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总写）像小灯笼一样的苹果挂满枝头。黄澄澄的鸭梨挤在一起，像个胖嘟嘟的小娃娃。葡萄，一个个晶莹透亮，好像在说：“想不想尝我那晶莹的葡萄呀？”宝石般的枣子有的害了羞，躲在枝叶的后面，和我玩捉迷藏；有的则大大方方地站了出来，向人们炫耀他那优美的姿态。（分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600200" y="2189160"/>
            <a:ext cx="85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和秋天有个约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42520" y="4952880"/>
            <a:ext cx="372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执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116352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教版三年级习作指导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4724280" y="3733920"/>
            <a:ext cx="4191120" cy="29718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68960" cy="36576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173400" y="4997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朝天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5"/>
          <a:stretch/>
        </p:blipFill>
        <p:spPr>
          <a:xfrm>
            <a:off x="4419720" y="3657600"/>
            <a:ext cx="4724280" cy="30481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147720" y="425592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米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6"/>
          <a:stretch/>
        </p:blipFill>
        <p:spPr>
          <a:xfrm>
            <a:off x="4343400" y="0"/>
            <a:ext cx="4800600" cy="365760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4343400" y="15238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彩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895480" y="685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笼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97560" cy="34290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习作选材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空：秋高气爽   天高云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田野：庄稼丰收  农民忙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果园：硕果累累  瓜果飘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叶：随风飘落  翩翩起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雨：秋雨绵绵  如烟如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物：大雁南飞  松鼠储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孩：游玩嬉戏  帮忙丰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结尾的句子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天的景色可真美呀！美在山林，美在果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在菜园，而最美的却是那丰收的景色，那是汗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浇出的累累硕果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天是果实成熟的季节，是丰收的季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天是一幅美丽的图画，秋天是一个收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，我爱秋天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，收获的季节，金黄的季节，同春一样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爱，同夏一样热情，冬一样迷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孩子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天，我们学习了怎样去观察景物，怎样去写景物，其实，不管写事还是写物，你只要记住“先写是什么，再写怎么样，最后写为什么”，那就成为一篇文章了，只要你们勤学多练，未来作家的小星星就会从我们班里冉冉升起的，加油吧，我的孩子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作文结构安排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头：开门见山，点明题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间：抓住秋天景色的几个特点：如形状、姿态、色彩、声音。按照一定的顺序，适当运用比喻、拟人、夸张等修辞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尾：表达对秋景的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范文赏析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丽的秋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秋天像一把钥匙，趁你不注意，悄悄地把秋天的门打开了。　　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田野里，玉米弟弟笑得露出了他那黄黄的牙齿，稻子哥哥被玉米弟弟逗得露出了黄澄澄的大肚皮，谷子姐姐也笑弯了腰，高粱妹妹也在一旁偷着乐红了脸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果园里，石榴咧开嘴笑了，鹅卵石般的枣子熟了，黄澄澄的梨也熟了，葡萄像一串串紫水晶，苹果像一个个小灯笼挂在枝头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花园里，五颜六色的菊花开了，在梳着她那美丽的头发。桂花开了，正喝着味道浓浓的绿茶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树林里，黄黄的落叶像一只只美丽的蝴蝶在空中翩翩起舞，又像一只金黄的小鸟在跳舞歌唱。红红的枫叶像一枚枚邮票，它乘着风，飘到动物们的家门口，告诉它们要做好过冬的准备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学校里，教室中不时传来诵“秋天”诗文的读书声，还不时传来喜鹊的叫声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我爱美丽的秋天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495680" y="152280"/>
            <a:ext cx="4648320" cy="31244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4952880" y="2286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84080" y="17064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5127480"/>
            <a:ext cx="231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992160" y="4005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80880" y="1522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4495680" y="312408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H="1">
            <a:off x="5104800" y="3246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9718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4546440" y="3048120"/>
            <a:ext cx="4597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 flipH="1">
            <a:off x="4572000" y="838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04b_21"/>
                <a:ea typeface="黑体"/>
              </a:rPr>
              <a:t>秋高气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5091840" y="3803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层林尽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525780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秋菊傲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853920"/>
            <a:ext cx="31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icrosoft Sans Serif"/>
                <a:ea typeface="黑体"/>
              </a:rPr>
              <a:t>天高云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756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6768360" y="1060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雁南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78480" y="1082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秋收冬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5053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5764680" y="3673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瓜果飘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772400" y="106668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硕果累累果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62532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硕果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36116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秋雨绵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191120" cy="32767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676520" y="4359240"/>
            <a:ext cx="25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五谷丰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>
            <a:off x="4191120" y="350532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099280" y="4792680"/>
            <a:ext cx="1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飘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19720" y="5861160"/>
            <a:ext cx="24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瓜果飘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3-09T00:25:4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