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79280" y="574560"/>
            <a:ext cx="8817120" cy="5973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3719520" y="6531120"/>
            <a:ext cx="1706400" cy="323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0" y="5969160"/>
            <a:ext cx="203184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79280" y="574560"/>
            <a:ext cx="8817120" cy="5973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719520" y="6531120"/>
            <a:ext cx="1706400" cy="32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0" y="5969160"/>
            <a:ext cx="2031840" cy="90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" Target="slide1.xm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" Target="slide1.xm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9280" y="574560"/>
            <a:ext cx="8817120" cy="5973840"/>
            <a:chOff x="179280" y="574560"/>
            <a:chExt cx="8817120" cy="59738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79280" y="574560"/>
              <a:ext cx="8817120" cy="59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1523880" y="990360"/>
              <a:ext cx="6324480" cy="464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838080" y="914400"/>
            <a:ext cx="7391520" cy="1447920"/>
            <a:chOff x="838080" y="914400"/>
            <a:chExt cx="7391520" cy="1447920"/>
          </a:xfrm>
        </p:grpSpPr>
        <p:sp>
          <p:nvSpPr>
            <p:cNvPr id="86" name=""/>
            <p:cNvSpPr txBox="1"/>
            <p:nvPr/>
          </p:nvSpPr>
          <p:spPr>
            <a:xfrm>
              <a:off x="2361960" y="914400"/>
              <a:ext cx="586764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6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de2a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新魏"/>
                </a:rPr>
                <a:t>哪吒闹海</a:t>
              </a:r>
              <a:endParaRPr b="1" lang="en-US" sz="1800" spc="-1" strike="noStrike">
                <a:ln w="9360">
                  <a:solidFill>
                    <a:srgbClr val="de2a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38080" y="1184400"/>
              <a:ext cx="1148760" cy="872640"/>
              <a:chOff x="838080" y="1184400"/>
              <a:chExt cx="1148760" cy="872640"/>
            </a:xfrm>
          </p:grpSpPr>
          <p:sp>
            <p:nvSpPr>
              <p:cNvPr id="88" name=""/>
              <p:cNvSpPr/>
              <p:nvPr/>
            </p:nvSpPr>
            <p:spPr>
              <a:xfrm>
                <a:off x="942480" y="1184400"/>
                <a:ext cx="1044360" cy="872640"/>
              </a:xfrm>
              <a:prstGeom prst="ellipse">
                <a:avLst/>
              </a:prstGeom>
              <a:solidFill>
                <a:srgbClr val="e2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8080" y="1184400"/>
                <a:ext cx="1045080" cy="872640"/>
              </a:xfrm>
              <a:prstGeom prst="ellipse">
                <a:avLst/>
              </a:prstGeom>
              <a:solidFill>
                <a:srgbClr val="fa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바탕"/>
                    <a:ea typeface="바탕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苏教版 三年级 语文 上册 第三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69280" y="684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16840" y="220896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的朗读课文，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9560" y="289476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按照课文发展顺序讲述哪吒闹海的经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684360" y="3580560"/>
            <a:ext cx="959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悟哪吒的为民着想，不畏强暴，敢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邪恶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91400" y="594360"/>
            <a:ext cx="304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066680" y="1629720"/>
            <a:ext cx="92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读课文，想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95000" y="2682000"/>
            <a:ext cx="831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哪吒为什么要闹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哪吒是怎么闹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839440" cy="6019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410080" y="1574640"/>
            <a:ext cx="3581640" cy="4978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4343400"/>
            <a:ext cx="563868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dadd">
                  <a:alpha val="53333"/>
                </a:srgbClr>
              </a:gs>
              <a:gs pos="100000">
                <a:srgbClr val="e1f4f7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东海龙王父子称霸一方，经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兴风作浪，害得人们不敢下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捕鱼。哪吒决心治一治他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为老百姓出一口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8817120" cy="597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3733920"/>
            <a:ext cx="6400800" cy="281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4b9c0">
                  <a:alpha val="80000"/>
                </a:srgbClr>
              </a:gs>
              <a:gs pos="100000">
                <a:srgbClr val="e1f4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天，小哪吒带上他的两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法宝——混天绫和乾坤圏，来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海边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他跳进大海里，取下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天绫在水里一摆，便掀起滔天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浪，连东海龙王的水晶宫也摇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起来。龙王吓了一跳，连忙派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海夜叉上去察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380880"/>
            <a:ext cx="4267080" cy="1295640"/>
          </a:xfrm>
          <a:prstGeom prst="cloudCallout">
            <a:avLst>
              <a:gd name="adj1" fmla="val -12018"/>
              <a:gd name="adj2" fmla="val 166175"/>
            </a:avLst>
          </a:prstGeom>
          <a:gradFill rotWithShape="0">
            <a:gsLst>
              <a:gs pos="0">
                <a:srgbClr val="00b4b0"/>
              </a:gs>
              <a:gs pos="100000">
                <a:srgbClr val="add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些词和课题中哪个词联系得十分紧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1235160"/>
            <a:ext cx="4114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066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仿宋_GB2312"/>
              </a:rPr>
              <a:t>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574560"/>
            <a:ext cx="8888400" cy="5973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280" y="228600"/>
            <a:ext cx="861084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f1f4"/>
              </a:gs>
              <a:gs pos="100000">
                <a:srgbClr val="64b9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80880"/>
            <a:ext cx="31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6825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10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夜叉从水底钻出来，只见一个娃娃在洗澡，举起斧头便砍。小哪吒可机灵啦，身子一闪，躲过了这一斧头，随即取下乾坤圈，向夜叉扔去。可别小看这小小的乾坤圈，它比一座大山还重，一下就把夜叉给打死了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9280" y="533520"/>
            <a:ext cx="8817120" cy="6043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720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叫“机灵”？小哪吒的机灵表现在哪几个词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533520"/>
            <a:ext cx="881712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574560"/>
            <a:ext cx="8834400" cy="59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574560"/>
            <a:ext cx="8844120" cy="597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62920" y="609480"/>
            <a:ext cx="1828800" cy="4343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343400"/>
              <a:gd name="textAreaBottom" fmla="*/ 4254120 h 4343400"/>
            </a:gdLst>
            <a:ahLst/>
            <a:rect l="textAreaLeft" t="textAreaTop" r="textAreaRight" b="textAreaBottom"/>
            <a:pathLst>
              <a:path w="21600" h="51294">
                <a:moveTo>
                  <a:pt x="3600" y="0"/>
                </a:moveTo>
                <a:arcTo wR="3600" hR="3600" stAng="16200000" swAng="-5400000"/>
                <a:lnTo>
                  <a:pt x="0" y="47694"/>
                </a:lnTo>
                <a:arcTo wR="3600" hR="3600" stAng="10800000" swAng="-5400000"/>
                <a:lnTo>
                  <a:pt x="18000" y="51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66869">
                  <a:alpha val="60000"/>
                </a:srgbClr>
              </a:gs>
              <a:gs pos="50000">
                <a:srgbClr val="bbe0e3"/>
              </a:gs>
              <a:gs pos="100000">
                <a:srgbClr val="566869">
                  <a:alpha val="6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龙王听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以后，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得嗷嗷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叫，就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他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三太子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兵去捉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哪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216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20360" y="21337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哪吒是怎么对付三太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0360" y="30481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你从中体会的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rcRect l="0" t="0" r="41734" b="25153"/>
          <a:stretch/>
        </p:blipFill>
        <p:spPr>
          <a:xfrm>
            <a:off x="179280" y="574560"/>
            <a:ext cx="8820360" cy="5973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5791320" cy="6014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962520" y="2268360"/>
            <a:ext cx="4952880" cy="4437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76520" y="609480"/>
            <a:ext cx="380988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e1e4"/>
              </a:gs>
              <a:gs pos="100000">
                <a:srgbClr val="82c7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三太子跳出水面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气冲冲地对哪吒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685800"/>
            <a:ext cx="4343400" cy="1752480"/>
          </a:xfrm>
          <a:prstGeom prst="cloudCallout">
            <a:avLst>
              <a:gd name="adj1" fmla="val -79347"/>
              <a:gd name="adj2" fmla="val 10851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华文新魏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华文新魏"/>
              </a:rPr>
              <a:t>你打死我家夜叉，该当何罪？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429000"/>
            <a:ext cx="2971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c7cc"/>
              </a:gs>
              <a:gs pos="100000">
                <a:srgbClr val="bee1e4"/>
              </a:gs>
            </a:gsLst>
            <a:lin ang="5400000"/>
          </a:gradFill>
          <a:ln w="38160">
            <a:solidFill>
              <a:srgbClr val="00b4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说着，举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便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152280"/>
            <a:ext cx="4343400" cy="1447920"/>
          </a:xfrm>
          <a:prstGeom prst="cloudCallout">
            <a:avLst>
              <a:gd name="adj1" fmla="val -91120"/>
              <a:gd name="adj2" fmla="val 6875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看看这节课是什么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09680" cy="156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65160" y="3703680"/>
            <a:ext cx="8674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606760"/>
            <a:ext cx="769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正确、流利有感情的朗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学会本课十个生字，两条绿线内的只识不写。理解由生字组成的词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根据课文内容，试着讲讲“哪吒闹海”这一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rcRect l="0" t="0" r="41734" b="25153"/>
          <a:stretch/>
        </p:blipFill>
        <p:spPr>
          <a:xfrm>
            <a:off x="179280" y="304920"/>
            <a:ext cx="8820360" cy="5973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4724640" cy="4014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457200"/>
            <a:ext cx="723888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吒一纵身，趁势抖出混天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混天绫立刻喷出一团团火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三太子紧紧裹住。三太子只好现出了原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rcRect l="1725" t="7597" r="24140" b="2326"/>
          <a:stretch/>
        </p:blipFill>
        <p:spPr>
          <a:xfrm>
            <a:off x="4191120" y="2743200"/>
            <a:ext cx="4875120" cy="38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574560"/>
            <a:ext cx="8817120" cy="5973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71800" y="762120"/>
            <a:ext cx="4952880" cy="2133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此，东海龙王再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不敢胡作非为了，人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又过上了太平日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5943600"/>
            <a:ext cx="121932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"/>
                            </p:stCondLst>
                            <p:childTnLst>
                              <p:par>
                                <p:cTn id="19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4618" b="3921"/>
          <a:stretch/>
        </p:blipFill>
        <p:spPr>
          <a:xfrm>
            <a:off x="3708360" y="762120"/>
            <a:ext cx="5359320" cy="5790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2055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一篇神化故事，写小哪吒大闹东海，制服龙王，使人们过上了太平的日子的事，表现了哪吒为人民着想，对恶势力敢于斗争而获得胜利的可贵精神，这种精神值得我们学习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257800"/>
            <a:ext cx="2590920" cy="7621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82c7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我的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8320" y="4343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533520"/>
            <a:ext cx="71629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28600"/>
            <a:ext cx="3048120" cy="1523880"/>
          </a:xfrm>
          <a:prstGeom prst="cloudCallout">
            <a:avLst>
              <a:gd name="adj1" fmla="val 120416"/>
              <a:gd name="adj2" fmla="val 116041"/>
            </a:avLst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Arial"/>
                <a:ea typeface="隶书"/>
              </a:rPr>
              <a:t>来看今天的练习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981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按要求改写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5909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哪吒打死了夜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哪吒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夜叉打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191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东海龙王父子害苦了老百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715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我要把这个故事讲给小朋友们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1371600"/>
            <a:ext cx="8686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579132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7240" y="4876920"/>
            <a:ext cx="20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东海龙王父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老百姓害苦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"/>
                            </p:stCondLst>
                            <p:childTnLst>
                              <p:par>
                                <p:cTn id="2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86600" y="-68400"/>
            <a:ext cx="2198520" cy="197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9200" y="608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一起消灭这些生字吧！（三分钟后比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93760" y="1478880"/>
            <a:ext cx="9704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两件   混天绫   巨浪  晃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夜叉  砍东西   随即   扔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纵身     胡作非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133720"/>
            <a:ext cx="65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904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iᾲ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133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240" y="182772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ύ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9080" y="19040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40320" y="18277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0400" y="3351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3400" y="3351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ᾰ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6480" y="327564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720" y="335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0960" y="47995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8758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76320"/>
            <a:ext cx="5639040" cy="1904760"/>
          </a:xfrm>
          <a:prstGeom prst="cloudCallout">
            <a:avLst>
              <a:gd name="adj1" fmla="val -72180"/>
              <a:gd name="adj2" fmla="val 713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40000"/>
                </a:srgbClr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再来消灭这些词语吧！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分钟后比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247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2117160"/>
            <a:ext cx="899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霸    哪吒    斧头     机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气冲冲    混天绫    胡作非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裹住    原形    随即   火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晶宫    乾坤圈    兴风作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853160"/>
            <a:ext cx="8305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兴风作浪： 刮起大风，掀起大浪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胡作非为： 专做坏事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48360" y="1706400"/>
            <a:ext cx="4431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0476"/>
                </a:solidFill>
                <a:latin typeface="Arial"/>
              </a:rPr>
              <a:t>( </a:t>
            </a:r>
            <a:r>
              <a:rPr b="0" lang="zh-CN" sz="4400" spc="-1" strike="noStrike">
                <a:solidFill>
                  <a:srgbClr val="17047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170476"/>
                </a:solidFill>
                <a:latin typeface="Arial"/>
              </a:rPr>
              <a:t> )</a:t>
            </a:r>
            <a:r>
              <a:rPr b="1" lang="en-US" sz="4400" spc="-1" strike="noStrike">
                <a:solidFill>
                  <a:srgbClr val="17047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写哪吒闹海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原因</a:t>
            </a: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（ ～ ）写哪吒闹海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经过</a:t>
            </a: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（  ）写哪吒闹海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结果</a:t>
            </a:r>
            <a:r>
              <a:rPr b="1" lang="zh-CN" sz="4400" spc="-1" strike="noStrike">
                <a:solidFill>
                  <a:srgbClr val="17047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320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读课文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分钟比赛）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840" y="205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4600" y="2666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50080" y="2635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840" y="3351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97964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描写哪吒闹海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思考哪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08240" y="266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闹东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10520" y="319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打死了夜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61240" y="3153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制服了龙王三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4160" y="68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70000" y="608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34840" y="1675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下列宝物主人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2665800"/>
            <a:ext cx="929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火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箍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宝莲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- 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45640" y="2666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74720" y="3199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21960" y="365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5640" y="411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马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完成《补充习题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、二、四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79280" y="574560"/>
            <a:ext cx="8817120" cy="5973840"/>
            <a:chOff x="179280" y="574560"/>
            <a:chExt cx="8817120" cy="59738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79280" y="574560"/>
              <a:ext cx="8817120" cy="59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1523880" y="990360"/>
              <a:ext cx="6324480" cy="464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838080" y="914400"/>
            <a:ext cx="7391520" cy="1447920"/>
            <a:chOff x="838080" y="914400"/>
            <a:chExt cx="7391520" cy="1447920"/>
          </a:xfrm>
        </p:grpSpPr>
        <p:sp>
          <p:nvSpPr>
            <p:cNvPr id="138" name=""/>
            <p:cNvSpPr txBox="1"/>
            <p:nvPr/>
          </p:nvSpPr>
          <p:spPr>
            <a:xfrm>
              <a:off x="2361960" y="914400"/>
              <a:ext cx="586764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6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de2a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新魏"/>
                </a:rPr>
                <a:t>哪吒闹海</a:t>
              </a:r>
              <a:endParaRPr b="1" lang="en-US" sz="1800" spc="-1" strike="noStrike">
                <a:ln w="9360">
                  <a:solidFill>
                    <a:srgbClr val="de2a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838080" y="1184400"/>
              <a:ext cx="1148760" cy="872640"/>
              <a:chOff x="838080" y="1184400"/>
              <a:chExt cx="1148760" cy="872640"/>
            </a:xfrm>
          </p:grpSpPr>
          <p:sp>
            <p:nvSpPr>
              <p:cNvPr id="140" name=""/>
              <p:cNvSpPr/>
              <p:nvPr/>
            </p:nvSpPr>
            <p:spPr>
              <a:xfrm>
                <a:off x="942480" y="1184400"/>
                <a:ext cx="1044360" cy="872640"/>
              </a:xfrm>
              <a:prstGeom prst="ellipse">
                <a:avLst/>
              </a:prstGeom>
              <a:solidFill>
                <a:srgbClr val="e2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8080" y="1184400"/>
                <a:ext cx="1045080" cy="872640"/>
              </a:xfrm>
              <a:prstGeom prst="ellipse">
                <a:avLst/>
              </a:prstGeom>
              <a:solidFill>
                <a:srgbClr val="fa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바탕"/>
                    <a:ea typeface="바탕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苏教版 三年级 语文 上册 第三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3:19:09Z</dcterms:created>
  <dc:creator/>
  <dc:description/>
  <cp:keywords/>
  <dc:language>en-US</dc:language>
  <cp:lastModifiedBy>User</cp:lastModifiedBy>
  <dcterms:modified xsi:type="dcterms:W3CDTF">2013-10-22T01:24:5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  <property fmtid="{D5CDD505-2E9C-101B-9397-08002B2CF9AE}" pid="3" name="Version">
    <vt:r8>1</vt:r8>
  </property>
</Properties>
</file>