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386-359D-455D-83D5-4B2B0B57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DCF-8E5D-44C9-92AA-207D1E5C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4FAEB-CBC9-4E03-8654-CEC415E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ADB0F-1326-4A17-85C0-5B95366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012CA-A953-4942-B620-285F48DB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978E2-5C2E-4C4F-9E59-FB43EFA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AC4B3-93C7-45A4-921D-04AC552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9AE0A-9208-4FE2-903A-A88D570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AB8A0-7419-4D50-932D-DA848931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A889B-E04C-4EE2-A16E-DDABD029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02779-5A93-464E-9DB6-94A3A106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8E8-1C89-4D61-8343-BCE16AB2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6D4-D7B0-412F-9F00-DC036A4F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0C01-81A0-4FCB-958F-450B1052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1141-7858-427C-8B49-D618D816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8280-FADB-4F42-91E9-C20A09A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F48E-FAC9-4CF6-B587-444549A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128F-450E-4297-B983-71ABA8E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37F-923F-4C51-B205-4EA695A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A9F4-8881-4B64-A446-4F8075D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C4B-DC6A-44BA-8245-260AA25F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571-2A18-4823-995B-673835E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733C-1F67-40A5-8032-DB171B3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0AA-3C73-4CE7-8593-F82D033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DAB-5D3F-4962-8009-FD8D47B1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E10F-44BB-40F0-A17F-A438EB3E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5FD4-0D88-4A7A-8D87-8D5DE839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CBC5-D380-400E-8CC1-BC79456E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DEEF-FAC6-4ADC-AA0F-494F9D49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97CA-436C-417D-99CB-C93A6A48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72C5-A7A2-44C6-9E4F-2A51239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2EE-75C8-4604-9D24-34CDA7CD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8EEC-F300-4244-BBA2-BBFB897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0011-21B8-4C92-B3ED-A9F26A3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7FF3-0DB8-4ABA-909B-4C298E2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2EA9-7827-4980-92E6-095408B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7BDC-8A55-4748-801A-9302C85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D71E-1FBC-4EC5-A0A7-B3D9AEFD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4E02-FAA8-43F0-ABE4-ABB5DF58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2B4B-2CB6-4CB2-8CD3-2AC8B84C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2627-D624-4BFF-BF99-B7D1722F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020F-4F91-43A4-9D12-DA94012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A5A-F7E6-45F3-BDB6-BA0DC9E5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198F-FBB3-4840-8973-7E4CA4A2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F866-5A75-4B2B-9EB9-D497EDE4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E131-23FC-4B23-A5F5-C395AEC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565C-10FF-4EAD-872F-709EB6F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A533-5177-490C-8F5E-4955AD3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D993-6EFD-40A8-86AF-7584AF2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F029-F4E6-4D50-A658-FDE3198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23A5-6138-4AAA-B34F-C696CBFC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8BE5-4ACA-4937-91DA-6EDE25C8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3503-7211-4CA7-9F8C-A4785BAF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A64-9E1F-41A4-8646-43238993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C1E2-84F9-4161-860D-42061C6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6758C-FBB2-41C4-AD82-E54C73CA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D9F6-3F4A-4511-8AC9-0F77AA7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5D20-BB06-438C-896E-9F87350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E10D5-1968-4DA1-9933-4AEA794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54FA-D800-4003-A915-52FD44A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169E-40BC-46C9-A69B-986A5A1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0B6B-8C82-44CF-90F7-F4DC51A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4B75-94FA-4177-9A04-F85EB7F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4470F-252E-4DE0-AB2A-795A8CDA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C40-4302-4479-B348-96EB59E2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E47B-5CC8-4565-AC35-75F71572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875C1-5211-4017-A772-2CDB9D9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4434C-846A-4E46-9C50-45BEAD1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578DF-E533-4F23-9374-8721D307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8CE21-9F76-47FC-8160-83C26C3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5E908-BC16-4ED2-A925-DF2D5B0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60022-602B-44B6-9C48-6404141E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8068F-E8B0-4094-8636-EDD8800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AC092-E15B-45F1-8C89-B1DDDFB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FC18A-98D5-418A-840F-1CF99E1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BAD-F6DD-42C0-90A3-2859ACF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3816F-1F02-4129-B4C8-F4F037C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0D7FD-EE1A-465E-BFC1-3A9049BD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AC85E-16C6-49B7-8B4C-8BCBCEF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F2EA-231A-4612-81E6-E43A4E78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7362-31BE-4FEC-BCB2-21D84250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C7886-706E-4815-BFF7-18C163E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D516-2A27-463C-9A17-17ABF5AA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D969-AA2C-4C51-A6C9-A588BA9B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BE76-1BDC-47C8-9385-2272942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791DB-A2A2-4DF0-88E8-A8B4FF5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582-35E8-43BD-9447-F36D12F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DB37-2E14-41D2-A60B-EFB28C4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8B82-9C09-4E29-B556-74F01A4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B822-9488-4428-AB08-3B420D1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4A23-343B-4989-B0C6-D6090929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CE4A-03BD-41ED-889C-2D8A1276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A4C4B-B9FC-4073-B889-3BAAF169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0ACE9-D681-4B03-8B27-880A3930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881D3-3A4D-435A-A135-429531DB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A1F4-E3DF-4B17-A427-FA714CB3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8E5A0-AD29-4E2E-A0E3-434E5B8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BAD-60A5-4980-BC3F-DB6174D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3375-D378-49E3-835F-A4F63562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3359-F73C-46D8-9592-97B6B17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B3EB5-5DBA-47D0-8053-A458421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4AC2-FE50-4D75-9264-2757A3E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E291-1A9A-43A0-97F6-3398B70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8FAA4-1D5D-4B4E-A307-6FFD3553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6CA77-9CAA-41E5-BF82-9ADF3B6C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2D121-857D-49CC-92F0-6AAAF3E7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F7434-C125-4AF9-B149-9B2251A9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4CD007-5BEB-4AE2-91A4-420C0A4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BF4-A1C8-42F4-952A-054B31A2E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6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4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6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BE30-40C5-4627-A833-3058585ACF1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DCE-95B6-4530-839B-2BDEA5DFB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F7E-CD40-402E-9FE9-6E47B1925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05F-65E5-4EDA-8CD0-D7F73DAC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8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8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339-DCDD-4B76-971F-6C2464D9F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4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4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4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5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5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6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6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7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7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8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8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9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9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0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0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1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1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2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2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3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3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4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4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5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5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098-B4E3-4C2D-9D85-CBA75B1C649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7DD9-6D93-4F05-B2E1-9CE9E454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6130-C5D9-4A2C-999F-182261618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4" descr="2"/>
          <p:cNvPicPr/>
          <p:nvPr/>
        </p:nvPicPr>
        <p:blipFill>
          <a:blip r:embed="rId1"/>
          <a:stretch/>
        </p:blipFill>
        <p:spPr>
          <a:xfrm>
            <a:off x="-541440" y="0"/>
            <a:ext cx="9685440" cy="683892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7942320" y="260280"/>
            <a:ext cx="7333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6366240" y="260280"/>
            <a:ext cx="1642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楷体_GB2312"/>
              </a:rPr>
              <a:t>枫   桥   夜   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姑苏城外寒山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寒山寺在枫桥西一里，初建于梁代，唐 诗僧寒山曾住于此，因而得名。枫桥的诗意美，有了这所古刹，便带上了历史文化的色泽，而显得更加丰富，动人遐想。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9901080" cy="6858000"/>
            <a:chOff x="0" y="0"/>
            <a:chExt cx="9901080" cy="6858000"/>
          </a:xfrm>
        </p:grpSpPr>
        <p:pic>
          <p:nvPicPr>
            <p:cNvPr id="741" name="Picture 3" descr="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4"/>
            <p:cNvSpPr/>
            <p:nvPr/>
          </p:nvSpPr>
          <p:spPr>
            <a:xfrm>
              <a:off x="7524720" y="18900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00"/>
                  </a:solidFill>
                  <a:latin typeface="Arial"/>
                </a:rPr>
                <a:t>寒山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夜半钟声到客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夜半钟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就不但衬托出了夜的静谧，而且揭示了夜的深永和清寥，而诗人卧听疏钟时的种种难以言传的感受也就尽在不言中了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Organization Chart 36"/>
          <p:cNvGrpSpPr/>
          <p:nvPr/>
        </p:nvGrpSpPr>
        <p:grpSpPr>
          <a:xfrm>
            <a:off x="1332000" y="476280"/>
            <a:ext cx="6479280" cy="3130920"/>
            <a:chOff x="1332000" y="476280"/>
            <a:chExt cx="6479280" cy="3130920"/>
          </a:xfrm>
        </p:grpSpPr>
        <p:cxnSp>
          <p:nvCxnSpPr>
            <p:cNvPr id="746" name="_s1028"/>
            <p:cNvCxnSpPr>
              <a:stCxn id="747" idx="0"/>
              <a:endCxn id="748" idx="2"/>
            </p:cNvCxnSpPr>
            <p:nvPr/>
          </p:nvCxnSpPr>
          <p:spPr>
            <a:xfrm flipV="1" rot="16200000">
              <a:off x="5518800" y="781920"/>
              <a:ext cx="626760" cy="251892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9" name="_s1029"/>
            <p:cNvCxnSpPr>
              <a:stCxn id="750" idx="0"/>
              <a:endCxn id="748" idx="2"/>
            </p:cNvCxnSpPr>
            <p:nvPr/>
          </p:nvCxnSpPr>
          <p:spPr>
            <a:xfrm flipV="1" rot="16200000">
              <a:off x="4678920" y="1621800"/>
              <a:ext cx="626760" cy="83880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1" name="_s1030"/>
            <p:cNvCxnSpPr>
              <a:stCxn id="752" idx="0"/>
              <a:endCxn id="748" idx="2"/>
            </p:cNvCxnSpPr>
            <p:nvPr/>
          </p:nvCxnSpPr>
          <p:spPr>
            <a:xfrm flipH="1" flipV="1" rot="5400000">
              <a:off x="3839400" y="1620360"/>
              <a:ext cx="626760" cy="84240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3" name="_s1031"/>
            <p:cNvCxnSpPr>
              <a:stCxn id="754" idx="0"/>
              <a:endCxn id="748" idx="2"/>
            </p:cNvCxnSpPr>
            <p:nvPr/>
          </p:nvCxnSpPr>
          <p:spPr>
            <a:xfrm flipH="1" flipV="1" rot="5400000">
              <a:off x="2999160" y="780480"/>
              <a:ext cx="626760" cy="25221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8" name="_s1032"/>
            <p:cNvSpPr/>
            <p:nvPr/>
          </p:nvSpPr>
          <p:spPr>
            <a:xfrm>
              <a:off x="3851640" y="476280"/>
              <a:ext cx="1439640" cy="1252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所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_s1033"/>
            <p:cNvSpPr/>
            <p:nvPr/>
          </p:nvSpPr>
          <p:spPr>
            <a:xfrm>
              <a:off x="1332000" y="2354760"/>
              <a:ext cx="1439640" cy="1252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ff0000"/>
                  </a:solidFill>
                  <a:uFillTx/>
                  <a:latin typeface="Arial"/>
                  <a:hlinkClick r:id="rId1" action="ppaction://hlinksldjump"/>
                </a:rPr>
                <a:t>月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_s1034"/>
            <p:cNvSpPr/>
            <p:nvPr/>
          </p:nvSpPr>
          <p:spPr>
            <a:xfrm>
              <a:off x="3011760" y="2354760"/>
              <a:ext cx="1439640" cy="1252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霜满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_s1035"/>
            <p:cNvSpPr/>
            <p:nvPr/>
          </p:nvSpPr>
          <p:spPr>
            <a:xfrm>
              <a:off x="4691880" y="2354760"/>
              <a:ext cx="1439640" cy="1252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Arial"/>
                  <a:hlinkClick r:id="rId2" action="ppaction://hlinksldjump"/>
                </a:rPr>
                <a:t>江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1036"/>
            <p:cNvSpPr/>
            <p:nvPr/>
          </p:nvSpPr>
          <p:spPr>
            <a:xfrm>
              <a:off x="6371640" y="2354760"/>
              <a:ext cx="1439640" cy="1252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渔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Organization Chart 47"/>
          <p:cNvGrpSpPr/>
          <p:nvPr/>
        </p:nvGrpSpPr>
        <p:grpSpPr>
          <a:xfrm>
            <a:off x="1619280" y="4149720"/>
            <a:ext cx="6265080" cy="2448720"/>
            <a:chOff x="1619280" y="4149720"/>
            <a:chExt cx="6265080" cy="2448720"/>
          </a:xfrm>
        </p:grpSpPr>
        <p:cxnSp>
          <p:nvCxnSpPr>
            <p:cNvPr id="756" name="_s1039"/>
            <p:cNvCxnSpPr>
              <a:stCxn id="757" idx="0"/>
              <a:endCxn id="758" idx="2"/>
            </p:cNvCxnSpPr>
            <p:nvPr/>
          </p:nvCxnSpPr>
          <p:spPr>
            <a:xfrm flipV="1" rot="16200000">
              <a:off x="5349600" y="4529880"/>
              <a:ext cx="490320" cy="1687680"/>
            </a:xfrm>
            <a:prstGeom prst="bentConnector3">
              <a:avLst>
                <a:gd name="adj1" fmla="val 20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9" name="_s1040"/>
            <p:cNvCxnSpPr>
              <a:stCxn id="760" idx="0"/>
              <a:endCxn id="758" idx="2"/>
            </p:cNvCxnSpPr>
            <p:nvPr/>
          </p:nvCxnSpPr>
          <p:spPr>
            <a:xfrm flipH="1" flipV="1" rot="5400000">
              <a:off x="3663000" y="4530600"/>
              <a:ext cx="490320" cy="1686960"/>
            </a:xfrm>
            <a:prstGeom prst="bentConnector3">
              <a:avLst>
                <a:gd name="adj1" fmla="val 20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8" name="_s1041"/>
            <p:cNvSpPr/>
            <p:nvPr/>
          </p:nvSpPr>
          <p:spPr>
            <a:xfrm>
              <a:off x="3305520" y="4149720"/>
              <a:ext cx="2891520" cy="979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所闻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1042"/>
            <p:cNvSpPr/>
            <p:nvPr/>
          </p:nvSpPr>
          <p:spPr>
            <a:xfrm>
              <a:off x="1619280" y="5618880"/>
              <a:ext cx="2891520" cy="979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乌啼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_s1043"/>
            <p:cNvSpPr/>
            <p:nvPr/>
          </p:nvSpPr>
          <p:spPr>
            <a:xfrm>
              <a:off x="4992840" y="5618880"/>
              <a:ext cx="2891520" cy="979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 u="sng">
                  <a:solidFill>
                    <a:srgbClr val="ff0000"/>
                  </a:solidFill>
                  <a:uFillTx/>
                  <a:latin typeface="Arial"/>
                  <a:hlinkClick r:id="rId3" action="ppaction://hlinksldjump"/>
                </a:rPr>
                <a:t>钟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AutoShape 59"/>
          <p:cNvSpPr/>
          <p:nvPr/>
        </p:nvSpPr>
        <p:spPr>
          <a:xfrm>
            <a:off x="8172360" y="6426360"/>
            <a:ext cx="719280" cy="431640"/>
          </a:xfrm>
          <a:prstGeom prst="leftArrow">
            <a:avLst>
              <a:gd name="adj1" fmla="val 50000"/>
              <a:gd name="adj2" fmla="val 41660"/>
            </a:avLst>
          </a:prstGeom>
          <a:gradFill rotWithShape="0">
            <a:gsLst>
              <a:gs pos="0">
                <a:srgbClr val="ffd05b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月落乌啼霜满天， 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江枫渔火对愁眠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4978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落、乌啼、寒霜、江枫、渔火、客船等景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0000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诗的前两句写出了怎样的秋景？表达出诗人怎样的感情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395280" y="4941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游子面对霜夜江枫渔火，萦绕起缕缕轻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4" descr="1"/>
          <p:cNvPicPr/>
          <p:nvPr/>
        </p:nvPicPr>
        <p:blipFill>
          <a:blip r:embed="rId1"/>
          <a:stretch/>
        </p:blipFill>
        <p:spPr>
          <a:xfrm>
            <a:off x="-504720" y="0"/>
            <a:ext cx="964872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6"/>
          <p:cNvSpPr/>
          <p:nvPr/>
        </p:nvSpPr>
        <p:spPr>
          <a:xfrm>
            <a:off x="7885080" y="6453360"/>
            <a:ext cx="1003320" cy="3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月    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304920" y="-228600"/>
            <a:ext cx="9753840" cy="7315200"/>
            <a:chOff x="-304920" y="-228600"/>
            <a:chExt cx="9753840" cy="7315200"/>
          </a:xfrm>
        </p:grpSpPr>
        <p:pic>
          <p:nvPicPr>
            <p:cNvPr id="769" name="Picture 4" descr="3"/>
            <p:cNvPicPr/>
            <p:nvPr/>
          </p:nvPicPr>
          <p:blipFill>
            <a:blip r:embed="rId1"/>
            <a:stretch/>
          </p:blipFill>
          <p:spPr>
            <a:xfrm>
              <a:off x="-304920" y="-22860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5"/>
            <p:cNvSpPr/>
            <p:nvPr/>
          </p:nvSpPr>
          <p:spPr>
            <a:xfrm>
              <a:off x="8244000" y="6426360"/>
              <a:ext cx="718920" cy="431640"/>
            </a:xfrm>
            <a:prstGeom prst="leftArrow">
              <a:avLst>
                <a:gd name="adj1" fmla="val 50000"/>
                <a:gd name="adj2" fmla="val 41639"/>
              </a:avLst>
            </a:prstGeom>
            <a:gradFill rotWithShape="0">
              <a:gsLst>
                <a:gs pos="0">
                  <a:srgbClr val="000099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"/>
          <p:cNvSpPr/>
          <p:nvPr/>
        </p:nvSpPr>
        <p:spPr>
          <a:xfrm>
            <a:off x="7667640" y="64008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Arial"/>
              </a:rPr>
              <a:t>枫     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6" name="Picture 4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3"/>
          <p:cNvGrpSpPr/>
          <p:nvPr/>
        </p:nvGrpSpPr>
        <p:grpSpPr>
          <a:xfrm>
            <a:off x="250920" y="0"/>
            <a:ext cx="8893080" cy="6858000"/>
            <a:chOff x="250920" y="0"/>
            <a:chExt cx="8893080" cy="6858000"/>
          </a:xfrm>
        </p:grpSpPr>
        <p:sp>
          <p:nvSpPr>
            <p:cNvPr id="720" name="Text Box 11"/>
            <p:cNvSpPr/>
            <p:nvPr/>
          </p:nvSpPr>
          <p:spPr>
            <a:xfrm>
              <a:off x="250920" y="333360"/>
              <a:ext cx="2736720" cy="45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内容安排</a:t>
              </a:r>
              <a:r>
                <a:rPr b="0" lang="zh-CN" sz="48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㈠朗读诗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㈡作者介绍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㈢分析诗句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㈣课后作业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1" name="Picture 12" descr="22"/>
            <p:cNvPicPr/>
            <p:nvPr/>
          </p:nvPicPr>
          <p:blipFill>
            <a:blip r:embed="rId1"/>
            <a:stretch/>
          </p:blipFill>
          <p:spPr>
            <a:xfrm>
              <a:off x="3635280" y="0"/>
              <a:ext cx="550872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325080" cy="68198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"/>
          <p:cNvSpPr/>
          <p:nvPr/>
        </p:nvSpPr>
        <p:spPr>
          <a:xfrm>
            <a:off x="6443640" y="6338880"/>
            <a:ext cx="2700360" cy="520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枫   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6659640" y="6394320"/>
            <a:ext cx="433440" cy="405000"/>
          </a:xfrm>
          <a:custGeom>
            <a:avLst/>
            <a:gdLst>
              <a:gd name="textAreaLeft" fmla="*/ 133920 w 433440"/>
              <a:gd name="textAreaRight" fmla="*/ 299520 w 433440"/>
              <a:gd name="textAreaTop" fmla="*/ 154800 h 405000"/>
              <a:gd name="textAreaBottom" fmla="*/ 309600 h 405000"/>
            </a:gdLst>
            <a:ahLst/>
            <a:rect l="textAreaLeft" t="textAreaTop" r="textAreaRight" b="textAreaBottom"/>
            <a:pathLst>
              <a:path w="433387" h="404813">
                <a:moveTo>
                  <a:pt x="0" y="154624"/>
                </a:moveTo>
                <a:lnTo>
                  <a:pt x="165540" y="154625"/>
                </a:lnTo>
                <a:lnTo>
                  <a:pt x="216694" y="0"/>
                </a:lnTo>
                <a:lnTo>
                  <a:pt x="267847" y="154625"/>
                </a:lnTo>
                <a:lnTo>
                  <a:pt x="433387" y="154624"/>
                </a:lnTo>
                <a:lnTo>
                  <a:pt x="299462" y="250187"/>
                </a:lnTo>
                <a:lnTo>
                  <a:pt x="350618" y="404812"/>
                </a:lnTo>
                <a:lnTo>
                  <a:pt x="216694" y="309247"/>
                </a:lnTo>
                <a:lnTo>
                  <a:pt x="82769" y="404812"/>
                </a:lnTo>
                <a:lnTo>
                  <a:pt x="133925" y="25018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459640" y="6453360"/>
            <a:ext cx="433440" cy="404640"/>
          </a:xfrm>
          <a:custGeom>
            <a:avLst/>
            <a:gdLst>
              <a:gd name="textAreaLeft" fmla="*/ 133920 w 433440"/>
              <a:gd name="textAreaRight" fmla="*/ 299520 w 433440"/>
              <a:gd name="textAreaTop" fmla="*/ 154440 h 404640"/>
              <a:gd name="textAreaBottom" fmla="*/ 309240 h 404640"/>
            </a:gdLst>
            <a:ahLst/>
            <a:rect l="textAreaLeft" t="textAreaTop" r="textAreaRight" b="textAreaBottom"/>
            <a:pathLst>
              <a:path w="433387" h="404812">
                <a:moveTo>
                  <a:pt x="0" y="154624"/>
                </a:moveTo>
                <a:lnTo>
                  <a:pt x="165540" y="154625"/>
                </a:lnTo>
                <a:lnTo>
                  <a:pt x="216694" y="0"/>
                </a:lnTo>
                <a:lnTo>
                  <a:pt x="267847" y="154625"/>
                </a:lnTo>
                <a:lnTo>
                  <a:pt x="433387" y="154624"/>
                </a:lnTo>
                <a:lnTo>
                  <a:pt x="299462" y="250186"/>
                </a:lnTo>
                <a:lnTo>
                  <a:pt x="350618" y="404811"/>
                </a:lnTo>
                <a:lnTo>
                  <a:pt x="216694" y="309247"/>
                </a:lnTo>
                <a:lnTo>
                  <a:pt x="82769" y="404811"/>
                </a:lnTo>
                <a:lnTo>
                  <a:pt x="133925" y="25018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4" descr="7"/>
          <p:cNvPicPr/>
          <p:nvPr/>
        </p:nvPicPr>
        <p:blipFill>
          <a:blip r:embed="rId1"/>
          <a:stretch/>
        </p:blipFill>
        <p:spPr>
          <a:xfrm>
            <a:off x="-181080" y="0"/>
            <a:ext cx="9525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7" name="Picture 9" descr="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AutoShape 10"/>
            <p:cNvSpPr/>
            <p:nvPr/>
          </p:nvSpPr>
          <p:spPr>
            <a:xfrm>
              <a:off x="7740720" y="6308640"/>
              <a:ext cx="1403280" cy="549360"/>
            </a:xfrm>
            <a:prstGeom prst="leftArrow">
              <a:avLst>
                <a:gd name="adj1" fmla="val 50000"/>
                <a:gd name="adj2" fmla="val 6386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720720" y="-171360"/>
            <a:ext cx="9864720" cy="7029360"/>
            <a:chOff x="-720720" y="-171360"/>
            <a:chExt cx="9864720" cy="7029360"/>
          </a:xfrm>
        </p:grpSpPr>
        <p:pic>
          <p:nvPicPr>
            <p:cNvPr id="792" name="Picture 4" descr="11"/>
            <p:cNvPicPr/>
            <p:nvPr/>
          </p:nvPicPr>
          <p:blipFill>
            <a:blip r:embed="rId1"/>
            <a:stretch/>
          </p:blipFill>
          <p:spPr>
            <a:xfrm>
              <a:off x="-720720" y="-171360"/>
              <a:ext cx="98647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AutoShape 5"/>
            <p:cNvSpPr/>
            <p:nvPr/>
          </p:nvSpPr>
          <p:spPr>
            <a:xfrm>
              <a:off x="8028000" y="6381720"/>
              <a:ext cx="865080" cy="476280"/>
            </a:xfrm>
            <a:prstGeom prst="leftArrow">
              <a:avLst>
                <a:gd name="adj1" fmla="val 50000"/>
                <a:gd name="adj2" fmla="val 45408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6"/>
          <p:cNvSpPr/>
          <p:nvPr/>
        </p:nvSpPr>
        <p:spPr>
          <a:xfrm>
            <a:off x="468360" y="4941720"/>
            <a:ext cx="1439640" cy="1366920"/>
          </a:xfrm>
          <a:prstGeom prst="irregularSeal1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9"/>
          <p:cNvGrpSpPr/>
          <p:nvPr/>
        </p:nvGrpSpPr>
        <p:grpSpPr>
          <a:xfrm>
            <a:off x="324000" y="185760"/>
            <a:ext cx="8569080" cy="6672240"/>
            <a:chOff x="324000" y="185760"/>
            <a:chExt cx="8569080" cy="6672240"/>
          </a:xfrm>
        </p:grpSpPr>
        <p:sp>
          <p:nvSpPr>
            <p:cNvPr id="796" name="AutoShape 5"/>
            <p:cNvSpPr/>
            <p:nvPr/>
          </p:nvSpPr>
          <p:spPr>
            <a:xfrm>
              <a:off x="324000" y="333360"/>
              <a:ext cx="2016000" cy="1513080"/>
            </a:xfrm>
            <a:prstGeom prst="irregularSeal1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7" name="Group 8"/>
            <p:cNvGrpSpPr/>
            <p:nvPr/>
          </p:nvGrpSpPr>
          <p:grpSpPr>
            <a:xfrm>
              <a:off x="684360" y="185760"/>
              <a:ext cx="8208720" cy="6672240"/>
              <a:chOff x="684360" y="185760"/>
              <a:chExt cx="8208720" cy="6672240"/>
            </a:xfrm>
          </p:grpSpPr>
          <p:sp>
            <p:nvSpPr>
              <p:cNvPr id="798" name="Text Box 4"/>
              <p:cNvSpPr/>
              <p:nvPr/>
            </p:nvSpPr>
            <p:spPr>
              <a:xfrm>
                <a:off x="684360" y="185760"/>
                <a:ext cx="7416720" cy="42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9900"/>
                    </a:solidFill>
                    <a:latin typeface="Arial"/>
                  </a:rPr>
                  <a:t> 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ffcc00"/>
                    </a:solidFill>
                    <a:latin typeface="Arial"/>
                  </a:rPr>
                  <a:t>总结 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Arial"/>
                  </a:rPr>
                  <a:t>一个秋天的夜晚，诗人泊船苏州城外的枫桥。江南水乡秋夜幽美的景色，吸引着这位怀着旅愁的游子，使他领略到一种情味隽永的诗意美，写下了这首意境深远的小诗。 </a:t>
                </a:r>
                <a:br>
                  <a:rPr sz="3200"/>
                </a:br>
                <a:r>
                  <a:rPr b="0" lang="zh-CN" sz="3200" spc="-1" strike="noStrike">
                    <a:solidFill>
                      <a:srgbClr val="ffffff"/>
                    </a:solidFill>
                    <a:latin typeface="Arial"/>
                  </a:rPr>
                  <a:t>      由于这首诗情景描写真切，画面清新，因而历来为人传诵，甚至使得枫桥和寒山寺也因而名扬天下。 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ffcc00"/>
                    </a:solidFill>
                    <a:latin typeface="Arial"/>
                  </a:rPr>
                  <a:t>作业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3200"/>
                </a:br>
                <a:r>
                  <a:rPr b="0" lang="zh-CN" sz="3200" spc="-1" strike="noStrike">
                    <a:solidFill>
                      <a:srgbClr val="ffffff"/>
                    </a:solidFill>
                    <a:latin typeface="Arial"/>
                  </a:rPr>
                  <a:t>      背诵并在双行本上翻译这首诗。 </a:t>
                </a:r>
                <a:br>
                  <a:rPr sz="3200"/>
                </a:b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AutoShape 7"/>
              <p:cNvSpPr/>
              <p:nvPr/>
            </p:nvSpPr>
            <p:spPr>
              <a:xfrm>
                <a:off x="7885080" y="6381720"/>
                <a:ext cx="1008000" cy="476280"/>
              </a:xfrm>
              <a:prstGeom prst="leftArrow">
                <a:avLst>
                  <a:gd name="adj1" fmla="val 50000"/>
                  <a:gd name="adj2" fmla="val 5291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468360" y="1342080"/>
            <a:ext cx="77756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枫桥夜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张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落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乌啼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霜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满天，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江枫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渔火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愁眠。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姑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城外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寒山寺，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夜半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钟声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客船。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8101080" y="6210360"/>
            <a:ext cx="863640" cy="647640"/>
          </a:xfrm>
          <a:prstGeom prst="leftArrow">
            <a:avLst>
              <a:gd name="adj1" fmla="val 50000"/>
              <a:gd name="adj2" fmla="val 33338"/>
            </a:avLst>
          </a:prstGeom>
          <a:gradFill rotWithShape="0">
            <a:gsLst>
              <a:gs pos="0">
                <a:srgbClr val="ffe103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8"/>
          <p:cNvGrpSpPr/>
          <p:nvPr/>
        </p:nvGrpSpPr>
        <p:grpSpPr>
          <a:xfrm>
            <a:off x="179280" y="0"/>
            <a:ext cx="8964720" cy="6858000"/>
            <a:chOff x="179280" y="0"/>
            <a:chExt cx="8964720" cy="6858000"/>
          </a:xfrm>
        </p:grpSpPr>
        <p:pic>
          <p:nvPicPr>
            <p:cNvPr id="725" name="Picture 4" descr="k"/>
            <p:cNvPicPr/>
            <p:nvPr/>
          </p:nvPicPr>
          <p:blipFill>
            <a:blip r:embed="rId1"/>
            <a:stretch/>
          </p:blipFill>
          <p:spPr>
            <a:xfrm>
              <a:off x="4822920" y="0"/>
              <a:ext cx="4321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6"/>
            <p:cNvSpPr/>
            <p:nvPr/>
          </p:nvSpPr>
          <p:spPr>
            <a:xfrm>
              <a:off x="179280" y="404640"/>
              <a:ext cx="446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张继，字懿孙，襄州人（今湖北襄阳人）。唐代诗人，他的生平不甚可知。据诸家记录，仅知他是天宝十二年（公元七五三年）的进士。大历中，以检校祠部员外郎为洪州（今江西南昌市）盐铁判官。他的诗爽朗激越，不事雕琢，比兴幽深，事理双切，对后世颇有影响。但可惜流传下来的不到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首。他的最著名的诗是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《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枫桥夜泊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》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。</a:t>
              </a:r>
              <a:br>
                <a:rPr sz="2800"/>
              </a:b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AutoShape 7"/>
          <p:cNvSpPr/>
          <p:nvPr/>
        </p:nvSpPr>
        <p:spPr>
          <a:xfrm>
            <a:off x="7885080" y="6308640"/>
            <a:ext cx="1008000" cy="549360"/>
          </a:xfrm>
          <a:prstGeom prst="leftArrow">
            <a:avLst>
              <a:gd name="adj1" fmla="val 50000"/>
              <a:gd name="adj2" fmla="val 45872"/>
            </a:avLst>
          </a:prstGeom>
          <a:gradFill rotWithShape="0">
            <a:gsLst>
              <a:gs pos="0">
                <a:srgbClr val="6699ff"/>
              </a:gs>
              <a:gs pos="100000">
                <a:srgbClr val="2b548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枫桥夜泊"/>
          <p:cNvPicPr/>
          <p:nvPr/>
        </p:nvPicPr>
        <p:blipFill>
          <a:blip r:embed="rId1"/>
          <a:stretch/>
        </p:blipFill>
        <p:spPr>
          <a:xfrm>
            <a:off x="-685800" y="-339840"/>
            <a:ext cx="10442520" cy="744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枫桥夜泊2"/>
          <p:cNvPicPr/>
          <p:nvPr/>
        </p:nvPicPr>
        <p:blipFill>
          <a:blip r:embed="rId1"/>
          <a:stretch/>
        </p:blipFill>
        <p:spPr>
          <a:xfrm>
            <a:off x="-757080" y="-392040"/>
            <a:ext cx="10585440" cy="74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月落乌啼霜满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ff99"/>
                </a:solidFill>
                <a:latin typeface="Tahoma"/>
              </a:rPr>
              <a:t>月亮沉落</a:t>
            </a:r>
            <a:r>
              <a:rPr b="1" lang="zh-CN" sz="4400" spc="-1" strike="noStrike">
                <a:solidFill>
                  <a:srgbClr val="00ff99"/>
                </a:solidFill>
                <a:latin typeface="Tahoma"/>
              </a:rPr>
              <a:t>后乌鸦发</a:t>
            </a:r>
            <a:r>
              <a:rPr b="1" lang="zh-TW" sz="4400" spc="-1" strike="noStrike">
                <a:solidFill>
                  <a:srgbClr val="00ff99"/>
                </a:solidFill>
                <a:latin typeface="Tahoma"/>
              </a:rPr>
              <a:t>出</a:t>
            </a:r>
            <a:r>
              <a:rPr b="1" lang="zh-CN" sz="4400" spc="-1" strike="noStrike">
                <a:solidFill>
                  <a:srgbClr val="00ff99"/>
                </a:solidFill>
                <a:latin typeface="Tahoma"/>
              </a:rPr>
              <a:t>声声</a:t>
            </a:r>
            <a:r>
              <a:rPr b="1" lang="zh-TW" sz="4400" spc="-1" strike="noStrike">
                <a:solidFill>
                  <a:srgbClr val="00ff99"/>
                </a:solidFill>
                <a:latin typeface="Tahoma"/>
              </a:rPr>
              <a:t>的啼叫，寒冷的秋霜充</a:t>
            </a:r>
            <a:r>
              <a:rPr b="1" lang="zh-CN" sz="4400" spc="-1" strike="noStrike">
                <a:solidFill>
                  <a:srgbClr val="00ff99"/>
                </a:solidFill>
                <a:latin typeface="Tahoma"/>
              </a:rPr>
              <a:t>满着</a:t>
            </a:r>
            <a:r>
              <a:rPr b="1" lang="zh-TW" sz="4400" spc="-1" strike="noStrike">
                <a:solidFill>
                  <a:srgbClr val="00ff99"/>
                </a:solidFill>
                <a:latin typeface="Tahoma"/>
              </a:rPr>
              <a:t>四周 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971640" y="393372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诗的首句，写了午夜时分三种有密切关连的景象：月落、乌啼、霜满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江枫渔火对愁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看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着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江上的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渔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火。勾起了我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对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故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乡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的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怀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念，使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满怀愁绪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的我</a:t>
            </a:r>
            <a:r>
              <a:rPr b="1" lang="zh-CN" sz="4000" spc="-1" strike="noStrike">
                <a:solidFill>
                  <a:srgbClr val="00ff99"/>
                </a:solidFill>
                <a:latin typeface="Tahoma"/>
              </a:rPr>
              <a:t>难</a:t>
            </a:r>
            <a:r>
              <a:rPr b="1" lang="zh-TW" sz="4000" spc="-1" strike="noStrike">
                <a:solidFill>
                  <a:srgbClr val="00ff99"/>
                </a:solidFill>
                <a:latin typeface="Tahoma"/>
              </a:rPr>
              <a:t>以入睡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24000" y="1197000"/>
            <a:ext cx="81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395280" y="311004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诗的第二句接着描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枫桥夜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特征景象和旅人的感受。 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江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渔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一静一动，一暗一明，一江边，一江上，景物的配搭组合颇见用心。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江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渔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一静一动，一暗一明，一江边，一江上，景物的配搭组合颇见用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4:58:17Z</dcterms:created>
  <dc:creator/>
  <dc:description/>
  <dc:language>en-US</dc:language>
  <cp:lastModifiedBy>dell</cp:lastModifiedBy>
  <dcterms:modified xsi:type="dcterms:W3CDTF">2014-11-11T02:37:13Z</dcterms:modified>
  <cp:revision>11</cp:revision>
  <dc:subject/>
  <dc:title>幻灯片 1</dc:title>
</cp:coreProperties>
</file>