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2.jpeg" ContentType="image/jpeg"/>
  <Override PartName="/ppt/media/image5.wmf" ContentType="image/x-wmf"/>
  <Override PartName="/ppt/media/image6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87B4-5038-4A14-B5B6-C056A9F92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D47D-E7C6-4B74-A7CC-B1317208D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DA4E-AF50-4167-9D92-D2EF119D1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FAFF-7D0A-491C-B3B2-67FF88B75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9481-0702-400B-A054-477996305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170D-D23B-49F7-87B1-BEDB5292A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129B-F3A3-4AF7-8713-301E6B088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EF50-E2DD-43A2-9799-56C5B217C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F9A8-D23B-4C3F-94E7-8223CDE7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F65C-705D-4F24-838A-BDFC982F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9E0D-B4F7-4BE5-B5C2-1E39B3638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BD5B-C880-444C-9F2A-C358FFFE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06609-FB85-400B-93B5-5C72CA6E96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588960" cy="51814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555040" y="990720"/>
            <a:ext cx="588960" cy="5181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57200" y="1523880"/>
            <a:ext cx="9220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8</a:t>
            </a: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爸爸，我恨死了你的猎枪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581280" y="1828800"/>
            <a:ext cx="2619360" cy="4614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 flipH="1"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752480" y="265896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057400" y="1523880"/>
            <a:ext cx="54100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想像我是一只小鸟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想像我是一只小兔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样，我的好爸爸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你心里就充满了善良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645080" y="5950080"/>
            <a:ext cx="647640" cy="503280"/>
          </a:xfrm>
          <a:custGeom>
            <a:avLst/>
            <a:gdLst>
              <a:gd name="textAreaLeft" fmla="*/ 31320 w 647640"/>
              <a:gd name="textAreaRight" fmla="*/ 616320 w 647640"/>
              <a:gd name="textAreaTop" fmla="*/ 31320 h 503280"/>
              <a:gd name="textAreaBottom" fmla="*/ 47196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441" y="1350"/>
                </a:lnTo>
                <a:lnTo>
                  <a:pt x="1350" y="135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441" y="20250"/>
                </a:lnTo>
                <a:lnTo>
                  <a:pt x="26441" y="135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441" y="2025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791" h="21600">
                <a:moveTo>
                  <a:pt x="6852" y="10800"/>
                </a:moveTo>
                <a:lnTo>
                  <a:pt x="20939" y="3756"/>
                </a:lnTo>
                <a:lnTo>
                  <a:pt x="20939" y="17844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50920" y="549360"/>
            <a:ext cx="7507080" cy="46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恨死了爸爸的猎枪，希望（              ），  希望（              ）， 还希望（              ）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223040" y="325440"/>
            <a:ext cx="62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6294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62120" y="609480"/>
            <a:ext cx="2057400" cy="1295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2895480" y="762120"/>
            <a:ext cx="28958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合作朗读</a:t>
            </a:r>
            <a:endParaRPr b="0" lang="en-US" sz="24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2205000"/>
            <a:ext cx="5256360" cy="40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爸爸，你要真是枪瘾来了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手发痒痒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就把我当成猎枪扛在肩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会给你讲一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刚刚学会的故事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直到你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打猎的事忘了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86400" y="2492280"/>
            <a:ext cx="36576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想像我是一只小鸟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想像我是一只小兔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样，我的好爸爸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你心里就充满了善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19640" y="2060640"/>
            <a:ext cx="0" cy="40384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nowback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 rot="5400000">
            <a:off x="5943240" y="2590920"/>
            <a:ext cx="4800600" cy="1143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宋体"/>
              </a:rPr>
              <a:t>你的选择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914400"/>
            <a:ext cx="6400800" cy="57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我认为小作者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希望爸爸看到小鸟、小兔，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像看到我一样。（  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希望爸爸放弃打猎这个兴趣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好。（  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希望爸爸和自己一样，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小动物，热爱大自然。（   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33920" y="22399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23040" y="325440"/>
            <a:ext cx="62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81080" y="3505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05520" y="47545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371600" y="1371600"/>
            <a:ext cx="2895480" cy="990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自读要求：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1989000"/>
            <a:ext cx="8569440" cy="33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、自由读诗，读准字音，读通小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、为什么“我”恨死了爸爸的猎枪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因为（            ），所以（         ）。可以看出小作者（            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838440" cy="838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b_blj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69000" y="685800"/>
            <a:ext cx="28616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8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瘾</a:t>
            </a: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8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扛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9880" y="4255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yǐ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33920" y="29718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k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á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n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79280" y="333360"/>
            <a:ext cx="504036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爸爸，你知道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当我亲眼看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你击伤了一只美丽的翅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的梦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就再也不能飞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81480" y="609480"/>
            <a:ext cx="396252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那时起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恨死了你的猎枪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到冬天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就希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那些小鸟小兽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跑得远远的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逃过你的目光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让你的猎枪不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932360" y="69228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38080" y="3846600"/>
            <a:ext cx="2819520" cy="3011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8305920" y="6400800"/>
            <a:ext cx="609480" cy="457200"/>
          </a:xfrm>
          <a:custGeom>
            <a:avLst/>
            <a:gdLst>
              <a:gd name="textAreaLeft" fmla="*/ 28440 w 609480"/>
              <a:gd name="textAreaRight" fmla="*/ 581040 w 609480"/>
              <a:gd name="textAreaTop" fmla="*/ 28440 h 457200"/>
              <a:gd name="textAreaBottom" fmla="*/ 42876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439" y="1350"/>
                </a:lnTo>
                <a:lnTo>
                  <a:pt x="1350" y="135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439" y="20250"/>
                </a:lnTo>
                <a:lnTo>
                  <a:pt x="27439" y="135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7439" y="2025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8789" h="21600">
                <a:moveTo>
                  <a:pt x="7351" y="3756"/>
                </a:moveTo>
                <a:lnTo>
                  <a:pt x="21438" y="10800"/>
                </a:lnTo>
                <a:lnTo>
                  <a:pt x="7351" y="1784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b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1447920" y="228600"/>
            <a:ext cx="47242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学习指南：</a:t>
            </a:r>
            <a:endParaRPr b="0" lang="en-US" sz="2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1752480"/>
            <a:ext cx="769644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读：静心、反复默读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思：哪些词句更能看出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作者对爸爸猎枪的恨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2" descr=""/>
          <p:cNvPicPr/>
          <p:nvPr/>
        </p:nvPicPr>
        <p:blipFill>
          <a:blip r:embed="rId2"/>
          <a:stretch/>
        </p:blipFill>
        <p:spPr>
          <a:xfrm>
            <a:off x="3419640" y="4941720"/>
            <a:ext cx="2209680" cy="15624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848720" y="4800600"/>
            <a:ext cx="685800" cy="380880"/>
          </a:xfrm>
          <a:custGeom>
            <a:avLst/>
            <a:gdLst>
              <a:gd name="textAreaLeft" fmla="*/ 23760 w 685800"/>
              <a:gd name="textAreaRight" fmla="*/ 662040 w 68580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526" y="1350"/>
                </a:lnTo>
                <a:lnTo>
                  <a:pt x="1350" y="135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526" y="20250"/>
                </a:lnTo>
                <a:lnTo>
                  <a:pt x="37526" y="135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7526" y="2025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848720" y="5486400"/>
            <a:ext cx="685800" cy="380880"/>
          </a:xfrm>
          <a:custGeom>
            <a:avLst/>
            <a:gdLst>
              <a:gd name="textAreaLeft" fmla="*/ 23760 w 685800"/>
              <a:gd name="textAreaRight" fmla="*/ 662040 w 685800"/>
              <a:gd name="textAreaTop" fmla="*/ 23760 h 380880"/>
              <a:gd name="textAreaBottom" fmla="*/ 35712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526" y="1350"/>
                </a:lnTo>
                <a:lnTo>
                  <a:pt x="1350" y="135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526" y="20250"/>
                </a:lnTo>
                <a:lnTo>
                  <a:pt x="37526" y="135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7526" y="2025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848720" y="6095880"/>
            <a:ext cx="685800" cy="381240"/>
          </a:xfrm>
          <a:custGeom>
            <a:avLst/>
            <a:gdLst>
              <a:gd name="textAreaLeft" fmla="*/ 23760 w 685800"/>
              <a:gd name="textAreaRight" fmla="*/ 662040 w 685800"/>
              <a:gd name="textAreaTop" fmla="*/ 23760 h 381240"/>
              <a:gd name="textAreaBottom" fmla="*/ 35748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89" y="1350"/>
                </a:lnTo>
                <a:lnTo>
                  <a:pt x="1350" y="135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89" y="20250"/>
                </a:lnTo>
                <a:lnTo>
                  <a:pt x="37489" y="135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7489" y="2025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219320" y="609480"/>
            <a:ext cx="632448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爸爸，你知道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当我亲眼看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你击伤了一只美丽的翅膀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的梦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就再也不能飞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391520" y="2743200"/>
            <a:ext cx="1752480" cy="2305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895480" y="1295280"/>
            <a:ext cx="3812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14600" y="2209680"/>
            <a:ext cx="7621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3200400"/>
            <a:ext cx="10670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81080" y="4952880"/>
            <a:ext cx="18288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80880" y="838080"/>
            <a:ext cx="693432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说话训练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亲眼看见，你击伤过…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391520" y="2733840"/>
            <a:ext cx="1752480" cy="23047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620120" y="6019920"/>
            <a:ext cx="990360" cy="533160"/>
          </a:xfrm>
          <a:custGeom>
            <a:avLst/>
            <a:gdLst>
              <a:gd name="textAreaLeft" fmla="*/ 33120 w 990360"/>
              <a:gd name="textAreaRight" fmla="*/ 957240 w 990360"/>
              <a:gd name="textAreaTop" fmla="*/ 33120 h 533160"/>
              <a:gd name="textAreaBottom" fmla="*/ 500040 h 533160"/>
            </a:gdLst>
            <a:ahLst/>
            <a:rect l="textAreaLeft" t="textAreaTop" r="textAreaRight" b="textAreaBottom"/>
            <a:pathLst>
              <a:path w="40110" h="21600">
                <a:moveTo>
                  <a:pt x="0" y="0"/>
                </a:moveTo>
                <a:lnTo>
                  <a:pt x="40110" y="0"/>
                </a:lnTo>
                <a:lnTo>
                  <a:pt x="40110" y="21600"/>
                </a:lnTo>
                <a:lnTo>
                  <a:pt x="0" y="21600"/>
                </a:lnTo>
                <a:close/>
              </a:path>
              <a:path fill="lightenLess" w="40110" h="21600">
                <a:moveTo>
                  <a:pt x="0" y="0"/>
                </a:moveTo>
                <a:lnTo>
                  <a:pt x="40110" y="0"/>
                </a:lnTo>
                <a:lnTo>
                  <a:pt x="38760" y="1350"/>
                </a:lnTo>
                <a:lnTo>
                  <a:pt x="1350" y="1350"/>
                </a:lnTo>
                <a:close/>
              </a:path>
              <a:path fill="darken" w="40110" h="21600">
                <a:moveTo>
                  <a:pt x="40110" y="0"/>
                </a:moveTo>
                <a:lnTo>
                  <a:pt x="40110" y="21600"/>
                </a:lnTo>
                <a:lnTo>
                  <a:pt x="38760" y="20250"/>
                </a:lnTo>
                <a:lnTo>
                  <a:pt x="38760" y="1350"/>
                </a:lnTo>
                <a:close/>
              </a:path>
              <a:path fill="darkenLess" w="40110" h="21600">
                <a:moveTo>
                  <a:pt x="4011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8760" y="20250"/>
                </a:lnTo>
                <a:close/>
              </a:path>
              <a:path fill="lighten" w="4011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219320" y="2514600"/>
            <a:ext cx="65530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……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那时起，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恨死了你的猎枪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772400" y="5638680"/>
            <a:ext cx="914400" cy="609840"/>
          </a:xfrm>
          <a:custGeom>
            <a:avLst/>
            <a:gdLst>
              <a:gd name="textAreaLeft" fmla="*/ 37800 w 914400"/>
              <a:gd name="textAreaRight" fmla="*/ 876600 w 914400"/>
              <a:gd name="textAreaTop" fmla="*/ 37800 h 609840"/>
              <a:gd name="textAreaBottom" fmla="*/ 572040 h 609840"/>
            </a:gdLst>
            <a:ahLst/>
            <a:rect l="textAreaLeft" t="textAreaTop" r="textAreaRight" b="textAreaBottom"/>
            <a:pathLst>
              <a:path w="32381" h="21600">
                <a:moveTo>
                  <a:pt x="0" y="0"/>
                </a:moveTo>
                <a:lnTo>
                  <a:pt x="32381" y="0"/>
                </a:lnTo>
                <a:lnTo>
                  <a:pt x="32381" y="21600"/>
                </a:lnTo>
                <a:lnTo>
                  <a:pt x="0" y="21600"/>
                </a:lnTo>
                <a:close/>
              </a:path>
              <a:path fill="lightenLess" w="32381" h="21600">
                <a:moveTo>
                  <a:pt x="0" y="0"/>
                </a:moveTo>
                <a:lnTo>
                  <a:pt x="32381" y="0"/>
                </a:lnTo>
                <a:lnTo>
                  <a:pt x="31031" y="1350"/>
                </a:lnTo>
                <a:lnTo>
                  <a:pt x="1350" y="1350"/>
                </a:lnTo>
                <a:close/>
              </a:path>
              <a:path fill="darken" w="32381" h="21600">
                <a:moveTo>
                  <a:pt x="32381" y="0"/>
                </a:moveTo>
                <a:lnTo>
                  <a:pt x="32381" y="21600"/>
                </a:lnTo>
                <a:lnTo>
                  <a:pt x="31031" y="20250"/>
                </a:lnTo>
                <a:lnTo>
                  <a:pt x="31031" y="1350"/>
                </a:lnTo>
                <a:close/>
              </a:path>
              <a:path fill="darkenLess" w="32381" h="21600">
                <a:moveTo>
                  <a:pt x="3238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1031" y="20250"/>
                </a:lnTo>
                <a:close/>
              </a:path>
              <a:path fill="lighten" w="3238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67080" y="3429000"/>
            <a:ext cx="13716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09680" y="4876920"/>
            <a:ext cx="1295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SR001" descr=""/>
          <p:cNvPicPr/>
          <p:nvPr/>
        </p:nvPicPr>
        <p:blipFill>
          <a:blip r:embed="rId1">
            <a:lum bright="6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04920" y="312840"/>
            <a:ext cx="4800600" cy="63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到冬天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就希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那些小鸟小兽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跑得远远的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逃过你的目光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让你的猎枪不响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1309-1" descr=""/>
          <p:cNvPicPr/>
          <p:nvPr/>
        </p:nvPicPr>
        <p:blipFill>
          <a:blip r:embed="rId2"/>
          <a:srcRect l="0" t="0" r="30" b="1202"/>
          <a:stretch/>
        </p:blipFill>
        <p:spPr>
          <a:xfrm>
            <a:off x="5364000" y="44280"/>
            <a:ext cx="3808440" cy="67755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8077320" y="5943600"/>
            <a:ext cx="838080" cy="533520"/>
          </a:xfrm>
          <a:custGeom>
            <a:avLst/>
            <a:gdLst>
              <a:gd name="textAreaLeft" fmla="*/ 33120 w 838080"/>
              <a:gd name="textAreaRight" fmla="*/ 804960 w 838080"/>
              <a:gd name="textAreaTop" fmla="*/ 33120 h 533520"/>
              <a:gd name="textAreaBottom" fmla="*/ 50040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72" y="1350"/>
                </a:lnTo>
                <a:lnTo>
                  <a:pt x="1350" y="135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72" y="20250"/>
                </a:lnTo>
                <a:lnTo>
                  <a:pt x="32572" y="135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2572" y="2025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143000"/>
            <a:ext cx="60948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66680" y="22860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4419720"/>
            <a:ext cx="29718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5562720"/>
            <a:ext cx="6098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410080" y="6553080"/>
            <a:ext cx="381240" cy="304920"/>
          </a:xfrm>
          <a:custGeom>
            <a:avLst/>
            <a:gdLst>
              <a:gd name="textAreaLeft" fmla="*/ 19080 w 381240"/>
              <a:gd name="textAreaRight" fmla="*/ 362520 w 381240"/>
              <a:gd name="textAreaTop" fmla="*/ 19080 h 304920"/>
              <a:gd name="textAreaBottom" fmla="*/ 28620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50" y="1350"/>
                </a:lnTo>
                <a:lnTo>
                  <a:pt x="1350" y="135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50" y="20250"/>
                </a:lnTo>
                <a:lnTo>
                  <a:pt x="25650" y="135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5650" y="2025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7000" h="21600">
                <a:moveTo>
                  <a:pt x="6456" y="10800"/>
                </a:moveTo>
                <a:lnTo>
                  <a:pt x="20544" y="3756"/>
                </a:lnTo>
                <a:lnTo>
                  <a:pt x="20544" y="1784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8T12:58:53Z</dcterms:created>
  <dc:creator>user</dc:creator>
  <dc:description/>
  <dc:language>en-US</dc:language>
  <cp:lastModifiedBy>mjcxx</cp:lastModifiedBy>
  <dcterms:modified xsi:type="dcterms:W3CDTF">2015-06-30T09:30:20Z</dcterms:modified>
  <cp:revision>42</cp:revision>
  <dc:subject/>
  <dc:title>没有幻灯片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