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89F-2075-4B90-87BF-353DAE1B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343-CAD1-4B21-B863-F0A50DF5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1E1-9E23-4BB3-BDDB-91808825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69A-8F0D-4C87-8478-0334ACA8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3F44-BF42-4CD6-AC9C-ED160281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E6CD-E901-48FC-BE5D-C4A60FC9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F6D7-7039-42DE-8050-A9ECC45D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9E6E-86EE-4106-BC74-767896B0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DB97-D475-405F-8B5C-34B56C6B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CAAE-CABD-48E3-AF88-B7680DDE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BCBF-A843-47DF-963D-8AD301A5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7B98-575D-43BD-AD6F-2DF28C3D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752A-B5E6-49A9-A1CB-C5E7AAD6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FCB0-3BAA-418C-A649-8A7EF8EA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44CD-C9A9-4946-99D9-C4430950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AE4F-88F3-4B7B-9CD1-0452A480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77B3-41C1-4EC5-A44A-4AB5584A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FDE0-220B-4DE8-AFC7-E8163F72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8504-F87C-44CE-AC56-A0E18925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90D9-A7C0-4FC8-9605-726968ED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9684B-7C63-4E1D-B335-7FFADD90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F718-4398-4113-8B6C-7560D875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874-1C0F-4E09-B7BF-070FBB9C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3283-3E88-418B-90F8-D7EFD0B9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05F4-A87A-4632-8C3A-DB70F70F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A1877-C981-4EED-B06D-0EEB8265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6480-12B7-4A45-BF0B-7E176BE6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264A-8DCD-4459-B68B-2CC86BC8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F789-4029-4E81-9EF5-4CF3AB24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0A24B-170B-4AA8-A7CA-F05BE5BC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115C-4442-45AA-8A01-5663BEBA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79DF-3A27-4C71-A888-7A9CBA02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86710-1AB2-4CCA-993C-D2B2EA7F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C43-7606-40B7-990F-987961AE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CA70-ACE2-4D6E-97A4-B7860763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4B93-6C14-485D-8037-F44C9C70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0561B-F827-4ABE-BECB-5397A8F1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F7816-A0B1-4A45-BFB9-3583784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2C07D-6FC3-4DBB-82E2-C08FDFED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18B7E-DB3D-4F78-8D2B-3C14A703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DC9D7-7905-478E-B9B9-537D57C8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999F9-62E0-427C-88A3-DD157B11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3306C-FF6E-40E6-9FD4-C63B76B2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C6E23-97E6-4759-84EE-DC279F36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DD0-1CBC-48A7-96BE-BBAF386F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61D21-4D40-4EDF-B5DE-ED6FE225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669CC-1D2D-496B-AD6D-D24012CB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21CAC-9057-4CA7-98CE-9881C49C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2FD85-7A85-499F-893C-4ED0773A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AFB4C-0BB2-4C57-A241-BA8FE6B9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31393-DFA4-48E1-810B-1FB51D9E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A0035-4744-49DC-A82D-EA824ECC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BF1FC-3414-42EC-9390-0416B483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C893D-73E0-430F-8C71-33F746CC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27AE4-C381-48F5-9439-EEA2F1BC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8CF-CEDA-49D9-8AD9-4126EE73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399B7-6F46-4891-AA2F-8D39F791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3A6F3-DA29-4BCD-BBB5-4A8C9711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DB9C1-6EA9-4847-BFBB-42930CEB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97C6A-8541-43C8-9837-70922866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AAB8-5C61-47D6-88B6-C7FCE334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3F0EE-700C-447E-A541-B57F7045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27BE0-6D08-4E35-9868-269D5DC6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351F7-3698-4C00-895E-D790C67E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708AA-AB76-47F0-B061-443BF00C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BAD5E-C5C3-4F1B-8CAB-A02DD4DC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812-5CD3-4B76-A3BD-B66BAF4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7EB18-9847-4D2A-B507-029DC475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2A917-13F3-4CD4-B5BF-1E314D15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E6088-DAAE-459B-9456-3B1835B2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469FA-1192-47CC-B3AA-4E1FD740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F9AD3-DFBB-45A1-BEC0-13093547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77CE3-9D69-4AC8-BFC2-09CE5B63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BC969-639A-40D2-9DBC-2E68E2CA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21711-0345-4971-ADCC-6B8651F3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BECD3-7651-4AC5-9475-D27F1893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D34DB-F430-4E0D-883F-1C957EC3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B0D-C981-4B75-A9AC-FDAF7B30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A6B38-8D35-4695-90EC-71E6A0AB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C54A4-A8D9-4FF6-9E79-70612F7C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661B2-5949-4A97-B4EC-00276D0C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8EE88-323F-4CC6-A647-4B3E7DF3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7925F-839D-414D-960D-B4CB1BB5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54B-A75F-4D33-9429-4DFCD0EB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1BD2-880A-43D1-9CD9-936EE9894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010B-F8A7-4D10-AB01-01CC8DD36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91F3-42D1-4D7A-8F22-95C97F44A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7098-3F54-49EB-9DAB-3A8D4F9AF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7C60-A08B-4662-B833-F60A4A133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3225-1121-4BD1-9A4A-F9ACEFB00758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C834-0D60-4459-AB4D-13936615FCD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87280" y="191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愿长大的小姑娘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42920" y="1197000"/>
            <a:ext cx="676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但是，小姑娘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心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妈妈呀！她对妈妈说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好吧，我就不上动物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吧。每天早晨您上班前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不要照顾我了，我的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情我自己做吧！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16000" y="54936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练习朗读课文</a:t>
            </a:r>
            <a:r>
              <a:rPr b="0" lang="en-US" sz="3600" spc="-1" strike="noStrike">
                <a:solidFill>
                  <a:srgbClr val="663300"/>
                </a:solidFill>
                <a:latin typeface="黑体"/>
                <a:ea typeface="黑体"/>
              </a:rPr>
              <a:t>9-12</a:t>
            </a:r>
            <a:r>
              <a:rPr b="0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段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把自己当成文中的小姑娘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想象文字描写的画面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rcRect l="0" t="0" r="10807" b="21377"/>
          <a:stretch/>
        </p:blipFill>
        <p:spPr>
          <a:xfrm>
            <a:off x="1979640" y="2852640"/>
            <a:ext cx="44956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48440" y="981000"/>
            <a:ext cx="54594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有一次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妈妈得了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重病，只能卧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休养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小姑娘对妈妈说：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您放心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我会让大家过得很好。”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买菜，洗碗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做粥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可是她的个子太小，洗碗够不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水池。她想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要是我能再长大一点就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了！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她每天都这样想，果然又长高了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些，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能洗碗、洗衣服，还能晒衣服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535640" cy="2695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rcRect l="0" t="0" r="807" b="22245"/>
          <a:stretch/>
        </p:blipFill>
        <p:spPr>
          <a:xfrm>
            <a:off x="2340000" y="3502080"/>
            <a:ext cx="3760920" cy="22064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rcRect l="567" t="0" r="0" b="9129"/>
          <a:stretch/>
        </p:blipFill>
        <p:spPr>
          <a:xfrm>
            <a:off x="344520" y="333360"/>
            <a:ext cx="35798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4248360" cy="3186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692360" y="44280"/>
            <a:ext cx="4751280" cy="35625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81636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03184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2546640" y="603360"/>
            <a:ext cx="1357056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有一次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， （什么情况下）  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对</a:t>
            </a:r>
            <a:r>
              <a:rPr b="0" lang="en-US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            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说：“您</a:t>
            </a:r>
            <a:r>
              <a:rPr b="0" lang="en-US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 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吧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会（能） </a:t>
            </a:r>
            <a:r>
              <a:rPr b="0" lang="en-US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                     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。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（去做什么）        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可是</a:t>
            </a:r>
            <a:r>
              <a:rPr b="0" lang="en-US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                                      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想：</a:t>
            </a:r>
            <a:r>
              <a:rPr b="0" lang="en-US" sz="3600" spc="-1" strike="noStrike">
                <a:solidFill>
                  <a:srgbClr val="007a77"/>
                </a:solidFill>
                <a:latin typeface="宋体"/>
              </a:rPr>
              <a:t>                    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   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后来，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（怎么样） 。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4360" y="620640"/>
            <a:ext cx="72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不知不觉，小姑娘长成了一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高个子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漂亮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姑娘。人们赞扬她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善良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能干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，她微笑着心里想：长大的感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也不错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328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意大利作家罗大里：《不肯长大的小泰莱莎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16440" y="4363920"/>
            <a:ext cx="16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洋葱头历险记》、《假话国历险记》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《电话里的故事》、 《有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个结尾的童话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87280" y="184464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不愿长大的小姑娘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486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微笑着心里想：长大的感觉也不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4000" y="1484280"/>
            <a:ext cx="878508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粥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zh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ō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u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晒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shài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擦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c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弱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ruò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洒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sǎ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察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ch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刷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shuā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厨房   卧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ò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床     离（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í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）不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聪明伶俐      自言自语      不知不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42920" y="836640"/>
            <a:ext cx="74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静心默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每个自然段讲什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想想哪些自然段讲小姑娘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黑体"/>
              </a:rPr>
              <a:t>不愿长大——怎样长大—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黑体"/>
              </a:rPr>
              <a:t>已经长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0" r="21343" b="43257"/>
          <a:stretch/>
        </p:blipFill>
        <p:spPr>
          <a:xfrm>
            <a:off x="1835280" y="333360"/>
            <a:ext cx="4626000" cy="26686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55640" y="3357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工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离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í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开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缠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ch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á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着妈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494172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缠：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①绕，围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②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搅扰，添麻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4360" y="333360"/>
            <a:ext cx="79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有个小姑娘聪明伶俐，爸爸妈妈都很爱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但是，她的爸爸妈妈每天上班，天不亮就出门了，星期日也经常不在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小姑娘问妈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“别人的妈妈都能带他们上动物园，您为什么不带我去呢？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妈妈说</a:t>
            </a:r>
            <a:r>
              <a:rPr b="1" lang="zh-CN" sz="32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：“爸爸是司机，妈妈是送奶员，工作离不开身呀！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什么工作离不开身呢？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等你长大了就明白了，那时你就不缠着妈妈了。”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妈妈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小姑娘不高兴了，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“我不愿意长大！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50920" y="1125360"/>
            <a:ext cx="87138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自读课文</a:t>
            </a:r>
            <a:r>
              <a:rPr b="0" lang="en-US" sz="3600" spc="-1" strike="noStrike">
                <a:solidFill>
                  <a:srgbClr val="3366ff"/>
                </a:solidFill>
                <a:latin typeface="黑体"/>
                <a:ea typeface="黑体"/>
              </a:rPr>
              <a:t>8—12</a:t>
            </a: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段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用“</a:t>
            </a:r>
            <a:r>
              <a:rPr b="0" lang="en-US" sz="3600" spc="-1" strike="noStrike" u="sng">
                <a:solidFill>
                  <a:srgbClr val="007a77"/>
                </a:solidFill>
                <a:uFillTx/>
                <a:latin typeface="黑体"/>
                <a:ea typeface="黑体"/>
              </a:rPr>
              <a:t>   ”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勾出小姑娘愿意长大的句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小姑娘在长大过程中做了哪些事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用自己喜欢的符号标记出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95280" y="260280"/>
            <a:ext cx="806616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要是我能长大一点就好了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要是我能再长大一点就好了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唉</a:t>
            </a:r>
            <a:r>
              <a:rPr b="0" lang="en-US" sz="3600" spc="-1" strike="noStrike">
                <a:solidFill>
                  <a:srgbClr val="3366ff"/>
                </a:solidFill>
                <a:latin typeface="黑体"/>
                <a:ea typeface="黑体"/>
              </a:rPr>
              <a:t>!</a:t>
            </a: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没有办法，我还得再长大一些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这不是为了我，而是为了妈妈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5520" y="3573360"/>
            <a:ext cx="871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小姑娘每天早晨自己洗脸，叠被，吃早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她买菜，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粥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能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洗衣服，还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晒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衣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擦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玻璃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刷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厨房，收拾书柜，还帮妈妈送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50920" y="1341360"/>
            <a:ext cx="871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小姑娘每天早晨自己洗脸，叠被，吃早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她买菜，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粥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能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洗衣服，还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晒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衣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擦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玻璃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刷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厨房，收拾书柜，还帮妈妈送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2060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己的事情自己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4720" y="50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帮助妈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0:03:17Z</dcterms:created>
  <dc:creator>Administrator</dc:creator>
  <dc:description/>
  <dc:language>en-US</dc:language>
  <cp:lastModifiedBy/>
  <dcterms:modified xsi:type="dcterms:W3CDTF">2015-08-20T03:23:27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