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DING.WAV" ContentType="audio/x-wav"/>
  <Override PartName="/ppt/media/image8.png" ContentType="image/png"/>
  <Override PartName="/ppt/media/image11.jpeg" ContentType="image/jpeg"/>
  <Override PartName="/ppt/media/image7.jpeg" ContentType="image/jpeg"/>
  <Override PartName="/ppt/media/image28.jpeg" ContentType="image/jpeg"/>
  <Override PartName="/ppt/media/image20.png" ContentType="image/png"/>
  <Override PartName="/ppt/media/image34.jpeg" ContentType="image/jpeg"/>
  <Override PartName="/ppt/media/image29.gif" ContentType="image/gif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type.wav" ContentType="audio/x-wav"/>
  <Override PartName="/ppt/media/image6.jpeg" ContentType="image/jpeg"/>
  <Override PartName="/ppt/media/image27.jpeg" ContentType="image/jpeg"/>
  <Override PartName="/ppt/media/image5.png" ContentType="image/png"/>
  <Override PartName="/ppt/media/image35.jpeg" ContentType="image/jpeg"/>
  <Override PartName="/ppt/media/image9.jpeg" ContentType="image/jpeg"/>
  <Override PartName="/ppt/media/coin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C49-AC1B-4735-98DB-1EA17734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1E3-57D7-4BC2-868D-6C0A772E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906-9109-4F47-98DB-031470E7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62E-AE5F-47A5-9BE4-FBF80D23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622080"/>
            <a:ext cx="8229600" cy="23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A22-A030-4855-AFB0-88A88EAA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CEB21-1DC8-49DA-B987-393EC15ED3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720F7-E840-4C50-88E4-997B5190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64B2D-E335-4F8B-A45F-C4250D6A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71084-1BC0-4762-B360-F82287EB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9F0DF-842C-4611-91D0-A3902D4C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AF1-C2B0-402C-9A30-B06D13AA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622080"/>
            <a:ext cx="8229600" cy="23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D4723-B8E0-41A3-A53E-10A55096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A32F2-4F51-424A-815F-2D995B73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3F278-C901-4BEA-BBE3-134FDCCC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5AB8A-9B42-4136-9DAF-1D21F88E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D02DF-A651-4FB0-8832-8191EC7A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D7DF8-E022-449E-A7ED-6DDAF280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2FC7A-44BF-4DDF-A5D7-5810B1350C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FD1-BDB0-4C73-AA46-5D6981D9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622080"/>
            <a:ext cx="8229600" cy="23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6355F-89BB-48C8-948A-4E32B088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D58-A723-4E36-A8BA-D28838C3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44902-3C33-41B9-97C6-15D41356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52467-F7E6-453D-90F8-2CE89CC7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39937-53EE-4FA4-91AF-A6DCD07F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7ECF6-067B-4677-810E-5DEF9ADE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622080"/>
            <a:ext cx="8229600" cy="23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55F3B-3FE6-4810-AC4D-46DE10B1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F9389-93E0-47A2-B9C3-B0A5B454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77BE2-EBF8-4EE7-9F3E-A3E28C27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62542-B16C-4570-A69D-C16B244E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AB32C6-741D-4C24-90A3-6680981F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D3B8A-6DA6-4F3A-95A7-00CB778B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22080"/>
            <a:ext cx="8229600" cy="23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176-CC43-44B1-9310-20088F8A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AFBF3-C1CD-4409-9EDD-6632D8CC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FE9CE-9FDF-42FB-A689-3E006631ADA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3A549-6C3D-43AB-BE24-63AD23217D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8856-4EAA-4FDF-AB07-A8C8F52D169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DD4A0-B914-48A5-B07D-ED4C4100A13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F3F3-E21B-4931-AEE3-9B58EC198D5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622080"/>
            <a:ext cx="8229600" cy="23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1D32B-A0E0-4BE8-BC8D-9F941DA4F4C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1574D-BF8A-42A3-9FC4-A6192EC54F2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01D3E-BB99-4C9B-B4DB-F3F8F51F868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C4E8E-CD3A-480C-B8DF-CCBC00D28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A35-E9B2-42C8-88EA-0A88C14B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4F1B-8FB2-4664-B3CF-13C35B89AE5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20980-D906-4C3D-AF5A-9D186E18092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B0E1F-2193-4707-BF9B-FBF5B918A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8CB-F2B6-4BCB-86B7-3A62B6E1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47D-F2C4-4E97-80BE-91CA9096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2B3E-B2BC-40AC-A4F0-3B10AE3FB0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OOOPIC_vipvip4_2008090402070895c4408333f526ce20"/>
          <p:cNvPicPr/>
          <p:nvPr/>
        </p:nvPicPr>
        <p:blipFill>
          <a:blip r:embed="rId2"/>
          <a:srcRect l="480" t="16062" r="0" b="52399"/>
          <a:stretch/>
        </p:blipFill>
        <p:spPr>
          <a:xfrm>
            <a:off x="0" y="3952800"/>
            <a:ext cx="9144000" cy="29052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0" y="0"/>
            <a:ext cx="9144000" cy="907200"/>
            <a:chOff x="0" y="0"/>
            <a:chExt cx="9144000" cy="907200"/>
          </a:xfrm>
        </p:grpSpPr>
        <p:pic>
          <p:nvPicPr>
            <p:cNvPr id="43" name="Picture 25" descr="1P13S24Q1"/>
            <p:cNvPicPr/>
            <p:nvPr/>
          </p:nvPicPr>
          <p:blipFill>
            <a:blip r:embed="rId3"/>
            <a:srcRect l="0" t="0" r="0" b="84557"/>
            <a:stretch/>
          </p:blipFill>
          <p:spPr>
            <a:xfrm>
              <a:off x="0" y="0"/>
              <a:ext cx="914400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26"/>
            <p:cNvSpPr/>
            <p:nvPr/>
          </p:nvSpPr>
          <p:spPr>
            <a:xfrm>
              <a:off x="2843280" y="591480"/>
              <a:ext cx="288720" cy="31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920" y="1343160"/>
            <a:ext cx="9002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1752480" y="914400"/>
            <a:ext cx="3216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4544280" y="3170160"/>
            <a:ext cx="18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" descr="p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3"/>
          <p:cNvSpPr>
            <a:spLocks noGrp="1"/>
          </p:cNvSpPr>
          <p:nvPr>
            <p:ph type="sldNum" idx="5"/>
          </p:nvPr>
        </p:nvSpPr>
        <p:spPr>
          <a:xfrm>
            <a:off x="434304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-</a:t>
            </a:r>
            <a:fld id="{DEFE7563-1967-4A95-848C-02E3E1A9B3D8}" type="slidenum"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pic>
          <p:nvPicPr>
            <p:cNvPr id="128" name="Picture 9" descr="1P13S24Q1"/>
            <p:cNvPicPr/>
            <p:nvPr/>
          </p:nvPicPr>
          <p:blipFill>
            <a:blip r:embed="rId2"/>
            <a:srcRect l="0" t="0" r="0" b="84557"/>
            <a:stretch/>
          </p:blipFill>
          <p:spPr>
            <a:xfrm>
              <a:off x="0" y="0"/>
              <a:ext cx="91440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10"/>
            <p:cNvSpPr/>
            <p:nvPr/>
          </p:nvSpPr>
          <p:spPr>
            <a:xfrm>
              <a:off x="2843280" y="404640"/>
              <a:ext cx="28872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bf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532a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BED9-FD11-4F2D-912A-29C9174C5B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D:\花纹\儿童.png"/>
          <p:cNvPicPr/>
          <p:nvPr/>
        </p:nvPicPr>
        <p:blipFill>
          <a:blip r:embed="rId2"/>
          <a:stretch/>
        </p:blipFill>
        <p:spPr>
          <a:xfrm>
            <a:off x="5929200" y="5548320"/>
            <a:ext cx="2973600" cy="1166760"/>
          </a:xfrm>
          <a:prstGeom prst="rect">
            <a:avLst/>
          </a:prstGeom>
          <a:ln w="0">
            <a:noFill/>
          </a:ln>
        </p:spPr>
      </p:pic>
      <p:sp>
        <p:nvSpPr>
          <p:cNvPr id="173" name="矩形 7"/>
          <p:cNvSpPr/>
          <p:nvPr/>
        </p:nvSpPr>
        <p:spPr>
          <a:xfrm>
            <a:off x="0" y="6719760"/>
            <a:ext cx="9144000" cy="138240"/>
          </a:xfrm>
          <a:prstGeom prst="rect">
            <a:avLst/>
          </a:prstGeom>
          <a:solidFill>
            <a:srgbClr val="0953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D:\花纹\1.png"/>
          <p:cNvPicPr/>
          <p:nvPr/>
        </p:nvPicPr>
        <p:blipFill>
          <a:blip r:embed="rId3"/>
          <a:stretch/>
        </p:blipFill>
        <p:spPr>
          <a:xfrm>
            <a:off x="6189840" y="0"/>
            <a:ext cx="2954160" cy="20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4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Num" idx="9"/>
          </p:nvPr>
        </p:nvSpPr>
        <p:spPr>
          <a:xfrm>
            <a:off x="7235640" y="6404040"/>
            <a:ext cx="143964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90AFEF6-35EC-485C-9CD4-72385C3C1DC6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hyperlink" Target="288,5,&#24187;&#28783;&#29255; 5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DING.WAV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288,5,&#24187;&#28783;&#29255; 5" TargetMode="External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3.jpeg"/><Relationship Id="rId3" Type="http://schemas.openxmlformats.org/officeDocument/2006/relationships/image" Target="../media/image14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15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image" Target="../media/image14.png"/><Relationship Id="rId4" Type="http://schemas.openxmlformats.org/officeDocument/2006/relationships/hyperlink" Target="257,6,&#24187;&#28783;&#29255; 6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413080" y="177336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2000" y="1687680"/>
            <a:ext cx="17960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cc00"/>
                </a:solidFill>
                <a:latin typeface="Times New Roman"/>
              </a:rPr>
              <a:t>翠鸟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79280" y="1413000"/>
            <a:ext cx="1979640" cy="27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爪子：头上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上：腹部：眼睛：嘴巴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03280" y="2349360"/>
            <a:ext cx="19447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橄榄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03280" y="3645000"/>
            <a:ext cx="19447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浅绿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05080" y="4365720"/>
            <a:ext cx="194292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赤褐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03280" y="5013360"/>
            <a:ext cx="1944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透亮灵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03280" y="5661000"/>
            <a:ext cx="1943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尖又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282920" y="2133720"/>
            <a:ext cx="4643640" cy="4346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403280" y="1701720"/>
            <a:ext cx="194472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　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72400" y="5943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37280" y="5943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03280" y="2854440"/>
            <a:ext cx="1944720" cy="5205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翠绿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21"/>
          <p:cNvSpPr/>
          <p:nvPr/>
        </p:nvSpPr>
        <p:spPr>
          <a:xfrm>
            <a:off x="2700360" y="333360"/>
            <a:ext cx="3313080" cy="863640"/>
          </a:xfrm>
          <a:prstGeom prst="roundRect">
            <a:avLst>
              <a:gd name="adj" fmla="val 10181"/>
            </a:avLst>
          </a:prstGeom>
          <a:solidFill>
            <a:srgbClr val="c0c0c0">
              <a:alpha val="2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文的描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148360" y="3141720"/>
            <a:ext cx="3879720" cy="3591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연분홍"/>
          <p:cNvPicPr/>
          <p:nvPr/>
        </p:nvPicPr>
        <p:blipFill>
          <a:blip r:embed="rId3"/>
          <a:stretch/>
        </p:blipFill>
        <p:spPr>
          <a:xfrm>
            <a:off x="971640" y="117360"/>
            <a:ext cx="2160360" cy="18511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619280" y="765000"/>
            <a:ext cx="100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15" descr="arrow01-orange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324000" y="2421000"/>
            <a:ext cx="3527280" cy="973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8" descr="arrow01-green"/>
          <p:cNvPicPr/>
          <p:nvPr/>
        </p:nvPicPr>
        <p:blipFill>
          <a:blip r:embed="rId5"/>
          <a:stretch/>
        </p:blipFill>
        <p:spPr>
          <a:xfrm>
            <a:off x="324000" y="3645000"/>
            <a:ext cx="3535200" cy="100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6" descr="arrow01-red"/>
          <p:cNvPicPr/>
          <p:nvPr/>
        </p:nvPicPr>
        <p:blipFill>
          <a:blip r:embed="rId6"/>
          <a:stretch/>
        </p:blipFill>
        <p:spPr>
          <a:xfrm>
            <a:off x="250920" y="4797360"/>
            <a:ext cx="3600360" cy="10461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82560" y="2637000"/>
            <a:ext cx="2594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颜色非常鲜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386064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体态小巧玲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00000" y="5084640"/>
            <a:ext cx="18716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眼睛灵活、嘴巴尖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45440" y="5877000"/>
            <a:ext cx="72072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90720" y="2819520"/>
            <a:ext cx="7315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2914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7772400" y="5943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372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284640"/>
            <a:ext cx="7705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它长得可真漂亮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头上的羽毛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像橄榄色的头巾，绣满了翠绿色的花纹；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背上的羽毛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像浅绿色的外衣；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腹部的羽毛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像赤褐色的衬衫；一双透亮灵活的眼睛下面，长着一张又尖又长的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79640" y="4581360"/>
            <a:ext cx="792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95640" y="5157720"/>
            <a:ext cx="792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0920" y="5734080"/>
            <a:ext cx="792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3"/>
          <p:cNvSpPr/>
          <p:nvPr/>
        </p:nvSpPr>
        <p:spPr>
          <a:xfrm>
            <a:off x="434340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-</a:t>
            </a:r>
            <a:fld id="{8A294AD8-D672-47A4-A8C9-A8F9C63E3370}" type="slidenum"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67" descr="연한주황"/>
          <p:cNvPicPr/>
          <p:nvPr/>
        </p:nvPicPr>
        <p:blipFill>
          <a:blip r:embed="rId2"/>
          <a:stretch/>
        </p:blipFill>
        <p:spPr>
          <a:xfrm>
            <a:off x="324000" y="2349360"/>
            <a:ext cx="2057400" cy="184968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21"/>
          <p:cNvSpPr/>
          <p:nvPr/>
        </p:nvSpPr>
        <p:spPr>
          <a:xfrm>
            <a:off x="5076720" y="1557360"/>
            <a:ext cx="2664000" cy="1046160"/>
          </a:xfrm>
          <a:prstGeom prst="roundRect">
            <a:avLst>
              <a:gd name="adj" fmla="val 10181"/>
            </a:avLst>
          </a:prstGeom>
          <a:solidFill>
            <a:srgbClr val="c0c0c0">
              <a:alpha val="2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橄榄色的头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견고딕"/>
                <a:ea typeface="黑体"/>
              </a:rPr>
              <a:t>你从文中发现了什么</a:t>
            </a:r>
            <a:r>
              <a:rPr b="1" lang="zh-CN" sz="3200" spc="-1" strike="noStrike">
                <a:solidFill>
                  <a:srgbClr val="ff0066"/>
                </a:solidFill>
                <a:latin typeface="HY견고딕"/>
                <a:ea typeface="黑体"/>
              </a:rPr>
              <a:t>修辞手法</a:t>
            </a:r>
            <a:r>
              <a:rPr b="1" lang="zh-CN" sz="3200" spc="-1" strike="noStrike">
                <a:solidFill>
                  <a:srgbClr val="000000"/>
                </a:solidFill>
                <a:latin typeface="HY견고딕"/>
                <a:ea typeface="黑体"/>
              </a:rPr>
              <a:t>？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319" name="Picture 15" descr="arrow01-orange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2266920" y="1700280"/>
            <a:ext cx="2590920" cy="936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8" descr="arrow01-green"/>
          <p:cNvPicPr/>
          <p:nvPr/>
        </p:nvPicPr>
        <p:blipFill>
          <a:blip r:embed="rId4"/>
          <a:stretch/>
        </p:blipFill>
        <p:spPr>
          <a:xfrm>
            <a:off x="2266920" y="2997360"/>
            <a:ext cx="2590920" cy="86328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40"/>
          <p:cNvSpPr/>
          <p:nvPr/>
        </p:nvSpPr>
        <p:spPr>
          <a:xfrm>
            <a:off x="5076720" y="2925720"/>
            <a:ext cx="2664000" cy="1004760"/>
          </a:xfrm>
          <a:prstGeom prst="roundRect">
            <a:avLst>
              <a:gd name="adj" fmla="val 10181"/>
            </a:avLst>
          </a:prstGeom>
          <a:solidFill>
            <a:srgbClr val="c0c0c0">
              <a:alpha val="2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浅绿色的外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50" descr="arrow01-blue"/>
          <p:cNvPicPr/>
          <p:nvPr/>
        </p:nvPicPr>
        <p:blipFill>
          <a:blip r:embed="rId5"/>
          <a:stretch/>
        </p:blipFill>
        <p:spPr>
          <a:xfrm>
            <a:off x="2266920" y="4292640"/>
            <a:ext cx="2590920" cy="86688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59"/>
          <p:cNvSpPr/>
          <p:nvPr/>
        </p:nvSpPr>
        <p:spPr>
          <a:xfrm>
            <a:off x="5076720" y="4294080"/>
            <a:ext cx="2664000" cy="935280"/>
          </a:xfrm>
          <a:prstGeom prst="roundRect">
            <a:avLst>
              <a:gd name="adj" fmla="val 10181"/>
            </a:avLst>
          </a:prstGeom>
          <a:solidFill>
            <a:srgbClr val="c0c0c0">
              <a:alpha val="2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赤褐色的衬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65440" y="5518080"/>
            <a:ext cx="54007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781360"/>
            <a:ext cx="151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比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27280" y="1917720"/>
            <a:ext cx="172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头上的羽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27280" y="3213000"/>
            <a:ext cx="172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上的羽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27280" y="4508640"/>
            <a:ext cx="172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头上的羽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739800" y="1538280"/>
            <a:ext cx="79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羽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676520" y="2209680"/>
            <a:ext cx="4800600" cy="1526400"/>
            <a:chOff x="1676520" y="2209680"/>
            <a:chExt cx="4800600" cy="1526400"/>
          </a:xfrm>
        </p:grpSpPr>
        <p:sp>
          <p:nvSpPr>
            <p:cNvPr id="331" name=""/>
            <p:cNvSpPr/>
            <p:nvPr/>
          </p:nvSpPr>
          <p:spPr>
            <a:xfrm>
              <a:off x="1676520" y="220968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把                   比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33720" y="259056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72000" y="2590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76520" y="27432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把                   比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33720" y="31240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72000" y="31240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76520" y="327636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把                   比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3720" y="36576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72000" y="3657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667240" y="2133720"/>
            <a:ext cx="2500920" cy="1557000"/>
            <a:chOff x="2667240" y="2133720"/>
            <a:chExt cx="2500920" cy="1557000"/>
          </a:xfrm>
        </p:grpSpPr>
        <p:sp>
          <p:nvSpPr>
            <p:cNvPr id="341" name=""/>
            <p:cNvSpPr/>
            <p:nvPr/>
          </p:nvSpPr>
          <p:spPr>
            <a:xfrm>
              <a:off x="2676960" y="2133720"/>
              <a:ext cx="2491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腹部的羽毛             衬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67240" y="2133720"/>
              <a:ext cx="24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头上的羽毛            头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560" y="2666880"/>
              <a:ext cx="24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背上的羽毛            外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143000" y="2286000"/>
            <a:ext cx="0" cy="1752480"/>
            <a:chOff x="1143000" y="2286000"/>
            <a:chExt cx="0" cy="1752480"/>
          </a:xfrm>
        </p:grpSpPr>
        <p:sp>
          <p:nvSpPr>
            <p:cNvPr id="345" name=""/>
            <p:cNvSpPr/>
            <p:nvPr/>
          </p:nvSpPr>
          <p:spPr>
            <a:xfrm>
              <a:off x="1143000" y="2286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43000" y="3429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386240" y="51055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抓住事物的特点按顺序进行观察的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1646280"/>
            <a:ext cx="2209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爪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3962520"/>
            <a:ext cx="3124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眼睛、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220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  <p:sndAc>
      <p:stSnd>
        <p:snd r:embed="rId2" name="DING.WAV"/>
      </p:stSnd>
    </p:sndAc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-108000" y="4428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长得可真漂亮：头上的羽毛像橄榄色的头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360" y="692280"/>
            <a:ext cx="350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绣满了翠绿色的花纹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77080" y="1557360"/>
            <a:ext cx="47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背上的羽毛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                 )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25600" y="1628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浅绿色的外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59280" y="2492280"/>
            <a:ext cx="47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的羽毛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      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80880" y="2492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赤褐色的衬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48800" y="3286080"/>
            <a:ext cx="458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            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眼睛下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27160" y="3284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透亮灵活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57720" y="4221000"/>
            <a:ext cx="36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着一张（                      ）的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10520" y="4149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又尖又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8380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夸一夸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16000" y="2492280"/>
            <a:ext cx="80280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真是一只（          ）的翠鸟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763640" y="2133720"/>
            <a:ext cx="5943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翠鸟还有哪些特点？你从哪里看出来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9280" y="1413000"/>
            <a:ext cx="1979640" cy="27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爪子：头上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上：腹部：眼睛：嘴巴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03280" y="2349360"/>
            <a:ext cx="19447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橄榄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03280" y="3645000"/>
            <a:ext cx="19447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浅绿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05080" y="4365720"/>
            <a:ext cx="194292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赤褐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03280" y="5013360"/>
            <a:ext cx="1944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透亮灵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03280" y="5661000"/>
            <a:ext cx="1943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尖又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635280" y="1484280"/>
            <a:ext cx="5505480" cy="51562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403280" y="1701720"/>
            <a:ext cx="194472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　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772400" y="5943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937280" y="5943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03280" y="2854440"/>
            <a:ext cx="1944720" cy="5205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翠绿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1"/>
          <p:cNvSpPr/>
          <p:nvPr/>
        </p:nvSpPr>
        <p:spPr>
          <a:xfrm>
            <a:off x="2700360" y="333360"/>
            <a:ext cx="3313080" cy="863640"/>
          </a:xfrm>
          <a:prstGeom prst="roundRect">
            <a:avLst>
              <a:gd name="adj" fmla="val 10181"/>
            </a:avLst>
          </a:prstGeom>
          <a:solidFill>
            <a:srgbClr val="c0c0c0">
              <a:alpha val="2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文的描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7772400" y="5943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9372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7" descr="연분홍"/>
          <p:cNvPicPr/>
          <p:nvPr/>
        </p:nvPicPr>
        <p:blipFill>
          <a:blip r:embed="rId1"/>
          <a:stretch/>
        </p:blipFill>
        <p:spPr>
          <a:xfrm>
            <a:off x="1476360" y="117360"/>
            <a:ext cx="2160720" cy="18511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052720" y="765000"/>
            <a:ext cx="100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动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5219640" y="3284640"/>
            <a:ext cx="3930840" cy="338436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21"/>
          <p:cNvSpPr/>
          <p:nvPr/>
        </p:nvSpPr>
        <p:spPr>
          <a:xfrm>
            <a:off x="108000" y="2205000"/>
            <a:ext cx="4968720" cy="4249800"/>
          </a:xfrm>
          <a:prstGeom prst="roundRect">
            <a:avLst>
              <a:gd name="adj" fmla="val 10181"/>
            </a:avLst>
          </a:prstGeom>
          <a:solidFill>
            <a:srgbClr val="c0c0c0">
              <a:alpha val="2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翠鸟鸣声清脆，爱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水面疾飞，一眨眼，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轻地停在苇杆上了。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动不动地注视着烦着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波的水面，等待游到水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来的小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13080" y="3068640"/>
            <a:ext cx="50328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47640" y="3645000"/>
            <a:ext cx="754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47640" y="4292640"/>
            <a:ext cx="360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13080" y="4940280"/>
            <a:ext cx="75240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13080" y="5589720"/>
            <a:ext cx="7524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0"/>
          <p:cNvSpPr/>
          <p:nvPr/>
        </p:nvSpPr>
        <p:spPr>
          <a:xfrm>
            <a:off x="3203640" y="333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翠鸟资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0" y="836640"/>
            <a:ext cx="9144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翠鸟又叫鱼狗、钓鱼郎。分布在世界各地，但主要在热带地区，属常见留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　　翠鸟的体形大多数矮小短胖，它的体形有点像啄木鸟，嘴特长，而尾则短小，典型的长嘴短胖鸟。但它的羽毛色彩却十分美丽，可称为举世无双的最美丽的鸟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　　该鸟全身以翠绿色为主，所以叫翠鸟。翠鸟的尾部虽很短，但飞起来很灵活。常常静栖于水中蓬叶上，水边岩石或树技上。眼睛死盯着水面，一旦发现有食物，则以闪电式的速度直飞捕捉，而后再回到栖息地等待，有时像火箭一样在水面飞行，十分好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　　该鸟嗜食鱼类，所以人们又称它为“鱼虎”“水狗”和“鱼狗”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2627280" cy="1952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연분홍"/>
          <p:cNvPicPr/>
          <p:nvPr/>
        </p:nvPicPr>
        <p:blipFill>
          <a:blip r:embed="rId3"/>
          <a:stretch/>
        </p:blipFill>
        <p:spPr>
          <a:xfrm>
            <a:off x="0" y="0"/>
            <a:ext cx="2160720" cy="1851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12720" y="620640"/>
            <a:ext cx="1006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动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21"/>
          <p:cNvSpPr/>
          <p:nvPr/>
        </p:nvSpPr>
        <p:spPr>
          <a:xfrm>
            <a:off x="179280" y="2492280"/>
            <a:ext cx="6336000" cy="3816360"/>
          </a:xfrm>
          <a:prstGeom prst="roundRect">
            <a:avLst>
              <a:gd name="adj" fmla="val 10181"/>
            </a:avLst>
          </a:prstGeom>
          <a:solidFill>
            <a:srgbClr val="c0c0c0">
              <a:alpha val="2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鱼悄悄地把头露出水面，吹了个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泡泡。尽管它这样机灵，还是难以逃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翠鸟锐利的眼睛。翠鸟蹬开苇秆，像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样飞过去，叼起小鱼，贴着水面往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处飞走了。只有苇秆还在摇晃，水波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荡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1836720" y="0"/>
            <a:ext cx="2698920" cy="19638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6804000" y="0"/>
            <a:ext cx="2340000" cy="25653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>
            <a:off x="6804000" y="2565360"/>
            <a:ext cx="2340000" cy="22496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7"/>
          <a:stretch/>
        </p:blipFill>
        <p:spPr>
          <a:xfrm>
            <a:off x="6804000" y="4797360"/>
            <a:ext cx="2376360" cy="2079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24360" y="4365720"/>
            <a:ext cx="753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87280" y="4940280"/>
            <a:ext cx="360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82920" y="4940280"/>
            <a:ext cx="72072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56000" y="4940280"/>
            <a:ext cx="360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55640" y="5518080"/>
            <a:ext cx="720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19280" y="3213000"/>
            <a:ext cx="1152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48000" y="3213000"/>
            <a:ext cx="7192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19640" y="3213000"/>
            <a:ext cx="1152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2319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066680" y="121932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翠鸟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开苇秆，像箭一样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过去，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叼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起小鱼，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着水面一下子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远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6576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翠鸟离开苇秆，很快地飞过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3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752480" y="167652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翠鸟爱贴着水面疾飞，一眨眼，又轻轻地落在苇秆上了。它一动不动，注视着泛着微波的水面，等待着小鱼游到水面上来。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小鱼悄悄地把头露出水面，吹了个小泡泡。尽管机灵，还是难以逃脱翠鸟锐利的眼睛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翠鸟蹬开苇秆，像箭一样飞了过去，叼起小鱼，贴着水面一下子飞远了。只有苇秆还在摇晃，水波还在荡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1760" y="2076480"/>
            <a:ext cx="381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96200" y="2457360"/>
            <a:ext cx="6094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76680" y="4457880"/>
            <a:ext cx="5335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4800600"/>
            <a:ext cx="38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72160" y="4457880"/>
            <a:ext cx="2286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38280" y="2457360"/>
            <a:ext cx="381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67400" y="2095560"/>
            <a:ext cx="6094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38280" y="4800600"/>
            <a:ext cx="381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772400" y="5943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9372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852640"/>
            <a:ext cx="60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00720" y="4797360"/>
            <a:ext cx="57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7" descr="44"/>
          <p:cNvPicPr/>
          <p:nvPr/>
        </p:nvPicPr>
        <p:blipFill>
          <a:blip r:embed="rId1"/>
          <a:srcRect l="0" t="0" r="6355" b="25123"/>
          <a:stretch/>
        </p:blipFill>
        <p:spPr>
          <a:xfrm>
            <a:off x="1403280" y="3789360"/>
            <a:ext cx="2630520" cy="2590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52"/>
          <p:cNvPicPr/>
          <p:nvPr/>
        </p:nvPicPr>
        <p:blipFill>
          <a:blip r:embed="rId2"/>
          <a:stretch/>
        </p:blipFill>
        <p:spPr>
          <a:xfrm>
            <a:off x="1044720" y="549360"/>
            <a:ext cx="3527280" cy="3186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5" descr="27"/>
          <p:cNvPicPr/>
          <p:nvPr/>
        </p:nvPicPr>
        <p:blipFill>
          <a:blip r:embed="rId3"/>
          <a:stretch/>
        </p:blipFill>
        <p:spPr>
          <a:xfrm>
            <a:off x="4716360" y="549360"/>
            <a:ext cx="3816360" cy="31352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22"/>
          <p:cNvPicPr/>
          <p:nvPr/>
        </p:nvPicPr>
        <p:blipFill>
          <a:blip r:embed="rId4"/>
          <a:srcRect l="0" t="0" r="402" b="19774"/>
          <a:stretch/>
        </p:blipFill>
        <p:spPr>
          <a:xfrm>
            <a:off x="4861080" y="3789360"/>
            <a:ext cx="3943080" cy="22939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9"/>
          <p:cNvSpPr/>
          <p:nvPr/>
        </p:nvSpPr>
        <p:spPr>
          <a:xfrm>
            <a:off x="0" y="7389720"/>
            <a:ext cx="4716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1"/>
          <p:cNvSpPr/>
          <p:nvPr/>
        </p:nvSpPr>
        <p:spPr>
          <a:xfrm>
            <a:off x="2859120" y="6093000"/>
            <a:ext cx="12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疾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22"/>
          <p:cNvSpPr/>
          <p:nvPr/>
        </p:nvSpPr>
        <p:spPr>
          <a:xfrm>
            <a:off x="2050920" y="3141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像箭一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7885080" y="306864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蹬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24"/>
          <p:cNvSpPr/>
          <p:nvPr/>
        </p:nvSpPr>
        <p:spPr>
          <a:xfrm>
            <a:off x="7956720" y="602136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叼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84360" y="69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一读下面两个句子，说说那个句子写得好，为什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5640" y="191628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翠鸟叫声清脆，爱在水面上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翠鸟鸣声清脆，爱贴着水面疾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2400" y="5943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9372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4360" y="386064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叫声”和“鸣声”都可以指鸟叫，但是“鸣声”更准确，同时还含有感情色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2339640" y="3573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95640" y="4869000"/>
            <a:ext cx="42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爱贴着水面疾飞”比“爱在水面上飞”更能准确生动的体现出翠鸟动作轻盈、迅捷的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56360" y="3716280"/>
            <a:ext cx="2872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3573360"/>
            <a:ext cx="7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716360" y="3645000"/>
            <a:ext cx="23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0948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55640" y="119700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翠鸟离开苇秆，很快地飞过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翠鸟蹬开苇秆，像箭一样飞过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772400" y="5943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372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342900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蹬开”比“离开”更具体，将翠鸟离开苇秆时的动作、神态、速度生动地描绘了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19640" y="342900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像箭一样飞出去”是一种比喻的说法，他将翠鸟飞走的速度和神态进行了形象的表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195640" y="2924280"/>
            <a:ext cx="504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51640" y="2924280"/>
            <a:ext cx="93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40000" y="292428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88000" y="2924280"/>
            <a:ext cx="2305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0948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一比，你喜欢哪一句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8080" y="2781360"/>
            <a:ext cx="77724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翠鸟叫声清脆，爱贴着水面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翠鸟叫声清脆，爱贴着水面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翠鸟离开苇秆，很快地飞过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翠鸟蹬开苇秆，像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箭一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飞过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72400" y="5943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372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rId1"/>
          </p:cNvPr>
          <p:cNvSpPr/>
          <p:nvPr/>
        </p:nvSpPr>
        <p:spPr>
          <a:xfrm>
            <a:off x="3203640" y="400536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疾，写出翠鸟飞得快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rId2"/>
          </p:cNvPr>
          <p:cNvSpPr/>
          <p:nvPr/>
        </p:nvSpPr>
        <p:spPr>
          <a:xfrm>
            <a:off x="2268360" y="580536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写出翠鸟的动作十分迅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7" descr="연분홍"/>
          <p:cNvPicPr/>
          <p:nvPr/>
        </p:nvPicPr>
        <p:blipFill>
          <a:blip r:embed="rId2"/>
          <a:stretch/>
        </p:blipFill>
        <p:spPr>
          <a:xfrm>
            <a:off x="-22320" y="44280"/>
            <a:ext cx="2144880" cy="18511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466560" y="692280"/>
            <a:ext cx="10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动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2338200" cy="20606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6804000" y="0"/>
            <a:ext cx="2376360" cy="207972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5"/>
          <p:cNvSpPr/>
          <p:nvPr/>
        </p:nvSpPr>
        <p:spPr>
          <a:xfrm>
            <a:off x="4282920" y="2637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鱼：机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45"/>
          <p:cNvSpPr/>
          <p:nvPr/>
        </p:nvSpPr>
        <p:spPr>
          <a:xfrm>
            <a:off x="4282920" y="342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翠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45"/>
          <p:cNvSpPr/>
          <p:nvPr/>
        </p:nvSpPr>
        <p:spPr>
          <a:xfrm>
            <a:off x="5508720" y="3429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更机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3779640" y="2925720"/>
            <a:ext cx="647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8000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50920" y="3068640"/>
            <a:ext cx="15843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对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15" descr="arrow01-orange"/>
          <p:cNvPicPr/>
          <p:nvPr/>
        </p:nvPicPr>
        <p:blipFill>
          <a:blip r:embed="rId5">
            <a:lum bright="20000"/>
          </a:blip>
          <a:stretch/>
        </p:blipFill>
        <p:spPr>
          <a:xfrm>
            <a:off x="1187280" y="4292640"/>
            <a:ext cx="2590920" cy="72072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21"/>
          <p:cNvSpPr/>
          <p:nvPr/>
        </p:nvSpPr>
        <p:spPr>
          <a:xfrm>
            <a:off x="3781440" y="4365720"/>
            <a:ext cx="4032360" cy="649080"/>
          </a:xfrm>
          <a:prstGeom prst="roundRect">
            <a:avLst>
              <a:gd name="adj" fmla="val 10181"/>
            </a:avLst>
          </a:prstGeom>
          <a:solidFill>
            <a:srgbClr val="c0c0c0">
              <a:alpha val="2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反应敏捷、行动迅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42920" y="443700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作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21"/>
          <p:cNvSpPr/>
          <p:nvPr/>
        </p:nvSpPr>
        <p:spPr>
          <a:xfrm>
            <a:off x="3780000" y="5157720"/>
            <a:ext cx="4032000" cy="647640"/>
          </a:xfrm>
          <a:prstGeom prst="roundRect">
            <a:avLst>
              <a:gd name="adj" fmla="val 10181"/>
            </a:avLst>
          </a:prstGeom>
          <a:solidFill>
            <a:srgbClr val="c0c0c0">
              <a:alpha val="2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中有哪些依据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21"/>
          <p:cNvSpPr/>
          <p:nvPr/>
        </p:nvSpPr>
        <p:spPr>
          <a:xfrm>
            <a:off x="3780000" y="5950080"/>
            <a:ext cx="4032000" cy="647640"/>
          </a:xfrm>
          <a:prstGeom prst="roundRect">
            <a:avLst>
              <a:gd name="adj" fmla="val 10181"/>
            </a:avLst>
          </a:prstGeom>
          <a:solidFill>
            <a:srgbClr val="c0c0c0">
              <a:alpha val="2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什么动作敏捷迅速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6"/>
          <a:stretch/>
        </p:blipFill>
        <p:spPr>
          <a:xfrm>
            <a:off x="1908000" y="0"/>
            <a:ext cx="2627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60948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由读第四、五自然段，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2781360"/>
            <a:ext cx="77724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我们的脸为什么发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打消了这个念头，这个念头指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章表达了对翠鸟的什么情感？你是从哪些语句中看出来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772400" y="5943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9372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1042920" y="2205000"/>
            <a:ext cx="5473800" cy="734400"/>
            <a:chOff x="1042920" y="2205000"/>
            <a:chExt cx="5473800" cy="734400"/>
          </a:xfrm>
        </p:grpSpPr>
        <p:grpSp>
          <p:nvGrpSpPr>
            <p:cNvPr id="476" name=""/>
            <p:cNvGrpSpPr/>
            <p:nvPr/>
          </p:nvGrpSpPr>
          <p:grpSpPr>
            <a:xfrm>
              <a:off x="1042920" y="2205000"/>
              <a:ext cx="2788560" cy="647280"/>
              <a:chOff x="1042920" y="2205000"/>
              <a:chExt cx="2788560" cy="647280"/>
            </a:xfrm>
          </p:grpSpPr>
          <p:sp>
            <p:nvSpPr>
              <p:cNvPr id="477" name="Rectangle 19"/>
              <p:cNvSpPr/>
              <p:nvPr/>
            </p:nvSpPr>
            <p:spPr>
              <a:xfrm>
                <a:off x="1353600" y="2205000"/>
                <a:ext cx="2477880" cy="64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Oval 18"/>
              <p:cNvSpPr/>
              <p:nvPr/>
            </p:nvSpPr>
            <p:spPr>
              <a:xfrm>
                <a:off x="1042920" y="2205000"/>
                <a:ext cx="723960" cy="64728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  <a:effectLst>
                <a:outerShdw dist="153753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Rectangle 21"/>
            <p:cNvSpPr/>
            <p:nvPr/>
          </p:nvSpPr>
          <p:spPr>
            <a:xfrm>
              <a:off x="1818000" y="2296800"/>
              <a:ext cx="469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翠鸟的家在哪里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042920" y="3139920"/>
            <a:ext cx="5473800" cy="734400"/>
            <a:chOff x="1042920" y="3139920"/>
            <a:chExt cx="5473800" cy="734400"/>
          </a:xfrm>
        </p:grpSpPr>
        <p:grpSp>
          <p:nvGrpSpPr>
            <p:cNvPr id="481" name=""/>
            <p:cNvGrpSpPr/>
            <p:nvPr/>
          </p:nvGrpSpPr>
          <p:grpSpPr>
            <a:xfrm>
              <a:off x="1042920" y="3139920"/>
              <a:ext cx="2788560" cy="649440"/>
              <a:chOff x="1042920" y="3139920"/>
              <a:chExt cx="2788560" cy="649440"/>
            </a:xfrm>
          </p:grpSpPr>
          <p:sp>
            <p:nvSpPr>
              <p:cNvPr id="482" name="Rectangle 19"/>
              <p:cNvSpPr/>
              <p:nvPr/>
            </p:nvSpPr>
            <p:spPr>
              <a:xfrm>
                <a:off x="1353600" y="3139920"/>
                <a:ext cx="2477880" cy="649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Oval 18"/>
              <p:cNvSpPr/>
              <p:nvPr/>
            </p:nvSpPr>
            <p:spPr>
              <a:xfrm>
                <a:off x="1042920" y="3139920"/>
                <a:ext cx="723960" cy="6494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  <a:effectLst>
                <a:outerShdw dist="153753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Rectangle 21"/>
            <p:cNvSpPr/>
            <p:nvPr/>
          </p:nvSpPr>
          <p:spPr>
            <a:xfrm>
              <a:off x="1818000" y="3231720"/>
              <a:ext cx="469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翠鸟的家好找吗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042920" y="4076640"/>
            <a:ext cx="5473800" cy="734400"/>
            <a:chOff x="1042920" y="4076640"/>
            <a:chExt cx="5473800" cy="734400"/>
          </a:xfrm>
        </p:grpSpPr>
        <p:grpSp>
          <p:nvGrpSpPr>
            <p:cNvPr id="486" name=""/>
            <p:cNvGrpSpPr/>
            <p:nvPr/>
          </p:nvGrpSpPr>
          <p:grpSpPr>
            <a:xfrm>
              <a:off x="1042920" y="4076640"/>
              <a:ext cx="2788560" cy="649440"/>
              <a:chOff x="1042920" y="4076640"/>
              <a:chExt cx="2788560" cy="649440"/>
            </a:xfrm>
          </p:grpSpPr>
          <p:sp>
            <p:nvSpPr>
              <p:cNvPr id="487" name="Rectangle 19"/>
              <p:cNvSpPr/>
              <p:nvPr/>
            </p:nvSpPr>
            <p:spPr>
              <a:xfrm>
                <a:off x="1353600" y="4076640"/>
                <a:ext cx="2477880" cy="649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Oval 18"/>
              <p:cNvSpPr/>
              <p:nvPr/>
            </p:nvSpPr>
            <p:spPr>
              <a:xfrm>
                <a:off x="1042920" y="4076640"/>
                <a:ext cx="723960" cy="6494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  <a:effectLst>
                <a:outerShdw dist="153753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Rectangle 21"/>
            <p:cNvSpPr/>
            <p:nvPr/>
          </p:nvSpPr>
          <p:spPr>
            <a:xfrm>
              <a:off x="1818000" y="4168440"/>
              <a:ext cx="469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能饲养一只翠鸟吗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2050920" y="907920"/>
            <a:ext cx="4967280" cy="749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读第四、五两段，回答下面的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042920" y="5013360"/>
            <a:ext cx="6768720" cy="734400"/>
            <a:chOff x="1042920" y="5013360"/>
            <a:chExt cx="6768720" cy="734400"/>
          </a:xfrm>
        </p:grpSpPr>
        <p:grpSp>
          <p:nvGrpSpPr>
            <p:cNvPr id="492" name=""/>
            <p:cNvGrpSpPr/>
            <p:nvPr/>
          </p:nvGrpSpPr>
          <p:grpSpPr>
            <a:xfrm>
              <a:off x="1042920" y="5013360"/>
              <a:ext cx="3448080" cy="648360"/>
              <a:chOff x="1042920" y="5013360"/>
              <a:chExt cx="3448080" cy="648360"/>
            </a:xfrm>
          </p:grpSpPr>
          <p:sp>
            <p:nvSpPr>
              <p:cNvPr id="493" name="Rectangle 19"/>
              <p:cNvSpPr/>
              <p:nvPr/>
            </p:nvSpPr>
            <p:spPr>
              <a:xfrm>
                <a:off x="1427040" y="5013360"/>
                <a:ext cx="3063960" cy="648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Oval 18"/>
              <p:cNvSpPr/>
              <p:nvPr/>
            </p:nvSpPr>
            <p:spPr>
              <a:xfrm>
                <a:off x="1042920" y="5013360"/>
                <a:ext cx="894960" cy="64836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  <a:effectLst>
                <a:outerShdw dist="153753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5" name="Rectangle 21"/>
            <p:cNvSpPr/>
            <p:nvPr/>
          </p:nvSpPr>
          <p:spPr>
            <a:xfrm>
              <a:off x="2002680" y="5105160"/>
              <a:ext cx="580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渔翁说，翠鸟来干什么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364000" y="5805360"/>
            <a:ext cx="2160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900000" y="5877000"/>
            <a:ext cx="5400360" cy="734400"/>
            <a:chOff x="900000" y="5877000"/>
            <a:chExt cx="5400360" cy="734400"/>
          </a:xfrm>
        </p:grpSpPr>
        <p:grpSp>
          <p:nvGrpSpPr>
            <p:cNvPr id="498" name=""/>
            <p:cNvGrpSpPr/>
            <p:nvPr/>
          </p:nvGrpSpPr>
          <p:grpSpPr>
            <a:xfrm>
              <a:off x="900000" y="5877000"/>
              <a:ext cx="2751120" cy="647280"/>
              <a:chOff x="900000" y="5877000"/>
              <a:chExt cx="2751120" cy="647280"/>
            </a:xfrm>
          </p:grpSpPr>
          <p:sp>
            <p:nvSpPr>
              <p:cNvPr id="499" name="Rectangle 19"/>
              <p:cNvSpPr/>
              <p:nvPr/>
            </p:nvSpPr>
            <p:spPr>
              <a:xfrm>
                <a:off x="1206360" y="5877000"/>
                <a:ext cx="2444760" cy="64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18"/>
              <p:cNvSpPr/>
              <p:nvPr/>
            </p:nvSpPr>
            <p:spPr>
              <a:xfrm>
                <a:off x="900000" y="5877000"/>
                <a:ext cx="714240" cy="6472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  <a:effectLst>
                <a:outerShdw dist="153753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Rectangle 21"/>
            <p:cNvSpPr/>
            <p:nvPr/>
          </p:nvSpPr>
          <p:spPr>
            <a:xfrm>
              <a:off x="1664640" y="5968800"/>
              <a:ext cx="463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们应该怎样做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09480" y="4572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教学目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838080" y="17524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684360" y="1773360"/>
            <a:ext cx="73911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认识翠鸟的外形、动作、住处三个方面的特点，懂得课文的叙述顺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学习作者抓住特点，从外形到活动到住所的观察方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有感情地朗读课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622080"/>
            <a:ext cx="670716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考：你体会到了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真想捉一只翠鸟来饲养。老渔翁看了看我们说：“孩子们，你们知道翠鸟的家在哪里？沿着小溪上去，在那陡峭的石壁上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它从那么远的地方飞到这里来，是要和你们做朋友的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的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脸有些发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打消了这个念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在翠鸟飞来的时候，我们远远地看着它那美丽的羽毛，希望它在苇秆上多停一会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4222080" y="1523880"/>
            <a:ext cx="9853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读：先读一读自然段中的每句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找：再找出重点词语理解每句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说：然后借助重点词语说说每句话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背：最后在理解的基础上背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30720" y="1219320"/>
            <a:ext cx="239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四步”背诵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DIN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324000" y="404640"/>
            <a:ext cx="8568720" cy="2808000"/>
            <a:chOff x="324000" y="404640"/>
            <a:chExt cx="8568720" cy="2808000"/>
          </a:xfrm>
        </p:grpSpPr>
        <p:sp>
          <p:nvSpPr>
            <p:cNvPr id="507" name="AutoShape 27"/>
            <p:cNvSpPr/>
            <p:nvPr/>
          </p:nvSpPr>
          <p:spPr>
            <a:xfrm>
              <a:off x="324000" y="404640"/>
              <a:ext cx="8568720" cy="2808000"/>
            </a:xfrm>
            <a:prstGeom prst="horizontalScroll">
              <a:avLst>
                <a:gd name="adj" fmla="val 12500"/>
              </a:avLst>
            </a:prstGeom>
            <a:solidFill>
              <a:srgbClr val="0000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8" name="Picture 26" descr="OOOPIC_vipvip4_20080904020555e6f3a3c6f5467d2c11"/>
            <p:cNvPicPr/>
            <p:nvPr/>
          </p:nvPicPr>
          <p:blipFill>
            <a:blip r:embed="rId1"/>
            <a:srcRect l="24388" t="0" r="16026" b="-1577"/>
            <a:stretch/>
          </p:blipFill>
          <p:spPr>
            <a:xfrm>
              <a:off x="823320" y="904320"/>
              <a:ext cx="982080" cy="190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Rectangle 28"/>
            <p:cNvSpPr/>
            <p:nvPr/>
          </p:nvSpPr>
          <p:spPr>
            <a:xfrm>
              <a:off x="1889280" y="906480"/>
              <a:ext cx="6590880" cy="180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50920" y="3141720"/>
            <a:ext cx="8641800" cy="2808000"/>
            <a:chOff x="250920" y="3141720"/>
            <a:chExt cx="8641800" cy="2808000"/>
          </a:xfrm>
        </p:grpSpPr>
        <p:sp>
          <p:nvSpPr>
            <p:cNvPr id="511" name="AutoShape 27"/>
            <p:cNvSpPr/>
            <p:nvPr/>
          </p:nvSpPr>
          <p:spPr>
            <a:xfrm>
              <a:off x="250920" y="3141720"/>
              <a:ext cx="8641800" cy="2808000"/>
            </a:xfrm>
            <a:prstGeom prst="horizontalScroll">
              <a:avLst>
                <a:gd name="adj" fmla="val 12500"/>
              </a:avLst>
            </a:prstGeom>
            <a:solidFill>
              <a:srgbClr val="0000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2" name="Picture 26" descr="OOOPIC_vipvip4_20080904020555e6f3a3c6f5467d2c11"/>
            <p:cNvPicPr/>
            <p:nvPr/>
          </p:nvPicPr>
          <p:blipFill>
            <a:blip r:embed="rId2"/>
            <a:srcRect l="24388" t="0" r="16026" b="-1577"/>
            <a:stretch/>
          </p:blipFill>
          <p:spPr>
            <a:xfrm>
              <a:off x="754560" y="3641400"/>
              <a:ext cx="990360" cy="190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Rectangle 28"/>
            <p:cNvSpPr/>
            <p:nvPr/>
          </p:nvSpPr>
          <p:spPr>
            <a:xfrm>
              <a:off x="1829520" y="3643560"/>
              <a:ext cx="6647400" cy="180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050920" y="1268280"/>
            <a:ext cx="475308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以“我喜欢的鸟”为主题，向大家介绍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己所了解的鸟的外形、活动特点、生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习性，以及怎样保护鸟类的常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68360" y="4076640"/>
            <a:ext cx="532944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说说我们该怎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与动物和谐相处</a:t>
            </a: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1835280" y="692280"/>
            <a:ext cx="460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最喜欢的鸟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7" name=""/>
          <p:cNvSpPr/>
          <p:nvPr/>
        </p:nvSpPr>
        <p:spPr>
          <a:xfrm>
            <a:off x="2411280" y="2277000"/>
            <a:ext cx="38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外形、活动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生活习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有趣的故事</a:t>
            </a:r>
            <a:r>
              <a:rPr b="1" lang="zh-CN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1908000" y="2060640"/>
            <a:ext cx="646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翠鸟        苇秆         腹部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衬衫        透亮      又尖又长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清脆        疾飞      一眨眼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泡泡        逃脱         饲养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渔翁     石壁       打消       念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3276720" y="404640"/>
            <a:ext cx="37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词语学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82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914400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清脆：声音清脆悦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疾飞：形容飞得很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锐利：在课文中指翠鸟眼光很尖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陡峭：形容山的坡度很大，几乎是笔直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希望：心里想达到某种目的或等待出现某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4360" y="620640"/>
            <a:ext cx="1366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小助手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heel/>
    <p:sndAc>
      <p:stSnd>
        <p:snd r:embed="rId4" name="coin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1235160" cy="12794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3132000" y="333360"/>
            <a:ext cx="201636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自我检查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093080" y="1197000"/>
            <a:ext cx="1249200" cy="1295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4932360" y="3141720"/>
            <a:ext cx="4157640" cy="33066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826920" y="1700280"/>
            <a:ext cx="172908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黑体"/>
              </a:rPr>
              <a:t>观察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黑体"/>
              <a:ea typeface="黑体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3789360"/>
            <a:ext cx="31687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自己的话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只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1235160" cy="127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3132000" y="333360"/>
            <a:ext cx="201636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自我检查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7093080" y="1197000"/>
            <a:ext cx="1249200" cy="1295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4788000" y="2565360"/>
            <a:ext cx="3933720" cy="29512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826920" y="1844640"/>
            <a:ext cx="172908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黑体"/>
              </a:rPr>
              <a:t>自读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黑体"/>
              <a:ea typeface="黑体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860640"/>
            <a:ext cx="32767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是怎样来描述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rcRect l="61004" t="0" r="0" b="0"/>
          <a:stretch/>
        </p:blipFill>
        <p:spPr>
          <a:xfrm>
            <a:off x="-36360" y="-98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067280" y="2133720"/>
            <a:ext cx="5105160" cy="4724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연분홍"/>
          <p:cNvPicPr/>
          <p:nvPr/>
        </p:nvPicPr>
        <p:blipFill>
          <a:blip r:embed="rId3"/>
          <a:stretch/>
        </p:blipFill>
        <p:spPr>
          <a:xfrm>
            <a:off x="826920" y="44280"/>
            <a:ext cx="2160720" cy="18511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332000" y="692280"/>
            <a:ext cx="100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6920" y="206064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爪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6920" y="34290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羽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6920" y="4724280"/>
            <a:ext cx="205740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620640"/>
            <a:ext cx="38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读第一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描写的顺序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45440" y="5877000"/>
            <a:ext cx="72072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2:48:04Z</dcterms:created>
  <dc:creator>Administrator</dc:creator>
  <dc:description/>
  <dc:language>en-US</dc:language>
  <cp:lastModifiedBy/>
  <dcterms:modified xsi:type="dcterms:W3CDTF">2015-08-20T03:25:24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