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B45-A96D-4A93-8605-024E46E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763-E915-4F0E-8233-538374BD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8D0-9A15-4FCC-B226-24DC9F2A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D7A-83C3-4A85-A18F-E5E894CF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191-DD2D-4FB1-BD6D-551DDFD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7C3-5587-41AF-986C-F5F114D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375-F6DA-4050-821E-590B20D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44F-20F5-4528-9DC1-0AA1726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038-AB93-4C42-BFD0-1E3D470F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F25-86FF-456C-87D9-52CDBCE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BC1-14FE-4119-8429-F54AA18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8D0-6103-4A99-8729-B4367CB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313C-20EA-4721-9CDC-60EBDC7C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2" descr=""/>
          <p:cNvPicPr/>
          <p:nvPr/>
        </p:nvPicPr>
        <p:blipFill>
          <a:blip r:embed="rId1"/>
          <a:stretch/>
        </p:blipFill>
        <p:spPr>
          <a:xfrm>
            <a:off x="2109960" y="1914480"/>
            <a:ext cx="46321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1"/>
          <p:cNvGrpSpPr/>
          <p:nvPr/>
        </p:nvGrpSpPr>
        <p:grpSpPr>
          <a:xfrm>
            <a:off x="7020000" y="6537240"/>
            <a:ext cx="2049480" cy="276480"/>
            <a:chOff x="7020000" y="6537240"/>
            <a:chExt cx="2049480" cy="276480"/>
          </a:xfrm>
        </p:grpSpPr>
        <p:pic>
          <p:nvPicPr>
            <p:cNvPr id="43" name="Picture 3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0200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9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0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3883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 Box 42"/>
          <p:cNvSpPr/>
          <p:nvPr/>
        </p:nvSpPr>
        <p:spPr>
          <a:xfrm>
            <a:off x="4939560" y="6446880"/>
            <a:ext cx="1278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页面即可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908000" y="2178000"/>
            <a:ext cx="597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仰头看，天变成了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云，就是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鸟，就是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705920" y="28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翻滚奔腾的波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37880" y="357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来往穿梭的鱼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4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12" name="Picture 25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6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7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8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天蓝海蓝"/>
          <p:cNvPicPr/>
          <p:nvPr/>
        </p:nvPicPr>
        <p:blipFill>
          <a:blip r:embed="rId1"/>
          <a:stretch/>
        </p:blipFill>
        <p:spPr>
          <a:xfrm>
            <a:off x="1476360" y="1557360"/>
            <a:ext cx="5796000" cy="4346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539640" y="76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海上的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19" name="Picture 22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3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4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5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116000" y="1889280"/>
            <a:ext cx="7632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上的风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的是大海的（     ）美，用了（     ）的方法，分别把大海比作（    ）、（    ）、（      ）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7318440" y="2087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3286080" y="2708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630440" y="3456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4211640" y="3429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琴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931080" y="34290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力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1773360" y="4149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狮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31" name="Picture 3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WordArt 37"/>
          <p:cNvSpPr txBox="1"/>
          <p:nvPr/>
        </p:nvSpPr>
        <p:spPr>
          <a:xfrm>
            <a:off x="755640" y="836640"/>
            <a:ext cx="208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258920" y="4653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大海333"/>
          <p:cNvPicPr/>
          <p:nvPr/>
        </p:nvPicPr>
        <p:blipFill>
          <a:blip r:embed="rId1"/>
          <a:srcRect l="0" t="0" r="0" b="3091"/>
          <a:stretch/>
        </p:blipFill>
        <p:spPr>
          <a:xfrm>
            <a:off x="324000" y="260280"/>
            <a:ext cx="8388360" cy="612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403280" y="4608360"/>
            <a:ext cx="367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海上的风是花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他一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就绽开万朵浪花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40" name="Picture 24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5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6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7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42920" y="5300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556000" y="2203560"/>
            <a:ext cx="432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海上的风是琴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他一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就奏出万种乐曲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47" name="Picture 24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5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6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2700360" y="2131920"/>
            <a:ext cx="482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海上的风是大力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他一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就送走万片渔帆</a:t>
            </a:r>
            <a:r>
              <a:rPr b="0" lang="en-US" sz="3600" spc="-1" strike="noStrike">
                <a:solidFill>
                  <a:srgbClr val="3333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53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0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492360" y="2421000"/>
            <a:ext cx="468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海上的风是狮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他一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就掀起滔天波浪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60" name="Picture 22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3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4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5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476360" y="244944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上的风是（       ），他（    ），就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33520" y="2705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魔术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773960" y="33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来阵阵笑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010600" y="33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5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69" name="Picture 26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7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8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9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WordArt 31"/>
          <p:cNvSpPr txBox="1"/>
          <p:nvPr/>
        </p:nvSpPr>
        <p:spPr>
          <a:xfrm>
            <a:off x="971640" y="981000"/>
            <a:ext cx="180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6" descr="图片13"/>
          <p:cNvPicPr/>
          <p:nvPr/>
        </p:nvPicPr>
        <p:blipFill>
          <a:blip r:embed="rId1"/>
          <a:stretch/>
        </p:blipFill>
        <p:spPr>
          <a:xfrm>
            <a:off x="539640" y="333360"/>
            <a:ext cx="7956720" cy="5991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900080" y="774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大海睡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77" name="Picture 23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4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5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6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大海22"/>
          <p:cNvPicPr/>
          <p:nvPr/>
        </p:nvPicPr>
        <p:blipFill>
          <a:blip r:embed="rId1"/>
          <a:srcRect l="0" t="0" r="0" b="436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060720" y="3290760"/>
            <a:ext cx="468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她抱着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她背着星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那轻轻的潮声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是她熟睡的鼾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84" name="Picture 22" descr="按扭1"/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9" descr="图片8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5294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95280" y="189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请你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50" name="Picture 25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7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8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619280" y="27813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也许游览过大海，也许从电视上看到过大海，把自己对大海的喜爱用笔描述出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90" name="Picture 23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4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5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6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WordArt 27"/>
          <p:cNvSpPr txBox="1"/>
          <p:nvPr/>
        </p:nvSpPr>
        <p:spPr>
          <a:xfrm>
            <a:off x="1116000" y="907920"/>
            <a:ext cx="208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作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13"/>
          <p:cNvSpPr txBox="1"/>
          <p:nvPr/>
        </p:nvSpPr>
        <p:spPr>
          <a:xfrm>
            <a:off x="2843280" y="2354400"/>
            <a:ext cx="3481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7059600" y="6537240"/>
            <a:ext cx="2049480" cy="276480"/>
            <a:chOff x="7059600" y="6537240"/>
            <a:chExt cx="2049480" cy="276480"/>
          </a:xfrm>
        </p:grpSpPr>
        <p:pic>
          <p:nvPicPr>
            <p:cNvPr id="197" name="Picture 33" descr="按扭1"/>
            <p:cNvPicPr/>
            <p:nvPr/>
          </p:nvPicPr>
          <p:blipFill>
            <a:blip r:embed="rId1"/>
            <a:stretch/>
          </p:blipFill>
          <p:spPr>
            <a:xfrm>
              <a:off x="70596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4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7407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6" descr="按扭5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图片11"/>
          <p:cNvPicPr/>
          <p:nvPr/>
        </p:nvPicPr>
        <p:blipFill>
          <a:blip r:embed="rId1"/>
          <a:stretch/>
        </p:blipFill>
        <p:spPr>
          <a:xfrm>
            <a:off x="900000" y="765000"/>
            <a:ext cx="6804000" cy="51134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56" name="Picture 2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图片7"/>
          <p:cNvPicPr/>
          <p:nvPr/>
        </p:nvPicPr>
        <p:blipFill>
          <a:blip r:embed="rId1"/>
          <a:stretch/>
        </p:blipFill>
        <p:spPr>
          <a:xfrm>
            <a:off x="684360" y="1628640"/>
            <a:ext cx="3208320" cy="2414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40360" y="2349360"/>
            <a:ext cx="468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看着这些图片，你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5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63" name="Picture 26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7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8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9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44720" y="1074600"/>
            <a:ext cx="34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学要求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476360" y="242100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116000" y="227664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读课文，读正确字音，读通句子，并说说每一首诗歌给你留下了怎样的印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8"/>
          <p:cNvGrpSpPr/>
          <p:nvPr/>
        </p:nvGrpSpPr>
        <p:grpSpPr>
          <a:xfrm>
            <a:off x="6302520" y="6581880"/>
            <a:ext cx="2841480" cy="276120"/>
            <a:chOff x="6302520" y="6581880"/>
            <a:chExt cx="2841480" cy="276120"/>
          </a:xfrm>
        </p:grpSpPr>
        <p:pic>
          <p:nvPicPr>
            <p:cNvPr id="71" name="Picture 29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02520" y="658188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0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0214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1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421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476360" y="242100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971640" y="90792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首诗歌给我们留下的印象是天是蓝色，海也是蓝色，海和天非常广阔，连成一体，非常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971640" y="2816280"/>
            <a:ext cx="712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首诗歌描述了大海的动态美，写出了海风来时海上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971640" y="418320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首诗歌写了大海的静态美，写了夜晚大海宁静时的景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80" name="Picture 3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258920" y="1224000"/>
            <a:ext cx="216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语花篮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476360" y="2637000"/>
            <a:ext cx="60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纹  潮声  仰头  翻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腾  琴师  渔船  白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319480" y="365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88" name="Picture 3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258920" y="2060640"/>
            <a:ext cx="734544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无边的海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0" lang="zh-CN" sz="35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像一面大玉镜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个（     ）句，把（     ）比作（ 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4221360" y="3716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6958080" y="3716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2641680" y="43196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玉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97" name="Picture 26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7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8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9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258920" y="1052640"/>
            <a:ext cx="6624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映着天，天变蓝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映着鸟，鸟也变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天和鸟真的变蓝了吗？你想到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900000" y="4421520"/>
            <a:ext cx="755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  <a:ea typeface="楷体_GB2312"/>
              </a:rPr>
              <a:t>天和鸟实际上并没有变蓝。我想到的是天和海十分广阔，在它们的怀抱里，一切仿佛都变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04" name="Picture 25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6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7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8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3:58:28Z</dcterms:created>
  <dc:creator>微软用户</dc:creator>
  <dc:description/>
  <dc:language>en-US</dc:language>
  <cp:lastModifiedBy>dreamsummit</cp:lastModifiedBy>
  <dcterms:modified xsi:type="dcterms:W3CDTF">2014-12-30T07:36:12Z</dcterms:modified>
  <cp:revision>56</cp:revision>
  <dc:subject/>
  <dc:title>幻灯片 1</dc:title>
</cp:coreProperties>
</file>