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88BB-3A37-4B39-B134-7AA12BB41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836136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39840" y="3755160"/>
            <a:ext cx="836136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6375-F71C-4462-ACBB-DA26C141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408024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24560" y="1106640"/>
            <a:ext cx="408024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4EB8D9-ABC5-4177-8BA5-4CBFD141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86F4D8-65DE-4382-86D2-188BD4DE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39840" y="101160"/>
            <a:ext cx="83707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83373-36A9-4AF9-8D12-EE9002A1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24560" y="1106640"/>
            <a:ext cx="408024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39840" y="375516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4864F-2AC5-4B45-A6E8-2A3EBDB1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408024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2456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24560" y="375516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D15DFB-EF96-4336-A4C7-8D48943B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2456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39840" y="3755160"/>
            <a:ext cx="836136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B1E43-D122-410F-93D4-E10EAAF0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836136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39840" y="3755160"/>
            <a:ext cx="836136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A08A06-6864-4D7E-BDE4-581DAB1B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456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39840" y="375516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24560" y="375516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38E6E-07C0-414D-929D-026ABDD5C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66920" y="110664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994000" y="110664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39840" y="375516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66920" y="375516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5994000" y="375516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F3CA2C-9CE5-4E10-9604-1D718AF10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9AE064-247B-4223-B712-81982FAE5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456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39840" y="375516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4560" y="375516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4F8E-6033-4080-B63F-B6E5FB5F5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339840" y="1106640"/>
            <a:ext cx="836136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C033EA-CE01-47C0-9E58-31915E44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836136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245516-C70C-4B71-8B69-C20E4B1E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408024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24560" y="1106640"/>
            <a:ext cx="408024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D59598-52C9-4BBE-AA84-75AB314C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BC865-36F0-4702-837D-A1C5329C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339840" y="101160"/>
            <a:ext cx="83707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BEBA81-4F45-4EEA-8500-D961674A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24560" y="1106640"/>
            <a:ext cx="408024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39840" y="375516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A52EC5-975A-4690-BA3E-7E7ED74B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408024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2456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24560" y="375516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659E7-FBC9-44B2-9F7C-B482A28B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2456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39840" y="3755160"/>
            <a:ext cx="836136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4D558-0660-46A3-9754-B1F797E7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836136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39840" y="3755160"/>
            <a:ext cx="836136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1E7D6C-E08C-4A86-9441-6D6BE7FE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2456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39840" y="375516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24560" y="375516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CBD55F-46AB-4354-8E59-85C8EDC31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6920" y="110664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4000" y="110664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39840" y="375516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6920" y="375516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4000" y="375516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3246-4FA9-4F95-B38A-556B7D267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166920" y="110664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94000" y="110664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339840" y="375516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166920" y="375516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94000" y="375516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BDB7A-5AEA-42A9-87D4-7B7F81852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56BD-A373-4E26-9919-1A456F1B4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39840" y="1106640"/>
            <a:ext cx="836136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6390-5595-4052-8318-98A3B03C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836136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AD68-8E5C-488F-9266-298EAD4C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408024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4560" y="1106640"/>
            <a:ext cx="408024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5FE8-5B0F-45B6-A8F0-41C90809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6FE9-810D-48BD-9806-9AB054AE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39840" y="101160"/>
            <a:ext cx="83707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F25A-C1A8-46C7-8A68-FB4433A4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4560" y="1106640"/>
            <a:ext cx="408024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39840" y="375516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E53B-A605-47DC-9FBB-2044837A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39840" y="1106640"/>
            <a:ext cx="836136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F0D9-37AA-4723-A416-32B43C76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408024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456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4560" y="375516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9220-8EB1-4A86-B75F-064D44BD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456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39840" y="3755160"/>
            <a:ext cx="836136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6738-3279-4605-9B02-ECBFD94D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836136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9840" y="3755160"/>
            <a:ext cx="836136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3848-F7C9-4402-B465-640295B6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456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39840" y="375516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4560" y="375516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F19F-CBE1-4AB5-AA8C-F333F35B8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66920" y="110664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4000" y="110664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39840" y="375516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66920" y="375516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4000" y="375516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06FF-1503-47C0-9476-4F3B4EC2A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B9CF3-4E7C-4F36-BBDF-7798DEEDD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39840" y="1106640"/>
            <a:ext cx="836136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4EF9B-9973-47DC-8B10-1757DDEC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836136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CBA52-469C-4310-87D7-2461554A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408024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24560" y="1106640"/>
            <a:ext cx="408024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6FDF2-C6B6-4151-8F67-3BB681A5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FB493-026F-44DF-BB42-C7781BF4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836136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2F84-F34D-485C-B2A1-2BDABCD6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39840" y="101160"/>
            <a:ext cx="83707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6FA92-FCDE-4523-B4D2-4B4C5C8A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24560" y="1106640"/>
            <a:ext cx="408024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39840" y="375516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3F5BD-9862-49C7-9D89-C7A66CB4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408024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456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24560" y="375516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0AE2C-0B60-409F-954F-7538F442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456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39840" y="3755160"/>
            <a:ext cx="836136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B4002-503C-45E3-BD46-702203E7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836136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9840" y="3755160"/>
            <a:ext cx="836136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E11D6-96D6-41AD-B146-70384A6F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2456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39840" y="375516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24560" y="375516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F360F-ECC5-4257-A48B-1CAAC95F2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66920" y="110664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94000" y="110664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39840" y="375516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66920" y="375516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94000" y="375516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5B795-A25A-4360-A14C-BD6B33C3D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E007F-7ED1-442C-A908-4E7984B31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39840" y="1106640"/>
            <a:ext cx="836136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13B84-EB41-4EE9-8DF1-5BDD3F37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836136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A1647-C763-4AA0-BB50-F8200837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408024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4560" y="1106640"/>
            <a:ext cx="408024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F5FB-50D8-470C-BCCD-9AEEDBC9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408024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4560" y="1106640"/>
            <a:ext cx="408024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290B8-05B7-4F38-93B7-A2984D27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11790-8AC7-4115-8D10-A0CD71B9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39840" y="101160"/>
            <a:ext cx="83707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4161C-17BC-4659-8A87-A93D8B25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24560" y="1106640"/>
            <a:ext cx="408024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39840" y="375516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1F15B-7DD2-473F-9933-505A331E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408024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2456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24560" y="375516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3AE42-5608-4A3A-9EDE-79BD92DD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2456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39840" y="3755160"/>
            <a:ext cx="836136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FC5DB-F41A-406F-B8B1-3755CA20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836136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9840" y="3755160"/>
            <a:ext cx="836136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FF28F-0A74-42E7-B29B-33103751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2456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39840" y="375516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24560" y="375516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E70C1-A152-4D15-8695-6A79D20F6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166920" y="110664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94000" y="110664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39840" y="375516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166920" y="375516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94000" y="375516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29596-A91F-4B79-9AED-72FB9DF06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AE0F4-3457-40CE-A580-0446207F0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DB4D-03C6-4998-8813-AD83F765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39840" y="1106640"/>
            <a:ext cx="836136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93A78-8DDD-460A-B2A1-D04FBAED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836136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76D74-488B-4F1A-B2C8-E82AB118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408024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24560" y="1106640"/>
            <a:ext cx="408024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3E978-6A8A-466D-A144-DA4AC96B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B9118-3BF5-4427-BA38-CF52E53B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39840" y="101160"/>
            <a:ext cx="83707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BBE3E-4C96-47F1-BB95-575657D1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4560" y="1106640"/>
            <a:ext cx="408024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39840" y="375516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89B37-2103-45B0-A369-9E74F844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408024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2456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24560" y="375516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51659-CBE0-4380-B638-A161BF1F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2456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39840" y="3755160"/>
            <a:ext cx="836136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4A429-6101-4CEE-9448-8F9177FF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836136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9840" y="3755160"/>
            <a:ext cx="836136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C56BF-6144-4069-854A-E664EB2F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2456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39840" y="375516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24560" y="375516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5D4E9-579B-4806-887D-93398F6B1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39840" y="101160"/>
            <a:ext cx="83707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CB08-D41E-41BD-B7E0-3272BC19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166920" y="110664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94000" y="110664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39840" y="375516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166920" y="375516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94000" y="375516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5479A-A28F-42B1-9955-C4B950F5F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F241A-B2C0-49A4-AB2F-677D269D1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39840" y="1106640"/>
            <a:ext cx="836136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89FB1-C45F-4AA1-961C-C061FC62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836136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9E8BF-8B4C-4CEE-8F03-27DC7363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408024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4560" y="1106640"/>
            <a:ext cx="408024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23489-F334-428C-9A40-DDB95D74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F36A0-4362-4CDE-ACE1-93809871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39840" y="101160"/>
            <a:ext cx="83707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E2A78-68F6-46FC-A3BE-C7ECB235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24560" y="1106640"/>
            <a:ext cx="408024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39840" y="375516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BC979-F86B-4E35-BABC-7AB8B41E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408024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2456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24560" y="375516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AF925-E65E-49CC-B8AD-0673380A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2456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39840" y="3755160"/>
            <a:ext cx="836136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D68FE-787A-4C0B-8DA9-BEC094DE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4560" y="1106640"/>
            <a:ext cx="408024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39840" y="375516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C90F-9F3E-4C28-BB25-A68BD3AE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836136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39840" y="3755160"/>
            <a:ext cx="836136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01520-FB07-451D-A6A7-F258A9F7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2456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39840" y="375516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24560" y="375516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0A125-4348-4B71-A819-E8CBA366C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166920" y="110664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94000" y="110664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339840" y="375516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166920" y="375516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94000" y="375516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DD14A-5BA7-422E-A4E2-40A824983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1AF0F-A935-4F31-B0C0-19C9A43B7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339840" y="1106640"/>
            <a:ext cx="836136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21A2B-62C5-49A2-B56D-EAD63DC2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836136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6383C-79B7-4E97-B82B-0F53DCD3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408024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24560" y="1106640"/>
            <a:ext cx="408024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A68DD-A326-47F0-8299-EE006104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193F6-B1E0-4A4E-9F1C-2C2EA22A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339840" y="101160"/>
            <a:ext cx="83707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6AB14-25CE-43F9-8118-F6390298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24560" y="1106640"/>
            <a:ext cx="408024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39840" y="375516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55042-1B8B-4729-A7F1-C73842EA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408024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456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4560" y="375516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BEED-0B53-4747-9D57-466AA5A1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408024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2456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24560" y="375516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6497B-4300-4E0D-852B-E27F31F9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2456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339840" y="3755160"/>
            <a:ext cx="836136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4969B-AF0C-45D9-9477-32BEB41F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836136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39840" y="3755160"/>
            <a:ext cx="836136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BC440-B1C9-4589-909E-45EDEF67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456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39840" y="375516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24560" y="375516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01A0D-841B-4C85-875B-6FEA2A9F2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166920" y="110664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94000" y="110664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339840" y="375516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166920" y="375516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94000" y="375516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86336-1808-4A68-9C04-79A911367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243EA-4F2C-40CB-B2E6-E03791107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339840" y="1106640"/>
            <a:ext cx="836136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1F219-EE62-439F-AC9D-3C3ECB9F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836136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3161F-A244-4154-B454-1BCFE825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408024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24560" y="1106640"/>
            <a:ext cx="408024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5820C-D10A-4DE5-B019-ABE6CE6A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5F175-F8C9-49CA-A8C0-E40A8F12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456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39840" y="3755160"/>
            <a:ext cx="836136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F0F4-D06B-4BA9-B1A2-350F6582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339840" y="101160"/>
            <a:ext cx="83707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CD623-9EB4-4DBA-9372-018976F2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24560" y="1106640"/>
            <a:ext cx="408024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339840" y="375516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C1486-CA49-44B4-9B62-69854948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408024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2456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24560" y="375516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BB056-6F3B-4C60-8051-1FB09DFD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2456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339840" y="3755160"/>
            <a:ext cx="836136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12A9B-B6F9-4027-B91A-96DAF463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836136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39840" y="3755160"/>
            <a:ext cx="836136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0A771-ECAF-4A34-B993-826A9643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4560" y="110664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339840" y="375516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24560" y="3755160"/>
            <a:ext cx="408024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186DA-E659-48B3-B370-BAD9065AF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166920" y="110664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994000" y="110664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339840" y="375516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166920" y="375516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5994000" y="3755160"/>
            <a:ext cx="2692080" cy="24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558F1-66F7-485B-AA81-4415C4CD0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7881E-0922-4758-B51A-558A79EA4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39840" y="1106640"/>
            <a:ext cx="836136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BB6A6D-254F-4CEF-8276-5F0B7269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39840" y="1106640"/>
            <a:ext cx="836136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1DD9CE-E98D-45F7-9AF7-92D79B9C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400" t="1321" r="0" b="37274"/>
          <a:stretch/>
        </p:blipFill>
        <p:spPr>
          <a:xfrm>
            <a:off x="0" y="0"/>
            <a:ext cx="9142560" cy="428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8024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39840" y="1106640"/>
            <a:ext cx="836136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1" marL="345960" indent="56844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2" marL="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3" marL="1371600" indent="-4572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4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5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6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159E-621B-4C59-9725-814EAC7B862A}" type="datetime">
              <a:rPr b="0" lang="zh-CN" sz="1200" spc="-1" strike="noStrike">
                <a:solidFill>
                  <a:srgbClr val="929292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8E4C-77D3-40CE-8619-361D2487D112}" type="slidenum">
              <a:rPr b="0" lang="zh-CN" sz="12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图片 6" descr=""/>
          <p:cNvPicPr/>
          <p:nvPr/>
        </p:nvPicPr>
        <p:blipFill>
          <a:blip r:embed="rId2"/>
          <a:srcRect l="400" t="1321" r="0" b="37274"/>
          <a:stretch/>
        </p:blipFill>
        <p:spPr>
          <a:xfrm>
            <a:off x="0" y="0"/>
            <a:ext cx="9142560" cy="428472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8024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339840" y="1106640"/>
            <a:ext cx="836136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1" marL="345960" indent="56844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2" marL="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3" marL="1371600" indent="-4572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4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5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6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CF53-4E36-47A4-B3E3-14291F3C6A5C}" type="datetime">
              <a:rPr b="0" lang="zh-CN" sz="1200" spc="-1" strike="noStrike">
                <a:solidFill>
                  <a:srgbClr val="929292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EE8C-4A4B-4E25-BE4D-D17E9126B5AD}" type="slidenum">
              <a:rPr b="0" lang="zh-CN" sz="12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8" descr=""/>
          <p:cNvPicPr/>
          <p:nvPr/>
        </p:nvPicPr>
        <p:blipFill>
          <a:blip r:embed="rId2"/>
          <a:srcRect l="400" t="2922" r="0" b="22683"/>
          <a:stretch/>
        </p:blipFill>
        <p:spPr>
          <a:xfrm>
            <a:off x="0" y="0"/>
            <a:ext cx="9144000" cy="5191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8024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39840" y="1106640"/>
            <a:ext cx="836136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1" marL="345960" indent="56844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2" marL="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3" marL="1371600" indent="-4572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4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5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6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6F53-A9CA-4F1F-A1ED-4111B4AD5014}" type="datetime">
              <a:rPr b="0" lang="zh-CN" sz="1200" spc="-1" strike="noStrike">
                <a:solidFill>
                  <a:srgbClr val="929292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64DF-70D0-4E40-8B59-1CA3F786828F}" type="slidenum">
              <a:rPr b="0" lang="zh-CN" sz="12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6" descr=""/>
          <p:cNvPicPr/>
          <p:nvPr/>
        </p:nvPicPr>
        <p:blipFill>
          <a:blip r:embed="rId2"/>
          <a:srcRect l="400" t="1321" r="0" b="37274"/>
          <a:stretch/>
        </p:blipFill>
        <p:spPr>
          <a:xfrm>
            <a:off x="0" y="0"/>
            <a:ext cx="9142560" cy="4284720"/>
          </a:xfrm>
          <a:prstGeom prst="rect">
            <a:avLst/>
          </a:prstGeom>
          <a:ln w="0">
            <a:noFill/>
          </a:ln>
        </p:spPr>
      </p:pic>
      <p:sp>
        <p:nvSpPr>
          <p:cNvPr id="85" name="Freeform 5"/>
          <p:cNvSpPr/>
          <p:nvPr/>
        </p:nvSpPr>
        <p:spPr>
          <a:xfrm>
            <a:off x="914400" y="1731960"/>
            <a:ext cx="819000" cy="619200"/>
          </a:xfrm>
          <a:custGeom>
            <a:avLst/>
            <a:gdLst/>
            <a:ahLst/>
            <a:rect l="l" t="t" r="r" b="b"/>
            <a:pathLst>
              <a:path w="4811" h="3654">
                <a:moveTo>
                  <a:pt x="4662" y="0"/>
                </a:moveTo>
                <a:cubicBezTo>
                  <a:pt x="4662" y="250"/>
                  <a:pt x="4662" y="499"/>
                  <a:pt x="4662" y="749"/>
                </a:cubicBezTo>
                <a:cubicBezTo>
                  <a:pt x="4497" y="843"/>
                  <a:pt x="4365" y="937"/>
                  <a:pt x="4265" y="1030"/>
                </a:cubicBezTo>
                <a:cubicBezTo>
                  <a:pt x="4067" y="1249"/>
                  <a:pt x="3984" y="1389"/>
                  <a:pt x="4017" y="1452"/>
                </a:cubicBezTo>
                <a:cubicBezTo>
                  <a:pt x="4017" y="1561"/>
                  <a:pt x="4017" y="1670"/>
                  <a:pt x="4017" y="1780"/>
                </a:cubicBezTo>
                <a:cubicBezTo>
                  <a:pt x="4282" y="1780"/>
                  <a:pt x="4546" y="1780"/>
                  <a:pt x="4811" y="1780"/>
                </a:cubicBezTo>
                <a:cubicBezTo>
                  <a:pt x="4811" y="2404"/>
                  <a:pt x="4811" y="3029"/>
                  <a:pt x="4811" y="3654"/>
                </a:cubicBezTo>
                <a:cubicBezTo>
                  <a:pt x="4183" y="3654"/>
                  <a:pt x="3555" y="3654"/>
                  <a:pt x="2926" y="3654"/>
                </a:cubicBezTo>
                <a:cubicBezTo>
                  <a:pt x="2926" y="3076"/>
                  <a:pt x="2926" y="2498"/>
                  <a:pt x="2926" y="1920"/>
                </a:cubicBezTo>
                <a:cubicBezTo>
                  <a:pt x="3026" y="890"/>
                  <a:pt x="3604" y="250"/>
                  <a:pt x="4662" y="0"/>
                </a:cubicBezTo>
                <a:close/>
                <a:moveTo>
                  <a:pt x="1736" y="0"/>
                </a:moveTo>
                <a:cubicBezTo>
                  <a:pt x="1736" y="250"/>
                  <a:pt x="1736" y="499"/>
                  <a:pt x="1736" y="749"/>
                </a:cubicBezTo>
                <a:cubicBezTo>
                  <a:pt x="1339" y="937"/>
                  <a:pt x="1125" y="1171"/>
                  <a:pt x="1091" y="1452"/>
                </a:cubicBezTo>
                <a:cubicBezTo>
                  <a:pt x="1091" y="1561"/>
                  <a:pt x="1091" y="1670"/>
                  <a:pt x="1091" y="1780"/>
                </a:cubicBezTo>
                <a:cubicBezTo>
                  <a:pt x="1356" y="1780"/>
                  <a:pt x="1620" y="1780"/>
                  <a:pt x="1885" y="1780"/>
                </a:cubicBezTo>
                <a:cubicBezTo>
                  <a:pt x="1885" y="2404"/>
                  <a:pt x="1885" y="3029"/>
                  <a:pt x="1885" y="3654"/>
                </a:cubicBezTo>
                <a:cubicBezTo>
                  <a:pt x="1257" y="3654"/>
                  <a:pt x="629" y="3654"/>
                  <a:pt x="0" y="3654"/>
                </a:cubicBezTo>
                <a:cubicBezTo>
                  <a:pt x="0" y="3076"/>
                  <a:pt x="0" y="2498"/>
                  <a:pt x="0" y="1920"/>
                </a:cubicBezTo>
                <a:cubicBezTo>
                  <a:pt x="166" y="827"/>
                  <a:pt x="744" y="187"/>
                  <a:pt x="1736" y="0"/>
                </a:cubicBezTo>
                <a:close/>
              </a:path>
            </a:pathLst>
          </a:custGeom>
          <a:solidFill>
            <a:srgbClr val="afd8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8024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39840" y="1106640"/>
            <a:ext cx="836136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1" marL="345960" indent="56844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2" marL="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3" marL="1371600" indent="-4572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4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5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6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C035-EEDC-40C2-A1AC-462F542DB7B1}" type="datetime">
              <a:rPr b="0" lang="zh-CN" sz="1200" spc="-1" strike="noStrike">
                <a:solidFill>
                  <a:srgbClr val="929292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2429-7B39-4435-A5D0-F6A269DF7CFE}" type="slidenum">
              <a:rPr b="0" lang="zh-CN" sz="12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6" descr=""/>
          <p:cNvPicPr/>
          <p:nvPr/>
        </p:nvPicPr>
        <p:blipFill>
          <a:blip r:embed="rId2"/>
          <a:srcRect l="400" t="1321" r="0" b="37274"/>
          <a:stretch/>
        </p:blipFill>
        <p:spPr>
          <a:xfrm>
            <a:off x="0" y="0"/>
            <a:ext cx="9142560" cy="428472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9" descr=""/>
          <p:cNvPicPr/>
          <p:nvPr/>
        </p:nvPicPr>
        <p:blipFill>
          <a:blip r:embed="rId3"/>
          <a:stretch/>
        </p:blipFill>
        <p:spPr>
          <a:xfrm>
            <a:off x="6180120" y="2889360"/>
            <a:ext cx="808200" cy="718920"/>
          </a:xfrm>
          <a:prstGeom prst="rect">
            <a:avLst/>
          </a:prstGeom>
          <a:ln w="0">
            <a:noFill/>
          </a:ln>
        </p:spPr>
      </p:pic>
      <p:sp>
        <p:nvSpPr>
          <p:cNvPr id="129" name="直接连接符 10"/>
          <p:cNvSpPr/>
          <p:nvPr/>
        </p:nvSpPr>
        <p:spPr>
          <a:xfrm>
            <a:off x="2176560" y="3371760"/>
            <a:ext cx="4011480" cy="0"/>
          </a:xfrm>
          <a:prstGeom prst="line">
            <a:avLst/>
          </a:prstGeom>
          <a:ln w="6480">
            <a:solidFill>
              <a:srgbClr val="c9e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f3f3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8024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39840" y="1106640"/>
            <a:ext cx="836136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1" marL="345960" indent="56844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2" marL="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3" marL="1371600" indent="-4572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4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5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6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09CC-FB95-4696-987B-FBA2F81C7FEF}" type="datetime">
              <a:rPr b="0" lang="zh-CN" sz="1200" spc="-1" strike="noStrike">
                <a:solidFill>
                  <a:srgbClr val="929292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8F0B-C62A-45EA-9CEA-4522C229E4AF}" type="slidenum">
              <a:rPr b="0" lang="zh-CN" sz="12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图片 6" descr=""/>
          <p:cNvPicPr/>
          <p:nvPr/>
        </p:nvPicPr>
        <p:blipFill>
          <a:blip r:embed="rId2"/>
          <a:srcRect l="400" t="1321" r="0" b="37274"/>
          <a:stretch/>
        </p:blipFill>
        <p:spPr>
          <a:xfrm>
            <a:off x="0" y="0"/>
            <a:ext cx="9142560" cy="4284720"/>
          </a:xfrm>
          <a:prstGeom prst="rect">
            <a:avLst/>
          </a:prstGeom>
          <a:ln w="0">
            <a:noFill/>
          </a:ln>
        </p:spPr>
      </p:pic>
      <p:sp>
        <p:nvSpPr>
          <p:cNvPr id="172" name="Freeform 5"/>
          <p:cNvSpPr/>
          <p:nvPr/>
        </p:nvSpPr>
        <p:spPr>
          <a:xfrm>
            <a:off x="927000" y="1876320"/>
            <a:ext cx="538200" cy="412920"/>
          </a:xfrm>
          <a:custGeom>
            <a:avLst/>
            <a:gdLst/>
            <a:ahLst/>
            <a:rect l="l" t="t" r="r" b="b"/>
            <a:pathLst>
              <a:path w="4811" h="3654">
                <a:moveTo>
                  <a:pt x="4662" y="0"/>
                </a:moveTo>
                <a:cubicBezTo>
                  <a:pt x="4662" y="250"/>
                  <a:pt x="4662" y="499"/>
                  <a:pt x="4662" y="749"/>
                </a:cubicBezTo>
                <a:cubicBezTo>
                  <a:pt x="4497" y="843"/>
                  <a:pt x="4365" y="937"/>
                  <a:pt x="4265" y="1030"/>
                </a:cubicBezTo>
                <a:cubicBezTo>
                  <a:pt x="4067" y="1249"/>
                  <a:pt x="3984" y="1389"/>
                  <a:pt x="4017" y="1452"/>
                </a:cubicBezTo>
                <a:cubicBezTo>
                  <a:pt x="4017" y="1561"/>
                  <a:pt x="4017" y="1670"/>
                  <a:pt x="4017" y="1780"/>
                </a:cubicBezTo>
                <a:cubicBezTo>
                  <a:pt x="4282" y="1780"/>
                  <a:pt x="4546" y="1780"/>
                  <a:pt x="4811" y="1780"/>
                </a:cubicBezTo>
                <a:cubicBezTo>
                  <a:pt x="4811" y="2404"/>
                  <a:pt x="4811" y="3029"/>
                  <a:pt x="4811" y="3654"/>
                </a:cubicBezTo>
                <a:cubicBezTo>
                  <a:pt x="4183" y="3654"/>
                  <a:pt x="3555" y="3654"/>
                  <a:pt x="2926" y="3654"/>
                </a:cubicBezTo>
                <a:cubicBezTo>
                  <a:pt x="2926" y="3076"/>
                  <a:pt x="2926" y="2498"/>
                  <a:pt x="2926" y="1920"/>
                </a:cubicBezTo>
                <a:cubicBezTo>
                  <a:pt x="3026" y="890"/>
                  <a:pt x="3604" y="250"/>
                  <a:pt x="4662" y="0"/>
                </a:cubicBezTo>
                <a:close/>
                <a:moveTo>
                  <a:pt x="1736" y="0"/>
                </a:moveTo>
                <a:cubicBezTo>
                  <a:pt x="1736" y="250"/>
                  <a:pt x="1736" y="499"/>
                  <a:pt x="1736" y="749"/>
                </a:cubicBezTo>
                <a:cubicBezTo>
                  <a:pt x="1339" y="937"/>
                  <a:pt x="1125" y="1171"/>
                  <a:pt x="1091" y="1452"/>
                </a:cubicBezTo>
                <a:cubicBezTo>
                  <a:pt x="1091" y="1561"/>
                  <a:pt x="1091" y="1670"/>
                  <a:pt x="1091" y="1780"/>
                </a:cubicBezTo>
                <a:cubicBezTo>
                  <a:pt x="1356" y="1780"/>
                  <a:pt x="1620" y="1780"/>
                  <a:pt x="1885" y="1780"/>
                </a:cubicBezTo>
                <a:cubicBezTo>
                  <a:pt x="1885" y="2404"/>
                  <a:pt x="1885" y="3029"/>
                  <a:pt x="1885" y="3654"/>
                </a:cubicBezTo>
                <a:cubicBezTo>
                  <a:pt x="1257" y="3654"/>
                  <a:pt x="629" y="3654"/>
                  <a:pt x="0" y="3654"/>
                </a:cubicBezTo>
                <a:cubicBezTo>
                  <a:pt x="0" y="3076"/>
                  <a:pt x="0" y="2498"/>
                  <a:pt x="0" y="1920"/>
                </a:cubicBezTo>
                <a:cubicBezTo>
                  <a:pt x="166" y="827"/>
                  <a:pt x="744" y="187"/>
                  <a:pt x="1736" y="0"/>
                </a:cubicBezTo>
                <a:close/>
              </a:path>
            </a:pathLst>
          </a:custGeom>
          <a:solidFill>
            <a:srgbClr val="afd8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Times New Roman"/>
            </a:endParaRPr>
          </a:p>
        </p:txBody>
      </p:sp>
      <p:sp>
        <p:nvSpPr>
          <p:cNvPr id="173" name="Freeform 5"/>
          <p:cNvSpPr/>
          <p:nvPr/>
        </p:nvSpPr>
        <p:spPr>
          <a:xfrm>
            <a:off x="927000" y="4083120"/>
            <a:ext cx="538200" cy="412560"/>
          </a:xfrm>
          <a:custGeom>
            <a:avLst/>
            <a:gdLst/>
            <a:ahLst/>
            <a:rect l="l" t="t" r="r" b="b"/>
            <a:pathLst>
              <a:path w="4811" h="3654">
                <a:moveTo>
                  <a:pt x="4662" y="0"/>
                </a:moveTo>
                <a:cubicBezTo>
                  <a:pt x="4662" y="250"/>
                  <a:pt x="4662" y="499"/>
                  <a:pt x="4662" y="749"/>
                </a:cubicBezTo>
                <a:cubicBezTo>
                  <a:pt x="4497" y="843"/>
                  <a:pt x="4365" y="937"/>
                  <a:pt x="4265" y="1030"/>
                </a:cubicBezTo>
                <a:cubicBezTo>
                  <a:pt x="4067" y="1249"/>
                  <a:pt x="3984" y="1389"/>
                  <a:pt x="4017" y="1452"/>
                </a:cubicBezTo>
                <a:cubicBezTo>
                  <a:pt x="4017" y="1561"/>
                  <a:pt x="4017" y="1670"/>
                  <a:pt x="4017" y="1780"/>
                </a:cubicBezTo>
                <a:cubicBezTo>
                  <a:pt x="4282" y="1780"/>
                  <a:pt x="4546" y="1780"/>
                  <a:pt x="4811" y="1780"/>
                </a:cubicBezTo>
                <a:cubicBezTo>
                  <a:pt x="4811" y="2404"/>
                  <a:pt x="4811" y="3029"/>
                  <a:pt x="4811" y="3654"/>
                </a:cubicBezTo>
                <a:cubicBezTo>
                  <a:pt x="4183" y="3654"/>
                  <a:pt x="3555" y="3654"/>
                  <a:pt x="2926" y="3654"/>
                </a:cubicBezTo>
                <a:cubicBezTo>
                  <a:pt x="2926" y="3076"/>
                  <a:pt x="2926" y="2498"/>
                  <a:pt x="2926" y="1920"/>
                </a:cubicBezTo>
                <a:cubicBezTo>
                  <a:pt x="3026" y="890"/>
                  <a:pt x="3604" y="250"/>
                  <a:pt x="4662" y="0"/>
                </a:cubicBezTo>
                <a:close/>
                <a:moveTo>
                  <a:pt x="1736" y="0"/>
                </a:moveTo>
                <a:cubicBezTo>
                  <a:pt x="1736" y="250"/>
                  <a:pt x="1736" y="499"/>
                  <a:pt x="1736" y="749"/>
                </a:cubicBezTo>
                <a:cubicBezTo>
                  <a:pt x="1339" y="937"/>
                  <a:pt x="1125" y="1171"/>
                  <a:pt x="1091" y="1452"/>
                </a:cubicBezTo>
                <a:cubicBezTo>
                  <a:pt x="1091" y="1561"/>
                  <a:pt x="1091" y="1670"/>
                  <a:pt x="1091" y="1780"/>
                </a:cubicBezTo>
                <a:cubicBezTo>
                  <a:pt x="1356" y="1780"/>
                  <a:pt x="1620" y="1780"/>
                  <a:pt x="1885" y="1780"/>
                </a:cubicBezTo>
                <a:cubicBezTo>
                  <a:pt x="1885" y="2404"/>
                  <a:pt x="1885" y="3029"/>
                  <a:pt x="1885" y="3654"/>
                </a:cubicBezTo>
                <a:cubicBezTo>
                  <a:pt x="1257" y="3654"/>
                  <a:pt x="629" y="3654"/>
                  <a:pt x="0" y="3654"/>
                </a:cubicBezTo>
                <a:cubicBezTo>
                  <a:pt x="0" y="3076"/>
                  <a:pt x="0" y="2498"/>
                  <a:pt x="0" y="1920"/>
                </a:cubicBezTo>
                <a:cubicBezTo>
                  <a:pt x="166" y="827"/>
                  <a:pt x="744" y="187"/>
                  <a:pt x="1736" y="0"/>
                </a:cubicBezTo>
                <a:close/>
              </a:path>
            </a:pathLst>
          </a:custGeom>
          <a:solidFill>
            <a:srgbClr val="afd8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8024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39840" y="1106640"/>
            <a:ext cx="836136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1" marL="345960" indent="56844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2" marL="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3" marL="1371600" indent="-4572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4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5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6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2887-F537-44F2-A984-E6FCA5035C9A}" type="datetime">
              <a:rPr b="0" lang="zh-CN" sz="1200" spc="-1" strike="noStrike">
                <a:solidFill>
                  <a:srgbClr val="929292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4EB6-C157-4E71-89F3-3709E342E360}" type="slidenum">
              <a:rPr b="0" lang="zh-CN" sz="12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6" descr=""/>
          <p:cNvPicPr/>
          <p:nvPr/>
        </p:nvPicPr>
        <p:blipFill>
          <a:blip r:embed="rId2"/>
          <a:srcRect l="400" t="1321" r="0" b="37274"/>
          <a:stretch/>
        </p:blipFill>
        <p:spPr>
          <a:xfrm>
            <a:off x="0" y="0"/>
            <a:ext cx="9142560" cy="4284720"/>
          </a:xfrm>
          <a:prstGeom prst="rect">
            <a:avLst/>
          </a:prstGeom>
          <a:ln w="0">
            <a:noFill/>
          </a:ln>
        </p:spPr>
      </p:pic>
      <p:sp>
        <p:nvSpPr>
          <p:cNvPr id="216" name="空心弧 5"/>
          <p:cNvSpPr/>
          <p:nvPr/>
        </p:nvSpPr>
        <p:spPr>
          <a:xfrm rot="7086000">
            <a:off x="5027400" y="2633760"/>
            <a:ext cx="1482480" cy="1482480"/>
          </a:xfrm>
          <a:custGeom>
            <a:avLst/>
            <a:gdLst/>
            <a:ahLst/>
            <a:rect l="l" t="t" r="r" b="b"/>
            <a:pathLst>
              <a:path w="1482725" h="1482725">
                <a:moveTo>
                  <a:pt x="719254" y="1482395"/>
                </a:moveTo>
                <a:cubicBezTo>
                  <a:pt x="319979" y="1470650"/>
                  <a:pt x="0" y="1143374"/>
                  <a:pt x="0" y="741363"/>
                </a:cubicBezTo>
                <a:cubicBezTo>
                  <a:pt x="0" y="331920"/>
                  <a:pt x="331919" y="1"/>
                  <a:pt x="741362" y="1"/>
                </a:cubicBezTo>
                <a:cubicBezTo>
                  <a:pt x="1150805" y="1"/>
                  <a:pt x="1482724" y="331920"/>
                  <a:pt x="1482724" y="741363"/>
                </a:cubicBezTo>
                <a:cubicBezTo>
                  <a:pt x="1482724" y="890353"/>
                  <a:pt x="1438774" y="1029078"/>
                  <a:pt x="1363147" y="1145256"/>
                </a:cubicBezTo>
                <a:lnTo>
                  <a:pt x="1349990" y="1136690"/>
                </a:lnTo>
                <a:cubicBezTo>
                  <a:pt x="1424093" y="1022999"/>
                  <a:pt x="1467111" y="887204"/>
                  <a:pt x="1467111" y="741362"/>
                </a:cubicBezTo>
                <a:cubicBezTo>
                  <a:pt x="1467111" y="340542"/>
                  <a:pt x="1142182" y="15613"/>
                  <a:pt x="741362" y="15613"/>
                </a:cubicBezTo>
                <a:cubicBezTo>
                  <a:pt x="340542" y="15613"/>
                  <a:pt x="15613" y="340542"/>
                  <a:pt x="15613" y="741362"/>
                </a:cubicBezTo>
                <a:cubicBezTo>
                  <a:pt x="15613" y="1134940"/>
                  <a:pt x="328906" y="1455344"/>
                  <a:pt x="719711" y="1466794"/>
                </a:cubicBezTo>
                <a:close/>
              </a:path>
            </a:pathLst>
          </a:custGeom>
          <a:solidFill>
            <a:srgbClr val="76aa30"/>
          </a:solidFill>
          <a:ln w="3240">
            <a:solidFill>
              <a:srgbClr val="76aa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8024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339840" y="1106640"/>
            <a:ext cx="836136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1" marL="345960" indent="56844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2" marL="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3" marL="1371600" indent="-4572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4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5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6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6537-50A4-4AE7-80CF-8F0E445E002B}" type="datetime">
              <a:rPr b="0" lang="zh-CN" sz="1200" spc="-1" strike="noStrike">
                <a:solidFill>
                  <a:srgbClr val="929292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056A-7F41-4878-B668-3CEE88A5A3B9}" type="slidenum">
              <a:rPr b="0" lang="zh-CN" sz="12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图片 4" descr=""/>
          <p:cNvPicPr/>
          <p:nvPr/>
        </p:nvPicPr>
        <p:blipFill>
          <a:blip r:embed="rId2"/>
          <a:srcRect l="400" t="1321" r="0" b="37274"/>
          <a:stretch/>
        </p:blipFill>
        <p:spPr>
          <a:xfrm>
            <a:off x="0" y="0"/>
            <a:ext cx="9142560" cy="428472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8024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339840" y="1106640"/>
            <a:ext cx="836136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1" marL="345960" indent="56844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2" marL="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3" marL="1371600" indent="-4572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4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5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6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7BD8-22F2-4DDE-B34F-BD03B411911A}" type="datetime">
              <a:rPr b="0" lang="zh-CN" sz="1200" spc="-1" strike="noStrike">
                <a:solidFill>
                  <a:srgbClr val="929292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525B-33BB-446C-BF86-E86872BB4D50}" type="slidenum">
              <a:rPr b="0" lang="zh-CN" sz="12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8024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339840" y="1106640"/>
            <a:ext cx="836136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1" marL="345960" indent="56844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2" marL="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3" marL="1371600" indent="-4572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4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5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6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5A0A-079A-4F6C-8581-A27223F4989B}" type="datetime">
              <a:rPr b="0" lang="zh-CN" sz="1200" spc="-1" strike="noStrike">
                <a:solidFill>
                  <a:srgbClr val="929292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E8C7-37E8-4814-B17A-9985C62B5E6C}" type="slidenum">
              <a:rPr b="0" lang="zh-CN" sz="12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39840" y="10116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8024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98024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39840" y="1106640"/>
            <a:ext cx="836136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1" marL="345960" indent="56844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2" marL="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3" marL="1371600" indent="-4572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4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5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  <a:p>
            <a:pPr lvl="6" marL="1828800" indent="-9144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aa3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76aa3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E780-9E92-4E24-80FC-0B4B9178F734}" type="datetime">
              <a:rPr b="0" lang="zh-CN" sz="1200" spc="-1" strike="noStrike">
                <a:solidFill>
                  <a:srgbClr val="929292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6EA3-9654-4826-867F-7006AE09B3CB}" type="slidenum">
              <a:rPr b="0" lang="zh-CN" sz="12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4" descr="b1"/>
          <p:cNvPicPr/>
          <p:nvPr/>
        </p:nvPicPr>
        <p:blipFill>
          <a:blip r:embed="rId1"/>
          <a:stretch/>
        </p:blipFill>
        <p:spPr>
          <a:xfrm>
            <a:off x="156996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5" descr="b6"/>
          <p:cNvPicPr/>
          <p:nvPr/>
        </p:nvPicPr>
        <p:blipFill>
          <a:blip r:embed="rId2"/>
          <a:stretch/>
        </p:blipFill>
        <p:spPr>
          <a:xfrm>
            <a:off x="753588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b2"/>
          <p:cNvPicPr/>
          <p:nvPr/>
        </p:nvPicPr>
        <p:blipFill>
          <a:blip r:embed="rId3"/>
          <a:stretch/>
        </p:blipFill>
        <p:spPr>
          <a:xfrm>
            <a:off x="5724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7" descr="b3"/>
          <p:cNvPicPr/>
          <p:nvPr/>
        </p:nvPicPr>
        <p:blipFill>
          <a:blip r:embed="rId4"/>
          <a:stretch/>
        </p:blipFill>
        <p:spPr>
          <a:xfrm>
            <a:off x="3035160" y="6213600"/>
            <a:ext cx="1562400" cy="6350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8" descr="b4"/>
          <p:cNvPicPr/>
          <p:nvPr/>
        </p:nvPicPr>
        <p:blipFill>
          <a:blip r:embed="rId5"/>
          <a:stretch/>
        </p:blipFill>
        <p:spPr>
          <a:xfrm>
            <a:off x="454824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9" descr="b5"/>
          <p:cNvPicPr/>
          <p:nvPr/>
        </p:nvPicPr>
        <p:blipFill>
          <a:blip r:embed="rId6"/>
          <a:stretch/>
        </p:blipFill>
        <p:spPr>
          <a:xfrm>
            <a:off x="6039000" y="6213600"/>
            <a:ext cx="1562040" cy="635040"/>
          </a:xfrm>
          <a:prstGeom prst="rect">
            <a:avLst/>
          </a:prstGeom>
          <a:ln w="0">
            <a:noFill/>
          </a:ln>
        </p:spPr>
      </p:pic>
      <p:sp>
        <p:nvSpPr>
          <p:cNvPr id="430" name="WordArt 10"/>
          <p:cNvSpPr txBox="1"/>
          <p:nvPr/>
        </p:nvSpPr>
        <p:spPr>
          <a:xfrm>
            <a:off x="1116000" y="2133720"/>
            <a:ext cx="6912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38 </a:t>
            </a:r>
            <a:r>
              <a:rPr b="0" lang="zh-CN" sz="24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动物的休眠</a:t>
            </a:r>
            <a:endParaRPr b="0" lang="en-US" sz="2400" spc="1" strike="noStrike">
              <a:ln w="1260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31" name="WordArt 8"/>
          <p:cNvSpPr txBox="1"/>
          <p:nvPr/>
        </p:nvSpPr>
        <p:spPr>
          <a:xfrm>
            <a:off x="3414600" y="4437000"/>
            <a:ext cx="245772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第一课时</a:t>
            </a:r>
            <a:endParaRPr b="0" lang="en-US" sz="3200" spc="1" strike="noStrike">
              <a:ln w="1260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4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5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6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7"/>
          <p:cNvSpPr/>
          <p:nvPr/>
        </p:nvSpPr>
        <p:spPr>
          <a:xfrm>
            <a:off x="539640" y="836640"/>
            <a:ext cx="8136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Times New Roman"/>
                <a:ea typeface="黑体"/>
              </a:rPr>
              <a:t>教学目标</a:t>
            </a:r>
            <a:r>
              <a:rPr b="1" lang="en-US" sz="2800" spc="-1" strike="noStrike">
                <a:solidFill>
                  <a:srgbClr val="3f3f3f"/>
                </a:solidFill>
                <a:latin typeface="Times New Roman"/>
                <a:ea typeface="黑体"/>
              </a:rPr>
              <a:t>:</a:t>
            </a:r>
            <a:endParaRPr b="0" lang="en-US" sz="2800" spc="-1" strike="noStrike">
              <a:solidFill>
                <a:srgbClr val="3f3f3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、 认识生字</a:t>
            </a:r>
            <a:r>
              <a:rPr b="1" lang="en-US" sz="2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个，用各种方法理解</a:t>
            </a:r>
            <a:r>
              <a:rPr b="1" lang="zh-CN" sz="2800" spc="-1" strike="noStrike">
                <a:solidFill>
                  <a:srgbClr val="3f3f3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成团成簇、蠕动、三五成群、寒气逼人</a:t>
            </a:r>
            <a:r>
              <a:rPr b="1" lang="zh-CN" sz="2800" spc="-1" strike="noStrike">
                <a:solidFill>
                  <a:srgbClr val="3f3f3f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的意思。</a:t>
            </a:r>
            <a:endParaRPr b="0" lang="en-US" sz="2800" spc="-1" strike="noStrike">
              <a:solidFill>
                <a:srgbClr val="3f3f3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、能正确、流利地朗读课文。</a:t>
            </a:r>
            <a:endParaRPr b="0" lang="en-US" sz="2800" spc="-1" strike="noStrike">
              <a:solidFill>
                <a:srgbClr val="3f3f3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、积累含有数字的成语，能照样子改写句子。</a:t>
            </a:r>
            <a:endParaRPr b="0" lang="en-US" sz="2800" spc="-1" strike="noStrike">
              <a:solidFill>
                <a:srgbClr val="3f3f3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、了解文中介绍的两种动物的休眠方式，激发学生学习科学知识的兴趣。</a:t>
            </a:r>
            <a:endParaRPr b="0" lang="en-US" sz="2800" spc="-1" strike="noStrike">
              <a:solidFill>
                <a:srgbClr val="3f3f3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4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5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6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2" descr="02"/>
          <p:cNvPicPr/>
          <p:nvPr/>
        </p:nvPicPr>
        <p:blipFill>
          <a:blip r:embed="rId4"/>
          <a:stretch/>
        </p:blipFill>
        <p:spPr>
          <a:xfrm>
            <a:off x="1187280" y="620640"/>
            <a:ext cx="6840720" cy="5213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40" name="Text Box 13"/>
          <p:cNvSpPr/>
          <p:nvPr/>
        </p:nvSpPr>
        <p:spPr>
          <a:xfrm>
            <a:off x="3625920" y="456732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f3f3f"/>
                </a:solidFill>
                <a:latin typeface="Times New Roman"/>
                <a:ea typeface="楷体_GB2312"/>
              </a:rPr>
              <a:t>休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眠</a:t>
            </a:r>
            <a:endParaRPr b="0" lang="en-US" sz="4000" spc="-1" strike="noStrike">
              <a:solidFill>
                <a:srgbClr val="3f3f3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13"/>
          <p:cNvSpPr/>
          <p:nvPr/>
        </p:nvSpPr>
        <p:spPr>
          <a:xfrm>
            <a:off x="3348000" y="284940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蝙蝠：哺乳动物，头和躯干像老鼠，四肢和尾部之间有皮质的膜，夜间在空中飞翔，吃蚊、蛾等昆虫。视力很弱，靠本身发出的超声波来引导飞行。</a:t>
            </a:r>
            <a:endParaRPr b="0" lang="en-US" sz="2800" spc="-1" strike="noStrike">
              <a:solidFill>
                <a:srgbClr val="3f3f3f"/>
              </a:solidFill>
              <a:latin typeface="Times New Roman"/>
            </a:endParaRPr>
          </a:p>
        </p:txBody>
      </p:sp>
      <p:pic>
        <p:nvPicPr>
          <p:cNvPr id="445" name="Picture 15" descr="2006563341741"/>
          <p:cNvPicPr/>
          <p:nvPr/>
        </p:nvPicPr>
        <p:blipFill>
          <a:blip r:embed="rId4"/>
          <a:stretch/>
        </p:blipFill>
        <p:spPr>
          <a:xfrm>
            <a:off x="1187280" y="1268280"/>
            <a:ext cx="1808280" cy="2448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46" name="Rectangle 16"/>
          <p:cNvSpPr/>
          <p:nvPr/>
        </p:nvSpPr>
        <p:spPr>
          <a:xfrm>
            <a:off x="1432440" y="4422600"/>
            <a:ext cx="111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蝙 蝠</a:t>
            </a:r>
            <a:endParaRPr b="0" lang="en-US" sz="2800" spc="-1" strike="noStrike">
              <a:solidFill>
                <a:srgbClr val="3f3f3f"/>
              </a:solidFill>
              <a:latin typeface="Times New Roman"/>
            </a:endParaRPr>
          </a:p>
        </p:txBody>
      </p:sp>
      <p:sp>
        <p:nvSpPr>
          <p:cNvPr id="447" name="Text Box 17"/>
          <p:cNvSpPr/>
          <p:nvPr/>
        </p:nvSpPr>
        <p:spPr>
          <a:xfrm>
            <a:off x="1277280" y="3917880"/>
            <a:ext cx="143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Tw Cen MT"/>
              </a:rPr>
              <a:t> </a:t>
            </a:r>
            <a:r>
              <a:rPr b="0" lang="en-US" sz="2800" spc="-1" strike="noStrike">
                <a:solidFill>
                  <a:srgbClr val="3f3f3f"/>
                </a:solidFill>
                <a:latin typeface="Tw Cen MT"/>
              </a:rPr>
              <a:t>biān fu</a:t>
            </a:r>
            <a:endParaRPr b="0" lang="en-US" sz="2800" spc="-1" strike="noStrike">
              <a:solidFill>
                <a:srgbClr val="3f3f3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6"/>
          <p:cNvSpPr/>
          <p:nvPr/>
        </p:nvSpPr>
        <p:spPr>
          <a:xfrm>
            <a:off x="3564000" y="204552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海参：棘皮动物。生活在海底。身体圆筒形，前端有口，口的周围有不少像手指那样的触手。身上有许多突起的肉刺，外形像黄瓜，所以又叫</a:t>
            </a:r>
            <a:r>
              <a:rPr b="1" lang="zh-CN" sz="2800" spc="-1" strike="noStrike">
                <a:solidFill>
                  <a:srgbClr val="3f3f3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海黄瓜</a:t>
            </a:r>
            <a:r>
              <a:rPr b="1" lang="zh-CN" sz="2800" spc="-1" strike="noStrike">
                <a:solidFill>
                  <a:srgbClr val="3f3f3f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，是名贵的海产品。</a:t>
            </a:r>
            <a:endParaRPr b="0" lang="en-US" sz="2800" spc="-1" strike="noStrike">
              <a:solidFill>
                <a:srgbClr val="3f3f3f"/>
              </a:solidFill>
              <a:latin typeface="Times New Roman"/>
            </a:endParaRPr>
          </a:p>
        </p:txBody>
      </p:sp>
      <p:pic>
        <p:nvPicPr>
          <p:cNvPr id="452" name="Picture 7" descr="slide0041_image017"/>
          <p:cNvPicPr/>
          <p:nvPr/>
        </p:nvPicPr>
        <p:blipFill>
          <a:blip r:embed="rId4"/>
          <a:stretch/>
        </p:blipFill>
        <p:spPr>
          <a:xfrm>
            <a:off x="1042920" y="909720"/>
            <a:ext cx="2808360" cy="20811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53" name="Rectangle 8"/>
          <p:cNvSpPr/>
          <p:nvPr/>
        </p:nvSpPr>
        <p:spPr>
          <a:xfrm>
            <a:off x="1979640" y="4576680"/>
            <a:ext cx="496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（  ） （      ）</a:t>
            </a:r>
            <a:endParaRPr b="0" lang="en-US" sz="2800" spc="-1" strike="noStrike">
              <a:solidFill>
                <a:srgbClr val="3f3f3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参 （  ） （      ）</a:t>
            </a:r>
            <a:endParaRPr b="0" lang="en-US" sz="2800" spc="-1" strike="noStrike">
              <a:solidFill>
                <a:srgbClr val="3f3f3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（  ） （      ）</a:t>
            </a:r>
            <a:r>
              <a:rPr b="1" lang="zh-CN" sz="2400" spc="-1" strike="noStrike">
                <a:solidFill>
                  <a:srgbClr val="3f3f3f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3f3f3f"/>
              </a:solidFill>
              <a:latin typeface="Times New Roman"/>
            </a:endParaRPr>
          </a:p>
        </p:txBody>
      </p:sp>
      <p:sp>
        <p:nvSpPr>
          <p:cNvPr id="454" name="Rectangle 9"/>
          <p:cNvSpPr/>
          <p:nvPr/>
        </p:nvSpPr>
        <p:spPr>
          <a:xfrm>
            <a:off x="1787760" y="33559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Times New Roman"/>
                <a:ea typeface="楷体_GB2312"/>
              </a:rPr>
              <a:t>海  参</a:t>
            </a:r>
            <a:endParaRPr b="0" lang="en-US" sz="2800" spc="-1" strike="noStrike">
              <a:solidFill>
                <a:srgbClr val="3f3f3f"/>
              </a:solidFill>
              <a:latin typeface="Times New Roman"/>
            </a:endParaRPr>
          </a:p>
        </p:txBody>
      </p:sp>
      <p:sp>
        <p:nvSpPr>
          <p:cNvPr id="455" name="Text Box 10"/>
          <p:cNvSpPr/>
          <p:nvPr/>
        </p:nvSpPr>
        <p:spPr>
          <a:xfrm>
            <a:off x="2211480" y="299736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Tw Cen MT"/>
              </a:rPr>
              <a:t>shēn</a:t>
            </a:r>
            <a:endParaRPr b="0" lang="en-US" sz="2800" spc="-1" strike="noStrike">
              <a:solidFill>
                <a:srgbClr val="3f3f3f"/>
              </a:solidFill>
              <a:latin typeface="Times New Roman"/>
            </a:endParaRPr>
          </a:p>
        </p:txBody>
      </p:sp>
      <p:sp>
        <p:nvSpPr>
          <p:cNvPr id="456" name="Rectangle 11"/>
          <p:cNvSpPr/>
          <p:nvPr/>
        </p:nvSpPr>
        <p:spPr>
          <a:xfrm>
            <a:off x="826920" y="4005360"/>
            <a:ext cx="441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Times New Roman"/>
                <a:ea typeface="黑体"/>
              </a:rPr>
              <a:t>查字典，多音字组词：</a:t>
            </a:r>
            <a:endParaRPr b="0" lang="en-US" sz="2800" spc="-1" strike="noStrike">
              <a:solidFill>
                <a:srgbClr val="3f3f3f"/>
              </a:solidFill>
              <a:latin typeface="Times New Roman"/>
            </a:endParaRPr>
          </a:p>
        </p:txBody>
      </p:sp>
      <p:sp>
        <p:nvSpPr>
          <p:cNvPr id="457" name="Text Box 12"/>
          <p:cNvSpPr/>
          <p:nvPr/>
        </p:nvSpPr>
        <p:spPr>
          <a:xfrm>
            <a:off x="5867280" y="476280"/>
            <a:ext cx="7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j</a:t>
            </a:r>
            <a:r>
              <a:rPr b="1" lang="en-US" sz="2800" spc="-1" strike="noStrike">
                <a:solidFill>
                  <a:srgbClr val="3f3f3f"/>
                </a:solidFill>
                <a:latin typeface="Tw Cen MT"/>
                <a:ea typeface="楷体_GB2312"/>
              </a:rPr>
              <a:t>í</a:t>
            </a:r>
            <a:endParaRPr b="0" lang="en-US" sz="2800" spc="-1" strike="noStrike">
              <a:solidFill>
                <a:srgbClr val="3f3f3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5"/>
          <p:cNvSpPr/>
          <p:nvPr/>
        </p:nvSpPr>
        <p:spPr>
          <a:xfrm>
            <a:off x="539640" y="1193760"/>
            <a:ext cx="821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3f3f3f"/>
                </a:solidFill>
                <a:latin typeface="Times New Roman"/>
                <a:ea typeface="黑体"/>
              </a:rPr>
              <a:t>再读课文，边读边想，蝙蝠和海参的休眠有什么不同？试着完成填空。</a:t>
            </a:r>
            <a:endParaRPr b="0" lang="en-US" sz="2800" spc="-1" strike="noStrike">
              <a:solidFill>
                <a:srgbClr val="3f3f3f"/>
              </a:solidFill>
              <a:latin typeface="Times New Roman"/>
            </a:endParaRPr>
          </a:p>
        </p:txBody>
      </p:sp>
      <p:sp>
        <p:nvSpPr>
          <p:cNvPr id="462" name="Rectangle 6"/>
          <p:cNvSpPr/>
          <p:nvPr/>
        </p:nvSpPr>
        <p:spPr>
          <a:xfrm>
            <a:off x="826920" y="243036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）蝙蝠：冬天来临，蝙蝠既不是（    ），也不是（    ），而是（     ）。</a:t>
            </a:r>
            <a:endParaRPr b="0" lang="en-US" sz="2800" spc="-1" strike="noStrike">
              <a:solidFill>
                <a:srgbClr val="3f3f3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                    </a:t>
            </a:r>
            <a:endParaRPr b="0" lang="en-US" sz="2800" spc="-1" strike="noStrike">
              <a:solidFill>
                <a:srgbClr val="3f3f3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）海参：海参睡眠的季节不是在（   ），而是在（   ）。因为（   ），所以海参只好（          ）。</a:t>
            </a:r>
            <a:endParaRPr b="0" lang="en-US" sz="2800" spc="-1" strike="noStrike">
              <a:solidFill>
                <a:srgbClr val="3f3f3f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5"/>
          <p:cNvSpPr/>
          <p:nvPr/>
        </p:nvSpPr>
        <p:spPr>
          <a:xfrm>
            <a:off x="971640" y="1248840"/>
            <a:ext cx="698508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读词语：</a:t>
            </a:r>
            <a:endParaRPr b="0" lang="en-US" sz="3600" spc="-1" strike="noStrike">
              <a:solidFill>
                <a:srgbClr val="3f3f3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忽高忽低  千里跋涉 三五成群  屋檐      僻静     春暖花开</a:t>
            </a:r>
            <a:endParaRPr b="0" lang="en-US" sz="3600" spc="-1" strike="noStrike">
              <a:solidFill>
                <a:srgbClr val="3f3f3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蠕动   粮食</a:t>
            </a:r>
            <a:r>
              <a:rPr b="0" lang="zh-CN" sz="36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3f3f3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11"/>
          <p:cNvSpPr/>
          <p:nvPr/>
        </p:nvSpPr>
        <p:spPr>
          <a:xfrm>
            <a:off x="652320" y="907920"/>
            <a:ext cx="12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Times New Roman"/>
                <a:ea typeface="黑体"/>
              </a:rPr>
              <a:t>作业：</a:t>
            </a:r>
            <a:endParaRPr b="0" lang="en-US" sz="2800" spc="-1" strike="noStrike">
              <a:solidFill>
                <a:srgbClr val="3f3f3f"/>
              </a:solidFill>
              <a:latin typeface="Times New Roman"/>
            </a:endParaRPr>
          </a:p>
        </p:txBody>
      </p:sp>
      <p:sp>
        <p:nvSpPr>
          <p:cNvPr id="471" name="Text Box 12"/>
          <p:cNvSpPr/>
          <p:nvPr/>
        </p:nvSpPr>
        <p:spPr>
          <a:xfrm>
            <a:off x="1187280" y="1700280"/>
            <a:ext cx="6481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、抄写词语：</a:t>
            </a:r>
            <a:endParaRPr b="0" lang="en-US" sz="3200" spc="-1" strike="noStrike">
              <a:solidFill>
                <a:srgbClr val="3f3f3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忽高忽低  千里跋涉   三五成群  屋檐      僻静       春暖花开  蠕动      粮食</a:t>
            </a:r>
            <a:r>
              <a:rPr b="0" lang="zh-CN" sz="32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3f3f3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、正确、流利地朗读课文。</a:t>
            </a:r>
            <a:r>
              <a:rPr b="0" lang="zh-CN" sz="32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3f3f3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6T09:14:57Z</dcterms:created>
  <dc:creator/>
  <dc:description/>
  <dc:language>en-US</dc:language>
  <cp:lastModifiedBy>Administrator</cp:lastModifiedBy>
  <dcterms:modified xsi:type="dcterms:W3CDTF">2017-02-16T09:15:13Z</dcterms:modified>
  <cp:revision>8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06</vt:lpwstr>
  </property>
</Properties>
</file>