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chimes.wav" ContentType="audio/x-wav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0A3-8667-423C-AA61-B61562EB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8A8-7B47-4CB6-BD59-F413F03C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A03-090E-4D5E-BB78-9BB75BF1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766-FFC0-47B7-8952-2CED2B4C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39AD-AA87-430E-BF64-30AF8E2E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B201-0EBE-42B7-B212-F6FF0F25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C0FF-AF82-4614-B60C-B15217F1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3B86-4286-41B1-937B-4206DA36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07C-F226-4B1D-B210-2098231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F26D-3A74-4654-B52C-D9315464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C80B-E981-4A2A-A05B-B9D12AD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492-10C0-40E5-8AC5-73C99DB3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39F8-014A-446C-83DC-C953F7B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8383-D321-48DD-9BCB-0A7F726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FFCF-0C72-40C5-B006-9624992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F00-D364-4DAC-B942-978E81A6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0CDB-690F-4C43-934A-4B70A1A7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0EC0-1909-4BDB-B97D-7E1CA1B6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2DC8-1F2A-42A6-832C-8FE009E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49B1-7D5C-490A-A0F9-ED70BB21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FB55-600E-48C7-9583-5AFB35F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DACC-A894-4211-9285-B6D8E07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977-F858-4097-A7F6-4F581875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80616-0D12-48B9-9089-07EDDC23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E189-4A26-4E68-9171-3412140C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3AF7-B9B2-4102-9A92-A439D63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FFBA-D67A-46B6-B439-03F244E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3FEE-D30C-4028-BCC9-47594B50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E70B-17B1-482D-A1D8-0B88F176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4934-7B96-4AD0-871A-4BEE79ED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1F38C-E540-4423-8E61-A18AEB89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F20A-98AF-4FB5-82EC-0E97046E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0F23-D7BC-46EB-8BF2-6D0AD7EC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BB7-9FBE-4BD0-9B3D-FBCFA067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F8CB-1951-4EAF-AB10-734A0C64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5CF0-2BA8-4152-B3FA-2B0F6326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3278-8373-42FF-81B0-01451F8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D605-479C-4160-875D-12E6E83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F748-2274-4290-ABEE-CFC36D1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8B9D-D33A-4586-95D9-9EDA29C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48D0-BBAC-4647-A956-08CC2D7F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5B9C-324B-43F5-A348-629E828F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02E12-0182-4EFC-B4E9-79DD6F3C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B76-734F-4776-BEF7-A9B45BD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803-E91A-43CC-B3FF-0F2D5145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A8D-CE8A-424A-ADF0-68B4EA7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952-8614-4994-9CAF-17B5342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99D-843E-48B8-9EFE-1802B41E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7348-2485-4659-876B-6552620366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F218-155A-4879-80AC-24CFA26B9F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62820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029040" y="6478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45768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448F-2EBC-4C3D-85C6-D3421DC37C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49e9c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252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5CA1-2348-447C-AB47-CA3E9B509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671400" y="28364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44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68980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58672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5f5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据意思写出正确的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836640"/>
            <a:ext cx="669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独，没有依靠。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557360"/>
            <a:ext cx="820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人瘦弱，面色不好看。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2276640"/>
            <a:ext cx="828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秋冬天气寒冷，草木枯落。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2924280"/>
            <a:ext cx="845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（多指不易再见的离别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364500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忽然醒悟。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4292640"/>
            <a:ext cx="882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体心寒冷、受惊等而蜷缩或兼抖动。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494172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费尽心思钻研或经营。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5661000"/>
            <a:ext cx="838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强不屈的样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6338880"/>
            <a:ext cx="831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虐待人而致死。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（ 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16360" y="6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伶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6000" y="1484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憔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16720" y="2133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肃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诀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35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恍然大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51640" y="4149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瑟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43280" y="486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苦心孤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551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傲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4360" y="62164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虐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95640" y="3500280"/>
            <a:ext cx="1447560" cy="609840"/>
          </a:xfrm>
          <a:prstGeom prst="rect">
            <a:avLst/>
          </a:prstGeom>
          <a:solidFill>
            <a:srgbClr val="8e7139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304920" y="1600200"/>
            <a:ext cx="9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6286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记叙的顺序有三种，本文是哪一种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6920" y="3500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序     倒叙      插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9840" y="489744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5486400"/>
            <a:ext cx="8076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876920" y="1600200"/>
            <a:ext cx="3962160" cy="2971800"/>
          </a:xfrm>
          <a:prstGeom prst="cloudCallout">
            <a:avLst>
              <a:gd name="adj1" fmla="val -65546"/>
              <a:gd name="adj2" fmla="val 48129"/>
            </a:avLst>
          </a:prstGeom>
          <a:solidFill>
            <a:srgbClr val="3366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方正舒体"/>
                <a:ea typeface="方正舒体"/>
              </a:rPr>
              <a:t>比一比，看一看，谁的反应快</a:t>
            </a:r>
            <a:r>
              <a:rPr b="1" lang="en-US" sz="3600" spc="-1" strike="noStrike">
                <a:solidFill>
                  <a:srgbClr val="99ff33"/>
                </a:solidFill>
                <a:latin typeface="方正舒体"/>
                <a:ea typeface="方正舒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380880"/>
            <a:ext cx="2743200" cy="1905120"/>
          </a:xfrm>
          <a:prstGeom prst="wedgeRoundRectCallout">
            <a:avLst>
              <a:gd name="adj1" fmla="val -21527"/>
              <a:gd name="adj2" fmla="val 98166"/>
              <a:gd name="adj3" fmla="val 16667"/>
            </a:avLst>
          </a:prstGeom>
          <a:solidFill>
            <a:srgbClr val="3366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90720" y="533520"/>
            <a:ext cx="2209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抢答题</a:t>
            </a:r>
            <a:endParaRPr b="1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687760" y="3085920"/>
            <a:ext cx="43005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幼圆"/>
                <a:ea typeface="华文新魏"/>
              </a:rPr>
              <a:t>不是</a:t>
            </a:r>
            <a:endParaRPr b="1" lang="en-US" sz="88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761760" y="1447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300" spc="-1" strike="noStrike">
                <a:solidFill>
                  <a:srgbClr val="8e7139"/>
                </a:solidFill>
                <a:latin typeface="楷体_GB2312"/>
                <a:ea typeface="楷体_GB2312"/>
              </a:rPr>
              <a:t>1</a:t>
            </a:r>
            <a:r>
              <a:rPr b="1" lang="zh-CN" sz="5300" spc="-1" strike="noStrike">
                <a:solidFill>
                  <a:srgbClr val="8e7139"/>
                </a:solidFill>
                <a:latin typeface="楷体_GB2312"/>
                <a:ea typeface="楷体_GB2312"/>
              </a:rPr>
              <a:t>、课文是介绍“风筝”这种工艺品的吗？</a:t>
            </a:r>
            <a:br>
              <a:rPr sz="5300"/>
            </a:br>
            <a:endParaRPr b="1" lang="en-US" sz="53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transition spd="med">
    <p:split dir="out" orient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687760" y="3085920"/>
            <a:ext cx="43005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幼圆"/>
                <a:ea typeface="华文新魏"/>
              </a:rPr>
              <a:t>线索</a:t>
            </a:r>
            <a:endParaRPr b="1" lang="en-US" sz="88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761760" y="1447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300" spc="-1" strike="noStrike">
                <a:solidFill>
                  <a:srgbClr val="8e7139"/>
                </a:solidFill>
                <a:latin typeface="楷体_GB2312"/>
                <a:ea typeface="楷体_GB2312"/>
              </a:rPr>
              <a:t>2</a:t>
            </a:r>
            <a:r>
              <a:rPr b="1" lang="zh-CN" sz="5300" spc="-1" strike="noStrike">
                <a:solidFill>
                  <a:srgbClr val="8e7139"/>
                </a:solidFill>
                <a:latin typeface="楷体_GB2312"/>
                <a:ea typeface="楷体_GB2312"/>
              </a:rPr>
              <a:t>、“风筝”在课文中起什么作用？</a:t>
            </a:r>
            <a:br>
              <a:rPr sz="5300"/>
            </a:br>
            <a:endParaRPr b="1" lang="en-US" sz="53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300" spc="-1" strike="noStrike">
                <a:solidFill>
                  <a:srgbClr val="8e7139"/>
                </a:solidFill>
                <a:latin typeface="楷体_GB2312"/>
                <a:ea typeface="楷体_GB2312"/>
              </a:rPr>
              <a:t>3</a:t>
            </a:r>
            <a:r>
              <a:rPr b="1" lang="zh-CN" sz="5300" spc="-1" strike="noStrike">
                <a:solidFill>
                  <a:srgbClr val="8e7139"/>
                </a:solidFill>
                <a:latin typeface="楷体_GB2312"/>
                <a:ea typeface="楷体_GB2312"/>
              </a:rPr>
              <a:t>、课文写作的时间是哪一年？你知道那时的中国还处在什么社会吗？</a:t>
            </a:r>
            <a:br>
              <a:rPr sz="5300"/>
            </a:br>
            <a:endParaRPr b="1" lang="en-US" sz="53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52440" y="2945880"/>
            <a:ext cx="42195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幼圆"/>
                <a:ea typeface="华文新魏"/>
              </a:rPr>
              <a:t>1925</a:t>
            </a:r>
            <a:r>
              <a:rPr b="1" lang="zh-CN" sz="4800" spc="-1" strike="noStrike">
                <a:solidFill>
                  <a:srgbClr val="ff0066"/>
                </a:solidFill>
                <a:latin typeface="幼圆"/>
                <a:ea typeface="华文新魏"/>
              </a:rPr>
              <a:t>年</a:t>
            </a:r>
            <a:endParaRPr b="1" lang="en-US" sz="4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29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8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半封建半殖民地社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4</a:t>
            </a: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、课文中有哪些人物？</a:t>
            </a:r>
            <a:br>
              <a:rPr sz="3200"/>
            </a:b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    是什么关系？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</a:rPr>
              <a:t>我”、“我”的小兄弟   兄弟关系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</a:rPr>
              <a:t>作者回忆往事，“我”</a:t>
            </a:r>
            <a:r>
              <a:rPr b="1" lang="en-US" sz="3600" spc="-1" strike="noStrike">
                <a:solidFill>
                  <a:srgbClr val="0000ff"/>
                </a:solidFill>
                <a:latin typeface="幼圆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</a:rPr>
              <a:t>周树人  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</a:rPr>
              <a:t>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</a:rPr>
              <a:t>小兄弟</a:t>
            </a:r>
            <a:r>
              <a:rPr b="1" lang="en-US" sz="3600" spc="-1" strike="noStrike">
                <a:solidFill>
                  <a:srgbClr val="0000ff"/>
                </a:solidFill>
                <a:latin typeface="幼圆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</a:rPr>
              <a:t>周作人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2280" y="22860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一、听读感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全文的感情基调是什么？用文中的一个词概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写了一件什么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971800"/>
            <a:ext cx="86868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5e5c"/>
                </a:solidFill>
                <a:latin typeface="Times New Roman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悲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说的是小时候小兄弟最喜欢放风筝，“我”不准小兄弟弄这种没出息的玩艺，行为十分粗暴。待到明白游戏之于儿童的意义，鲁迅醒悟过来，自己当年的行径，简直是“对于精神的虐杀”。虽然事隔久远，鲁迅还是一心想补过，然而小兄弟却全然忘却，“我”的沉重的心只得一直沉重下去。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</a:rPr>
              <a:t>课文围绕风筝主要些了哪几件事？</a:t>
            </a:r>
            <a:br>
              <a:rPr sz="4000"/>
            </a:br>
            <a:endParaRPr b="1" lang="en-US" sz="40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5834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幼圆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幼圆"/>
              </a:rPr>
              <a:t>）我的一件往事：少年时虐杀弟弟的风筝梦。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幼圆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幼圆"/>
              </a:rPr>
              <a:t>）我的一段思想感情经历：中年时读了儿童教育的书籍后感到无限懊悔，想补过而不得的经过。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715000" y="10666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向来不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        </a:t>
            </a:r>
            <a:r>
              <a:rPr b="0" lang="zh-CN" sz="4000" spc="-1" strike="noStrike">
                <a:solidFill>
                  <a:srgbClr val="800000"/>
                </a:solidFill>
                <a:latin typeface="新宋体"/>
                <a:ea typeface="新宋体"/>
              </a:rPr>
              <a:t>嫌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25146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没出息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1143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最喜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25909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呆看出神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3733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惊呼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42670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高兴的跳跃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228600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25920 h 2362320"/>
              <a:gd name="textAreaBottom" fmla="*/ 233640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0"/>
                  <a:pt x="10800" y="759"/>
                </a:cubicBezTo>
                <a:lnTo>
                  <a:pt x="10800" y="7763"/>
                </a:lnTo>
                <a:cubicBezTo>
                  <a:pt x="10800" y="8143"/>
                  <a:pt x="16200" y="8522"/>
                  <a:pt x="21600" y="8522"/>
                </a:cubicBezTo>
                <a:cubicBezTo>
                  <a:pt x="16200" y="8522"/>
                  <a:pt x="10800" y="8902"/>
                  <a:pt x="10800" y="9281"/>
                </a:cubicBezTo>
                <a:lnTo>
                  <a:pt x="10800" y="20841"/>
                </a:lnTo>
                <a:cubicBezTo>
                  <a:pt x="10800" y="2122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2209680"/>
            <a:ext cx="53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天真活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1240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笑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可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二、读第三段；用不同符号划出我和弟弟对风筝的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3200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小半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张着小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42800" y="1523880"/>
            <a:ext cx="139932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对     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143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新宋体"/>
                <a:ea typeface="新宋体"/>
              </a:rPr>
              <a:t>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1066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 rot="5400000">
            <a:off x="2111040" y="2072880"/>
            <a:ext cx="6324480" cy="32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风筝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73915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三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读第四段；用不同符号划出发现弟弟            偷做风筝后我和弟弟的神态和动作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我为什么那样做，弟为何不反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4547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1363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4120" y="1295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新宋体"/>
                <a:ea typeface="隶书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很惊惶地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2666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失了色瑟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32004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绝望地站在小屋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2133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愤怒   即刻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抓断、掷、塌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3421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傲然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22860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77680" y="2057400"/>
            <a:ext cx="18338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惊恐不安的内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悲苦无奈的神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38880" y="23623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99240" y="2276640"/>
            <a:ext cx="5461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专制、盛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1148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e7139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4724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认为管的对，受封建家长制传统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4267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8e7139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724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认为管是正当，自认该罚。麻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6248520"/>
            <a:ext cx="4953240" cy="457200"/>
          </a:xfrm>
          <a:prstGeom prst="leftArrow">
            <a:avLst>
              <a:gd name="adj1" fmla="val 50000"/>
              <a:gd name="adj2" fmla="val 270846"/>
            </a:avLst>
          </a:prstGeom>
          <a:solidFill>
            <a:srgbClr val="8e7139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562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新宋体"/>
                <a:ea typeface="新宋体"/>
              </a:rPr>
              <a:t>同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115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四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五至十一段</a:t>
            </a: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；用不同符号划出我是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何省悟和补过的的及弟弟知道有这么一件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的神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1295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新宋体"/>
                <a:ea typeface="隶书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幸偶尔看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心变铅块堕下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补过、讨宽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惊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055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什么也不记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33526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e7139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886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深深自责、严于自我解剖，抛弃旧我、追求新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30481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8e7139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3886200"/>
            <a:ext cx="2743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4547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毫不抗争，麻木</a:t>
            </a:r>
            <a:r>
              <a:rPr b="1" lang="en-US" sz="2400" spc="-1" strike="noStrike">
                <a:solidFill>
                  <a:srgbClr val="434547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幼稚纯真，健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4952880"/>
            <a:ext cx="8076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</a:rPr>
              <a:t>揭露了“游戏是儿童最正当的行为，玩具是儿童的天使”这一科学道理。批判了封建教育制度对儿童自由、活泼的天性的扼杀。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492360" y="1268280"/>
            <a:ext cx="1152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9198800">
            <a:off x="1980000" y="1267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嫌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32000" y="47628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0818200">
            <a:off x="5076720" y="134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弟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悲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24360" y="3500280"/>
            <a:ext cx="341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弟弟自甘受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不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然忘却。麻木，不觉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谴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56000" y="2060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甘受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辱不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3280" y="26370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神虐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3284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忏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284640"/>
            <a:ext cx="51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勇于反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勇于自我谴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勇于承担责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我谴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19280" y="213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195640" y="1196640"/>
            <a:ext cx="1441440" cy="1079640"/>
          </a:xfrm>
          <a:prstGeom prst="line">
            <a:avLst/>
          </a:prstGeom>
          <a:ln w="9360">
            <a:solidFill>
              <a:srgbClr val="4345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572000" y="1196640"/>
            <a:ext cx="1224000" cy="1079640"/>
          </a:xfrm>
          <a:prstGeom prst="line">
            <a:avLst/>
          </a:prstGeom>
          <a:ln w="9360">
            <a:solidFill>
              <a:srgbClr val="4345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971280" y="2637000"/>
            <a:ext cx="865080" cy="576000"/>
          </a:xfrm>
          <a:prstGeom prst="line">
            <a:avLst/>
          </a:prstGeom>
          <a:ln w="9360">
            <a:solidFill>
              <a:srgbClr val="4345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92360" y="1268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268360" y="2492280"/>
            <a:ext cx="3383280" cy="0"/>
          </a:xfrm>
          <a:prstGeom prst="line">
            <a:avLst/>
          </a:prstGeom>
          <a:ln w="9360">
            <a:solidFill>
              <a:srgbClr val="4345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40000" y="2637000"/>
            <a:ext cx="3311640" cy="0"/>
          </a:xfrm>
          <a:prstGeom prst="line">
            <a:avLst/>
          </a:prstGeom>
          <a:ln w="9360">
            <a:solidFill>
              <a:srgbClr val="4345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27640" y="2637000"/>
            <a:ext cx="792360" cy="504720"/>
          </a:xfrm>
          <a:prstGeom prst="line">
            <a:avLst/>
          </a:prstGeom>
          <a:ln w="9360">
            <a:solidFill>
              <a:srgbClr val="4345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55640" y="54936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小结一</a:t>
            </a:r>
            <a:r>
              <a:rPr b="0" lang="en-US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: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370" name=""/>
          <p:cNvSpPr/>
          <p:nvPr/>
        </p:nvSpPr>
        <p:spPr>
          <a:xfrm>
            <a:off x="-612720" y="242100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34547"/>
                </a:solidFill>
                <a:latin typeface="Arial"/>
              </a:rPr>
              <a:t>本文的一个重要情绪</a:t>
            </a:r>
            <a:r>
              <a:rPr b="0" lang="en-US" sz="3600" spc="-1" strike="noStrike">
                <a:solidFill>
                  <a:srgbClr val="434547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49360"/>
            <a:ext cx="8893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-468360" y="45813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朗读时</a:t>
            </a:r>
            <a:r>
              <a:rPr b="0" lang="en-US" sz="3200" spc="-1" strike="noStrike">
                <a:solidFill>
                  <a:srgbClr val="43454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语调应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00720" y="2492280"/>
            <a:ext cx="380016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忏 悔</a:t>
            </a:r>
            <a:endParaRPr b="0" lang="en-US" sz="4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74" name=""/>
          <p:cNvSpPr/>
          <p:nvPr/>
        </p:nvSpPr>
        <p:spPr>
          <a:xfrm>
            <a:off x="2843280" y="4508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沉重</a:t>
            </a: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的包含强烈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我谴责</a:t>
            </a: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5640" y="3357720"/>
            <a:ext cx="295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8360" y="3500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34547"/>
                </a:solidFill>
                <a:latin typeface="华文楷体"/>
                <a:ea typeface="华文楷体"/>
              </a:rPr>
              <a:t>朗读</a:t>
            </a:r>
            <a:r>
              <a:rPr b="0" lang="en-US" sz="3600" spc="-1" strike="noStrike">
                <a:solidFill>
                  <a:srgbClr val="434547"/>
                </a:solidFill>
                <a:latin typeface="华文楷体"/>
                <a:ea typeface="华文楷体"/>
              </a:rPr>
              <a:t>4—6</a:t>
            </a:r>
            <a:r>
              <a:rPr b="0" lang="zh-CN" sz="3600" spc="-1" strike="noStrike">
                <a:solidFill>
                  <a:srgbClr val="434547"/>
                </a:solidFill>
                <a:latin typeface="华文楷体"/>
                <a:ea typeface="华文楷体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476280"/>
            <a:ext cx="2019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</a:rPr>
              <a:t>小结二</a:t>
            </a:r>
            <a:r>
              <a:rPr b="0" lang="en-US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</a:rPr>
              <a:t>: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华文行楷"/>
              <a:ea typeface="华文行楷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484280"/>
            <a:ext cx="56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252360" y="141300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34547"/>
                </a:solidFill>
                <a:latin typeface="Arial"/>
              </a:rPr>
              <a:t>本文的另一个重要情绪</a:t>
            </a:r>
            <a:r>
              <a:rPr b="0" lang="en-US" sz="3600" spc="-1" strike="noStrike">
                <a:solidFill>
                  <a:srgbClr val="434547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56000" y="2421000"/>
            <a:ext cx="51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348000" y="2421000"/>
            <a:ext cx="38005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悲 哀 </a:t>
            </a:r>
            <a:endParaRPr b="0" lang="en-US" sz="4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3789360"/>
            <a:ext cx="23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468360" y="4869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朗读时</a:t>
            </a:r>
            <a:r>
              <a:rPr b="0" lang="en-US" sz="3200" spc="-1" strike="noStrike">
                <a:solidFill>
                  <a:srgbClr val="43454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语调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4797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沉重</a:t>
            </a: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43454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包含着强烈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社会谴责</a:t>
            </a:r>
            <a:r>
              <a:rPr b="0" lang="zh-CN" sz="3200" spc="-1" strike="noStrike">
                <a:solidFill>
                  <a:srgbClr val="434547"/>
                </a:solidFill>
                <a:latin typeface="Arial"/>
              </a:rPr>
              <a:t>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0760" y="3645000"/>
            <a:ext cx="21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34547"/>
                </a:solidFill>
                <a:latin typeface="Arial"/>
                <a:ea typeface="隶书"/>
              </a:rPr>
              <a:t>朗读</a:t>
            </a:r>
            <a:r>
              <a:rPr b="0" lang="en-US" sz="3200" spc="-1" strike="noStrike">
                <a:solidFill>
                  <a:srgbClr val="434547"/>
                </a:solidFill>
                <a:latin typeface="Arial"/>
                <a:ea typeface="隶书"/>
              </a:rPr>
              <a:t>9—12</a:t>
            </a:r>
            <a:r>
              <a:rPr b="0" lang="zh-CN" sz="3200" spc="-1" strike="noStrike">
                <a:solidFill>
                  <a:srgbClr val="434547"/>
                </a:solidFill>
                <a:latin typeface="Arial"/>
                <a:ea typeface="隶书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" name="laser.wav"/>
      </p:stSnd>
    </p:sndAc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-304920" y="1600200"/>
            <a:ext cx="9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结：全文共分为（      ）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：比较北京和故乡放风筝的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令、引出回忆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79840" y="489744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4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：“我”回忆小时候在故乡故意弄坏小兄弟风筝的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5486400"/>
            <a:ext cx="8076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—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：到了中年，意识到错误，当道歉时，小弟已忘却，“我”心情更沉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4653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看着眼前北京的风筝，“我”的心情十分悲哀沉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85080" y="26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8600" y="2286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5e5c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645e5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45e5c"/>
                </a:solidFill>
                <a:latin typeface="Times New Roman"/>
              </a:rPr>
              <a:t>既然基调是悲哀的，为何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故乡的风筝时节”</a:t>
            </a:r>
            <a:r>
              <a:rPr b="1" lang="zh-CN" sz="2400" spc="-1" strike="noStrike">
                <a:solidFill>
                  <a:srgbClr val="645e5c"/>
                </a:solidFill>
                <a:latin typeface="Times New Roman"/>
              </a:rPr>
              <a:t>却写得很温和、鲜明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371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4547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交代了惊异的原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9810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4547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使往事的温和与现实的寒威互相映衬。透露出作者不满黑暗现实，向往光明天地的心情。</a:t>
            </a:r>
            <a:r>
              <a:rPr b="1" lang="en-US" sz="2400" spc="-1" strike="noStrike">
                <a:solidFill>
                  <a:srgbClr val="434547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主题</a:t>
            </a:r>
            <a:r>
              <a:rPr b="1" lang="en-US" sz="2400" spc="-1" strike="noStrike">
                <a:solidFill>
                  <a:srgbClr val="434547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334476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8195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、第一段属于什么描写？作用？ 此段有何作用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30481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自然环境描写，渲染严冬肃杀的气氛，烘托“我”悲哀的心情。</a:t>
            </a:r>
            <a:r>
              <a:rPr b="0" lang="zh-CN" sz="4800" spc="-1" strike="noStrike">
                <a:solidFill>
                  <a:srgbClr val="434547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4191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作者看到“远处有一二风筝浮动”，就感到“惊异和悲哀”为什么</a:t>
            </a: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?</a:t>
            </a:r>
            <a:r>
              <a:rPr b="0" lang="en-US" sz="4800" spc="-1" strike="noStrike">
                <a:solidFill>
                  <a:srgbClr val="434547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4000" y="5425920"/>
            <a:ext cx="88200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故乡的风筝时节，是春二月，春光明媚，北京冬季未过，就放风筝，所以“惊异”。见到风筝，就想起小时候精神的虐杀的一幕，而且无从补过，心头不禁悲哀。</a:t>
            </a:r>
            <a:r>
              <a:rPr b="0" lang="zh-CN" sz="4000" spc="-1" strike="noStrike">
                <a:solidFill>
                  <a:srgbClr val="434547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3809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开篇点题，引出回忆，定下感情基调</a:t>
            </a:r>
            <a:r>
              <a:rPr b="0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8600" y="15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六、合作探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762120"/>
            <a:ext cx="7086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1.“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四面都还是严冬的肃杀，久经诀别的故乡的久经逝去的春天，却就在这天空中荡漾了”，怎么说春天“久经逝去”</a:t>
            </a:r>
            <a:r>
              <a:rPr b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?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为什么又说这春天就在北京的天空中荡漾了</a:t>
            </a:r>
            <a:r>
              <a:rPr b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666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（</a:t>
            </a:r>
            <a:r>
              <a:rPr b="1" lang="en-US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1</a:t>
            </a: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）</a:t>
            </a:r>
            <a:r>
              <a:rPr b="1" lang="en-US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.</a:t>
            </a: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这里所说的“春天”，有特定的含义，是小时候的故乡的春天，是天空中有风筝的春天</a:t>
            </a:r>
            <a:r>
              <a:rPr b="1" lang="en-US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.</a:t>
            </a: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现在，在北京，看见远处有一二风筝浮动，由风筝而联想到故乡风筝时节的春天气息，所以觉得这春天“就在这天空中荡漾了”。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  （</a:t>
            </a: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春季无春</a:t>
            </a: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小兄弟迎春被我扼杀，无可追悔</a:t>
            </a: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现在的春天呢。（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主题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465300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看到一本外国的讲论儿童的书，为什么说是“不幸”</a:t>
            </a: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9280" y="5300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跟“惩罚”一词联系起来就明白了，因为自己一向以为管小兄弟管得对，现在见到书上的道理，心情一下子沉重起来，受到惩罚了，对旧“我”来说，良心遭受了谴责，可谓“不幸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206064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645e5c"/>
                </a:solidFill>
                <a:latin typeface="Times New Roman"/>
              </a:rPr>
              <a:t>为什么说不许弟弟放风筝是“对于精神的虐杀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2565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游戏是儿童最正当的行为，玩具是儿童的天使”，游戏实在出于儿童天性，游戏使儿童活泼、健康、聪明。因此不准游戏，无异于虐杀儿童天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文中所说的“对于精神的虐杀的这一幕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具体指什么</a:t>
            </a: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?</a:t>
            </a:r>
            <a:r>
              <a:rPr b="1" lang="en-US" sz="2800" spc="-1" strike="noStrike">
                <a:solidFill>
                  <a:srgbClr val="645e5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98100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这一幕，是指“我”不许小兄弟放风筝，发现他偷做风筝，气得我把他快要完工的风筝抓断踏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3716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5.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为什么</a:t>
            </a: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20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年来毫不忆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414972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因为自己一向以为管小兄弟管得对，</a:t>
            </a: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小兄弟偷做风筝，自己也并不认为正当，以为兄长该管。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4869000"/>
            <a:ext cx="8153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6.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为什么说心不竟堕下去而至于断绝？</a:t>
            </a:r>
            <a:r>
              <a:rPr b="1" lang="zh-CN" sz="2400" spc="-1" strike="noStrike">
                <a:solidFill>
                  <a:srgbClr val="645e5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551664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新宋体"/>
                <a:ea typeface="新宋体"/>
              </a:rPr>
              <a:t>因为“我”知道还有补过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37160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8.“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我”懂得游戏的意义后心情沉重，总想补过，说明什么</a:t>
            </a: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?</a:t>
            </a:r>
            <a:r>
              <a:rPr b="1" lang="en-US" sz="2800" spc="-1" strike="noStrike">
                <a:solidFill>
                  <a:srgbClr val="645e5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90512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鲁迅一旦接触科学思想，就认识错误，设法补过，并不因为自己当初的动机是好的就原谅自己，也不因为当初的想法是受了传统的影响而宽恕自己，也不因为时间相隔久远就不了了之，他的心情是那么沉重，可见他是多么严厉的解剖自己，他的为人是多么严肃认真</a:t>
            </a:r>
            <a:r>
              <a:rPr b="1" lang="zh-CN" sz="2400" spc="-1" strike="noStrike">
                <a:solidFill>
                  <a:srgbClr val="434547"/>
                </a:solidFill>
                <a:latin typeface="Tahoma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404640"/>
            <a:ext cx="74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原来他偷做风筝，自己也并不认为正当，以为兄长该管，因此并不耿耿于怀。</a:t>
            </a:r>
            <a:r>
              <a:rPr b="0" lang="zh-CN" sz="3600" spc="-1" strike="noStrike">
                <a:solidFill>
                  <a:srgbClr val="434547"/>
                </a:solidFill>
                <a:latin typeface="Tahoma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429000"/>
            <a:ext cx="899172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9.</a:t>
            </a:r>
            <a:r>
              <a:rPr b="1" lang="zh-CN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为什么“我”的心只得沉重着</a:t>
            </a:r>
            <a:r>
              <a:rPr b="1" lang="en-US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?</a:t>
            </a:r>
            <a:r>
              <a:rPr b="1" lang="zh-CN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为什么小兄弟全然忘却，毫无怨恨</a:t>
            </a:r>
            <a:r>
              <a:rPr b="1" lang="en-US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?</a:t>
            </a:r>
            <a:r>
              <a:rPr b="1" lang="zh-CN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小兄弟不怨恨好不好</a:t>
            </a:r>
            <a:r>
              <a:rPr b="1" lang="en-US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?</a:t>
            </a:r>
            <a:r>
              <a:rPr b="1" lang="zh-CN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文章是不是局限在风筝事件上，有没有更加深广的含义</a:t>
            </a:r>
            <a:r>
              <a:rPr b="1" lang="en-US" sz="2400" spc="-1" strike="noStrike">
                <a:solidFill>
                  <a:srgbClr val="3333ff"/>
                </a:solidFill>
                <a:latin typeface="新宋体"/>
                <a:ea typeface="新宋体"/>
              </a:rPr>
              <a:t>?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457524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表达了更深沉的悲哀。小时候，自己对弟弟那样管束，简直是精神的虐杀，而弟弟却并不认为兄长的行为是精神的虐杀，时过境迁，忘得一干二净。我也无从补过，无从求得心情的轻松，因而更加悲哀。被虐杀者甘受虐杀，毫无抗争，使虐杀者横行无忌，这正是旧秩序能够维持的原因，所以令人悲哀、沉重。（中国人的思想行为要用科学思想指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00000" y="0"/>
            <a:ext cx="547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7.</a:t>
            </a:r>
            <a:r>
              <a:rPr b="0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小兄弟为什么全然忘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33520"/>
            <a:ext cx="9144000" cy="577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作者</a:t>
            </a: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鲁迅  原名周树人，字豫才，浙江绍兴人。现代伟大的文学家、思想家、革命</a:t>
            </a: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小说集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呐喊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   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彷徨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散文集：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朝花夕拾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散文诗集：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野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杂文集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二心集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而已集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等</a:t>
            </a:r>
            <a:r>
              <a:rPr b="1" lang="en-US" sz="3600" spc="-1" strike="noStrike">
                <a:solidFill>
                  <a:srgbClr val="434547"/>
                </a:solidFill>
                <a:latin typeface="Times New Roman"/>
              </a:rPr>
              <a:t>16</a:t>
            </a: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中国现代文学史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一篇白话小说</a:t>
            </a: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34547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狂人日记</a:t>
            </a:r>
            <a:r>
              <a:rPr b="1" lang="en-US" sz="3600" spc="-1" strike="noStrike">
                <a:solidFill>
                  <a:srgbClr val="434547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210040" cy="2666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627280" y="0"/>
            <a:ext cx="33526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文学常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10.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末段的语句怎样理解</a:t>
            </a: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?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为什么说“悲哀”是无可把握的悲哀</a:t>
            </a: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?</a:t>
            </a:r>
            <a:r>
              <a:rPr b="1" lang="zh-CN" sz="2800" spc="-1" strike="noStrike">
                <a:solidFill>
                  <a:srgbClr val="645e5c"/>
                </a:solidFill>
                <a:latin typeface="隶书"/>
                <a:ea typeface="隶书"/>
              </a:rPr>
              <a:t>为什么说“我倒不如躲到肃杀的严冬中去吧，但是，四面又明明是严冬，正给我非常的寒威和冷气”</a:t>
            </a:r>
            <a:r>
              <a:rPr b="1" lang="en-US" sz="2800" spc="-1" strike="noStrike">
                <a:solidFill>
                  <a:srgbClr val="645e5c"/>
                </a:solidFill>
                <a:latin typeface="隶书"/>
                <a:ea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44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434547"/>
                </a:solidFill>
                <a:latin typeface="宋体"/>
              </a:rPr>
              <a:t>我”要讨弟弟的宽恕，抚平他精神的创伤，而弟弟却全然忘却，毫无怨恨，精神被虐杀而不自知，“我”沉重的心情因无法补过而只能一直沉重下去，这是怎样的悲哀啊。而这种悲哀是意想不到的，所以说“无可把握的悲哀”，想摆脱也不可能了。</a:t>
            </a:r>
            <a:r>
              <a:rPr b="1" lang="zh-CN" sz="2400" spc="-1" strike="noStrike">
                <a:solidFill>
                  <a:srgbClr val="434547"/>
                </a:solidFill>
                <a:latin typeface="Tahoma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3200400"/>
            <a:ext cx="87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5e5c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645e5c"/>
                </a:solidFill>
                <a:latin typeface="宋体"/>
              </a:rPr>
              <a:t>躲到肃杀的严冬中去”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，就是不要望见春天，不要望见风筝，这才能忘却，才能摆脱悲哀。</a:t>
            </a:r>
            <a:r>
              <a:rPr b="1" lang="zh-CN" sz="2400" spc="-1" strike="noStrike">
                <a:solidFill>
                  <a:srgbClr val="645e5c"/>
                </a:solidFill>
                <a:latin typeface="宋体"/>
              </a:rPr>
              <a:t>我只感觉到“非常的寒威和冷气”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，不仅指当时的天气，而且指心头的悲凉。当年虐杀者与被虐杀者都被愚昧观念所支配，彼此都不以为有什么错，现在虐杀者有了觉悟而后悔痛苦，而被虐杀者已经全然忘却。觉悟者永远无法补过，这是尤其悲哀的，使人不寒而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8e7139"/>
                </a:solidFill>
                <a:latin typeface="华文中宋"/>
                <a:ea typeface="隶书"/>
              </a:rPr>
              <a:t>4</a:t>
            </a:r>
            <a:r>
              <a:rPr b="1" lang="zh-CN" sz="4800" spc="-1" strike="noStrike">
                <a:solidFill>
                  <a:srgbClr val="8e7139"/>
                </a:solidFill>
                <a:latin typeface="华文中宋"/>
                <a:ea typeface="隶书"/>
              </a:rPr>
              <a:t>、读后你有哪些感受？</a:t>
            </a:r>
            <a:endParaRPr b="1" lang="en-US" sz="48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兄弟情深，误会 冲突中有亲情。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鲁迅严于解剖自己、知错必改的精神 值得学习。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游戏是儿童最正当的行为，不应扼杀，当时思想愚昧。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作者对弟弟深受“虐杀”却无怨恨的深沉感慨。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371600"/>
            <a:ext cx="885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14345"/>
                </a:solidFill>
                <a:latin typeface="Arial Black"/>
              </a:rPr>
              <a:t>鲁迅在这篇文章中想要告诉我们些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14345"/>
                </a:solidFill>
                <a:latin typeface="Arial Black"/>
              </a:rPr>
              <a:t>请多角度思考文章的主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518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27efe5"/>
                </a:solidFill>
                <a:latin typeface="华文中宋"/>
              </a:rPr>
              <a:t>多角度理解文章</a:t>
            </a:r>
            <a:endParaRPr b="1" lang="en-US" sz="54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847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1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1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、兄弟情深（误会冲突中有亲情）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11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2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、自省精神（严于解剖自己的可贵）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11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3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、儿童教育（游戏是儿童正当行为）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11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4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、批判性   （被虐杀无怨恨  要悍卫自己 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11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                   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正当权利）                  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11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5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、思想性   （人的思想行为需要科学思想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11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                    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指导）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11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p:transition>
    <p:cover dir="r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2708280"/>
            <a:ext cx="83804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34547"/>
                </a:solidFill>
                <a:latin typeface="Times New Roman"/>
              </a:rPr>
              <a:t>、</a:t>
            </a:r>
            <a:br>
              <a:rPr sz="3600"/>
            </a:b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进入文本  与人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434547"/>
                </a:solidFill>
                <a:latin typeface="Times New Roman"/>
              </a:rPr>
              <a:t>学过课文，了解了兄弟二人的行为和内心情感后，你想对哥哥或弟弟说些什么呢？说劝慰、鼓励、理解、敬佩的话都可以</a:t>
            </a:r>
            <a:r>
              <a:rPr b="0" lang="zh-CN" sz="3600" spc="-1" strike="noStrike">
                <a:solidFill>
                  <a:srgbClr val="434547"/>
                </a:solidFill>
                <a:latin typeface="Times New Roman"/>
              </a:rPr>
              <a:t>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50280" y="914400"/>
            <a:ext cx="189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4345"/>
                </a:solidFill>
                <a:latin typeface="Arial Black"/>
                <a:ea typeface="楷体_GB2312"/>
              </a:rPr>
              <a:t>***</a:t>
            </a:r>
            <a:r>
              <a:rPr b="1" lang="zh-CN" sz="4400" spc="-1" strike="noStrike">
                <a:solidFill>
                  <a:srgbClr val="414345"/>
                </a:solidFill>
                <a:latin typeface="Arial Black"/>
                <a:ea typeface="楷体_GB2312"/>
              </a:rPr>
              <a:t>体验拓展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27efe5"/>
                </a:solidFill>
                <a:latin typeface="华文中宋"/>
                <a:ea typeface="楷体_GB2312"/>
              </a:rPr>
              <a:t>体验拓展</a:t>
            </a:r>
            <a:endParaRPr b="1" lang="en-US" sz="40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7559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746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414345"/>
                </a:solidFill>
                <a:latin typeface="幼圆"/>
              </a:rPr>
              <a:t>             </a:t>
            </a:r>
            <a:r>
              <a:rPr b="1" lang="zh-CN" sz="3200" spc="-1" strike="noStrike">
                <a:solidFill>
                  <a:srgbClr val="414345"/>
                </a:solidFill>
                <a:latin typeface="幼圆"/>
              </a:rPr>
              <a:t>你与家人有过误解与冲突吗？你如何看误解与冲突中也有亲情？                     </a:t>
            </a:r>
            <a:endParaRPr b="1" lang="en-US" sz="3200" spc="-1" strike="noStrike">
              <a:solidFill>
                <a:srgbClr val="8e7139"/>
              </a:solidFill>
              <a:latin typeface="幼圆"/>
            </a:endParaRPr>
          </a:p>
          <a:p>
            <a:pPr marL="2746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14345"/>
                </a:solidFill>
                <a:latin typeface="幼圆"/>
              </a:rPr>
              <a:t>                      </a:t>
            </a:r>
            <a:endParaRPr b="1" lang="en-US" sz="3200" spc="-1" strike="noStrike">
              <a:solidFill>
                <a:srgbClr val="8e7139"/>
              </a:solidFill>
              <a:latin typeface="幼圆"/>
            </a:endParaRPr>
          </a:p>
          <a:p>
            <a:pPr marL="2746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幼圆"/>
            </a:endParaRPr>
          </a:p>
          <a:p>
            <a:pPr marL="2746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36" name=""/>
          <p:cNvSpPr/>
          <p:nvPr/>
        </p:nvSpPr>
        <p:spPr>
          <a:xfrm>
            <a:off x="2320920" y="157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efe5"/>
                </a:solidFill>
                <a:latin typeface="Arial Black"/>
              </a:rPr>
              <a:t>（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47800" y="3352680"/>
            <a:ext cx="45468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（三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14345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14345"/>
                </a:solidFill>
                <a:latin typeface="Times New Roman"/>
              </a:rPr>
              <a:t>联系生活  ，回忆你玩玩具、玩游戏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14345"/>
                </a:solidFill>
                <a:latin typeface="Times New Roman"/>
              </a:rPr>
              <a:t>快乐与忧伤，选一个最难忘的，和大家交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1143000"/>
            <a:ext cx="739116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教师小结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4547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风筝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是一篇表现鲁迅严于自责和反省的优美散文，也是一曲人情美的温馨之歌。仅表现了人物内心美好的感情，而且还给人以深沉的思想内容。通过本文的学习，你感悟最深的是什么呢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?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反复思索以后，运用于今后的学习生活中，你的感情会更真挚、美好，你的思想会更丰富、深刻。最后让我们来朗诵一首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风筝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的诗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**** 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transition>
    <p:dissolv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      </a:t>
            </a:r>
            <a:r>
              <a:rPr b="1" lang="zh-CN" sz="3600" spc="-1" strike="noStrike">
                <a:solidFill>
                  <a:srgbClr val="8e7139"/>
                </a:solidFill>
                <a:latin typeface="华文中宋"/>
              </a:rPr>
              <a:t>风筝  </a:t>
            </a:r>
            <a:r>
              <a:rPr b="1" lang="zh-CN" sz="2800" spc="-1" strike="noStrike">
                <a:solidFill>
                  <a:srgbClr val="8e7139"/>
                </a:solidFill>
                <a:latin typeface="华文中宋"/>
              </a:rPr>
              <a:t>高鼎</a:t>
            </a:r>
            <a:endParaRPr b="1" lang="en-US" sz="28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489744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494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草长莺飞二月天， 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2494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拂堤杨柳醉春烟， 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2494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儿童放学归来后，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e7139"/>
              </a:solidFill>
              <a:latin typeface="幼圆"/>
            </a:endParaRPr>
          </a:p>
          <a:p>
            <a:pPr marL="2494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忙趁东风放纸鸢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2494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14345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414345"/>
                </a:solidFill>
                <a:latin typeface="宋体"/>
              </a:rPr>
              <a:t>简析</a:t>
            </a:r>
            <a:r>
              <a:rPr b="1" lang="en-US" sz="2400" spc="-1" strike="noStrike">
                <a:solidFill>
                  <a:srgbClr val="414345"/>
                </a:solidFill>
                <a:latin typeface="宋体"/>
              </a:rPr>
              <a:t>]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2494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14345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414345"/>
                </a:solidFill>
                <a:latin typeface="宋体"/>
              </a:rPr>
              <a:t>这是清朝文人高鼎写的一首风筝诗，诗如一幅美丽的通俗画</a:t>
            </a:r>
            <a:r>
              <a:rPr b="1" lang="en-US" sz="2400" spc="-1" strike="noStrike">
                <a:solidFill>
                  <a:srgbClr val="414345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414345"/>
                </a:solidFill>
                <a:latin typeface="宋体"/>
              </a:rPr>
              <a:t>春光明媚，丽日和风，儿童沐浴着春光，呼吸着新鲜空气，奔跑着放飞风筝。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2494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445" name="放风筝2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3505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11280" y="260280"/>
            <a:ext cx="3581280" cy="105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课  堂  总  结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524640" y="836640"/>
            <a:ext cx="2619360" cy="33843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042920" y="1916280"/>
            <a:ext cx="7056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仿宋_GB2312"/>
                <a:ea typeface="仿宋_GB2312"/>
              </a:rPr>
              <a:t>本文意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手足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游戏对于儿童的意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“我”的自省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小兄弟无怨恨的思想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900000" y="692280"/>
            <a:ext cx="2286000" cy="5619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练习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50" name=""/>
          <p:cNvSpPr/>
          <p:nvPr/>
        </p:nvSpPr>
        <p:spPr>
          <a:xfrm>
            <a:off x="5435640" y="2060640"/>
            <a:ext cx="165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3860640"/>
            <a:ext cx="7489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文章结尾与开头有一种         关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两段都突出作者           的心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76720" y="378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照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24360" y="4437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悲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64000" y="4365720"/>
            <a:ext cx="863640" cy="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84720" y="5084640"/>
            <a:ext cx="863640" cy="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1557360"/>
            <a:ext cx="8748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文章第一段在全文中起         作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其中关键的词语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220500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惊异和悲哀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6360" y="2924280"/>
            <a:ext cx="2448000" cy="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19640" y="1341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总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2000" y="1341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08720" y="2060640"/>
            <a:ext cx="934920" cy="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666880" y="22096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艺术特色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71800" y="2286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Times New Roman"/>
                <a:ea typeface="隶书"/>
              </a:rPr>
              <a:t>文学常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1440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34547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434547"/>
                </a:solidFill>
                <a:latin typeface="华文行楷"/>
                <a:ea typeface="华文行楷"/>
              </a:rPr>
              <a:t>体裁</a:t>
            </a:r>
            <a:r>
              <a:rPr b="0" lang="zh-CN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散文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6765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34547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434547"/>
                </a:solidFill>
                <a:latin typeface="华文行楷"/>
                <a:ea typeface="华文行楷"/>
              </a:rPr>
              <a:t>出处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野草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散文诗集）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927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年北京北新书局初版。收入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924~1926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年所作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23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篇散文诗，书前有题辞一篇。以曲折幽晦的象征表达了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年代中期作者内心世界的苦闷和对现实社会的抗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851440"/>
            <a:ext cx="88390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34547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434547"/>
                </a:solidFill>
                <a:latin typeface="华文行楷"/>
                <a:ea typeface="华文行楷"/>
              </a:rPr>
              <a:t>写作时间</a:t>
            </a:r>
            <a:r>
              <a:rPr b="0" lang="zh-CN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  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1925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451640" y="5157720"/>
            <a:ext cx="865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66755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1.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意蕴丰富 深刻</a:t>
            </a:r>
            <a:r>
              <a:rPr b="0" lang="zh-CN" sz="4400" spc="-1" strike="noStrike">
                <a:solidFill>
                  <a:srgbClr val="00b0f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6858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构思精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1447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宋体"/>
              </a:rPr>
              <a:t>本文以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“风筝”</a:t>
            </a:r>
            <a:r>
              <a:rPr b="0" lang="zh-CN" sz="2400" spc="-1" strike="noStrike">
                <a:solidFill>
                  <a:srgbClr val="3333ff"/>
                </a:solidFill>
                <a:latin typeface="宋体"/>
              </a:rPr>
              <a:t>为线索，用第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一</a:t>
            </a:r>
            <a:r>
              <a:rPr b="0" lang="zh-CN" sz="2400" spc="-1" strike="noStrike">
                <a:solidFill>
                  <a:srgbClr val="3333ff"/>
                </a:solidFill>
                <a:latin typeface="宋体"/>
              </a:rPr>
              <a:t>人称展开叙述，显得亲切、真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22096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3.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首尾呼应，结构严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2895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这首尾的照应是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由实而虚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由北京的风筝而想起故乡的春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又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由虚而实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，由回忆中的春天进入现实的严冬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7339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4.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语言精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320" y="457524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14345"/>
                </a:solidFill>
                <a:latin typeface="宋体"/>
              </a:rPr>
              <a:t>联想作为一种写作方法，指在写某事物时又想到了与此有关的其他事物，并把这些事物按一定方式写进文章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。包括相似联想、相关联想、对比联想、类比联想、因果联想、假设联想等。本文用了相关联想，它指以某一事物作引子，引起与此事物有关的事物的联想。如：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风筝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由看到冬季北京的风筝，展开联想，引起如何扼抑童年弟弟放风筝的往事的回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32080" y="373392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.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联想的运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200400" y="272736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讨  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47242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想想现在有没有受封建思想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害的现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68256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课文中说：“游戏是儿童最正当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行为，玩具是儿童的天使。”你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时候也做过许多游戏，玩不少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具吧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选你最难忘的说给同学听听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9718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对待早年的过错，鲁迅先生的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情如此沉重。你从鲁迅先生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学到一种什么样的精神品质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57200" y="2286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多有不自满的人的种族，永远前进，永远有希望。多有只知责人不知反省的人的种族，祸哉祸哉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1676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善于自责和反省是一种美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责任意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3505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不仅表现了我个人的悔恨，其中也包含着作者对这种</a:t>
            </a:r>
            <a:r>
              <a:rPr b="1" lang="zh-CN" sz="2400" spc="-1" strike="noStrike">
                <a:solidFill>
                  <a:srgbClr val="645e5c"/>
                </a:solidFill>
                <a:latin typeface="Times New Roman"/>
              </a:rPr>
              <a:t>普遍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的精神麻木状态的忧虑和痛惜的感情。表示了对</a:t>
            </a:r>
            <a:r>
              <a:rPr b="1" lang="zh-CN" sz="2400" spc="-1" strike="noStrike">
                <a:solidFill>
                  <a:srgbClr val="645e5c"/>
                </a:solidFill>
                <a:latin typeface="Times New Roman"/>
              </a:rPr>
              <a:t>封建教育思想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645e5c"/>
                </a:solidFill>
                <a:latin typeface="Times New Roman"/>
              </a:rPr>
              <a:t>伦理道德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</a:rPr>
              <a:t>的否定和深恶痛绝，并启发人们思考，从而有所觉悟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04920" y="4572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对比阅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e5c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645e5c"/>
                </a:solidFill>
                <a:latin typeface="Times New Roman"/>
              </a:rPr>
              <a:t>风筝</a:t>
            </a:r>
            <a:r>
              <a:rPr b="0" lang="en-US" sz="3600" spc="-1" strike="noStrike">
                <a:solidFill>
                  <a:srgbClr val="645e5c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645e5c"/>
                </a:solidFill>
                <a:latin typeface="Times New Roman"/>
              </a:rPr>
              <a:t>与</a:t>
            </a:r>
            <a:r>
              <a:rPr b="0" lang="en-US" sz="3600" spc="-1" strike="noStrike">
                <a:solidFill>
                  <a:srgbClr val="645e5c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645e5c"/>
                </a:solidFill>
                <a:latin typeface="Times New Roman"/>
              </a:rPr>
              <a:t>满天的风筝</a:t>
            </a:r>
            <a:r>
              <a:rPr b="0" lang="en-US" sz="3600" spc="-1" strike="noStrike">
                <a:solidFill>
                  <a:srgbClr val="645e5c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2362320"/>
            <a:ext cx="815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思想感情</a:t>
            </a:r>
            <a:r>
              <a:rPr b="0" lang="zh-CN" sz="2800" spc="-1" strike="noStrike">
                <a:solidFill>
                  <a:srgbClr val="414345"/>
                </a:solidFill>
                <a:latin typeface="Times New Roman"/>
              </a:rPr>
              <a:t>全然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45e5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风筝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414345"/>
                </a:solidFill>
                <a:latin typeface="Times New Roman"/>
              </a:rPr>
              <a:t>笼罩着深沉</a:t>
            </a:r>
            <a:r>
              <a:rPr b="0" lang="zh-CN" sz="2800" spc="-1" strike="noStrike">
                <a:solidFill>
                  <a:srgbClr val="434547"/>
                </a:solidFill>
                <a:latin typeface="Times New Roman"/>
              </a:rPr>
              <a:t>的悲哀，小时候不许小兄弟放风筝，后来懂了新道理，觉悟到这是精神的虐杀而心情沉重，想求不过而又不得，心情异常沉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4547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满天的风筝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434547"/>
                </a:solidFill>
                <a:latin typeface="Times New Roman"/>
              </a:rPr>
              <a:t>抒发的是小时候跟二哥一起放风筝的快乐，写自己糊的风筝放起来又满足又骄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50920" y="620640"/>
            <a:ext cx="82296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束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一只折断了翅骨的风筝，一段悲哀凄凉的忏悔。精神的创伤是难以愈合的，而背负着愧疚的心灵同样是不堪重负的。同学们，让我们永远记取这个沉重而悲哀的教训吧，让我们永远怀着一颗民主、善良的心吧，唯其如此，那晴朗的天空才会永远飘扬着我们快乐的风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052720" y="2133720"/>
            <a:ext cx="5715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再见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341360"/>
            <a:ext cx="9144000" cy="20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5f5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风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选自散文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野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。该集收录了鲁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1924—19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年所作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篇散文集，主要是以幽晦的象征表达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年代中期作者内心世界的苦闷和对现实社会的抗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风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写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19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日，恰逢农历正月初一，发表后因其对传统的封建的儿童的教育思想的强烈批判，深受读者尤其是青少年读者的欢迎和喜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0"/>
            <a:ext cx="3489480" cy="126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背　景　资　料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9520" y="754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762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3526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21680" y="1844640"/>
            <a:ext cx="73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à   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ng 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ī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   xi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wù           b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ǐ</a:t>
            </a:r>
            <a:r>
              <a:rPr b="1" lang="en-US" sz="40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49200" y="2565360"/>
            <a:ext cx="641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丫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杈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伶仃 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  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嫌　恶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  可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240" y="260280"/>
            <a:ext cx="777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s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              huáng    sè                 sh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45960" y="981000"/>
            <a:ext cx="59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什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物      惊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惶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瑟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缩      宽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335772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    nüè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ò                    y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24680" y="4076640"/>
            <a:ext cx="62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掷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  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虐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杀     　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堕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　苦心孤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94172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qi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o cuì     mú        wú g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   ché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1600" y="5589720"/>
            <a:ext cx="58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憔悴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模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样     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蜈蚣</a:t>
            </a:r>
            <a:r>
              <a:rPr b="1" lang="zh-CN" sz="48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 u="sng">
                <a:solidFill>
                  <a:srgbClr val="645e5c"/>
                </a:solidFill>
                <a:uFillTx/>
                <a:latin typeface="Times New Roman"/>
                <a:ea typeface="华文新魏"/>
              </a:rPr>
              <a:t>惩</a:t>
            </a:r>
            <a:r>
              <a:rPr b="1" lang="zh-CN" sz="5400" spc="-1" strike="noStrike">
                <a:solidFill>
                  <a:srgbClr val="434547"/>
                </a:solidFill>
                <a:latin typeface="Times New Roman"/>
                <a:ea typeface="华文新魏"/>
              </a:rPr>
              <a:t>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-11365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生字教学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411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0840" y="229068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ián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嫌恶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10880" y="30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29720" y="307800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zhuàn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赚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2590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6868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40080" y="39672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诀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5428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0080" y="4653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22600" y="535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40080" y="5364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jué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4241880"/>
            <a:ext cx="228600" cy="787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520 h 787320"/>
              <a:gd name="textAreaBottom" fmla="*/ 766800 h 78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1412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31960" y="396720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uò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堕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97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4360" y="471492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zhuì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4191120"/>
            <a:ext cx="152280" cy="15224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2440"/>
              <a:gd name="textAreaBottom" fmla="*/ 1482840 h 15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65440" y="30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62400" y="3078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shù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宽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62400" y="2286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ù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愤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81560" y="233856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5909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3036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34547"/>
                </a:solidFill>
                <a:latin typeface="Times New Roman"/>
                <a:ea typeface="隶书"/>
              </a:rPr>
              <a:t>形  似  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447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给下面的字注音并组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20960" y="24987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80320" y="2498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什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0320" y="333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39600" y="295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2360" y="4449600"/>
            <a:ext cx="212760" cy="1067040"/>
          </a:xfrm>
          <a:custGeom>
            <a:avLst/>
            <a:gdLst>
              <a:gd name="textAreaLeft" fmla="*/ 136080 w 212760"/>
              <a:gd name="textAreaRight" fmla="*/ 213120 w 2127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6440" y="333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sh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21960" y="463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4480" y="42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4000" y="42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劳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78120" y="5135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13720" y="5135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模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73280" y="371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47280" y="2879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4240" y="2874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凶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364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4240" y="364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恶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73840" y="445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4240" y="4449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嫌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27734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7920" y="323064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68580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34547"/>
                </a:solidFill>
                <a:latin typeface="Times New Roman"/>
                <a:ea typeface="隶书"/>
              </a:rPr>
              <a:t>多  音  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给下面的字注音并组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33440" y="2286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苦心钻研，到了别人所达不到的地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71720" y="2743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别（多指不易相见的离别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2760" y="3200400"/>
            <a:ext cx="38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以拿来取笑的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0280" y="5943600"/>
            <a:ext cx="28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令人鄙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00280" y="365760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虐待人而致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1844640"/>
            <a:ext cx="56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厌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86080" y="4572000"/>
            <a:ext cx="34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形容忽然醒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00280" y="54864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惊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00280" y="5029200"/>
            <a:ext cx="61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书）形容秋冬天气寒冷，草木枯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22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苦心孤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560" y="2743200"/>
            <a:ext cx="19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诀别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9560" y="3200400"/>
            <a:ext cx="22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笑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9560" y="3657600"/>
            <a:ext cx="19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虐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9560" y="594360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可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560" y="548640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惊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9560" y="41148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瑟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956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恍然大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560" y="502920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肃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2720" y="1173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解释下列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42480" y="1341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憔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78760" y="13413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4547"/>
                </a:solidFill>
                <a:latin typeface="Times New Roman"/>
              </a:rPr>
              <a:t>人瘦弱，面色不好看（色彩暗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15560" y="184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嫌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42480" y="90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伶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20200" y="907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4547"/>
                </a:solidFill>
                <a:latin typeface="Times New Roman"/>
              </a:rPr>
              <a:t>孤独，没有依靠。（风筝数量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93360" y="4149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指身体因寒冷，受惊等而蜷缩兼抖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0:18:57Z</dcterms:created>
  <dc:creator>Administrator</dc:creator>
  <dc:description/>
  <dc:language>en-US</dc:language>
  <cp:lastModifiedBy/>
  <dcterms:modified xsi:type="dcterms:W3CDTF">2015-08-19T08:57:02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