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51F-0CC5-4977-B418-9A772CFA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7E3-D22C-4BB4-9E2F-6317036C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BB1-4D52-4509-B9AB-5E43E809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F21-7C12-48F9-8BC0-5003F855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D27-D681-493E-BBD2-212AC0B7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124-B975-4EE3-A06F-744A7134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862-EACC-4401-92C3-1D21CFC2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CFA-212A-4516-B2BA-4E2D0D3A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35C-2305-42F7-8950-2A4EDC7F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C97-6E44-492B-9FA3-4558478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12D-60F5-4166-9E6D-42B86A5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5C5-9BD1-46B7-9C72-7FB30D9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D0FB-B253-4604-BBF1-46EDF1F45C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31687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8080" y="1846440"/>
            <a:ext cx="4441680" cy="28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远看山有色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近听水无声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春去花还在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人来鸟不惊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3080" y="27147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64000" y="333360"/>
            <a:ext cx="31035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40464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写作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700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诗人用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反衬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的方法，以一阵人语响，反衬空山寂寞，又以一缕夕阳映照青苔，反衬树林深幽，因而写出了极其幽静甚至空冷沉寂的意境，表现出诗人的寂寞心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9360" y="4014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87400" y="434880"/>
            <a:ext cx="74898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鹿  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王 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空 山 不 见 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但 闻 人 语 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返 景 入 深 林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复 照 青 苔 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68480" y="2666880"/>
            <a:ext cx="21564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695760" y="3675240"/>
            <a:ext cx="21600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24120" y="5619600"/>
            <a:ext cx="21600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24120" y="4683240"/>
            <a:ext cx="21600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919760" y="174600"/>
            <a:ext cx="93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92360" y="155736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唐代著名诗人，以山水田园诗著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苏轼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shì)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曾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其诗，诗中有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其画，画中有诗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557360"/>
            <a:ext cx="11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王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7813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360" y="4014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87400" y="434880"/>
            <a:ext cx="74898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鹿  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王 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空 山 不 见 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但 闻 人 语 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返 景 入 深 林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复 照 青 苔 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768480" y="2666880"/>
            <a:ext cx="21564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95760" y="3675240"/>
            <a:ext cx="21600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24120" y="5619600"/>
            <a:ext cx="21600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24120" y="4683240"/>
            <a:ext cx="21600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19760" y="174600"/>
            <a:ext cx="93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1413000"/>
            <a:ext cx="64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空 山 不 见 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但 闻 人 语 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12480" y="263700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25320" y="3718080"/>
            <a:ext cx="231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73040" y="458064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  <a:ea typeface="楷体"/>
              </a:rPr>
              <a:t>空寂的山中不见一个人，只听到一阵人语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1413000"/>
            <a:ext cx="64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反 景 入 深 林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复 照 青 苔 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2480" y="263700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79760" y="263700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371628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88880" y="4580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  <a:ea typeface="楷体"/>
              </a:rPr>
              <a:t>太阳的一抹余晖返人深林，又照到林中的青苔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9360" y="4014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87400" y="434880"/>
            <a:ext cx="74898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鹿  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王 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空 山 不 见 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但 闻 人 语 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返 景 入 深 林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  <a:ea typeface="楷体"/>
              </a:rPr>
              <a:t>复 照 青 苔 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68480" y="2666880"/>
            <a:ext cx="21564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695760" y="3675240"/>
            <a:ext cx="21600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24120" y="5619600"/>
            <a:ext cx="21600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624120" y="4683240"/>
            <a:ext cx="216000" cy="720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19760" y="174600"/>
            <a:ext cx="93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40464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主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916280"/>
            <a:ext cx="7416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这首诗通过描绘鹿柴附近的空山深林在夕阳返照下的幽静景色，表现了诗人寂寞的心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404640"/>
            <a:ext cx="8280360" cy="63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鹿  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王 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空 山 不 见 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但 闻 人 语 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返 景 入 深 林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复 照 青 苔 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37920" y="328464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0400" y="4365720"/>
            <a:ext cx="231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16600" y="289404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2960" y="33274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寂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37920" y="530064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04840" y="530064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479736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5013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37920" y="623736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43640" y="1052640"/>
            <a:ext cx="2160720" cy="1150920"/>
          </a:xfrm>
          <a:prstGeom prst="bracketPair">
            <a:avLst>
              <a:gd name="adj" fmla="val 171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105264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反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404640"/>
            <a:ext cx="828036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绝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杜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江 碧 鸟 逾 白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山 青 花 欲 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今 春 看 又 过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何 日 是 归 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7200" y="328464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5920" y="335772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7200" y="436572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12840" y="436572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●                  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5280" y="3213000"/>
            <a:ext cx="2160360" cy="1150920"/>
          </a:xfrm>
          <a:prstGeom prst="bracketPair">
            <a:avLst>
              <a:gd name="adj" fmla="val 171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3213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反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程瑜</cp:lastModifiedBy>
  <dcterms:modified xsi:type="dcterms:W3CDTF">2016-01-06T01:20:43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