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2D9-B1EA-486B-852D-1643B01A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5F1-5F09-42E5-A7A8-F5B260EE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AD30-9A6B-4E54-B850-BDFAB48D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B8C2-D6DD-401A-9B22-BD1FC8F0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6DB-954B-49EE-AFE8-268F99C0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A2C1-AB78-46ED-AA83-EA17372D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A42-2D92-4E87-A5B4-770EBE56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E57A-1842-474C-97DD-1E0107CA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875-E232-4D16-A17A-C438585F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4E92-76BF-40E8-A5BF-1E0B6556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3CFA-3DB5-45DB-9C4D-0F5841E6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6F43-6011-4E78-AA00-E60E0060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A080-E912-42CD-87C4-A9E12161166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8000" y="836640"/>
            <a:ext cx="3209760" cy="452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76720" y="1990800"/>
            <a:ext cx="56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卢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唐代诗人，大历十才子之一，所作边塞诗多慷慨雄壮之音，其《塞下曲》是诗歌史上的千古名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4964400" cy="5510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716360" y="765000"/>
            <a:ext cx="384192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塞下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卢纶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暗草惊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军夜引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明寻白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在石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棱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34040" y="5397480"/>
            <a:ext cx="8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m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88000" y="5373720"/>
            <a:ext cx="10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lé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5950080"/>
            <a:ext cx="11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嵌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3821040" cy="5511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16360" y="765000"/>
            <a:ext cx="384192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塞下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卢纶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暗草惊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军夜引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明寻白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在石棱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61080" y="3860640"/>
            <a:ext cx="161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·  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19640" y="4292640"/>
            <a:ext cx="93672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708360" y="3141720"/>
            <a:ext cx="2087640" cy="1312920"/>
            <a:chOff x="3708360" y="3141720"/>
            <a:chExt cx="2087640" cy="1312920"/>
          </a:xfrm>
        </p:grpSpPr>
        <p:sp>
          <p:nvSpPr>
            <p:cNvPr id="53" name=""/>
            <p:cNvSpPr/>
            <p:nvPr/>
          </p:nvSpPr>
          <p:spPr>
            <a:xfrm>
              <a:off x="3708360" y="3141720"/>
              <a:ext cx="2087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将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40000" y="3358080"/>
              <a:ext cx="792360" cy="108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964040" cy="5510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716360" y="765000"/>
            <a:ext cx="384192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塞下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卢纶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暗草惊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军夜引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明寻白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在石棱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9640" y="3286080"/>
            <a:ext cx="2449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4365720"/>
            <a:ext cx="2449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1413000"/>
            <a:ext cx="809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李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射得一手好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称“飞将军”。唐朝有不少诗句歌颂李广，如王昌龄《出塞》，高适《燕歌行并序》等。王昌龄诗云：“秦时明月汉时关，万里长征人未还。但使龙城飞将在，不叫胡马度阴山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3860640"/>
            <a:ext cx="936720" cy="649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964040" cy="5511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716360" y="765000"/>
            <a:ext cx="38419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塞下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卢纶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暗草惊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军夜引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明寻白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在石棱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19640" y="3070080"/>
            <a:ext cx="2449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3645000"/>
            <a:ext cx="2448000" cy="14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56000" y="5373720"/>
            <a:ext cx="33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因为……所以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4964040" cy="5511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716360" y="765000"/>
            <a:ext cx="38419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塞下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卢纶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暗草惊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军夜引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明寻白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在石棱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4149720"/>
            <a:ext cx="2449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9640" y="4726080"/>
            <a:ext cx="2449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350208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亮时，士兵们去寻找李广将军射的箭，看到箭已经深深地嵌入石头中，都很佩服李广将军的箭术，大家有的（   ），有的（       ），还有的（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79640" y="262080"/>
            <a:ext cx="5472000" cy="3311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19280" y="117360"/>
            <a:ext cx="17287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964040" cy="5510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716360" y="765000"/>
            <a:ext cx="38419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塞下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卢纶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暗草惊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军夜引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明寻白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在石棱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程瑜</cp:lastModifiedBy>
  <dcterms:modified xsi:type="dcterms:W3CDTF">2016-01-06T01:20:20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