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55B-7D4E-48B7-8E64-2D95EB70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2F9-083A-4E97-83CF-8AD94608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954-ABC2-4858-AC6B-3B41ADE6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3DA3-7085-4BDA-B6EE-B02E9214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86E-6653-4790-8CAC-CDA1DFAF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29A-976C-4225-9CF0-A2265CAE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9C5-DF41-4C50-99FD-4F769648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F5B-3FA8-4085-A653-1464838C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D64-6163-49A9-A652-BE0EA9C5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18D-50F9-444C-A475-A996A316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FDE-73BD-40CF-88DF-A65394C0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EC6-C307-4F38-B448-15254564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149B-527F-49DA-B45F-D19D1F1133B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9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587680" y="129528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590920" y="236232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590920" y="335268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87680" y="434340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587680" y="541008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038480" y="15238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身  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035600" y="2590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腰  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01004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肩  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010040" y="46483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足  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4010040" y="56386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目  视  前  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-494280" y="1600200"/>
            <a:ext cx="2618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科学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坐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1763640" y="22860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看谁坐姿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395280" y="692280"/>
            <a:ext cx="874872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á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ng (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银 行）（一 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宋体"/>
              </a:rPr>
              <a:t>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í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ng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（行 动）（行 走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395280" y="1268280"/>
            <a:ext cx="874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z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ǐ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    ch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ǐ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    y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í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6000" spc="-1" strike="noStrike">
                <a:solidFill>
                  <a:srgbClr val="0000ff"/>
                </a:solidFill>
                <a:latin typeface="宋体"/>
              </a:rPr>
              <a:t>ju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紫    尺     疑    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01120"/>
            <a:ext cx="724068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活动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读古诗，理解诗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钟速读（同桌比赛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两两交流、理解每句古诗意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汇报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分组读古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望庐山瀑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4240" y="999720"/>
            <a:ext cx="7632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唐   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照香炉生紫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遥看瀑布挂前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飞流直下三千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疑是银河落九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香炉峰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1763640" y="476280"/>
            <a:ext cx="202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香炉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348000" y="350208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cc66"/>
                </a:solidFill>
                <a:latin typeface="Arial"/>
              </a:rPr>
              <a:t>紫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 rot="11807400">
            <a:off x="3060360" y="1269720"/>
            <a:ext cx="1273320" cy="1365120"/>
          </a:xfrm>
          <a:prstGeom prst="wedgeEllipseCallout">
            <a:avLst>
              <a:gd name="adj1" fmla="val 103837"/>
              <a:gd name="adj2" fmla="val 24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u=3796150535,1656863251&amp;fm=0&amp;gp=0"/>
          <p:cNvPicPr/>
          <p:nvPr/>
        </p:nvPicPr>
        <p:blipFill>
          <a:blip r:embed="rId2"/>
          <a:srcRect l="43224" t="36033" r="29887" b="35241"/>
          <a:stretch/>
        </p:blipFill>
        <p:spPr>
          <a:xfrm>
            <a:off x="3924360" y="260280"/>
            <a:ext cx="1584360" cy="1270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-402840" y="692280"/>
            <a:ext cx="16426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日照香炉生紫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 rot="13800000">
            <a:off x="3392280" y="3266640"/>
            <a:ext cx="1258920" cy="1255680"/>
          </a:xfrm>
          <a:prstGeom prst="wedgeEllipseCallout">
            <a:avLst>
              <a:gd name="adj1" fmla="val 87365"/>
              <a:gd name="adj2" fmla="val -436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180120" y="436428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在阳光的照耀下，香炉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顶弥漫着紫色的烟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5715000" y="1071720"/>
            <a:ext cx="37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香炉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指庐山的“香炉峰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435640" y="270972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紫烟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香炉峰上团团雾气，在阳光的照射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变成了一片紫色的云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643720" y="20001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升腾，变成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>
            <a:off x="8820000" y="645336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4" descr="u=3796150535,1656863251&amp;fm=0&amp;gp=0"/>
          <p:cNvPicPr/>
          <p:nvPr/>
        </p:nvPicPr>
        <p:blipFill>
          <a:blip r:embed="rId3"/>
          <a:srcRect l="43224" t="36033" r="29887" b="35241"/>
          <a:stretch/>
        </p:blipFill>
        <p:spPr>
          <a:xfrm>
            <a:off x="3924360" y="189000"/>
            <a:ext cx="158436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u=1175241294,4185213888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5715720" y="162612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远远看去，瀑布像河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高挂在前面的山崖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644440" y="476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遥看瀑布挂前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图片1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284720" y="5013360"/>
            <a:ext cx="1020600" cy="1844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5003640" y="30700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遥看：站在远处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063120" y="3789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川：指河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8820000" y="6597720"/>
            <a:ext cx="289080" cy="21600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96" h="21600">
                <a:moveTo>
                  <a:pt x="0" y="0"/>
                </a:moveTo>
                <a:lnTo>
                  <a:pt x="28896" y="0"/>
                </a:lnTo>
                <a:lnTo>
                  <a:pt x="28896" y="21600"/>
                </a:lnTo>
                <a:lnTo>
                  <a:pt x="0" y="21600"/>
                </a:lnTo>
                <a:close/>
              </a:path>
              <a:path fill="lightenLess" w="28896" h="21600">
                <a:moveTo>
                  <a:pt x="0" y="0"/>
                </a:moveTo>
                <a:lnTo>
                  <a:pt x="28896" y="0"/>
                </a:lnTo>
                <a:lnTo>
                  <a:pt x="27496" y="1400"/>
                </a:lnTo>
                <a:lnTo>
                  <a:pt x="1400" y="1400"/>
                </a:lnTo>
                <a:close/>
              </a:path>
              <a:path fill="darken" w="28896" h="21600">
                <a:moveTo>
                  <a:pt x="28896" y="0"/>
                </a:moveTo>
                <a:lnTo>
                  <a:pt x="28896" y="21600"/>
                </a:lnTo>
                <a:lnTo>
                  <a:pt x="27496" y="20200"/>
                </a:lnTo>
                <a:lnTo>
                  <a:pt x="27496" y="1400"/>
                </a:lnTo>
                <a:close/>
              </a:path>
              <a:path fill="darkenLess" w="28896" h="21600">
                <a:moveTo>
                  <a:pt x="28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96" y="20200"/>
                </a:lnTo>
                <a:close/>
              </a:path>
              <a:path fill="lighten" w="28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96" h="21600">
                <a:moveTo>
                  <a:pt x="7441" y="10800"/>
                </a:moveTo>
                <a:lnTo>
                  <a:pt x="21454" y="3794"/>
                </a:lnTo>
                <a:lnTo>
                  <a:pt x="2145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5148360" y="1197000"/>
            <a:ext cx="863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8101080" y="1125360"/>
            <a:ext cx="50328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5292720" cy="6858000"/>
            <a:chOff x="0" y="0"/>
            <a:chExt cx="5292720" cy="6858000"/>
          </a:xfrm>
        </p:grpSpPr>
        <p:pic>
          <p:nvPicPr>
            <p:cNvPr id="126" name="Picture 3" descr="三叠泉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292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4"/>
            <p:cNvSpPr/>
            <p:nvPr/>
          </p:nvSpPr>
          <p:spPr>
            <a:xfrm>
              <a:off x="3659760" y="5053320"/>
              <a:ext cx="2617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5"/>
          <p:cNvSpPr/>
          <p:nvPr/>
        </p:nvSpPr>
        <p:spPr>
          <a:xfrm>
            <a:off x="5254560" y="333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飞流直下三千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5435640" y="155160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飞一样的瀑布从山上奔腾而下，足足有三千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435640" y="3068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0099"/>
                </a:solidFill>
                <a:uFillTx/>
                <a:latin typeface="Arial"/>
              </a:rPr>
              <a:t>飞流：瀑布从高空落下，好像是飞下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5651640" y="422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0099"/>
                </a:solidFill>
                <a:uFillTx/>
                <a:latin typeface="Times New Roman"/>
              </a:rPr>
              <a:t>真有三千尺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203640" y="1197000"/>
            <a:ext cx="720720" cy="4680000"/>
          </a:xfrm>
          <a:custGeom>
            <a:avLst/>
            <a:gdLst>
              <a:gd name="textAreaLeft" fmla="*/ 0 w 720720"/>
              <a:gd name="textAreaRight" fmla="*/ 260280 w 720720"/>
              <a:gd name="textAreaTop" fmla="*/ 122040 h 4680000"/>
              <a:gd name="textAreaBottom" fmla="*/ 455796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8604360" y="645336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8677440" y="6095880"/>
            <a:ext cx="288720" cy="21600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460" y="1400"/>
                </a:lnTo>
                <a:lnTo>
                  <a:pt x="1400" y="140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460" y="20200"/>
                </a:lnTo>
                <a:lnTo>
                  <a:pt x="27460" y="140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60" y="2020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60" h="21600">
                <a:moveTo>
                  <a:pt x="7423" y="10800"/>
                </a:moveTo>
                <a:lnTo>
                  <a:pt x="21436" y="3794"/>
                </a:lnTo>
                <a:lnTo>
                  <a:pt x="2143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5435640" y="981000"/>
            <a:ext cx="863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7236000" y="909720"/>
            <a:ext cx="136836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2140442055-0"/>
          <p:cNvPicPr/>
          <p:nvPr/>
        </p:nvPicPr>
        <p:blipFill>
          <a:blip r:embed="rId1"/>
          <a:stretch/>
        </p:blipFill>
        <p:spPr>
          <a:xfrm>
            <a:off x="4432320" y="44280"/>
            <a:ext cx="4711680" cy="6813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5577480" y="404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疑是银河落九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857840" y="250020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疑：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不确定，好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788000" y="342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银河：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指晴天晚上空中出现的明亮光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716360" y="4508640"/>
            <a:ext cx="42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九天：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古代传说天有九重（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chóng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这里指从天的最高处落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788000" y="1341360"/>
            <a:ext cx="41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以为是银河从天空中最高处落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u=2593210106,3477615050&amp;fm=15&amp;gp=0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9"/>
          <p:cNvSpPr/>
          <p:nvPr/>
        </p:nvSpPr>
        <p:spPr>
          <a:xfrm>
            <a:off x="8820000" y="6526080"/>
            <a:ext cx="324000" cy="28764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4327" h="21600">
                <a:moveTo>
                  <a:pt x="0" y="0"/>
                </a:moveTo>
                <a:lnTo>
                  <a:pt x="24327" y="0"/>
                </a:lnTo>
                <a:lnTo>
                  <a:pt x="24327" y="21600"/>
                </a:lnTo>
                <a:lnTo>
                  <a:pt x="0" y="21600"/>
                </a:lnTo>
                <a:close/>
              </a:path>
              <a:path fill="lightenLess" w="24327" h="21600">
                <a:moveTo>
                  <a:pt x="0" y="0"/>
                </a:moveTo>
                <a:lnTo>
                  <a:pt x="24327" y="0"/>
                </a:lnTo>
                <a:lnTo>
                  <a:pt x="22927" y="1400"/>
                </a:lnTo>
                <a:lnTo>
                  <a:pt x="1400" y="1400"/>
                </a:lnTo>
                <a:close/>
              </a:path>
              <a:path fill="darken" w="24327" h="21600">
                <a:moveTo>
                  <a:pt x="24327" y="0"/>
                </a:moveTo>
                <a:lnTo>
                  <a:pt x="24327" y="21600"/>
                </a:lnTo>
                <a:lnTo>
                  <a:pt x="22927" y="20200"/>
                </a:lnTo>
                <a:lnTo>
                  <a:pt x="22927" y="1400"/>
                </a:lnTo>
                <a:close/>
              </a:path>
              <a:path fill="darkenLess" w="24327" h="21600">
                <a:moveTo>
                  <a:pt x="24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27" y="20200"/>
                </a:lnTo>
                <a:close/>
              </a:path>
              <a:path fill="lighten" w="24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27" h="21600">
                <a:moveTo>
                  <a:pt x="5157" y="10800"/>
                </a:moveTo>
                <a:lnTo>
                  <a:pt x="19170" y="3794"/>
                </a:lnTo>
                <a:lnTo>
                  <a:pt x="1917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4861080" y="1125360"/>
            <a:ext cx="647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6156360" y="1125360"/>
            <a:ext cx="863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7812000" y="1125360"/>
            <a:ext cx="863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4738122_093134344484_2[1]"/>
          <p:cNvPicPr/>
          <p:nvPr/>
        </p:nvPicPr>
        <p:blipFill>
          <a:blip r:embed="rId1"/>
          <a:srcRect l="13863" t="2996" r="4033" b="4886"/>
          <a:stretch/>
        </p:blipFill>
        <p:spPr>
          <a:xfrm>
            <a:off x="34920" y="44280"/>
            <a:ext cx="9067680" cy="68709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5508720" y="2349360"/>
            <a:ext cx="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732720" y="2349360"/>
            <a:ext cx="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508720" y="3284640"/>
            <a:ext cx="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732720" y="3284640"/>
            <a:ext cx="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508720" y="4292640"/>
            <a:ext cx="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804000" y="4221000"/>
            <a:ext cx="2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508720" y="5157720"/>
            <a:ext cx="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732720" y="5157720"/>
            <a:ext cx="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8748720" y="6526080"/>
            <a:ext cx="395280" cy="28764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9673" h="21600">
                <a:moveTo>
                  <a:pt x="0" y="0"/>
                </a:moveTo>
                <a:lnTo>
                  <a:pt x="29673" y="0"/>
                </a:lnTo>
                <a:lnTo>
                  <a:pt x="29673" y="21600"/>
                </a:lnTo>
                <a:lnTo>
                  <a:pt x="0" y="21600"/>
                </a:lnTo>
                <a:close/>
              </a:path>
              <a:path fill="lightenLess" w="29673" h="21600">
                <a:moveTo>
                  <a:pt x="0" y="0"/>
                </a:moveTo>
                <a:lnTo>
                  <a:pt x="29673" y="0"/>
                </a:lnTo>
                <a:lnTo>
                  <a:pt x="28273" y="1400"/>
                </a:lnTo>
                <a:lnTo>
                  <a:pt x="1400" y="1400"/>
                </a:lnTo>
                <a:close/>
              </a:path>
              <a:path fill="darken" w="29673" h="21600">
                <a:moveTo>
                  <a:pt x="29673" y="0"/>
                </a:moveTo>
                <a:lnTo>
                  <a:pt x="29673" y="21600"/>
                </a:lnTo>
                <a:lnTo>
                  <a:pt x="28273" y="20200"/>
                </a:lnTo>
                <a:lnTo>
                  <a:pt x="28273" y="1400"/>
                </a:lnTo>
                <a:close/>
              </a:path>
              <a:path fill="darkenLess" w="29673" h="21600">
                <a:moveTo>
                  <a:pt x="29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3" y="20200"/>
                </a:lnTo>
                <a:close/>
              </a:path>
              <a:path fill="lighten" w="29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3" h="21600">
                <a:moveTo>
                  <a:pt x="7830" y="7301"/>
                </a:moveTo>
                <a:lnTo>
                  <a:pt x="8744" y="7301"/>
                </a:lnTo>
                <a:lnTo>
                  <a:pt x="9127" y="7667"/>
                </a:lnTo>
                <a:lnTo>
                  <a:pt x="18335" y="7667"/>
                </a:lnTo>
                <a:lnTo>
                  <a:pt x="18892" y="8224"/>
                </a:lnTo>
                <a:lnTo>
                  <a:pt x="18892" y="8772"/>
                </a:lnTo>
                <a:lnTo>
                  <a:pt x="20738" y="8772"/>
                </a:lnTo>
                <a:lnTo>
                  <a:pt x="21103" y="8224"/>
                </a:lnTo>
                <a:lnTo>
                  <a:pt x="21843" y="8224"/>
                </a:lnTo>
                <a:lnTo>
                  <a:pt x="21843" y="13376"/>
                </a:lnTo>
                <a:lnTo>
                  <a:pt x="21103" y="13376"/>
                </a:lnTo>
                <a:lnTo>
                  <a:pt x="20738" y="12828"/>
                </a:lnTo>
                <a:lnTo>
                  <a:pt x="18892" y="12828"/>
                </a:lnTo>
                <a:lnTo>
                  <a:pt x="18892" y="14107"/>
                </a:lnTo>
                <a:lnTo>
                  <a:pt x="9310" y="14107"/>
                </a:lnTo>
                <a:lnTo>
                  <a:pt x="9310" y="9877"/>
                </a:lnTo>
                <a:lnTo>
                  <a:pt x="9127" y="9877"/>
                </a:lnTo>
                <a:lnTo>
                  <a:pt x="8744" y="10243"/>
                </a:lnTo>
                <a:lnTo>
                  <a:pt x="7830" y="102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香炉峰"/>
          <p:cNvPicPr/>
          <p:nvPr/>
        </p:nvPicPr>
        <p:blipFill>
          <a:blip r:embed="rId1"/>
          <a:stretch/>
        </p:blipFill>
        <p:spPr>
          <a:xfrm>
            <a:off x="0" y="0"/>
            <a:ext cx="4716360" cy="378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u=3796150535,1656863251&amp;fm=0&amp;gp=0"/>
          <p:cNvPicPr/>
          <p:nvPr/>
        </p:nvPicPr>
        <p:blipFill>
          <a:blip r:embed="rId2"/>
          <a:srcRect l="43224" t="36033" r="29887" b="35241"/>
          <a:stretch/>
        </p:blipFill>
        <p:spPr>
          <a:xfrm>
            <a:off x="3260880" y="190440"/>
            <a:ext cx="1168200" cy="934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254240" y="285444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日照香炉生紫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u=1175241294,4185213888&amp;fm=0&amp;gp=0"/>
          <p:cNvPicPr/>
          <p:nvPr/>
        </p:nvPicPr>
        <p:blipFill>
          <a:blip r:embed="rId3"/>
          <a:stretch/>
        </p:blipFill>
        <p:spPr>
          <a:xfrm>
            <a:off x="4716360" y="0"/>
            <a:ext cx="4498920" cy="3718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5789160" y="2781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遥看瀑布挂前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1440" y="3575160"/>
            <a:ext cx="4714920" cy="3284280"/>
            <a:chOff x="1440" y="3575160"/>
            <a:chExt cx="4714920" cy="3284280"/>
          </a:xfrm>
        </p:grpSpPr>
        <p:pic>
          <p:nvPicPr>
            <p:cNvPr id="164" name="Picture 8" descr="三叠泉"/>
            <p:cNvPicPr/>
            <p:nvPr/>
          </p:nvPicPr>
          <p:blipFill>
            <a:blip r:embed="rId4"/>
            <a:stretch/>
          </p:blipFill>
          <p:spPr>
            <a:xfrm>
              <a:off x="1440" y="3575160"/>
              <a:ext cx="4714920" cy="32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9"/>
            <p:cNvSpPr/>
            <p:nvPr/>
          </p:nvSpPr>
          <p:spPr>
            <a:xfrm>
              <a:off x="3261600" y="5995080"/>
              <a:ext cx="23328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10"/>
          <p:cNvSpPr/>
          <p:nvPr/>
        </p:nvSpPr>
        <p:spPr>
          <a:xfrm>
            <a:off x="539640" y="39337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飞流直下三千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u=2593210106,3477615050&amp;fm=15&amp;gp=0"/>
          <p:cNvPicPr/>
          <p:nvPr/>
        </p:nvPicPr>
        <p:blipFill>
          <a:blip r:embed="rId5"/>
          <a:stretch/>
        </p:blipFill>
        <p:spPr>
          <a:xfrm>
            <a:off x="4716360" y="3573360"/>
            <a:ext cx="4427640" cy="3357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>
            <a:off x="5572800" y="3789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疑是银河落九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325080" cy="7489080"/>
            <a:chOff x="0" y="0"/>
            <a:chExt cx="9325080" cy="7489080"/>
          </a:xfrm>
        </p:grpSpPr>
        <p:pic>
          <p:nvPicPr>
            <p:cNvPr id="54" name="Picture 2" descr="victoria_falls_7797_blo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5880" cy="680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3"/>
            <p:cNvSpPr/>
            <p:nvPr/>
          </p:nvSpPr>
          <p:spPr>
            <a:xfrm>
              <a:off x="70200" y="7066800"/>
              <a:ext cx="9254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5"/>
          <p:cNvSpPr/>
          <p:nvPr/>
        </p:nvSpPr>
        <p:spPr>
          <a:xfrm>
            <a:off x="684360" y="1152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维多利亚瀑布，宽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.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公里，落差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0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米。是地球最大的一片水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innerangel"/>
          <p:cNvPicPr/>
          <p:nvPr/>
        </p:nvPicPr>
        <p:blipFill>
          <a:blip r:embed="rId2"/>
          <a:srcRect l="0" t="0" r="4724" b="3543"/>
          <a:stretch/>
        </p:blipFill>
        <p:spPr>
          <a:xfrm>
            <a:off x="1440" y="17640"/>
            <a:ext cx="4643640" cy="6840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20600" y="5994360"/>
            <a:ext cx="380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安琪兒瀑布  （當地土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天然水瀑布落差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979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7568074"/>
          <p:cNvPicPr/>
          <p:nvPr/>
        </p:nvPicPr>
        <p:blipFill>
          <a:blip r:embed="rId3"/>
          <a:srcRect l="7414" t="0" r="6658" b="3694"/>
          <a:stretch/>
        </p:blipFill>
        <p:spPr>
          <a:xfrm>
            <a:off x="4573440" y="46080"/>
            <a:ext cx="4608720" cy="681192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9"/>
          <p:cNvGrpSpPr/>
          <p:nvPr/>
        </p:nvGrpSpPr>
        <p:grpSpPr>
          <a:xfrm>
            <a:off x="0" y="0"/>
            <a:ext cx="9180360" cy="6813720"/>
            <a:chOff x="0" y="0"/>
            <a:chExt cx="9180360" cy="6813720"/>
          </a:xfrm>
        </p:grpSpPr>
        <p:pic>
          <p:nvPicPr>
            <p:cNvPr id="61" name="Picture 8" descr="angel_falls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80360" cy="68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11"/>
            <p:cNvSpPr/>
            <p:nvPr/>
          </p:nvSpPr>
          <p:spPr>
            <a:xfrm>
              <a:off x="1740960" y="905760"/>
              <a:ext cx="170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安琪儿瀑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2"/>
          <p:cNvGrpSpPr/>
          <p:nvPr/>
        </p:nvGrpSpPr>
        <p:grpSpPr>
          <a:xfrm>
            <a:off x="34920" y="46080"/>
            <a:ext cx="9108720" cy="6767640"/>
            <a:chOff x="34920" y="46080"/>
            <a:chExt cx="9108720" cy="6767640"/>
          </a:xfrm>
        </p:grpSpPr>
        <p:pic>
          <p:nvPicPr>
            <p:cNvPr id="64" name="Picture 2" descr="800px-Jog_Falls%2C_India_-_August_2006"/>
            <p:cNvPicPr/>
            <p:nvPr/>
          </p:nvPicPr>
          <p:blipFill>
            <a:blip r:embed="rId5"/>
            <a:stretch/>
          </p:blipFill>
          <p:spPr>
            <a:xfrm>
              <a:off x="34920" y="46080"/>
              <a:ext cx="8816400" cy="676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3"/>
            <p:cNvSpPr/>
            <p:nvPr/>
          </p:nvSpPr>
          <p:spPr>
            <a:xfrm>
              <a:off x="5690160" y="4386600"/>
              <a:ext cx="3453480" cy="12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DFKai-SB"/>
                  <a:ea typeface="DFKai-SB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DFKai-SB"/>
                  <a:ea typeface="DFKai-SB"/>
                </a:rPr>
                <a:t>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DFKai-SB"/>
                  <a:ea typeface="DFKai-SB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5"/>
          <p:cNvSpPr/>
          <p:nvPr/>
        </p:nvSpPr>
        <p:spPr>
          <a:xfrm>
            <a:off x="6372360" y="4941720"/>
            <a:ext cx="284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角格瀑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25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米落差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6"/>
          <p:cNvGrpSpPr/>
          <p:nvPr/>
        </p:nvGrpSpPr>
        <p:grpSpPr>
          <a:xfrm>
            <a:off x="-28440" y="1440"/>
            <a:ext cx="9172440" cy="6813720"/>
            <a:chOff x="-28440" y="1440"/>
            <a:chExt cx="9172440" cy="6813720"/>
          </a:xfrm>
        </p:grpSpPr>
        <p:pic>
          <p:nvPicPr>
            <p:cNvPr id="68" name="Picture 2" descr="niagara"/>
            <p:cNvPicPr/>
            <p:nvPr/>
          </p:nvPicPr>
          <p:blipFill>
            <a:blip r:embed="rId6"/>
            <a:stretch/>
          </p:blipFill>
          <p:spPr>
            <a:xfrm>
              <a:off x="-28440" y="1440"/>
              <a:ext cx="9172440" cy="68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3"/>
            <p:cNvSpPr/>
            <p:nvPr/>
          </p:nvSpPr>
          <p:spPr>
            <a:xfrm>
              <a:off x="1213560" y="344160"/>
              <a:ext cx="682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99"/>
                  </a:solidFill>
                  <a:latin typeface="Times New Roman"/>
                  <a:ea typeface="DFKai-SB"/>
                </a:rPr>
                <a:t>尼加拉瀑布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PMingLiU"/>
                </a:rPr>
                <a:t>， 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落差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59 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米</a:t>
              </a:r>
              <a:r>
                <a:rPr b="1" lang="en-US" sz="3600" spc="-1" strike="noStrike">
                  <a:solidFill>
                    <a:srgbClr val="3366ff"/>
                  </a:solidFill>
                  <a:latin typeface="Times New Roman"/>
                  <a:ea typeface="PMingLiU"/>
                </a:rPr>
                <a:t> 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PMingLiU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活动三、熟读古诗，完成背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88840" y="174312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诵、默写《望庐山瀑布》，看谁完成得最好！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4738122_093134344484_2[1]"/>
          <p:cNvPicPr/>
          <p:nvPr/>
        </p:nvPicPr>
        <p:blipFill>
          <a:blip r:embed="rId1"/>
          <a:srcRect l="13863" t="2996" r="4033" b="4886"/>
          <a:stretch/>
        </p:blipFill>
        <p:spPr>
          <a:xfrm>
            <a:off x="34920" y="44280"/>
            <a:ext cx="9067680" cy="68709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5508720" y="2349360"/>
            <a:ext cx="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732720" y="2349360"/>
            <a:ext cx="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5508720" y="3284640"/>
            <a:ext cx="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732720" y="3284640"/>
            <a:ext cx="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508720" y="4292640"/>
            <a:ext cx="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6804000" y="4221000"/>
            <a:ext cx="2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5508720" y="5157720"/>
            <a:ext cx="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732720" y="5157720"/>
            <a:ext cx="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1"/>
          <p:cNvSpPr/>
          <p:nvPr/>
        </p:nvSpPr>
        <p:spPr>
          <a:xfrm>
            <a:off x="8748720" y="6526080"/>
            <a:ext cx="395280" cy="28764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9673" h="21600">
                <a:moveTo>
                  <a:pt x="0" y="0"/>
                </a:moveTo>
                <a:lnTo>
                  <a:pt x="29673" y="0"/>
                </a:lnTo>
                <a:lnTo>
                  <a:pt x="29673" y="21600"/>
                </a:lnTo>
                <a:lnTo>
                  <a:pt x="0" y="21600"/>
                </a:lnTo>
                <a:close/>
              </a:path>
              <a:path fill="lightenLess" w="29673" h="21600">
                <a:moveTo>
                  <a:pt x="0" y="0"/>
                </a:moveTo>
                <a:lnTo>
                  <a:pt x="29673" y="0"/>
                </a:lnTo>
                <a:lnTo>
                  <a:pt x="28273" y="1400"/>
                </a:lnTo>
                <a:lnTo>
                  <a:pt x="1400" y="1400"/>
                </a:lnTo>
                <a:close/>
              </a:path>
              <a:path fill="darken" w="29673" h="21600">
                <a:moveTo>
                  <a:pt x="29673" y="0"/>
                </a:moveTo>
                <a:lnTo>
                  <a:pt x="29673" y="21600"/>
                </a:lnTo>
                <a:lnTo>
                  <a:pt x="28273" y="20200"/>
                </a:lnTo>
                <a:lnTo>
                  <a:pt x="28273" y="1400"/>
                </a:lnTo>
                <a:close/>
              </a:path>
              <a:path fill="darkenLess" w="29673" h="21600">
                <a:moveTo>
                  <a:pt x="29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3" y="20200"/>
                </a:lnTo>
                <a:close/>
              </a:path>
              <a:path fill="lighten" w="29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3" h="21600">
                <a:moveTo>
                  <a:pt x="7830" y="7301"/>
                </a:moveTo>
                <a:lnTo>
                  <a:pt x="8744" y="7301"/>
                </a:lnTo>
                <a:lnTo>
                  <a:pt x="9127" y="7667"/>
                </a:lnTo>
                <a:lnTo>
                  <a:pt x="18335" y="7667"/>
                </a:lnTo>
                <a:lnTo>
                  <a:pt x="18892" y="8224"/>
                </a:lnTo>
                <a:lnTo>
                  <a:pt x="18892" y="8772"/>
                </a:lnTo>
                <a:lnTo>
                  <a:pt x="20738" y="8772"/>
                </a:lnTo>
                <a:lnTo>
                  <a:pt x="21103" y="8224"/>
                </a:lnTo>
                <a:lnTo>
                  <a:pt x="21843" y="8224"/>
                </a:lnTo>
                <a:lnTo>
                  <a:pt x="21843" y="13376"/>
                </a:lnTo>
                <a:lnTo>
                  <a:pt x="21103" y="13376"/>
                </a:lnTo>
                <a:lnTo>
                  <a:pt x="20738" y="12828"/>
                </a:lnTo>
                <a:lnTo>
                  <a:pt x="18892" y="12828"/>
                </a:lnTo>
                <a:lnTo>
                  <a:pt x="18892" y="14107"/>
                </a:lnTo>
                <a:lnTo>
                  <a:pt x="9310" y="14107"/>
                </a:lnTo>
                <a:lnTo>
                  <a:pt x="9310" y="9877"/>
                </a:lnTo>
                <a:lnTo>
                  <a:pt x="9127" y="9877"/>
                </a:lnTo>
                <a:lnTo>
                  <a:pt x="8744" y="10243"/>
                </a:lnTo>
                <a:lnTo>
                  <a:pt x="7830" y="102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活动四、以读引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说说你还知道李白的哪些古诗，背给大家听一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5075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活动五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进行字词抄写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028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师指导书写，学生书空，打字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望庐山瀑布-12"/>
          <p:cNvPicPr/>
          <p:nvPr/>
        </p:nvPicPr>
        <p:blipFill>
          <a:blip r:embed="rId1"/>
          <a:stretch/>
        </p:blipFill>
        <p:spPr>
          <a:xfrm>
            <a:off x="0" y="0"/>
            <a:ext cx="9144000" cy="6729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田"/>
          <p:cNvPicPr/>
          <p:nvPr/>
        </p:nvPicPr>
        <p:blipFill>
          <a:blip r:embed="rId2"/>
          <a:stretch/>
        </p:blipFill>
        <p:spPr>
          <a:xfrm>
            <a:off x="611280" y="620640"/>
            <a:ext cx="5943600" cy="42674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2262600" y="62064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紫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724360" y="227664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</a:rPr>
              <a:t>（紫色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望庐山瀑布-12"/>
          <p:cNvPicPr/>
          <p:nvPr/>
        </p:nvPicPr>
        <p:blipFill>
          <a:blip r:embed="rId1"/>
          <a:stretch/>
        </p:blipFill>
        <p:spPr>
          <a:xfrm>
            <a:off x="0" y="0"/>
            <a:ext cx="9144000" cy="6729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田"/>
          <p:cNvPicPr/>
          <p:nvPr/>
        </p:nvPicPr>
        <p:blipFill>
          <a:blip r:embed="rId2"/>
          <a:stretch/>
        </p:blipFill>
        <p:spPr>
          <a:xfrm>
            <a:off x="611280" y="620640"/>
            <a:ext cx="5943600" cy="42674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2262600" y="62064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尺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724360" y="227664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</a:rPr>
              <a:t>（直尺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望庐山瀑布-12"/>
          <p:cNvPicPr/>
          <p:nvPr/>
        </p:nvPicPr>
        <p:blipFill>
          <a:blip r:embed="rId1"/>
          <a:stretch/>
        </p:blipFill>
        <p:spPr>
          <a:xfrm>
            <a:off x="0" y="0"/>
            <a:ext cx="9144000" cy="6729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田"/>
          <p:cNvPicPr/>
          <p:nvPr/>
        </p:nvPicPr>
        <p:blipFill>
          <a:blip r:embed="rId2"/>
          <a:stretch/>
        </p:blipFill>
        <p:spPr>
          <a:xfrm>
            <a:off x="611280" y="620640"/>
            <a:ext cx="5943600" cy="42674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2262600" y="62064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疑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5724360" y="227664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</a:rPr>
              <a:t>（怀疑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望庐山瀑布-12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田"/>
          <p:cNvPicPr/>
          <p:nvPr/>
        </p:nvPicPr>
        <p:blipFill>
          <a:blip r:embed="rId2"/>
          <a:stretch/>
        </p:blipFill>
        <p:spPr>
          <a:xfrm>
            <a:off x="1042920" y="620640"/>
            <a:ext cx="5943600" cy="42674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2622960" y="7650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绝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867280" y="2492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（绝对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8604360" y="63104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=3636492014,2833358467&amp;fm=3&amp;gp=0"/>
          <p:cNvPicPr/>
          <p:nvPr/>
        </p:nvPicPr>
        <p:blipFill>
          <a:blip r:embed="rId1"/>
          <a:stretch/>
        </p:blipFill>
        <p:spPr>
          <a:xfrm>
            <a:off x="0" y="44280"/>
            <a:ext cx="907416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61272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564000" y="2421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1403280" y="2781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4500720" y="28544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24000" y="141300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遥看瀑布挂前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925800" y="3573360"/>
            <a:ext cx="14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、远远看去瀑布就像（     ）挂在山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285840" y="399960"/>
            <a:ext cx="40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5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9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3"/>
          <p:cNvSpPr txBox="1"/>
          <p:nvPr/>
        </p:nvSpPr>
        <p:spPr>
          <a:xfrm>
            <a:off x="1260360" y="1197000"/>
            <a:ext cx="575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有感情的朗读古诗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8677440" y="652608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900000" y="278136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通过这首诗，可以使我们领会到诗人李白丰富的想象力，感受到诗人对大自然的热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u=3476121998,3954575251&amp;fm=15&amp;gp=0"/>
          <p:cNvPicPr/>
          <p:nvPr/>
        </p:nvPicPr>
        <p:blipFill>
          <a:blip r:embed="rId1"/>
          <a:stretch/>
        </p:blipFill>
        <p:spPr>
          <a:xfrm>
            <a:off x="0" y="0"/>
            <a:ext cx="9109080" cy="6913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5298480" y="836640"/>
            <a:ext cx="219132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望庐山瀑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916360" y="5589720"/>
            <a:ext cx="58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通辽市特殊教育学校聋部七年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教者韩艳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424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677"/>
          <p:cNvPicPr/>
          <p:nvPr/>
        </p:nvPicPr>
        <p:blipFill>
          <a:blip r:embed="rId3"/>
          <a:srcRect l="5875" t="0" r="23531" b="0"/>
          <a:stretch/>
        </p:blipFill>
        <p:spPr>
          <a:xfrm>
            <a:off x="34920" y="117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585"/>
          <p:cNvPicPr/>
          <p:nvPr/>
        </p:nvPicPr>
        <p:blipFill>
          <a:blip r:embed="rId4"/>
          <a:srcRect l="0" t="4999" r="1412" b="8334"/>
          <a:stretch/>
        </p:blipFill>
        <p:spPr>
          <a:xfrm>
            <a:off x="34920" y="1173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8"/>
          <p:cNvGrpSpPr/>
          <p:nvPr/>
        </p:nvGrpSpPr>
        <p:grpSpPr>
          <a:xfrm>
            <a:off x="34920" y="44280"/>
            <a:ext cx="9143640" cy="6858000"/>
            <a:chOff x="34920" y="44280"/>
            <a:chExt cx="9143640" cy="6858000"/>
          </a:xfrm>
        </p:grpSpPr>
        <p:pic>
          <p:nvPicPr>
            <p:cNvPr id="77" name="Picture 9" descr="3285(1)"/>
            <p:cNvPicPr/>
            <p:nvPr/>
          </p:nvPicPr>
          <p:blipFill>
            <a:blip r:embed="rId5"/>
            <a:srcRect l="2588" t="1663" r="1412" b="4999"/>
            <a:stretch/>
          </p:blipFill>
          <p:spPr>
            <a:xfrm>
              <a:off x="34920" y="4428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0" descr="ANI_048"/>
            <p:cNvPicPr/>
            <p:nvPr/>
          </p:nvPicPr>
          <p:blipFill>
            <a:blip r:embed="rId6"/>
            <a:stretch/>
          </p:blipFill>
          <p:spPr>
            <a:xfrm>
              <a:off x="7502400" y="6064200"/>
              <a:ext cx="106596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u=2593210106,3477615050&amp;fm=15&amp;gp=0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348000" y="47628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望庐山瀑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484360" y="1700280"/>
            <a:ext cx="4033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照香炉生紫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420080" y="30700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遥看瀑布挂前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336120" y="3860640"/>
            <a:ext cx="264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飞流直下三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420080" y="4724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疑是银河落九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图片1"/>
          <p:cNvPicPr/>
          <p:nvPr/>
        </p:nvPicPr>
        <p:blipFill>
          <a:blip r:embed="rId2"/>
          <a:stretch/>
        </p:blipFill>
        <p:spPr>
          <a:xfrm>
            <a:off x="7191360" y="3141720"/>
            <a:ext cx="1952640" cy="3527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6300720" y="1052640"/>
            <a:ext cx="26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唐   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681120" y="1628640"/>
            <a:ext cx="10335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李白，字太白，号青莲居士，唐朝诗人，有“诗仙”之称，最伟大的浪漫主义诗人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542 0.375 L 0 0 E">
                                      <p:cBhvr>
                                        <p:cTn id="181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014 0.18634 L 0.06302 0.03935 E">
                                      <p:cBhvr>
                                        <p:cTn id="19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767 -0.01505 L 0.06475 0.02685 E">
                                      <p:cBhvr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91 -0.11412 L 0.06198 0.01181 E">
                                      <p:cBhvr>
                                        <p:cTn id="20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37986 -0.20417 L 0.07274 0.00579 E">
                                      <p:cBhvr>
                                        <p:cTn id="21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二、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69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认识生字、词语、理解古诗《望庐山瀑布》的内容，完成背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通过反复诵读感悟，理解古诗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受到美的熏陶，培养热爱大自然的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三、课堂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67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组活动轮流主持、轮流发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会倾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讨论交流控制音量、把握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发言人声音响亮、有表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四、开始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6765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一：自学生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二：读古诗，理解诗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三：熟读古诗，完成背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四：以读引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五：进行字词抄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活动一、自学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698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学生字（个人、结对看书互读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检测效果（抽读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齐读（领读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读准多音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395280" y="69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l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í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       h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á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ng     l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宋体"/>
              </a:rPr>
              <a:t>鹂    行   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程瑜</cp:lastModifiedBy>
  <dcterms:modified xsi:type="dcterms:W3CDTF">2016-01-06T01:19:58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