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8E3B-E594-458D-9FDF-538440D2D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F2EC-64F0-4E04-A086-D46FA4E38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4CC6-BD95-4D4A-9495-939CDE4B4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5780-7A4D-4784-A490-A23E836BF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9B7B-807A-4942-9F37-BADE6C50E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2A37-9BBD-4A85-80D7-9509B5944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BC99-FFD9-48B9-A8F0-4F7B43B46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DBE9-99DC-41B5-8D10-4525B5598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8FDC-664C-440A-85D5-938CA3ECD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34AE-4B37-45C4-BC36-E6CD52015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6832-D786-47A4-9BF8-120B00839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4E0D-BF03-4CBD-9BE2-8657AB4D1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ED5A3-04EE-424A-9420-3A33FC76347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slide" Target="slide11.xml"/><Relationship Id="rId6" Type="http://schemas.openxmlformats.org/officeDocument/2006/relationships/slide" Target="slide12.xml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7200" spc="-1" strike="noStrike">
                <a:solidFill>
                  <a:srgbClr val="0000ff"/>
                </a:solidFill>
                <a:latin typeface="Arial"/>
              </a:rPr>
              <a:t>刮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343400" y="685800"/>
            <a:ext cx="2590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刮胡子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752480" y="2133720"/>
            <a:ext cx="583272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 ▲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小贝当才读二年级，报上许多字他还不认识，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但是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他读得很认真，把报纸翻得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哗哗响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6172200"/>
            <a:ext cx="1143000" cy="60948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0497" h="21600">
                <a:moveTo>
                  <a:pt x="0" y="0"/>
                </a:moveTo>
                <a:lnTo>
                  <a:pt x="40497" y="0"/>
                </a:lnTo>
                <a:lnTo>
                  <a:pt x="40497" y="21600"/>
                </a:lnTo>
                <a:lnTo>
                  <a:pt x="0" y="21600"/>
                </a:lnTo>
                <a:close/>
              </a:path>
              <a:path fill="lightenLess" w="40497" h="21600">
                <a:moveTo>
                  <a:pt x="0" y="0"/>
                </a:moveTo>
                <a:lnTo>
                  <a:pt x="40497" y="0"/>
                </a:lnTo>
                <a:lnTo>
                  <a:pt x="39097" y="1400"/>
                </a:lnTo>
                <a:lnTo>
                  <a:pt x="1400" y="1400"/>
                </a:lnTo>
                <a:close/>
              </a:path>
              <a:path fill="darken" w="40497" h="21600">
                <a:moveTo>
                  <a:pt x="40497" y="0"/>
                </a:moveTo>
                <a:lnTo>
                  <a:pt x="40497" y="21600"/>
                </a:lnTo>
                <a:lnTo>
                  <a:pt x="39097" y="20200"/>
                </a:lnTo>
                <a:lnTo>
                  <a:pt x="39097" y="1400"/>
                </a:lnTo>
                <a:close/>
              </a:path>
              <a:path fill="darkenLess" w="40497" h="21600">
                <a:moveTo>
                  <a:pt x="40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97" y="20200"/>
                </a:lnTo>
                <a:close/>
              </a:path>
              <a:path fill="lighten" w="40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97" h="21600">
                <a:moveTo>
                  <a:pt x="13242" y="3794"/>
                </a:moveTo>
                <a:lnTo>
                  <a:pt x="27255" y="10800"/>
                </a:lnTo>
                <a:lnTo>
                  <a:pt x="13242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▲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理好头发，小贝当又让理发师给他刮脸。他指指边上那位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脸腮光净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容光焕发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的先生说：“我要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像他一样。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590920" y="3124080"/>
            <a:ext cx="30456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590920" y="3886200"/>
            <a:ext cx="304560" cy="762120"/>
          </a:xfrm>
          <a:prstGeom prst="line">
            <a:avLst/>
          </a:prstGeom>
          <a:ln w="3816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▲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小贝当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大声喊道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：”理发员，你怎么还不放下报纸，让我等到什么时候才刮脸哪？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539640" y="285228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琥珀"/>
                <a:ea typeface="华文琥珀"/>
              </a:rPr>
              <a:t>从理发师的言行中，我们又可以看出他是一个怎样的人呢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167680" cy="18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marL="212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▲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老板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笑眯眯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地说：“哟，是我们的小贝当啊，请坐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▲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老板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递上报纸，改口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道：“请贝当先生看报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▲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理发师把椅子放平，让小贝当仰面躺下，自己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坐到一边看报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去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▲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那位理发师正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悠闲自得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地看着报纸，店里其他客人都一个接一个走了，只剩下小贝当一个人，傻乎乎地躺在椅子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▲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理发师说：“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等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你长出胡子来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534520" y="61722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3794"/>
                </a:moveTo>
                <a:lnTo>
                  <a:pt x="19599" y="10800"/>
                </a:lnTo>
                <a:lnTo>
                  <a:pt x="5586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那位理发师正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悠闲自得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地看着报纸，店里其他客人都一个接一个走了，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只剩下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小贝当一个人，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傻乎乎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地躺在椅子上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4495320" y="1600200"/>
            <a:ext cx="304920" cy="762120"/>
          </a:xfrm>
          <a:prstGeom prst="line">
            <a:avLst/>
          </a:prstGeom>
          <a:ln w="3816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48520" y="2362320"/>
            <a:ext cx="304560" cy="761760"/>
          </a:xfrm>
          <a:prstGeom prst="line">
            <a:avLst/>
          </a:prstGeom>
          <a:ln w="3816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791320" y="3048120"/>
            <a:ext cx="304560" cy="761760"/>
          </a:xfrm>
          <a:prstGeom prst="line">
            <a:avLst/>
          </a:prstGeom>
          <a:ln w="3816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4648320" y="3657600"/>
            <a:ext cx="304560" cy="762120"/>
          </a:xfrm>
          <a:prstGeom prst="line">
            <a:avLst/>
          </a:prstGeom>
          <a:ln w="3816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" action="ppaction://hlinkshowjump?jump=previousslide"/>
          </p:cNvPr>
          <p:cNvSpPr/>
          <p:nvPr/>
        </p:nvSpPr>
        <p:spPr>
          <a:xfrm>
            <a:off x="8153280" y="6477120"/>
            <a:ext cx="533520" cy="30456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7819" h="21600">
                <a:moveTo>
                  <a:pt x="0" y="0"/>
                </a:moveTo>
                <a:lnTo>
                  <a:pt x="37819" y="0"/>
                </a:lnTo>
                <a:lnTo>
                  <a:pt x="37819" y="21600"/>
                </a:lnTo>
                <a:lnTo>
                  <a:pt x="0" y="21600"/>
                </a:lnTo>
                <a:close/>
              </a:path>
              <a:path fill="lightenLess" w="37819" h="21600">
                <a:moveTo>
                  <a:pt x="0" y="0"/>
                </a:moveTo>
                <a:lnTo>
                  <a:pt x="37819" y="0"/>
                </a:lnTo>
                <a:lnTo>
                  <a:pt x="36419" y="1400"/>
                </a:lnTo>
                <a:lnTo>
                  <a:pt x="1400" y="1400"/>
                </a:lnTo>
                <a:close/>
              </a:path>
              <a:path fill="darken" w="37819" h="21600">
                <a:moveTo>
                  <a:pt x="37819" y="0"/>
                </a:moveTo>
                <a:lnTo>
                  <a:pt x="37819" y="21600"/>
                </a:lnTo>
                <a:lnTo>
                  <a:pt x="36419" y="20200"/>
                </a:lnTo>
                <a:lnTo>
                  <a:pt x="36419" y="1400"/>
                </a:lnTo>
                <a:close/>
              </a:path>
              <a:path fill="darkenLess" w="37819" h="21600">
                <a:moveTo>
                  <a:pt x="378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19" y="20200"/>
                </a:lnTo>
                <a:close/>
              </a:path>
              <a:path fill="lighten" w="378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19" h="21600">
                <a:moveTo>
                  <a:pt x="11903" y="10800"/>
                </a:moveTo>
                <a:lnTo>
                  <a:pt x="25916" y="3794"/>
                </a:lnTo>
                <a:lnTo>
                  <a:pt x="25916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小贝当：天真可爱、渴望长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理发师：风趣幽默、充满爱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拓展练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听了理发师的话，小贝当会有什么表现？小组合作，续编故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79280" y="1773360"/>
            <a:ext cx="874872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火眼金睛找错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剃刀        境子        讨论        容光换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环镜        车轮        传剃        调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286000" y="3951360"/>
            <a:ext cx="685800" cy="0"/>
          </a:xfrm>
          <a:prstGeom prst="line">
            <a:avLst/>
          </a:prstGeom>
          <a:ln w="284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380360" y="3933720"/>
            <a:ext cx="533160" cy="0"/>
          </a:xfrm>
          <a:prstGeom prst="line">
            <a:avLst/>
          </a:prstGeom>
          <a:ln w="284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55640" y="4869000"/>
            <a:ext cx="533520" cy="0"/>
          </a:xfrm>
          <a:prstGeom prst="line">
            <a:avLst/>
          </a:prstGeom>
          <a:ln w="284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876920" y="4865760"/>
            <a:ext cx="533160" cy="0"/>
          </a:xfrm>
          <a:prstGeom prst="line">
            <a:avLst/>
          </a:prstGeom>
          <a:ln w="284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328464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cc00"/>
                </a:solidFill>
                <a:latin typeface="Times New Roman"/>
              </a:rPr>
              <a:t>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458200" y="3213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cc00"/>
                </a:solidFill>
                <a:latin typeface="Arial Black"/>
              </a:rPr>
              <a:t>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258920" y="41497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cc00"/>
                </a:solidFill>
                <a:latin typeface="Times New Roman"/>
              </a:rPr>
              <a:t>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35640" y="414972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cc00"/>
                </a:solidFill>
                <a:latin typeface="Arial Black"/>
              </a:rPr>
              <a:t>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大摇大摆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    理发店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嚷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   剃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笑眯眯    眼镜    鼻梁     报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椅子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脸腮光净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    动静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理发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容光焕发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    刮脸    客人     傻乎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胡子    剩下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悠闲自得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     哗哗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-303120" y="0"/>
            <a:ext cx="944712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143000" y="2209680"/>
            <a:ext cx="6781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脸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腮（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sāi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）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光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19320" y="3429000"/>
            <a:ext cx="6781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容光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焕（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huàn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）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课堂练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用“但是”造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雨下得很大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但是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         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                     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但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公园里的游客很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                  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但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    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410080" y="23623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371600" y="29718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35812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10080" y="35812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153280" y="617220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8600" y="1523880"/>
            <a:ext cx="828036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隶书"/>
              </a:rPr>
              <a:t>想象说话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听了老板的话，小贝当扶了扶鼻梁上的眼镜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__________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地想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___________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_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534520" y="6019920"/>
            <a:ext cx="533160" cy="60948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90">
                <a:moveTo>
                  <a:pt x="0" y="0"/>
                </a:moveTo>
                <a:lnTo>
                  <a:pt x="21600" y="0"/>
                </a:lnTo>
                <a:lnTo>
                  <a:pt x="21600" y="24690"/>
                </a:lnTo>
                <a:lnTo>
                  <a:pt x="0" y="24690"/>
                </a:lnTo>
                <a:close/>
              </a:path>
              <a:path fill="lightenLess" w="21600" h="24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0">
                <a:moveTo>
                  <a:pt x="21600" y="0"/>
                </a:moveTo>
                <a:lnTo>
                  <a:pt x="21600" y="24690"/>
                </a:lnTo>
                <a:lnTo>
                  <a:pt x="20200" y="23290"/>
                </a:lnTo>
                <a:lnTo>
                  <a:pt x="20200" y="1400"/>
                </a:lnTo>
                <a:close/>
              </a:path>
              <a:path fill="darkenLess" w="21600" h="24690">
                <a:moveTo>
                  <a:pt x="21600" y="24690"/>
                </a:moveTo>
                <a:lnTo>
                  <a:pt x="0" y="24690"/>
                </a:lnTo>
                <a:lnTo>
                  <a:pt x="1400" y="23290"/>
                </a:lnTo>
                <a:lnTo>
                  <a:pt x="20200" y="23290"/>
                </a:lnTo>
                <a:close/>
              </a:path>
              <a:path fill="lighten" w="21600" h="24690">
                <a:moveTo>
                  <a:pt x="0" y="24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0"/>
                </a:lnTo>
                <a:close/>
              </a:path>
              <a:path fill="darken" w="21600" h="24690">
                <a:moveTo>
                  <a:pt x="3794" y="12345"/>
                </a:moveTo>
                <a:lnTo>
                  <a:pt x="17806" y="5338"/>
                </a:lnTo>
                <a:lnTo>
                  <a:pt x="17806" y="19351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7200" spc="-1" strike="noStrike">
                <a:solidFill>
                  <a:srgbClr val="0000ff"/>
                </a:solidFill>
                <a:latin typeface="Arial"/>
              </a:rPr>
              <a:t>、刮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-74520" y="0"/>
            <a:ext cx="93106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85800" y="990720"/>
            <a:ext cx="4033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黑体"/>
              </a:rPr>
              <a:t>自学要求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6840" y="2209680"/>
            <a:ext cx="807876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、轻声读课文，做到：读准字音，不加字，不漏字，不读破句，读得自然、流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、想一想：课文主要讲了件什么有趣的事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   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小贝当来到（         ），先请理发师给他（           ）。再让理发师给他（           ）。理发师自顾自（           ），因为他要“等”小贝当（        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72388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75960" y="83808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读了课文，你觉得小贝当是个怎样的人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默读课文，找一找描写小贝当的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语言、神态、动作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的语句，用“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”划出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联系上下文体会这些句子突出人物的什么特点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22960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▲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小贝当大摇大摆地走进理发店。他嚷道：“我要剃头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楷体"/>
                <a:ea typeface="楷体"/>
                <a:hlinkClick r:id="rId3" action="ppaction://hlinksldjump"/>
              </a:rPr>
              <a:t>▲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小贝当扶了扶鼻梁上的眼镜，对老板说：“我是大人了，你该叫我贝当先生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楷体"/>
                <a:ea typeface="楷体"/>
                <a:hlinkClick r:id="rId4" action="ppaction://hlinksldjump"/>
              </a:rPr>
              <a:t>▲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小贝当才读二年级，报上许多字他还不认识，但是他读得很认真，把报纸翻得哗哗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楷体"/>
                <a:ea typeface="楷体"/>
                <a:hlinkClick r:id="rId5" action="ppaction://hlinksldjump"/>
              </a:rPr>
              <a:t>▲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理好头发，小贝当又让理发师给他刮脸。他指指边上那位脸腮光净、容光焕发的先生说：“我要像他一样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楷体"/>
                <a:ea typeface="楷体"/>
                <a:hlinkClick r:id="rId6" action="ppaction://hlinksldjump"/>
              </a:rPr>
              <a:t>▲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小贝当大声喊道：“理发员，你怎么还不放下报纸，让我等到什么时候才刮脸呀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534520" y="65530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3806"/>
                </a:moveTo>
                <a:lnTo>
                  <a:pt x="17806" y="10813"/>
                </a:lnTo>
                <a:lnTo>
                  <a:pt x="3794" y="1781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▲　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小贝当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大摇大摆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地走进理发店。他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嚷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道：“我要剃头！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▲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小贝当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扶了扶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鼻梁上的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眼镜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，对老板说：“我是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大人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了，你该叫我贝当先生。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001000" y="6248520"/>
            <a:ext cx="1066680" cy="533160"/>
          </a:xfrm>
          <a:custGeom>
            <a:avLst/>
            <a:gdLst>
              <a:gd name="textAreaLeft" fmla="*/ 34560 w 1066680"/>
              <a:gd name="textAreaRight" fmla="*/ 1032120 w 10666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> </dc:description>
  <dc:language>en-US</dc:language>
  <cp:lastModifiedBy>User</cp:lastModifiedBy>
  <dcterms:modified xsi:type="dcterms:W3CDTF">2015-08-07T02:13:00Z</dcterms:modified>
  <cp:revision>0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