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05D-799B-4C13-B98A-26EBD0C3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C7D7-3CC9-447C-B103-4CC4597E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1D4-EB2D-45F1-8EDB-D2EC56434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A00-452D-4EEE-9DA9-EDA6A944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84BD-B65A-4FF8-9DF2-E1058E57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4E7-9640-4E0A-B612-78B4B9D1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62D-2555-4817-A220-9291DEB1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E9A-7671-4BE3-A359-12AE1CB7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951F-1724-49CD-BEB3-D87EE21A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7D0-E2EF-4F0B-99AA-690F0F0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84C0-56B6-405D-BA95-82C95116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FD3-361C-41A2-895E-5855D7F7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387C-42EA-4B08-AD39-DA64432F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1701720"/>
            <a:ext cx="4175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2"/>
          <p:cNvSpPr/>
          <p:nvPr/>
        </p:nvSpPr>
        <p:spPr>
          <a:xfrm>
            <a:off x="324000" y="3645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卧虎藏龙、龙生九子、叶公好龙、龙马精神、龙争虎斗、龙凤呈祥、飞龙在天、龙飞凤舞、龙潭虎穴、车水马龙、望子成龙、鲤鱼跳龙门、鱼跃龙门、龙腾虎跃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14080" y="1890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画龙点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116000" y="692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讨论，指导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４）读这则故事时节要读出什么样的语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549160" y="2564640"/>
            <a:ext cx="52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读出人们由奇怪到怀疑最后惊叹的语气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514080" y="1890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画龙点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116000" y="10825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讨论，指导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５）游客们看到画上眼睛的真的腾空而去，会说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2997360"/>
            <a:ext cx="9109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霎时间，只见乌云密布，电闪雷鸣，两条被点上眼睛的龙腾空飞去。游客们惊叹不已，有的说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；有的说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还有的说：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黑体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。他们无不佩服张僧繇神奇的点睛之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360" y="18864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此有了画龙点睛的成语。现在的生活中也常用到它，你想知道人们用它表达什么意思吗？请你先来读几个句子就知道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句子比较有什么不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里很美，赛过天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里山清水秀，鸟语花香，美丽的赛过天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95280" y="4941720"/>
            <a:ext cx="8207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（“山清水秀”“鸟语花香”使句子意思表达的更具体，起到了画龙点睛的作用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77708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画龙点睛：比喻作文或说话时在关键地方加上精辟语句，使内容更加生动传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2852640"/>
            <a:ext cx="792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9640" y="342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睛”在现实中的运用（包装，好的产品加上好的包装，就是“画龙点睛”的作用；劣质产品加上好的包装，就是“滥竽充数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8218164056524_2"/>
          <p:cNvPicPr/>
          <p:nvPr/>
        </p:nvPicPr>
        <p:blipFill>
          <a:blip r:embed="rId1">
            <a:grayscl/>
            <a:lum contrast="12000"/>
          </a:blip>
          <a:srcRect l="626" t="0" r="0" b="4816"/>
          <a:stretch/>
        </p:blipFill>
        <p:spPr>
          <a:xfrm>
            <a:off x="36360" y="0"/>
            <a:ext cx="9087120" cy="6527880"/>
          </a:xfrm>
          <a:prstGeom prst="rect">
            <a:avLst/>
          </a:prstGeom>
          <a:ln w="0">
            <a:noFill/>
          </a:ln>
        </p:spPr>
      </p:pic>
      <p:sp>
        <p:nvSpPr>
          <p:cNvPr id="89" name="Oval 3"/>
          <p:cNvSpPr/>
          <p:nvPr/>
        </p:nvSpPr>
        <p:spPr>
          <a:xfrm>
            <a:off x="6948360" y="3068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7020000" y="2852640"/>
            <a:ext cx="21600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成语填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我给布娃娃戴了个蝴蝶结，顿时她就可爱了许多，我的做法真可谓（     ）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老师说我这篇作文结尾很好，起到了（  ）的作用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他在演讲时常会引用小故事，真有（  ）的效果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没有你（    ）的一笔，这幅画还真没什么看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980640"/>
            <a:ext cx="273528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趣味成语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重要的一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龙点睛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贵重的东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价值连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近的距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近在咫尺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激烈的竞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龙争虎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多的罪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罄竹难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高超的医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妙手回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短的见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鼠目寸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紧急的情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万火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快的阅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目十行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深刻的见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木三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快的速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驰电掣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诚恳的道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负荆请罪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大的决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破釜沉舟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吝啬的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毛不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堂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2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抄写词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腾空   墙壁  神韵  逼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牙舞爪  惊叹不已  画龙点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龙点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思是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龙点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寓意是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1052640"/>
            <a:ext cx="83692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三、把正确的答案序号写在括号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江河水满溢、泛滥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过度、没有限制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不符合、不切实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乱砍滥伐（） 滥竽充数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泛滥成灾（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3080" y="765000"/>
            <a:ext cx="779292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、按要求把成语归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2276640"/>
            <a:ext cx="777240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后羿射日、守株待兔、望梅止渴、狐假虎威、精卫填海、完璧归赵、负荆请罪、女娲造人、滥竽充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来自神话故事的成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来自寓言故事的成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来自历史故事的成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4348546_195732266118_2"/>
          <p:cNvPicPr/>
          <p:nvPr/>
        </p:nvPicPr>
        <p:blipFill>
          <a:blip r:embed="rId1"/>
          <a:srcRect l="1248" t="0" r="0" b="5703"/>
          <a:stretch/>
        </p:blipFill>
        <p:spPr>
          <a:xfrm>
            <a:off x="36360" y="189000"/>
            <a:ext cx="9029880" cy="64659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68360" y="475920"/>
            <a:ext cx="53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画龙点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0" descr="1"/>
          <p:cNvPicPr/>
          <p:nvPr/>
        </p:nvPicPr>
        <p:blipFill>
          <a:blip r:embed="rId1"/>
          <a:stretch/>
        </p:blipFill>
        <p:spPr>
          <a:xfrm>
            <a:off x="1619280" y="907920"/>
            <a:ext cx="587844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549360"/>
            <a:ext cx="7361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720" y="1990800"/>
            <a:ext cx="856944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僧繇   墙壁  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牙舞爪  </a:t>
            </a: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逼真    神韵    惋惜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唬人     惊叹不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066680" y="1677960"/>
            <a:ext cx="6782040" cy="745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32720" y="220500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zypyyb"/>
                <a:ea typeface="zypyyb"/>
              </a:rPr>
              <a:t>zhǎ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1219320" y="279396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3"/>
          <p:cNvSpPr txBox="1"/>
          <p:nvPr/>
        </p:nvSpPr>
        <p:spPr>
          <a:xfrm>
            <a:off x="468360" y="40464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多音字</a:t>
            </a:r>
            <a:endParaRPr b="1" lang="en-US" sz="1800" spc="-1" strike="noStrike">
              <a:ln w="9360">
                <a:solidFill>
                  <a:srgbClr val="009999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2443320" y="3025800"/>
            <a:ext cx="1152360" cy="1079640"/>
            <a:chOff x="2443320" y="3025800"/>
            <a:chExt cx="1152360" cy="1079640"/>
          </a:xfrm>
        </p:grpSpPr>
        <p:sp>
          <p:nvSpPr>
            <p:cNvPr id="55" name="Line 5"/>
            <p:cNvSpPr/>
            <p:nvPr/>
          </p:nvSpPr>
          <p:spPr>
            <a:xfrm flipV="1">
              <a:off x="2443320" y="3025800"/>
              <a:ext cx="1079640" cy="5032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6"/>
            <p:cNvSpPr/>
            <p:nvPr/>
          </p:nvSpPr>
          <p:spPr>
            <a:xfrm>
              <a:off x="2443320" y="3530520"/>
              <a:ext cx="1152360" cy="574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7"/>
          <p:cNvSpPr/>
          <p:nvPr/>
        </p:nvSpPr>
        <p:spPr>
          <a:xfrm>
            <a:off x="5003640" y="2492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龙爪、爪牙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076720" y="3716280"/>
            <a:ext cx="38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爪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666960" y="37512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zhu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635280" y="2637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zhǎ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116000" y="981000"/>
            <a:ext cx="802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学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龙点睛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请大家默读课文，边读边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１）张僧繇画的龙为什么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２）后来为什么又给龙画上眼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３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睛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结果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14080" y="1890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画龙点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514080" y="1890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画龙点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16000" y="69228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讨论，指导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１）点睛前的龙是什么样的？所以人们觉得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332000" y="270828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张牙舞爪，形象逼真，但缺少神韵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578240" y="3860640"/>
            <a:ext cx="256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人们觉得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惋惜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14080" y="1890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画龙点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116000" y="692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讨论，指导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２）张僧繇为什么不给龙点睛？后来为什么又给龙画上眼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359080" y="2491560"/>
            <a:ext cx="354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画上眼睛，龙就会飞走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152520" y="41122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应游客的一再要求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)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514080" y="18900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画龙点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116000" y="69228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论，指导朗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３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结果怎样？此刻人们的态度又怎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2551680" y="263592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睛后天气突变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，龙腾空飞去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415040" y="3645000"/>
            <a:ext cx="18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叹不已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2"/>
          <p:cNvSpPr/>
          <p:nvPr/>
        </p:nvSpPr>
        <p:spPr>
          <a:xfrm>
            <a:off x="1116000" y="47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已：停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9"/>
          <p:cNvSpPr/>
          <p:nvPr/>
        </p:nvSpPr>
        <p:spPr>
          <a:xfrm>
            <a:off x="4211640" y="479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不绝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9:16:00Z</dcterms:created>
  <dc:creator>Administrator</dc:creator>
  <dc:description/>
  <dc:language>en-US</dc:language>
  <cp:lastModifiedBy/>
  <dcterms:modified xsi:type="dcterms:W3CDTF">2016-04-19T09:16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