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0B1-4A28-4BA7-BF22-B4EBD5C5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EE4-3B82-43BC-B579-4B24D9CB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645-ACB2-465C-8555-8434014A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211-296F-4A00-8BBE-9B7BAFB7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DA01-7EE1-439E-B74A-27D02931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8B69-A261-48E7-BBE2-FACBB606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8875-2652-431A-AA65-2C6D8E9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5361-BCF0-45B8-9AFF-856346D0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B6F6-E9E1-44ED-B530-1DBCF076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6BEA-AAB5-470A-9F34-34E86EB4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3F22-97EB-4680-B462-DFE4C24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E87-9125-44D1-BF4A-DEE0BE73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BACC-4144-455C-B558-7DF712E6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A33-08E7-4B1E-A005-38CC9FC1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0759-936D-42AA-99EE-6FBC4F9A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C8F2-6BAB-412A-947F-98ADD534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54F6-5281-4F86-BE96-65780C4E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ABEC-6A41-4E1E-9537-D3F7748E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2AF9-02F0-4464-96FE-63545E85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8BE6D-1B0E-4C42-A63B-AC415B2B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9CAE-F71D-4958-905F-623FD671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E97E-803D-406A-947D-4EFB866A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C23-D9DE-4007-93CC-90D58009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1394-66F6-4FCE-BD41-73C00A32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EFBB-ED5A-44C2-A2E9-8909F9D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6EB7-1C87-46A6-A1D6-ECAE7D92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791A-375D-4615-AF36-9C419C8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8A699-AFE7-462E-9E33-68DE5C9E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BF8D-B5BD-44DC-B4DA-36CC9076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6D8F-1FE1-4C59-ABED-45CE5EFD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AEE-FA32-4360-A85C-F91D310F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140-B484-41C7-9D0F-44144EB3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5DC-18F6-4FB8-B995-48FB5AD0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4C7-54A3-4EE3-89BC-3B9D6CB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FA1-8F85-4FD2-BA74-663BEC46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BE6-7470-4190-B6FA-B65C084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73C4-0BDA-4BA2-AA6E-D53955262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42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44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0D01-60E4-4C85-B23C-94113F39488E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91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00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B38-B41C-4FC1-AACC-16A631BEBF96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8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../&#30446;&#24405;.ppt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03280" y="162864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</a:rPr>
              <a:t>灰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-533880"/>
            <a:ext cx="9296280" cy="81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微软雅黑"/>
              </a:rPr>
              <a:t>第三段：</a:t>
            </a:r>
            <a:r>
              <a:rPr b="1" lang="zh-CN" sz="3600" spc="-1" strike="noStrike">
                <a:solidFill>
                  <a:srgbClr val="1a0272"/>
                </a:solidFill>
                <a:latin typeface="微软雅黑"/>
              </a:rPr>
              <a:t>这时，列宁看见一个小男孩，就问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</a:rPr>
              <a:t>：“孩子，你看见过一只深红色胸脯的灰雀吗？”</a:t>
            </a:r>
            <a:br>
              <a:rPr sz="3600"/>
            </a:br>
            <a:r>
              <a:rPr b="1" lang="zh-CN" sz="3200" spc="-1" strike="noStrike">
                <a:solidFill>
                  <a:srgbClr val="3d3f41"/>
                </a:solidFill>
                <a:latin typeface="微软雅黑"/>
              </a:rPr>
              <a:t>第五段：</a:t>
            </a:r>
            <a:r>
              <a:rPr b="1" lang="zh-CN" sz="3600" spc="-1" strike="noStrike">
                <a:solidFill>
                  <a:srgbClr val="1a0272"/>
                </a:solidFill>
                <a:latin typeface="微软雅黑"/>
              </a:rPr>
              <a:t>列宁说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</a:rPr>
              <a:t>：“那一定是飞走了或者是冻死了。天气严寒，它怕冷。”</a:t>
            </a:r>
            <a:br>
              <a:rPr sz="3600"/>
            </a:br>
            <a:r>
              <a:rPr b="1" lang="zh-CN" sz="3200" spc="-1" strike="noStrike">
                <a:solidFill>
                  <a:srgbClr val="3d3f41"/>
                </a:solidFill>
                <a:latin typeface="微软雅黑"/>
              </a:rPr>
              <a:t>第七段：</a:t>
            </a:r>
            <a:r>
              <a:rPr b="1" lang="zh-CN" sz="3600" spc="-1" strike="noStrike">
                <a:solidFill>
                  <a:srgbClr val="1a0272"/>
                </a:solidFill>
                <a:latin typeface="微软雅黑"/>
              </a:rPr>
              <a:t>列宁自言自语地说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</a:rPr>
              <a:t>：“多好的灰雀呀，可惜再也不会飞回来了。”</a:t>
            </a:r>
            <a:br>
              <a:rPr sz="3600"/>
            </a:br>
            <a:r>
              <a:rPr b="1" lang="zh-CN" sz="3200" spc="-1" strike="noStrike">
                <a:solidFill>
                  <a:srgbClr val="3d3f41"/>
                </a:solidFill>
                <a:latin typeface="微软雅黑"/>
              </a:rPr>
              <a:t>第九段：</a:t>
            </a:r>
            <a:r>
              <a:rPr b="1" lang="zh-CN" sz="3600" spc="-1" strike="noStrike">
                <a:solidFill>
                  <a:srgbClr val="1a0272"/>
                </a:solidFill>
                <a:latin typeface="微软雅黑"/>
              </a:rPr>
              <a:t>列宁问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</a:rPr>
              <a:t>：“会飞回来？”</a:t>
            </a:r>
            <a:br>
              <a:rPr sz="3600"/>
            </a:b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幼圆"/>
              </a:rPr>
              <a:t>   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列宁的着急、担心、惋惜、关心集中表达了列宁对灰雀的一种情感。用一个词来概括，是什么？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8" name=""/>
          <p:cNvSpPr/>
          <p:nvPr/>
        </p:nvSpPr>
        <p:spPr>
          <a:xfrm>
            <a:off x="3844440" y="4075920"/>
            <a:ext cx="9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喜爱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10920" y="620280"/>
            <a:ext cx="6994800" cy="1143360"/>
          </a:xfrm>
          <a:prstGeom prst="rect">
            <a:avLst/>
          </a:pr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41360" y="2084040"/>
            <a:ext cx="6866280" cy="25243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  <a:ea typeface="华文楷体"/>
              </a:rPr>
              <a:t>第四段： </a:t>
            </a:r>
            <a:r>
              <a:rPr b="1" lang="zh-CN" sz="3600" spc="-1" strike="noStrike">
                <a:solidFill>
                  <a:srgbClr val="1f0260"/>
                </a:solidFill>
                <a:latin typeface="幼圆"/>
                <a:ea typeface="华文楷体"/>
              </a:rPr>
              <a:t>男孩说</a:t>
            </a:r>
            <a:r>
              <a:rPr b="1" lang="zh-CN" sz="3600" spc="-1" strike="noStrike">
                <a:solidFill>
                  <a:srgbClr val="cc0000"/>
                </a:solidFill>
                <a:latin typeface="幼圆"/>
                <a:ea typeface="华文楷体"/>
              </a:rPr>
              <a:t>：“没……我没看见。”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幼圆"/>
                <a:ea typeface="华文楷体"/>
              </a:rPr>
              <a:t>第六段：</a:t>
            </a:r>
            <a:r>
              <a:rPr b="1" lang="zh-CN" sz="3600" spc="-1" strike="noStrike">
                <a:solidFill>
                  <a:srgbClr val="1f0260"/>
                </a:solidFill>
                <a:latin typeface="幼圆"/>
                <a:ea typeface="华文楷体"/>
              </a:rPr>
              <a:t>那个男孩本来想告诉列宁灰雀没有死，但又不敢讲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  <a:ea typeface="华文楷体"/>
              </a:rPr>
              <a:t>第八段：</a:t>
            </a:r>
            <a:r>
              <a:rPr b="1" lang="zh-CN" sz="3600" spc="-1" strike="noStrike">
                <a:solidFill>
                  <a:srgbClr val="1f0260"/>
                </a:solidFill>
                <a:latin typeface="幼圆"/>
                <a:ea typeface="华文楷体"/>
              </a:rPr>
              <a:t>男孩看看列宁，说</a:t>
            </a:r>
            <a:r>
              <a:rPr b="1" lang="zh-CN" sz="3600" spc="-1" strike="noStrike">
                <a:solidFill>
                  <a:srgbClr val="cc0000"/>
                </a:solidFill>
                <a:latin typeface="幼圆"/>
                <a:ea typeface="华文楷体"/>
              </a:rPr>
              <a:t>：“会飞回来的，一定会飞回来的。它还活着。”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幼圆"/>
                <a:ea typeface="华文楷体"/>
              </a:rPr>
              <a:t>第十段：“</a:t>
            </a:r>
            <a:r>
              <a:rPr b="1" lang="zh-CN" sz="3600" spc="-1" strike="noStrike">
                <a:solidFill>
                  <a:srgbClr val="1f0260"/>
                </a:solidFill>
                <a:latin typeface="幼圆"/>
                <a:ea typeface="华文楷体"/>
              </a:rPr>
              <a:t>一定会飞回来的！”男孩肯定地说。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87280" y="126828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男孩是一开始就承认自己的错误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350028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吞吞吐吐——想说不敢说——决心把灰雀放回公园，肯定地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这时候，小男孩在想什么呢？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983600"/>
            <a:ext cx="80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小男孩心里想：列宁是那么着急地找那只灰雀，而那只灰雀却被我逮回家，我告诉他灰雀还活着，别让他太担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3068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男孩心里想：看这两只灰雀在大自然中自由自在地飞翔，而在我家的那只灰雀却孤零零地呆在笼子里，太可怜了！我还是把它放回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1197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男孩心里想：列宁是那么喜爱灰雀，他喜爱灰雀表现在希望灰雀自由自在地、幸福地生活，而我却把灰雀逮进笼子里，让我一个人观赏，我真是太自私了！我应该让它投身到大自然的怀抱，使它健康地成长。我一定要把它放回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7272360" cy="2376720"/>
          </a:xfrm>
          <a:prstGeom prst="wedgeRoundRectCallout">
            <a:avLst>
              <a:gd name="adj1" fmla="val -37555"/>
              <a:gd name="adj2" fmla="val 67634"/>
              <a:gd name="adj3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男孩为什么要捉走这只灰雀？他对灰雀的喜爱和列宁对灰雀的喜爱有什么不同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3517200"/>
            <a:ext cx="727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列宁的爱是给鸟自由，男孩的爱却夺去了鸟的自由，列宁才是真正的爱鸟！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（四）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学习课文</a:t>
            </a: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11-13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自然段</a:t>
            </a: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97000"/>
            <a:ext cx="5400720" cy="2232000"/>
          </a:xfrm>
          <a:prstGeom prst="wedgeRoundRectCallout">
            <a:avLst>
              <a:gd name="adj1" fmla="val -36421"/>
              <a:gd name="adj2" fmla="val 63370"/>
              <a:gd name="adj3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通过列宁和小男孩对话接下来会发生什么事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418212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在列宁真爱的感染下，小男孩把灰雀放回树林，看，它们又在枝头欢唱了。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91560" cy="5904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372360" y="0"/>
            <a:ext cx="2447640" cy="2879640"/>
          </a:xfrm>
          <a:prstGeom prst="wedgeEllipseCallout">
            <a:avLst>
              <a:gd name="adj1" fmla="val -93189"/>
              <a:gd name="adj2" fmla="val 16759"/>
            </a:avLst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d3f41"/>
                </a:solidFill>
                <a:latin typeface="Times New Roman"/>
                <a:ea typeface="楷体_GB2312"/>
              </a:rPr>
              <a:t>列宁为什么不问男孩却问灰雀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227640" y="6537240"/>
            <a:ext cx="2881440" cy="276120"/>
            <a:chOff x="6227640" y="6537240"/>
            <a:chExt cx="2881440" cy="276120"/>
          </a:xfrm>
        </p:grpSpPr>
        <p:pic>
          <p:nvPicPr>
            <p:cNvPr id="186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2764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5952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69752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3724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19280" y="189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诚实的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06436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列宁八岁的时候，有一天，跟爸爸到姑妈家去做客。 表兄弟表姐妹见到列宁都很高兴，拉着他一道去玩。他们在房间里捉迷藏。列宁不小心碰了桌子，桌子上的一只花瓶掉下来，打碎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们正玩得起劲，谁也没有注意，还是互相追赶着。姑妈听见声音，跑进来一看，花瓶碎了，就问：“是谁打碎的？”表兄弟表姐妹都说：“不是我！”列宁也低声说：“不是我。”姑妈笑着说：“那一定是花瓶自己打碎的。”大家都笑起来，只有列宁没有笑。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9280" y="2664360"/>
            <a:ext cx="921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表明列宁见到灰雀后的惊喜，以及表明列宁对孩子的爱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728640"/>
            <a:ext cx="151128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9640" y="1465200"/>
            <a:ext cx="81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果列宁直接问男孩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哦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原来是你抓走了灰雀，今天又把它放了回来，对不对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 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果你们是小男孩，听了这话心情会怎样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47640" y="1628640"/>
            <a:ext cx="6048720" cy="28083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《诚实的孩子》中的列宁和《灰雀》中的小男孩有何相同之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本文记叙了一件发生在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________________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之间的小故事。列宁在公园里寻找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________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遇到了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_________,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经过交谈，受到感染的男孩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___________,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赞扬了列宁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__________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以及男孩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________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的品质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小结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本文记叙了一件发生在列宁、男孩和灰雀之间的小故事。列宁在公园里寻找一只惹人喜爱的灰雀时，遇到了将灰雀捉走的男孩，经过交谈，受到感染的男孩将灰雀放了回来。赞扬了列宁善解人意、关爱男孩、爱护动物的品质，以及男孩诚实、知错就改的品质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35280" y="1052640"/>
            <a:ext cx="4032000" cy="3671640"/>
          </a:xfrm>
          <a:prstGeom prst="wedgeRoundRectCallout">
            <a:avLst>
              <a:gd name="adj1" fmla="val 83935"/>
              <a:gd name="adj2" fmla="val -9749"/>
              <a:gd name="adj3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84360" y="206064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习了这篇课文，你有什么感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635280" y="177336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1268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非圣贤，孰能无过”每个人都会犯错，犯错的人需要批评，更需要善意的提醒。让我们多一份宽容，多一份耐心，用真挚的关怀和爱护代替无情的批评和斥责，相信犯错的人会更容易自我反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1197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回到家里，列宁躺在床上不说话。妈妈问他为什么不愉快，列宁把打碎花瓶的事告诉了妈妈。妈妈叫他写信给姑妈，承认自己说了谎。 过了几天，邮递员送来姑妈是回信。姑妈在信上说：“你做错了事能自己认错，是个诚实的孩子。”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32000" y="1844640"/>
            <a:ext cx="684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郊外   散步   胸脯   面包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或者   不敢   可惜  低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诚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765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、学习生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</a:rPr>
              <a:t>二、初读课文</a:t>
            </a:r>
            <a:br>
              <a:rPr sz="4000"/>
            </a:br>
            <a:endParaRPr b="1" lang="en-US" sz="40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自由朗读课文，思考：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幼圆"/>
              </a:rPr>
              <a:t>1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、课文中出现了几个人物？分别是谁？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幼圆"/>
              </a:rPr>
              <a:t>2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、课文中有几只灰雀？分别是什么样子的？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87280" y="2276640"/>
            <a:ext cx="532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41300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268280"/>
            <a:ext cx="55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找出该段描写灰雀的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找出描写列宁的句子，从这些句子中，你发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4640" y="692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一）学习第一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102" t="3556" r="0" b="0"/>
          <a:stretch/>
        </p:blipFill>
        <p:spPr>
          <a:xfrm>
            <a:off x="0" y="1557360"/>
            <a:ext cx="3314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268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列宁非常喜欢这三只灰雀，从“每次、都要、仰望、经常”等词语中可以看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3789360"/>
            <a:ext cx="41036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（二）学习第二自然段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幼圆"/>
              </a:rPr>
              <a:t>1. 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在这一天发生了什么事？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2421000"/>
            <a:ext cx="6767640" cy="3529080"/>
          </a:xfrm>
          <a:prstGeom prst="wedgeRoundRectCallout">
            <a:avLst>
              <a:gd name="adj1" fmla="val -64217"/>
              <a:gd name="adj2" fmla="val 48018"/>
              <a:gd name="adj3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那只灰雀到哪里去了？列宁和小男孩以及这只灰雀发生了一段怎样的故事呢？接下来我们学习第三至十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（三）学习第三至十自然段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．自由朗读一读课文 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－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10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自然段，哪几段是列宁说的话，哪几段是小男孩说的，找一找、读一读。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分角色朗读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2.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齐读列宁的话，体会列宁的心情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3:29:16Z</dcterms:created>
  <dc:creator>Administrator</dc:creator>
  <dc:description/>
  <dc:language>en-US</dc:language>
  <cp:lastModifiedBy/>
  <dcterms:modified xsi:type="dcterms:W3CDTF">2015-08-19T06:24:20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