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E1E-CB31-484E-AA90-32B35058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4A3-C445-40E4-B56D-DFB3A97C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49F-BF60-4B53-8013-B733C679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61A-FF44-42CB-9FD4-A093C966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AE2-4216-4D98-BD49-8D02CF88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32B-F1E5-4237-98AE-0AB1A8EB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8A1-EA1A-4719-A48B-40D9A69B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7C9-3083-4F9B-AF70-A9D172FE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439-DA95-413D-8A84-838D2BB4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3C0-B3E8-4073-B55E-A8EEA3ED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D95-D4E3-4758-854E-60585CED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54D-76D9-46BF-B6DC-B585322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E779-5598-480C-8FD5-BADD28A35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插图2"/>
          <p:cNvPicPr/>
          <p:nvPr/>
        </p:nvPicPr>
        <p:blipFill>
          <a:blip r:embed="rId2"/>
          <a:srcRect l="409" t="0" r="-1208" b="733"/>
          <a:stretch/>
        </p:blipFill>
        <p:spPr>
          <a:xfrm>
            <a:off x="0" y="549360"/>
            <a:ext cx="896472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042920" y="2349360"/>
            <a:ext cx="3457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金色的</a:t>
            </a:r>
            <a:endParaRPr b="1" lang="en-US" sz="36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4716360" y="1844640"/>
            <a:ext cx="3384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草地</a:t>
            </a:r>
            <a:endParaRPr b="1" lang="en-US" sz="36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826920" y="83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北师大版 三年级 语文 上册 第一单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纯音乐 大自然背景的清晨闹铃纯音乐轻音乐.mp3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148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8"/>
          <p:cNvPicPr/>
          <p:nvPr/>
        </p:nvPicPr>
        <p:blipFill>
          <a:blip r:embed="rId2"/>
          <a:stretch/>
        </p:blipFill>
        <p:spPr>
          <a:xfrm>
            <a:off x="0" y="549360"/>
            <a:ext cx="8785080" cy="5875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42920" y="1557360"/>
            <a:ext cx="67788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蒲公英的花瓣就像我们的手，手掌张开时它是黄颜色的，要是攥成拳头，黄色就被包住了。第二天，太阳升上来，蒲公英张开了自己的手掌，草地又变成了金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124000" y="458136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知道草地为什么会变颜色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"/>
          <p:cNvPicPr/>
          <p:nvPr/>
        </p:nvPicPr>
        <p:blipFill>
          <a:blip r:embed="rId2"/>
          <a:stretch/>
        </p:blipFill>
        <p:spPr>
          <a:xfrm>
            <a:off x="0" y="549360"/>
            <a:ext cx="8785080" cy="5976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71280" y="1700280"/>
            <a:ext cx="70578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黑体"/>
              </a:rPr>
              <a:t>从那时候起，我们不再随意揪它，蒲公英成了我们最喜爱的一种花。它和我们一起睡觉，也和我们一起起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979640" y="42339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读一读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想一想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为什么说蒲公英和我们一起起床，一起睡觉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图片1 不能内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404640"/>
            <a:ext cx="8793000" cy="6099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24000" y="2565360"/>
            <a:ext cx="882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蒲公英的花就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可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早晨，花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草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中午，花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草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傍晚，花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草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68360" y="16286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填一填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图片1和"/>
          <p:cNvPicPr/>
          <p:nvPr/>
        </p:nvPicPr>
        <p:blipFill>
          <a:blip r:embed="rId2"/>
          <a:stretch/>
        </p:blipFill>
        <p:spPr>
          <a:xfrm>
            <a:off x="0" y="620640"/>
            <a:ext cx="8785080" cy="6054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476360" y="249228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</a:rPr>
              <a:t>蒲公英：多年生草本植物。全株含白色乳状汁液，叶子倒披针，羽状分裂，花黄色，头状花序，结瘦果，褐色，有白色软毛，根茎可入药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0" y="907920"/>
            <a:ext cx="219564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资料库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987640" y="1557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蒲公英简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未命名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03280" y="547560"/>
            <a:ext cx="5616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蒲公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好像也有翅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飞得那么高，那么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它一定充满了幻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我也要像蒲公英一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沿着云彩铺成的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让风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送我去远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飞呀，飞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飞到沙漠里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扎根生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飞到高山顶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吐露芳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飞向四面八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看一看祖国迷人的风光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179280" y="692280"/>
            <a:ext cx="21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诗文欣赏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15200" y="2276640"/>
            <a:ext cx="21913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33"/>
                </a:solidFill>
                <a:latin typeface="Times New Roman"/>
                <a:ea typeface="黑体"/>
              </a:rPr>
              <a:t>蒲公英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000"/>
                            </p:stCondLst>
                            <p:childTnLst>
                              <p:par>
                                <p:cTn id="5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未命名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395280" y="1360440"/>
            <a:ext cx="460836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风有颜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有着变幻多端的颜色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它一年四季都在忙碌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把世界装扮成美丽的画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春天的风是绿色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染绿嫩草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染绿树叶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染绿山岗和原野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夏天的风是蓝色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浅蓝的林带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深蓝的湖泽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蓝风送走太阳的炎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608360" y="1360440"/>
            <a:ext cx="450072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秋天的风是金色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金风迎来收获的季节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收获遍地的金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收获满意喜悦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冬天的风是白色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白风扬起鹅毛大雪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美丽的白天鹅啊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多么可爱多么纯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风有颜色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有着变化多端的颜色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要是没有风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就没有这五彩缤纷的世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348000" y="6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ff"/>
                </a:solidFill>
                <a:latin typeface="Times New Roman"/>
                <a:ea typeface="黑体"/>
              </a:rPr>
              <a:t>风的颜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1" descr="图片1 不能内"/>
          <p:cNvPicPr/>
          <p:nvPr/>
        </p:nvPicPr>
        <p:blipFill>
          <a:blip r:embed="rId2"/>
          <a:stretch/>
        </p:blipFill>
        <p:spPr>
          <a:xfrm>
            <a:off x="351000" y="549360"/>
            <a:ext cx="8793000" cy="6099120"/>
          </a:xfrm>
          <a:prstGeom prst="rect">
            <a:avLst/>
          </a:prstGeom>
          <a:ln w="0">
            <a:noFill/>
          </a:ln>
        </p:spPr>
      </p:pic>
      <p:sp>
        <p:nvSpPr>
          <p:cNvPr id="160" name="WordArt 21"/>
          <p:cNvSpPr txBox="1"/>
          <p:nvPr/>
        </p:nvSpPr>
        <p:spPr>
          <a:xfrm>
            <a:off x="2050920" y="2852640"/>
            <a:ext cx="4969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</a:t>
            </a:r>
            <a:endParaRPr b="1" lang="en-US" sz="3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1" name="纯音乐 大自然背景的清晨闹铃纯音乐轻音乐.mp3" descr=""/>
          <p:cNvPicPr/>
          <p:nvPr/>
        </p:nvPicPr>
        <p:blipFill>
          <a:blip r:embed="rId5"/>
          <a:stretch/>
        </p:blipFill>
        <p:spPr>
          <a:xfrm>
            <a:off x="7020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5" dur="314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图片1 不能内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179280" y="404640"/>
            <a:ext cx="8793360" cy="6099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8720" y="2133360"/>
            <a:ext cx="7704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学会本课生字、新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正确、流利、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理解课文内容，体会作者对蒲公英的喜爱之情，激发学生善于留心观察身边事物变化的兴趣，树立人与自然和谐共处的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826920" y="126828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1" lang="en-US" sz="3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8" descr="图片1 不能内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179280" y="333360"/>
            <a:ext cx="8793360" cy="6099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蒲               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               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               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呵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219640" y="1773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ró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763640" y="17733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pú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71640" y="177336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蒲公英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6588000" y="177336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毛茸茸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826920" y="1052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生字学习</a:t>
            </a:r>
            <a:endParaRPr b="1" lang="en-US" sz="3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763640" y="284940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iǎ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2989440" y="2849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假装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5364000" y="28494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iū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6730920" y="2781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揪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5292720" y="38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ǎ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1619280" y="386064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bì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2"/>
          <p:cNvSpPr/>
          <p:nvPr/>
        </p:nvSpPr>
        <p:spPr>
          <a:xfrm>
            <a:off x="2989440" y="386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并列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6732720" y="386064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返回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2411280" y="486576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hē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3564000" y="486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7"/>
          <p:cNvSpPr/>
          <p:nvPr/>
        </p:nvSpPr>
        <p:spPr>
          <a:xfrm>
            <a:off x="5148360" y="486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呵欠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7" descr="图片1 不能内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0" y="549360"/>
            <a:ext cx="8793000" cy="609912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3"/>
          <p:cNvGrpSpPr/>
          <p:nvPr/>
        </p:nvGrpSpPr>
        <p:grpSpPr>
          <a:xfrm>
            <a:off x="3276720" y="2060640"/>
            <a:ext cx="1224000" cy="1224000"/>
            <a:chOff x="3276720" y="2060640"/>
            <a:chExt cx="1224000" cy="1224000"/>
          </a:xfrm>
        </p:grpSpPr>
        <p:sp>
          <p:nvSpPr>
            <p:cNvPr id="69" name="Rectangle 4"/>
            <p:cNvSpPr/>
            <p:nvPr/>
          </p:nvSpPr>
          <p:spPr>
            <a:xfrm>
              <a:off x="327672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5"/>
            <p:cNvSpPr/>
            <p:nvPr/>
          </p:nvSpPr>
          <p:spPr>
            <a:xfrm flipH="1">
              <a:off x="327672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6"/>
            <p:cNvSpPr/>
            <p:nvPr/>
          </p:nvSpPr>
          <p:spPr>
            <a:xfrm>
              <a:off x="388908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7"/>
          <p:cNvGrpSpPr/>
          <p:nvPr/>
        </p:nvGrpSpPr>
        <p:grpSpPr>
          <a:xfrm>
            <a:off x="4500360" y="2060640"/>
            <a:ext cx="1224000" cy="1224000"/>
            <a:chOff x="4500360" y="2060640"/>
            <a:chExt cx="1224000" cy="1224000"/>
          </a:xfrm>
        </p:grpSpPr>
        <p:sp>
          <p:nvSpPr>
            <p:cNvPr id="73" name="Rectangle 8"/>
            <p:cNvSpPr/>
            <p:nvPr/>
          </p:nvSpPr>
          <p:spPr>
            <a:xfrm>
              <a:off x="4500720" y="206064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H="1">
              <a:off x="4500360" y="267264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511272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11"/>
          <p:cNvGrpSpPr/>
          <p:nvPr/>
        </p:nvGrpSpPr>
        <p:grpSpPr>
          <a:xfrm>
            <a:off x="5724360" y="2060640"/>
            <a:ext cx="1224000" cy="1224000"/>
            <a:chOff x="5724360" y="2060640"/>
            <a:chExt cx="1224000" cy="1224000"/>
          </a:xfrm>
        </p:grpSpPr>
        <p:sp>
          <p:nvSpPr>
            <p:cNvPr id="77" name="Rectangle 12"/>
            <p:cNvSpPr/>
            <p:nvPr/>
          </p:nvSpPr>
          <p:spPr>
            <a:xfrm>
              <a:off x="572436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3"/>
            <p:cNvSpPr/>
            <p:nvPr/>
          </p:nvSpPr>
          <p:spPr>
            <a:xfrm flipH="1">
              <a:off x="572436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4"/>
            <p:cNvSpPr/>
            <p:nvPr/>
          </p:nvSpPr>
          <p:spPr>
            <a:xfrm>
              <a:off x="633672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5"/>
          <p:cNvGrpSpPr/>
          <p:nvPr/>
        </p:nvGrpSpPr>
        <p:grpSpPr>
          <a:xfrm>
            <a:off x="2050920" y="2060640"/>
            <a:ext cx="1224000" cy="1224000"/>
            <a:chOff x="2050920" y="2060640"/>
            <a:chExt cx="1224000" cy="1224000"/>
          </a:xfrm>
        </p:grpSpPr>
        <p:sp>
          <p:nvSpPr>
            <p:cNvPr id="81" name="Rectangle 16"/>
            <p:cNvSpPr/>
            <p:nvPr/>
          </p:nvSpPr>
          <p:spPr>
            <a:xfrm>
              <a:off x="205092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7"/>
            <p:cNvSpPr/>
            <p:nvPr/>
          </p:nvSpPr>
          <p:spPr>
            <a:xfrm flipH="1">
              <a:off x="205092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8"/>
            <p:cNvSpPr/>
            <p:nvPr/>
          </p:nvSpPr>
          <p:spPr>
            <a:xfrm>
              <a:off x="266328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Text Box 19"/>
          <p:cNvSpPr/>
          <p:nvPr/>
        </p:nvSpPr>
        <p:spPr>
          <a:xfrm>
            <a:off x="2050920" y="209556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弟呵欠引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41"/>
          <p:cNvGrpSpPr/>
          <p:nvPr/>
        </p:nvGrpSpPr>
        <p:grpSpPr>
          <a:xfrm>
            <a:off x="2700360" y="3716280"/>
            <a:ext cx="1224000" cy="1224000"/>
            <a:chOff x="2700360" y="3716280"/>
            <a:chExt cx="1224000" cy="1224000"/>
          </a:xfrm>
        </p:grpSpPr>
        <p:sp>
          <p:nvSpPr>
            <p:cNvPr id="86" name="Rectangle 42"/>
            <p:cNvSpPr/>
            <p:nvPr/>
          </p:nvSpPr>
          <p:spPr>
            <a:xfrm>
              <a:off x="270036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 flipH="1">
              <a:off x="270036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>
              <a:off x="331272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45"/>
          <p:cNvGrpSpPr/>
          <p:nvPr/>
        </p:nvGrpSpPr>
        <p:grpSpPr>
          <a:xfrm>
            <a:off x="1474920" y="3716280"/>
            <a:ext cx="1224000" cy="1224000"/>
            <a:chOff x="1474920" y="3716280"/>
            <a:chExt cx="1224000" cy="1224000"/>
          </a:xfrm>
        </p:grpSpPr>
        <p:sp>
          <p:nvSpPr>
            <p:cNvPr id="90" name="Rectangle 46"/>
            <p:cNvSpPr/>
            <p:nvPr/>
          </p:nvSpPr>
          <p:spPr>
            <a:xfrm>
              <a:off x="147492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47"/>
            <p:cNvSpPr/>
            <p:nvPr/>
          </p:nvSpPr>
          <p:spPr>
            <a:xfrm flipH="1">
              <a:off x="147492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48"/>
            <p:cNvSpPr/>
            <p:nvPr/>
          </p:nvSpPr>
          <p:spPr>
            <a:xfrm>
              <a:off x="208728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49"/>
          <p:cNvGrpSpPr/>
          <p:nvPr/>
        </p:nvGrpSpPr>
        <p:grpSpPr>
          <a:xfrm>
            <a:off x="5148360" y="3716280"/>
            <a:ext cx="1224000" cy="1224000"/>
            <a:chOff x="5148360" y="3716280"/>
            <a:chExt cx="1224000" cy="1224000"/>
          </a:xfrm>
        </p:grpSpPr>
        <p:sp>
          <p:nvSpPr>
            <p:cNvPr id="94" name="Rectangle 50"/>
            <p:cNvSpPr/>
            <p:nvPr/>
          </p:nvSpPr>
          <p:spPr>
            <a:xfrm>
              <a:off x="514836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51"/>
            <p:cNvSpPr/>
            <p:nvPr/>
          </p:nvSpPr>
          <p:spPr>
            <a:xfrm flipH="1">
              <a:off x="514836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2"/>
            <p:cNvSpPr/>
            <p:nvPr/>
          </p:nvSpPr>
          <p:spPr>
            <a:xfrm>
              <a:off x="576072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53"/>
          <p:cNvGrpSpPr/>
          <p:nvPr/>
        </p:nvGrpSpPr>
        <p:grpSpPr>
          <a:xfrm>
            <a:off x="3924360" y="3716280"/>
            <a:ext cx="1224000" cy="1224000"/>
            <a:chOff x="3924360" y="3716280"/>
            <a:chExt cx="1224000" cy="1224000"/>
          </a:xfrm>
        </p:grpSpPr>
        <p:sp>
          <p:nvSpPr>
            <p:cNvPr id="98" name="Rectangle 54"/>
            <p:cNvSpPr/>
            <p:nvPr/>
          </p:nvSpPr>
          <p:spPr>
            <a:xfrm>
              <a:off x="392436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55"/>
            <p:cNvSpPr/>
            <p:nvPr/>
          </p:nvSpPr>
          <p:spPr>
            <a:xfrm flipH="1">
              <a:off x="392436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56"/>
            <p:cNvSpPr/>
            <p:nvPr/>
          </p:nvSpPr>
          <p:spPr>
            <a:xfrm>
              <a:off x="453672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63"/>
          <p:cNvGrpSpPr/>
          <p:nvPr/>
        </p:nvGrpSpPr>
        <p:grpSpPr>
          <a:xfrm>
            <a:off x="6300720" y="3716280"/>
            <a:ext cx="1224000" cy="1224000"/>
            <a:chOff x="6300720" y="3716280"/>
            <a:chExt cx="1224000" cy="1224000"/>
          </a:xfrm>
        </p:grpSpPr>
        <p:sp>
          <p:nvSpPr>
            <p:cNvPr id="102" name="Rectangle 64"/>
            <p:cNvSpPr/>
            <p:nvPr/>
          </p:nvSpPr>
          <p:spPr>
            <a:xfrm>
              <a:off x="630072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65"/>
            <p:cNvSpPr/>
            <p:nvPr/>
          </p:nvSpPr>
          <p:spPr>
            <a:xfrm flipH="1">
              <a:off x="630072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66"/>
            <p:cNvSpPr/>
            <p:nvPr/>
          </p:nvSpPr>
          <p:spPr>
            <a:xfrm>
              <a:off x="691308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Text Box 61"/>
          <p:cNvSpPr/>
          <p:nvPr/>
        </p:nvSpPr>
        <p:spPr>
          <a:xfrm>
            <a:off x="1476360" y="37162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注次并返随  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图片1 不能内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108000" y="404640"/>
            <a:ext cx="8793000" cy="6099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472840" y="2420640"/>
            <a:ext cx="44751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金色的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金色的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金色的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金色的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金色的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138560" y="2417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阳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138560" y="29923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麦浪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067280" y="3641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童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138560" y="42181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沙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979640" y="1557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，看谁说的多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"/>
          <p:cNvPicPr/>
          <p:nvPr/>
        </p:nvPicPr>
        <p:blipFill>
          <a:blip r:embed="rId2"/>
          <a:stretch/>
        </p:blipFill>
        <p:spPr>
          <a:xfrm>
            <a:off x="179280" y="47628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2916360" y="1557360"/>
            <a:ext cx="5257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一棵蒲公英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一群小伞兵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风儿吹，飘呀飘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一摞落在金草坪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阳光照，雨水淋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长出一片蒲公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111.mp3" descr=""/>
          <p:cNvPicPr/>
          <p:nvPr/>
        </p:nvPicPr>
        <p:blipFill>
          <a:blip r:embed="rId3"/>
          <a:stretch/>
        </p:blipFill>
        <p:spPr>
          <a:xfrm>
            <a:off x="781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84757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插图"/>
          <p:cNvPicPr/>
          <p:nvPr/>
        </p:nvPicPr>
        <p:blipFill>
          <a:blip r:embed="rId2"/>
          <a:stretch/>
        </p:blipFill>
        <p:spPr>
          <a:xfrm>
            <a:off x="108000" y="333360"/>
            <a:ext cx="8785080" cy="6021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24000" y="98100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欣赏课文朗读，感受文中的姐弟俩是怎么玩的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ShockwaveFlash1"/>
          <p:cNvGraphicFramePr/>
          <p:nvPr/>
        </p:nvGraphicFramePr>
        <p:xfrm>
          <a:off x="971640" y="2205000"/>
          <a:ext cx="7202520" cy="41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205000"/>
                    <a:ext cx="72025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未命名"/>
          <p:cNvPicPr/>
          <p:nvPr/>
        </p:nvPicPr>
        <p:blipFill>
          <a:blip r:embed="rId2"/>
          <a:srcRect l="1964" t="0" r="2744" b="1907"/>
          <a:stretch/>
        </p:blipFill>
        <p:spPr>
          <a:xfrm>
            <a:off x="0" y="476280"/>
            <a:ext cx="8785080" cy="5904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1915920"/>
            <a:ext cx="7272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家住在乡下，窗前是一片草地。草地上有许许多多的蒲公英。蒲公英开放的时候，这片草地就变成金黄色的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58920" y="4581360"/>
            <a:ext cx="6626160" cy="58140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为什么草地会是金黄色的？找出有关的句子读一读，说说自己的理解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3203640" y="3068640"/>
            <a:ext cx="446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403280" y="3573360"/>
            <a:ext cx="626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332000" y="4149720"/>
            <a:ext cx="33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WordArt 8" descr=""/>
          <p:cNvPicPr/>
          <p:nvPr/>
        </p:nvPicPr>
        <p:blipFill>
          <a:blip r:embed="rId3"/>
          <a:stretch/>
        </p:blipFill>
        <p:spPr>
          <a:xfrm>
            <a:off x="536400" y="841320"/>
            <a:ext cx="35355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7"/>
          <p:cNvPicPr/>
          <p:nvPr/>
        </p:nvPicPr>
        <p:blipFill>
          <a:blip r:embed="rId2">
            <a:lum contrast="-24000"/>
          </a:blip>
          <a:stretch/>
        </p:blipFill>
        <p:spPr>
          <a:xfrm>
            <a:off x="0" y="476280"/>
            <a:ext cx="8785080" cy="5977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340000" y="1600200"/>
            <a:ext cx="63468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那天，我起得很早去钓鱼，发现草地并不是</a:t>
            </a:r>
            <a:r>
              <a:rPr b="1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金色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，而是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绿色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。快到中午，当我返回家时，整个草地又都变成了</a:t>
            </a:r>
            <a:r>
              <a:rPr b="1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金色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可是，傍晚我经过草地，草地又变</a:t>
            </a:r>
            <a:r>
              <a:rPr b="1" lang="zh-CN" sz="3200" spc="-1" strike="noStrike">
                <a:solidFill>
                  <a:srgbClr val="66ff33"/>
                </a:solidFill>
                <a:latin typeface="黑体"/>
                <a:ea typeface="黑体"/>
              </a:rPr>
              <a:t>绿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302440" y="141300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516720" y="234936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580000" y="148428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715520" y="14842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305080" y="1873080"/>
            <a:ext cx="14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308720" y="2924280"/>
            <a:ext cx="14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3492360" y="46720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这是为什么呢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WordArt 12" descr=""/>
          <p:cNvPicPr/>
          <p:nvPr/>
        </p:nvPicPr>
        <p:blipFill>
          <a:blip r:embed="rId3"/>
          <a:stretch/>
        </p:blipFill>
        <p:spPr>
          <a:xfrm>
            <a:off x="536400" y="841320"/>
            <a:ext cx="3535560" cy="865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4"/>
          <p:cNvSpPr/>
          <p:nvPr/>
        </p:nvSpPr>
        <p:spPr>
          <a:xfrm>
            <a:off x="5940360" y="2349360"/>
            <a:ext cx="17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8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6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4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2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微软用户</cp:lastModifiedBy>
  <dcterms:modified xsi:type="dcterms:W3CDTF">2015-11-02T11:42:32Z</dcterms:modified>
  <cp:revision>872</cp:revision>
  <dc:subject/>
  <dc:title>幻灯片 1</dc:title>
</cp:coreProperties>
</file>