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CFB-CC7B-4211-8FEA-F957B4CF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9E3-4913-4C3B-8D01-47B8C3CD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6DDE4-604C-4BFB-82C5-75481342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88266-85B3-4464-B428-739751DC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BB4C8-B793-4734-9FF5-867C5CE9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0323A-9DC5-44DE-89B5-A154EB34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6866C-AE9C-4CA2-9A43-24D3BC33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F6F64-3850-4EE0-8679-96334B2C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B0A41-19AC-42C8-93FF-539FE27E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8572E-71F2-491A-A2B4-F134A430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253C9-0FE2-4BB7-BC0D-74F47BB8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AB54E-1736-4DB5-971A-04E3571F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724-8255-41B4-9E8D-E24E3B76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BE40D-88E3-42FA-B4ED-C5F27D48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34627-7D0A-43C6-95DE-D3C73B70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8894C-6759-4D6F-9751-E40D160E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B01BE-CFE7-4ED3-8582-5524BF9F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FDFFF-221C-4F91-9AB7-1143122E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4F9C5-070B-4363-A2D7-8DE1D4CD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4C485-BFB6-44A1-B751-D22382B3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4052C-D03E-485A-9070-10661664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8FB0C-AF13-45F2-8AFE-3EC5300B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0B375-D2BB-494D-88ED-7C0B5ADD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4FE8-218C-4017-8AAB-DC32E249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5D238-B84C-4BF7-9CAA-98C0ED94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168CB-52A5-407F-9548-345A4771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EA0BD-5282-445A-8C06-709FC82A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2FA92-A756-45BF-B0CA-8E7DF4FC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4E708-1F06-425D-AEE8-8322B8E7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34FDF-1EE2-4DB9-9611-72BED293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3FEF2-FEAA-4C9A-8115-19F188E2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AC1F8-AF1F-4771-8985-53FFF764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B0721-34A5-4C15-9E77-C827BBB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6BFA7-7C9E-404B-8630-47F43ADD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5106-F26B-4063-9070-3DAED3FB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862C0-7580-469C-96A7-E363AAD4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FD544-13BB-4D23-BF13-263BCE09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0C0DB-892C-4240-9ACD-D11B1706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C13AB-0652-4A2E-953F-7ADB9197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51A98-1E6E-4BC2-9D2F-83894FBE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D1F6D-64AD-4B75-8DCD-E5475738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AA090-ED69-4D3E-A423-E257D144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26188-676E-4B20-B259-21E72394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1797E-89FB-46A2-AE03-1FA8FBF6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2756C-78C7-4B3F-91F0-9D536F6F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B609-175F-4ED2-88D5-74C997EC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F698C-95AE-472A-A5DC-7611BC79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6B332-075A-4B65-B419-D0F3211F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10DB9-FE14-4654-868F-41A96534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2E4EF-7A91-4579-8772-EE8292B9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80C27-35C0-4DF4-800A-CB0A73A5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C0798-FA05-4ABC-A720-BBAB6376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265D5-2541-452B-BCE0-EE4178EA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B5628-0F69-46B2-AC2A-390CC1A5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5DC72-EF25-477D-BE9A-A3A1C268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02045-5D57-41D2-A996-2706622A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D483-19AB-477D-A9F5-4615591F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CBCE7-7171-4383-9060-CC3C08FF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FD8DD-C5DF-4F40-9972-F30F8648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FFF10-2BD1-4B1D-AF9E-7A493215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946ED-8B18-4AE5-94C4-15B243ED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EFC64-28A8-4F2D-BAB0-D2547511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C6AAC-9E6A-40B9-89D8-AA1895B4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B4119-C413-4AFC-9161-F4C7228F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3CD8-2E62-48C9-93A3-4A460582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DDE4-395A-4C3C-8E7E-D8A02813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53B1-D3B6-49B3-A34C-A9D1364A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0767-AA47-4202-8A4E-D36D61C1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F01-0922-4693-A299-A485E183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0692-DD4D-452B-9EF4-2B7ADB3F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4B79-2704-4A63-BB34-503B244D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BE23-7CA8-4351-BDC6-21A426B2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3F5C-B01A-44AA-958A-1D632EB9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ED30-BE02-4EBB-9A49-686FE921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B41C1-A2F2-43CE-AAD7-D292351C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806E-27C6-46D7-A742-0EC1E4EA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BC56C-B4A2-414A-9451-586BB020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9CA6-D63C-4534-BCD0-378FAB11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1770D-9ED4-42E1-8CE3-24B61D92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B21-5761-40AA-9909-8AFEFA2F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AB906-E5DB-48DF-A7B1-EC7A18F1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519C6-D2EA-41FD-B834-5CE4FAB8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C9F82-51AE-4097-855A-7D3D1DEE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C5524-3DC8-4CA7-A72C-CB49B5E3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2D2F9-AB1F-49F4-A157-96086911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131AF-566B-4711-918A-9B218A92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F13F6-2691-4EFF-AB84-5344E5A1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A2716-A5BE-425B-8DA3-79879315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BCA51-43D6-4F5E-ACA6-5BE8F789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703FD-E027-4354-BD76-17B781A5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B75-73DD-4381-A95F-938BADCD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B62C3-94FB-48D5-8F83-27F41F4E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4325C-6579-4A19-865C-EA223EAC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4EC6B-A55A-4184-BDEA-C368950F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230A8-F570-4FBE-B713-64DB5B29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A96B4-CA85-48A3-A175-729A55FF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47EC1-F683-4E33-9377-BF5F0F5C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B63E6-74F3-4DC6-89C9-CDEEE7BD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B1ACD-9053-4E86-B19D-517AB1CE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71978-7277-4B67-857C-207F1366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078C5-7CCE-4CDA-9151-7A2F81FC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4EF-6713-4257-A440-9C44D4EF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8E14A-DFA5-4FD6-A5D7-C47922F8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FA1B2-FE69-4F00-9898-7A1BBB1F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81EF3-928F-4090-B7FB-0417C988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BA58B-F34F-42BC-AC71-A016AF44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16BE0-6476-4FC1-90CF-7C129F53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894A0-F6EB-44F6-A29D-169B504C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2E89B-55FC-4852-8B16-8547AEE9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0021F-1720-4045-A597-A50865EA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933C8-0485-42C8-89D1-581269B1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7942E-6D65-4B5A-AACF-F6DB961C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266-D898-470D-9274-06BFB199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58311-8173-4584-8DBA-05C068CB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FD7F3-FC84-4C9E-8FE9-38743855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83212-FB75-4D1D-B4C9-304244DD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F626C-10C6-447D-B5EE-79356768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1E4E6-E4FE-444D-936A-2EDCA8F2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FDE9C-C3BC-424A-9567-B7DB5557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3464E-062E-4CAF-B933-BE992D8B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FD26F-168B-46B8-8EB1-44103DE6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00ABD-9F45-45FF-A508-59D54A4B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2091A-11CB-4CF8-A5BD-CED1F810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D3F-5326-4C5B-B0E4-9FFDA85C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365A4-7AE0-4E15-81F0-E51F03D8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DD126-C99F-4E1E-8A2F-34326FD8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2ADE2-3F6D-41DA-ACB4-C07C06FF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11B56-E732-4F4E-B607-96AC1481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8350F-AB18-45EF-A0AD-A48812DC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CA1FB-F249-40C3-9F51-4E79690F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16A49-CB13-4836-B61C-56498FDF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9EBEC-9B7A-40B0-A986-39E26E57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2B1E7-C40E-4D05-A56E-0BEED8EA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DA961-60A5-403B-8B5B-31F079CA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544-F713-4CC6-A42E-E8DC4456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D6181-7AE5-4D75-9A2C-4477E262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6F6EE-F818-4CF5-9B2E-4E960843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EC111-3FA4-483F-84B7-FE579574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46610-4114-449B-960A-D4C41F3A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2BE67-EA76-492B-99EE-9C3D1B17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2EDDF-FFB3-4A74-AD66-99F8D656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8BD6F-CB5F-4F54-B104-B90D3EDA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73C40-D781-454D-AEB6-0317DD66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D28A5-979A-4F21-99D9-786EA154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90B3B-F412-41BD-ACC0-B2DBF6EB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612-A874-4F5B-BB11-A0BA2074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70D39-EF7F-4E7A-B2B1-B7171091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1BDAE-3159-4708-9574-CD151A47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3FF97-283F-4678-913D-B4F421BE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F601F-AF35-466D-97E2-8435759B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C0047-B058-4A85-A1FC-568A6BD4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A28DF-5F06-41E8-8284-A0C33E9F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A188F-583E-4427-9382-7E935AAB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A9066-ECF9-4438-AAD3-7905AD98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2F5DD-0EDA-49FD-BD98-7C6732C1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C14FF-57D4-4951-9703-3098FB36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62DC-BEFB-483A-9AD6-8CE418E17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B5DE-257B-4E53-83D0-ED3336F55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AAAE-5A0D-43F3-83FE-3856FC26E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DB84-E5C0-4A63-BDB1-CCACFEDB3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FD6D-ECF0-467A-83A4-1D9B22D09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455D-D8F0-4F21-BBC6-107D9093F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A825-BB0B-4454-B614-FC218E263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9A83-D567-4B92-A886-30255B275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DF50-AB1C-457C-9CBF-8470C1384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B3C5-86D4-432D-8FD9-8835CF60B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639E-50E2-4AA7-B18E-D7508E7F1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AF7A-ED18-465E-8AF6-2E0D4EB55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0F60-1B09-4714-A9E9-231826605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6"/>
          <p:cNvSpPr/>
          <p:nvPr/>
        </p:nvSpPr>
        <p:spPr>
          <a:xfrm>
            <a:off x="2490480" y="2421000"/>
            <a:ext cx="395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金 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3"/>
          <p:cNvSpPr/>
          <p:nvPr/>
        </p:nvSpPr>
        <p:spPr>
          <a:xfrm>
            <a:off x="755640" y="981000"/>
            <a:ext cx="838836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可以用来种花，人们一定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买些花来装扮自己的客厅。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果真是这样的话，用不了几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就会成功的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4140360" y="37893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5"/>
          <p:cNvSpPr/>
          <p:nvPr/>
        </p:nvSpPr>
        <p:spPr>
          <a:xfrm>
            <a:off x="755640" y="1062000"/>
            <a:ext cx="83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里没找到金子，但这土地很肥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可以用来种花，人们一定会买些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来装扮自己的客厅。如果真是这样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话，用不了几年我就会成功的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3"/>
          <p:cNvSpPr/>
          <p:nvPr/>
        </p:nvSpPr>
        <p:spPr>
          <a:xfrm>
            <a:off x="0" y="405360"/>
            <a:ext cx="982836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彼得留了下来，他把自己的全部精力都用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培育花苗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时天降大雨，花苗被淋得倒在地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彼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有时骄阳似火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花苗的叶子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被晒焉了，彼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娇嫩的花苗上长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子了，彼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  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一场雨后，田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杂草和花苗抢营养了，彼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久田地里长满了美丽娇艳的鲜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4ab19a032b3ff9a8d43f7c83"/>
          <p:cNvPicPr/>
          <p:nvPr/>
        </p:nvPicPr>
        <p:blipFill>
          <a:blip r:embed="rId1"/>
          <a:srcRect l="0" t="0" r="0" b="52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0" name="bg.wma" descr=""/>
          <p:cNvPicPr/>
          <p:nvPr/>
        </p:nvPicPr>
        <p:blipFill>
          <a:blip r:embed="rId2"/>
          <a:stretch/>
        </p:blipFill>
        <p:spPr>
          <a:xfrm>
            <a:off x="838836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43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60ad2f25ad91652d4c088db0"/>
          <p:cNvPicPr/>
          <p:nvPr/>
        </p:nvPicPr>
        <p:blipFill>
          <a:blip r:embed="rId1"/>
          <a:srcRect l="0" t="0" r="0" b="52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" descr="11f43d6f83ab93d1431694f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5" descr="ae8eb5f16a0f9683a40f52b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5" descr="863a7e1d3baa26ae86d6b6a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5" descr="6b4796081c8b04832fddd4f0"/>
          <p:cNvPicPr/>
          <p:nvPr/>
        </p:nvPicPr>
        <p:blipFill>
          <a:blip r:embed="rId1"/>
          <a:srcRect l="0" t="0" r="0" b="20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5"/>
          <p:cNvSpPr/>
          <p:nvPr/>
        </p:nvSpPr>
        <p:spPr>
          <a:xfrm>
            <a:off x="797040" y="189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我会读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1559520" y="1739880"/>
            <a:ext cx="5972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淘金   蜂拥而至   扫兴离去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埋头苦干   一无所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种花   若有所悟   全部精力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实现梦想   不无骄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3"/>
          <p:cNvSpPr/>
          <p:nvPr/>
        </p:nvSpPr>
        <p:spPr>
          <a:xfrm>
            <a:off x="8794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468360" y="1341360"/>
            <a:ext cx="896472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 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我是唯一找到真金的人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我的金子就在这块土地里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5"/>
          <p:cNvSpPr/>
          <p:nvPr/>
        </p:nvSpPr>
        <p:spPr>
          <a:xfrm>
            <a:off x="1116000" y="1054440"/>
            <a:ext cx="73818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勤劳可以致富，汗水能换真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劳而获只能是个幻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辛勤劳动才会梦想成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智慧＋勤劳＝真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劳动创造一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5"/>
          <p:cNvSpPr/>
          <p:nvPr/>
        </p:nvSpPr>
        <p:spPr>
          <a:xfrm>
            <a:off x="539640" y="333360"/>
            <a:ext cx="860436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积累词句：摘抄含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金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字的成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格言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金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其中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课后搜集有关劳动创造财富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9"/>
          <p:cNvSpPr/>
          <p:nvPr/>
        </p:nvSpPr>
        <p:spPr>
          <a:xfrm>
            <a:off x="6736320" y="406800"/>
            <a:ext cx="155196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谢谢指导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3"/>
          <p:cNvSpPr/>
          <p:nvPr/>
        </p:nvSpPr>
        <p:spPr>
          <a:xfrm>
            <a:off x="900000" y="1004760"/>
            <a:ext cx="824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五年以后，彼得终于实现了他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梦想。他不无骄傲地对人说：“我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唯一找到真金的人！我的金子就在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块土地里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2700360" y="1916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无骄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4665960" y="2708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3"/>
          <p:cNvSpPr/>
          <p:nvPr/>
        </p:nvSpPr>
        <p:spPr>
          <a:xfrm>
            <a:off x="395280" y="907920"/>
            <a:ext cx="91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听说有人在萨文河畔无意中发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金子，淘金者便蜂拥而至。他们在河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上挖出很多大坑，希望找到金子，结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绝大多数一无所获，只好扫兴离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3635280" y="1989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蜂拥而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2195640" y="3645000"/>
            <a:ext cx="20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无所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5435640" y="3645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扫兴离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5"/>
          <p:cNvSpPr/>
          <p:nvPr/>
        </p:nvSpPr>
        <p:spPr>
          <a:xfrm>
            <a:off x="395280" y="907920"/>
            <a:ext cx="91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听说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有人在萨文河畔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无意中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发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金子，淘金者便蜂拥而至。他们在河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上挖出很多大坑，希望找到金子，结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绝大多数一无所获，只好扫兴离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5"/>
          <p:cNvSpPr/>
          <p:nvPr/>
        </p:nvSpPr>
        <p:spPr>
          <a:xfrm>
            <a:off x="395280" y="907920"/>
            <a:ext cx="91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听说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有人在萨文河畔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无意中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发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金子，淘金者便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蜂拥而至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。他们在河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上挖出很多大坑，希望找到金子，结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绝大多数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一无所获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，只好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扫兴离去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5"/>
          <p:cNvSpPr/>
          <p:nvPr/>
        </p:nvSpPr>
        <p:spPr>
          <a:xfrm>
            <a:off x="468360" y="476280"/>
            <a:ext cx="867564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彼得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弗雷特不甘心落空，他在河床附近买了一块没人要的土地，一个人默默地挖掘着。他埋头苦干了几个月，几乎翻遍了整块土地，也没有发现一丁点儿金子。面对着坑坑洼洼的土地，他失望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六个月后，他连买面包的钱都没有了。于是，他准备离开这儿到别处去谋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635280" y="620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甘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308720" y="1341360"/>
            <a:ext cx="18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默默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2771640" y="2060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埋头苦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7740720" y="20606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翻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3"/>
          <p:cNvSpPr/>
          <p:nvPr/>
        </p:nvSpPr>
        <p:spPr>
          <a:xfrm>
            <a:off x="1908000" y="213372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若有所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5828040" y="2133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3"/>
          <p:cNvSpPr/>
          <p:nvPr/>
        </p:nvSpPr>
        <p:spPr>
          <a:xfrm>
            <a:off x="2268360" y="1700280"/>
            <a:ext cx="55436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这里没找到金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但这土地很肥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5076720" y="27082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肥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9:11:54Z</dcterms:created>
  <dc:creator/>
  <dc:description/>
  <dc:language>en-US</dc:language>
  <cp:lastModifiedBy/>
  <dcterms:modified xsi:type="dcterms:W3CDTF">2015-12-17T07:53:18Z</dcterms:modified>
  <cp:revision>35</cp:revision>
  <dc:subject/>
  <dc:title/>
</cp:coreProperties>
</file>