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3D2-33BA-445A-833C-BE0EEBD1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86F-9BE6-4DCD-8C3E-6F37496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8CB-5F62-4FC8-B0C6-0D9AFA6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CBB-A5F6-4A21-BBA0-08ECA21F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9CE-2D4C-41D0-8B19-F78C5FA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0DE-8FE1-46B5-8D65-1CA1DEAE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D58-B72E-4E4D-9CE5-5E3A578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F5A-6220-4174-8FE7-1A55955F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E24-1BBF-4ECD-AB6C-08D80406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534-A3EB-4DDD-94DA-69199E12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777-53BB-4CC2-9FE9-E44CBEE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E37-2E63-4ADB-A285-9FCE7C3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311-88CC-4978-9C16-F86EDB4420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419640" y="6524640"/>
            <a:ext cx="504720" cy="333360"/>
          </a:xfrm>
          <a:custGeom>
            <a:avLst/>
            <a:gdLst>
              <a:gd name="textAreaLeft" fmla="*/ 20520 w 504720"/>
              <a:gd name="textAreaRight" fmla="*/ 484200 w 50472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341" y="1350"/>
                </a:lnTo>
                <a:lnTo>
                  <a:pt x="1350" y="135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341" y="20250"/>
                </a:lnTo>
                <a:lnTo>
                  <a:pt x="31341" y="135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341" y="2025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91" h="21600">
                <a:moveTo>
                  <a:pt x="9302" y="3756"/>
                </a:moveTo>
                <a:lnTo>
                  <a:pt x="23389" y="10800"/>
                </a:lnTo>
                <a:lnTo>
                  <a:pt x="930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lastslide"/>
          </p:cNvPr>
          <p:cNvSpPr/>
          <p:nvPr/>
        </p:nvSpPr>
        <p:spPr>
          <a:xfrm>
            <a:off x="4067280" y="6524640"/>
            <a:ext cx="503280" cy="333360"/>
          </a:xfrm>
          <a:custGeom>
            <a:avLst/>
            <a:gdLst>
              <a:gd name="textAreaLeft" fmla="*/ 20520 w 503280"/>
              <a:gd name="textAreaRight" fmla="*/ 482760 w 50328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248" y="1350"/>
                </a:lnTo>
                <a:lnTo>
                  <a:pt x="1350" y="135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248" y="20250"/>
                </a:lnTo>
                <a:lnTo>
                  <a:pt x="31248" y="135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48" y="2025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598" h="21600">
                <a:moveTo>
                  <a:pt x="19817" y="10800"/>
                </a:moveTo>
                <a:lnTo>
                  <a:pt x="9255" y="17844"/>
                </a:lnTo>
                <a:lnTo>
                  <a:pt x="9255" y="3756"/>
                </a:lnTo>
                <a:close/>
              </a:path>
              <a:path fill="darken" w="32598" h="21600">
                <a:moveTo>
                  <a:pt x="21672" y="3756"/>
                </a:moveTo>
                <a:lnTo>
                  <a:pt x="21672" y="17844"/>
                </a:lnTo>
                <a:lnTo>
                  <a:pt x="23343" y="17844"/>
                </a:lnTo>
                <a:lnTo>
                  <a:pt x="23343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2771640" y="6524640"/>
            <a:ext cx="505080" cy="333360"/>
          </a:xfrm>
          <a:custGeom>
            <a:avLst/>
            <a:gdLst>
              <a:gd name="textAreaLeft" fmla="*/ 20520 w 505080"/>
              <a:gd name="textAreaRight" fmla="*/ 484560 w 50508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65" y="1350"/>
                </a:lnTo>
                <a:lnTo>
                  <a:pt x="1350" y="135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65" y="20250"/>
                </a:lnTo>
                <a:lnTo>
                  <a:pt x="31365" y="135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365" y="2025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715" h="21600">
                <a:moveTo>
                  <a:pt x="9314" y="10800"/>
                </a:moveTo>
                <a:lnTo>
                  <a:pt x="23401" y="3756"/>
                </a:lnTo>
                <a:lnTo>
                  <a:pt x="2340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124000" y="6524640"/>
            <a:ext cx="505080" cy="333360"/>
          </a:xfrm>
          <a:custGeom>
            <a:avLst/>
            <a:gdLst>
              <a:gd name="textAreaLeft" fmla="*/ 20520 w 505080"/>
              <a:gd name="textAreaRight" fmla="*/ 484560 w 50508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65" y="1350"/>
                </a:lnTo>
                <a:lnTo>
                  <a:pt x="1350" y="135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65" y="20250"/>
                </a:lnTo>
                <a:lnTo>
                  <a:pt x="31365" y="135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365" y="2025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715" h="21600">
                <a:moveTo>
                  <a:pt x="12840" y="10800"/>
                </a:moveTo>
                <a:lnTo>
                  <a:pt x="23401" y="3756"/>
                </a:lnTo>
                <a:lnTo>
                  <a:pt x="23401" y="17844"/>
                </a:lnTo>
                <a:close/>
              </a:path>
              <a:path fill="darken" w="32715" h="21600">
                <a:moveTo>
                  <a:pt x="9314" y="3756"/>
                </a:moveTo>
                <a:lnTo>
                  <a:pt x="10985" y="3756"/>
                </a:lnTo>
                <a:lnTo>
                  <a:pt x="10985" y="17844"/>
                </a:lnTo>
                <a:lnTo>
                  <a:pt x="931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firstslide"/>
          </p:cNvPr>
          <p:cNvSpPr/>
          <p:nvPr/>
        </p:nvSpPr>
        <p:spPr>
          <a:xfrm>
            <a:off x="1547640" y="6524640"/>
            <a:ext cx="432000" cy="333360"/>
          </a:xfrm>
          <a:custGeom>
            <a:avLst/>
            <a:gdLst>
              <a:gd name="textAreaLeft" fmla="*/ 20520 w 432000"/>
              <a:gd name="textAreaRight" fmla="*/ 411480 w 43200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634" y="1350"/>
                </a:lnTo>
                <a:lnTo>
                  <a:pt x="1350" y="135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634" y="20250"/>
                </a:lnTo>
                <a:lnTo>
                  <a:pt x="26634" y="135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4" y="2025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984" h="21600">
                <a:moveTo>
                  <a:pt x="13992" y="3800"/>
                </a:moveTo>
                <a:lnTo>
                  <a:pt x="16582" y="6425"/>
                </a:lnTo>
                <a:lnTo>
                  <a:pt x="16582" y="4675"/>
                </a:lnTo>
                <a:lnTo>
                  <a:pt x="18367" y="4675"/>
                </a:lnTo>
                <a:lnTo>
                  <a:pt x="18367" y="8210"/>
                </a:lnTo>
                <a:lnTo>
                  <a:pt x="20992" y="10800"/>
                </a:lnTo>
                <a:lnTo>
                  <a:pt x="19330" y="10800"/>
                </a:lnTo>
                <a:lnTo>
                  <a:pt x="19330" y="18028"/>
                </a:lnTo>
                <a:lnTo>
                  <a:pt x="8655" y="18028"/>
                </a:lnTo>
                <a:lnTo>
                  <a:pt x="8655" y="10800"/>
                </a:lnTo>
                <a:lnTo>
                  <a:pt x="6992" y="10800"/>
                </a:lnTo>
                <a:close/>
              </a:path>
              <a:path fill="darkenLess" w="27984" h="21600">
                <a:moveTo>
                  <a:pt x="16582" y="6425"/>
                </a:moveTo>
                <a:lnTo>
                  <a:pt x="16582" y="4675"/>
                </a:lnTo>
                <a:lnTo>
                  <a:pt x="18367" y="4675"/>
                </a:lnTo>
                <a:lnTo>
                  <a:pt x="18367" y="8210"/>
                </a:lnTo>
                <a:close/>
              </a:path>
              <a:path fill="darkenLess" w="27984" h="21600">
                <a:moveTo>
                  <a:pt x="13065" y="14318"/>
                </a:moveTo>
                <a:lnTo>
                  <a:pt x="14920" y="14318"/>
                </a:lnTo>
                <a:lnTo>
                  <a:pt x="14920" y="18028"/>
                </a:lnTo>
                <a:lnTo>
                  <a:pt x="19330" y="18028"/>
                </a:lnTo>
                <a:lnTo>
                  <a:pt x="19330" y="10800"/>
                </a:lnTo>
                <a:lnTo>
                  <a:pt x="8655" y="10800"/>
                </a:lnTo>
                <a:lnTo>
                  <a:pt x="8655" y="18028"/>
                </a:lnTo>
                <a:lnTo>
                  <a:pt x="13065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83,3,&#24187;&#28783;&#29255; 3" TargetMode="External"/><Relationship Id="rId2" Type="http://schemas.openxmlformats.org/officeDocument/2006/relationships/hyperlink" Target="281,5,&#24187;&#28783;&#29255; 5" TargetMode="External"/><Relationship Id="rId3" Type="http://schemas.openxmlformats.org/officeDocument/2006/relationships/hyperlink" Target="285,8,&#24187;&#28783;&#29255; 8" TargetMode="External"/><Relationship Id="rId4" Type="http://schemas.openxmlformats.org/officeDocument/2006/relationships/hyperlink" Target="297,24,&#24187;&#28783;&#29255; 24" TargetMode="External"/><Relationship Id="rId5" Type="http://schemas.openxmlformats.org/officeDocument/2006/relationships/hyperlink" Target="-1,25,&#24187;&#28783;&#29255; 25" TargetMode="External"/><Relationship Id="rId6" Type="http://schemas.openxmlformats.org/officeDocument/2006/relationships/hyperlink" Target="301,22,&#24187;&#28783;&#29255; 22" TargetMode="External"/><Relationship Id="rId7" Type="http://schemas.openxmlformats.org/officeDocument/2006/relationships/hyperlink" Target="-1,28,&#24187;&#28783;&#29255; 28" TargetMode="External"/><Relationship Id="rId8" Type="http://schemas.openxmlformats.org/officeDocument/2006/relationships/hyperlink" Target="-1,26,&#24187;&#28783;&#29255; 26" TargetMode="External"/><Relationship Id="rId9" Type="http://schemas.openxmlformats.org/officeDocument/2006/relationships/hyperlink" Target="305,21,&#24187;&#28783;&#29255; 21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22435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-1,9,&#24187;&#28783;&#29255; 9" TargetMode="External"/><Relationship Id="rId2" Type="http://schemas.openxmlformats.org/officeDocument/2006/relationships/hyperlink" Target="-1,12,&#24187;&#28783;&#29255; 12" TargetMode="External"/><Relationship Id="rId3" Type="http://schemas.openxmlformats.org/officeDocument/2006/relationships/hyperlink" Target="-1,15,&#24187;&#28783;&#29255; 15" TargetMode="External"/><Relationship Id="rId4" Type="http://schemas.openxmlformats.org/officeDocument/2006/relationships/hyperlink" Target="-1,18,&#24187;&#28783;&#29255; 18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63640" y="2060640"/>
            <a:ext cx="38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惊弓之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7836480" y="105120"/>
            <a:ext cx="967320" cy="843840"/>
          </a:xfrm>
          <a:custGeom>
            <a:avLst/>
            <a:gdLst>
              <a:gd name="textAreaLeft" fmla="*/ 0 w 967320"/>
              <a:gd name="textAreaRight" fmla="*/ 967680 w 9673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目 标 方 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824040"/>
            <a:ext cx="1311120" cy="843840"/>
          </a:xfrm>
          <a:custGeom>
            <a:avLst/>
            <a:gdLst>
              <a:gd name="textAreaLeft" fmla="*/ 0 w 1311120"/>
              <a:gd name="textAreaRight" fmla="*/ 1311120 w 13111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成 语 原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1544400"/>
            <a:ext cx="1311120" cy="843480"/>
          </a:xfrm>
          <a:custGeom>
            <a:avLst/>
            <a:gdLst>
              <a:gd name="textAreaLeft" fmla="*/ 0 w 1311120"/>
              <a:gd name="textAreaRight" fmla="*/ 1311120 w 1311120"/>
              <a:gd name="textAreaTop" fmla="*/ 219240 h 843480"/>
              <a:gd name="textAreaBottom" fmla="*/ 624240 h 8434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学 习 生 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6480" y="3849840"/>
            <a:ext cx="967320" cy="843840"/>
          </a:xfrm>
          <a:custGeom>
            <a:avLst/>
            <a:gdLst>
              <a:gd name="textAreaLeft" fmla="*/ 0 w 967320"/>
              <a:gd name="textAreaRight" fmla="*/ 967680 w 9673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成 语 含  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7640" y="4569120"/>
            <a:ext cx="1305000" cy="843840"/>
          </a:xfrm>
          <a:custGeom>
            <a:avLst/>
            <a:gdLst>
              <a:gd name="textAreaLeft" fmla="*/ 0 w 1305000"/>
              <a:gd name="textAreaRight" fmla="*/ 1305360 w 130500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相 关 资 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36480" y="3129120"/>
            <a:ext cx="967320" cy="843840"/>
          </a:xfrm>
          <a:custGeom>
            <a:avLst/>
            <a:gdLst>
              <a:gd name="textAreaLeft" fmla="*/ 0 w 967320"/>
              <a:gd name="textAreaRight" fmla="*/ 967680 w 9673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课 文 解  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36480" y="6099480"/>
            <a:ext cx="967320" cy="843840"/>
          </a:xfrm>
          <a:custGeom>
            <a:avLst/>
            <a:gdLst>
              <a:gd name="textAreaLeft" fmla="*/ 0 w 967320"/>
              <a:gd name="textAreaRight" fmla="*/ 967680 w 9673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扩 展 知  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5289840"/>
            <a:ext cx="1305000" cy="843840"/>
          </a:xfrm>
          <a:custGeom>
            <a:avLst/>
            <a:gdLst>
              <a:gd name="textAreaLeft" fmla="*/ 0 w 1305000"/>
              <a:gd name="textAreaRight" fmla="*/ 1305360 w 130500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知 识 训 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36480" y="2337120"/>
            <a:ext cx="967320" cy="843840"/>
          </a:xfrm>
          <a:custGeom>
            <a:avLst/>
            <a:gdLst>
              <a:gd name="textAreaLeft" fmla="*/ 0 w 967320"/>
              <a:gd name="textAreaRight" fmla="*/ 967680 w 967320"/>
              <a:gd name="textAreaTop" fmla="*/ 219240 h 843840"/>
              <a:gd name="textAreaBottom" fmla="*/ 624600 h 843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课 文 译 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00" y="8366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魏王惊奇得半天合不拢嘴，拍掌大叫道：“啊呀，箭术竟能高超到这等地步，真是意想不到！”更羸说：“不是我的箭术高超，而是因为这只大雁身有隐伤。”魏王更奇怪了：“大雁远在天边，你怎么会知道它有隐伤呢？”更羸说：“这只大雁飞得很慢，鸣声悲凉。根据我的经验，飞得慢，是因为它体内有伤；鸣声悲，是因为它孤单失群，得不到帮助。这只孤雁疮伤未愈，惊魂不定，所以一听见尖利的弓弦响声便惊逃高飞。由于急拍双翅，用力过猛，引起旧伤迸裂，才跌落下来的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58920" y="1341360"/>
            <a:ext cx="223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语含义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2276640"/>
            <a:ext cx="532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被弓箭吓怕了的鸟不容易安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比喻经过惊吓的人碰到一点动静就非常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0440" y="1105560"/>
            <a:ext cx="4504320" cy="22708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189000"/>
            <a:ext cx="640872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教学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会三个生字，一个多音字（更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写“悲惨”、“愈合”等词语；理解“惊弓之鸟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孤单失群”等词语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会运用读写记号学习课文，理解课文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了解“惊弓之鸟”这个成语的故事，知道成语的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有感情的朗读课文中体会更羸观察仔细，善于分析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通过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更羸说过的一段话，进行弄懂自然段意思的训练，体会怎样把一段话写清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练习复述课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6028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1557360"/>
            <a:ext cx="640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确本单元的学习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边读书边做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借助词典理解课文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162864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16000" y="836640"/>
            <a:ext cx="691344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异日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者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更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与魏王处京台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之下，仰见飞鸟。更羸谓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魏王曰：“臣为王引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弓虚发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而下鸟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”魏王曰：“然则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射可至此乎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？”更羸曰：“可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有间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雁从东方来，更羸以虚发而下之。魏王曰：“然则射可至此乎？”更羸曰：“此孽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也。”王曰：“先生何以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知之？”对曰：“其飞徐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而鸣悲。飞徐者，故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疮痛也；鸣悲者，久失群也，故疮未息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而惊心未去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也。闻弦音，引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而高飞，故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发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陨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0"/>
            <a:ext cx="2124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语原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9000">
    <p:pull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8360" y="836640"/>
            <a:ext cx="59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异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往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更羸：战国时的名射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京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.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引：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虚发：只拉弓不放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下鸟：使鸟落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然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既然如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病、孤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乎：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间：间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333360"/>
            <a:ext cx="165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注释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9000"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幼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何以：就是“以何”，凭什么、怎么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慢慢地，缓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息：痊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去：消除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引：伸展（翅膀），这里意味奋力向上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故：所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括号中的“发而”两字是根据文意补充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陨：高处坠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pull dir="l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32000" y="1341360"/>
            <a:ext cx="309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习生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997360"/>
            <a:ext cx="5327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更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弦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8000" y="981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一天，更羸与魏王在高大的台下，他们抬头看见一只飞鸟，更羸对魏王说：“我为大王表演一个拉弓虚射就能使鸟掉下来的技能。”魏王摇头笑笑：“射箭技术可以达到这么高的水平吗？”更赢说：“能。”　过了没有多久，一只孤雁从东方徐徐飞来，更羸摆好姿式，拉满弓弦，虚射一箭，雁应声而落。魏王简直不相信自己的眼睛，惊叹道：“箭术难道真的可以达到这种地步？”更羸於下弓解释说：“这是一只有隐伤的鸟，听见弦声惊悖而下落的，并非我的技术高明！”魏王更纳闷了：“大雁在天空中飞，先生怎么知道它有隐伤？”更羸回答说：“它飞得慢，是因为旧伤疼痛，鸣声又凄厉，是因为长久失群，原来的伤口没有愈合，惊恐的心理还没有消除，一听到弦声，就猛一下子搧动翅膀往高处飞，瞬间就牵动旧的创伤，疼得使它跌落下来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260280"/>
            <a:ext cx="2556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文译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9000"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83664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更羸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é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陪同魏王散步，看见远处有一只大雁飞来。他对魏王说：“我不用箭，只要虚拉弓弦，就可以让那只飞鸟跌落下来。”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魏王听了，耸肩一笑：“ 你的射箭技术竟能高超到这等地步？”更羸自信地说：“能。”不一会儿，那只大雁飞到了头顶上空。只见更羸拉弓扣弦，随着嘣地一声弦响，只见大雁先是向高处猛地一窜，随后在空中无力地扑打几下，便一头栽落下来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18288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文解释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9000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2:06:33Z</dcterms:created>
  <dc:creator>Administrator</dc:creator>
  <dc:description/>
  <dc:language>en-US</dc:language>
  <cp:lastModifiedBy/>
  <dcterms:modified xsi:type="dcterms:W3CDTF">2015-08-17T02:56:43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