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2.wmf" ContentType="image/x-wmf"/>
  <Override PartName="/ppt/media/image19.png" ContentType="image/png"/>
  <Override PartName="/ppt/media/camera.wav" ContentType="audio/x-wav"/>
  <Override PartName="/ppt/media/image8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23.png" ContentType="image/png"/>
  <Override PartName="/ppt/media/image13.jpeg" ContentType="image/jpeg"/>
  <Override PartName="/ppt/media/image9.png" ContentType="image/png"/>
  <Override PartName="/ppt/media/image34.png" ContentType="image/png"/>
  <Override PartName="/ppt/media/image12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5.jpeg" ContentType="image/jpeg"/>
  <Override PartName="/ppt/media/image26.wmf" ContentType="image/x-wmf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2FB-7585-4927-85C9-75A083B8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178-E61E-49CE-8C02-C3614403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8D5-9173-4A63-94E4-A68FADA5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9CB-E74C-4AF0-B25E-0369CA23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E57-8254-4C9C-92C7-D953AD81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796-CDA4-4B83-AAF4-C294260D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E6F-7AD5-43F3-B120-6B2217A0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00D-B777-42CA-934A-51D6E7C2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E52-898C-4498-83D1-4BE6A1F0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028-8B70-4BE5-A7B4-DEAD10E3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602-EE79-474D-B70A-4A546C72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891-C50F-4469-A530-81987304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94CB-0A82-4FD3-8D49-C94605826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image" Target="../media/image23.png"/><Relationship Id="rId7" Type="http://schemas.openxmlformats.org/officeDocument/2006/relationships/image" Target="../media/image22.wmf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image" Target="../media/image23.png"/><Relationship Id="rId7" Type="http://schemas.openxmlformats.org/officeDocument/2006/relationships/image" Target="../media/image21.jpe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image" Target="../media/image23.png"/><Relationship Id="rId7" Type="http://schemas.openxmlformats.org/officeDocument/2006/relationships/image" Target="../media/image21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image" Target="../media/image23.png"/><Relationship Id="rId7" Type="http://schemas.openxmlformats.org/officeDocument/2006/relationships/image" Target="../media/image21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18.png"/><Relationship Id="rId4" Type="http://schemas.openxmlformats.org/officeDocument/2006/relationships/image" Target="../media/image27.png"/><Relationship Id="rId5" Type="http://schemas.openxmlformats.org/officeDocument/2006/relationships/image" Target="../media/image26.wmf"/><Relationship Id="rId6" Type="http://schemas.openxmlformats.org/officeDocument/2006/relationships/image" Target="../media/image28.png"/><Relationship Id="rId7" Type="http://schemas.openxmlformats.org/officeDocument/2006/relationships/image" Target="../media/image18.png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752480" y="1523880"/>
            <a:ext cx="5715000" cy="14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雪山乐园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(ZBMY5BZ{ADI7D~ZSRRBMOA"/>
          <p:cNvPicPr/>
          <p:nvPr/>
        </p:nvPicPr>
        <p:blipFill>
          <a:blip r:embed="rId1"/>
          <a:stretch/>
        </p:blipFill>
        <p:spPr>
          <a:xfrm>
            <a:off x="457200" y="609480"/>
            <a:ext cx="3467160" cy="2524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[Z(75N6KUVV4V5ERKN3(`12"/>
          <p:cNvPicPr/>
          <p:nvPr/>
        </p:nvPicPr>
        <p:blipFill>
          <a:blip r:embed="rId2"/>
          <a:stretch/>
        </p:blipFill>
        <p:spPr>
          <a:xfrm>
            <a:off x="3809880" y="762120"/>
            <a:ext cx="3610080" cy="251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@YIWDUZKPL@FVO(QZ9N@F96"/>
          <p:cNvPicPr/>
          <p:nvPr/>
        </p:nvPicPr>
        <p:blipFill>
          <a:blip r:embed="rId3"/>
          <a:stretch/>
        </p:blipFill>
        <p:spPr>
          <a:xfrm>
            <a:off x="380880" y="2819520"/>
            <a:ext cx="3372120" cy="3533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$IY(0MO(JB04]9JLAT`5VF"/>
          <p:cNvPicPr/>
          <p:nvPr/>
        </p:nvPicPr>
        <p:blipFill>
          <a:blip r:embed="rId4"/>
          <a:stretch/>
        </p:blipFill>
        <p:spPr>
          <a:xfrm>
            <a:off x="4572000" y="2666880"/>
            <a:ext cx="209556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(ZBMY5BZ{ADI7D~ZSRRBMOA"/>
          <p:cNvPicPr/>
          <p:nvPr/>
        </p:nvPicPr>
        <p:blipFill>
          <a:blip r:embed="rId1"/>
          <a:stretch/>
        </p:blipFill>
        <p:spPr>
          <a:xfrm>
            <a:off x="457200" y="609480"/>
            <a:ext cx="3467160" cy="252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[Z(75N6KUVV4V5ERKN3(`12"/>
          <p:cNvPicPr/>
          <p:nvPr/>
        </p:nvPicPr>
        <p:blipFill>
          <a:blip r:embed="rId2"/>
          <a:stretch/>
        </p:blipFill>
        <p:spPr>
          <a:xfrm>
            <a:off x="3809880" y="762120"/>
            <a:ext cx="3610080" cy="2514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2668680" y="32004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719520" y="32259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166920" y="32004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284360" y="322596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786200" y="322596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777640" y="32259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棵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 flipH="1">
            <a:off x="3733560" y="403848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4038480" y="403848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507120" y="441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040280" y="4433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971800" y="3962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2957760" y="47131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3659040" y="5257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凑十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108"/>
          <p:cNvPicPr/>
          <p:nvPr/>
        </p:nvPicPr>
        <p:blipFill>
          <a:blip r:embed="rId1"/>
          <a:srcRect l="1182" t="58405" r="67502" b="102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3429000" y="4114800"/>
            <a:ext cx="358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24080" y="220968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5562720" y="1828800"/>
            <a:ext cx="990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438280" y="5181480"/>
            <a:ext cx="838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457200" y="57150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0" y="304920"/>
            <a:ext cx="1981080" cy="2286000"/>
          </a:xfrm>
          <a:prstGeom prst="wedgeEllipseCallout">
            <a:avLst>
              <a:gd name="adj1" fmla="val 39421"/>
              <a:gd name="adj2" fmla="val 704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仔细观察，你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p108"/>
          <p:cNvPicPr/>
          <p:nvPr/>
        </p:nvPicPr>
        <p:blipFill>
          <a:blip r:embed="rId1"/>
          <a:srcRect l="1182" t="58405" r="67502" b="102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3"/>
          <p:cNvGrpSpPr/>
          <p:nvPr/>
        </p:nvGrpSpPr>
        <p:grpSpPr>
          <a:xfrm>
            <a:off x="3243240" y="3287880"/>
            <a:ext cx="3909960" cy="2368440"/>
            <a:chOff x="3243240" y="3287880"/>
            <a:chExt cx="3909960" cy="2368440"/>
          </a:xfrm>
        </p:grpSpPr>
        <p:sp>
          <p:nvSpPr>
            <p:cNvPr id="128" name="Line 4"/>
            <p:cNvSpPr/>
            <p:nvPr/>
          </p:nvSpPr>
          <p:spPr>
            <a:xfrm>
              <a:off x="3254400" y="4035600"/>
              <a:ext cx="2743200" cy="609480"/>
            </a:xfrm>
            <a:prstGeom prst="line">
              <a:avLst/>
            </a:prstGeom>
            <a:ln w="1015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"/>
            <p:cNvSpPr/>
            <p:nvPr/>
          </p:nvSpPr>
          <p:spPr>
            <a:xfrm>
              <a:off x="4303800" y="3287880"/>
              <a:ext cx="2849400" cy="571680"/>
            </a:xfrm>
            <a:prstGeom prst="line">
              <a:avLst/>
            </a:prstGeom>
            <a:ln w="1015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3276720" y="4983480"/>
              <a:ext cx="2743200" cy="642960"/>
            </a:xfrm>
            <a:prstGeom prst="line">
              <a:avLst/>
            </a:prstGeom>
            <a:ln w="1015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6019920" y="4589640"/>
              <a:ext cx="0" cy="1066680"/>
            </a:xfrm>
            <a:prstGeom prst="line">
              <a:avLst/>
            </a:prstGeom>
            <a:ln w="1015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>
              <a:off x="7129440" y="3837240"/>
              <a:ext cx="0" cy="1035000"/>
            </a:xfrm>
            <a:prstGeom prst="line">
              <a:avLst/>
            </a:prstGeom>
            <a:ln w="1015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3276720" y="3980160"/>
              <a:ext cx="0" cy="1066680"/>
            </a:xfrm>
            <a:prstGeom prst="line">
              <a:avLst/>
            </a:prstGeom>
            <a:ln w="1015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H="1">
              <a:off x="6055920" y="4795920"/>
              <a:ext cx="1095480" cy="817560"/>
            </a:xfrm>
            <a:prstGeom prst="line">
              <a:avLst/>
            </a:prstGeom>
            <a:ln w="1015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 flipV="1">
              <a:off x="5943600" y="3914640"/>
              <a:ext cx="1143000" cy="762120"/>
            </a:xfrm>
            <a:prstGeom prst="line">
              <a:avLst/>
            </a:prstGeom>
            <a:ln w="1015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V="1">
              <a:off x="3243240" y="3305160"/>
              <a:ext cx="1100160" cy="718920"/>
            </a:xfrm>
            <a:prstGeom prst="line">
              <a:avLst/>
            </a:prstGeom>
            <a:ln w="1015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13"/>
          <p:cNvSpPr/>
          <p:nvPr/>
        </p:nvSpPr>
        <p:spPr>
          <a:xfrm>
            <a:off x="380880" y="579132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10800" y="5181"/>
                </a:moveTo>
                <a:lnTo>
                  <a:pt x="13376" y="7793"/>
                </a:ln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lnTo>
                  <a:pt x="17763" y="12144"/>
                </a:lnTo>
                <a:lnTo>
                  <a:pt x="16109" y="12144"/>
                </a:lnTo>
                <a:lnTo>
                  <a:pt x="16109" y="19334"/>
                </a:lnTo>
                <a:lnTo>
                  <a:pt x="5491" y="19334"/>
                </a:lnTo>
                <a:lnTo>
                  <a:pt x="5491" y="12144"/>
                </a:lnTo>
                <a:lnTo>
                  <a:pt x="3837" y="12144"/>
                </a:lnTo>
                <a:close/>
              </a:path>
              <a:path fill="darkenLess" w="21600" h="24289">
                <a:moveTo>
                  <a:pt x="13376" y="7793"/>
                </a:move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close/>
              </a:path>
              <a:path fill="darkenLess" w="21600" h="24289">
                <a:moveTo>
                  <a:pt x="9877" y="15643"/>
                </a:moveTo>
                <a:lnTo>
                  <a:pt x="11723" y="15643"/>
                </a:lnTo>
                <a:lnTo>
                  <a:pt x="11723" y="19334"/>
                </a:lnTo>
                <a:lnTo>
                  <a:pt x="16109" y="19334"/>
                </a:lnTo>
                <a:lnTo>
                  <a:pt x="16109" y="12144"/>
                </a:lnTo>
                <a:lnTo>
                  <a:pt x="5491" y="12144"/>
                </a:lnTo>
                <a:lnTo>
                  <a:pt x="5491" y="19334"/>
                </a:lnTo>
                <a:lnTo>
                  <a:pt x="9877" y="193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p108"/>
          <p:cNvPicPr/>
          <p:nvPr/>
        </p:nvPicPr>
        <p:blipFill>
          <a:blip r:embed="rId1"/>
          <a:srcRect l="1182" t="58405" r="67502" b="102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3"/>
          <p:cNvGrpSpPr/>
          <p:nvPr/>
        </p:nvGrpSpPr>
        <p:grpSpPr>
          <a:xfrm>
            <a:off x="2854440" y="1795320"/>
            <a:ext cx="1355760" cy="1481040"/>
            <a:chOff x="2854440" y="1795320"/>
            <a:chExt cx="1355760" cy="1481040"/>
          </a:xfrm>
        </p:grpSpPr>
        <p:sp>
          <p:nvSpPr>
            <p:cNvPr id="140" name="Line 4"/>
            <p:cNvSpPr/>
            <p:nvPr/>
          </p:nvSpPr>
          <p:spPr>
            <a:xfrm>
              <a:off x="2895840" y="2122200"/>
              <a:ext cx="695160" cy="23976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>
              <a:off x="3570480" y="2328840"/>
              <a:ext cx="11160" cy="9475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2854440" y="2971800"/>
              <a:ext cx="716040" cy="2617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3560760" y="2057400"/>
              <a:ext cx="630360" cy="3362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V="1">
              <a:off x="3579840" y="2906280"/>
              <a:ext cx="630360" cy="33660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>
              <a:off x="4191120" y="2066760"/>
              <a:ext cx="11160" cy="86220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 flipH="1">
              <a:off x="2907000" y="2100240"/>
              <a:ext cx="10800" cy="8953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 flipV="1">
              <a:off x="2907000" y="1817640"/>
              <a:ext cx="587160" cy="30456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3471840" y="1795320"/>
              <a:ext cx="706680" cy="2728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3"/>
          <p:cNvSpPr/>
          <p:nvPr/>
        </p:nvSpPr>
        <p:spPr>
          <a:xfrm>
            <a:off x="380880" y="579132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10800" y="5181"/>
                </a:moveTo>
                <a:lnTo>
                  <a:pt x="13376" y="7793"/>
                </a:ln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lnTo>
                  <a:pt x="17763" y="12144"/>
                </a:lnTo>
                <a:lnTo>
                  <a:pt x="16109" y="12144"/>
                </a:lnTo>
                <a:lnTo>
                  <a:pt x="16109" y="19334"/>
                </a:lnTo>
                <a:lnTo>
                  <a:pt x="5491" y="19334"/>
                </a:lnTo>
                <a:lnTo>
                  <a:pt x="5491" y="12144"/>
                </a:lnTo>
                <a:lnTo>
                  <a:pt x="3837" y="12144"/>
                </a:lnTo>
                <a:close/>
              </a:path>
              <a:path fill="darkenLess" w="21600" h="24289">
                <a:moveTo>
                  <a:pt x="13376" y="7793"/>
                </a:move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close/>
              </a:path>
              <a:path fill="darkenLess" w="21600" h="24289">
                <a:moveTo>
                  <a:pt x="9877" y="15643"/>
                </a:moveTo>
                <a:lnTo>
                  <a:pt x="11723" y="15643"/>
                </a:lnTo>
                <a:lnTo>
                  <a:pt x="11723" y="19334"/>
                </a:lnTo>
                <a:lnTo>
                  <a:pt x="16109" y="19334"/>
                </a:lnTo>
                <a:lnTo>
                  <a:pt x="16109" y="12144"/>
                </a:lnTo>
                <a:lnTo>
                  <a:pt x="5491" y="12144"/>
                </a:lnTo>
                <a:lnTo>
                  <a:pt x="5491" y="19334"/>
                </a:lnTo>
                <a:lnTo>
                  <a:pt x="9877" y="193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108"/>
          <p:cNvPicPr/>
          <p:nvPr/>
        </p:nvPicPr>
        <p:blipFill>
          <a:blip r:embed="rId1"/>
          <a:srcRect l="1182" t="58405" r="67502" b="102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3"/>
          <p:cNvGrpSpPr/>
          <p:nvPr/>
        </p:nvGrpSpPr>
        <p:grpSpPr>
          <a:xfrm>
            <a:off x="3178080" y="488880"/>
            <a:ext cx="3467160" cy="3701880"/>
            <a:chOff x="3178080" y="488880"/>
            <a:chExt cx="3467160" cy="3701880"/>
          </a:xfrm>
        </p:grpSpPr>
        <p:sp>
          <p:nvSpPr>
            <p:cNvPr id="152" name="Oval 4"/>
            <p:cNvSpPr/>
            <p:nvPr/>
          </p:nvSpPr>
          <p:spPr>
            <a:xfrm>
              <a:off x="5661000" y="1643040"/>
              <a:ext cx="815760" cy="8157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"/>
            <p:cNvSpPr/>
            <p:nvPr/>
          </p:nvSpPr>
          <p:spPr>
            <a:xfrm>
              <a:off x="5616360" y="2406600"/>
              <a:ext cx="912960" cy="8161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"/>
            <p:cNvSpPr/>
            <p:nvPr/>
          </p:nvSpPr>
          <p:spPr>
            <a:xfrm>
              <a:off x="5368680" y="2971800"/>
              <a:ext cx="1276560" cy="12189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7"/>
            <p:cNvSpPr/>
            <p:nvPr/>
          </p:nvSpPr>
          <p:spPr>
            <a:xfrm>
              <a:off x="4103640" y="3179520"/>
              <a:ext cx="985680" cy="9226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8"/>
            <p:cNvSpPr/>
            <p:nvPr/>
          </p:nvSpPr>
          <p:spPr>
            <a:xfrm>
              <a:off x="4354560" y="2601720"/>
              <a:ext cx="687240" cy="6969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9"/>
            <p:cNvSpPr/>
            <p:nvPr/>
          </p:nvSpPr>
          <p:spPr>
            <a:xfrm>
              <a:off x="3178080" y="488880"/>
              <a:ext cx="816120" cy="773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AutoShape 10"/>
          <p:cNvSpPr/>
          <p:nvPr/>
        </p:nvSpPr>
        <p:spPr>
          <a:xfrm>
            <a:off x="380880" y="579132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10800" y="5181"/>
                </a:moveTo>
                <a:lnTo>
                  <a:pt x="13376" y="7793"/>
                </a:ln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lnTo>
                  <a:pt x="17763" y="12144"/>
                </a:lnTo>
                <a:lnTo>
                  <a:pt x="16109" y="12144"/>
                </a:lnTo>
                <a:lnTo>
                  <a:pt x="16109" y="19334"/>
                </a:lnTo>
                <a:lnTo>
                  <a:pt x="5491" y="19334"/>
                </a:lnTo>
                <a:lnTo>
                  <a:pt x="5491" y="12144"/>
                </a:lnTo>
                <a:lnTo>
                  <a:pt x="3837" y="12144"/>
                </a:lnTo>
                <a:close/>
              </a:path>
              <a:path fill="darkenLess" w="21600" h="24289">
                <a:moveTo>
                  <a:pt x="13376" y="7793"/>
                </a:move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close/>
              </a:path>
              <a:path fill="darkenLess" w="21600" h="24289">
                <a:moveTo>
                  <a:pt x="9877" y="15643"/>
                </a:moveTo>
                <a:lnTo>
                  <a:pt x="11723" y="15643"/>
                </a:lnTo>
                <a:lnTo>
                  <a:pt x="11723" y="19334"/>
                </a:lnTo>
                <a:lnTo>
                  <a:pt x="16109" y="19334"/>
                </a:lnTo>
                <a:lnTo>
                  <a:pt x="16109" y="12144"/>
                </a:lnTo>
                <a:lnTo>
                  <a:pt x="5491" y="12144"/>
                </a:lnTo>
                <a:lnTo>
                  <a:pt x="5491" y="19334"/>
                </a:lnTo>
                <a:lnTo>
                  <a:pt x="9877" y="193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p108"/>
          <p:cNvPicPr/>
          <p:nvPr/>
        </p:nvPicPr>
        <p:blipFill>
          <a:blip r:embed="rId1"/>
          <a:srcRect l="1182" t="58405" r="67502" b="102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"/>
          <p:cNvGrpSpPr/>
          <p:nvPr/>
        </p:nvGrpSpPr>
        <p:grpSpPr>
          <a:xfrm>
            <a:off x="2469960" y="5194440"/>
            <a:ext cx="810000" cy="1290600"/>
            <a:chOff x="2469960" y="5194440"/>
            <a:chExt cx="810000" cy="1290600"/>
          </a:xfrm>
        </p:grpSpPr>
        <p:sp>
          <p:nvSpPr>
            <p:cNvPr id="161" name="Oval 4"/>
            <p:cNvSpPr/>
            <p:nvPr/>
          </p:nvSpPr>
          <p:spPr>
            <a:xfrm>
              <a:off x="2479680" y="5194440"/>
              <a:ext cx="785880" cy="250920"/>
            </a:xfrm>
            <a:prstGeom prst="ellipse">
              <a:avLst/>
            </a:prstGeom>
            <a:noFill/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>
              <a:off x="2471760" y="5334120"/>
              <a:ext cx="0" cy="76212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>
              <a:off x="3276720" y="5334120"/>
              <a:ext cx="0" cy="76212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rc 7"/>
            <p:cNvSpPr/>
            <p:nvPr/>
          </p:nvSpPr>
          <p:spPr>
            <a:xfrm rot="8306400">
              <a:off x="2569680" y="5816520"/>
              <a:ext cx="609840" cy="533160"/>
            </a:xfrm>
            <a:prstGeom prst="pie">
              <a:avLst/>
            </a:prstGeom>
            <a:noFill/>
            <a:ln w="763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8"/>
          <p:cNvSpPr/>
          <p:nvPr/>
        </p:nvSpPr>
        <p:spPr>
          <a:xfrm>
            <a:off x="380880" y="579132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10800" y="5181"/>
                </a:moveTo>
                <a:lnTo>
                  <a:pt x="13376" y="7793"/>
                </a:ln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lnTo>
                  <a:pt x="17763" y="12144"/>
                </a:lnTo>
                <a:lnTo>
                  <a:pt x="16109" y="12144"/>
                </a:lnTo>
                <a:lnTo>
                  <a:pt x="16109" y="19334"/>
                </a:lnTo>
                <a:lnTo>
                  <a:pt x="5491" y="19334"/>
                </a:lnTo>
                <a:lnTo>
                  <a:pt x="5491" y="12144"/>
                </a:lnTo>
                <a:lnTo>
                  <a:pt x="3837" y="12144"/>
                </a:lnTo>
                <a:close/>
              </a:path>
              <a:path fill="darkenLess" w="21600" h="24289">
                <a:moveTo>
                  <a:pt x="13376" y="7793"/>
                </a:move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close/>
              </a:path>
              <a:path fill="darkenLess" w="21600" h="24289">
                <a:moveTo>
                  <a:pt x="9877" y="15643"/>
                </a:moveTo>
                <a:lnTo>
                  <a:pt x="11723" y="15643"/>
                </a:lnTo>
                <a:lnTo>
                  <a:pt x="11723" y="19334"/>
                </a:lnTo>
                <a:lnTo>
                  <a:pt x="16109" y="19334"/>
                </a:lnTo>
                <a:lnTo>
                  <a:pt x="16109" y="12144"/>
                </a:lnTo>
                <a:lnTo>
                  <a:pt x="5491" y="12144"/>
                </a:lnTo>
                <a:lnTo>
                  <a:pt x="5491" y="19334"/>
                </a:lnTo>
                <a:lnTo>
                  <a:pt x="9877" y="193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b926f2305019ba3ceac4af3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02"/>
          <p:cNvPicPr/>
          <p:nvPr/>
        </p:nvPicPr>
        <p:blipFill>
          <a:blip r:embed="rId2"/>
          <a:stretch/>
        </p:blipFill>
        <p:spPr>
          <a:xfrm>
            <a:off x="457200" y="2590920"/>
            <a:ext cx="2087640" cy="2666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4434120" y="1143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生活中哪些物品的形状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3048120" y="2666880"/>
            <a:ext cx="2057400" cy="6098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5867280" y="2286000"/>
            <a:ext cx="1067040" cy="106668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4952880" y="3657600"/>
            <a:ext cx="762120" cy="1371600"/>
          </a:xfrm>
          <a:prstGeom prst="ca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6781680" y="3505320"/>
            <a:ext cx="99072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04920" y="4191120"/>
            <a:ext cx="2514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03"/>
          <p:cNvPicPr/>
          <p:nvPr/>
        </p:nvPicPr>
        <p:blipFill>
          <a:blip r:embed="rId1"/>
          <a:srcRect l="0" t="0" r="938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03"/>
          <p:cNvPicPr/>
          <p:nvPr/>
        </p:nvPicPr>
        <p:blipFill>
          <a:blip r:embed="rId1"/>
          <a:srcRect l="47883" t="6659" r="938" b="35650"/>
          <a:stretch/>
        </p:blipFill>
        <p:spPr>
          <a:xfrm>
            <a:off x="1676520" y="0"/>
            <a:ext cx="7467480" cy="6262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未标题-1"/>
          <p:cNvPicPr/>
          <p:nvPr/>
        </p:nvPicPr>
        <p:blipFill>
          <a:blip r:embed="rId2"/>
          <a:stretch/>
        </p:blipFill>
        <p:spPr>
          <a:xfrm>
            <a:off x="228600" y="4870440"/>
            <a:ext cx="988920" cy="19875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4"/>
          <p:cNvSpPr/>
          <p:nvPr/>
        </p:nvSpPr>
        <p:spPr>
          <a:xfrm>
            <a:off x="152280" y="1600200"/>
            <a:ext cx="2286000" cy="2971800"/>
          </a:xfrm>
          <a:prstGeom prst="wedgeEllipseCallout">
            <a:avLst>
              <a:gd name="adj1" fmla="val -7638"/>
              <a:gd name="adj2" fmla="val 748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图上都有什么？你能说清楚它们的位置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复习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进一步理解、巩固本学期所学的知识，加深知识间的联系，综合运用所学的知识解决简单的实际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在整理复习的过程中，体验整理知识的方法，初步形成归纳、整理知识的能力，逐步养成回顾和反思的好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通过自主探索、合作交流，感受学习数学的快乐，增强学习数学的自信心和成功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03"/>
          <p:cNvPicPr/>
          <p:nvPr/>
        </p:nvPicPr>
        <p:blipFill>
          <a:blip r:embed="rId1"/>
          <a:srcRect l="1981" t="32175" r="40568" b="15672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  <p:sp>
        <p:nvSpPr>
          <p:cNvPr id="179" name="WordArt 3"/>
          <p:cNvSpPr txBox="1"/>
          <p:nvPr/>
        </p:nvSpPr>
        <p:spPr>
          <a:xfrm>
            <a:off x="685800" y="502920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比一比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2"/>
          <p:cNvGraphicFramePr/>
          <p:nvPr/>
        </p:nvGraphicFramePr>
        <p:xfrm>
          <a:off x="54000" y="2286000"/>
          <a:ext cx="909000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2286000"/>
                    <a:ext cx="90900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Picture 3" descr="未标题-1"/>
          <p:cNvPicPr/>
          <p:nvPr/>
        </p:nvPicPr>
        <p:blipFill>
          <a:blip r:embed="rId3"/>
          <a:stretch/>
        </p:blipFill>
        <p:spPr>
          <a:xfrm>
            <a:off x="914400" y="380880"/>
            <a:ext cx="988920" cy="198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3"/>
          <p:cNvGraphicFramePr/>
          <p:nvPr/>
        </p:nvGraphicFramePr>
        <p:xfrm>
          <a:off x="7332840" y="4807080"/>
          <a:ext cx="107784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32840" y="4807080"/>
                    <a:ext cx="107784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AutoShape 5"/>
          <p:cNvSpPr/>
          <p:nvPr/>
        </p:nvSpPr>
        <p:spPr>
          <a:xfrm>
            <a:off x="2362320" y="457200"/>
            <a:ext cx="5486400" cy="1143000"/>
          </a:xfrm>
          <a:prstGeom prst="wedgeEllipseCallout">
            <a:avLst>
              <a:gd name="adj1" fmla="val -51245"/>
              <a:gd name="adj2" fmla="val 65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雪山乐园里都有什么？让我们统计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2590920" y="4114800"/>
            <a:ext cx="5333760" cy="609480"/>
          </a:xfrm>
          <a:prstGeom prst="wedgeRoundRectCallout">
            <a:avLst>
              <a:gd name="adj1" fmla="val 38689"/>
              <a:gd name="adj2" fmla="val 11406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根据统计表，我能看出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02"/>
          <p:cNvPicPr/>
          <p:nvPr/>
        </p:nvPicPr>
        <p:blipFill>
          <a:blip r:embed="rId6"/>
          <a:stretch/>
        </p:blipFill>
        <p:spPr>
          <a:xfrm>
            <a:off x="380880" y="480060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8"/>
          <p:cNvSpPr/>
          <p:nvPr/>
        </p:nvSpPr>
        <p:spPr>
          <a:xfrm>
            <a:off x="1981080" y="5029200"/>
            <a:ext cx="3276720" cy="1143000"/>
          </a:xfrm>
          <a:prstGeom prst="wedgeEllipseCallout">
            <a:avLst>
              <a:gd name="adj1" fmla="val -62597"/>
              <a:gd name="adj2" fmla="val -29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能提出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1228267963_ddvip_4989"/>
          <p:cNvPicPr/>
          <p:nvPr/>
        </p:nvPicPr>
        <p:blipFill>
          <a:blip r:embed="rId1"/>
          <a:srcRect l="0" t="9500" r="0" b="12197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AE022"/>
          <p:cNvPicPr/>
          <p:nvPr/>
        </p:nvPicPr>
        <p:blipFill>
          <a:blip r:embed="rId2"/>
          <a:stretch/>
        </p:blipFill>
        <p:spPr>
          <a:xfrm>
            <a:off x="4572000" y="0"/>
            <a:ext cx="1371600" cy="1009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02"/>
          <p:cNvPicPr/>
          <p:nvPr/>
        </p:nvPicPr>
        <p:blipFill>
          <a:blip r:embed="rId3"/>
          <a:stretch/>
        </p:blipFill>
        <p:spPr>
          <a:xfrm>
            <a:off x="1905120" y="2590920"/>
            <a:ext cx="1657080" cy="23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Object 2"/>
          <p:cNvGraphicFramePr/>
          <p:nvPr/>
        </p:nvGraphicFramePr>
        <p:xfrm>
          <a:off x="7162920" y="2895480"/>
          <a:ext cx="1230120" cy="19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2895480"/>
                    <a:ext cx="1230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Picture 6" descr="3Danimal_2018"/>
          <p:cNvPicPr/>
          <p:nvPr/>
        </p:nvPicPr>
        <p:blipFill>
          <a:blip r:embed="rId6"/>
          <a:stretch/>
        </p:blipFill>
        <p:spPr>
          <a:xfrm>
            <a:off x="3886200" y="36576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AE022"/>
          <p:cNvPicPr/>
          <p:nvPr/>
        </p:nvPicPr>
        <p:blipFill>
          <a:blip r:embed="rId7"/>
          <a:stretch/>
        </p:blipFill>
        <p:spPr>
          <a:xfrm>
            <a:off x="1219320" y="5486400"/>
            <a:ext cx="1218960" cy="896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1228267963_ddvip_4989"/>
          <p:cNvPicPr/>
          <p:nvPr/>
        </p:nvPicPr>
        <p:blipFill>
          <a:blip r:embed="rId8"/>
          <a:srcRect l="39999" t="24255" r="24166" b="16732"/>
          <a:stretch/>
        </p:blipFill>
        <p:spPr>
          <a:xfrm>
            <a:off x="3352680" y="5410080"/>
            <a:ext cx="1071720" cy="1295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9"/>
          <p:cNvSpPr/>
          <p:nvPr/>
        </p:nvSpPr>
        <p:spPr>
          <a:xfrm>
            <a:off x="2596320" y="5627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487760" y="5653080"/>
            <a:ext cx="427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(         )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5752800" y="5587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12"/>
          <p:cNvSpPr txBox="1"/>
          <p:nvPr/>
        </p:nvSpPr>
        <p:spPr>
          <a:xfrm>
            <a:off x="380880" y="60948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看图说一说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228267963_ddvip_4989"/>
          <p:cNvPicPr/>
          <p:nvPr/>
        </p:nvPicPr>
        <p:blipFill>
          <a:blip r:embed="rId1"/>
          <a:srcRect l="0" t="9500" r="0" b="12197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AE022"/>
          <p:cNvPicPr/>
          <p:nvPr/>
        </p:nvPicPr>
        <p:blipFill>
          <a:blip r:embed="rId2"/>
          <a:stretch/>
        </p:blipFill>
        <p:spPr>
          <a:xfrm>
            <a:off x="4572000" y="0"/>
            <a:ext cx="1371600" cy="1009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02"/>
          <p:cNvPicPr/>
          <p:nvPr/>
        </p:nvPicPr>
        <p:blipFill>
          <a:blip r:embed="rId3"/>
          <a:stretch/>
        </p:blipFill>
        <p:spPr>
          <a:xfrm>
            <a:off x="1905120" y="2590920"/>
            <a:ext cx="1657080" cy="23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Object 2"/>
          <p:cNvGraphicFramePr/>
          <p:nvPr/>
        </p:nvGraphicFramePr>
        <p:xfrm>
          <a:off x="7162920" y="2895480"/>
          <a:ext cx="1230120" cy="19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2895480"/>
                    <a:ext cx="1230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6" descr="3Danimal_2018"/>
          <p:cNvPicPr/>
          <p:nvPr/>
        </p:nvPicPr>
        <p:blipFill>
          <a:blip r:embed="rId6"/>
          <a:stretch/>
        </p:blipFill>
        <p:spPr>
          <a:xfrm>
            <a:off x="3886200" y="36576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1228267963_ddvip_4989"/>
          <p:cNvPicPr/>
          <p:nvPr/>
        </p:nvPicPr>
        <p:blipFill>
          <a:blip r:embed="rId7"/>
          <a:srcRect l="39999" t="24255" r="24166" b="16732"/>
          <a:stretch/>
        </p:blipFill>
        <p:spPr>
          <a:xfrm>
            <a:off x="3352680" y="5410080"/>
            <a:ext cx="1071720" cy="1295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2596320" y="5627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487760" y="5653080"/>
            <a:ext cx="427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(         )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752800" y="5587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1" descr="3Danimal_2018"/>
          <p:cNvPicPr/>
          <p:nvPr/>
        </p:nvPicPr>
        <p:blipFill>
          <a:blip r:embed="rId8"/>
          <a:stretch/>
        </p:blipFill>
        <p:spPr>
          <a:xfrm>
            <a:off x="838080" y="5181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1228267963_ddvip_4989"/>
          <p:cNvPicPr/>
          <p:nvPr/>
        </p:nvPicPr>
        <p:blipFill>
          <a:blip r:embed="rId1"/>
          <a:srcRect l="0" t="9500" r="0" b="12197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AE022"/>
          <p:cNvPicPr/>
          <p:nvPr/>
        </p:nvPicPr>
        <p:blipFill>
          <a:blip r:embed="rId2"/>
          <a:stretch/>
        </p:blipFill>
        <p:spPr>
          <a:xfrm>
            <a:off x="4572000" y="0"/>
            <a:ext cx="1371600" cy="1009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02"/>
          <p:cNvPicPr/>
          <p:nvPr/>
        </p:nvPicPr>
        <p:blipFill>
          <a:blip r:embed="rId3"/>
          <a:stretch/>
        </p:blipFill>
        <p:spPr>
          <a:xfrm>
            <a:off x="1905120" y="2590920"/>
            <a:ext cx="1657080" cy="23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Object 2"/>
          <p:cNvGraphicFramePr/>
          <p:nvPr/>
        </p:nvGraphicFramePr>
        <p:xfrm>
          <a:off x="7162920" y="2895480"/>
          <a:ext cx="1230120" cy="19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2895480"/>
                    <a:ext cx="1230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6" descr="3Danimal_2018"/>
          <p:cNvPicPr/>
          <p:nvPr/>
        </p:nvPicPr>
        <p:blipFill>
          <a:blip r:embed="rId6"/>
          <a:stretch/>
        </p:blipFill>
        <p:spPr>
          <a:xfrm>
            <a:off x="3886200" y="36576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1228267963_ddvip_4989"/>
          <p:cNvPicPr/>
          <p:nvPr/>
        </p:nvPicPr>
        <p:blipFill>
          <a:blip r:embed="rId7"/>
          <a:srcRect l="39999" t="24255" r="24166" b="16732"/>
          <a:stretch/>
        </p:blipFill>
        <p:spPr>
          <a:xfrm>
            <a:off x="3352680" y="5410080"/>
            <a:ext cx="1071720" cy="1295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2596320" y="5627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4487760" y="5653080"/>
            <a:ext cx="427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(         )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752800" y="5587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1" descr="02"/>
          <p:cNvPicPr/>
          <p:nvPr/>
        </p:nvPicPr>
        <p:blipFill>
          <a:blip r:embed="rId8"/>
          <a:stretch/>
        </p:blipFill>
        <p:spPr>
          <a:xfrm>
            <a:off x="1447920" y="5257800"/>
            <a:ext cx="101592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1228267963_ddvip_4989"/>
          <p:cNvPicPr/>
          <p:nvPr/>
        </p:nvPicPr>
        <p:blipFill>
          <a:blip r:embed="rId1"/>
          <a:srcRect l="0" t="9500" r="0" b="12197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AE022"/>
          <p:cNvPicPr/>
          <p:nvPr/>
        </p:nvPicPr>
        <p:blipFill>
          <a:blip r:embed="rId2"/>
          <a:stretch/>
        </p:blipFill>
        <p:spPr>
          <a:xfrm>
            <a:off x="4572000" y="0"/>
            <a:ext cx="1371600" cy="1009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02"/>
          <p:cNvPicPr/>
          <p:nvPr/>
        </p:nvPicPr>
        <p:blipFill>
          <a:blip r:embed="rId3"/>
          <a:stretch/>
        </p:blipFill>
        <p:spPr>
          <a:xfrm>
            <a:off x="1905120" y="2590920"/>
            <a:ext cx="1657080" cy="23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2"/>
          <p:cNvGraphicFramePr/>
          <p:nvPr/>
        </p:nvGraphicFramePr>
        <p:xfrm>
          <a:off x="7162920" y="2895480"/>
          <a:ext cx="1230120" cy="19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2895480"/>
                    <a:ext cx="1230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Picture 6" descr="3Danimal_2018"/>
          <p:cNvPicPr/>
          <p:nvPr/>
        </p:nvPicPr>
        <p:blipFill>
          <a:blip r:embed="rId6"/>
          <a:stretch/>
        </p:blipFill>
        <p:spPr>
          <a:xfrm>
            <a:off x="3886200" y="36576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1228267963_ddvip_4989"/>
          <p:cNvPicPr/>
          <p:nvPr/>
        </p:nvPicPr>
        <p:blipFill>
          <a:blip r:embed="rId7"/>
          <a:srcRect l="39999" t="24255" r="24166" b="16732"/>
          <a:stretch/>
        </p:blipFill>
        <p:spPr>
          <a:xfrm>
            <a:off x="3352680" y="5410080"/>
            <a:ext cx="1071720" cy="1295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2596320" y="5627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4487760" y="5653080"/>
            <a:ext cx="427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(         )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5752800" y="5587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3"/>
          <p:cNvGraphicFramePr/>
          <p:nvPr/>
        </p:nvGraphicFramePr>
        <p:xfrm>
          <a:off x="1676520" y="5410080"/>
          <a:ext cx="836640" cy="129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5410080"/>
                    <a:ext cx="836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3"/>
          <p:cNvSpPr/>
          <p:nvPr/>
        </p:nvSpPr>
        <p:spPr>
          <a:xfrm>
            <a:off x="457200" y="3124080"/>
            <a:ext cx="2438280" cy="1384560"/>
          </a:xfrm>
          <a:prstGeom prst="cube">
            <a:avLst>
              <a:gd name="adj" fmla="val 37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066680" y="3200400"/>
            <a:ext cx="1143000" cy="276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2438280" y="3581280"/>
            <a:ext cx="457200" cy="439920"/>
          </a:xfrm>
          <a:prstGeom prst="sun">
            <a:avLst>
              <a:gd name="adj" fmla="val 246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143000" y="3809880"/>
            <a:ext cx="533520" cy="490680"/>
          </a:xfrm>
          <a:prstGeom prst="ca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7"/>
          <p:cNvSpPr txBox="1"/>
          <p:nvPr/>
        </p:nvSpPr>
        <p:spPr>
          <a:xfrm>
            <a:off x="1295280" y="60948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小摄影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40" name="Picture 8" descr="照相机"/>
          <p:cNvPicPr/>
          <p:nvPr/>
        </p:nvPicPr>
        <p:blipFill>
          <a:blip r:embed="rId1"/>
          <a:stretch/>
        </p:blipFill>
        <p:spPr>
          <a:xfrm>
            <a:off x="4495680" y="380880"/>
            <a:ext cx="1371600" cy="1101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AE004"/>
          <p:cNvPicPr/>
          <p:nvPr/>
        </p:nvPicPr>
        <p:blipFill>
          <a:blip r:embed="rId2"/>
          <a:stretch/>
        </p:blipFill>
        <p:spPr>
          <a:xfrm>
            <a:off x="914400" y="1981080"/>
            <a:ext cx="1600200" cy="771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未标题-1"/>
          <p:cNvPicPr/>
          <p:nvPr/>
        </p:nvPicPr>
        <p:blipFill>
          <a:blip r:embed="rId3"/>
          <a:stretch/>
        </p:blipFill>
        <p:spPr>
          <a:xfrm>
            <a:off x="990720" y="4343400"/>
            <a:ext cx="804600" cy="1447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UB0034"/>
          <p:cNvPicPr/>
          <p:nvPr/>
        </p:nvPicPr>
        <p:blipFill>
          <a:blip r:embed="rId4"/>
          <a:stretch/>
        </p:blipFill>
        <p:spPr>
          <a:xfrm>
            <a:off x="3048120" y="3124080"/>
            <a:ext cx="777600" cy="121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AE004"/>
          <p:cNvPicPr/>
          <p:nvPr/>
        </p:nvPicPr>
        <p:blipFill>
          <a:blip r:embed="rId5"/>
          <a:stretch/>
        </p:blipFill>
        <p:spPr>
          <a:xfrm>
            <a:off x="4343400" y="2286000"/>
            <a:ext cx="1371600" cy="662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UB0034"/>
          <p:cNvPicPr/>
          <p:nvPr/>
        </p:nvPicPr>
        <p:blipFill>
          <a:blip r:embed="rId6"/>
          <a:stretch/>
        </p:blipFill>
        <p:spPr>
          <a:xfrm>
            <a:off x="6324480" y="2057400"/>
            <a:ext cx="72864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未标题-1"/>
          <p:cNvPicPr/>
          <p:nvPr/>
        </p:nvPicPr>
        <p:blipFill>
          <a:blip r:embed="rId7"/>
          <a:stretch/>
        </p:blipFill>
        <p:spPr>
          <a:xfrm>
            <a:off x="7772400" y="1905120"/>
            <a:ext cx="7621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5"/>
          <p:cNvGrpSpPr/>
          <p:nvPr/>
        </p:nvGrpSpPr>
        <p:grpSpPr>
          <a:xfrm>
            <a:off x="4495680" y="4495680"/>
            <a:ext cx="1219320" cy="762120"/>
            <a:chOff x="4495680" y="4495680"/>
            <a:chExt cx="1219320" cy="762120"/>
          </a:xfrm>
        </p:grpSpPr>
        <p:sp>
          <p:nvSpPr>
            <p:cNvPr id="248" name="Rectangle 16"/>
            <p:cNvSpPr/>
            <p:nvPr/>
          </p:nvSpPr>
          <p:spPr>
            <a:xfrm>
              <a:off x="4495680" y="4495680"/>
              <a:ext cx="1219320" cy="762120"/>
            </a:xfrm>
            <a:prstGeom prst="rect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4876560" y="4638600"/>
              <a:ext cx="468360" cy="4302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8"/>
          <p:cNvGrpSpPr/>
          <p:nvPr/>
        </p:nvGrpSpPr>
        <p:grpSpPr>
          <a:xfrm>
            <a:off x="6095880" y="4495680"/>
            <a:ext cx="1219320" cy="762120"/>
            <a:chOff x="6095880" y="4495680"/>
            <a:chExt cx="1219320" cy="762120"/>
          </a:xfrm>
        </p:grpSpPr>
        <p:sp>
          <p:nvSpPr>
            <p:cNvPr id="251" name="Rectangle 19"/>
            <p:cNvSpPr/>
            <p:nvPr/>
          </p:nvSpPr>
          <p:spPr>
            <a:xfrm>
              <a:off x="6095880" y="4495680"/>
              <a:ext cx="1219320" cy="762120"/>
            </a:xfrm>
            <a:prstGeom prst="rect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0"/>
            <p:cNvSpPr/>
            <p:nvPr/>
          </p:nvSpPr>
          <p:spPr>
            <a:xfrm>
              <a:off x="6324480" y="4724280"/>
              <a:ext cx="76212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1"/>
          <p:cNvGrpSpPr/>
          <p:nvPr/>
        </p:nvGrpSpPr>
        <p:grpSpPr>
          <a:xfrm>
            <a:off x="7620120" y="4495680"/>
            <a:ext cx="1218960" cy="762120"/>
            <a:chOff x="7620120" y="4495680"/>
            <a:chExt cx="1218960" cy="762120"/>
          </a:xfrm>
        </p:grpSpPr>
        <p:sp>
          <p:nvSpPr>
            <p:cNvPr id="254" name="Rectangle 22"/>
            <p:cNvSpPr/>
            <p:nvPr/>
          </p:nvSpPr>
          <p:spPr>
            <a:xfrm>
              <a:off x="7620120" y="4495680"/>
              <a:ext cx="1218960" cy="762120"/>
            </a:xfrm>
            <a:prstGeom prst="rect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3"/>
            <p:cNvSpPr/>
            <p:nvPr/>
          </p:nvSpPr>
          <p:spPr>
            <a:xfrm>
              <a:off x="8000640" y="4647960"/>
              <a:ext cx="456840" cy="439920"/>
            </a:xfrm>
            <a:prstGeom prst="sun">
              <a:avLst>
                <a:gd name="adj" fmla="val 24629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Line 24"/>
          <p:cNvSpPr/>
          <p:nvPr/>
        </p:nvSpPr>
        <p:spPr>
          <a:xfrm>
            <a:off x="4952880" y="2895480"/>
            <a:ext cx="1752840" cy="16002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>
            <a:off x="6781680" y="3048120"/>
            <a:ext cx="1524240" cy="14475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 flipH="1">
            <a:off x="4952520" y="3124080"/>
            <a:ext cx="3124440" cy="13716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未标题-1"/>
          <p:cNvPicPr/>
          <p:nvPr/>
        </p:nvPicPr>
        <p:blipFill>
          <a:blip r:embed="rId1"/>
          <a:stretch/>
        </p:blipFill>
        <p:spPr>
          <a:xfrm>
            <a:off x="6545160" y="3848040"/>
            <a:ext cx="762120" cy="153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001"/>
          <p:cNvPicPr/>
          <p:nvPr/>
        </p:nvPicPr>
        <p:blipFill>
          <a:blip r:embed="rId2"/>
          <a:stretch/>
        </p:blipFill>
        <p:spPr>
          <a:xfrm>
            <a:off x="7688160" y="3924360"/>
            <a:ext cx="1150920" cy="1670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002"/>
          <p:cNvPicPr/>
          <p:nvPr/>
        </p:nvPicPr>
        <p:blipFill>
          <a:blip r:embed="rId3"/>
          <a:stretch/>
        </p:blipFill>
        <p:spPr>
          <a:xfrm>
            <a:off x="5686560" y="3848040"/>
            <a:ext cx="995400" cy="1555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02"/>
          <p:cNvPicPr/>
          <p:nvPr/>
        </p:nvPicPr>
        <p:blipFill>
          <a:blip r:embed="rId4"/>
          <a:stretch/>
        </p:blipFill>
        <p:spPr>
          <a:xfrm>
            <a:off x="4827600" y="4076640"/>
            <a:ext cx="1208160" cy="1542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003"/>
          <p:cNvPicPr/>
          <p:nvPr/>
        </p:nvPicPr>
        <p:blipFill>
          <a:blip r:embed="rId5"/>
          <a:stretch/>
        </p:blipFill>
        <p:spPr>
          <a:xfrm>
            <a:off x="4192560" y="4076640"/>
            <a:ext cx="828720" cy="1752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004"/>
          <p:cNvPicPr/>
          <p:nvPr/>
        </p:nvPicPr>
        <p:blipFill>
          <a:blip r:embed="rId6"/>
          <a:stretch/>
        </p:blipFill>
        <p:spPr>
          <a:xfrm>
            <a:off x="3259080" y="4152960"/>
            <a:ext cx="1143000" cy="1720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005"/>
          <p:cNvPicPr/>
          <p:nvPr/>
        </p:nvPicPr>
        <p:blipFill>
          <a:blip r:embed="rId7"/>
          <a:stretch/>
        </p:blipFill>
        <p:spPr>
          <a:xfrm>
            <a:off x="2201760" y="4305240"/>
            <a:ext cx="1314720" cy="178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3"/>
          <p:cNvGraphicFramePr/>
          <p:nvPr/>
        </p:nvGraphicFramePr>
        <p:xfrm>
          <a:off x="7230960" y="3924360"/>
          <a:ext cx="885960" cy="13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30960" y="392436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12"/>
          <p:cNvSpPr/>
          <p:nvPr/>
        </p:nvSpPr>
        <p:spPr>
          <a:xfrm>
            <a:off x="1066680" y="457200"/>
            <a:ext cx="78645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朋友们排队买票，小刚排在第（   ）个，他前面有（   ）个人，后面有（   ）个人，一共有（   ）个小朋友。小玲排在倒数第（   ），她和小刚中间有（   ）个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13"/>
          <p:cNvSpPr txBox="1"/>
          <p:nvPr/>
        </p:nvSpPr>
        <p:spPr>
          <a:xfrm>
            <a:off x="1287360" y="346716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售票处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4277880" y="5676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6639840" y="5295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1O)R$ZQ3}Q{{04IG$V0VHK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~BULMAJ$Q)V`ZHE$I_`@303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T7G9X@W9}4[)GVDZ${{%6MV"/>
          <p:cNvPicPr/>
          <p:nvPr/>
        </p:nvPicPr>
        <p:blipFill>
          <a:blip r:embed="rId3"/>
          <a:stretch/>
        </p:blipFill>
        <p:spPr>
          <a:xfrm>
            <a:off x="304920" y="228600"/>
            <a:ext cx="22572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QJYJ[$8Y%YZZ3O]{1N)D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O7~M8$L8%()85V%(BA3SJ5K"/>
          <p:cNvPicPr/>
          <p:nvPr/>
        </p:nvPicPr>
        <p:blipFill>
          <a:blip r:embed="rId2"/>
          <a:stretch/>
        </p:blipFill>
        <p:spPr>
          <a:xfrm>
            <a:off x="6324480" y="5033880"/>
            <a:ext cx="2819520" cy="1824120"/>
          </a:xfrm>
          <a:prstGeom prst="rect">
            <a:avLst/>
          </a:prstGeom>
          <a:ln w="0">
            <a:noFill/>
          </a:ln>
        </p:spPr>
      </p:pic>
      <p:sp>
        <p:nvSpPr>
          <p:cNvPr id="49" name="未知"/>
          <p:cNvSpPr/>
          <p:nvPr/>
        </p:nvSpPr>
        <p:spPr>
          <a:xfrm>
            <a:off x="1244520" y="736560"/>
            <a:ext cx="7683480" cy="40384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505320" y="2590920"/>
            <a:ext cx="1676160" cy="2743200"/>
            <a:chOff x="3505320" y="2590920"/>
            <a:chExt cx="1676160" cy="2743200"/>
          </a:xfrm>
        </p:grpSpPr>
        <p:grpSp>
          <p:nvGrpSpPr>
            <p:cNvPr id="51" name="Group 3"/>
            <p:cNvGrpSpPr/>
            <p:nvPr/>
          </p:nvGrpSpPr>
          <p:grpSpPr>
            <a:xfrm>
              <a:off x="3505320" y="2590920"/>
              <a:ext cx="1676160" cy="2743200"/>
              <a:chOff x="3505320" y="2590920"/>
              <a:chExt cx="1676160" cy="2743200"/>
            </a:xfrm>
          </p:grpSpPr>
          <p:sp>
            <p:nvSpPr>
              <p:cNvPr id="52" name="Rectangle 4"/>
              <p:cNvSpPr/>
              <p:nvPr/>
            </p:nvSpPr>
            <p:spPr>
              <a:xfrm>
                <a:off x="3505320" y="4496040"/>
                <a:ext cx="167616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5"/>
              <p:cNvSpPr/>
              <p:nvPr/>
            </p:nvSpPr>
            <p:spPr>
              <a:xfrm>
                <a:off x="3809880" y="2590920"/>
                <a:ext cx="0" cy="1905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4876560" y="2590920"/>
                <a:ext cx="0" cy="1905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Text Box 7"/>
            <p:cNvSpPr/>
            <p:nvPr/>
          </p:nvSpPr>
          <p:spPr>
            <a:xfrm>
              <a:off x="3602160" y="45561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4583160" y="45561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9"/>
          <p:cNvSpPr/>
          <p:nvPr/>
        </p:nvSpPr>
        <p:spPr>
          <a:xfrm>
            <a:off x="839520" y="838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525320" y="838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287440" y="806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049560" y="806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830400" y="806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668840" y="806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5411520" y="806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6173640" y="806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935760" y="730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839160" y="19810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1982160" y="19810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820600" y="19810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811680" y="188280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2"/>
          <p:cNvSpPr/>
          <p:nvPr/>
        </p:nvSpPr>
        <p:spPr>
          <a:xfrm>
            <a:off x="4648320" y="4343400"/>
            <a:ext cx="45720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3"/>
          <p:cNvSpPr/>
          <p:nvPr/>
        </p:nvSpPr>
        <p:spPr>
          <a:xfrm>
            <a:off x="4648320" y="4343400"/>
            <a:ext cx="45720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4"/>
          <p:cNvSpPr/>
          <p:nvPr/>
        </p:nvSpPr>
        <p:spPr>
          <a:xfrm>
            <a:off x="4648320" y="4191120"/>
            <a:ext cx="45720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5"/>
          <p:cNvSpPr/>
          <p:nvPr/>
        </p:nvSpPr>
        <p:spPr>
          <a:xfrm>
            <a:off x="4648320" y="4038480"/>
            <a:ext cx="45720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4648320" y="3124080"/>
            <a:ext cx="45720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7"/>
          <p:cNvSpPr/>
          <p:nvPr/>
        </p:nvSpPr>
        <p:spPr>
          <a:xfrm>
            <a:off x="4648320" y="3276720"/>
            <a:ext cx="45720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8"/>
          <p:cNvSpPr/>
          <p:nvPr/>
        </p:nvSpPr>
        <p:spPr>
          <a:xfrm>
            <a:off x="4648320" y="3429000"/>
            <a:ext cx="45720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9"/>
          <p:cNvSpPr/>
          <p:nvPr/>
        </p:nvSpPr>
        <p:spPr>
          <a:xfrm>
            <a:off x="4648320" y="3733920"/>
            <a:ext cx="45720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0"/>
          <p:cNvSpPr/>
          <p:nvPr/>
        </p:nvSpPr>
        <p:spPr>
          <a:xfrm>
            <a:off x="4648320" y="3886200"/>
            <a:ext cx="45720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1"/>
          <p:cNvSpPr/>
          <p:nvPr/>
        </p:nvSpPr>
        <p:spPr>
          <a:xfrm>
            <a:off x="4648320" y="3581280"/>
            <a:ext cx="45720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2"/>
          <p:cNvSpPr/>
          <p:nvPr/>
        </p:nvSpPr>
        <p:spPr>
          <a:xfrm>
            <a:off x="4648320" y="4038480"/>
            <a:ext cx="45720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3"/>
          <p:cNvSpPr/>
          <p:nvPr/>
        </p:nvSpPr>
        <p:spPr>
          <a:xfrm>
            <a:off x="4648320" y="4191120"/>
            <a:ext cx="45720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4"/>
          <p:cNvSpPr/>
          <p:nvPr/>
        </p:nvSpPr>
        <p:spPr>
          <a:xfrm>
            <a:off x="3581280" y="4343400"/>
            <a:ext cx="45720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2932920" y="53341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十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一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~FQS7HWBWYZBNVKUXPVU5`7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867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O7~M8$L8%()85V%(BA3SJ5K"/>
          <p:cNvPicPr/>
          <p:nvPr/>
        </p:nvPicPr>
        <p:blipFill>
          <a:blip r:embed="rId2"/>
          <a:stretch/>
        </p:blipFill>
        <p:spPr>
          <a:xfrm>
            <a:off x="6324480" y="53352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2514600" y="4952880"/>
            <a:ext cx="1371600" cy="129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4876920" y="1219320"/>
            <a:ext cx="6858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486400" y="685800"/>
            <a:ext cx="914400" cy="609480"/>
          </a:xfrm>
          <a:prstGeom prst="wedgeEllipseCallout">
            <a:avLst>
              <a:gd name="adj1" fmla="val -71356"/>
              <a:gd name="adj2" fmla="val 58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665680" y="762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[60NL5AOSO`]HO[B[EJVB3E"/>
          <p:cNvPicPr/>
          <p:nvPr/>
        </p:nvPicPr>
        <p:blipFill>
          <a:blip r:embed="rId1"/>
          <a:stretch/>
        </p:blipFill>
        <p:spPr>
          <a:xfrm>
            <a:off x="1600200" y="685800"/>
            <a:ext cx="3933720" cy="18860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423880" y="271764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719520" y="27432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862520" y="27432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78160" y="26668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252680" y="27432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472720" y="27432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个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~FQS7HWBWYZBNVKUXPVU5`7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86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O7~M8$L8%()85V%(BA3SJ5K"/>
          <p:cNvPicPr/>
          <p:nvPr/>
        </p:nvPicPr>
        <p:blipFill>
          <a:blip r:embed="rId2"/>
          <a:stretch/>
        </p:blipFill>
        <p:spPr>
          <a:xfrm>
            <a:off x="6324480" y="533520"/>
            <a:ext cx="1600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>  </dc:description>
  <dc:language>en-US</dc:language>
  <cp:lastModifiedBy>宋玉交</cp:lastModifiedBy>
  <dcterms:modified xsi:type="dcterms:W3CDTF">2015-02-15T11:25:01Z</dcterms:modified>
  <cp:revision>2</cp:revision>
  <dc:subject>    </dc:subject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