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DF1-0F63-4063-91AB-C53A0F0A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7D2-A8BE-4BF0-8D76-7A7250C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0FF-A309-408A-A6E4-D427AFC8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E86-10C4-4225-8643-FB243E21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F12-0ADF-42E8-921C-C6683C6F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7B4-A4EE-4C55-91BC-2DAA1714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704-7464-4AD0-BCF0-7818F87F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72A-38FE-4243-B196-1A76A440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AE9-326D-4A84-9E89-2A99FDB0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37E-7392-4D8C-A4AA-E612353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62A-6CAD-41D2-B90D-5AAB8791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67D-FBD8-427B-9DA4-71BC217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563-9A02-49BD-B276-E29F0C871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6080" y="175248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绝 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3640" y="3505320"/>
            <a:ext cx="789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487692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请同学们找出诗中描写颜色和动作的词语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2819520"/>
            <a:ext cx="7162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两个</a:t>
            </a: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黄鹂</a:t>
            </a:r>
            <a:r>
              <a:rPr b="0" lang="zh-CN" sz="44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鸣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翠柳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              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行</a:t>
            </a: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白鹭</a:t>
            </a:r>
            <a:r>
              <a:rPr b="0" lang="zh-CN" sz="44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上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天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窗含</a:t>
            </a: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西岭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秋雪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                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门泊</a:t>
            </a: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东吴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里船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7621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请同学们在朗读本诗时认真领会相对的两个词语之间的关系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1981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  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6080" y="175248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绝 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3640" y="3505320"/>
            <a:ext cx="789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advTm="12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170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个黄鹂鸣翠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61920" y="228600"/>
            <a:ext cx="91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一行白鹭上青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956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窗含西岭千秋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170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门泊东吴万里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20574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播放结束，谢谢观赏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5667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杜甫：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字子美，唐代伟大的现实主义诗人，被誉于“诗圣”。本诗是作者晚年的作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170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个黄鹂鸣翠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61920" y="228600"/>
            <a:ext cx="91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一行白鹭上青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56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窗含西岭千秋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70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门泊东吴万里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304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《绝句》数量词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304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《绝句》数量词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257800"/>
            <a:ext cx="5410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有实有虚，使诗更有特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9:03:19Z</dcterms:created>
  <dc:creator>tmc</dc:creator>
  <dc:description/>
  <dc:language>en-US</dc:language>
  <cp:lastModifiedBy>teacher</cp:lastModifiedBy>
  <dcterms:modified xsi:type="dcterms:W3CDTF">2006-03-08T01:38:58Z</dcterms:modified>
  <cp:revision>7</cp:revision>
  <dc:subject/>
  <dc:title>PowerPoint 演示文稿</dc:title>
</cp:coreProperties>
</file>