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CB0-A7EF-41EB-AB0E-032B9CB5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748-72B7-4C3F-8283-C9775C4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C9E-797E-45DE-93AD-E0F2E8D9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B39-E628-4E5F-A89B-83650B0A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4DF-58A9-4CAC-84CB-6C52912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8DE-8A0F-4C94-9514-E3AB514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212-320F-4E16-8A6D-07E2C4ED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2EA-F062-41DF-96B0-84B0575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C19-95B0-41DD-9672-A2175EE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2F2-9F75-47FA-8C7D-1AB7976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C49-52CB-46E6-929B-3CBE14C9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CC8-0837-4F14-8A7C-A9799DB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D40E-389C-4ED7-BA36-8131B2E8C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薛秋莉\毕业论文及军神资料\图片\新建文件夹\PIC_015090 拷贝.jpg"/>
          <p:cNvPicPr/>
          <p:nvPr/>
        </p:nvPicPr>
        <p:blipFill>
          <a:blip r:embed="rId1"/>
          <a:stretch/>
        </p:blipFill>
        <p:spPr>
          <a:xfrm>
            <a:off x="36360" y="44280"/>
            <a:ext cx="9144000" cy="6855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AutoShape 3"/>
          <p:cNvSpPr/>
          <p:nvPr/>
        </p:nvSpPr>
        <p:spPr>
          <a:xfrm>
            <a:off x="60948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28600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12408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96252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80060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563868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40080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716292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8001000" y="5867280"/>
            <a:ext cx="609480" cy="68580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85800"/>
              <a:gd name="textAreaBottom" fmla="*/ 64800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50" y="22953"/>
                </a:lnTo>
                <a:lnTo>
                  <a:pt x="20250" y="135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350" y="22953"/>
                </a:lnTo>
                <a:lnTo>
                  <a:pt x="20250" y="2295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5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85800" y="5943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称赞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600200" y="57913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362320" y="5943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沃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0400" y="5943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手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038480" y="5943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神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952880" y="5943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要求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791320" y="5943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要求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553080" y="5943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图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15200" y="5943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电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8077320" y="5943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</a:rPr>
              <a:t>实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3"/>
          <p:cNvSpPr/>
          <p:nvPr/>
        </p:nvSpPr>
        <p:spPr>
          <a:xfrm>
            <a:off x="1447920" y="586728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1523880" y="59436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cc00"/>
                </a:solidFill>
                <a:latin typeface="Arial"/>
              </a:rPr>
              <a:t>称赞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">
            <a:hlinkClick r:id="" action="ppaction://hlinkshowjump?jump=firstslide"/>
          </p:cNvPr>
          <p:cNvSpPr/>
          <p:nvPr/>
        </p:nvSpPr>
        <p:spPr>
          <a:xfrm>
            <a:off x="7772400" y="5715000"/>
            <a:ext cx="1371600" cy="1143000"/>
          </a:xfrm>
          <a:custGeom>
            <a:avLst/>
            <a:gdLst>
              <a:gd name="textAreaLeft" fmla="*/ 71280 w 1371600"/>
              <a:gd name="textAreaRight" fmla="*/ 1300320 w 1371600"/>
              <a:gd name="textAreaTop" fmla="*/ 71280 h 1143000"/>
              <a:gd name="textAreaBottom" fmla="*/ 107172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69" y="1350"/>
                </a:lnTo>
                <a:lnTo>
                  <a:pt x="1350" y="135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69" y="20250"/>
                </a:lnTo>
                <a:lnTo>
                  <a:pt x="24569" y="135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69" y="2025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19" h="21600">
                <a:moveTo>
                  <a:pt x="9442" y="10800"/>
                </a:moveTo>
                <a:lnTo>
                  <a:pt x="20003" y="3756"/>
                </a:lnTo>
                <a:lnTo>
                  <a:pt x="20003" y="17844"/>
                </a:lnTo>
                <a:close/>
              </a:path>
              <a:path fill="darken" w="25919" h="21600">
                <a:moveTo>
                  <a:pt x="5916" y="3756"/>
                </a:moveTo>
                <a:lnTo>
                  <a:pt x="7587" y="3756"/>
                </a:lnTo>
                <a:lnTo>
                  <a:pt x="7587" y="17844"/>
                </a:lnTo>
                <a:lnTo>
                  <a:pt x="591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05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选择自己喜欢的方式再读课文，找出描写沃克医生神态、情绪变化的语句，圈画出有关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1219320" y="1219320"/>
            <a:ext cx="2438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阅读要求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" action="ppaction://hlinkshowjump?jump=firstslide"/>
          </p:cNvPr>
          <p:cNvSpPr/>
          <p:nvPr/>
        </p:nvSpPr>
        <p:spPr>
          <a:xfrm>
            <a:off x="7848720" y="5562720"/>
            <a:ext cx="1295280" cy="1295280"/>
          </a:xfrm>
          <a:custGeom>
            <a:avLst/>
            <a:gdLst>
              <a:gd name="textAreaLeft" fmla="*/ 80640 w 1295280"/>
              <a:gd name="textAreaRight" fmla="*/ 1214640 w 1295280"/>
              <a:gd name="textAreaTop" fmla="*/ 80640 h 1295280"/>
              <a:gd name="textAreaBottom" fmla="*/ 1214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:\图片\新建文件夹\PIC_01089 拷贝.jpg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>
            <a:hlinkClick r:id="" action="ppaction://hlinkshowjump?jump=firstslide"/>
          </p:cNvPr>
          <p:cNvSpPr/>
          <p:nvPr/>
        </p:nvSpPr>
        <p:spPr>
          <a:xfrm>
            <a:off x="7696080" y="5791320"/>
            <a:ext cx="1447920" cy="1066680"/>
          </a:xfrm>
          <a:custGeom>
            <a:avLst/>
            <a:gdLst>
              <a:gd name="textAreaLeft" fmla="*/ 66600 w 1447920"/>
              <a:gd name="textAreaRight" fmla="*/ 1381320 w 144792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67" y="1350"/>
                </a:lnTo>
                <a:lnTo>
                  <a:pt x="1350" y="135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67" y="20250"/>
                </a:lnTo>
                <a:lnTo>
                  <a:pt x="27967" y="135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967" y="2025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9317" h="21600">
                <a:moveTo>
                  <a:pt x="11141" y="10800"/>
                </a:moveTo>
                <a:lnTo>
                  <a:pt x="21702" y="3756"/>
                </a:lnTo>
                <a:lnTo>
                  <a:pt x="21702" y="17844"/>
                </a:lnTo>
                <a:close/>
              </a:path>
              <a:path fill="darken" w="29317" h="21600">
                <a:moveTo>
                  <a:pt x="7615" y="3756"/>
                </a:moveTo>
                <a:lnTo>
                  <a:pt x="9286" y="3756"/>
                </a:lnTo>
                <a:lnTo>
                  <a:pt x="9286" y="17844"/>
                </a:lnTo>
                <a:lnTo>
                  <a:pt x="761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028">
            <a:hlinkClick r:id="" action="ppaction://hlinkshowjump?jump=firstslide"/>
          </p:cNvPr>
          <p:cNvSpPr/>
          <p:nvPr/>
        </p:nvSpPr>
        <p:spPr>
          <a:xfrm>
            <a:off x="7772400" y="5562720"/>
            <a:ext cx="1371600" cy="1295280"/>
          </a:xfrm>
          <a:custGeom>
            <a:avLst/>
            <a:gdLst>
              <a:gd name="textAreaLeft" fmla="*/ 80640 w 1371600"/>
              <a:gd name="textAreaRight" fmla="*/ 1290960 w 1371600"/>
              <a:gd name="textAreaTop" fmla="*/ 80640 h 1295280"/>
              <a:gd name="textAreaBottom" fmla="*/ 121464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522" y="1350"/>
                </a:lnTo>
                <a:lnTo>
                  <a:pt x="1350" y="135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522" y="20250"/>
                </a:lnTo>
                <a:lnTo>
                  <a:pt x="21522" y="135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522" y="2025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72" h="21600">
                <a:moveTo>
                  <a:pt x="7919" y="10800"/>
                </a:moveTo>
                <a:lnTo>
                  <a:pt x="18480" y="3756"/>
                </a:lnTo>
                <a:lnTo>
                  <a:pt x="18480" y="17844"/>
                </a:lnTo>
                <a:close/>
              </a:path>
              <a:path fill="darken" w="22872" h="21600">
                <a:moveTo>
                  <a:pt x="4392" y="3756"/>
                </a:moveTo>
                <a:lnTo>
                  <a:pt x="6064" y="3756"/>
                </a:lnTo>
                <a:lnTo>
                  <a:pt x="6064" y="17844"/>
                </a:lnTo>
                <a:lnTo>
                  <a:pt x="439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9" descr="I:\图片\新建文件夹\PIC_01069 拷贝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031">
            <a:hlinkClick r:id="" action="ppaction://hlinkshowjump?jump=firstslide"/>
          </p:cNvPr>
          <p:cNvSpPr/>
          <p:nvPr/>
        </p:nvSpPr>
        <p:spPr>
          <a:xfrm>
            <a:off x="7848720" y="5791320"/>
            <a:ext cx="1295280" cy="1066680"/>
          </a:xfrm>
          <a:custGeom>
            <a:avLst/>
            <a:gdLst>
              <a:gd name="textAreaLeft" fmla="*/ 66600 w 1295280"/>
              <a:gd name="textAreaRight" fmla="*/ 1228680 w 129528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78" y="1350"/>
                </a:lnTo>
                <a:lnTo>
                  <a:pt x="1350" y="135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78" y="20250"/>
                </a:lnTo>
                <a:lnTo>
                  <a:pt x="24878" y="135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878" y="2025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228" h="21600">
                <a:moveTo>
                  <a:pt x="9596" y="10800"/>
                </a:moveTo>
                <a:lnTo>
                  <a:pt x="20158" y="3756"/>
                </a:lnTo>
                <a:lnTo>
                  <a:pt x="20158" y="17844"/>
                </a:lnTo>
                <a:close/>
              </a:path>
              <a:path fill="darken" w="26228" h="21600">
                <a:moveTo>
                  <a:pt x="6070" y="3756"/>
                </a:moveTo>
                <a:lnTo>
                  <a:pt x="7741" y="3756"/>
                </a:lnTo>
                <a:lnTo>
                  <a:pt x="7741" y="17844"/>
                </a:lnTo>
                <a:lnTo>
                  <a:pt x="6070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028">
            <a:hlinkClick r:id="" action="ppaction://hlinkshowjump?jump=firstslide"/>
          </p:cNvPr>
          <p:cNvSpPr/>
          <p:nvPr/>
        </p:nvSpPr>
        <p:spPr>
          <a:xfrm>
            <a:off x="7543800" y="5562720"/>
            <a:ext cx="1600200" cy="1295280"/>
          </a:xfrm>
          <a:custGeom>
            <a:avLst/>
            <a:gdLst>
              <a:gd name="textAreaLeft" fmla="*/ 80640 w 1600200"/>
              <a:gd name="textAreaRight" fmla="*/ 1519560 w 1600200"/>
              <a:gd name="textAreaTop" fmla="*/ 80640 h 1295280"/>
              <a:gd name="textAreaBottom" fmla="*/ 1214640 h 1295280"/>
            </a:gdLst>
            <a:ahLst/>
            <a:rect l="textAreaLeft" t="textAreaTop" r="textAreaRight" b="textAreaBottom"/>
            <a:pathLst>
              <a:path w="26683" h="21600">
                <a:moveTo>
                  <a:pt x="0" y="0"/>
                </a:moveTo>
                <a:lnTo>
                  <a:pt x="26683" y="0"/>
                </a:lnTo>
                <a:lnTo>
                  <a:pt x="26683" y="21600"/>
                </a:lnTo>
                <a:lnTo>
                  <a:pt x="0" y="21600"/>
                </a:lnTo>
                <a:close/>
              </a:path>
              <a:path fill="lightenLess" w="26683" h="21600">
                <a:moveTo>
                  <a:pt x="0" y="0"/>
                </a:moveTo>
                <a:lnTo>
                  <a:pt x="26683" y="0"/>
                </a:lnTo>
                <a:lnTo>
                  <a:pt x="25333" y="1350"/>
                </a:lnTo>
                <a:lnTo>
                  <a:pt x="1350" y="1350"/>
                </a:lnTo>
                <a:close/>
              </a:path>
              <a:path fill="darken" w="26683" h="21600">
                <a:moveTo>
                  <a:pt x="26683" y="0"/>
                </a:moveTo>
                <a:lnTo>
                  <a:pt x="26683" y="21600"/>
                </a:lnTo>
                <a:lnTo>
                  <a:pt x="25333" y="20250"/>
                </a:lnTo>
                <a:lnTo>
                  <a:pt x="25333" y="1350"/>
                </a:lnTo>
                <a:close/>
              </a:path>
              <a:path fill="darkenLess" w="26683" h="21600">
                <a:moveTo>
                  <a:pt x="266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333" y="20250"/>
                </a:lnTo>
                <a:close/>
              </a:path>
              <a:path fill="lighten" w="266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683" h="21600">
                <a:moveTo>
                  <a:pt x="9824" y="10800"/>
                </a:moveTo>
                <a:lnTo>
                  <a:pt x="20385" y="3756"/>
                </a:lnTo>
                <a:lnTo>
                  <a:pt x="20385" y="17844"/>
                </a:lnTo>
                <a:close/>
              </a:path>
              <a:path fill="darken" w="26683" h="21600">
                <a:moveTo>
                  <a:pt x="6298" y="3756"/>
                </a:moveTo>
                <a:lnTo>
                  <a:pt x="7969" y="3756"/>
                </a:lnTo>
                <a:lnTo>
                  <a:pt x="7969" y="17844"/>
                </a:lnTo>
                <a:lnTo>
                  <a:pt x="6298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29" descr="I:\图片\新建文件夹\PIC_01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30">
            <a:hlinkClick r:id="" action="ppaction://hlinkshowjump?jump=firstslide"/>
          </p:cNvPr>
          <p:cNvSpPr/>
          <p:nvPr/>
        </p:nvSpPr>
        <p:spPr>
          <a:xfrm>
            <a:off x="7848720" y="6019920"/>
            <a:ext cx="1295280" cy="838080"/>
          </a:xfrm>
          <a:custGeom>
            <a:avLst/>
            <a:gdLst>
              <a:gd name="textAreaLeft" fmla="*/ 52200 w 1295280"/>
              <a:gd name="textAreaRight" fmla="*/ 1243080 w 129528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2028" y="1350"/>
                </a:lnTo>
                <a:lnTo>
                  <a:pt x="1350" y="135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2028" y="20250"/>
                </a:lnTo>
                <a:lnTo>
                  <a:pt x="32028" y="135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8" y="2025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378" h="21600">
                <a:moveTo>
                  <a:pt x="13172" y="10800"/>
                </a:moveTo>
                <a:lnTo>
                  <a:pt x="23733" y="3756"/>
                </a:lnTo>
                <a:lnTo>
                  <a:pt x="23733" y="17844"/>
                </a:lnTo>
                <a:close/>
              </a:path>
              <a:path fill="darken" w="33378" h="21600">
                <a:moveTo>
                  <a:pt x="9645" y="3756"/>
                </a:moveTo>
                <a:lnTo>
                  <a:pt x="11317" y="3756"/>
                </a:lnTo>
                <a:lnTo>
                  <a:pt x="11317" y="17844"/>
                </a:lnTo>
                <a:lnTo>
                  <a:pt x="964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6600 w 1219320"/>
              <a:gd name="textAreaRight" fmla="*/ 1152720 w 121932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340" y="1350"/>
                </a:lnTo>
                <a:lnTo>
                  <a:pt x="1350" y="135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340" y="20250"/>
                </a:lnTo>
                <a:lnTo>
                  <a:pt x="23340" y="135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40" y="2025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90" h="21600">
                <a:moveTo>
                  <a:pt x="8827" y="10800"/>
                </a:moveTo>
                <a:lnTo>
                  <a:pt x="19389" y="3756"/>
                </a:lnTo>
                <a:lnTo>
                  <a:pt x="19389" y="17844"/>
                </a:lnTo>
                <a:close/>
              </a:path>
              <a:path fill="darken" w="24690" h="21600">
                <a:moveTo>
                  <a:pt x="5301" y="3756"/>
                </a:moveTo>
                <a:lnTo>
                  <a:pt x="6972" y="3756"/>
                </a:lnTo>
                <a:lnTo>
                  <a:pt x="6972" y="17844"/>
                </a:lnTo>
                <a:lnTo>
                  <a:pt x="530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30" descr="I:\图片\新建文件夹\PIC_010989 拷贝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31">
            <a:hlinkClick r:id="" action="ppaction://hlinkshowjump?jump=firstslide"/>
          </p:cNvPr>
          <p:cNvSpPr/>
          <p:nvPr/>
        </p:nvSpPr>
        <p:spPr>
          <a:xfrm>
            <a:off x="7924680" y="5715000"/>
            <a:ext cx="1219320" cy="1143000"/>
          </a:xfrm>
          <a:custGeom>
            <a:avLst/>
            <a:gdLst>
              <a:gd name="textAreaLeft" fmla="*/ 71280 w 1219320"/>
              <a:gd name="textAreaRight" fmla="*/ 1148040 w 1219320"/>
              <a:gd name="textAreaTop" fmla="*/ 71280 h 1143000"/>
              <a:gd name="textAreaBottom" fmla="*/ 107172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92" y="1350"/>
                </a:lnTo>
                <a:lnTo>
                  <a:pt x="1350" y="135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92" y="20250"/>
                </a:lnTo>
                <a:lnTo>
                  <a:pt x="21692" y="135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692" y="2025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042" h="21600">
                <a:moveTo>
                  <a:pt x="8003" y="10800"/>
                </a:moveTo>
                <a:lnTo>
                  <a:pt x="18565" y="3756"/>
                </a:lnTo>
                <a:lnTo>
                  <a:pt x="18565" y="17844"/>
                </a:lnTo>
                <a:close/>
              </a:path>
              <a:path fill="darken" w="23042" h="21600">
                <a:moveTo>
                  <a:pt x="4477" y="3756"/>
                </a:moveTo>
                <a:lnTo>
                  <a:pt x="6148" y="3756"/>
                </a:lnTo>
                <a:lnTo>
                  <a:pt x="6148" y="17844"/>
                </a:lnTo>
                <a:lnTo>
                  <a:pt x="4477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32">
            <a:hlinkClick r:id="" action="ppaction://hlinkshowjump?jump=firstslide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1920 w 1447920"/>
              <a:gd name="textAreaRight" fmla="*/ 1386000 w 1447920"/>
              <a:gd name="textAreaTop" fmla="*/ 61920 h 990720"/>
              <a:gd name="textAreaBottom" fmla="*/ 92880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214" y="1350"/>
                </a:lnTo>
                <a:lnTo>
                  <a:pt x="1350" y="135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214" y="20250"/>
                </a:lnTo>
                <a:lnTo>
                  <a:pt x="30214" y="135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214" y="2025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564" h="21600">
                <a:moveTo>
                  <a:pt x="12265" y="10800"/>
                </a:moveTo>
                <a:lnTo>
                  <a:pt x="22826" y="3756"/>
                </a:lnTo>
                <a:lnTo>
                  <a:pt x="22826" y="17844"/>
                </a:lnTo>
                <a:close/>
              </a:path>
              <a:path fill="darken" w="31564" h="21600">
                <a:moveTo>
                  <a:pt x="8738" y="3756"/>
                </a:moveTo>
                <a:lnTo>
                  <a:pt x="10410" y="3756"/>
                </a:lnTo>
                <a:lnTo>
                  <a:pt x="10410" y="17844"/>
                </a:lnTo>
                <a:lnTo>
                  <a:pt x="8738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143000" y="2438280"/>
            <a:ext cx="7238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搜集有关刘伯承的故事，讲给同学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搜集有关意志力的名人名言与同学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学之间自由组合，排演课本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>
            <a:hlinkClick r:id="" action="ppaction://hlinkshowjump?jump=firstslide"/>
          </p:cNvPr>
          <p:cNvSpPr/>
          <p:nvPr/>
        </p:nvSpPr>
        <p:spPr>
          <a:xfrm>
            <a:off x="8077320" y="5791320"/>
            <a:ext cx="1066680" cy="1066680"/>
          </a:xfrm>
          <a:custGeom>
            <a:avLst/>
            <a:gdLst>
              <a:gd name="textAreaLeft" fmla="*/ 66600 w 1066680"/>
              <a:gd name="textAreaRight" fmla="*/ 1000080 w 106668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505320" y="1219320"/>
            <a:ext cx="2666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任选一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1523880" y="114300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</a:rPr>
              <a:t>课外实践</a:t>
            </a:r>
            <a:endParaRPr b="0" lang="en-US" sz="1800" spc="-1" strike="noStrike">
              <a:ln w="9360">
                <a:solidFill>
                  <a:srgbClr val="3333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90720" y="12952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伯承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2---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四川开县人。辛亥革命爆发后，刘伯承参加了新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袁世凯称帝，随即发生了反袁护国战争。刘伯承率领的东护国军攻占四川丰都城时，他身先士卒，带头冲锋，不幸的是头部连中两弹，一颗子弹从他的太阳穴打入，又从眼窝飞出。致使刘伯承的右眼失明，当时他只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620120" y="5638680"/>
            <a:ext cx="1523880" cy="12193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1219320"/>
              <a:gd name="textAreaBottom" fmla="*/ 114336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644" y="1350"/>
                </a:lnTo>
                <a:lnTo>
                  <a:pt x="1350" y="135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644" y="20250"/>
                </a:lnTo>
                <a:lnTo>
                  <a:pt x="25644" y="135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44" y="2025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94" h="21600">
                <a:moveTo>
                  <a:pt x="9979" y="10800"/>
                </a:moveTo>
                <a:lnTo>
                  <a:pt x="20541" y="3756"/>
                </a:lnTo>
                <a:lnTo>
                  <a:pt x="20541" y="17844"/>
                </a:lnTo>
                <a:close/>
              </a:path>
              <a:path fill="darken" w="26994" h="21600">
                <a:moveTo>
                  <a:pt x="6453" y="3756"/>
                </a:moveTo>
                <a:lnTo>
                  <a:pt x="8124" y="3756"/>
                </a:lnTo>
                <a:lnTo>
                  <a:pt x="8124" y="17844"/>
                </a:lnTo>
                <a:lnTo>
                  <a:pt x="6453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600200" y="1219320"/>
            <a:ext cx="6019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沃克惊呆了，大声嚷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一个真正的男子汉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会说话的钢板！你堪称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>
            <a:hlinkClick r:id="" action="ppaction://hlinkshowjump?jump=firstslide"/>
          </p:cNvPr>
          <p:cNvSpPr/>
          <p:nvPr/>
        </p:nvSpPr>
        <p:spPr>
          <a:xfrm>
            <a:off x="7848720" y="5638680"/>
            <a:ext cx="1295280" cy="1219320"/>
          </a:xfrm>
          <a:custGeom>
            <a:avLst/>
            <a:gdLst>
              <a:gd name="textAreaLeft" fmla="*/ 75960 w 1295280"/>
              <a:gd name="textAreaRight" fmla="*/ 1219320 w 1295280"/>
              <a:gd name="textAreaTop" fmla="*/ 75960 h 1219320"/>
              <a:gd name="textAreaBottom" fmla="*/ 114336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95" y="1350"/>
                </a:lnTo>
                <a:lnTo>
                  <a:pt x="1350" y="135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95" y="20250"/>
                </a:lnTo>
                <a:lnTo>
                  <a:pt x="21595" y="135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595" y="2025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945" h="21600">
                <a:moveTo>
                  <a:pt x="7955" y="10800"/>
                </a:moveTo>
                <a:lnTo>
                  <a:pt x="18516" y="3756"/>
                </a:lnTo>
                <a:lnTo>
                  <a:pt x="18516" y="17844"/>
                </a:lnTo>
                <a:close/>
              </a:path>
              <a:path fill="darken" w="22945" h="21600">
                <a:moveTo>
                  <a:pt x="4429" y="3756"/>
                </a:moveTo>
                <a:lnTo>
                  <a:pt x="6100" y="3756"/>
                </a:lnTo>
                <a:lnTo>
                  <a:pt x="6100" y="17844"/>
                </a:lnTo>
                <a:lnTo>
                  <a:pt x="442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752480" y="1600200"/>
            <a:ext cx="6782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一个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真正的男子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会说话的钢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你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称军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>
            <a:hlinkClick r:id="" action="ppaction://hlinkshowjump?jump=firstslide"/>
          </p:cNvPr>
          <p:cNvSpPr/>
          <p:nvPr/>
        </p:nvSpPr>
        <p:spPr>
          <a:xfrm>
            <a:off x="8001000" y="5715000"/>
            <a:ext cx="1143000" cy="1143000"/>
          </a:xfrm>
          <a:custGeom>
            <a:avLst/>
            <a:gdLst>
              <a:gd name="textAreaLeft" fmla="*/ 71280 w 1143000"/>
              <a:gd name="textAreaRight" fmla="*/ 1071720 w 1143000"/>
              <a:gd name="textAreaTop" fmla="*/ 71280 h 1143000"/>
              <a:gd name="textAreaBottom" fmla="*/ 107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523880" y="1523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台上，一向从容镇定的沃克医生，这次双手却有些颤抖，他额上汗珠滚滚，护士帮他擦了一次又一次。最后他忍不住对病人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挺不住可以哼叫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7772400" y="5791320"/>
            <a:ext cx="1371600" cy="1066680"/>
          </a:xfrm>
          <a:custGeom>
            <a:avLst/>
            <a:gdLst>
              <a:gd name="textAreaLeft" fmla="*/ 66600 w 1371600"/>
              <a:gd name="textAreaRight" fmla="*/ 1305000 w 137160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422" y="1350"/>
                </a:lnTo>
                <a:lnTo>
                  <a:pt x="1350" y="135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422" y="20250"/>
                </a:lnTo>
                <a:lnTo>
                  <a:pt x="26422" y="135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22" y="2025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72" h="21600">
                <a:moveTo>
                  <a:pt x="10369" y="10800"/>
                </a:moveTo>
                <a:lnTo>
                  <a:pt x="20930" y="3756"/>
                </a:lnTo>
                <a:lnTo>
                  <a:pt x="20930" y="17844"/>
                </a:lnTo>
                <a:close/>
              </a:path>
              <a:path fill="darken" w="27772" h="21600">
                <a:moveTo>
                  <a:pt x="6842" y="3756"/>
                </a:moveTo>
                <a:lnTo>
                  <a:pt x="8514" y="3756"/>
                </a:lnTo>
                <a:lnTo>
                  <a:pt x="8514" y="17844"/>
                </a:lnTo>
                <a:lnTo>
                  <a:pt x="684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1676520" y="1600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一声不吭，他的双手紧紧抓住身下的白垫单，手背青筋暴起，汗如雨下。他越来越使劲，崭新的白垫单居然被抓破了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>
            <a:hlinkClick r:id="" action="ppaction://hlinkshowjump?jump=firstslide"/>
          </p:cNvPr>
          <p:cNvSpPr/>
          <p:nvPr/>
        </p:nvSpPr>
        <p:spPr>
          <a:xfrm>
            <a:off x="7924680" y="5715000"/>
            <a:ext cx="1219320" cy="1143000"/>
          </a:xfrm>
          <a:custGeom>
            <a:avLst/>
            <a:gdLst>
              <a:gd name="textAreaLeft" fmla="*/ 71280 w 1219320"/>
              <a:gd name="textAreaRight" fmla="*/ 1148040 w 1219320"/>
              <a:gd name="textAreaTop" fmla="*/ 71280 h 1143000"/>
              <a:gd name="textAreaBottom" fmla="*/ 107172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92" y="1350"/>
                </a:lnTo>
                <a:lnTo>
                  <a:pt x="1350" y="135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92" y="20250"/>
                </a:lnTo>
                <a:lnTo>
                  <a:pt x="21692" y="135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692" y="2025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042" h="21600">
                <a:moveTo>
                  <a:pt x="8003" y="10800"/>
                </a:moveTo>
                <a:lnTo>
                  <a:pt x="18565" y="3756"/>
                </a:lnTo>
                <a:lnTo>
                  <a:pt x="18565" y="17844"/>
                </a:lnTo>
                <a:close/>
              </a:path>
              <a:path fill="darken" w="23042" h="21600">
                <a:moveTo>
                  <a:pt x="4477" y="3756"/>
                </a:moveTo>
                <a:lnTo>
                  <a:pt x="6148" y="3756"/>
                </a:lnTo>
                <a:lnTo>
                  <a:pt x="6148" y="17844"/>
                </a:lnTo>
                <a:lnTo>
                  <a:pt x="4477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1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2"/>
          <p:cNvGrpSpPr/>
          <p:nvPr/>
        </p:nvGrpSpPr>
        <p:grpSpPr>
          <a:xfrm>
            <a:off x="990720" y="609480"/>
            <a:ext cx="7315200" cy="2464560"/>
            <a:chOff x="990720" y="609480"/>
            <a:chExt cx="7315200" cy="2464560"/>
          </a:xfrm>
        </p:grpSpPr>
        <p:sp>
          <p:nvSpPr>
            <p:cNvPr id="80" name="Text Box 2"/>
            <p:cNvSpPr/>
            <p:nvPr/>
          </p:nvSpPr>
          <p:spPr>
            <a:xfrm>
              <a:off x="990720" y="6094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冷冷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"/>
            <p:cNvSpPr/>
            <p:nvPr/>
          </p:nvSpPr>
          <p:spPr>
            <a:xfrm>
              <a:off x="2971800" y="6094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愣住了、惊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6019920" y="6094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目光柔和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2057400" y="12952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生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4191120" y="12189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再一次愣住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990720" y="19047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惊呆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353040" y="19047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慈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5791320" y="1904760"/>
              <a:ext cx="2133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肃然起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2210040" y="914400"/>
              <a:ext cx="6094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5334120" y="914400"/>
              <a:ext cx="6094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1143000" y="1523880"/>
              <a:ext cx="6098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3200400" y="152388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6705720" y="152388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2438640" y="2209680"/>
              <a:ext cx="7617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>
              <a:off x="4648320" y="220968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17">
            <a:hlinkClick r:id="" action="ppaction://hlinkshowjump?jump=firstslide"/>
          </p:cNvPr>
          <p:cNvSpPr/>
          <p:nvPr/>
        </p:nvSpPr>
        <p:spPr>
          <a:xfrm>
            <a:off x="8077320" y="5715000"/>
            <a:ext cx="1066680" cy="1143000"/>
          </a:xfrm>
          <a:custGeom>
            <a:avLst/>
            <a:gdLst>
              <a:gd name="textAreaLeft" fmla="*/ 66600 w 1066680"/>
              <a:gd name="textAreaRight" fmla="*/ 1000080 w 1066680"/>
              <a:gd name="textAreaTop" fmla="*/ 66600 h 1143000"/>
              <a:gd name="textAreaBottom" fmla="*/ 107640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50" y="21795"/>
                </a:lnTo>
                <a:lnTo>
                  <a:pt x="20250" y="135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350" y="21795"/>
                </a:lnTo>
                <a:lnTo>
                  <a:pt x="20250" y="2179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350" y="1350"/>
                </a:lnTo>
                <a:lnTo>
                  <a:pt x="1350" y="21795"/>
                </a:lnTo>
                <a:close/>
              </a:path>
              <a:path fill="darken" w="21600" h="23145">
                <a:moveTo>
                  <a:pt x="7283" y="11572"/>
                </a:moveTo>
                <a:lnTo>
                  <a:pt x="17844" y="4529"/>
                </a:lnTo>
                <a:lnTo>
                  <a:pt x="17844" y="18616"/>
                </a:lnTo>
                <a:close/>
              </a:path>
              <a:path fill="darken" w="21600" h="23145">
                <a:moveTo>
                  <a:pt x="3756" y="4529"/>
                </a:moveTo>
                <a:lnTo>
                  <a:pt x="5428" y="4529"/>
                </a:lnTo>
                <a:lnTo>
                  <a:pt x="5428" y="18616"/>
                </a:lnTo>
                <a:lnTo>
                  <a:pt x="3756" y="186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0"/>
          <p:cNvGrpSpPr/>
          <p:nvPr/>
        </p:nvGrpSpPr>
        <p:grpSpPr>
          <a:xfrm>
            <a:off x="914400" y="2743200"/>
            <a:ext cx="7315200" cy="2806560"/>
            <a:chOff x="914400" y="2743200"/>
            <a:chExt cx="7315200" cy="2806560"/>
          </a:xfrm>
        </p:grpSpPr>
        <p:sp>
          <p:nvSpPr>
            <p:cNvPr id="97" name="Text Box 19"/>
            <p:cNvSpPr/>
            <p:nvPr/>
          </p:nvSpPr>
          <p:spPr>
            <a:xfrm>
              <a:off x="914400" y="2743200"/>
              <a:ext cx="7315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3300"/>
                  </a:solidFill>
                  <a:latin typeface="Arial"/>
                  <a:ea typeface="幼圆"/>
                </a:rPr>
                <a:t>提示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Arial"/>
                  <a:ea typeface="幼圆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诊所里，沃克医生冷冷地询问着病人。他解开病人右眼的绷带，愣住了，眼睛里闪出惊疑的神情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9"/>
            <p:cNvSpPr/>
            <p:nvPr/>
          </p:nvSpPr>
          <p:spPr>
            <a:xfrm>
              <a:off x="1676520" y="51814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• • • • • 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1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5867280" y="3276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惊呆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76520" y="1523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冷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09880" y="1523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愣住了、惊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676520" y="2438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光柔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257800" y="243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752480" y="3352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一次愣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97180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486400" y="40384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肃然起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6705720" y="1828800"/>
            <a:ext cx="60948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4343400" y="2743200"/>
            <a:ext cx="60948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876920" y="3581280"/>
            <a:ext cx="6858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4343400" y="4419720"/>
            <a:ext cx="6858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>
            <a:hlinkClick r:id="" action="ppaction://hlinkshowjump?jump=firstslide"/>
          </p:cNvPr>
          <p:cNvSpPr/>
          <p:nvPr/>
        </p:nvSpPr>
        <p:spPr>
          <a:xfrm>
            <a:off x="8077320" y="5715000"/>
            <a:ext cx="1066680" cy="1143000"/>
          </a:xfrm>
          <a:custGeom>
            <a:avLst/>
            <a:gdLst>
              <a:gd name="textAreaLeft" fmla="*/ 66600 w 1066680"/>
              <a:gd name="textAreaRight" fmla="*/ 1000080 w 1066680"/>
              <a:gd name="textAreaTop" fmla="*/ 66600 h 1143000"/>
              <a:gd name="textAreaBottom" fmla="*/ 107640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50" y="21795"/>
                </a:lnTo>
                <a:lnTo>
                  <a:pt x="20250" y="135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350" y="21795"/>
                </a:lnTo>
                <a:lnTo>
                  <a:pt x="20250" y="2179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350" y="1350"/>
                </a:lnTo>
                <a:lnTo>
                  <a:pt x="1350" y="21795"/>
                </a:lnTo>
                <a:close/>
              </a:path>
              <a:path fill="darken" w="21600" h="23145">
                <a:moveTo>
                  <a:pt x="7283" y="11572"/>
                </a:moveTo>
                <a:lnTo>
                  <a:pt x="17844" y="4529"/>
                </a:lnTo>
                <a:lnTo>
                  <a:pt x="17844" y="18616"/>
                </a:lnTo>
                <a:close/>
              </a:path>
              <a:path fill="darken" w="21600" h="23145">
                <a:moveTo>
                  <a:pt x="3756" y="4529"/>
                </a:moveTo>
                <a:lnTo>
                  <a:pt x="5428" y="4529"/>
                </a:lnTo>
                <a:lnTo>
                  <a:pt x="5428" y="18616"/>
                </a:lnTo>
                <a:lnTo>
                  <a:pt x="3756" y="186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I:\图片\新建文件夹\PIC_010945.jpg"/>
          <p:cNvPicPr/>
          <p:nvPr/>
        </p:nvPicPr>
        <p:blipFill>
          <a:blip r:embed="rId1"/>
          <a:srcRect l="0" t="0" r="0" b="2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>
            <a:hlinkClick r:id="" action="ppaction://hlinkshowjump?jump=firstslide"/>
          </p:cNvPr>
          <p:cNvSpPr/>
          <p:nvPr/>
        </p:nvSpPr>
        <p:spPr>
          <a:xfrm>
            <a:off x="7772400" y="5638680"/>
            <a:ext cx="1371600" cy="1219320"/>
          </a:xfrm>
          <a:custGeom>
            <a:avLst/>
            <a:gdLst>
              <a:gd name="textAreaLeft" fmla="*/ 75960 w 1371600"/>
              <a:gd name="textAreaRight" fmla="*/ 1295640 w 1371600"/>
              <a:gd name="textAreaTop" fmla="*/ 75960 h 1219320"/>
              <a:gd name="textAreaBottom" fmla="*/ 114336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947" y="1350"/>
                </a:lnTo>
                <a:lnTo>
                  <a:pt x="1350" y="135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947" y="20250"/>
                </a:lnTo>
                <a:lnTo>
                  <a:pt x="22947" y="135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47" y="2025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297" h="21600">
                <a:moveTo>
                  <a:pt x="8631" y="10800"/>
                </a:moveTo>
                <a:lnTo>
                  <a:pt x="19192" y="3756"/>
                </a:lnTo>
                <a:lnTo>
                  <a:pt x="19192" y="17844"/>
                </a:lnTo>
                <a:close/>
              </a:path>
              <a:path fill="darken" w="24297" h="21600">
                <a:moveTo>
                  <a:pt x="5105" y="3756"/>
                </a:moveTo>
                <a:lnTo>
                  <a:pt x="6776" y="3756"/>
                </a:lnTo>
                <a:lnTo>
                  <a:pt x="6776" y="17844"/>
                </a:lnTo>
                <a:lnTo>
                  <a:pt x="510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905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由读课文，一边读一边画出直接描写刘伯承表现的语句；再把你画的句子和同学交流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219320" y="1219320"/>
            <a:ext cx="2438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阅读要求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16:43Z</dcterms:created>
  <dc:creator>Administrator</dc:creator>
  <dc:description/>
  <dc:language>en-US</dc:language>
  <cp:lastModifiedBy/>
  <dcterms:modified xsi:type="dcterms:W3CDTF">2016-04-19T09:17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