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9.png" ContentType="image/png"/>
  <Override PartName="/ppt/media/image7.jpeg" ContentType="image/jpeg"/>
  <Override PartName="/ppt/media/image20.png" ContentType="image/png"/>
  <Override PartName="/ppt/media/type.wav" ContentType="audio/x-wav"/>
  <Override PartName="/ppt/media/image17.png" ContentType="image/png"/>
  <Override PartName="/ppt/media/image5.jpeg" ContentType="image/jpeg"/>
  <Override PartName="/ppt/media/image4.jpeg" ContentType="image/jpeg"/>
  <Override PartName="/ppt/media/image22.gif" ContentType="image/gif"/>
  <Override PartName="/ppt/media/image3.jpeg" ContentType="image/jpeg"/>
  <Override PartName="/ppt/media/image12.gif" ContentType="image/gif"/>
  <Override PartName="/ppt/media/image15.png" ContentType="image/png"/>
  <Override PartName="/ppt/media/image23.gif" ContentType="image/gif"/>
  <Override PartName="/ppt/media/image21.gif" ContentType="image/gif"/>
  <Override PartName="/ppt/media/image6.jpeg" ContentType="image/jpeg"/>
  <Override PartName="/ppt/media/image11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2.jpeg" ContentType="image/jpeg"/>
  <Override PartName="/ppt/media/chimes.wav" ContentType="audio/x-wav"/>
  <Override PartName="/ppt/media/image16.png" ContentType="image/png"/>
  <Override PartName="/ppt/media/image13.gif" ContentType="image/gif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8274-3171-45F0-9BD9-32EADC726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4BDD-DBDD-4B94-8952-5813847A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8D9F-BB94-4476-8FF8-3EF020531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1352-135B-40B4-81E0-D19DEA0F9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A587-1F8A-43D3-873B-D87D05A4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AEE8-B35D-4185-8537-9EF05186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21CE-D8EF-43FC-A117-E4CED585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D4A6-5427-428A-ABB7-B5416816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6A68-80D8-4BC4-87DD-6BE10854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B003-98DF-4752-B1DA-BC419358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1A71-A67C-4EBC-8E2E-A3FE20B5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9E54-8620-4C5C-92B0-CE885FFE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1734-4729-4F8B-9546-FA17739DBB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3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" Target="slide9.xm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" Target="slide8.xml"/><Relationship Id="rId4" Type="http://schemas.openxmlformats.org/officeDocument/2006/relationships/image" Target="../media/image10.gif"/><Relationship Id="rId5" Type="http://schemas.openxmlformats.org/officeDocument/2006/relationships/slide" Target="slide15.xml"/><Relationship Id="rId6" Type="http://schemas.openxmlformats.org/officeDocument/2006/relationships/image" Target="../media/image10.gif"/><Relationship Id="rId7" Type="http://schemas.openxmlformats.org/officeDocument/2006/relationships/slide" Target="slide16.xml"/><Relationship Id="rId8" Type="http://schemas.openxmlformats.org/officeDocument/2006/relationships/image" Target="../media/image10.gif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audio" Target="../media/chimes.wav"/><Relationship Id="rId2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猜谜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rcRect l="3337" t="3000" r="2498" b="555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 rot="5400000">
            <a:off x="-571680" y="3238560"/>
            <a:ext cx="381024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4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猜谜语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1127160"/>
            <a:ext cx="46544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时挂在山腰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时挂在树梢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时像个圆盘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时像把镰刀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52680" y="49068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猜一自然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630120" y="4881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月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3" action="ppaction://hlinksldjump"/>
          </p:cNvPr>
          <p:cNvSpPr/>
          <p:nvPr/>
        </p:nvSpPr>
        <p:spPr>
          <a:xfrm>
            <a:off x="5899320" y="4924440"/>
            <a:ext cx="20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rcRect l="12709" t="2472" r="14853" b="75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66320" y="1512720"/>
            <a:ext cx="71629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月食时和月亮复原时，月亮的形状发生了什么变化？画出有关的词语读一读，并想一下它们之间的变化过程有什么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月食是怎样形成的？用波浪线划出有关的句子读一读，想一想，议一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09120" y="328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学习课文的三至六自然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447920" y="6248520"/>
            <a:ext cx="876240" cy="609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3962520" y="66294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8778960" y="60199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7010280" y="6400800"/>
            <a:ext cx="228600" cy="2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月食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21554" t="20301" r="13906" b="8898"/>
          <a:stretch/>
        </p:blipFill>
        <p:spPr>
          <a:xfrm>
            <a:off x="0" y="0"/>
            <a:ext cx="860436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380520"/>
            <a:ext cx="8139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月食开始了 ，慢慢地  ，月亮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得像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，像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像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像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。一会儿，只留下个红铜色的圆影子，像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但过了一会儿，月亮又露了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接着像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像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像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最后  ，月亮又是圆圆的了 ，像一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似的挂在天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51640" y="184464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一面锣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9144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小 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22800" y="927000"/>
            <a:ext cx="150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镰 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27640" y="927000"/>
            <a:ext cx="160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眉 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47640" y="1341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弯弯的细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335268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69160" y="2421000"/>
            <a:ext cx="167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弯弯的细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95640" y="2997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眉 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43280" y="306864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镰 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04000" y="2997360"/>
            <a:ext cx="13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小 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42210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大玉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791320"/>
            <a:ext cx="632484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0"/>
                <a:gd name="adj2" fmla="val -2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你能试着填一填吗？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1" name="">
            <a:hlinkClick r:id="rId3" action="ppaction://hlinksldjump"/>
          </p:cNvPr>
          <p:cNvSpPr/>
          <p:nvPr/>
        </p:nvSpPr>
        <p:spPr>
          <a:xfrm>
            <a:off x="533520" y="5257800"/>
            <a:ext cx="8001000" cy="1600200"/>
          </a:xfrm>
          <a:custGeom>
            <a:avLst/>
            <a:gdLst>
              <a:gd name="textAreaLeft" fmla="*/ 103680 w 8001000"/>
              <a:gd name="textAreaRight" fmla="*/ 7897320 w 80010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107981" h="21600">
                <a:moveTo>
                  <a:pt x="0" y="0"/>
                </a:moveTo>
                <a:lnTo>
                  <a:pt x="107981" y="0"/>
                </a:lnTo>
                <a:lnTo>
                  <a:pt x="107981" y="21600"/>
                </a:lnTo>
                <a:lnTo>
                  <a:pt x="0" y="21600"/>
                </a:lnTo>
                <a:close/>
              </a:path>
              <a:path fill="lightenLess" w="107981" h="21600">
                <a:moveTo>
                  <a:pt x="0" y="0"/>
                </a:moveTo>
                <a:lnTo>
                  <a:pt x="107981" y="0"/>
                </a:lnTo>
                <a:lnTo>
                  <a:pt x="106581" y="1400"/>
                </a:lnTo>
                <a:lnTo>
                  <a:pt x="1400" y="1400"/>
                </a:lnTo>
                <a:close/>
              </a:path>
              <a:path fill="darken" w="107981" h="21600">
                <a:moveTo>
                  <a:pt x="107981" y="0"/>
                </a:moveTo>
                <a:lnTo>
                  <a:pt x="107981" y="21600"/>
                </a:lnTo>
                <a:lnTo>
                  <a:pt x="106581" y="20200"/>
                </a:lnTo>
                <a:lnTo>
                  <a:pt x="106581" y="1400"/>
                </a:lnTo>
                <a:close/>
              </a:path>
              <a:path fill="darkenLess" w="107981" h="21600">
                <a:moveTo>
                  <a:pt x="107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81" y="20200"/>
                </a:lnTo>
                <a:close/>
              </a:path>
              <a:path fill="lighten" w="107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62120" y="304920"/>
            <a:ext cx="7619760" cy="567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4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看月食课文录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47800" y="1600200"/>
            <a:ext cx="5648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1371600" y="457200"/>
            <a:ext cx="7010280" cy="2209680"/>
          </a:xfrm>
          <a:custGeom>
            <a:avLst/>
            <a:gdLst>
              <a:gd name="textAreaLeft" fmla="*/ 142920 w 7010280"/>
              <a:gd name="textAreaRight" fmla="*/ 6867360 w 7010280"/>
              <a:gd name="textAreaTop" fmla="*/ 142920 h 2209680"/>
              <a:gd name="textAreaBottom" fmla="*/ 2066760 h 2209680"/>
            </a:gdLst>
            <a:ahLst/>
            <a:rect l="textAreaLeft" t="textAreaTop" r="textAreaRight" b="textAreaBottom"/>
            <a:pathLst>
              <a:path w="68519" h="21600">
                <a:moveTo>
                  <a:pt x="0" y="0"/>
                </a:moveTo>
                <a:lnTo>
                  <a:pt x="68519" y="0"/>
                </a:lnTo>
                <a:lnTo>
                  <a:pt x="68519" y="21600"/>
                </a:lnTo>
                <a:lnTo>
                  <a:pt x="0" y="21600"/>
                </a:lnTo>
                <a:close/>
              </a:path>
              <a:path fill="lightenLess" w="68519" h="21600">
                <a:moveTo>
                  <a:pt x="0" y="0"/>
                </a:moveTo>
                <a:lnTo>
                  <a:pt x="68519" y="0"/>
                </a:lnTo>
                <a:lnTo>
                  <a:pt x="67119" y="1400"/>
                </a:lnTo>
                <a:lnTo>
                  <a:pt x="1400" y="1400"/>
                </a:lnTo>
                <a:close/>
              </a:path>
              <a:path fill="darken" w="68519" h="21600">
                <a:moveTo>
                  <a:pt x="68519" y="0"/>
                </a:moveTo>
                <a:lnTo>
                  <a:pt x="68519" y="21600"/>
                </a:lnTo>
                <a:lnTo>
                  <a:pt x="67119" y="20200"/>
                </a:lnTo>
                <a:lnTo>
                  <a:pt x="67119" y="1400"/>
                </a:lnTo>
                <a:close/>
              </a:path>
              <a:path fill="darkenLess" w="68519" h="21600">
                <a:moveTo>
                  <a:pt x="685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119" y="20200"/>
                </a:lnTo>
                <a:close/>
              </a:path>
              <a:path fill="lighten" w="685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85800" y="304920"/>
            <a:ext cx="7696080" cy="58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0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看月食课文录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47800" y="1600200"/>
            <a:ext cx="5648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1371600" y="457200"/>
            <a:ext cx="7010280" cy="2209680"/>
          </a:xfrm>
          <a:custGeom>
            <a:avLst/>
            <a:gdLst>
              <a:gd name="textAreaLeft" fmla="*/ 142920 w 7010280"/>
              <a:gd name="textAreaRight" fmla="*/ 6867360 w 7010280"/>
              <a:gd name="textAreaTop" fmla="*/ 142920 h 2209680"/>
              <a:gd name="textAreaBottom" fmla="*/ 2066760 h 2209680"/>
            </a:gdLst>
            <a:ahLst/>
            <a:rect l="textAreaLeft" t="textAreaTop" r="textAreaRight" b="textAreaBottom"/>
            <a:pathLst>
              <a:path w="68519" h="21600">
                <a:moveTo>
                  <a:pt x="0" y="0"/>
                </a:moveTo>
                <a:lnTo>
                  <a:pt x="68519" y="0"/>
                </a:lnTo>
                <a:lnTo>
                  <a:pt x="68519" y="21600"/>
                </a:lnTo>
                <a:lnTo>
                  <a:pt x="0" y="21600"/>
                </a:lnTo>
                <a:close/>
              </a:path>
              <a:path fill="lightenLess" w="68519" h="21600">
                <a:moveTo>
                  <a:pt x="0" y="0"/>
                </a:moveTo>
                <a:lnTo>
                  <a:pt x="68519" y="0"/>
                </a:lnTo>
                <a:lnTo>
                  <a:pt x="67119" y="1400"/>
                </a:lnTo>
                <a:lnTo>
                  <a:pt x="1400" y="1400"/>
                </a:lnTo>
                <a:close/>
              </a:path>
              <a:path fill="darken" w="68519" h="21600">
                <a:moveTo>
                  <a:pt x="68519" y="0"/>
                </a:moveTo>
                <a:lnTo>
                  <a:pt x="68519" y="21600"/>
                </a:lnTo>
                <a:lnTo>
                  <a:pt x="67119" y="20200"/>
                </a:lnTo>
                <a:lnTo>
                  <a:pt x="67119" y="1400"/>
                </a:lnTo>
                <a:close/>
              </a:path>
              <a:path fill="darkenLess" w="68519" h="21600">
                <a:moveTo>
                  <a:pt x="685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119" y="20200"/>
                </a:lnTo>
                <a:close/>
              </a:path>
              <a:path fill="lighten" w="685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838080" y="380880"/>
            <a:ext cx="7467840" cy="579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6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rcRect l="0" t="6339" r="11357" b="333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837720" y="144756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地球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转到了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   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中间，</a:t>
            </a:r>
            <a:br>
              <a:rPr sz="3600"/>
            </a:br>
            <a:br>
              <a:rPr sz="3600"/>
            </a:b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     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了太阳光  。太阳光照不到</a:t>
            </a:r>
            <a:br>
              <a:rPr sz="3600"/>
            </a:br>
            <a:br>
              <a:rPr sz="3600"/>
            </a:b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     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上，就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叫月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18960" y="1052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太阳和月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32000" y="270828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挡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0" y="3860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月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rcRect l="0" t="1352" r="0" b="-4049"/>
          <a:stretch/>
        </p:blipFill>
        <p:spPr>
          <a:xfrm>
            <a:off x="76320" y="25560"/>
            <a:ext cx="8839080" cy="66038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39116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太阳、地球、月亮是宇宙中的三个星球。其中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太阳最大，它能够发出强大的光和热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；地球比太阳小，不发光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人们看到的月光是太阳光照在月亮上反射出来的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三个星球，太阳自己在不停地转动；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地球在自己转动的同时绕着太阳运行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转一圈是一天，绕太阳转一圈是一年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月亮是地球的卫星，自己转动，同时绕地球转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转一圈是一个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943600" y="5562720"/>
            <a:ext cx="2666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小资料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7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37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rcRect l="2781" t="0" r="0" b="0"/>
          <a:stretch/>
        </p:blipFill>
        <p:spPr>
          <a:xfrm>
            <a:off x="0" y="0"/>
            <a:ext cx="8153280" cy="691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1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819520" y="4648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太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3048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地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1295280"/>
            <a:ext cx="457200" cy="38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49560" y="480060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日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762120"/>
            <a:ext cx="5410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月食：地球挡住了太阳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689880" y="21495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14160" y="48006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月亮挡住了太阳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762120" y="1523880"/>
            <a:ext cx="2514600" cy="2882880"/>
            <a:chOff x="762120" y="1523880"/>
            <a:chExt cx="2514600" cy="2882880"/>
          </a:xfrm>
        </p:grpSpPr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762120" y="1523880"/>
              <a:ext cx="251460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1523880" y="38862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太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553080" y="2590920"/>
            <a:ext cx="1143000" cy="1818720"/>
            <a:chOff x="6553080" y="2590920"/>
            <a:chExt cx="1143000" cy="1818720"/>
          </a:xfrm>
        </p:grpSpPr>
        <p:sp>
          <p:nvSpPr>
            <p:cNvPr id="156" name=""/>
            <p:cNvSpPr/>
            <p:nvPr/>
          </p:nvSpPr>
          <p:spPr>
            <a:xfrm>
              <a:off x="6553080" y="38890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月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95640" y="2590920"/>
              <a:ext cx="642600" cy="584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809880" y="1752480"/>
            <a:ext cx="4496040" cy="2895840"/>
            <a:chOff x="3809880" y="1752480"/>
            <a:chExt cx="4496040" cy="2895840"/>
          </a:xfrm>
        </p:grpSpPr>
        <p:grpSp>
          <p:nvGrpSpPr>
            <p:cNvPr id="159" name=""/>
            <p:cNvGrpSpPr/>
            <p:nvPr/>
          </p:nvGrpSpPr>
          <p:grpSpPr>
            <a:xfrm>
              <a:off x="3809880" y="2514600"/>
              <a:ext cx="1143000" cy="1874520"/>
              <a:chOff x="3809880" y="2514600"/>
              <a:chExt cx="1143000" cy="1874520"/>
            </a:xfrm>
          </p:grpSpPr>
          <p:sp>
            <p:nvSpPr>
              <p:cNvPr id="160" name=""/>
              <p:cNvSpPr/>
              <p:nvPr/>
            </p:nvSpPr>
            <p:spPr>
              <a:xfrm>
                <a:off x="3809880" y="386856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Times New Roman"/>
                  </a:rPr>
                  <a:t>月亮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952440" y="2514600"/>
                <a:ext cx="642600" cy="609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6400800" y="1752480"/>
              <a:ext cx="1905120" cy="289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029200" y="2209680"/>
            <a:ext cx="1219320" cy="2197080"/>
            <a:chOff x="5029200" y="2209680"/>
            <a:chExt cx="1219320" cy="2197080"/>
          </a:xfrm>
        </p:grpSpPr>
        <p:grpSp>
          <p:nvGrpSpPr>
            <p:cNvPr id="164" name=""/>
            <p:cNvGrpSpPr/>
            <p:nvPr/>
          </p:nvGrpSpPr>
          <p:grpSpPr>
            <a:xfrm>
              <a:off x="5029200" y="2209680"/>
              <a:ext cx="1219320" cy="2197080"/>
              <a:chOff x="5029200" y="2209680"/>
              <a:chExt cx="1219320" cy="2197080"/>
            </a:xfrm>
          </p:grpSpPr>
          <p:pic>
            <p:nvPicPr>
              <p:cNvPr id="16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029200" y="2209680"/>
                <a:ext cx="1219320" cy="12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"/>
              <p:cNvSpPr/>
              <p:nvPr/>
            </p:nvSpPr>
            <p:spPr>
              <a:xfrm>
                <a:off x="5328720" y="388620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Times New Roman"/>
                  </a:rPr>
                  <a:t>地球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7" name="" descr=""/>
            <p:cNvPicPr/>
            <p:nvPr/>
          </p:nvPicPr>
          <p:blipFill>
            <a:blip r:embed="rId4"/>
            <a:stretch/>
          </p:blipFill>
          <p:spPr>
            <a:xfrm>
              <a:off x="5410080" y="2209680"/>
              <a:ext cx="513000" cy="48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6705720" y="990720"/>
            <a:ext cx="2438280" cy="3733560"/>
          </a:xfrm>
          <a:custGeom>
            <a:avLst/>
            <a:gdLst>
              <a:gd name="textAreaLeft" fmla="*/ 158040 w 2438280"/>
              <a:gd name="textAreaRight" fmla="*/ 2280240 w 2438280"/>
              <a:gd name="textAreaTop" fmla="*/ 158040 h 3733560"/>
              <a:gd name="textAreaBottom" fmla="*/ 3575520 h 3733560"/>
            </a:gdLst>
            <a:ahLst/>
            <a:rect l="textAreaLeft" t="textAreaTop" r="textAreaRight" b="textAreaBottom"/>
            <a:pathLst>
              <a:path w="21600" h="33073">
                <a:moveTo>
                  <a:pt x="0" y="0"/>
                </a:moveTo>
                <a:lnTo>
                  <a:pt x="21600" y="0"/>
                </a:lnTo>
                <a:lnTo>
                  <a:pt x="21600" y="33073"/>
                </a:lnTo>
                <a:lnTo>
                  <a:pt x="0" y="33073"/>
                </a:lnTo>
                <a:close/>
              </a:path>
              <a:path fill="lightenLess" w="21600" h="330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073">
                <a:moveTo>
                  <a:pt x="21600" y="0"/>
                </a:moveTo>
                <a:lnTo>
                  <a:pt x="21600" y="33073"/>
                </a:lnTo>
                <a:lnTo>
                  <a:pt x="20200" y="31673"/>
                </a:lnTo>
                <a:lnTo>
                  <a:pt x="20200" y="1400"/>
                </a:lnTo>
                <a:close/>
              </a:path>
              <a:path fill="darkenLess" w="21600" h="33073">
                <a:moveTo>
                  <a:pt x="21600" y="33073"/>
                </a:moveTo>
                <a:lnTo>
                  <a:pt x="0" y="33073"/>
                </a:lnTo>
                <a:lnTo>
                  <a:pt x="1400" y="31673"/>
                </a:lnTo>
                <a:lnTo>
                  <a:pt x="20200" y="31673"/>
                </a:lnTo>
                <a:close/>
              </a:path>
              <a:path fill="lighten" w="21600" h="33073">
                <a:moveTo>
                  <a:pt x="0" y="33073"/>
                </a:moveTo>
                <a:lnTo>
                  <a:pt x="0" y="0"/>
                </a:lnTo>
                <a:lnTo>
                  <a:pt x="1400" y="1400"/>
                </a:lnTo>
                <a:lnTo>
                  <a:pt x="1400" y="3167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447920" y="160020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试试你的身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19320" y="2819520"/>
            <a:ext cx="685800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能用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先……接着……然后……最后……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说说黑影遮挡月亮的过程或月亮从黑影中走出来的过程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31640" y="477720"/>
            <a:ext cx="5148360" cy="3456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356000" y="3213000"/>
            <a:ext cx="4343400" cy="3102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55640" y="4495680"/>
            <a:ext cx="73915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圆圆的月亮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像个大玉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挂在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空，银光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河面上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闪闪发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62120" y="1371600"/>
            <a:ext cx="784836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语言直播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有人说：吃鱼脑子会笨；打喷嚏是因为有人想你；耳朵热是因为有人说你坏话；眼皮跳意味着祸事到……对这些说法你有什么看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选个话题与小伙伴交流交流</a:t>
            </a:r>
            <a:r>
              <a:rPr b="0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>
            <a:lum contrast="36000"/>
          </a:blip>
          <a:srcRect l="5134" t="8128" r="1613" b="131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2819520" y="685800"/>
            <a:ext cx="47242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36</a:t>
            </a: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、看月食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" name=""/>
          <p:cNvSpPr/>
          <p:nvPr/>
        </p:nvSpPr>
        <p:spPr>
          <a:xfrm>
            <a:off x="7607160" y="1969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5120" y="761760"/>
            <a:ext cx="579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0440" y="1600200"/>
            <a:ext cx="564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-2179" t="0" r="-910" b="163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19320" y="36504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边读课文边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1143000"/>
            <a:ext cx="73472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课文写的是谁在看月食？是什么时候看，在哪里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月食时和月亮复原时，月亮的形状发生了什么变化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月食是怎样形成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75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75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75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87280" y="1413000"/>
            <a:ext cx="6629400" cy="41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钩  红铜色  木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棍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吞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  铜锣  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镰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刀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敲打  仍旧    微笑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黑影  半信半疑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438280" y="25146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1828800"/>
            <a:ext cx="30736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镰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438280" y="25146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09680" y="2819520"/>
            <a:ext cx="574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钩 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 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月食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圆圆的月亮像个大玉盘挂在天空，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光洒在河面上，闪闪发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1868" t="3714" r="6700" b="108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411280" y="152280"/>
            <a:ext cx="43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  <a:ea typeface="幼圆"/>
              </a:rPr>
              <a:t>36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  <a:ea typeface="幼圆"/>
              </a:rPr>
              <a:t>、  看月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63760" y="2362320"/>
            <a:ext cx="18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地   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332000" y="2781360"/>
            <a:ext cx="1676160" cy="59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人    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1479600" y="1752480"/>
            <a:ext cx="17366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时   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1752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晚上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时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01880" y="3048120"/>
            <a:ext cx="3537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我    爸爸   妹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2378160"/>
            <a:ext cx="1752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河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87440" y="3733920"/>
            <a:ext cx="4479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月亮的变化过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>
            <a:lum contrast="12000"/>
          </a:blip>
          <a:srcRect l="6329" t="31129" r="4751" b="34212"/>
          <a:stretch/>
        </p:blipFill>
        <p:spPr>
          <a:xfrm>
            <a:off x="838080" y="4648320"/>
            <a:ext cx="8001000" cy="990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708200" y="48006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63800" y="48006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481644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10280" y="481644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369120" y="481644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59640" y="48322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53280" y="5302080"/>
            <a:ext cx="304560" cy="228600"/>
          </a:xfrm>
          <a:prstGeom prst="leftArrow">
            <a:avLst>
              <a:gd name="adj1" fmla="val 50000"/>
              <a:gd name="adj2" fmla="val 3330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5257800"/>
            <a:ext cx="304560" cy="228600"/>
          </a:xfrm>
          <a:prstGeom prst="leftArrow">
            <a:avLst>
              <a:gd name="adj1" fmla="val 50000"/>
              <a:gd name="adj2" fmla="val 3330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51200" y="5286240"/>
            <a:ext cx="304920" cy="228600"/>
          </a:xfrm>
          <a:prstGeom prst="leftArrow">
            <a:avLst>
              <a:gd name="adj1" fmla="val 50000"/>
              <a:gd name="adj2" fmla="val 333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5289480"/>
            <a:ext cx="304920" cy="228600"/>
          </a:xfrm>
          <a:prstGeom prst="leftArrow">
            <a:avLst>
              <a:gd name="adj1" fmla="val 50000"/>
              <a:gd name="adj2" fmla="val 333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4440" y="5273640"/>
            <a:ext cx="304560" cy="228600"/>
          </a:xfrm>
          <a:prstGeom prst="leftArrow">
            <a:avLst>
              <a:gd name="adj1" fmla="val 50000"/>
              <a:gd name="adj2" fmla="val 3330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9640" y="5318280"/>
            <a:ext cx="304920" cy="228600"/>
          </a:xfrm>
          <a:prstGeom prst="leftArrow">
            <a:avLst>
              <a:gd name="adj1" fmla="val 50000"/>
              <a:gd name="adj2" fmla="val 333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048120" y="914400"/>
            <a:ext cx="4267080" cy="763200"/>
            <a:chOff x="3048120" y="914400"/>
            <a:chExt cx="4267080" cy="763200"/>
          </a:xfrm>
        </p:grpSpPr>
        <p:sp>
          <p:nvSpPr>
            <p:cNvPr id="93" name=""/>
            <p:cNvSpPr/>
            <p:nvPr/>
          </p:nvSpPr>
          <p:spPr>
            <a:xfrm>
              <a:off x="3048120" y="1035000"/>
              <a:ext cx="426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cc00"/>
                  </a:solidFill>
                  <a:latin typeface="Times New Roman"/>
                </a:rPr>
                <a:t>地球挡住了太阳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029200" y="914400"/>
              <a:ext cx="380520" cy="22860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5410080" y="914400"/>
              <a:ext cx="304560" cy="22860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5800" y="304920"/>
            <a:ext cx="1219320" cy="1179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696080" y="990720"/>
            <a:ext cx="1143000" cy="1108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705720" y="160200"/>
            <a:ext cx="761760" cy="736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5-08-10T02:22:02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