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9C4-F72A-4A39-AFB5-3E0E80E7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524-115B-4795-A591-1E5B9C89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BB5-E0B0-48BA-803E-1A36A0C1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FE5-5AD8-43E8-AC92-C1CD4AAB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B39-3D37-4ADB-BF2A-69118298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A04-0A23-491C-9BD0-674A6CAC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792-4C94-40DC-96FC-5FA150B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0BE-C1AA-4AE8-A3C8-4FC1DD0D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F3B-5106-4EDE-8E5E-4DCA48AA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8EC-9E3E-4A5C-966F-A44C8BE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6A2-7E54-4653-AF19-F8480E0E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41F-DEFF-45C6-B1AE-0B1ACFE9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455-1393-4CE2-AD40-0C064006D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C:%5CDocuments%20and%20Settings%5CAdministrator%5CLocal%20Settings%5CTemp%5CHZ$D.801.2894%5CHZ$D.801.2895%5C&#30446;&#24405;1.pp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C:%5CDocuments%20and%20Settings%5CAdministrator%5CLocal%20Settings%5CTemp%5CHZ$D.801.2894%5CHZ$D.801.2895%5C&#30446;&#24405;1.pp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C:%5CDocuments%20and%20Settings%5CAdministrator%5CLocal%20Settings%5CTemp%5CHZ$D.801.2894%5CHZ$D.801.2895%5C&#30446;&#24405;1.pp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C:%5CDocuments%20and%20Settings%5CAdministrator%5CLocal%20Settings%5CTemp%5CHZ$D.801.2894%5CHZ$D.801.2895%5C&#30446;&#24405;1.pp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C:%5CDocuments%20and%20Settings%5CAdministrator%5CLocal%20Settings%5CTemp%5CHZ$D.801.2894%5CHZ$D.801.2895%5C&#30446;&#24405;1.ppt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C:%5CDocuments%20and%20Settings%5CAdministrator%5CLocal%20Settings%5CTemp%5CHZ$D.801.2894%5CHZ$D.801.2895%5C&#30446;&#24405;1.pp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C:%5CDocuments%20and%20Settings%5CAdministrator%5CLocal%20Settings%5CTemp%5CHZ$D.801.2894%5CHZ$D.801.2895%5C&#30446;&#24405;1.ppt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C:%5CDocuments%20and%20Settings%5CAdministrator%5CLocal%20Settings%5CTemp%5CHZ$D.801.2894%5CHZ$D.801.2895%5C&#30446;&#24405;1.pp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HZ$D.801.2894%5CHZ$D.801.2895%5C&#30446;&#24405;1.pp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C:%5CDocuments%20and%20Settings%5CAdministrator%5CLocal%20Settings%5CTemp%5CHZ$D.801.2894%5CHZ$D.801.2895%5C&#30446;&#24405;1.pp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2060640"/>
            <a:ext cx="523116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12.</a:t>
            </a:r>
            <a:r>
              <a:rPr b="0" lang="zh-CN" sz="1800" spc="-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空气在哪里</a:t>
            </a:r>
            <a:endParaRPr b="0" lang="en-US" sz="1800" spc="-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20000" y="6537240"/>
            <a:ext cx="2049480" cy="276120"/>
            <a:chOff x="7020000" y="6537240"/>
            <a:chExt cx="2049480" cy="276120"/>
          </a:xfrm>
        </p:grpSpPr>
        <p:pic>
          <p:nvPicPr>
            <p:cNvPr id="4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200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38836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1640" y="1484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空气从皮管跑出来后，又去了哪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69160" y="2419920"/>
            <a:ext cx="564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空气去了田里、大树旁、河水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自然的任何一个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9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1989000"/>
            <a:ext cx="741672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猴子又去找空气，大声喊道：“空气，空气，你在哪里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在火炉里，忙着帮助火燃得更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0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2167" t="10862" r="9881" b="4109"/>
          <a:stretch/>
        </p:blipFill>
        <p:spPr>
          <a:xfrm>
            <a:off x="1979640" y="1268280"/>
            <a:ext cx="5113440" cy="37148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0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42920" y="1268280"/>
            <a:ext cx="61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628640"/>
            <a:ext cx="82090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猴子眨了眨眼睛，看着熊熊燃烧的火苗，着急地喊道：“空气，空气，你在哪里</a:t>
            </a: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突然</a:t>
            </a: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四面八方响起了空气的回答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猴子</a:t>
            </a: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瞧</a:t>
            </a: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在空中一跑就成了风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猴子仰望天空，一阵微风拂面，怪痒痒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1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2920" y="1268280"/>
            <a:ext cx="61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907920"/>
            <a:ext cx="7705800" cy="38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</a:rPr>
              <a:t>我们用心来感受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小猴子，我在这里。要是没有我，庄稼啦，树木啦，就不能生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小猴子跑到田地边，大树旁，多神奇呀！禾苗茁壮，树木挺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2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00000" y="1566720"/>
            <a:ext cx="763272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小猴子，快来看呀！你看，水里有了我，鱼儿才能生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小猴子跑到河边，低头一望，小鱼儿游得多快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2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11280" y="1700280"/>
            <a:ext cx="597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小猴子，我在这里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小猴子，我在这里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空气还在哪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3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62064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哦！小猴子恍然大悟，原来自己周围都是空气，自己就生活在空气里，时时刻刻都在呼吸着空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恍然大悟”是什么意思？从这句话中你知道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415760"/>
            <a:ext cx="756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恍然大悟”的意思是突然间明白。小猴子知道了我们生活处处离不开空气，空气对我们很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4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87280" y="260280"/>
            <a:ext cx="669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让我们一起去大自然呼吸新鲜空气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4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0" r="0" b="4629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55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1197000"/>
            <a:ext cx="734400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</a:rPr>
              <a:t>自学要求</a:t>
            </a:r>
            <a:r>
              <a:rPr b="0" lang="en-US" sz="35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己喜欢的方式读课文，把字音读准确，把句子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自己不懂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4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0" r="0" b="80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61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5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哪里有空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295280" y="3860640"/>
            <a:ext cx="6755040" cy="1810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276800" y="1928880"/>
            <a:ext cx="316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的海绵放入水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看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70840" y="5877000"/>
            <a:ext cx="354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大气泡和小气泡冒出来，各种东西里都装有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14560" y="404640"/>
            <a:ext cx="172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做做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72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宋体"/>
              </a:rPr>
              <a:t>空气占据有空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533840" cy="410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98560" y="1989000"/>
            <a:ext cx="46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的杯子倒过来，斜斜压入水里，结果会怎样</a:t>
            </a:r>
            <a:r>
              <a:rPr b="0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9640" y="26028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做做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81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198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空气流动形成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3459240"/>
            <a:ext cx="4343400" cy="2057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4360" y="1628640"/>
            <a:ext cx="3517920" cy="1117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用手扇一扇燃着的香烟</a:t>
            </a:r>
            <a:r>
              <a:rPr b="1" lang="zh-TW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看一看</a:t>
            </a:r>
            <a:r>
              <a:rPr b="0" lang="zh-TW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烟会有什么变化</a:t>
            </a:r>
            <a:r>
              <a:rPr b="0" lang="zh-TW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14960" y="148428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012000" y="4365720"/>
            <a:ext cx="2376360" cy="1117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</a:t>
            </a:r>
            <a:r>
              <a:rPr b="1" lang="zh-TW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想一想</a:t>
            </a:r>
            <a:r>
              <a:rPr b="0" lang="zh-TW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风能做什么</a:t>
            </a:r>
            <a:r>
              <a:rPr b="0" lang="zh-TW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9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87280" y="980640"/>
            <a:ext cx="45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 Black"/>
              </a:rPr>
              <a:t>空气在哪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51040" y="2022480"/>
            <a:ext cx="3504960" cy="2486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822920" y="2205000"/>
            <a:ext cx="3494160" cy="214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气看不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却在我们的四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它一起玩游戏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楷体_GB2312"/>
              </a:rPr>
              <a:t>好玩又有趣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19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819520" y="2354400"/>
            <a:ext cx="3481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059600" y="6537240"/>
            <a:ext cx="2049480" cy="276120"/>
            <a:chOff x="7059600" y="6537240"/>
            <a:chExt cx="2049480" cy="276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59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74072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557360"/>
            <a:ext cx="835344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yǐn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jÌ         tāi      mò     pÍng     niē   w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隐    计    胎    墨    瓶     捏    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隐藏   计算   轮胎   墨水    瓶子   捏造    兴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隐身   计划   胎教   墨汁    空瓶   捏住    旺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2852640"/>
            <a:ext cx="698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cc0000"/>
                </a:solidFill>
                <a:latin typeface="宋体"/>
              </a:rPr>
              <a:t>小猴子在哪里找到了空气，各有什么用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cc0000"/>
                </a:solidFill>
                <a:latin typeface="宋体"/>
              </a:rPr>
              <a:t>你还发现空气在哪里，空气还有什么用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5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1773360" y="1197000"/>
            <a:ext cx="2581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</a:rPr>
              <a:t>小组合作，讨论交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351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空气在哪里？        空气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1125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080" y="11253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空气在小猴子的肺里，帮助小猴呼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080" y="19908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空气在皮球里，让皮球跳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1080" y="28735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空气在汽车轮胎里，让轮胎能够向前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366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空气在墨水瓶里，可以让我们给钢笔打水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43848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空气在火炉里，帮助火燃烧的更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080" y="51516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空气在田里、大树旁、河水里，让大自然充满生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4160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我还知道空气在我周围，让我可以自由呼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7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042920" y="177336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你还发现空气在哪里，空气还有什么用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42920" y="1628640"/>
            <a:ext cx="7129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空气在小猴的肺里、在皮球里、在轮胎里、在钢笔里、在火炉里、在大自然的任何一个角落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7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765000"/>
            <a:ext cx="784836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99ff"/>
                </a:solidFill>
                <a:latin typeface="宋体"/>
              </a:rPr>
              <a:t>我来读一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，空气，你在哪里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你的肺里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你玩儿的小皮球里，让皮球跳得老高老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汽车的轮胎里。有了我，汽车就能装得多，跑得快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8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1916280"/>
            <a:ext cx="4084560" cy="3492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2920" y="1844640"/>
            <a:ext cx="431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Arial"/>
              </a:rPr>
              <a:t>你想告诉小猴什么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90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9:27:07Z</dcterms:created>
  <dc:creator>Administrator</dc:creator>
  <dc:description/>
  <dc:language>en-US</dc:language>
  <cp:lastModifiedBy/>
  <dcterms:modified xsi:type="dcterms:W3CDTF">2016-04-19T09:27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