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F99-326E-4DEB-8D53-A4CF7D4E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2BA-8A04-496D-AFAA-CCE0E169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5A9-AA60-4F41-A492-E6C3AE83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4DD-ECA3-4328-ADEA-344387C5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D05-7C28-4230-806B-750123F0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042-A4BC-4D77-90A6-08DCC57F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518-7E3D-4839-9837-3C10EDCC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C76-8DC2-4C15-AA58-08537FBF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267-8A1D-470C-A020-96CDA32A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669-CE3E-4267-9C40-C45C976F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382-AB23-4EFA-8FB0-1158D98C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CA0-7989-46DE-902E-F0299F62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A8A4-0FF1-40E0-975C-08B5CFB1C1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8920" y="5486040"/>
            <a:ext cx="2298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鲁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rcRect l="0" t="0" r="0" b="10006"/>
          <a:stretch/>
        </p:blipFill>
        <p:spPr>
          <a:xfrm>
            <a:off x="611280" y="476280"/>
            <a:ext cx="4375080" cy="5184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92720" y="5493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鲁迅原名周树人，字豫才，浙江绍兴人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0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去日本留学，原在仙台医学院学医，后从事文艺工作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，首次用“鲁迅”的笔名，发表小说《狂人日记》。他一生写了许多优秀的文学作品，是中国伟大的文学家，思想家，革命家和教育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5760" y="1619280"/>
            <a:ext cx="8229600" cy="32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忽然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桂树上沙沙地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趾爪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爬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搔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对闪闪的眼睛在暗中随声而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9396360" cy="702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9640" y="2276640"/>
            <a:ext cx="7696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忽然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桂树上沙沙地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趾爪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爬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搔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对闪闪的眼睛在暗中随</a:t>
            </a:r>
            <a:r>
              <a:rPr b="1" lang="zh-CN" sz="4400" spc="-1" strike="noStrike">
                <a:solidFill>
                  <a:srgbClr val="1a0064"/>
                </a:solidFill>
                <a:latin typeface="楷体_GB2312"/>
                <a:ea typeface="楷体_GB2312"/>
              </a:rPr>
              <a:t>声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下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47973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搔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用指甲轻轻地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1916280"/>
            <a:ext cx="835164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因为老虎本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所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当猫教会了老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以后老虎却想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幸亏猫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所以老虎只能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234936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老虎本来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也不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，所以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到猫的门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当猫教会了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虎扑的方法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捉的方法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吃的方法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以后，老虎却想要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杀掉猫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。幸亏猫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知道它的来意的，跳到树上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所以老虎只能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睁睁地看着猫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95640" y="3716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37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4149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16360" y="4149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4149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501336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56720" y="508464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516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458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猫是早知道它的来意的，一跳，便上了树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-324000" y="0"/>
            <a:ext cx="9468000" cy="7050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27640" y="2205000"/>
            <a:ext cx="45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猫是早知道它的来意的，一跳，便上了树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老虎只能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眼睁睁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地在树下蹲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6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眼睁睁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睁眼看着，无可奈何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396360" cy="7351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87280" y="2637000"/>
            <a:ext cx="5334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这些教完了，老虎想，本领都学到了，谁也比不过它了，只有做老师的猫还比自己强，要是杀掉猫，自己便是最强的角色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1480" y="333360"/>
            <a:ext cx="75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要求：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轻声读读第二小节，用直线划出表示老虎来意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2133720"/>
            <a:ext cx="813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老虎蹲在树下眼睁睁地看着猫，心里想：如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就     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猫是早知道它的来意的，一跳，上了树，心想：如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老虎就          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26920" y="1413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这是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侥幸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的，我想，幸而老虎很性急，否则从桂树上就会爬下一只老虎，终究是很怕人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407664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侥幸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407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由于偶然的原因获得利益或免去不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5240" cy="7023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8000" y="141300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善良的人要小心防备那些心怀鬼胎、心术不正的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4221000"/>
            <a:ext cx="59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害人之心不可有，防人之心不可无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7209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4005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圆圆和方方是好朋友，圆圆学习很好，她有许多学习的小窍门，所以她计算又快又准确，作文写得特别好。方方的成绩就不太好了，他很想让圆圆教他，如果你是圆圆，你会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rcRect l="1169" t="2530" r="58649" b="14587"/>
          <a:stretch/>
        </p:blipFill>
        <p:spPr>
          <a:xfrm>
            <a:off x="5867280" y="333360"/>
            <a:ext cx="2449800" cy="3527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rcRect l="0" t="0" r="72078" b="22480"/>
          <a:stretch/>
        </p:blipFill>
        <p:spPr>
          <a:xfrm>
            <a:off x="1666800" y="333360"/>
            <a:ext cx="23288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5640" y="673200"/>
            <a:ext cx="770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什么猫是老虎的先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什么对猫来说这是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幸”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爪”、“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课文里的“一对闪闪的眼睛在暗中随声而下”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如果猫把所有的本领都教给了老虎，结果会怎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只教给它吃的本领结果又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48000" y="2492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0" r="0" b="12043"/>
          <a:stretch/>
        </p:blipFill>
        <p:spPr>
          <a:xfrm>
            <a:off x="611280" y="1268280"/>
            <a:ext cx="7921440" cy="5224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84360" y="333360"/>
            <a:ext cx="43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绍兴  鲁迅故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5640" y="673200"/>
            <a:ext cx="770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什么猫是老虎的先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什么对猫来说这是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幸”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爪”、“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课文里的“一对闪闪的眼睛在暗中随声而下”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如果猫把所有的本领都教给了老虎，结果会怎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只教给它吃的本领结果又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2492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3456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想象写话：（任选一题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3115800"/>
            <a:ext cx="799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情境一：猫把所有的本领都教给了老虎，老虎也学会了爬树的本领，故事的结果会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情境二：猫只教给了老虎吃的本领，老虎等不及了就想杀掉猫，故事的结果又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13411" t="19242" r="12365" b="13422"/>
          <a:stretch/>
        </p:blipFill>
        <p:spPr>
          <a:xfrm>
            <a:off x="539640" y="663480"/>
            <a:ext cx="79200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5480" y="714240"/>
            <a:ext cx="785016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40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猫是老虎的先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0" t="3219" r="0" b="5866"/>
          <a:stretch/>
        </p:blipFill>
        <p:spPr>
          <a:xfrm>
            <a:off x="324000" y="2278080"/>
            <a:ext cx="3960720" cy="316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rcRect l="4193" t="0" r="5695" b="9469"/>
          <a:stretch/>
        </p:blipFill>
        <p:spPr>
          <a:xfrm>
            <a:off x="4572000" y="2244600"/>
            <a:ext cx="4248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404640"/>
            <a:ext cx="8138880" cy="51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Comic Sans MS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m í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zhǐ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s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猜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谜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趾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爪   爬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shòu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j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传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授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侥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幸   师傅 眼睁睁 幸而   性急 否则   终究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1125360"/>
            <a:ext cx="8139240" cy="55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趾（    ）  扯（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挣（    ）睁（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侥（    ）  绕（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断（    ）  继（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25360"/>
            <a:ext cx="8139240" cy="55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6000" spc="-1" strike="noStrike">
                <a:solidFill>
                  <a:srgbClr val="ff00ff"/>
                </a:solidFill>
                <a:latin typeface="隶书"/>
                <a:ea typeface="隶书"/>
              </a:rPr>
              <a:t>趾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爪）    （撕</a:t>
            </a:r>
            <a:r>
              <a:rPr b="1" lang="zh-CN" sz="6000" spc="-1" strike="noStrike">
                <a:solidFill>
                  <a:srgbClr val="ff00ff"/>
                </a:solidFill>
                <a:latin typeface="隶书"/>
                <a:ea typeface="隶书"/>
              </a:rPr>
              <a:t>扯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6000" spc="-1" strike="noStrike">
                <a:solidFill>
                  <a:srgbClr val="ff00ff"/>
                </a:solidFill>
                <a:latin typeface="隶书"/>
                <a:ea typeface="隶书"/>
              </a:rPr>
              <a:t>挣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钱）  （眼</a:t>
            </a:r>
            <a:r>
              <a:rPr b="1" lang="zh-CN" sz="6000" spc="-1" strike="noStrike">
                <a:solidFill>
                  <a:srgbClr val="ff00ff"/>
                </a:solidFill>
                <a:latin typeface="隶书"/>
                <a:ea typeface="隶书"/>
              </a:rPr>
              <a:t>睁睁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6000" spc="-1" strike="noStrike">
                <a:solidFill>
                  <a:srgbClr val="ff00ff"/>
                </a:solidFill>
                <a:latin typeface="隶书"/>
                <a:ea typeface="隶书"/>
              </a:rPr>
              <a:t>侥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幸）    （</a:t>
            </a:r>
            <a:r>
              <a:rPr b="1" lang="zh-CN" sz="6000" spc="-1" strike="noStrike">
                <a:solidFill>
                  <a:srgbClr val="ff00ff"/>
                </a:solidFill>
                <a:latin typeface="隶书"/>
                <a:ea typeface="隶书"/>
              </a:rPr>
              <a:t>绕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道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（判</a:t>
            </a:r>
            <a:r>
              <a:rPr b="1" lang="zh-CN" sz="6000" spc="-1" strike="noStrike">
                <a:solidFill>
                  <a:srgbClr val="ff00ff"/>
                </a:solidFill>
                <a:latin typeface="隶书"/>
                <a:ea typeface="隶书"/>
              </a:rPr>
              <a:t>断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）    （</a:t>
            </a:r>
            <a:r>
              <a:rPr b="1" lang="zh-CN" sz="6000" spc="-1" strike="noStrike">
                <a:solidFill>
                  <a:srgbClr val="ff00ff"/>
                </a:solidFill>
                <a:latin typeface="隶书"/>
                <a:ea typeface="隶书"/>
              </a:rPr>
              <a:t>继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续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916360" y="189000"/>
            <a:ext cx="388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936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latin typeface="楷体_GB2312"/>
              </a:rPr>
              <a:t>比一比，再组词</a:t>
            </a:r>
            <a:endParaRPr b="1" lang="en-US" sz="1800" spc="1" strike="noStrike">
              <a:ln cap="rnd" w="936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673200"/>
            <a:ext cx="770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什么猫是老虎的先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什么对猫来说这是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幸”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爪”、“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课文里的“一对闪闪的眼睛在暗中随声而下”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如果猫把所有的本领都教给了老虎，结果会怎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只教给它吃的本领结果又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2492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rcRect l="0" t="0" r="3866" b="0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24360" y="3068640"/>
            <a:ext cx="7201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那是一个夏天的夜晚，我躺在一株大树下的小饭桌上 乘凉，祖母摇着芭蕉扇坐在桌旁，给我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讲故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rcRect l="0" t="0" r="3866" b="0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24360" y="3068640"/>
            <a:ext cx="7201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那是一个夏天的夜晚，我躺在一株大树下的小饭桌上 乘凉，祖母摇着芭蕉扇坐在桌旁，给我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讲故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3645000"/>
            <a:ext cx="935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221000"/>
            <a:ext cx="665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48000" y="3716280"/>
            <a:ext cx="2156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08-10T02:22:0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