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993-0971-4E70-958F-3726B0BB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AC9-5B78-49D5-A662-652C5FD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693-79DC-48EB-B0A0-C0F37554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E7D-0DFB-4D22-A9A0-58E84A58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F64-7F85-45B0-B2A1-61B6289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951-4AFF-4DCC-8915-AF2265C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597-06C3-4D9D-AD35-A4AE66E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C2B-99A2-4DE6-993A-D54A10C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E2C-6ECE-43DB-8B0D-DF39A76D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A6F-8F0A-475C-AEFF-287FDEF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72D-8DD6-47DD-A89D-EF39EAF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BAD-9321-48C7-A5B2-E8BE766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961-0055-4D5A-AFEB-EC4D8E318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14300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每逢佳节倍思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620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以前在家乡时，每逢重阳节，总要和兄弟们头插茱萸，手挽着手去城外登高远眺。大家欢聚在一起，是多么让人高兴啊！如今我们却天各一方，不能相会　　此时此刻，兄弟们一定也在登高聚会，西望长安，思念着我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2160" y="2276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79404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989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遥知兄弟登高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遍插茱萸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521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少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125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王维想，以前在家乡时，每逢重阳节，总要和兄弟们头插茱萸，手挽着手去城外登高远眺。大家欢聚在一起，是多么让人高兴啊！如今我们却天各一方，不能相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此时此刻，兄弟们一定也在登高聚会，西望长安，思念着我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44000" y="292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134136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九月九日忆山东兄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独在异乡为异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遥知兄弟登高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遍插茱萸少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626480"/>
            <a:ext cx="251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 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床前明月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疑是地上霜。举头望明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低头思故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20280" y="1484640"/>
            <a:ext cx="19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泊船瓜洲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王安石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京口瓜洲一水间，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钟山只隔数重山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风又绿江南岸，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明月何时照我还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1484640"/>
            <a:ext cx="280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日思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薛道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入春才七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离家已二年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归落雁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发在花前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549360"/>
            <a:ext cx="691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必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背诵《九月九日忆山东兄弟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选择一首思乡的古诗呤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 ３、摘抄几首王维的古诗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选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你有过思念亲人的感受吗？写一两句话来表达你对亲人的思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3280" y="126828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九月九日忆山东兄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2852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独在异乡为异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遥知兄弟登高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遍插茱萸少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98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王　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300720" y="6381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二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709308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三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7885080" y="6381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四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984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一年一度的重阳节又到了。一大早，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街上便热闹起来。人们　　　　，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地去　　　　。王维看着家家户户欢度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情景，更加思念家乡的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1200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二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804000" y="6381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三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759636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四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24720" y="63658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继  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9040" y="1830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扶老携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7880" y="1830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兴高采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800" y="233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登高游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195732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195732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4440" y="243360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90792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王维想，以前在家乡时，每逢重阳节，总要和兄弟们头插茱萸，手挽着手去城外登高远眺。大家欢聚在一起，是多么让人高兴啊！如今我们却天各一方，不能相会……此时此刻，兄弟们一定也在登高聚会，西望长安，思念着我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二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6381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三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四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24720" y="63658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继  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　　王维想，以前在家乡时，每逢重阳节，总要和兄弟们头插茱萸，手挽着手去城外登高远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　王维思绪万千，提起笔来写下了《九月九日忆山东兄弟》这首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独在异乡为异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遥知兄弟登高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遍插茱萸少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二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6381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三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第四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24720" y="63658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黑体"/>
              </a:rPr>
              <a:t>继  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37160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唐代有个大诗人，名叫王维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那年，他就离开家乡，来到京城长安，不觉已经　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一年一度的重阳节又到了。一大早，大街上便热闹起来。人们扶老携幼，兴高采烈地去登高游玩。王维看着家家户户欢度节日的情景，更加思念家乡的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23623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两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4842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　岁那年，他就　　　　，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到京城长安，不觉　　　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71800" y="1486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离开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68600" y="2219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已经两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7920" y="166860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27560" y="242100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3440" y="2997360"/>
            <a:ext cx="34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独在异乡为异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3440" y="2997360"/>
            <a:ext cx="34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独　异　　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4480" y="1600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690560"/>
            <a:ext cx="93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55736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一大早，大街上便　　起来。人们　　　　    ，　　　　地去登高游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09960" y="155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热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97496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扶老携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70320" y="1974960"/>
            <a:ext cx="16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兴高采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6542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4320" y="209088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9000" y="207504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49228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王维看着家家户户欢度节日的情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　　　家乡的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925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更加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3840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· ·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9320" y="3573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每逢佳节倍思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97600" y="355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79640" y="2492280"/>
            <a:ext cx="37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独在异乡为异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5:23:31Z</dcterms:created>
  <dc:creator/>
  <dc:description/>
  <dc:language>en-US</dc:language>
  <cp:lastModifiedBy/>
  <dcterms:modified xsi:type="dcterms:W3CDTF">2009-12-13T01:34:22Z</dcterms:modified>
  <cp:revision>69</cp:revision>
  <dc:subject/>
  <dc:title/>
</cp:coreProperties>
</file>