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94D-6AD1-4D68-9CAD-2B469D0F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911-A729-478D-A463-0EC38D98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8C8-5311-4D2D-9CB4-31F40349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FE3-7819-464E-B069-4035E0E4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018-AA89-4765-BDA7-FC0590BB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5C0-5E32-4BF3-B2C6-D1825839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005-2052-48B4-870D-012087CC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CBC-44DA-4B09-B1A3-21E78154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F44-732A-4D28-B068-359E17C5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D30-F3E7-4E96-9F81-41EF5E88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203-D947-493B-8F03-F29AA7FB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244-571E-4C15-AB56-0A4E5782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FB2E-2254-4FA3-ACC6-EA656CC14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6504" b="7274"/>
          <a:stretch/>
        </p:blipFill>
        <p:spPr>
          <a:xfrm>
            <a:off x="0" y="-76320"/>
            <a:ext cx="9118440" cy="6782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752480"/>
            <a:ext cx="7620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8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、南极，一片净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152" t="0" r="9899" b="8632"/>
          <a:stretch/>
        </p:blipFill>
        <p:spPr>
          <a:xfrm>
            <a:off x="-76320" y="76320"/>
            <a:ext cx="9112320" cy="6683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455760" y="6324120"/>
            <a:ext cx="152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33520"/>
            <a:ext cx="70196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小小设计师：请你给到南极的人们提出一个公益广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-1038" r="8349" b="10522"/>
          <a:stretch/>
        </p:blipFill>
        <p:spPr>
          <a:xfrm>
            <a:off x="76320" y="152280"/>
            <a:ext cx="8937360" cy="662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92" b="3691"/>
          <a:stretch/>
        </p:blipFill>
        <p:spPr>
          <a:xfrm>
            <a:off x="76320" y="152280"/>
            <a:ext cx="8962920" cy="649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779" t="0" r="0" b="8612"/>
          <a:stretch/>
        </p:blipFill>
        <p:spPr>
          <a:xfrm>
            <a:off x="0" y="76320"/>
            <a:ext cx="9578880" cy="6683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默读课文，画出不认识的字，借助拼音或查字典读准字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7157" t="0" r="0" b="12485"/>
          <a:stretch/>
        </p:blipFill>
        <p:spPr>
          <a:xfrm>
            <a:off x="0" y="-76320"/>
            <a:ext cx="9053640" cy="6400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为了使南极永远是一片净土，人们是怎样做的？你是怎知道的。找出有关句子读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告别南极，我们没有带走一块石头、一滴海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考察期间，每次登陆，船长反复提醒：不要捡石头、不要挑逗企鹅、不要踩坏苔藓，否则不许上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旅客及前来考察的科学家在岛上走路都是悄悄的，惟恐惊扰了主人们悠然自得的生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为我们驾驶小船的卡地亚小姐不顾风浪，执意去追赶那只掉入海里已经漂得很远的塑料袋，直到捞上来为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大家为什么要这样做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南极属于全人类的，不能动南极的一石一水，一草一木！”这已成为所有到南极的人们的共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南极仍然是一个童话世界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保护南极生态环境已经成为人们自觉行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啊！南极，愿你永远是一片净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4326" t="0" r="0" b="7534"/>
          <a:stretch/>
        </p:blipFill>
        <p:spPr>
          <a:xfrm>
            <a:off x="-76320" y="0"/>
            <a:ext cx="9910800" cy="6762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455760" y="6324120"/>
            <a:ext cx="152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4280"/>
            <a:ext cx="914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</a:rPr>
              <a:t>读了这篇课文。什么地方给你留下了深刻的印象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06:32:34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微软用户</cp:lastModifiedBy>
  <dcterms:modified xsi:type="dcterms:W3CDTF">2015-07-09T01:28:35Z</dcterms:modified>
  <cp:revision>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