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EE4-0351-40EE-B7E0-449A7E00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014-B7B5-47F6-93DE-78D8A403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18F-392B-4454-9C72-89CA74AB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1C1-1506-49B8-8B2B-A58EB7C1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F05-1926-4A2B-ACA5-0712D99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3F8-F1EA-4EC8-B131-BB52EB3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060-9AD9-4371-91AC-C09F4A2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5A7-8204-45EB-AA68-3ADE579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CDA-3016-404D-8C5E-41DFEEDB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7DC-816E-4D69-AE3A-DB8C4DA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FF1-EB94-483D-9112-0C19704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064-A29C-4843-B263-64C1463E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3F3-9C33-433A-B17E-F019E58F4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9.png"/><Relationship Id="rId4" Type="http://schemas.openxmlformats.org/officeDocument/2006/relationships/slide" Target="slide9.xml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990099"/>
                </a:solidFill>
                <a:latin typeface="Arial"/>
                <a:ea typeface="隶书"/>
              </a:rPr>
              <a:t>8</a:t>
            </a:r>
            <a:r>
              <a:rPr b="0" lang="zh-CN" sz="6900" spc="-1" strike="noStrike">
                <a:solidFill>
                  <a:srgbClr val="990099"/>
                </a:solidFill>
                <a:latin typeface="Arial"/>
                <a:ea typeface="隶书"/>
              </a:rPr>
              <a:t>、女主人与乞丐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38240" y="549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科版 三年级 语文 上册 第四单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71640" y="1413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乞丐怔住了，他用异样的目光看着女主人，</a:t>
            </a:r>
            <a:r>
              <a:rPr b="1" lang="zh-CN" sz="3200" spc="-1" strike="noStrike">
                <a:solidFill>
                  <a:srgbClr val="cc0099"/>
                </a:solidFill>
                <a:latin typeface="宋体-方正超大字符集"/>
                <a:ea typeface="宋体-方正超大字符集"/>
              </a:rPr>
              <a:t>尖突的喉结像一枚橄榄上下滑动了两下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58920" y="378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从乞丐的神情变化我们可以看出他的心灵受到了震撼：原来一只手也能干活，也有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2880" y="574560"/>
            <a:ext cx="60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找出描写乞丐神态的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826920" y="3429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因为这位健全的乞丐觉得自己只是一个乞丐，去乞讨得来的比搬砖来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26920" y="1268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而那位双手健全的乞丐，他为什么不搬砖？想象他的结果会怎样？（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411280" y="2565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多年后，原来那位独臂乞丐成了一家公司的董事长，还在城里买好了房子作为对妇人的报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16000" y="1125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多年后，事情有了怎么样的转变呢？（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3-2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71640" y="2492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从妇人说的话中，我们可以体会到妇人也很有尊严，而且还很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00000" y="765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 妇人为什么不要报酬，还要把房子送给一只手也没有的人？找出他们的对话来读一读。体会一下妇人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问题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独臂乞丐搬砖前后的外貌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5880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宋体-方正超大字符集"/>
                <a:ea typeface="宋体-方正超大字符集"/>
              </a:rPr>
              <a:t>这个乞丐很       ，他的右手臂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宋体-方正超大字符集"/>
                <a:ea typeface="宋体-方正超大字符集"/>
              </a:rPr>
              <a:t>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宋体-方正超大字符集"/>
                <a:ea typeface="宋体-方正超大字符集"/>
              </a:rPr>
              <a:t>                               袖子晃荡着，让人看了很难过， 谁碰上都会慷慨施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0"/>
          <p:cNvPicPr/>
          <p:nvPr/>
        </p:nvPicPr>
        <p:blipFill>
          <a:blip r:embed="rId1"/>
          <a:stretch/>
        </p:blipFill>
        <p:spPr>
          <a:xfrm>
            <a:off x="395280" y="404640"/>
            <a:ext cx="204156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971640" y="4365720"/>
            <a:ext cx="54925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他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跟那些成功人士一模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12"/>
          <p:cNvPicPr/>
          <p:nvPr/>
        </p:nvPicPr>
        <p:blipFill>
          <a:blip r:embed="rId2"/>
          <a:stretch/>
        </p:blipFill>
        <p:spPr>
          <a:xfrm>
            <a:off x="6732720" y="2997360"/>
            <a:ext cx="20350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5364000" y="189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700360" y="1125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已断掉了，空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268360" y="465300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装革履，气度不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2987640" y="2924280"/>
            <a:ext cx="3313080" cy="1698480"/>
            <a:chOff x="2987640" y="2924280"/>
            <a:chExt cx="3313080" cy="1698480"/>
          </a:xfrm>
        </p:grpSpPr>
        <p:sp>
          <p:nvSpPr>
            <p:cNvPr id="139" name="AutoShape 11"/>
            <p:cNvSpPr/>
            <p:nvPr/>
          </p:nvSpPr>
          <p:spPr>
            <a:xfrm>
              <a:off x="2987640" y="2924280"/>
              <a:ext cx="3313080" cy="1079640"/>
            </a:xfrm>
            <a:custGeom>
              <a:avLst/>
              <a:gdLst>
                <a:gd name="textAreaLeft" fmla="*/ 331560 w 3313080"/>
                <a:gd name="textAreaRight" fmla="*/ 2981520 w 3313080"/>
                <a:gd name="textAreaTop" fmla="*/ 617760 h 1079640"/>
                <a:gd name="textAreaBottom" fmla="*/ 9259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171"/>
                  </a:lnTo>
                  <a:lnTo>
                    <a:pt x="8640" y="6171"/>
                  </a:lnTo>
                  <a:lnTo>
                    <a:pt x="8640" y="12343"/>
                  </a:lnTo>
                  <a:lnTo>
                    <a:pt x="4320" y="12343"/>
                  </a:lnTo>
                  <a:lnTo>
                    <a:pt x="4320" y="9257"/>
                  </a:lnTo>
                  <a:lnTo>
                    <a:pt x="0" y="15429"/>
                  </a:lnTo>
                  <a:lnTo>
                    <a:pt x="4320" y="21600"/>
                  </a:lnTo>
                  <a:lnTo>
                    <a:pt x="4320" y="18514"/>
                  </a:lnTo>
                  <a:lnTo>
                    <a:pt x="17280" y="18514"/>
                  </a:lnTo>
                  <a:lnTo>
                    <a:pt x="17280" y="21600"/>
                  </a:lnTo>
                  <a:lnTo>
                    <a:pt x="21600" y="15429"/>
                  </a:lnTo>
                  <a:lnTo>
                    <a:pt x="17280" y="9257"/>
                  </a:lnTo>
                  <a:lnTo>
                    <a:pt x="17280" y="12343"/>
                  </a:lnTo>
                  <a:lnTo>
                    <a:pt x="12960" y="12343"/>
                  </a:lnTo>
                  <a:lnTo>
                    <a:pt x="12960" y="6171"/>
                  </a:lnTo>
                  <a:lnTo>
                    <a:pt x="15120" y="6171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2"/>
            <p:cNvSpPr/>
            <p:nvPr/>
          </p:nvSpPr>
          <p:spPr>
            <a:xfrm>
              <a:off x="3995640" y="3861000"/>
              <a:ext cx="1225440" cy="761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4137480" y="3429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前后对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705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砖放在屋前和放在屋后都一样，可搬不搬</a:t>
            </a: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对乞丐来说就不一样了。”再读这句话，课文主要讲了几个乞丐？是两个怎样的乞丐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979640" y="62064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难句讲解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835280" y="3573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华文中宋"/>
                <a:ea typeface="华文中宋"/>
              </a:rPr>
              <a:t>课文主要写了两个乞丐，一个独臂的乞丐，他靠自己力气搬砖得到</a:t>
            </a:r>
            <a:r>
              <a:rPr b="1" lang="zh-CN" sz="2800" spc="-1" strike="noStrike">
                <a:solidFill>
                  <a:srgbClr val="99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990000"/>
                </a:solidFill>
                <a:latin typeface="华文中宋"/>
                <a:ea typeface="华文中宋"/>
              </a:rPr>
              <a:t>元的报酬，并唤醒了自己的尊严；另一个是健全的乞丐，他没有去搬砖，所以他不仅仅没有得到</a:t>
            </a:r>
            <a:r>
              <a:rPr b="1" lang="zh-CN" sz="2800" spc="-1" strike="noStrike">
                <a:solidFill>
                  <a:srgbClr val="99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990000"/>
                </a:solidFill>
                <a:latin typeface="华文中宋"/>
                <a:ea typeface="华文中宋"/>
              </a:rPr>
              <a:t>元，还把自己的尊严给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324000" y="260280"/>
            <a:ext cx="3309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堂检测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045520" y="24922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年以后，当又有乞丐来向这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董事长乞讨时，他会怎么做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00000" y="162864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，是尊严改变了乞丐的命运，也是尊严使我们感到了妇人是高大而可敬的，尊严对我们每个人都是重要的，让我们珍惜尊严吧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07061811114839"/>
          <p:cNvPicPr/>
          <p:nvPr/>
        </p:nvPicPr>
        <p:blipFill>
          <a:blip r:embed="rId2"/>
          <a:stretch/>
        </p:blipFill>
        <p:spPr>
          <a:xfrm>
            <a:off x="-317520" y="-222120"/>
            <a:ext cx="9694800" cy="70801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/>
          <p:cNvSpPr/>
          <p:nvPr/>
        </p:nvSpPr>
        <p:spPr>
          <a:xfrm>
            <a:off x="324000" y="1916280"/>
            <a:ext cx="8820000" cy="381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站着的农夫要比跪着的绅士高尚得多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富兰克林（美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979640" y="260280"/>
            <a:ext cx="6049800" cy="1584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3851280" y="620640"/>
            <a:ext cx="216072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名人名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32720" y="37440"/>
            <a:ext cx="7855560" cy="7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些词语你认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4939920"/>
            <a:ext cx="770436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"/>
          </a:bodyPr>
          <a:p>
            <a:pPr marL="1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美中不足  气喘如牛</a:t>
            </a:r>
            <a:r>
              <a:rPr b="0" lang="zh-CN" sz="1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 　　　    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0" lang="zh-CN" sz="1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9640" y="98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ǐ 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50920" y="981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āngkǎ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780000" y="98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u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292720" y="98100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ǎ n lǎ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804000" y="981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5280" y="155736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乞丐  慷慨 晃荡 橄榄 喉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68360" y="2781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报酬 鄙夷  轿车 怔住 凭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24000" y="40766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毫不客气 西装革履 气度不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39640" y="234936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óu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ǐ     yí         jiào         zhèng        p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076720" y="3716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395280" y="404640"/>
            <a:ext cx="2041560" cy="3456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1979640" y="117360"/>
            <a:ext cx="64818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去掉拼音你还认识它们吗？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843280" y="148428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340000" y="1341360"/>
            <a:ext cx="702000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乞丐  慷慨 晃荡  橄榄 喉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报酬  鄙夷  轿车 怔住 凭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毫不客气  西装革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气度不凡  美中不足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气喘如牛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2628720" y="3932280"/>
            <a:ext cx="1224000" cy="1224000"/>
            <a:chOff x="2628720" y="3932280"/>
            <a:chExt cx="1224000" cy="1224000"/>
          </a:xfrm>
        </p:grpSpPr>
        <p:sp>
          <p:nvSpPr>
            <p:cNvPr id="60" name="Rectangle 3"/>
            <p:cNvSpPr/>
            <p:nvPr/>
          </p:nvSpPr>
          <p:spPr>
            <a:xfrm>
              <a:off x="2629080" y="393228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"/>
            <p:cNvSpPr/>
            <p:nvPr/>
          </p:nvSpPr>
          <p:spPr>
            <a:xfrm flipH="1">
              <a:off x="2628720" y="454428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3241080" y="3962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1403280" y="3932280"/>
            <a:ext cx="1224000" cy="1224000"/>
            <a:chOff x="1403280" y="3932280"/>
            <a:chExt cx="1224000" cy="1224000"/>
          </a:xfrm>
        </p:grpSpPr>
        <p:sp>
          <p:nvSpPr>
            <p:cNvPr id="64" name="Rectangle 7"/>
            <p:cNvSpPr/>
            <p:nvPr/>
          </p:nvSpPr>
          <p:spPr>
            <a:xfrm>
              <a:off x="1403280" y="3932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 flipH="1">
              <a:off x="1403280" y="4544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"/>
            <p:cNvSpPr/>
            <p:nvPr/>
          </p:nvSpPr>
          <p:spPr>
            <a:xfrm>
              <a:off x="2015640" y="3962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5076720" y="3932280"/>
            <a:ext cx="1224000" cy="1224000"/>
            <a:chOff x="5076720" y="3932280"/>
            <a:chExt cx="1224000" cy="1224000"/>
          </a:xfrm>
        </p:grpSpPr>
        <p:sp>
          <p:nvSpPr>
            <p:cNvPr id="68" name="Rectangle 11"/>
            <p:cNvSpPr/>
            <p:nvPr/>
          </p:nvSpPr>
          <p:spPr>
            <a:xfrm>
              <a:off x="5076720" y="3932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5076720" y="4544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5689080" y="3962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3852720" y="3932280"/>
            <a:ext cx="1224000" cy="1224000"/>
            <a:chOff x="3852720" y="3932280"/>
            <a:chExt cx="1224000" cy="1224000"/>
          </a:xfrm>
        </p:grpSpPr>
        <p:sp>
          <p:nvSpPr>
            <p:cNvPr id="72" name="Rectangle 15"/>
            <p:cNvSpPr/>
            <p:nvPr/>
          </p:nvSpPr>
          <p:spPr>
            <a:xfrm>
              <a:off x="3852720" y="3932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6"/>
            <p:cNvSpPr/>
            <p:nvPr/>
          </p:nvSpPr>
          <p:spPr>
            <a:xfrm flipH="1">
              <a:off x="3852720" y="4544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4465080" y="3962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8"/>
          <p:cNvGrpSpPr/>
          <p:nvPr/>
        </p:nvGrpSpPr>
        <p:grpSpPr>
          <a:xfrm>
            <a:off x="2628720" y="2349360"/>
            <a:ext cx="1224000" cy="1224000"/>
            <a:chOff x="2628720" y="2349360"/>
            <a:chExt cx="1224000" cy="1224000"/>
          </a:xfrm>
        </p:grpSpPr>
        <p:sp>
          <p:nvSpPr>
            <p:cNvPr id="76" name="Rectangle 19"/>
            <p:cNvSpPr/>
            <p:nvPr/>
          </p:nvSpPr>
          <p:spPr>
            <a:xfrm>
              <a:off x="2629080" y="234936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 flipH="1">
              <a:off x="2628720" y="296136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3241080" y="237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1403280" y="2349360"/>
            <a:ext cx="1224000" cy="1224000"/>
            <a:chOff x="1403280" y="2349360"/>
            <a:chExt cx="1224000" cy="1224000"/>
          </a:xfrm>
        </p:grpSpPr>
        <p:sp>
          <p:nvSpPr>
            <p:cNvPr id="80" name="Rectangle 23"/>
            <p:cNvSpPr/>
            <p:nvPr/>
          </p:nvSpPr>
          <p:spPr>
            <a:xfrm>
              <a:off x="1403280" y="234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4"/>
            <p:cNvSpPr/>
            <p:nvPr/>
          </p:nvSpPr>
          <p:spPr>
            <a:xfrm flipH="1">
              <a:off x="1403280" y="296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5"/>
            <p:cNvSpPr/>
            <p:nvPr/>
          </p:nvSpPr>
          <p:spPr>
            <a:xfrm>
              <a:off x="2015640" y="237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6"/>
          <p:cNvGrpSpPr/>
          <p:nvPr/>
        </p:nvGrpSpPr>
        <p:grpSpPr>
          <a:xfrm>
            <a:off x="5076720" y="2349360"/>
            <a:ext cx="1224000" cy="1224000"/>
            <a:chOff x="5076720" y="2349360"/>
            <a:chExt cx="1224000" cy="1224000"/>
          </a:xfrm>
        </p:grpSpPr>
        <p:sp>
          <p:nvSpPr>
            <p:cNvPr id="84" name="Rectangle 27"/>
            <p:cNvSpPr/>
            <p:nvPr/>
          </p:nvSpPr>
          <p:spPr>
            <a:xfrm>
              <a:off x="5076720" y="234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 flipH="1">
              <a:off x="5076720" y="296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9"/>
            <p:cNvSpPr/>
            <p:nvPr/>
          </p:nvSpPr>
          <p:spPr>
            <a:xfrm>
              <a:off x="5689080" y="237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852720" y="2349360"/>
            <a:ext cx="1224000" cy="1224000"/>
            <a:chOff x="3852720" y="2349360"/>
            <a:chExt cx="1224000" cy="1224000"/>
          </a:xfrm>
        </p:grpSpPr>
        <p:sp>
          <p:nvSpPr>
            <p:cNvPr id="88" name="Rectangle 31"/>
            <p:cNvSpPr/>
            <p:nvPr/>
          </p:nvSpPr>
          <p:spPr>
            <a:xfrm>
              <a:off x="3852720" y="234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3852720" y="296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4465080" y="237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4"/>
          <p:cNvGrpSpPr/>
          <p:nvPr/>
        </p:nvGrpSpPr>
        <p:grpSpPr>
          <a:xfrm>
            <a:off x="6300720" y="2349360"/>
            <a:ext cx="1224000" cy="1224000"/>
            <a:chOff x="6300720" y="2349360"/>
            <a:chExt cx="1224000" cy="1224000"/>
          </a:xfrm>
        </p:grpSpPr>
        <p:sp>
          <p:nvSpPr>
            <p:cNvPr id="92" name="Rectangle 35"/>
            <p:cNvSpPr/>
            <p:nvPr/>
          </p:nvSpPr>
          <p:spPr>
            <a:xfrm>
              <a:off x="6300720" y="234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6"/>
            <p:cNvSpPr/>
            <p:nvPr/>
          </p:nvSpPr>
          <p:spPr>
            <a:xfrm flipH="1">
              <a:off x="6300720" y="296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7"/>
            <p:cNvSpPr/>
            <p:nvPr/>
          </p:nvSpPr>
          <p:spPr>
            <a:xfrm>
              <a:off x="6913080" y="237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8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乞丐臂袖</a:t>
            </a:r>
            <a:r>
              <a:rPr b="1" lang="zh-CN" sz="7200" spc="-1" strike="noStrike">
                <a:solidFill>
                  <a:srgbClr val="ff3399"/>
                </a:solidFill>
                <a:latin typeface="Arial"/>
                <a:ea typeface="宋体-方正超大字符集"/>
              </a:rPr>
              <a:t>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6300720" y="3932280"/>
            <a:ext cx="1224000" cy="1224000"/>
            <a:chOff x="6300720" y="3932280"/>
            <a:chExt cx="1224000" cy="1224000"/>
          </a:xfrm>
        </p:grpSpPr>
        <p:sp>
          <p:nvSpPr>
            <p:cNvPr id="97" name="Rectangle 40"/>
            <p:cNvSpPr/>
            <p:nvPr/>
          </p:nvSpPr>
          <p:spPr>
            <a:xfrm>
              <a:off x="6300720" y="3932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1"/>
            <p:cNvSpPr/>
            <p:nvPr/>
          </p:nvSpPr>
          <p:spPr>
            <a:xfrm flipH="1">
              <a:off x="6300720" y="4544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2"/>
            <p:cNvSpPr/>
            <p:nvPr/>
          </p:nvSpPr>
          <p:spPr>
            <a:xfrm>
              <a:off x="6913080" y="3962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43"/>
          <p:cNvSpPr/>
          <p:nvPr/>
        </p:nvSpPr>
        <p:spPr>
          <a:xfrm>
            <a:off x="1474920" y="393372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慨怔屑革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4"/>
          <p:cNvSpPr txBox="1"/>
          <p:nvPr/>
        </p:nvSpPr>
        <p:spPr>
          <a:xfrm>
            <a:off x="2987640" y="1197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我会写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篇课文讲了一个（    ）到一座院子乞讨，女主人没有施舍给他钱物，却要求乞丐（     ），独臂乞丐搬了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乞丐获得了自信和做人的尊严，从而依靠自己的劳动取得（  ）的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435640" y="12700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乞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661080" y="2637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搬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1160" y="378000"/>
            <a:ext cx="53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我来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03640" y="4653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00000" y="2060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因为女主人并不把独臂乞丐当成残疾人看待，而是把他当成一个完全有劳动能力的普通人。她这样做是为了唤醒乞丐的自尊，让他明白就算只有一只手，也能干活，也有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26920" y="76500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课文中的女主人为什么要独臂乞丐去搬砖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-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55640" y="83664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读乞丐干活时的样子，说一说看到这一切感受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589960" cy="5732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他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终于俯下身子，用他那唯一的手搬起砖来。一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只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搬两块，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整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搬了两个小时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把砖搬完，累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气喘如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被汗水湿透的几绺儿乱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额头上，脸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沾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了灰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30306xbutton5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17080" y="602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6084720" y="1268280"/>
            <a:ext cx="2808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56360" y="765000"/>
            <a:ext cx="2746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　</a:t>
            </a:r>
            <a:br>
              <a:rPr sz="2400"/>
            </a:b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    　乞丐接过钱，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感激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地说：</a:t>
            </a:r>
            <a:r>
              <a:rPr b="0" lang="zh-CN" sz="2400" spc="-1" strike="noStrike">
                <a:solidFill>
                  <a:srgbClr val="cc0099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谢谢你。</a:t>
            </a:r>
            <a:r>
              <a:rPr b="0" lang="zh-CN" sz="2400" spc="-1" strike="noStrike">
                <a:solidFill>
                  <a:srgbClr val="cc0099"/>
                </a:solidFill>
                <a:latin typeface="宋体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　　乞丐说：</a:t>
            </a:r>
            <a:r>
              <a:rPr b="0" lang="zh-CN" sz="2400" spc="-1" strike="noStrike">
                <a:solidFill>
                  <a:srgbClr val="cc0099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我不会忘记你的，这条毛巾也送给我作纪念吧。</a:t>
            </a:r>
            <a:r>
              <a:rPr b="0" lang="zh-CN" sz="2400" spc="-1" strike="noStrike">
                <a:solidFill>
                  <a:srgbClr val="cc0099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说完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深深地鞠了一躬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，就上路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30306xbutton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021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整体感知"/>
          <p:cNvPicPr/>
          <p:nvPr/>
        </p:nvPicPr>
        <p:blipFill>
          <a:blip r:embed="rId6"/>
          <a:stretch/>
        </p:blipFill>
        <p:spPr>
          <a:xfrm>
            <a:off x="250920" y="244440"/>
            <a:ext cx="2376360" cy="4921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1187280" y="765000"/>
            <a:ext cx="4608720" cy="1511640"/>
          </a:xfrm>
          <a:prstGeom prst="wedgeRoundRectCallout">
            <a:avLst>
              <a:gd name="adj1" fmla="val -35564"/>
              <a:gd name="adj2" fmla="val 89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332000" y="90792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　乞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气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地说：“我只有一只手，你还忍心叫我搬砖？不愿给就不给，何必捉弄人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292720" y="333360"/>
            <a:ext cx="1727280" cy="976320"/>
          </a:xfrm>
          <a:custGeom>
            <a:avLst/>
            <a:gdLst>
              <a:gd name="textAreaLeft" fmla="*/ 252720 w 1727280"/>
              <a:gd name="textAreaRight" fmla="*/ 1474560 w 172728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199" y="15874"/>
                </a:moveTo>
                <a:cubicBezTo>
                  <a:pt x="17491" y="14500"/>
                  <a:pt x="18210" y="12685"/>
                  <a:pt x="18210" y="10800"/>
                </a:cubicBezTo>
                <a:cubicBezTo>
                  <a:pt x="18210" y="6707"/>
                  <a:pt x="14892" y="3390"/>
                  <a:pt x="10800" y="3390"/>
                </a:cubicBezTo>
                <a:cubicBezTo>
                  <a:pt x="6707" y="3390"/>
                  <a:pt x="3390" y="6707"/>
                  <a:pt x="339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548"/>
                  <a:pt x="20552" y="16193"/>
                  <a:pt x="18669" y="18196"/>
                </a:cubicBezTo>
                <a:lnTo>
                  <a:pt x="20637" y="20045"/>
                </a:lnTo>
                <a:lnTo>
                  <a:pt x="14424" y="20237"/>
                </a:lnTo>
                <a:lnTo>
                  <a:pt x="14232" y="14025"/>
                </a:lnTo>
                <a:lnTo>
                  <a:pt x="16199" y="1587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020000" y="404640"/>
            <a:ext cx="1728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态度转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14:38Z</dcterms:created>
  <dc:creator/>
  <dc:description/>
  <cp:keywords/>
  <dc:language>en-US</dc:language>
  <cp:lastModifiedBy/>
  <dcterms:modified xsi:type="dcterms:W3CDTF">2013-10-31T08:14:45Z</dcterms:modified>
  <cp:revision>1</cp:revision>
  <dc:subject/>
  <dc:title/>
</cp:coreProperties>
</file>