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3E78-2422-4EB1-8E16-06DD51AD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788688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970080"/>
            <a:ext cx="788688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53FB-F606-4CD8-866C-2886D8BC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5736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97008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7008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F2B-81A8-4ECD-9431-B4979E55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253944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557360"/>
            <a:ext cx="253944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557360"/>
            <a:ext cx="253944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970080"/>
            <a:ext cx="253944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970080"/>
            <a:ext cx="253944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970080"/>
            <a:ext cx="253944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0E1-C3ED-46A9-910E-F730C53F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9A6D-927C-4B66-B45E-462C53ED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557360"/>
            <a:ext cx="788688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BD4C-8063-4430-9918-1EC796E4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78868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A795-3677-4605-8A0D-77AFBB5B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38487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557360"/>
            <a:ext cx="38487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3C4F-E923-42CA-A21C-DEB57081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9D0A-D2B6-4E8E-846A-A6A60A89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C119-A316-4984-BB34-4E36CE09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57360"/>
            <a:ext cx="38487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97008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4F2E-CF21-4AAD-A689-93BC55FB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557360"/>
            <a:ext cx="788688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98DA-A037-41DF-8794-3F6B7B2C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38487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5736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97008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9EBB-C039-4C5D-856D-FF70D275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5736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970080"/>
            <a:ext cx="788688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2167-1579-42B1-9A96-A6C138BF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788688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970080"/>
            <a:ext cx="788688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3415-BD5B-4755-AC24-9128D355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5736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97008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97008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3AE6-376A-4D62-9DD6-146816D4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253944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557360"/>
            <a:ext cx="253944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557360"/>
            <a:ext cx="253944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970080"/>
            <a:ext cx="253944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970080"/>
            <a:ext cx="253944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970080"/>
            <a:ext cx="253944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AA0D-A635-4571-B97D-D0866412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EB692-6B92-4D5C-9503-43CD2DC2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557360"/>
            <a:ext cx="788688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63E78-34A3-426F-847C-04ACF8B3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78868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C4C1F-2FA4-43FC-83F1-80A84F60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38487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557360"/>
            <a:ext cx="38487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3B0E2-1C82-43D3-A780-4541C1BC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A2D20-07D9-4661-8D78-FA116445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78868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2DA1-CE7A-47BE-9C91-FA2B0D3B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629AD-6CE1-48C7-A851-64E987F1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557360"/>
            <a:ext cx="38487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97008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A290D-8EE3-4956-AB10-CFC64D33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38487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5736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97008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AE3FA-C031-4106-BBC7-D227ABCF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5736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970080"/>
            <a:ext cx="788688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ED9E0-DEA7-4209-83E9-F903291E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788688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970080"/>
            <a:ext cx="788688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CD072-A985-4F6C-A8FB-F76DEA58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5736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97008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97008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4423C-D67D-4A0F-8680-D7615CBD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253944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557360"/>
            <a:ext cx="253944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557360"/>
            <a:ext cx="253944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970080"/>
            <a:ext cx="253944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970080"/>
            <a:ext cx="253944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970080"/>
            <a:ext cx="253944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4E3C-D69C-4290-832C-A90700AE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38487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557360"/>
            <a:ext cx="38487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3C44-AA96-4117-BF40-A8136C27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0CD-F57D-41F8-AB6C-A5FC4B34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0EB-1078-46AC-946D-1347A0F9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57360"/>
            <a:ext cx="38487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97008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2A6-EDB5-49EE-872C-4F5585FA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38487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5736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7008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858-7663-4987-8490-C5282DBC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55736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57360"/>
            <a:ext cx="384876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970080"/>
            <a:ext cx="7886880" cy="22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5249-2324-4BC3-9F6C-323FC675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557360"/>
            <a:ext cx="78868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47C6E1F-B1D9-4630-9C65-2837631476AF}" type="datetime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21D82CC-7497-4624-A6B8-3F65678F08F7}" type="slidenum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557360"/>
            <a:ext cx="78868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A7F614E-F027-4069-89D4-3CB243710B47}" type="datetime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8FF28F0-02B5-4CE8-8E62-16BE6330E4C2}" type="slidenum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557360"/>
            <a:ext cx="78868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B9F7BB1-3341-435B-B363-62DB88BC3A33}" type="datetime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0D93134-EA93-4A78-9E4F-EDF7FFB44C67}" type="slidenum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b1"/>
          <p:cNvPicPr/>
          <p:nvPr/>
        </p:nvPicPr>
        <p:blipFill>
          <a:blip r:embed="rId1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b2"/>
          <p:cNvPicPr/>
          <p:nvPr/>
        </p:nvPicPr>
        <p:blipFill>
          <a:blip r:embed="rId2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b3"/>
          <p:cNvPicPr/>
          <p:nvPr/>
        </p:nvPicPr>
        <p:blipFill>
          <a:blip r:embed="rId3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b4"/>
          <p:cNvPicPr/>
          <p:nvPr/>
        </p:nvPicPr>
        <p:blipFill>
          <a:blip r:embed="rId4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b5"/>
          <p:cNvPicPr/>
          <p:nvPr/>
        </p:nvPicPr>
        <p:blipFill>
          <a:blip r:embed="rId5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128" name="WordArt 7"/>
          <p:cNvSpPr txBox="1"/>
          <p:nvPr/>
        </p:nvSpPr>
        <p:spPr>
          <a:xfrm>
            <a:off x="1835280" y="2133720"/>
            <a:ext cx="5616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35 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爬山虎的脚</a:t>
            </a:r>
            <a:endParaRPr b="0" lang="en-US" sz="24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9" name="Picture 8" descr="b6"/>
          <p:cNvPicPr/>
          <p:nvPr/>
        </p:nvPicPr>
        <p:blipFill>
          <a:blip r:embed="rId6"/>
          <a:stretch/>
        </p:blipFill>
        <p:spPr>
          <a:xfrm>
            <a:off x="7564320" y="6197760"/>
            <a:ext cx="1562040" cy="63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22"/>
          <p:cNvPicPr/>
          <p:nvPr/>
        </p:nvPicPr>
        <p:blipFill>
          <a:blip r:embed="rId4"/>
          <a:stretch/>
        </p:blipFill>
        <p:spPr>
          <a:xfrm>
            <a:off x="2195640" y="2852640"/>
            <a:ext cx="4759200" cy="31273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7"/>
          <p:cNvSpPr/>
          <p:nvPr/>
        </p:nvSpPr>
        <p:spPr>
          <a:xfrm>
            <a:off x="900000" y="836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我来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900000" y="1484280"/>
            <a:ext cx="73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爬山虎的脚长茎上长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反面，形状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颜色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"/>
          <p:cNvSpPr/>
          <p:nvPr/>
        </p:nvSpPr>
        <p:spPr>
          <a:xfrm>
            <a:off x="395280" y="981000"/>
            <a:ext cx="82803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写新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文章内容，把句子补充完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阵清风吹过，满墙的爬山虎叶子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就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虽然爬山虎的脚只是六七根细丝，但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累文中描写爬山虎叶子的句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826920" y="1903320"/>
            <a:ext cx="734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嫩绿　 重叠　 空隙　 漾起　 拂过　 紧贴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枯萎　 逐渐   牢固   舒服   均匀   叶柄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蜗牛   触角   蛟龙   痕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838080" y="476280"/>
            <a:ext cx="74678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爬山虎的脚长在茎上。茎上长叶柄的地方，反面伸出枝状的六七根细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根细丝像蜗牛的触角。细丝跟新叶子一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是嫩红的。这就是爬山虎的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22"/>
          <p:cNvPicPr/>
          <p:nvPr/>
        </p:nvPicPr>
        <p:blipFill>
          <a:blip r:embed="rId4"/>
          <a:stretch/>
        </p:blipFill>
        <p:spPr>
          <a:xfrm>
            <a:off x="4114800" y="3276720"/>
            <a:ext cx="3728880" cy="238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838080" y="476280"/>
            <a:ext cx="74678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3059280" y="1441440"/>
            <a:ext cx="3024000" cy="3282480"/>
            <a:chOff x="3059280" y="1441440"/>
            <a:chExt cx="3024000" cy="3282480"/>
          </a:xfrm>
        </p:grpSpPr>
        <p:pic>
          <p:nvPicPr>
            <p:cNvPr id="144" name="Picture 8" descr="田字格"/>
            <p:cNvPicPr/>
            <p:nvPr/>
          </p:nvPicPr>
          <p:blipFill>
            <a:blip r:embed="rId4"/>
            <a:stretch/>
          </p:blipFill>
          <p:spPr>
            <a:xfrm>
              <a:off x="3059280" y="1699920"/>
              <a:ext cx="3024000" cy="30240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45" name="Text Box 9"/>
            <p:cNvSpPr/>
            <p:nvPr/>
          </p:nvSpPr>
          <p:spPr>
            <a:xfrm>
              <a:off x="3724560" y="1441440"/>
              <a:ext cx="170460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蜗</a:t>
              </a:r>
              <a:endParaRPr b="0" lang="en-US" sz="2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Text Box 12"/>
          <p:cNvSpPr/>
          <p:nvPr/>
        </p:nvSpPr>
        <p:spPr>
          <a:xfrm>
            <a:off x="900000" y="90792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我来写一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5"/>
          <a:stretch/>
        </p:blipFill>
        <p:spPr>
          <a:xfrm>
            <a:off x="4711680" y="3281400"/>
            <a:ext cx="79704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2487240" y="1200240"/>
            <a:ext cx="42408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爬山虎的脚要是没触着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几天就萎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796000" y="126828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3"/>
          <p:cNvSpPr/>
          <p:nvPr/>
        </p:nvSpPr>
        <p:spPr>
          <a:xfrm>
            <a:off x="762120" y="1828800"/>
            <a:ext cx="7416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阵风拂过，一墙的叶子就漾起波纹，好看得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4714920" y="188424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611280" y="907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叶圣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539640" y="1916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名叶绍均。现代作家、 教育家、出版家和社会活动家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品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稻草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火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762120" y="9144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762120" y="114300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685800" y="1523880"/>
            <a:ext cx="80010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比一比组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钩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762120" y="9144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762120" y="114300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914400" y="1447920"/>
            <a:ext cx="723888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写句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爬山虎的叶子长大了，绿得那么鲜艳，让人看着非常舒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1T09:45:23Z</dcterms:created>
  <dc:creator/>
  <dc:description/>
  <dc:language>en-US</dc:language>
  <cp:lastModifiedBy>Administrator</cp:lastModifiedBy>
  <dcterms:modified xsi:type="dcterms:W3CDTF">2017-02-21T09:46:19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