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56F-624D-421A-BD40-4E3E686D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1CA-6735-41A9-876B-8EA0EC2E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22C-E71F-49E6-B2AC-B8BB0925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369-3D19-46D7-AD8C-CF60CCBB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0E8-7089-4967-8B6E-7426AB46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DC42-93B0-4D47-BA24-A20535A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475C-B9B3-4C1D-957A-C50EE37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D53F-4627-40F8-84C7-6AB3CE22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1ADD-0AD3-4C16-B6D9-76D9353C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5B40-E826-46A8-AD99-35FA8C1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D585-8042-4A07-B6A9-8051D185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722-F531-462A-8444-F90E7843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23CA-986B-419C-BA99-3039046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5BE-ED55-4DA3-AEC4-FF21C2E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5DFF-FE1C-430D-A426-056CD095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19B-A300-4901-8B55-2A1ED149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0702-D8CF-43AD-9744-E3FA2F65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958E-226C-4FDA-AB14-A8487646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2363-0F1D-4652-ABFE-2A728FB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2156-2FA0-4E15-9FCF-DA34298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C37D-E892-4AA9-89C6-4A0E31D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B00E-C2BE-4BCA-A22B-7A5E1D5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C94-662A-428F-859C-5D21D5C6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9F7C-C060-435C-A833-AC605FB9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B500-C74B-463A-91CF-32A0C7F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69D0-823C-40D5-8B47-0F77F629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12A3-AC5A-4C52-B30B-88183F0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2F0E-9CD1-4486-98B1-36D134BD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C0FD-358D-456E-AA98-76723F4E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7F02-A896-496D-9B26-FEC0D33B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694-0018-403D-9CC5-E00A5CE7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D71-9680-435D-9208-0B54A04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394-1384-4F60-B3F1-34B922B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DA1-A7D7-4FE8-83CD-0DC510F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CBB-CD63-4738-AA5C-66B74E7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003-69EB-41FA-94DF-D9EE23B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2DE2-B4EA-4616-8622-3A257062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896E-63A5-4D75-86AB-D1E4CF572FB6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45C-12CC-43E4-AB05-7037341BBF4D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692280"/>
            <a:ext cx="180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天都峰是黄山“七十二峰”中的最险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的三大奇峰之一。海拔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840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米，登山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阶约有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.5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公里长，坡度在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度之上，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险处近乎于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度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登山的小路像天梯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挂在陡峭的山岩上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，使许多游客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望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畏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。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934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年才修凿了石凳，增设了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索。解放后又修凿了</a:t>
            </a: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多级石阶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6095880"/>
          </a:xfrm>
          <a:prstGeom prst="rect">
            <a:avLst/>
          </a:prstGeom>
          <a:ln w="76320">
            <a:solidFill>
              <a:srgbClr val="eaf5fc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124080" y="2819520"/>
            <a:ext cx="2895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鲫鱼背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981000"/>
            <a:ext cx="78598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啊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峰顶这么高，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云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面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哩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！再看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笔陡的石级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石级边上的铁链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似乎是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天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挂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下来的，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人发颤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47640" y="1628640"/>
            <a:ext cx="57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我爬得上去</a:t>
            </a: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吗</a:t>
            </a:r>
            <a:r>
              <a:rPr b="1" lang="zh-CN" sz="6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？</a:t>
            </a:r>
            <a:r>
              <a:rPr b="0" lang="en-US" sz="2400" spc="-1" strike="noStrike" u="sng">
                <a:solidFill>
                  <a:srgbClr val="3d3f41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692280"/>
            <a:ext cx="78598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啊，峰顶这么高，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云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面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哩！我爬得上去吗？再看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笔陡的石级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石级边上的铁链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似乎是从天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挂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下来的，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人发颤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！</a:t>
            </a:r>
            <a:r>
              <a:rPr b="1" lang="en-US" sz="4400" spc="-1" strike="noStrike" u="sng">
                <a:solidFill>
                  <a:srgbClr val="3d3f41"/>
                </a:solidFill>
                <a:uFillTx/>
                <a:latin typeface="Times New Roman"/>
                <a:ea typeface="楷体_GB2312"/>
              </a:rPr>
              <a:t>(</a:t>
            </a:r>
            <a:r>
              <a:rPr b="1" lang="zh-CN" sz="4400" spc="-1" strike="noStrike" u="sng">
                <a:solidFill>
                  <a:srgbClr val="3d3f41"/>
                </a:solidFill>
                <a:uFillTx/>
                <a:latin typeface="Times New Roman"/>
                <a:ea typeface="楷体_GB2312"/>
              </a:rPr>
              <a:t>又高又陡</a:t>
            </a:r>
            <a:r>
              <a:rPr b="1" lang="en-US" sz="4400" spc="-1" strike="noStrike" u="sng">
                <a:solidFill>
                  <a:srgbClr val="3d3f41"/>
                </a:solidFill>
                <a:uFillTx/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53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啊，峰顶这么高，在云彩上面哩！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爬得上去吗？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再看看笔陡的石阶，石阶边上的铁链，似乎是从天上挂下来的，真叫人发颤！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爬得上去吗？</a:t>
            </a:r>
            <a:r>
              <a:rPr b="1" lang="en-US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爬得上去吗？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 </a:t>
            </a:r>
            <a:r>
              <a:rPr b="1" lang="zh-CN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老爷爷拉拉我的小辫子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笑呵呵</a:t>
            </a:r>
            <a:r>
              <a:rPr b="1" lang="zh-CN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说：“小朋友，要不是你的勇气鼓舞我，我还下不了决心</a:t>
            </a: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哩</a:t>
            </a:r>
            <a:r>
              <a:rPr b="1" lang="zh-CN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！”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不，老爷爷，我是看您也要爬上天都峰，才有勇气向上爬的</a:t>
            </a:r>
            <a:r>
              <a:rPr b="1" lang="en-US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应该谢谢您！”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爬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31560" y="2205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峰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顶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1560" y="2133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似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苍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9920" y="2133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仰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647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8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爬天都峰</a:t>
            </a:r>
            <a:endParaRPr b="1" lang="en-US" sz="80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390160" cy="6450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1295280" y="1260360"/>
            <a:ext cx="4753080" cy="22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9000"/>
                    </a:srgbClr>
                  </a:outerShdw>
                </a:effectLst>
                <a:latin typeface="隶书"/>
              </a:rPr>
              <a:t>爬天都峰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765000"/>
            <a:ext cx="7345440" cy="3241800"/>
          </a:xfrm>
          <a:prstGeom prst="cloudCallout">
            <a:avLst>
              <a:gd name="adj1" fmla="val -25124"/>
              <a:gd name="adj2" fmla="val 87611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1873440" cy="1944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0920" y="1413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1197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铁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1125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b2b4"/>
                </a:solidFill>
                <a:latin typeface="Arial"/>
                <a:ea typeface="楷体_GB2312"/>
              </a:rPr>
              <a:t>纪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1989000"/>
            <a:ext cx="180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b2b4"/>
                </a:solidFill>
                <a:latin typeface="Arial"/>
                <a:ea typeface="楷体_GB2312"/>
              </a:rPr>
              <a:t>陡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06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1a5c"/>
                </a:solidFill>
                <a:latin typeface="Arial"/>
                <a:ea typeface="楷体_GB2312"/>
              </a:rPr>
              <a:t>辫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18280" y="1125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67ef"/>
                </a:solidFill>
                <a:latin typeface="Arial"/>
                <a:ea typeface="楷体_GB2312"/>
              </a:rPr>
              <a:t>鲫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10800000">
            <a:off x="1403280" y="2133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20f6"/>
                </a:solidFill>
                <a:latin typeface="Arial"/>
                <a:ea typeface="楷体_GB2312"/>
              </a:rPr>
              <a:t>犹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14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78136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鼓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8280" y="28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勇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198900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楷体_GB2312"/>
              </a:rPr>
              <a:t>堆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6a63cb"/>
                </a:solidFill>
                <a:latin typeface="幼圆"/>
              </a:rPr>
              <a:t>           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我站在天都峰脚下抬头望：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啊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，峰顶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这么高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在云彩上面哩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！我爬得上去吗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？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再看看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笔陡的石级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，石级边上的铁链，似乎是从天上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挂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下来的，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真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叫人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</a:rPr>
              <a:t>发颤</a:t>
            </a:r>
            <a:r>
              <a:rPr b="1" lang="zh-CN" sz="4400" spc="-1" strike="noStrike">
                <a:solidFill>
                  <a:srgbClr val="6a63cb"/>
                </a:solidFill>
                <a:latin typeface="幼圆"/>
              </a:rPr>
              <a:t>！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333360"/>
            <a:ext cx="182736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我奋力向峰顶爬去，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会儿攀着铁链上，一会儿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脚并用向上爬，像小猴子一样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18273600" cy="35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奋力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向峰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去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会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攀着铁链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上，一会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脚并用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向上爬，像小猴子一样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4076640"/>
            <a:ext cx="979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奋力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向峰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去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会儿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着铁链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上，一会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脚并用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向上爬，像小猴子一样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0"/>
            <a:ext cx="6913800" cy="227808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抓住东西向上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用手拉；抓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指跟地位高的人结亲或拉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设法接触：攀谈</a:t>
            </a:r>
            <a:r>
              <a:rPr b="1" lang="zh-CN" sz="2400" spc="-1" strike="noStrike" u="sng">
                <a:solidFill>
                  <a:srgbClr val="3d3f41"/>
                </a:solidFill>
                <a:uFillTx/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2349360"/>
            <a:ext cx="5867280" cy="1800360"/>
          </a:xfrm>
          <a:prstGeom prst="rect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用手支持使人、物或自己不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用手帮助躺着或倒下的人坐或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、扶助：救死扶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333360"/>
            <a:ext cx="182736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我奋力向峰顶爬去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会儿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攀着铁链上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会儿</a:t>
            </a: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脚并用向上爬，像小猴子一样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写作业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看电视，真不专心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搬桌子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扫地，真能干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妈妈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扫地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擦窗户，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忙得不亦忙乐 乎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我感冒了，妈妈可着急了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摸摸我滚烫的额头，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会儿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不停地翻抽屉找感冒药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71640" y="692280"/>
            <a:ext cx="853272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爬呀爬，我和老爷爷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还有爸爸，终于都爬上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天都峰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从“终于”体会到我们登山过程的艰难以及到达顶峰的兴奋。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116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7520" y="836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呀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d3f41"/>
                </a:solidFill>
                <a:latin typeface="宋体"/>
              </a:rPr>
              <a:t>忽然听到背后有人叫我：“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小朋友，你也来爬天都峰？</a:t>
            </a: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”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d3f41"/>
                </a:solidFill>
                <a:latin typeface="宋体"/>
              </a:rPr>
              <a:t>我回头一看，是一位白发苍苍的老爷爷，年纪比我爷爷还大哩！我点点头，仰起脸，问：“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老爷爷，您也来爬天都峰？</a:t>
            </a: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”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d3f41"/>
                </a:solidFill>
                <a:latin typeface="宋体"/>
              </a:rPr>
              <a:t>老爷爷也点点头，说：“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对，咱们一起爬吧！</a:t>
            </a: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”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26920" y="620640"/>
            <a:ext cx="7975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当我停下来时，老爷爷对我说：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                                                         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当老爷爷停下来时，我对爷爷说：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1371600"/>
            <a:ext cx="236232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2286000"/>
            <a:ext cx="640080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4572000"/>
            <a:ext cx="632484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4419720"/>
            <a:ext cx="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4038120"/>
            <a:ext cx="7925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1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271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</a:rPr>
              <a:t>          </a:t>
            </a:r>
            <a:r>
              <a:rPr b="1" lang="zh-CN" sz="4400" spc="-1" strike="noStrike">
                <a:solidFill>
                  <a:srgbClr val="cc0000"/>
                </a:solidFill>
                <a:latin typeface="幼圆"/>
              </a:rPr>
              <a:t>世上无难事，只要肯登攀。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271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6a63cb"/>
                </a:solidFill>
                <a:latin typeface="幼圆"/>
              </a:rPr>
              <a:t>                                           ——</a:t>
            </a:r>
            <a:r>
              <a:rPr b="1" lang="zh-CN" sz="3600" spc="-1" strike="noStrike">
                <a:solidFill>
                  <a:srgbClr val="6a63cb"/>
                </a:solidFill>
                <a:latin typeface="幼圆"/>
              </a:rPr>
              <a:t>毛泽东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默读课文，思考：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课文写了哪些人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他们之间发生了什么事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89000"/>
            <a:ext cx="8202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我和爷爷沿着山路往回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一路上遇到了许多游人。有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望着险峻的天都峰退缩了，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的人在曲折的山路上犹豫不前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有的人看到曲折的道路不知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如何前进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想一想，我和老爷爷会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样向游人介绍爬天都峰的感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爬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31560" y="2205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峰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顶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1560" y="2133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似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苍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9920" y="2133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仰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咱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1560" y="19162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奋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9" name=""/>
          <p:cNvSpPr/>
          <p:nvPr/>
        </p:nvSpPr>
        <p:spPr>
          <a:xfrm>
            <a:off x="141048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瓣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31560" y="2205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辫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92360" y="2924280"/>
            <a:ext cx="136692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瓜</a:t>
            </a:r>
            <a:endParaRPr b="1" lang="en-US" sz="2400" spc="1" strike="noStrike">
              <a:ln w="1260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1128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1128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133720"/>
            <a:ext cx="3581280" cy="3733560"/>
          </a:xfrm>
          <a:prstGeom prst="rect">
            <a:avLst/>
          </a:prstGeom>
          <a:solidFill>
            <a:srgbClr val="ffff0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2720" y="2133720"/>
            <a:ext cx="0" cy="373356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933720"/>
            <a:ext cx="3581280" cy="0"/>
          </a:xfrm>
          <a:prstGeom prst="line">
            <a:avLst/>
          </a:prstGeom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19320" y="6094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155484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勇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31560" y="19890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居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195280" y="1628640"/>
            <a:ext cx="6048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登天都峰　　　　　　　　　　　　　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盘空千万仞，险若上丹梯。　　　　　　　　　　　　　　　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迥入天都里，回看鸟道底。　　　　　　　　　　　　　　　　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他山青点点，远水白凄凄。　　　　　　　　　　　　　　　　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欲下前峰暝，岩间宿锦鸡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幼圆"/>
              </a:rPr>
              <a:t>　　　　　　　　　　　　　　　　　　　　　　　——唐</a:t>
            </a:r>
            <a:r>
              <a:rPr b="1" lang="en-US" sz="2800" spc="-1" strike="noStrike">
                <a:solidFill>
                  <a:srgbClr val="ffff00"/>
                </a:solidFill>
                <a:latin typeface="幼圆"/>
              </a:rPr>
              <a:t>. 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</a:rPr>
              <a:t>岛云</a:t>
            </a:r>
            <a:br>
              <a:rPr sz="2800"/>
            </a:b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4000" y="1052640"/>
            <a:ext cx="180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资料库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981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诗文欣赏</a:t>
            </a:r>
            <a:r>
              <a:rPr b="1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348000" y="836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华文新魏"/>
              </a:rPr>
              <a:t>黄山景点介绍</a:t>
            </a:r>
            <a:endParaRPr b="1" lang="en-US" sz="28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</a:t>
            </a:r>
            <a:r>
              <a:rPr b="1" lang="en-US" sz="2400" spc="-1" strike="noStrike">
                <a:solidFill>
                  <a:srgbClr val="3d3f41"/>
                </a:solidFill>
                <a:latin typeface="幼圆"/>
              </a:rPr>
              <a:t>      </a:t>
            </a: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黄山，中华民族锦绣河山的象征之一，以其不可抗拒的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魅力倾倒了世人。黄山集万千美景于一身，明代大旅行家、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地理学家徐霞客就曾叹曰：“登黄山天下无山，观止矣”。黄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山风景区面积</a:t>
            </a:r>
            <a:r>
              <a:rPr b="1" lang="en-US" sz="2400" spc="-1" strike="noStrike">
                <a:solidFill>
                  <a:srgbClr val="3d3f41"/>
                </a:solidFill>
                <a:latin typeface="幼圆"/>
              </a:rPr>
              <a:t>154</a:t>
            </a: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平方公里，风景点</a:t>
            </a:r>
            <a:r>
              <a:rPr b="1" lang="en-US" sz="2400" spc="-1" strike="noStrike">
                <a:solidFill>
                  <a:srgbClr val="3d3f41"/>
                </a:solidFill>
                <a:latin typeface="幼圆"/>
              </a:rPr>
              <a:t>400</a:t>
            </a: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多处，现已开放的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主要游览景区有：温泉景区、玉屏楼景区、北海景区、西海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506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幼圆"/>
              </a:rPr>
              <a:t>景区、天海景区、莲花峰景区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24000" y="907920"/>
            <a:ext cx="194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资料库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449440" y="2338200"/>
            <a:ext cx="47973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      </a:t>
            </a:r>
            <a:r>
              <a:rPr b="1" lang="en-US" sz="4400" spc="-1" strike="noStrike">
                <a:solidFill>
                  <a:srgbClr val="ff3300"/>
                </a:solidFill>
                <a:latin typeface="幼圆"/>
              </a:rPr>
              <a:t>sì</a:t>
            </a:r>
            <a:r>
              <a:rPr b="1" lang="en-US" sz="4400" spc="-1" strike="noStrike">
                <a:solidFill>
                  <a:srgbClr val="0070c0"/>
                </a:solidFill>
                <a:latin typeface="幼圆"/>
              </a:rPr>
              <a:t> (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似乎</a:t>
            </a:r>
            <a:r>
              <a:rPr b="1" lang="en-US" sz="4400" spc="-1" strike="noStrike">
                <a:solidFill>
                  <a:srgbClr val="0070c0"/>
                </a:solidFill>
                <a:latin typeface="幼圆"/>
              </a:rPr>
              <a:t>)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似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幼圆"/>
              </a:rPr>
              <a:t>       </a:t>
            </a:r>
            <a:r>
              <a:rPr b="1" lang="en-US" sz="4400" spc="-1" strike="noStrike">
                <a:solidFill>
                  <a:srgbClr val="ff3300"/>
                </a:solidFill>
                <a:latin typeface="幼圆"/>
              </a:rPr>
              <a:t>shì </a:t>
            </a:r>
            <a:r>
              <a:rPr b="1" lang="en-US" sz="4400" spc="-1" strike="noStrike">
                <a:solidFill>
                  <a:srgbClr val="0070c0"/>
                </a:solidFill>
                <a:latin typeface="幼圆"/>
              </a:rPr>
              <a:t>(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似的 </a:t>
            </a:r>
            <a:r>
              <a:rPr b="1" lang="en-US" sz="4400" spc="-1" strike="noStrike">
                <a:solidFill>
                  <a:srgbClr val="0070c0"/>
                </a:solidFill>
                <a:latin typeface="幼圆"/>
              </a:rPr>
              <a:t>)                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99" name=""/>
          <p:cNvSpPr/>
          <p:nvPr/>
        </p:nvSpPr>
        <p:spPr>
          <a:xfrm>
            <a:off x="3203640" y="314172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1413000"/>
            <a:ext cx="731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假日    似乎  白发苍苍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照相   应该   鲫鱼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60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jià         sì          f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925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iàng    yīng          bè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9640" y="549360"/>
            <a:ext cx="921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说说近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居然—     汲取—     鼓舞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忽然—     纪念—     发颤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似乎—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说说反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犹豫—    笔陡—    始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纪念—    仰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549360"/>
            <a:ext cx="921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说说近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居然—竟然  汲取—吸取   鼓舞—鼓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忽然—突然  纪念—留念   发颤—发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似乎—仿佛   好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说说反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犹豫—果断    笔陡—平坦    始—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楷体"/>
                <a:ea typeface="楷体"/>
              </a:rPr>
              <a:t>纪念—忘却    仰—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9640" y="549360"/>
            <a:ext cx="8039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凉风习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金光闪闪     白发苍苍    小心翼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无所事事     花香阵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63400" y="1120680"/>
            <a:ext cx="734364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发现  发生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头发  白发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照相  相片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相信  相同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似的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似乎  相似  类似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2675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ǒu     liàn    chà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宋体"/>
              </a:rPr>
              <a:t>笔 陡   铁 链   发 颤   峰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宋体"/>
              </a:rPr>
              <a:t>攀 爬    石级   奋力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278136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04640"/>
            <a:ext cx="7989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我站在天都峰脚下抬头望：啊，峰顶这么高，在云彩上面哩！我爬得上去吗？再看看陡峭的石级，石级边上的铁链似乎是从天上挂下来的，真叫人发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20" y="6480"/>
                </a:lnTo>
                <a:lnTo>
                  <a:pt x="4320" y="8640"/>
                </a:lnTo>
                <a:lnTo>
                  <a:pt x="8640" y="8640"/>
                </a:lnTo>
                <a:lnTo>
                  <a:pt x="8640" y="4320"/>
                </a:lnTo>
                <a:lnTo>
                  <a:pt x="6480" y="4320"/>
                </a:lnTo>
                <a:lnTo>
                  <a:pt x="10800" y="0"/>
                </a:lnTo>
                <a:lnTo>
                  <a:pt x="15120" y="4320"/>
                </a:lnTo>
                <a:lnTo>
                  <a:pt x="12960" y="4320"/>
                </a:lnTo>
                <a:lnTo>
                  <a:pt x="12960" y="8640"/>
                </a:lnTo>
                <a:lnTo>
                  <a:pt x="17280" y="8640"/>
                </a:lnTo>
                <a:lnTo>
                  <a:pt x="17280" y="6480"/>
                </a:lnTo>
                <a:lnTo>
                  <a:pt x="21600" y="10800"/>
                </a:lnTo>
                <a:lnTo>
                  <a:pt x="17280" y="15120"/>
                </a:lnTo>
                <a:lnTo>
                  <a:pt x="17280" y="12960"/>
                </a:lnTo>
                <a:lnTo>
                  <a:pt x="12960" y="12960"/>
                </a:lnTo>
                <a:lnTo>
                  <a:pt x="12960" y="17280"/>
                </a:lnTo>
                <a:lnTo>
                  <a:pt x="15120" y="17280"/>
                </a:lnTo>
                <a:lnTo>
                  <a:pt x="10800" y="21600"/>
                </a:lnTo>
                <a:lnTo>
                  <a:pt x="6480" y="17280"/>
                </a:lnTo>
                <a:lnTo>
                  <a:pt x="8640" y="17280"/>
                </a:lnTo>
                <a:lnTo>
                  <a:pt x="8640" y="12960"/>
                </a:lnTo>
                <a:lnTo>
                  <a:pt x="4320" y="12960"/>
                </a:lnTo>
                <a:lnTo>
                  <a:pt x="4320" y="151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-100080"/>
            <a:ext cx="8675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啊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Times New Roman"/>
                <a:ea typeface="楷体_GB2312"/>
              </a:rPr>
              <a:t>，峰顶这么高，在云彩上面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哩</a:t>
            </a:r>
            <a:r>
              <a:rPr b="1" lang="zh-CN" sz="4000" spc="-1" strike="noStrike" u="sng">
                <a:solidFill>
                  <a:srgbClr val="3d3f41"/>
                </a:solidFill>
                <a:uFillTx/>
                <a:latin typeface="Times New Roman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4343400" cy="287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39400" y="981000"/>
            <a:ext cx="536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再看看笔陡的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石级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石级边上的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铁链</a:t>
            </a: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似乎是从天上挂下来的，真叫人发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1440" y="765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峰顶这么高，在云彩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907920"/>
            <a:ext cx="777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啊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，     </a:t>
            </a: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这么美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，                     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啊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，     这么深，                     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啊</a:t>
            </a:r>
            <a:r>
              <a:rPr b="1" lang="zh-CN" sz="2800" spc="-1" strike="noStrike" u="sng">
                <a:solidFill>
                  <a:srgbClr val="3d3f41"/>
                </a:solidFill>
                <a:uFillTx/>
                <a:latin typeface="楷体_GB2312"/>
                <a:ea typeface="楷体_GB2312"/>
              </a:rPr>
              <a:t>，     这么清，                     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4726080"/>
            <a:ext cx="5205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隶书"/>
              </a:rPr>
              <a:t>jì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隶书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隶书"/>
              </a:rPr>
              <a:t>鲫鱼背</a:t>
            </a:r>
            <a:endParaRPr b="1" lang="en-US" sz="7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92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天都峰最险处是鲫鱼背。它是一道长约十几米，宽不过</a:t>
            </a:r>
            <a:r>
              <a:rPr b="1" lang="en-US" sz="5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米的狭长光滑的石脊，石脊两旁是万丈深渊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1:53:29Z</dcterms:created>
  <dc:creator>Administrator</dc:creator>
  <dc:description/>
  <dc:language>en-US</dc:language>
  <cp:lastModifiedBy/>
  <dcterms:modified xsi:type="dcterms:W3CDTF">2015-08-20T03:16:06Z</dcterms:modified>
  <cp:revision>1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