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DE0-972C-4913-9493-A7B90255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61F-BB38-4934-9AD0-641481EB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013-484A-45BC-8C8C-513188B9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16D-6CE9-48D4-B875-18799302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0DD7-9700-4DBB-955F-748B4135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595-E9FE-4A1A-B263-C29C7E86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0991-562F-4FBE-9E00-6A4DC171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562F-270B-4BE3-8539-CC5322B5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762-8B6B-4679-AB9E-CD2EC581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3125-929B-46AB-A686-40BF5CFE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7EA9-05F2-4FFA-A4DD-D17EBFB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B12-5E78-4BEA-9976-A159FE4D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F51B-B9AE-453C-8A73-47F1DAE7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E6E7-D9EA-42FC-9FC1-AE7263A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C384-BCE7-4A1F-9C90-E0EE28E4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3A6D-754D-4576-812F-EFA24A6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3C10-916B-4152-8CF7-8E64EF13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6F56-C9E9-43FB-82B2-B61ADBA9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EAE1-3C93-45EF-98A8-9B48074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A368-8BC3-4ED0-AC4C-C75AFDAE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EB54-5623-4D92-919D-41EF77BA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8648-DF55-4A3F-8371-24866F44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085-3FB4-456C-8F33-99C34A2E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DF8C-5999-4E22-83D4-22295EC8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37FC-5DAC-4E8D-A8DA-F2AF143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D0A8-AFF9-4446-9920-C203891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AFB0-A8CF-4272-8695-8B03628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3DF7-245F-41AE-8143-1E1396A8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9D41-826F-470B-9AF6-02F64C29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0183-51B1-4807-BF03-7AED0D92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F2E-A7BB-4C35-9679-9027A80F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DB7-684D-4037-A650-382FD983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45C-16ED-4DB0-9671-A3641E7F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923-B1A1-4053-B7F2-B190833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755-CEF8-476A-976A-3F502E32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364-1DD0-48BB-84D2-64D8C6A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208-9333-4A93-9950-8F91F2E82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D4C-C0C4-4511-B37A-87D663E44E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944-9BA4-497D-A952-96EFB81764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990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版 三年级 语文  上册 第五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25146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Arial"/>
                <a:ea typeface="楷体_GB2312"/>
              </a:rPr>
              <a:t>平分生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074760" cy="2533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1676520"/>
            <a:ext cx="754380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输血知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一个人一生可献血</a:t>
            </a:r>
            <a:r>
              <a:rPr b="1" i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74</a:t>
            </a:r>
            <a:r>
              <a:rPr b="1" i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次，每次献血量为</a:t>
            </a:r>
            <a:r>
              <a:rPr b="1" i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200</a:t>
            </a:r>
            <a:r>
              <a:rPr b="1" i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～</a:t>
            </a:r>
            <a:r>
              <a:rPr b="1" i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400</a:t>
            </a:r>
            <a:r>
              <a:rPr b="1" i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毫升，累计献血量</a:t>
            </a:r>
            <a:r>
              <a:rPr b="1" i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3</a:t>
            </a:r>
            <a:r>
              <a:rPr b="1" i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万毫升。献血</a:t>
            </a:r>
            <a:r>
              <a:rPr b="1" i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200</a:t>
            </a:r>
            <a:r>
              <a:rPr b="1" i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毫升后人体很快就会得到补充，绝不会影响健康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比一比，读一读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  下面哪一句更能表现出男孩对妹妹的深情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14040" y="2590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）确认自己真的没事时，男孩就又一次伸出胳膊，昂起头，郑重其事地对医生说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）确认自己真的没事时，男孩就又一次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出胳膊，对医生说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26920" y="260280"/>
            <a:ext cx="7669440" cy="6330960"/>
          </a:xfrm>
          <a:custGeom>
            <a:avLst/>
            <a:gdLst/>
            <a:ahLst/>
            <a:rect l="l" t="t" r="r" b="b"/>
            <a:pathLst>
              <a:path w="4831" h="3988">
                <a:moveTo>
                  <a:pt x="2314" y="502"/>
                </a:moveTo>
                <a:cubicBezTo>
                  <a:pt x="2129" y="525"/>
                  <a:pt x="1962" y="222"/>
                  <a:pt x="1747" y="162"/>
                </a:cubicBezTo>
                <a:cubicBezTo>
                  <a:pt x="1532" y="102"/>
                  <a:pt x="1236" y="116"/>
                  <a:pt x="1021" y="139"/>
                </a:cubicBezTo>
                <a:cubicBezTo>
                  <a:pt x="806" y="162"/>
                  <a:pt x="605" y="222"/>
                  <a:pt x="454" y="298"/>
                </a:cubicBezTo>
                <a:cubicBezTo>
                  <a:pt x="303" y="374"/>
                  <a:pt x="190" y="480"/>
                  <a:pt x="114" y="593"/>
                </a:cubicBezTo>
                <a:cubicBezTo>
                  <a:pt x="38" y="706"/>
                  <a:pt x="0" y="831"/>
                  <a:pt x="0" y="978"/>
                </a:cubicBezTo>
                <a:cubicBezTo>
                  <a:pt x="0" y="1125"/>
                  <a:pt x="22" y="1266"/>
                  <a:pt x="114" y="1477"/>
                </a:cubicBezTo>
                <a:cubicBezTo>
                  <a:pt x="206" y="1688"/>
                  <a:pt x="374" y="2005"/>
                  <a:pt x="555" y="2247"/>
                </a:cubicBezTo>
                <a:cubicBezTo>
                  <a:pt x="736" y="2489"/>
                  <a:pt x="1003" y="2736"/>
                  <a:pt x="1202" y="2929"/>
                </a:cubicBezTo>
                <a:cubicBezTo>
                  <a:pt x="1401" y="3122"/>
                  <a:pt x="1573" y="3250"/>
                  <a:pt x="1747" y="3405"/>
                </a:cubicBezTo>
                <a:cubicBezTo>
                  <a:pt x="1921" y="3560"/>
                  <a:pt x="2148" y="3783"/>
                  <a:pt x="2246" y="3859"/>
                </a:cubicBezTo>
                <a:cubicBezTo>
                  <a:pt x="2344" y="3935"/>
                  <a:pt x="2168" y="3988"/>
                  <a:pt x="2336" y="3859"/>
                </a:cubicBezTo>
                <a:cubicBezTo>
                  <a:pt x="2504" y="3730"/>
                  <a:pt x="2994" y="3316"/>
                  <a:pt x="3255" y="3087"/>
                </a:cubicBezTo>
                <a:cubicBezTo>
                  <a:pt x="3516" y="2858"/>
                  <a:pt x="3671" y="2729"/>
                  <a:pt x="3903" y="2487"/>
                </a:cubicBezTo>
                <a:cubicBezTo>
                  <a:pt x="4135" y="2245"/>
                  <a:pt x="4499" y="1891"/>
                  <a:pt x="4650" y="1636"/>
                </a:cubicBezTo>
                <a:cubicBezTo>
                  <a:pt x="4801" y="1381"/>
                  <a:pt x="4831" y="1171"/>
                  <a:pt x="4808" y="956"/>
                </a:cubicBezTo>
                <a:cubicBezTo>
                  <a:pt x="4785" y="741"/>
                  <a:pt x="4688" y="494"/>
                  <a:pt x="4514" y="343"/>
                </a:cubicBezTo>
                <a:cubicBezTo>
                  <a:pt x="4340" y="192"/>
                  <a:pt x="4003" y="94"/>
                  <a:pt x="3765" y="49"/>
                </a:cubicBezTo>
                <a:cubicBezTo>
                  <a:pt x="3527" y="4"/>
                  <a:pt x="3329" y="0"/>
                  <a:pt x="3087" y="75"/>
                </a:cubicBezTo>
                <a:cubicBezTo>
                  <a:pt x="2845" y="150"/>
                  <a:pt x="2475" y="413"/>
                  <a:pt x="2314" y="502"/>
                </a:cubicBezTo>
                <a:close/>
              </a:path>
            </a:pathLst>
          </a:cu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9006" t="0" r="0" b="0"/>
          <a:stretch/>
        </p:blipFill>
        <p:spPr>
          <a:xfrm>
            <a:off x="7288200" y="8001000"/>
            <a:ext cx="1855800" cy="3143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2556000" y="8829720"/>
            <a:ext cx="181908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15320" y="476280"/>
            <a:ext cx="2861640" cy="579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ee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a0000"/>
                </a:solidFill>
                <a:latin typeface="黑体"/>
                <a:ea typeface="黑体"/>
              </a:rPr>
              <a:t>平分生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104 -0.89769 L -0.05104 -0.89769 E">
                                      <p:cBhvr>
                                        <p:cTn id="57" dur="3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-1.01667 L -0.22847 -1.01667 E">
                                      <p:cBhvr>
                                        <p:cTn id="59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亲情是什么？亲情是一本字典，在它的体内， 你能找到“欢乐”和“温暖”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、爱是一个“口袋”</a:t>
            </a:r>
            <a:r>
              <a:rPr b="1" lang="en-US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往里装，很幸福；往外掏，很快乐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、只要人人都献出一点爱，世界将变成美好的人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外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荐佳作：《爱的教育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被列入世界儿童文学最高奖——国际安徒生奖《青少年必读书目》之中。整部小说以一个小学生的眼光审视着身边的美与丑、善与恶，完全在用爱去感受生活中的点点滴滴。有机会就读读吧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作业超市，自由选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选择其中一项完成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练笔贝贝，我想对你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收集感动自己的有关亲情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09680" y="1143000"/>
            <a:ext cx="3598920" cy="3598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44646" b="51"/>
          <a:stretch/>
        </p:blipFill>
        <p:spPr>
          <a:xfrm>
            <a:off x="2803680" y="1482840"/>
            <a:ext cx="1296720" cy="280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0" r="138" b="51"/>
          <a:stretch/>
        </p:blipFill>
        <p:spPr>
          <a:xfrm>
            <a:off x="2801880" y="1467000"/>
            <a:ext cx="2340000" cy="280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55369" t="0" r="138" b="51"/>
          <a:stretch/>
        </p:blipFill>
        <p:spPr>
          <a:xfrm>
            <a:off x="4100400" y="1500120"/>
            <a:ext cx="1043280" cy="280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2 0.00301 L -0.11233 0.00301 E">
                                      <p:cBhvr>
                                        <p:cTn id="2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87 0.00047 L -0.03559 0.00047 E">
                                      <p:cBhvr>
                                        <p:cTn id="22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55760" y="1839960"/>
            <a:ext cx="363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49006" t="0" r="0" b="0"/>
          <a:stretch/>
        </p:blipFill>
        <p:spPr>
          <a:xfrm>
            <a:off x="4037040" y="1838160"/>
            <a:ext cx="1855800" cy="3143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2254320" y="1838160"/>
            <a:ext cx="1819080" cy="3143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16720" y="457200"/>
            <a:ext cx="286164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da0000"/>
                </a:solidFill>
                <a:latin typeface="黑体"/>
                <a:ea typeface="黑体"/>
              </a:rPr>
              <a:t>平分生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3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715000" y="457200"/>
            <a:ext cx="3075120" cy="253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705720" y="3352680"/>
            <a:ext cx="12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5562720" cy="2743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95280" y="2743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读了课文后，我很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(        )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，觉得贝贝是一个（          ）的小男孩，他甘愿与妹妹平分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68580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楷体_GB2312"/>
              </a:rPr>
              <a:t>温馨提示：我会完整的回答问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学法指导：</a:t>
            </a:r>
            <a:br>
              <a:rPr sz="2400"/>
            </a:b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      抓住关键词，我们可以更好的理解课文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2480" y="2989080"/>
            <a:ext cx="71928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医生正想笑贝贝的无知，但转念间又被他的</a:t>
            </a: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勇敢震撼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了：在年幼的贝贝的大脑中，他认为输血会失去生命，但他仍然肯输血给妹妹。在那</a:t>
            </a: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瞬间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，男孩做出的是付出生命的决定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59436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如此丑陋的变色龙，你敢亲吻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震撼：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</a:t>
            </a:r>
            <a:br>
              <a:rPr sz="3200"/>
            </a:b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）指土地剧烈摇动（多说自然灾害）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</a:t>
            </a:r>
            <a:br>
              <a:rPr sz="2400"/>
            </a:b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）指心里受到强烈的冲击和感动，令自己深有感触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。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读一读，比一比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下面哪一句更能表现男孩的勇敢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在那时，男孩做出的是付出生命的决定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在那</a:t>
            </a:r>
            <a:r>
              <a:rPr b="0" lang="zh-CN" sz="2400" spc="-1" strike="noStrike">
                <a:solidFill>
                  <a:srgbClr val="9900ff"/>
                </a:solidFill>
                <a:latin typeface="Arial"/>
              </a:rPr>
              <a:t>瞬间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，男孩做出的是付出生命的决定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8377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  <a:ea typeface="楷体_GB2312"/>
              </a:rPr>
              <a:t>默读课文，找一找，画一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（默读要求：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楷体_GB2312"/>
              </a:rPr>
              <a:t>不出声，口不动，手不点字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、用波浪线画出课文中能表现男孩勇敢的句子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、在你认为最能表现男孩勇敢的词语下面加小圆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楷体_GB2312"/>
              </a:rPr>
              <a:t>、画好后，同桌互相交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5486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Arial"/>
                <a:ea typeface="楷体_GB2312"/>
              </a:rPr>
              <a:t>友情提示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楷体_GB2312"/>
              </a:rPr>
              <a:t>：抓住描写男孩神态、动作、语言的关键词来感受“勇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06:18:13Z</dcterms:created>
  <dc:creator/>
  <dc:description/>
  <dc:language>en-US</dc:language>
  <cp:lastModifiedBy>微软用户</cp:lastModifiedBy>
  <dcterms:modified xsi:type="dcterms:W3CDTF">2015-07-09T01:29:2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