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782-E4EC-4D38-9958-D8EBD47E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677-67BD-4B5E-A353-37F04E75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917-A8E5-4EF3-80C7-BC8DC72A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A19-2D2D-4EA6-9D53-5E9A448A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707-F586-4E28-8D13-68B23FEA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2C54-0108-4382-87DD-67DE881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FF0-485D-4D72-ADF2-1F3D1447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D9C2-E6EA-46E4-8817-ADBA558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2F54-FF66-4642-90BC-60EEE61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0360"/>
            <a:ext cx="78868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7E6-94D7-4B7B-B75A-AD2E0B3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C0C-7264-4EB5-AC01-4993B6E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1C7-9C62-4AC2-BCF8-167FA279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F515-93E5-44A1-936F-EA7B6BE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4FD-0B6F-4270-A49B-F472E3D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2B1E-EE8B-4525-A292-959B606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64B-39A9-458E-BC7F-DF883BB4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B18-E310-44CF-958A-315FDF4E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C9E6-4A26-4D98-AD4F-8C31AEDA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5FA5-3EA9-43AB-B6AB-610FE88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2C5F-D89D-4AE6-8BC0-F058FE6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E29D-9384-465B-B11E-29B126DC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6AC7-D6CB-48FB-AA3A-8958F1C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DE5-2447-45B2-8E57-97293B5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0360"/>
            <a:ext cx="78868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BEBB-09E7-47E0-A8C0-AE9FE50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A11E-BCD4-4231-8A1D-4E79421F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8FFD-A6AF-4EC3-9C67-2B5E434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85A1-80FC-495A-908D-A8197C6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4668-479F-4548-9557-F396583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7C50-2AF6-4212-AF4B-5DE34514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5C38-9BD2-4522-8AF6-DE863891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4414-F518-480C-A3A5-8B7A0DA0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ED1E-C318-4FAD-AB54-7A09B5B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6ADE-E11A-4F91-A86F-7458408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7CC-1D4F-4C9F-976D-DB57E58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0058-CAF0-46A1-BC36-761F7C0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F9DA-AB26-4AB3-8E25-B324A92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0360"/>
            <a:ext cx="78868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E183-2B27-450B-8FF1-51D6170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8458-1865-46CB-892D-C25DFFF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90E8-44F9-42A8-9026-A6ECBA8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1AA3-F67C-41A9-B3D1-F28BBC6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4732-1794-4C7E-A8E8-72CF4F4E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4837-6BB1-42F1-874A-9AE7272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4522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3920040"/>
            <a:ext cx="253944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BA76-0F2B-4315-AE69-DDB5F09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9BE-DE44-4DFA-A0F2-8C21AE8F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0360"/>
            <a:ext cx="78868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72D-E05F-45CC-AC4F-FD2179D9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9D3-68D1-46D2-B41F-BBBBC64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200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228-CC66-4266-9492-A5166CE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52240"/>
            <a:ext cx="384876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20040"/>
            <a:ext cx="788688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6B4-24D2-44EC-B2FA-D37B9C0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476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9FE-0362-470A-9B88-EBD5086601F2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24DB-341A-4C9F-A709-2E81FA28A423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476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AD82-B65A-431F-9B45-A4882DE7C517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EEAF-0266-463E-AA5E-FC1BF77279EB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476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881C-0F4C-446E-A518-044D876EDBA6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C06-7819-4F5C-9B5F-47FAC07B93FD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8"/>
          <p:cNvSpPr/>
          <p:nvPr/>
        </p:nvSpPr>
        <p:spPr>
          <a:xfrm>
            <a:off x="628560" y="0"/>
            <a:ext cx="7886880" cy="6858000"/>
          </a:xfrm>
          <a:prstGeom prst="rect">
            <a:avLst/>
          </a:pr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4" name="任意多边形 19"/>
          <p:cNvSpPr/>
          <p:nvPr/>
        </p:nvSpPr>
        <p:spPr>
          <a:xfrm rot="9523800">
            <a:off x="3581280" y="790200"/>
            <a:ext cx="1981440" cy="225108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4194000" y="5105520"/>
            <a:ext cx="88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6" name="椭圆 8"/>
          <p:cNvSpPr/>
          <p:nvPr/>
        </p:nvSpPr>
        <p:spPr>
          <a:xfrm>
            <a:off x="4417920" y="5105520"/>
            <a:ext cx="8568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7" name="椭圆 9"/>
          <p:cNvSpPr/>
          <p:nvPr/>
        </p:nvSpPr>
        <p:spPr>
          <a:xfrm>
            <a:off x="4640400" y="5105520"/>
            <a:ext cx="871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4861080" y="5105520"/>
            <a:ext cx="88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0360"/>
            <a:ext cx="7886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476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476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4522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f476a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d3f41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286C-52C1-4AF2-ADB9-973340952BC7}" type="datetime"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9E4-D2AD-43BD-A55F-9F6EC7412FA1}" type="slidenum"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0"/>
          <p:cNvSpPr txBox="1"/>
          <p:nvPr/>
        </p:nvSpPr>
        <p:spPr>
          <a:xfrm>
            <a:off x="1835280" y="213372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32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葡萄是酸的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177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900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你们还记得有个故事叫</a:t>
            </a: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狐狸吃枣</a:t>
            </a: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吗？谁能把这个故事来说一说？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182" name="Picture 11" descr="5aedb5dfb7deac4c975676a3a1680796?from=q16"/>
          <p:cNvPicPr/>
          <p:nvPr/>
        </p:nvPicPr>
        <p:blipFill>
          <a:blip r:embed="rId4"/>
          <a:stretch/>
        </p:blipFill>
        <p:spPr>
          <a:xfrm>
            <a:off x="2843280" y="2421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547640" y="2924280"/>
            <a:ext cx="63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这三则寓言的结尾处，狐狸都讲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了一句什么话？它为什么会这么说？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187" name="Picture 6" descr="5aedb5dfb7deac4c975676a3a1680796?from=q16"/>
          <p:cNvPicPr/>
          <p:nvPr/>
        </p:nvPicPr>
        <p:blipFill>
          <a:blip r:embed="rId4"/>
          <a:stretch/>
        </p:blipFill>
        <p:spPr>
          <a:xfrm>
            <a:off x="755640" y="907920"/>
            <a:ext cx="165564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533520" y="873000"/>
            <a:ext cx="807696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临走时，自言自语地说：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还是酸的。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为了使自己不至于太难过，它说：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葡萄是酸的。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它愤愤地说道：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算了！虽然看上去挺好，实际上却都没有成熟！没有一颗不是酸的！我又何必叫我的牙齿酸得咯咯咯地发响呢？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  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up"/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533520" y="873000"/>
            <a:ext cx="778356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宋体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黑体"/>
              </a:rPr>
              <a:t>自学要求：</a:t>
            </a:r>
            <a:r>
              <a:rPr b="1" lang="zh-CN" sz="2800" spc="-1" strike="noStrike">
                <a:solidFill>
                  <a:srgbClr val="3d3f41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读准字音，读通课文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从文中划出不理解的词句，重点理解词　　 语：遗憾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up"/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183528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黑体"/>
              </a:rPr>
              <a:t>遗憾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5076720" y="404640"/>
            <a:ext cx="3024000" cy="3283200"/>
            <a:chOff x="5076720" y="404640"/>
            <a:chExt cx="3024000" cy="3283200"/>
          </a:xfrm>
        </p:grpSpPr>
        <p:pic>
          <p:nvPicPr>
            <p:cNvPr id="201" name="Picture 8" descr="田字格"/>
            <p:cNvPicPr/>
            <p:nvPr/>
          </p:nvPicPr>
          <p:blipFill>
            <a:blip r:embed="rId4"/>
            <a:stretch/>
          </p:blipFill>
          <p:spPr>
            <a:xfrm>
              <a:off x="5076720" y="663480"/>
              <a:ext cx="3024000" cy="30243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02" name="Text Box 9"/>
            <p:cNvSpPr/>
            <p:nvPr/>
          </p:nvSpPr>
          <p:spPr>
            <a:xfrm>
              <a:off x="5742000" y="404640"/>
              <a:ext cx="170460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3d3f41"/>
                  </a:solidFill>
                  <a:latin typeface="Times New Roman"/>
                  <a:ea typeface="楷体_GB2312"/>
                </a:rPr>
                <a:t>憾</a:t>
              </a:r>
              <a:endParaRPr b="0" lang="en-US" sz="20000" spc="-1" strike="noStrike">
                <a:solidFill>
                  <a:srgbClr val="3d3f41"/>
                </a:solidFill>
                <a:latin typeface="Times New Roman"/>
              </a:endParaRPr>
            </a:p>
          </p:txBody>
        </p:sp>
      </p:grpSp>
      <p:sp>
        <p:nvSpPr>
          <p:cNvPr id="203" name="Rectangle 10"/>
          <p:cNvSpPr/>
          <p:nvPr/>
        </p:nvSpPr>
        <p:spPr>
          <a:xfrm>
            <a:off x="826920" y="3284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读词语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查字典理解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造句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2357280" y="206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205" name="Picture 12" descr=""/>
          <p:cNvPicPr/>
          <p:nvPr/>
        </p:nvPicPr>
        <p:blipFill>
          <a:blip r:embed="rId5"/>
          <a:stretch/>
        </p:blipFill>
        <p:spPr>
          <a:xfrm>
            <a:off x="5292720" y="15573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6"/>
          <a:stretch/>
        </p:blipFill>
        <p:spPr>
          <a:xfrm>
            <a:off x="5546880" y="1341360"/>
            <a:ext cx="125712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7"/>
          <a:stretch/>
        </p:blipFill>
        <p:spPr>
          <a:xfrm>
            <a:off x="5148360" y="981000"/>
            <a:ext cx="1368360" cy="302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8"/>
          <a:stretch/>
        </p:blipFill>
        <p:spPr>
          <a:xfrm>
            <a:off x="6227640" y="1125360"/>
            <a:ext cx="1873440" cy="1092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9"/>
          <a:stretch/>
        </p:blipFill>
        <p:spPr>
          <a:xfrm>
            <a:off x="5641920" y="1341360"/>
            <a:ext cx="1162080" cy="165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10"/>
          <a:srcRect l="0" t="0" r="41789" b="38295"/>
          <a:stretch/>
        </p:blipFill>
        <p:spPr>
          <a:xfrm>
            <a:off x="6443640" y="1341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11"/>
          <a:stretch/>
        </p:blipFill>
        <p:spPr>
          <a:xfrm>
            <a:off x="5981760" y="1701720"/>
            <a:ext cx="1182600" cy="1154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"/>
          <p:cNvPicPr/>
          <p:nvPr/>
        </p:nvPicPr>
        <p:blipFill>
          <a:blip r:embed="rId12"/>
          <a:stretch/>
        </p:blipFill>
        <p:spPr>
          <a:xfrm>
            <a:off x="6227640" y="184464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"/>
          <p:cNvPicPr/>
          <p:nvPr/>
        </p:nvPicPr>
        <p:blipFill>
          <a:blip r:embed="rId13"/>
          <a:stretch/>
        </p:blipFill>
        <p:spPr>
          <a:xfrm>
            <a:off x="6084720" y="163188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"/>
          <p:cNvPicPr/>
          <p:nvPr/>
        </p:nvPicPr>
        <p:blipFill>
          <a:blip r:embed="rId14"/>
          <a:stretch/>
        </p:blipFill>
        <p:spPr>
          <a:xfrm>
            <a:off x="6300720" y="2082960"/>
            <a:ext cx="1008000" cy="482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"/>
          <p:cNvPicPr/>
          <p:nvPr/>
        </p:nvPicPr>
        <p:blipFill>
          <a:blip r:embed="rId15"/>
          <a:stretch/>
        </p:blipFill>
        <p:spPr>
          <a:xfrm>
            <a:off x="6372360" y="836640"/>
            <a:ext cx="2087280" cy="216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"/>
          <p:cNvPicPr/>
          <p:nvPr/>
        </p:nvPicPr>
        <p:blipFill>
          <a:blip r:embed="rId16"/>
          <a:stretch/>
        </p:blipFill>
        <p:spPr>
          <a:xfrm>
            <a:off x="6659640" y="1208160"/>
            <a:ext cx="1297080" cy="1933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"/>
          <p:cNvPicPr/>
          <p:nvPr/>
        </p:nvPicPr>
        <p:blipFill>
          <a:blip r:embed="rId17"/>
          <a:stretch/>
        </p:blipFill>
        <p:spPr>
          <a:xfrm>
            <a:off x="7151760" y="982800"/>
            <a:ext cx="444600" cy="50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5" descr=""/>
          <p:cNvPicPr/>
          <p:nvPr/>
        </p:nvPicPr>
        <p:blipFill>
          <a:blip r:embed="rId18"/>
          <a:stretch/>
        </p:blipFill>
        <p:spPr>
          <a:xfrm>
            <a:off x="6051600" y="2494080"/>
            <a:ext cx="752400" cy="799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"/>
          <p:cNvPicPr/>
          <p:nvPr/>
        </p:nvPicPr>
        <p:blipFill>
          <a:blip r:embed="rId19"/>
          <a:stretch/>
        </p:blipFill>
        <p:spPr>
          <a:xfrm>
            <a:off x="6227640" y="2430360"/>
            <a:ext cx="1224000" cy="92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7" descr=""/>
          <p:cNvPicPr/>
          <p:nvPr/>
        </p:nvPicPr>
        <p:blipFill>
          <a:blip r:embed="rId20"/>
          <a:stretch/>
        </p:blipFill>
        <p:spPr>
          <a:xfrm>
            <a:off x="6875640" y="2651040"/>
            <a:ext cx="792000" cy="70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8" descr=""/>
          <p:cNvPicPr/>
          <p:nvPr/>
        </p:nvPicPr>
        <p:blipFill>
          <a:blip r:embed="rId21"/>
          <a:stretch/>
        </p:blipFill>
        <p:spPr>
          <a:xfrm>
            <a:off x="6294600" y="2133720"/>
            <a:ext cx="1733400" cy="1182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9" descr=""/>
          <p:cNvPicPr/>
          <p:nvPr/>
        </p:nvPicPr>
        <p:blipFill>
          <a:blip r:embed="rId22"/>
          <a:stretch/>
        </p:blipFill>
        <p:spPr>
          <a:xfrm>
            <a:off x="7029360" y="2300400"/>
            <a:ext cx="1575000" cy="127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up"/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533520" y="873000"/>
            <a:ext cx="8076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给字找朋友：用下面的字组词，看谁组的多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饥（        ）</a:t>
            </a:r>
            <a:r>
              <a:rPr b="1" lang="en-US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(         )       </a:t>
            </a:r>
            <a:endParaRPr b="0" lang="en-US" sz="3200" spc="-1" strike="noStrike">
              <a:solidFill>
                <a:srgbClr val="3d3f41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盛（        ） </a:t>
            </a:r>
            <a:r>
              <a:rPr b="1" lang="en-US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(        ) </a:t>
            </a:r>
            <a:endParaRPr b="0" lang="en-US" sz="32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227" name="Picture 14" descr="5aedb5dfb7deac4c975676a3a1680796?from=q16"/>
          <p:cNvPicPr/>
          <p:nvPr/>
        </p:nvPicPr>
        <p:blipFill>
          <a:blip r:embed="rId4"/>
          <a:stretch/>
        </p:blipFill>
        <p:spPr>
          <a:xfrm>
            <a:off x="6443640" y="3645000"/>
            <a:ext cx="16556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up"/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5aedb5dfb7deac4c975676a3a1680796?from=q16"/>
          <p:cNvPicPr/>
          <p:nvPr/>
        </p:nvPicPr>
        <p:blipFill>
          <a:blip r:embed="rId4"/>
          <a:stretch/>
        </p:blipFill>
        <p:spPr>
          <a:xfrm>
            <a:off x="6156360" y="3860640"/>
            <a:ext cx="1728720" cy="1511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755640" y="12668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根据停顿提示，把下面的句子读正确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狐狸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怎么也抓不到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那成串成串的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熟透了的葡萄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葡萄园里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多汁的葡萄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在阳光中亮晶晶的</a:t>
            </a: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像碧玉一般。 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up"/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5aedb5dfb7deac4c975676a3a1680796?from=q16"/>
          <p:cNvPicPr/>
          <p:nvPr/>
        </p:nvPicPr>
        <p:blipFill>
          <a:blip r:embed="rId4"/>
          <a:stretch/>
        </p:blipFill>
        <p:spPr>
          <a:xfrm>
            <a:off x="6156360" y="3860640"/>
            <a:ext cx="1728720" cy="1511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1735560" y="766080"/>
            <a:ext cx="484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作业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、抄写生字词语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、根据课文中句子的意思写词语。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自己对自己小声说话。（        ）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果实已经完全长好了。（        ）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形容东西很多很多。（        ）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、读熟课文。</a:t>
            </a: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9:42:21Z</dcterms:created>
  <dc:creator/>
  <dc:description/>
  <dc:language>en-US</dc:language>
  <cp:lastModifiedBy>Administrator</cp:lastModifiedBy>
  <dcterms:modified xsi:type="dcterms:W3CDTF">2017-02-21T09:43:0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