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5EB-4A9C-45F9-99D7-9B05422C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BD5-7B61-4554-8A51-DC1676CF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A21-1518-4FC7-BD4D-667FDA68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B24-7E5E-4ACD-AA52-C0233E34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BCF-3160-4105-8897-2A74D35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378-641A-4D5D-B24E-BEE4FD89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E1C-02BE-4680-B0FA-60357CCB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7AC-96A7-4CB0-A6EF-D4EE0D2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BFA-E5FB-404A-8785-0A69968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945-06F0-4F82-8835-7831B6A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308-92B9-4480-AF0D-A77B437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26B-D2FA-4399-8443-C8E5A861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EA80-21B3-4AFB-8CB1-0411E54F2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171240" y="1557360"/>
            <a:ext cx="3472560" cy="131292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.</a:t>
            </a: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蒲公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92240" y="1916280"/>
            <a:ext cx="805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瞧，那金光闪闪的地方一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数不尽的宝贝。到那儿去，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准会变成百万富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092240" y="1916280"/>
            <a:ext cx="805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瞧，那金光闪闪的地方一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数不尽的宝贝。到那儿去，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准会变成百万富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07960" y="1852560"/>
            <a:ext cx="88884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另一颗种子落在湖泊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得意地说：“这波光粼粼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湖面，一定能给我带来欢乐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b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280" y="1542960"/>
            <a:ext cx="97934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公公看见了，亲切地嘱咐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：“孩子们记住，          表面上金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闪闪的地方，那是沙漠。           被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朵朵所迷惑，那是湖泊。       黑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黝的泥土，   是你们生根长叶的地方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284720" y="2349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别落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796000" y="31417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也不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361200" y="39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627280" y="4599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h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2"/>
          <p:cNvPicPr/>
          <p:nvPr/>
        </p:nvPicPr>
        <p:blipFill>
          <a:blip r:embed="rId2"/>
          <a:stretch/>
        </p:blipFill>
        <p:spPr>
          <a:xfrm>
            <a:off x="0" y="4233960"/>
            <a:ext cx="3419640" cy="262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7"/>
          <p:cNvPicPr/>
          <p:nvPr/>
        </p:nvPicPr>
        <p:blipFill>
          <a:blip r:embed="rId3"/>
          <a:srcRect l="0" t="0" r="0" b="8100"/>
          <a:stretch/>
        </p:blipFill>
        <p:spPr>
          <a:xfrm>
            <a:off x="5614920" y="4213080"/>
            <a:ext cx="35290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536840" y="1773360"/>
            <a:ext cx="778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瓣落，长绒球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风吹过，“伞”儿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4920" y="1484280"/>
            <a:ext cx="9721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公公看见了，亲切地嘱咐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：“孩子们记住，别落在表面上金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闪闪的地方，那是沙漠。也不要被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朵朵所迷惑，那是湖泊。只有黑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黝的泥土，才是你们生根长叶的地方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9"/>
          <p:cNvGrpSpPr/>
          <p:nvPr/>
        </p:nvGrpSpPr>
        <p:grpSpPr>
          <a:xfrm>
            <a:off x="6948360" y="2276640"/>
            <a:ext cx="645840" cy="142560"/>
            <a:chOff x="6948360" y="2276640"/>
            <a:chExt cx="645840" cy="142560"/>
          </a:xfrm>
        </p:grpSpPr>
        <p:sp>
          <p:nvSpPr>
            <p:cNvPr id="46" name="Oval 5"/>
            <p:cNvSpPr/>
            <p:nvPr/>
          </p:nvSpPr>
          <p:spPr>
            <a:xfrm>
              <a:off x="6948360" y="2276640"/>
              <a:ext cx="14292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6"/>
            <p:cNvSpPr/>
            <p:nvPr/>
          </p:nvSpPr>
          <p:spPr>
            <a:xfrm>
              <a:off x="7451640" y="2276640"/>
              <a:ext cx="1425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611280" y="2133720"/>
            <a:ext cx="8168760" cy="2397600"/>
            <a:chOff x="611280" y="2133720"/>
            <a:chExt cx="8168760" cy="2397600"/>
          </a:xfrm>
        </p:grpSpPr>
        <p:sp>
          <p:nvSpPr>
            <p:cNvPr id="49" name="Text Box 2"/>
            <p:cNvSpPr/>
            <p:nvPr/>
          </p:nvSpPr>
          <p:spPr>
            <a:xfrm>
              <a:off x="1128960" y="2133720"/>
              <a:ext cx="7651080" cy="23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妈妈总会嘱咐我：“上课要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，不要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6804000" y="285264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4"/>
            <p:cNvSpPr/>
            <p:nvPr/>
          </p:nvSpPr>
          <p:spPr>
            <a:xfrm>
              <a:off x="611280" y="3645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5003640" y="364500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611280" y="436572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"/>
          <p:cNvGrpSpPr/>
          <p:nvPr/>
        </p:nvGrpSpPr>
        <p:grpSpPr>
          <a:xfrm>
            <a:off x="919080" y="2276640"/>
            <a:ext cx="7561440" cy="1629720"/>
            <a:chOff x="919080" y="2276640"/>
            <a:chExt cx="7561440" cy="1629720"/>
          </a:xfrm>
        </p:grpSpPr>
        <p:sp>
          <p:nvSpPr>
            <p:cNvPr id="55" name="Text Box 6"/>
            <p:cNvSpPr/>
            <p:nvPr/>
          </p:nvSpPr>
          <p:spPr>
            <a:xfrm>
              <a:off x="1364040" y="2276640"/>
              <a:ext cx="65844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老师经常嘱咐我们：“同学之间应该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，不能                      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7904160" y="30304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919080" y="3678120"/>
              <a:ext cx="23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4880160" y="3751200"/>
              <a:ext cx="26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"/>
          <p:cNvGrpSpPr/>
          <p:nvPr/>
        </p:nvGrpSpPr>
        <p:grpSpPr>
          <a:xfrm>
            <a:off x="592200" y="2695680"/>
            <a:ext cx="8551440" cy="949320"/>
            <a:chOff x="592200" y="2695680"/>
            <a:chExt cx="8551440" cy="949320"/>
          </a:xfrm>
        </p:grpSpPr>
        <p:sp>
          <p:nvSpPr>
            <p:cNvPr id="60" name="Text Box 4"/>
            <p:cNvSpPr/>
            <p:nvPr/>
          </p:nvSpPr>
          <p:spPr>
            <a:xfrm>
              <a:off x="592200" y="2695680"/>
              <a:ext cx="2406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嘱咐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·····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2939400" y="3645000"/>
              <a:ext cx="620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4920" y="1484280"/>
            <a:ext cx="9721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公公看见了，亲切地嘱咐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：“孩子们记住，别落在表面上金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闪闪的地方，那是沙漠。也不要被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朵朵所迷惑，那是湖泊。只有黑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黝的泥土，才是你们生根长叶的地方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66560" y="2160720"/>
            <a:ext cx="8929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降落伞大声答道：“放心吧，太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公！我们一定到泥土中去生长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47640" y="2852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黑黑的泥土有什么意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0:18:20Z</dcterms:created>
  <dc:creator/>
  <dc:description/>
  <dc:language>en-US</dc:language>
  <cp:lastModifiedBy/>
  <dcterms:modified xsi:type="dcterms:W3CDTF">2015-12-17T07:56:27Z</dcterms:modified>
  <cp:revision>1</cp:revision>
  <dc:subject/>
  <dc:title/>
</cp:coreProperties>
</file>