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711-E493-4381-BB47-F464A8CC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AB7-4E7E-4316-98AB-699614F4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153-B666-4B0C-8112-933711E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80F-A1A1-4559-84AF-43C30614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747-C0B3-4CE1-9FB6-8D9EE9E6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386-3A5C-428D-A10B-2AA04266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848-A614-4AC5-845D-F08500F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106-220C-45C8-AC6C-30169F2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5483-8113-432A-AD60-D8D32BD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19F3-D57F-4B14-977A-181E00C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ABA7-03B7-4C4D-B73C-36838A6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D9F-7479-4E90-A1B3-02922922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72EA-D5C1-477E-9459-C54B1E8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AC75-FE55-4BCB-BB13-3582598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1FE-F642-40F7-84DC-63B71A74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7D0-3F4F-4C19-B9E5-0591C1F8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4D43-E5A7-41E7-A172-FE55407D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CFBA-C8C6-4D11-946F-F6CB027B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8245-24C7-45D4-896D-BF4631BA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B429-C7C5-4EC6-9B1C-5D77CB56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A982-4B04-460D-963A-27C198B6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9973-5BEF-40F1-9170-E07946D3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5A7-246F-406B-B170-72BDD052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6ECA-D237-45C7-9E91-04F1CBF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76B9-BE1F-418E-9855-84EB565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E983-81FC-49D7-9B0D-16B3837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56B8-6D46-49F1-A6BA-A59885A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2171-2D30-4444-B4DF-88AA833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D71C-3C36-4473-9839-6EE44705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544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232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856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544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232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F8F8-5E7F-4C90-8B37-19CE823A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33AE-8C5E-45D0-98B6-80098F05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BA31-DC88-4D9E-A5C5-F24AC5CA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2683-C7B9-41B7-99ED-729CA76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CB2-F28E-4A5A-A25C-5B30B738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C8A1-D73A-44BA-B489-330E855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FB84-202D-4B60-A382-E14D87AA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1699-8F0D-4B1D-BD90-6B2892BA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496B-A6ED-4FDB-905B-0094781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C3EE-1056-4B4D-93D3-3CA9047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F478-DC28-4F6A-B1DF-1901A305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4789-84C6-4C48-915A-77CBB17F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A2A1-26CB-4CCE-9083-F9D9DF04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9544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62320" y="129816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856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9544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62320" y="3846240"/>
            <a:ext cx="253944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6EC4-0370-4450-8AB3-8020D374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63-CB03-4638-B9AB-95B8A9A5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BA4-54C4-4B22-AA70-2AE4379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2F0-DEDF-4132-9AE8-AFBBF3C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84624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98A-826E-4A62-B098-4A37D93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298160"/>
            <a:ext cx="384876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846240"/>
            <a:ext cx="7886880" cy="23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01E-C1C7-49E0-85CB-3050F8A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511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6CB1-7461-481D-BE55-AAF9AA565A4E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DBBC-615E-42CE-8669-6D88ADC6EFD3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0" y="2416320"/>
            <a:ext cx="2006640" cy="4680"/>
          </a:xfrm>
          <a:prstGeom prst="line">
            <a:avLst/>
          </a:prstGeom>
          <a:ln w="6480">
            <a:solidFill>
              <a:srgbClr val="ed5113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" name="直接连接符 8"/>
          <p:cNvSpPr/>
          <p:nvPr/>
        </p:nvSpPr>
        <p:spPr>
          <a:xfrm>
            <a:off x="7130880" y="3952800"/>
            <a:ext cx="2005200" cy="3240"/>
          </a:xfrm>
          <a:prstGeom prst="line">
            <a:avLst/>
          </a:prstGeom>
          <a:ln w="6480">
            <a:solidFill>
              <a:srgbClr val="ed5113"/>
            </a:solidFill>
            <a:miter/>
            <a:head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511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1D31-C343-490A-AB93-C63AC5DC2A43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AD1-1FB2-40A0-A7ED-2C106230FD58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452520" y="2597040"/>
            <a:ext cx="1851120" cy="1078200"/>
          </a:xfrm>
          <a:prstGeom prst="rect">
            <a:avLst/>
          </a:prstGeom>
          <a:solidFill>
            <a:srgbClr val="ed5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1960" y="2597040"/>
            <a:ext cx="63720" cy="1078200"/>
          </a:xfrm>
          <a:prstGeom prst="rect">
            <a:avLst/>
          </a:prstGeom>
          <a:solidFill>
            <a:srgbClr val="ed5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6" name="直接连接符 8"/>
          <p:cNvSpPr/>
          <p:nvPr/>
        </p:nvSpPr>
        <p:spPr>
          <a:xfrm>
            <a:off x="2303640" y="3132000"/>
            <a:ext cx="714240" cy="5040"/>
          </a:xfrm>
          <a:prstGeom prst="line">
            <a:avLst/>
          </a:prstGeom>
          <a:ln w="57240">
            <a:solidFill>
              <a:srgbClr val="ed51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511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2679-B1BD-4CC9-9260-475B4BCBB375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556-E159-4CA7-B7FE-1C602F5B0392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"/>
          <p:cNvSpPr/>
          <p:nvPr/>
        </p:nvSpPr>
        <p:spPr>
          <a:xfrm>
            <a:off x="0" y="3133800"/>
            <a:ext cx="9144000" cy="1143000"/>
          </a:xfrm>
          <a:prstGeom prst="rect">
            <a:avLst/>
          </a:prstGeom>
          <a:solidFill>
            <a:srgbClr val="ed5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9" name="椭圆形标注 3"/>
          <p:cNvSpPr/>
          <p:nvPr/>
        </p:nvSpPr>
        <p:spPr>
          <a:xfrm rot="436800">
            <a:off x="4892760" y="2212920"/>
            <a:ext cx="1493640" cy="1370160"/>
          </a:xfrm>
          <a:prstGeom prst="wedgeEllipseCallout">
            <a:avLst>
              <a:gd name="adj1" fmla="val -40199"/>
              <a:gd name="adj2" fmla="val 53990"/>
            </a:avLst>
          </a:prstGeom>
          <a:solidFill>
            <a:srgbClr val="ffbd4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511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d511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28560" y="1298160"/>
            <a:ext cx="78868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d5113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85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ABCC-21C9-4D92-B5FD-6DB757C4CCFA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BA4D-3E8C-48C4-91AC-A9C1C9894BEA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11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瀑布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6"/>
          <p:cNvSpPr/>
          <p:nvPr/>
        </p:nvSpPr>
        <p:spPr>
          <a:xfrm>
            <a:off x="1979640" y="707040"/>
            <a:ext cx="619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作业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）默写词语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）照样子，改写句子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例：一座珍珠的屏好伟大呀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好伟大呀，一座珍珠的屏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东方明珠电视塔好高呀！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楷体_GB2312"/>
                <a:ea typeface="楷体_GB2312"/>
              </a:rPr>
              <a:t>                          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）背诵课文。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195640" y="4724280"/>
            <a:ext cx="4608360" cy="0"/>
          </a:xfrm>
          <a:prstGeom prst="line">
            <a:avLst/>
          </a:prstGeom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484360" y="4365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332000" y="2059560"/>
            <a:ext cx="646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瀑布   岸滩   松林   景象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比喻   千丈青山   仰望   珍珠 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/>
          <p:cNvSpPr/>
          <p:nvPr/>
        </p:nvSpPr>
        <p:spPr>
          <a:xfrm>
            <a:off x="411120" y="178596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还没看见瀑布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先听见瀑布的声音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好像叠叠的浪涌上岸滩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又像阵阵的风吹过松林。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87" name="Picture 15" descr="03s"/>
          <p:cNvPicPr/>
          <p:nvPr/>
        </p:nvPicPr>
        <p:blipFill>
          <a:blip r:embed="rId4"/>
          <a:stretch/>
        </p:blipFill>
        <p:spPr>
          <a:xfrm>
            <a:off x="4952880" y="914400"/>
            <a:ext cx="289584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>
            <a:off x="1116000" y="3068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叠叠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116000" y="37018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阵阵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84360" y="1484280"/>
            <a:ext cx="472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楷体_GB2312"/>
              </a:rPr>
              <a:t>山路忽然一转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宋体"/>
                <a:ea typeface="楷体_GB2312"/>
              </a:rPr>
              <a:t>啊！望见了瀑布的全身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94" name="Picture 7" descr="1676574005"/>
          <p:cNvPicPr/>
          <p:nvPr/>
        </p:nvPicPr>
        <p:blipFill>
          <a:blip r:embed="rId4"/>
          <a:stretch/>
        </p:blipFill>
        <p:spPr>
          <a:xfrm>
            <a:off x="5076720" y="620640"/>
            <a:ext cx="3124440" cy="5295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-252360" y="256536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丈青山衬着一道白银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85800" y="2666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般景象没法比喻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11280" y="3789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我看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1835280" y="4221000"/>
            <a:ext cx="216036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879480" y="4869000"/>
            <a:ext cx="311616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1676574005"/>
          <p:cNvPicPr/>
          <p:nvPr/>
        </p:nvPicPr>
        <p:blipFill>
          <a:blip r:embed="rId4"/>
          <a:stretch/>
        </p:blipFill>
        <p:spPr>
          <a:xfrm>
            <a:off x="4572000" y="685800"/>
            <a:ext cx="3214800" cy="5105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324000" y="1916280"/>
            <a:ext cx="4032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站在瀑布脚下仰望，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好伟大呀，一座珍珠的屏！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时时来一阵风，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把它吹得如烟，如雾，如尘。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676574005"/>
          <p:cNvPicPr/>
          <p:nvPr/>
        </p:nvPicPr>
        <p:blipFill>
          <a:blip r:embed="rId4"/>
          <a:stretch/>
        </p:blipFill>
        <p:spPr>
          <a:xfrm>
            <a:off x="533520" y="609480"/>
            <a:ext cx="7467480" cy="5295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826920" y="40766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座珍珠的屏，好伟大呀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838080" y="4738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好伟大呀，一座珍珠的屏！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010j"/>
          <p:cNvPicPr/>
          <p:nvPr/>
        </p:nvPicPr>
        <p:blipFill>
          <a:blip r:embed="rId4"/>
          <a:stretch/>
        </p:blipFill>
        <p:spPr>
          <a:xfrm>
            <a:off x="838080" y="762120"/>
            <a:ext cx="700884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28800" y="35053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时时来一阵风，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把它吹得如烟，如雾，如尘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1676574005"/>
          <p:cNvPicPr/>
          <p:nvPr/>
        </p:nvPicPr>
        <p:blipFill>
          <a:blip r:embed="rId4"/>
          <a:stretch/>
        </p:blipFill>
        <p:spPr>
          <a:xfrm>
            <a:off x="4572000" y="685800"/>
            <a:ext cx="3214800" cy="5105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914400" y="736560"/>
            <a:ext cx="34290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4 </a:t>
            </a: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瀑布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还没看见瀑布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先听见瀑布的声音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好像叠叠的浪涌上岸滩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又像阵阵的风吹过松林。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楷体_GB2312"/>
              </a:rPr>
              <a:t> 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山路忽然一转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啊！望见了瀑布的全身！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这般景象没法比喻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千丈青山衬着一道白银。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站在瀑布脚下仰望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好伟大呀，一座珍珠的屏！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时时来一阵风，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把它吹得如烟，如雾，如尘。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18"/>
          <p:cNvSpPr/>
          <p:nvPr/>
        </p:nvSpPr>
        <p:spPr>
          <a:xfrm>
            <a:off x="1143000" y="2743200"/>
            <a:ext cx="342900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22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1143000" y="1143000"/>
            <a:ext cx="6742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拓展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你读过其他写瀑布的诗歌吗？读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背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一首给大家听。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226" name="Picture 10" descr="1676013793"/>
          <p:cNvPicPr/>
          <p:nvPr/>
        </p:nvPicPr>
        <p:blipFill>
          <a:blip r:embed="rId4"/>
          <a:stretch/>
        </p:blipFill>
        <p:spPr>
          <a:xfrm>
            <a:off x="4952880" y="2666880"/>
            <a:ext cx="2971800" cy="3105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1295280" y="28036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Times New Roman"/>
              </a:rPr>
              <a:t>我来为你介绍：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1905120" y="3505320"/>
            <a:ext cx="190476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447920" y="3886200"/>
            <a:ext cx="266688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447920" y="4343400"/>
            <a:ext cx="266688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1447920" y="4800600"/>
            <a:ext cx="266688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447920" y="5257800"/>
            <a:ext cx="2666880" cy="0"/>
          </a:xfrm>
          <a:prstGeom prst="line">
            <a:avLst/>
          </a:prstGeom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9:41:26Z</dcterms:created>
  <dc:creator/>
  <dc:description/>
  <dc:language>en-US</dc:language>
  <cp:lastModifiedBy>Administrator</cp:lastModifiedBy>
  <dcterms:modified xsi:type="dcterms:W3CDTF">2017-02-21T09:41:4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