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FF5-A41B-419E-8DDD-0D0DCB74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244-60ED-46C0-8C9F-837E0C50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CD2A-901D-426D-B4A1-374A1227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BB5-4C78-4DB8-8A02-30E87649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C7D-A047-401C-B1A4-466CE9C4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56B-BDA8-43A6-83F3-877596D8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A9F-7BB9-4EAD-B55B-AB03A03A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F05-FC40-49BC-A5F0-0A489D94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B1E-FAB3-46C5-8675-D920D8A5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6BB-30CE-4E51-93A5-26430F2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E3D-B13A-4627-A739-D555F068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C7B-BCB3-4A4A-B5F3-E7EE8CF2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C495-5B06-4ED1-9820-E85B723CCF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35.xml"/><Relationship Id="rId10" Type="http://schemas.openxmlformats.org/officeDocument/2006/relationships/slide" Target="slide35.xml"/><Relationship Id="rId11" Type="http://schemas.openxmlformats.org/officeDocument/2006/relationships/slide" Target="slide35.xml"/><Relationship Id="rId12" Type="http://schemas.openxmlformats.org/officeDocument/2006/relationships/slide" Target="slide36.xml"/><Relationship Id="rId13" Type="http://schemas.openxmlformats.org/officeDocument/2006/relationships/slide" Target="slide36.xml"/><Relationship Id="rId14" Type="http://schemas.openxmlformats.org/officeDocument/2006/relationships/slide" Target="slide36.xml"/><Relationship Id="rId15" Type="http://schemas.openxmlformats.org/officeDocument/2006/relationships/slide" Target="slide36.xml"/><Relationship Id="rId16" Type="http://schemas.openxmlformats.org/officeDocument/2006/relationships/slide" Target="slide37.xml"/><Relationship Id="rId17" Type="http://schemas.openxmlformats.org/officeDocument/2006/relationships/slide" Target="slide37.xml"/><Relationship Id="rId18" Type="http://schemas.openxmlformats.org/officeDocument/2006/relationships/slide" Target="slide37.xml"/><Relationship Id="rId19" Type="http://schemas.openxmlformats.org/officeDocument/2006/relationships/slide" Target="slide37.xml"/><Relationship Id="rId2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549360"/>
            <a:ext cx="6985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三袋麦子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372360" y="4653000"/>
            <a:ext cx="136836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康文静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黑体"/>
              </a:rPr>
              <a:t> 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教学过程设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1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激趣导入  直入文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2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、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自主探究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合作研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3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0" action="ppaction://hlinksldjump"/>
              </a:rPr>
              <a:t>、情境表演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1" action="ppaction://hlinksldjump"/>
              </a:rPr>
              <a:t>  探究体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2" action="ppaction://hlinksldjump"/>
              </a:rPr>
              <a:t>4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3" action="ppaction://hlinksldjump"/>
              </a:rPr>
              <a:t>、拓展迁移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4" action="ppaction://hlinksldjump"/>
              </a:rPr>
              <a:t>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5" action="ppaction://hlinksldjump"/>
              </a:rPr>
              <a:t>学习升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6" action="ppaction://hlinksldjump"/>
              </a:rPr>
              <a:t>5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7" action="ppaction://hlinksldjump"/>
              </a:rPr>
              <a:t>、结合板书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8" action="ppaction://hlinksldjump"/>
              </a:rPr>
              <a:t>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9" action="ppaction://hlinksldjump"/>
              </a:rPr>
              <a:t>总结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1640" y="1196280"/>
            <a:ext cx="7848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麦子  食品  一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存  防止  拜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仍有  迫不及待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58920" y="2085840"/>
            <a:ext cx="734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止     拜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72360" y="2421000"/>
            <a:ext cx="43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讠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360" y="2492280"/>
            <a:ext cx="28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阝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1196280"/>
            <a:ext cx="860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馒头  发霉  搬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告诉  神秘  收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干  憨厚可爱  太棒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920" y="1989000"/>
            <a:ext cx="91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把教室打扫得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干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gān  gà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）干净净，老师说：“你们真能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干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gān  gà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） 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70828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24000" y="414972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13360" y="2101680"/>
            <a:ext cx="681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猴把麦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ǒng zhòng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部</a:t>
            </a: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种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ǒng zhòng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下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85264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364500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1844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猪到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mò  mó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）坊去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磨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（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mò  m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）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263700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11280" y="342900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3635280" y="5734080"/>
            <a:ext cx="194472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132000" y="4581360"/>
            <a:ext cx="3384720" cy="2276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132000" y="-603360"/>
            <a:ext cx="3329280" cy="32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3132000" y="2133720"/>
            <a:ext cx="3384720" cy="2447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300720" y="765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黄灿灿的麦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15200" y="2997360"/>
            <a:ext cx="27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饱满的麦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530064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等的麦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4360" y="1125360"/>
            <a:ext cx="7511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猪看着黄灿灿的麦子，开心地喊道：“太棒啦！我最爱吃白面馒头和烙饼了！”他迫不及待地把麦子磨成面粉，做成了各种各样的食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4360" y="1125360"/>
            <a:ext cx="7511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猪看着黄灿灿的麦子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开心地喊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：“太棒啦！我最爱吃白面馒头和烙饼了！”他迫不及待地把麦子磨成面粉，做成了各种各样的食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3933720"/>
            <a:ext cx="215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27280" y="4653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65300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465300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46530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说教材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篇有趣的童话故事。主要讲了土地爷爷送给小猪、小牛和小猴各一袋麦子，三个小动物各自用不同的方式处理了这袋麦子。一年后，土地爷爷故地重访对小动物的不同举措作出了三种不同的评价。表达了同样是一袋麦子，各人采用了不同的处理方式，结果是不一样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55640" y="1844640"/>
          <a:ext cx="7632720" cy="4316400"/>
        </p:xfrm>
        <a:graphic>
          <a:graphicData uri="http://schemas.openxmlformats.org/drawingml/2006/table">
            <a:tbl>
              <a:tblPr/>
              <a:tblGrid>
                <a:gridCol w="1217520"/>
                <a:gridCol w="1406520"/>
                <a:gridCol w="1984320"/>
                <a:gridCol w="3024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474080" y="62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面对这一袋麦子，三个小动物都是怎样表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755640" y="1844640"/>
          <a:ext cx="7632720" cy="4316400"/>
        </p:xfrm>
        <a:graphic>
          <a:graphicData uri="http://schemas.openxmlformats.org/drawingml/2006/table">
            <a:tbl>
              <a:tblPr/>
              <a:tblGrid>
                <a:gridCol w="1217520"/>
                <a:gridCol w="1406520"/>
                <a:gridCol w="1984320"/>
                <a:gridCol w="3024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开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474080" y="62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面对这一袋麦子，三个小动物都是怎样表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755640" y="1844640"/>
          <a:ext cx="7632720" cy="4316400"/>
        </p:xfrm>
        <a:graphic>
          <a:graphicData uri="http://schemas.openxmlformats.org/drawingml/2006/table">
            <a:tbl>
              <a:tblPr/>
              <a:tblGrid>
                <a:gridCol w="1217520"/>
                <a:gridCol w="1406520"/>
                <a:gridCol w="1984320"/>
                <a:gridCol w="3024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开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黄灿灿的麦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474080" y="62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面对这一袋麦子，三个小动物都是怎样表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55640" y="1844640"/>
          <a:ext cx="7632720" cy="4316400"/>
        </p:xfrm>
        <a:graphic>
          <a:graphicData uri="http://schemas.openxmlformats.org/drawingml/2006/table">
            <a:tbl>
              <a:tblPr/>
              <a:tblGrid>
                <a:gridCol w="1217520"/>
                <a:gridCol w="1406520"/>
                <a:gridCol w="1984320"/>
                <a:gridCol w="302436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做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开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黄灿灿的麦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做成各种各样的食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小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474080" y="62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面对这一袋麦子，三个小动物都是怎样表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5640" y="765000"/>
            <a:ext cx="751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牛捧起饱满的麦粒，看了又看，心想：多好的麦子呀，我要先把它保存起来，等家里的草料和杂粮都吃完了，再慢慢吃这好东西。为了防止发霉和虫蛀，小牛经常把那袋麦子把到屋外透透风，晒晒太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92720" y="4869000"/>
            <a:ext cx="27352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00000" y="5516280"/>
            <a:ext cx="7128000" cy="73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630864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050920" y="2852280"/>
            <a:ext cx="583416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971640" y="3499920"/>
            <a:ext cx="662472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971640" y="4149720"/>
            <a:ext cx="446400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4360" y="2205000"/>
            <a:ext cx="75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猴呢，他觉得面前的这袋麦子是上等的麦种，便把一口袋麦子全种下了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573360"/>
            <a:ext cx="29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4221000"/>
            <a:ext cx="302436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56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以后，土地爷爷又来拜访小猪、小牛和小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132000" cy="3500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132000" y="3357720"/>
            <a:ext cx="30956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227640" y="3357720"/>
            <a:ext cx="2916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56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      画出小动物的表现。用    画出土地爷爷的表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132000" cy="3500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132000" y="3357720"/>
            <a:ext cx="3095640" cy="3500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227640" y="3357720"/>
            <a:ext cx="2916360" cy="3500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948360" y="1844640"/>
            <a:ext cx="648000" cy="155520"/>
          </a:xfrm>
          <a:custGeom>
            <a:avLst/>
            <a:gdLst/>
            <a:ahLst/>
            <a:rect l="l" t="t" r="r" b="b"/>
            <a:pathLst>
              <a:path w="408" h="98">
                <a:moveTo>
                  <a:pt x="0" y="45"/>
                </a:moveTo>
                <a:cubicBezTo>
                  <a:pt x="30" y="71"/>
                  <a:pt x="61" y="98"/>
                  <a:pt x="91" y="91"/>
                </a:cubicBezTo>
                <a:cubicBezTo>
                  <a:pt x="121" y="84"/>
                  <a:pt x="143" y="0"/>
                  <a:pt x="181" y="0"/>
                </a:cubicBezTo>
                <a:cubicBezTo>
                  <a:pt x="219" y="0"/>
                  <a:pt x="279" y="84"/>
                  <a:pt x="317" y="91"/>
                </a:cubicBezTo>
                <a:cubicBezTo>
                  <a:pt x="355" y="98"/>
                  <a:pt x="393" y="53"/>
                  <a:pt x="408" y="4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6000" y="191628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126828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他先到小猪家，小猪说：“感谢您去年送我那袋麦子，让我吃到了最好吃的东西。”说着，不由地舔了舔嘴唇。看着小猪憨厚可爱的样子，土地爷爷忍不住哈哈大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4005360"/>
            <a:ext cx="27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5445000"/>
            <a:ext cx="1871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4653000"/>
            <a:ext cx="14292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5373720"/>
            <a:ext cx="14292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5373720"/>
            <a:ext cx="14292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472428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76720" y="292428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的小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情节生动有趣，语言浅显易懂，人物个性鲜明。不仅有利于启迪学生的智慧，激发学生的想象，还有利于学生联系生活实际，获得情感的体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916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牛告诉老人：“去年您送我的麦子至今还没有吃完呢。”小牛抱出那只口袋，里面仍有半袋麦子。老人点点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3284640"/>
            <a:ext cx="446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4797360"/>
            <a:ext cx="259236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292428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的小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8360" y="170028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谈起去年的那口袋麦子，小猴拉着老人的手，神秘的说： “请跟我来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321300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38680" y="8366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啊，麦囤里堆得满满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844640"/>
            <a:ext cx="786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猴说： “我把麦子种下了地，这都是我的收获。您带一些回家吧。”老人抚摸着小猴的头，兴奋的说：“你真聪明！真能干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1628640"/>
            <a:ext cx="216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4360" y="3933720"/>
            <a:ext cx="107928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7280" y="4653000"/>
            <a:ext cx="201744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4653000"/>
            <a:ext cx="107964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5300640"/>
            <a:ext cx="50472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4508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4508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11280" y="4762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33399"/>
                </a:solidFill>
                <a:uFillTx/>
                <a:latin typeface="Arial"/>
              </a:rPr>
              <a:t>                 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的小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258920" y="1552680"/>
            <a:ext cx="72738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27320" y="805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2960" y="827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692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看着插图、想着课文内容，让我们把故事演一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2205000"/>
            <a:ext cx="3132000" cy="4653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132000" y="2205000"/>
            <a:ext cx="3024360" cy="465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6156360" y="2205000"/>
            <a:ext cx="298764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7480" y="836280"/>
            <a:ext cx="900252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你最赞成谁的做法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如果土地爷爷送给你一袋麦子，你会怎么处理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3924360" y="5950080"/>
            <a:ext cx="1079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6121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板书设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袋麦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灿灿的麦子　饱满的麦粒　　上等的麦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 　　　　　　　　　　　　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吃了　　　　　 保存　　　　全种下了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憨厚可爱　      节俭　      聪明、有远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1280" y="333360"/>
            <a:ext cx="6121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作业设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773360"/>
            <a:ext cx="289080" cy="288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2960" y="15638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回家把这个故事讲给爸爸妈妈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2708280"/>
            <a:ext cx="289080" cy="289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2708280"/>
            <a:ext cx="289080" cy="289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2492280"/>
            <a:ext cx="760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推荐阅读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小白兔和小灰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三只小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儿子的硬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8200" y="4149720"/>
            <a:ext cx="288720" cy="289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4149720"/>
            <a:ext cx="289080" cy="289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4560" y="4149720"/>
            <a:ext cx="288720" cy="2890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76360" y="4005360"/>
            <a:ext cx="73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土地爷爷给了你一袋麦子，又会是一个怎样的故事呢？请你写一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700360" y="249228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谢谢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12492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能正确读写本课要求会读、会认、会写的生字，掌握多音字“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”“磨”的用法，理解由生字组成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能分角色朗读课文，讲讲这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理解课文内涵，能够根据自己的体验与感受，各抒己见。培养学生用正确的思维方法，体会课文内容的价值取向，懂得只有播种，才有收获的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8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  <a:ea typeface="黑体"/>
              </a:rPr>
              <a:t>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教学的重点：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通过关键词句来理解课文内容并体会人物情感，从而能有感情地朗读课文并能分角色朗读课文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和比较三个童话人物的行为差异，引导学生认清三种处理方法在价值观方面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765000"/>
            <a:ext cx="842472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教学的难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上下文，引导学生多方面思考，各抒己见体会不同的做法会有不同的结果这个道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8200" y="40428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教法选择 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指导性教学法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杰斯在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9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发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学习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书中，认为自发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习是最持久深人的学习，大量的经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通过做学得的。在教学法方面，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杰斯提倡“以学生为中心”的教学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8200" y="907560"/>
            <a:ext cx="779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学法选择 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8920" y="2349360"/>
            <a:ext cx="7885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验法</a:t>
            </a:r>
            <a:r>
              <a:rPr b="1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楷体_GB2312"/>
              </a:rPr>
              <a:t>教具准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童话人物的头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多媒体课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2:10:04Z</dcterms:created>
  <dc:creator>ymh</dc:creator>
  <dc:description/>
  <cp:keywords/>
  <dc:language>en-US</dc:language>
  <cp:lastModifiedBy>fdsfds</cp:lastModifiedBy>
  <cp:lastPrinted>1899-12-30T00:00:00Z</cp:lastPrinted>
  <dcterms:modified xsi:type="dcterms:W3CDTF">2013-12-25T15:39:33Z</dcterms:modified>
  <cp:revision>71</cp:revision>
  <dc:subject/>
  <dc:title>苏教版三年级《语文》上册 第三单元第九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