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3.gif" ContentType="image/gif"/>
  <Override PartName="/ppt/media/image2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A4B9-C8AA-4149-A704-6077E3B2F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A547-B3E9-47DE-90EA-353EF6D91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13DD-E2EB-4278-9D2B-F338E97B2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A2B6-A38D-4F9D-B4B3-396AD3971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4EBA-BF02-4EEE-AB77-513D52212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174D-27B5-417A-BCC6-2E67370B4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AE67-66FF-4AEB-9F8E-55EB564F7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B2E2-B25B-43B2-B0C3-C8724C121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B000-BEC0-4332-B9A5-73D2B2B68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2C6A-5307-4E36-BBCF-92EF83FC2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58CB-68AD-458C-9B6D-C1FD71A96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39B3-F724-4AA0-8998-7BF38C81A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07200-A7B4-4506-892F-148D74D6C0A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刷出彩虹快乐小女孩37 点击看大图"/>
          <p:cNvPicPr/>
          <p:nvPr/>
        </p:nvPicPr>
        <p:blipFill>
          <a:blip r:embed="rId1"/>
          <a:stretch/>
        </p:blipFill>
        <p:spPr>
          <a:xfrm>
            <a:off x="0" y="0"/>
            <a:ext cx="8893080" cy="66229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0" y="189000"/>
            <a:ext cx="88930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826920" y="2276640"/>
            <a:ext cx="331344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宋体"/>
              </a:rPr>
              <a:t>色 彩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5738760" y="6338880"/>
            <a:ext cx="3405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6"/>
          <p:cNvGrpSpPr/>
          <p:nvPr/>
        </p:nvGrpSpPr>
        <p:grpSpPr>
          <a:xfrm>
            <a:off x="250920" y="5466960"/>
            <a:ext cx="1699560" cy="1059120"/>
            <a:chOff x="250920" y="5466960"/>
            <a:chExt cx="1699560" cy="1059120"/>
          </a:xfrm>
        </p:grpSpPr>
        <p:sp>
          <p:nvSpPr>
            <p:cNvPr id="46" name="未知"/>
            <p:cNvSpPr/>
            <p:nvPr/>
          </p:nvSpPr>
          <p:spPr>
            <a:xfrm>
              <a:off x="250920" y="5589720"/>
              <a:ext cx="1449360" cy="93636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Oval 8"/>
            <p:cNvSpPr/>
            <p:nvPr/>
          </p:nvSpPr>
          <p:spPr>
            <a:xfrm>
              <a:off x="868320" y="6038640"/>
              <a:ext cx="250920" cy="19332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9"/>
            <p:cNvSpPr/>
            <p:nvPr/>
          </p:nvSpPr>
          <p:spPr>
            <a:xfrm>
              <a:off x="1222200" y="5705640"/>
              <a:ext cx="150480" cy="145440"/>
            </a:xfrm>
            <a:prstGeom prst="ellipse">
              <a:avLst/>
            </a:prstGeom>
            <a:solidFill>
              <a:srgbClr val="f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10"/>
            <p:cNvSpPr/>
            <p:nvPr/>
          </p:nvSpPr>
          <p:spPr>
            <a:xfrm>
              <a:off x="1428840" y="5935320"/>
              <a:ext cx="150480" cy="145440"/>
            </a:xfrm>
            <a:prstGeom prst="ellipse">
              <a:avLst/>
            </a:prstGeom>
            <a:solidFill>
              <a:srgbClr val="f3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" name="Group 11"/>
            <p:cNvGrpSpPr/>
            <p:nvPr/>
          </p:nvGrpSpPr>
          <p:grpSpPr>
            <a:xfrm>
              <a:off x="725040" y="5466960"/>
              <a:ext cx="1180080" cy="1043280"/>
              <a:chOff x="725040" y="5466960"/>
              <a:chExt cx="1180080" cy="1043280"/>
            </a:xfrm>
          </p:grpSpPr>
          <p:sp>
            <p:nvSpPr>
              <p:cNvPr id="51" name="Rectangle 12"/>
              <p:cNvSpPr/>
              <p:nvPr/>
            </p:nvSpPr>
            <p:spPr>
              <a:xfrm rot="19134600">
                <a:off x="584280" y="6033960"/>
                <a:ext cx="1294560" cy="57600"/>
              </a:xfrm>
              <a:prstGeom prst="rect">
                <a:avLst/>
              </a:prstGeom>
              <a:solidFill>
                <a:srgbClr val="82371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AutoShape 13"/>
              <p:cNvSpPr/>
              <p:nvPr/>
            </p:nvSpPr>
            <p:spPr>
              <a:xfrm rot="2934600">
                <a:off x="1750320" y="5483880"/>
                <a:ext cx="115920" cy="15516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" name="Oval 14"/>
            <p:cNvSpPr/>
            <p:nvPr/>
          </p:nvSpPr>
          <p:spPr>
            <a:xfrm>
              <a:off x="1307520" y="6179040"/>
              <a:ext cx="150480" cy="14580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15"/>
            <p:cNvGrpSpPr/>
            <p:nvPr/>
          </p:nvGrpSpPr>
          <p:grpSpPr>
            <a:xfrm>
              <a:off x="837360" y="6063840"/>
              <a:ext cx="1113120" cy="352440"/>
              <a:chOff x="837360" y="6063840"/>
              <a:chExt cx="1113120" cy="352440"/>
            </a:xfrm>
          </p:grpSpPr>
          <p:sp>
            <p:nvSpPr>
              <p:cNvPr id="55" name="Rectangle 16"/>
              <p:cNvSpPr/>
              <p:nvPr/>
            </p:nvSpPr>
            <p:spPr>
              <a:xfrm rot="20703000">
                <a:off x="825840" y="6248160"/>
                <a:ext cx="986760" cy="41400"/>
              </a:xfrm>
              <a:prstGeom prst="rect">
                <a:avLst/>
              </a:prstGeom>
              <a:solidFill>
                <a:srgbClr val="82371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AutoShape 17"/>
              <p:cNvSpPr/>
              <p:nvPr/>
            </p:nvSpPr>
            <p:spPr>
              <a:xfrm rot="4503000">
                <a:off x="1840680" y="6060240"/>
                <a:ext cx="83520" cy="11808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07b37c220a725ae8d6cae21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31ff4cd31198172f960a16e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aa8cb1fbdeea1a0d6c22eb6b"/>
          <p:cNvPicPr/>
          <p:nvPr/>
        </p:nvPicPr>
        <p:blipFill>
          <a:blip r:embed="rId1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27b01c19c4276f61dbb4bd59"/>
          <p:cNvPicPr/>
          <p:nvPr/>
        </p:nvPicPr>
        <p:blipFill>
          <a:blip r:embed="rId1"/>
          <a:stretch/>
        </p:blipFill>
        <p:spPr>
          <a:xfrm>
            <a:off x="0" y="0"/>
            <a:ext cx="9144000" cy="68324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a64c2fefdc65122dadafd50e"/>
          <p:cNvPicPr/>
          <p:nvPr/>
        </p:nvPicPr>
        <p:blipFill>
          <a:blip r:embed="rId1"/>
          <a:stretch/>
        </p:blipFill>
        <p:spPr>
          <a:xfrm>
            <a:off x="0" y="0"/>
            <a:ext cx="8964720" cy="6885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3"/>
          <p:cNvSpPr/>
          <p:nvPr/>
        </p:nvSpPr>
        <p:spPr>
          <a:xfrm>
            <a:off x="4356000" y="1845360"/>
            <a:ext cx="4321440" cy="350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秋天的风是金色的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金风迎来收获的季节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收获遍地的金子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收获满意的喜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冬天的风是白色的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白风扬起鹅毛大雪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多么可爱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多么纯洁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1979640" y="189000"/>
            <a:ext cx="539892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风有颜色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有着变幻多端的颜色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它一年四季都在忙碌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把世界装扮成美丽的画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324000" y="1700280"/>
            <a:ext cx="3743280" cy="39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春天的风是绿色的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染绿嫩草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染绿树叶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染绿山冈和原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夏天的风是蓝色的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浅蓝的林带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浅蓝的湖泽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蓝风送走太阳的炎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2858760" y="5733720"/>
            <a:ext cx="414720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风有颜色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有着变幻多端的颜色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要是没有风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就没有这五彩缤纷的世界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"/>
          <p:cNvSpPr/>
          <p:nvPr/>
        </p:nvSpPr>
        <p:spPr>
          <a:xfrm>
            <a:off x="1256760" y="767880"/>
            <a:ext cx="2100960" cy="470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我喜欢紫色，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因为葡萄是紫色的，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牵牛花是紫色的，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它们象征着丰收、勤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  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我喜欢白色，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因为雪花是白色的，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云朵是白色的，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它们代表着纯洁、洁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5543280" y="767880"/>
            <a:ext cx="2193840" cy="470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我喜欢蓝色，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因为天空是蓝色的，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 一望无际的大海是蓝色的，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 它们象征着安静、平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我也很喜欢绿色，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 因为小草是绿色的，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 荷叶是绿色的，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 它们代表生命、希望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3"/>
          <p:cNvSpPr/>
          <p:nvPr/>
        </p:nvSpPr>
        <p:spPr>
          <a:xfrm>
            <a:off x="2916360" y="477720"/>
            <a:ext cx="3807720" cy="478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假如战争有颜色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那一定是灰色的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因为它让世界变得昏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假如饥饿有颜色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那一定是黑色的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因为它是一个可以吞没生命的无底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假如暴力有颜色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那一定是红色的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因为隐藏在它背后的是血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3586320" y="331920"/>
            <a:ext cx="2131560" cy="545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假如和平有颜色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那一定是绿色的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因为橄榄枝是它的使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假如热情有颜色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那一定是粉色的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因为它让人感到温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假如神圣有颜色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那一定是白色的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因为它让光明布满每个角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3"/>
          <p:cNvSpPr/>
          <p:nvPr/>
        </p:nvSpPr>
        <p:spPr>
          <a:xfrm>
            <a:off x="2450520" y="835560"/>
            <a:ext cx="4569840" cy="350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假如感动有颜色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那一定是透明的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因为它让人们流下晶莹的泪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假如宁静有颜色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那一定是紫色的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因为它像熏衣草一样散发着淡淡的幽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e554203fc82e94d4828b13bc"/>
          <p:cNvPicPr/>
          <p:nvPr/>
        </p:nvPicPr>
        <p:blipFill>
          <a:blip r:embed="rId1"/>
          <a:srcRect l="529" t="5946" r="0" b="0"/>
          <a:stretch/>
        </p:blipFill>
        <p:spPr>
          <a:xfrm>
            <a:off x="34920" y="189000"/>
            <a:ext cx="9096480" cy="64497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0" y="404640"/>
            <a:ext cx="29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红、橙、黄、绿、青、蓝、紫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3"/>
          <p:cNvSpPr/>
          <p:nvPr/>
        </p:nvSpPr>
        <p:spPr>
          <a:xfrm>
            <a:off x="1263960" y="736920"/>
            <a:ext cx="1980720" cy="359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假如风有颜色 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一定是粉色的 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它让世界冬暖夏凉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假如雨有颜色 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一定是绿色的 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它让大地生机勃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4356000" y="981000"/>
            <a:ext cx="3816360" cy="359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假如雷有颜色 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一定是紫色的 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它使人们不再害怕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假如电有颜色 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一定是红色的 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它告诉我们：小心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3"/>
          <p:cNvSpPr txBox="1"/>
          <p:nvPr/>
        </p:nvSpPr>
        <p:spPr>
          <a:xfrm>
            <a:off x="2268360" y="2637000"/>
            <a:ext cx="4924440" cy="12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品读“色彩”的古诗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newsflash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0060310454"/>
          <p:cNvPicPr/>
          <p:nvPr/>
        </p:nvPicPr>
        <p:blipFill>
          <a:blip r:embed="rId1"/>
          <a:stretch/>
        </p:blipFill>
        <p:spPr>
          <a:xfrm>
            <a:off x="539640" y="260280"/>
            <a:ext cx="7920000" cy="5454720"/>
          </a:xfrm>
          <a:prstGeom prst="rect">
            <a:avLst/>
          </a:prstGeom>
          <a:ln w="0">
            <a:noFill/>
          </a:ln>
        </p:spPr>
      </p:pic>
      <p:sp>
        <p:nvSpPr>
          <p:cNvPr id="95" name="WordArt 3"/>
          <p:cNvSpPr txBox="1"/>
          <p:nvPr/>
        </p:nvSpPr>
        <p:spPr>
          <a:xfrm>
            <a:off x="1763640" y="5013360"/>
            <a:ext cx="5977080" cy="148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春风又绿江南岸，</a:t>
            </a:r>
            <a:endParaRPr b="1" lang="en-US" sz="1800" spc="1" strike="noStrike">
              <a:ln w="19080">
                <a:solidFill>
                  <a:srgbClr val="ff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明月何时照我还？</a:t>
            </a:r>
            <a:endParaRPr b="1" lang="en-US" sz="1800" spc="1" strike="noStrike">
              <a:ln w="19080">
                <a:solidFill>
                  <a:srgbClr val="ff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57c50dc52b15e28e8326ac33"/>
          <p:cNvPicPr/>
          <p:nvPr/>
        </p:nvPicPr>
        <p:blipFill>
          <a:blip r:embed="rId1"/>
          <a:stretch/>
        </p:blipFill>
        <p:spPr>
          <a:xfrm>
            <a:off x="539640" y="476280"/>
            <a:ext cx="7920000" cy="5761080"/>
          </a:xfrm>
          <a:prstGeom prst="rect">
            <a:avLst/>
          </a:prstGeom>
          <a:ln w="0">
            <a:noFill/>
          </a:ln>
        </p:spPr>
      </p:pic>
      <p:sp>
        <p:nvSpPr>
          <p:cNvPr id="97" name="WordArt 3"/>
          <p:cNvSpPr txBox="1"/>
          <p:nvPr/>
        </p:nvSpPr>
        <p:spPr>
          <a:xfrm>
            <a:off x="1763640" y="5157720"/>
            <a:ext cx="604836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接天莲叶无穷碧，</a:t>
            </a:r>
            <a:endParaRPr b="1" lang="en-US" sz="1800" spc="1" strike="noStrike">
              <a:ln w="19080">
                <a:solidFill>
                  <a:srgbClr val="ff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映日荷花别样红。</a:t>
            </a:r>
            <a:endParaRPr b="1" lang="en-US" sz="1800" spc="1" strike="noStrike">
              <a:ln w="19080">
                <a:solidFill>
                  <a:srgbClr val="ff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柳树"/>
          <p:cNvPicPr/>
          <p:nvPr/>
        </p:nvPicPr>
        <p:blipFill>
          <a:blip r:embed="rId1"/>
          <a:stretch/>
        </p:blipFill>
        <p:spPr>
          <a:xfrm>
            <a:off x="395280" y="620640"/>
            <a:ext cx="8353440" cy="52578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3"/>
          <p:cNvSpPr/>
          <p:nvPr/>
        </p:nvSpPr>
        <p:spPr>
          <a:xfrm>
            <a:off x="7958160" y="0"/>
            <a:ext cx="118584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WordArt 4"/>
          <p:cNvSpPr txBox="1"/>
          <p:nvPr/>
        </p:nvSpPr>
        <p:spPr>
          <a:xfrm>
            <a:off x="1619280" y="5229360"/>
            <a:ext cx="604836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碧玉妆成一树高，</a:t>
            </a:r>
            <a:endParaRPr b="1" lang="en-US" sz="1800" spc="1" strike="noStrike">
              <a:ln w="19080">
                <a:solidFill>
                  <a:srgbClr val="ff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万条垂下绿丝绦。</a:t>
            </a:r>
            <a:endParaRPr b="1" lang="en-US" sz="1800" spc="1" strike="noStrike">
              <a:ln w="19080">
                <a:solidFill>
                  <a:srgbClr val="ff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 spd="slow" advTm="4000">
    <p:checke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WordArt 2"/>
          <p:cNvSpPr txBox="1"/>
          <p:nvPr/>
        </p:nvSpPr>
        <p:spPr>
          <a:xfrm>
            <a:off x="1979640" y="5486400"/>
            <a:ext cx="510696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草木知春不久归，</a:t>
            </a:r>
            <a:endParaRPr b="1" lang="en-US" sz="1800" spc="1" strike="noStrike">
              <a:ln w="19080">
                <a:solidFill>
                  <a:srgbClr val="ff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百般红紫斗芳菲。</a:t>
            </a:r>
            <a:endParaRPr b="1" lang="en-US" sz="1800" spc="1" strike="noStrike">
              <a:ln w="19080">
                <a:solidFill>
                  <a:srgbClr val="ff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02" name="Picture 3" descr="1f63e57ad256eeff2f73b315"/>
          <p:cNvPicPr/>
          <p:nvPr/>
        </p:nvPicPr>
        <p:blipFill>
          <a:blip r:embed="rId1"/>
          <a:stretch/>
        </p:blipFill>
        <p:spPr>
          <a:xfrm>
            <a:off x="395280" y="404640"/>
            <a:ext cx="8497800" cy="51120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DSC01990_jYkR9MI6Sv4j"/>
          <p:cNvPicPr/>
          <p:nvPr/>
        </p:nvPicPr>
        <p:blipFill>
          <a:blip r:embed="rId1"/>
          <a:stretch/>
        </p:blipFill>
        <p:spPr>
          <a:xfrm>
            <a:off x="684360" y="476280"/>
            <a:ext cx="7715160" cy="4911840"/>
          </a:xfrm>
          <a:prstGeom prst="rect">
            <a:avLst/>
          </a:prstGeom>
          <a:ln w="0">
            <a:noFill/>
          </a:ln>
        </p:spPr>
      </p:pic>
      <p:sp>
        <p:nvSpPr>
          <p:cNvPr id="104" name="WordArt 3"/>
          <p:cNvSpPr txBox="1"/>
          <p:nvPr/>
        </p:nvSpPr>
        <p:spPr>
          <a:xfrm>
            <a:off x="2195640" y="5157720"/>
            <a:ext cx="52560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一年好景君须记，</a:t>
            </a:r>
            <a:endParaRPr b="1" lang="en-US" sz="1800" spc="1" strike="noStrike">
              <a:ln w="19080">
                <a:solidFill>
                  <a:srgbClr val="ff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最是橙黄橘绿时。</a:t>
            </a:r>
            <a:endParaRPr b="1" lang="en-US" sz="1800" spc="1" strike="noStrike">
              <a:ln w="19080">
                <a:solidFill>
                  <a:srgbClr val="ff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comb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3e1dd9cae7e681c7c9176815"/>
          <p:cNvPicPr/>
          <p:nvPr/>
        </p:nvPicPr>
        <p:blipFill>
          <a:blip r:embed="rId1"/>
          <a:srcRect l="1861" t="0" r="0" b="8977"/>
          <a:stretch/>
        </p:blipFill>
        <p:spPr>
          <a:xfrm>
            <a:off x="689040" y="549360"/>
            <a:ext cx="7843680" cy="4456080"/>
          </a:xfrm>
          <a:prstGeom prst="rect">
            <a:avLst/>
          </a:prstGeom>
          <a:ln w="0">
            <a:noFill/>
          </a:ln>
        </p:spPr>
      </p:pic>
      <p:sp>
        <p:nvSpPr>
          <p:cNvPr id="106" name="WordArt 3"/>
          <p:cNvSpPr txBox="1"/>
          <p:nvPr/>
        </p:nvSpPr>
        <p:spPr>
          <a:xfrm>
            <a:off x="2195640" y="5157720"/>
            <a:ext cx="52560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青山依旧在，</a:t>
            </a:r>
            <a:endParaRPr b="1" lang="en-US" sz="1800" spc="1" strike="noStrike">
              <a:ln w="19080">
                <a:solidFill>
                  <a:srgbClr val="ff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几度夕阳红。</a:t>
            </a:r>
            <a:endParaRPr b="1" lang="en-US" sz="1800" spc="1" strike="noStrike">
              <a:ln w="19080">
                <a:solidFill>
                  <a:srgbClr val="ff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comb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3"/>
          <p:cNvSpPr txBox="1"/>
          <p:nvPr/>
        </p:nvSpPr>
        <p:spPr>
          <a:xfrm>
            <a:off x="2268360" y="2637000"/>
            <a:ext cx="4924440" cy="12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“</a:t>
            </a:r>
            <a:r>
              <a:rPr b="1" lang="zh-CN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色彩”的象征意义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newsflash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d1ff65cfd6f02f37f9dc616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3"/>
          <p:cNvSpPr/>
          <p:nvPr/>
        </p:nvSpPr>
        <p:spPr>
          <a:xfrm>
            <a:off x="539640" y="1622520"/>
            <a:ext cx="8136000" cy="30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红色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: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快乐、热情、奔放、活泼、热闹、喜庆、温暖、幸福、吉祥、危险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..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橙色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: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亲切、活泼、健康、快乐、健康、勇敢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----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黄色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光明、希望、明亮、愉快、高贵、注意、警戒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..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绿色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生机、和平、柔和、青春、安全、安定、恬静、理想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..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1042920" y="1342080"/>
            <a:ext cx="7345440" cy="465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金黄    橘黄    土黄    鹅黄     米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蔚蓝    碧蓝    粉蓝    天蓝     深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雪白    洁白    银白    灰白     苍白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火红    粉红    鲜红    朱红     桃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嫩绿    青绿    草绿    碧绿     翠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乌黑    漆黑    黝黑    墨黑     深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4"/>
          <p:cNvSpPr txBox="1"/>
          <p:nvPr/>
        </p:nvSpPr>
        <p:spPr>
          <a:xfrm>
            <a:off x="2124000" y="404640"/>
            <a:ext cx="4560840" cy="7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描写颜色的二字词语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blinds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d1ff65cfd6f02f37f9dc616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3"/>
          <p:cNvSpPr/>
          <p:nvPr/>
        </p:nvSpPr>
        <p:spPr>
          <a:xfrm>
            <a:off x="250920" y="1118160"/>
            <a:ext cx="8642160" cy="388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蓝色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：希望、理想、和平、安静、理智、深远、永恒、诚实、 凉爽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紫色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：神秘、高贵、孤傲、优雅、魅力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.....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白色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：纯洁、纯真、素雅、神圣、柔弱、虚无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..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黑色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：黑暗、压抑、反抗、庄严、刚健、坚实、沉默、罪恶、恐怖、绝望、死亡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...... 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灰色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平凡、沉默、中庸、寂寞、忧郁、消极、郁闷、空虚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..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WordArt 3"/>
          <p:cNvSpPr txBox="1"/>
          <p:nvPr/>
        </p:nvSpPr>
        <p:spPr>
          <a:xfrm>
            <a:off x="1908000" y="2133720"/>
            <a:ext cx="5977080" cy="12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“</a:t>
            </a:r>
            <a:r>
              <a:rPr b="1" lang="zh-CN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色彩”在生活中的特殊作用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1835280" y="392904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颜色不但可以影响人的情绪，而且还对人的健康发生影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WordArt 3"/>
          <p:cNvSpPr txBox="1"/>
          <p:nvPr/>
        </p:nvSpPr>
        <p:spPr>
          <a:xfrm>
            <a:off x="2627280" y="549360"/>
            <a:ext cx="48243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色彩的心理效应 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611280" y="2364120"/>
            <a:ext cx="8064360" cy="352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★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红色环境：促进血液流通，脉搏加快，加快呼吸，血压有所升高，能治疗忧郁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★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蓝色环境：脉搏会减缓，情绪也较沉静，经常被用来放松肌肉紧张、松弛神经及改善血液循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★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绿色：可以降低眼内压力，减轻视觉疲劳，安定情绪，使人呼吸变缓，心脏负担减轻，降低血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★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紫色：可以治疗大脑疾病及精神紊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3"/>
          <p:cNvSpPr txBox="1"/>
          <p:nvPr/>
        </p:nvSpPr>
        <p:spPr>
          <a:xfrm>
            <a:off x="2627280" y="549360"/>
            <a:ext cx="48243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色彩的心理效应 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539640" y="2151000"/>
            <a:ext cx="8137800" cy="346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★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黄色：可以刺激神经系统和改善大脑功能，激发人的朝气，令人思维敏捷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★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橙色：启发人的思维，有效地激发人的情绪和促进消化功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★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蓝色：放松肌肉紧张、松弛神经、改善血液循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★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黑色：令人产生悲哀、暗淡、伤感和压迫的感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s100p1"/>
          <p:cNvPicPr/>
          <p:nvPr/>
        </p:nvPicPr>
        <p:blipFill>
          <a:blip r:embed="rId1"/>
          <a:stretch/>
        </p:blipFill>
        <p:spPr>
          <a:xfrm>
            <a:off x="250920" y="765000"/>
            <a:ext cx="4608360" cy="496908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3"/>
          <p:cNvSpPr/>
          <p:nvPr/>
        </p:nvSpPr>
        <p:spPr>
          <a:xfrm>
            <a:off x="6022080" y="1842840"/>
            <a:ext cx="213156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十字路口红绿灯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红黄绿灯分得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红灯停，绿灯行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黄绿灯亮快快行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行停停行看灯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WordArt 4"/>
          <p:cNvSpPr txBox="1"/>
          <p:nvPr/>
        </p:nvSpPr>
        <p:spPr>
          <a:xfrm>
            <a:off x="5148360" y="549360"/>
            <a:ext cx="33843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红绿灯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p:transition spd="slow">
    <p:circl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2009122093573561"/>
          <p:cNvPicPr/>
          <p:nvPr/>
        </p:nvPicPr>
        <p:blipFill>
          <a:blip r:embed="rId1"/>
          <a:srcRect l="0" t="0" r="250" b="8000"/>
          <a:stretch/>
        </p:blipFill>
        <p:spPr>
          <a:xfrm>
            <a:off x="36360" y="0"/>
            <a:ext cx="9120240" cy="6308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2292628_122123048_2"/>
          <p:cNvPicPr/>
          <p:nvPr/>
        </p:nvPicPr>
        <p:blipFill>
          <a:blip r:embed="rId2"/>
          <a:stretch/>
        </p:blipFill>
        <p:spPr>
          <a:xfrm>
            <a:off x="324000" y="404640"/>
            <a:ext cx="1655640" cy="466092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4"/>
          <p:cNvSpPr/>
          <p:nvPr/>
        </p:nvSpPr>
        <p:spPr>
          <a:xfrm>
            <a:off x="2195640" y="1932480"/>
            <a:ext cx="640872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红黄绿三种颜色是根据光学原理，红色光的波长很长，穿透空气的能力强，同时比其他信号喜欢更引人注意，所以作为禁止通行的信号，黄色光的波长较长，穿透空气的能力较强，所以作为警告的信号，采用绿色作为通告信号，是因为红色和绿色的区别最大，易于分辨，其显示距离也较远．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3707640" y="54936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为什么交通信号灯用红黄绿颜色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2007122013223375"/>
          <p:cNvPicPr/>
          <p:nvPr/>
        </p:nvPicPr>
        <p:blipFill>
          <a:blip r:embed="rId1"/>
          <a:stretch/>
        </p:blipFill>
        <p:spPr>
          <a:xfrm>
            <a:off x="395280" y="549360"/>
            <a:ext cx="3816360" cy="554364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3"/>
          <p:cNvSpPr/>
          <p:nvPr/>
        </p:nvSpPr>
        <p:spPr>
          <a:xfrm>
            <a:off x="4356000" y="1341360"/>
            <a:ext cx="457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小学生佩戴小黄帽，可以起到警示作用，当孩子们过马路时，过往的汽车、自行车都要主动停下来避让，优先让“小黄帽”们通过，保障“小黄帽”们的交通安全。因为黄色是警示色，小黄帽还起到了提醒司机的作用，特别是在车辆转弯时、阴雨、大雾等特殊天气，戴上“小黄帽”，就多了一份安全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WordArt 4"/>
          <p:cNvSpPr txBox="1"/>
          <p:nvPr/>
        </p:nvSpPr>
        <p:spPr>
          <a:xfrm>
            <a:off x="5435640" y="549360"/>
            <a:ext cx="2263680" cy="67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小黄帽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plus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W020070826581051713504"/>
          <p:cNvPicPr/>
          <p:nvPr/>
        </p:nvPicPr>
        <p:blipFill>
          <a:blip r:embed="rId1"/>
          <a:srcRect l="0" t="0" r="-1008" b="20850"/>
          <a:stretch/>
        </p:blipFill>
        <p:spPr>
          <a:xfrm>
            <a:off x="324000" y="1341360"/>
            <a:ext cx="4290840" cy="41022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3"/>
          <p:cNvSpPr/>
          <p:nvPr/>
        </p:nvSpPr>
        <p:spPr>
          <a:xfrm>
            <a:off x="4932360" y="3206160"/>
            <a:ext cx="374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迷彩服是受到动物保护色的启示制作的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比如蝴蝶、斑马等。 它的作用主要是将穿迷彩服的人与周围的环境融为一体，不易被发现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迷惑敌人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WordArt 4"/>
          <p:cNvSpPr txBox="1"/>
          <p:nvPr/>
        </p:nvSpPr>
        <p:spPr>
          <a:xfrm>
            <a:off x="5003640" y="836640"/>
            <a:ext cx="3456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迷彩服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strips dir="ru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xingsebiankuang2_03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3"/>
          <p:cNvSpPr/>
          <p:nvPr/>
        </p:nvSpPr>
        <p:spPr>
          <a:xfrm>
            <a:off x="539640" y="40392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★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高血压病人戴上烟色眼镜可使血压下降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539640" y="141300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★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在红色光的照射下，人的握力比平常增强一倍，在橙黄色光的照射下，手的握力比平常增强半倍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684360" y="284976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★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各种医疗设备几乎都是白色，医生的白大褂也是白色的，给人以安静、清洁的感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4371120" y="4149000"/>
            <a:ext cx="7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★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电脑玩久了看看绿色能醒目，能缓解眼睛的疲劳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468360" y="5298480"/>
            <a:ext cx="806436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9480" rIns="17280" tIns="4428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★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黄光亮度大，透雾的能力很强。在路上，车辆拐弯的时候亮的灯就是黄色的，汽车的前大灯也是黄色的。所以在生活中黄色被广泛采用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WordArt 3"/>
          <p:cNvSpPr txBox="1"/>
          <p:nvPr/>
        </p:nvSpPr>
        <p:spPr>
          <a:xfrm>
            <a:off x="1692360" y="1773360"/>
            <a:ext cx="5976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“</a:t>
            </a:r>
            <a:r>
              <a:rPr b="1" lang="zh-CN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色彩”与联想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1619280" y="2997360"/>
            <a:ext cx="64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我们生活在一个色彩缤纷的世界里，颜色像可爱的精灵，把黑白世界变成多姿多彩的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在我们的生活中还发挥着许多特殊的作用呢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3"/>
          <p:cNvSpPr/>
          <p:nvPr/>
        </p:nvSpPr>
        <p:spPr>
          <a:xfrm>
            <a:off x="3367440" y="549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描写颜色的三字词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611280" y="1245240"/>
            <a:ext cx="7848360" cy="388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白花花     绿油油     黑漆漆      红彤彤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黄澄澄     红艳艳     黑乎乎      黑洞洞  白花花     金灿灿     绿茵茵      白嫩嫩  白生生     紫盈盈     白茫茫      红通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玫瑰红     苹果绿     象牙白      葡萄紫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81997361"/>
          <p:cNvPicPr/>
          <p:nvPr/>
        </p:nvPicPr>
        <p:blipFill>
          <a:blip r:embed="rId1"/>
          <a:srcRect l="4156" t="4205" r="-3524" b="5717"/>
          <a:stretch/>
        </p:blipFill>
        <p:spPr>
          <a:xfrm>
            <a:off x="466560" y="404640"/>
            <a:ext cx="3721320" cy="51055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4284720" y="981000"/>
            <a:ext cx="403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象征纯洁的白色，在医院里随处可见，各种医疗设备几乎都是白色，医生的白大褂也是白色的，给人以安静、清洁的感觉。白色让我想起飞翔的和平鸽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晶莹的雪花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香甜的棉花糖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……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200962517481173556"/>
          <p:cNvPicPr/>
          <p:nvPr/>
        </p:nvPicPr>
        <p:blipFill>
          <a:blip r:embed="rId1"/>
          <a:srcRect l="0" t="0" r="664" b="8652"/>
          <a:stretch/>
        </p:blipFill>
        <p:spPr>
          <a:xfrm>
            <a:off x="108000" y="620640"/>
            <a:ext cx="4649760" cy="54594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3"/>
          <p:cNvSpPr/>
          <p:nvPr/>
        </p:nvSpPr>
        <p:spPr>
          <a:xfrm>
            <a:off x="4751280" y="404640"/>
            <a:ext cx="4392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白色让我想起白色污染。大家都知道，白色污染指的是白色垃圾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一次性塑料包装品，塑料袋等。每天都会产生大量的白色垃圾，它极大地破坏了城市环境和生态平衡，所以我们每个人都应该行动起来，拒绝用一次性塑料制品，保护城市环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633250994462187500"/>
          <p:cNvPicPr/>
          <p:nvPr/>
        </p:nvPicPr>
        <p:blipFill>
          <a:blip r:embed="rId1"/>
          <a:srcRect l="0" t="0" r="6098" b="9281"/>
          <a:stretch/>
        </p:blipFill>
        <p:spPr>
          <a:xfrm>
            <a:off x="324000" y="260280"/>
            <a:ext cx="8586720" cy="622296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3"/>
          <p:cNvSpPr/>
          <p:nvPr/>
        </p:nvSpPr>
        <p:spPr>
          <a:xfrm>
            <a:off x="611280" y="1415880"/>
            <a:ext cx="468144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绿色给我们带来了生机与活力，让我想起茂密的森林，田地里的禾苗，小花下面的叶子绿色让我们想起那碧绿的植物，因为没有植物我们就不能生存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童年.mp3" descr=""/>
          <p:cNvPicPr/>
          <p:nvPr/>
        </p:nvPicPr>
        <p:blipFill>
          <a:blip r:embed="rId2"/>
          <a:stretch/>
        </p:blipFill>
        <p:spPr>
          <a:xfrm>
            <a:off x="6804000" y="458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196310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2009730201469362"/>
          <p:cNvPicPr/>
          <p:nvPr/>
        </p:nvPicPr>
        <p:blipFill>
          <a:blip r:embed="rId1"/>
          <a:srcRect l="0" t="0" r="2154" b="7187"/>
          <a:stretch/>
        </p:blipFill>
        <p:spPr>
          <a:xfrm>
            <a:off x="108000" y="189000"/>
            <a:ext cx="8947080" cy="636408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3"/>
          <p:cNvSpPr/>
          <p:nvPr/>
        </p:nvSpPr>
        <p:spPr>
          <a:xfrm>
            <a:off x="1476360" y="2482920"/>
            <a:ext cx="6840720" cy="75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蓝色让我们想起那无边的大海，因为没有水供我们喝，我们也不能生存。黄色让我们想起那金黄的交通警告牌，因为没有它的警告，我们时时刻刻都会有生命危险。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b85e53c621e70d079d163db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3"/>
          <p:cNvSpPr/>
          <p:nvPr/>
        </p:nvSpPr>
        <p:spPr>
          <a:xfrm>
            <a:off x="684360" y="2841480"/>
            <a:ext cx="792000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激情活力的红色，在节日里满眼都是，红灯笼、红气球、红对联、给人以欢欣鼓舞的激励，人们在这片红色的海洋中载歌载舞，共度佳节，今年的祖国六十华诞，华夏儿女看到天安门广场前的五星红旗冉冉升起，都为祖国的繁荣富强而骄傲自豪！红色让我们想起美丽的朝阳，香山的枫叶，我们的爱国心那火红的太阳，因为没有太阳光，世界就会变成一片黑暗，就会失去光明和温暖，地球上的一切生物都会死亡，我们就不能生存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……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5bc54c44050d4fadb2b7dce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3"/>
          <p:cNvSpPr/>
          <p:nvPr/>
        </p:nvSpPr>
        <p:spPr>
          <a:xfrm>
            <a:off x="4356000" y="2663280"/>
            <a:ext cx="3961080" cy="60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用心观察吧，你一定会发现的，我们的世界因为有各种各样的颜色而精彩。颜色也将继续发挥着他们的特殊作用，使我们的生活更加绚丽多姿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3"/>
          <p:cNvSpPr/>
          <p:nvPr/>
        </p:nvSpPr>
        <p:spPr>
          <a:xfrm>
            <a:off x="1763640" y="2791080"/>
            <a:ext cx="612144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同学们，生活是五彩缤纷的，让我们一起走进第一单元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色彩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，让我们用喜欢的色彩去装点绚丽的生活，用我们的双手去创造美好的生活吧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3"/>
          <p:cNvSpPr/>
          <p:nvPr/>
        </p:nvSpPr>
        <p:spPr>
          <a:xfrm>
            <a:off x="3367440" y="549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描写颜色的四字词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179280" y="1754640"/>
            <a:ext cx="8534520" cy="345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万紫千红     姹紫嫣红     五彩缤纷     五颜六色     五光十色     金壁辉煌     红光满面     红红火火青山绿水     郁郁葱葱    一碧千里      桃红柳绿     绿草如茵     翠色欲滴     万古长青     花红柳绿    碧海蓝天     面黄肌瘦     白发苍苍     白里透红     洁白无暇     黑白相间     面红耳赤     唇红齿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20084214899993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WordArt 3"/>
          <p:cNvSpPr txBox="1"/>
          <p:nvPr/>
        </p:nvSpPr>
        <p:spPr>
          <a:xfrm>
            <a:off x="2268360" y="2637000"/>
            <a:ext cx="4924440" cy="12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品读“色彩”的诗歌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3"/>
          <p:cNvSpPr/>
          <p:nvPr/>
        </p:nvSpPr>
        <p:spPr>
          <a:xfrm>
            <a:off x="900000" y="189000"/>
            <a:ext cx="554508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一个小朋友问我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生活是什么颜色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有时是闪闪桂冠的银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有时是长夜漫漫的黑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有时是飞腾火焰的红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有时是阴霾天空的灰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有时是浩瀚大海的蓝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有时是无垠沙漠的黄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有时是夏日森林的绿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有时是黄昏薄暮的紫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----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我无法告诉你生活是什么颜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我不能想象生活只是单一的颜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它旋转着，旋转着向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闪耀着灿烂的彩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4"/>
          <p:cNvSpPr txBox="1"/>
          <p:nvPr/>
        </p:nvSpPr>
        <p:spPr>
          <a:xfrm>
            <a:off x="6877080" y="1197000"/>
            <a:ext cx="1114560" cy="395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生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活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的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颜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色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69" name="秋日私语.mp3" descr=""/>
          <p:cNvPicPr/>
          <p:nvPr/>
        </p:nvPicPr>
        <p:blipFill>
          <a:blip r:embed="rId1"/>
          <a:stretch/>
        </p:blipFill>
        <p:spPr>
          <a:xfrm>
            <a:off x="7020000" y="5734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202485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755640" y="167760"/>
            <a:ext cx="1887480" cy="62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合）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爱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也有色彩，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是五彩斑斓的，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是绚丽夺目的，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就像天边的霞光！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　　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女）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父母的爱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是火一样的红，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给予我鼓励和温馨。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　　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男）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同学的爱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是灿烂的金黄，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给予我希望与激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5679720" y="260280"/>
            <a:ext cx="2100960" cy="61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女）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老师的爱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是清新的碧绿，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给予我沉着与理想。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　　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男）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给予自己的爱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是大海、天空的湛蓝，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充满朝气、生气与奋发向上！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　　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合）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爱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也有色彩，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是五彩斑斓的，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是绚丽夺目的，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就像天边的霞光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WordArt 5"/>
          <p:cNvSpPr txBox="1"/>
          <p:nvPr/>
        </p:nvSpPr>
        <p:spPr>
          <a:xfrm>
            <a:off x="7956720" y="404640"/>
            <a:ext cx="863280" cy="619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爱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的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色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彩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3"/>
          <p:cNvSpPr/>
          <p:nvPr/>
        </p:nvSpPr>
        <p:spPr>
          <a:xfrm>
            <a:off x="972000" y="1125360"/>
            <a:ext cx="2527560" cy="265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爸爸，生活是何种色彩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同树叶一样嫩绿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同玉齿一般洁白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还是像砖块似的殷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爸爸，生活是何种色彩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5538240" y="1197000"/>
            <a:ext cx="2741040" cy="265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爸爸，生活是何种色彩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同山谷一样幽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如深夜漆黑一片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还是像少女那绯红的脸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爸爸，生活是何种色彩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3204000" y="4005360"/>
            <a:ext cx="2527560" cy="265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爸爸，生活是何种色彩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既不是漆黑幽暗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也不是殷红湛蓝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更不像白鸽的羽毛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孩子，生活的色彩是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WordArt 6"/>
          <p:cNvSpPr txBox="1"/>
          <p:nvPr/>
        </p:nvSpPr>
        <p:spPr>
          <a:xfrm>
            <a:off x="2195640" y="476280"/>
            <a:ext cx="5040360" cy="936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生活的色彩是爱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p:transition spd="slow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6T03:24:26Z</dcterms:created>
  <dc:creator>Administrator</dc:creator>
  <dc:description/>
  <dc:language>en-US</dc:language>
  <cp:lastModifiedBy/>
  <dcterms:modified xsi:type="dcterms:W3CDTF">2015-08-17T02:44:15Z</dcterms:modified>
  <cp:revision>1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